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C3B4-FC7E-475F-8F06-64692DC889D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E072-F491-46BB-A884-B8CEF1BC258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421080"/>
            <a:ext cx="6191280" cy="55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low rate, scf/d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units conversion factor (0.001127 in field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permeability, m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net thickness, ft  or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external radius of drainage area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 radius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mechanical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average reservoir pressure, psia or 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flowing pressure, psia or ba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”</a:t>
            </a: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1840" y="1515960"/>
                <a:ext cx="65404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278080" y="83818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Notes on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160" y="2895480"/>
            <a:ext cx="6819840" cy="418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152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erm inside the pseudopressure integral is the gas mobility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7315200"/>
            <a:ext cx="190512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w point pressure of flowing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19360" y="6248160"/>
            <a:ext cx="2844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057400"/>
            <a:ext cx="2286000" cy="100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P &gt; Dew point No condensate blo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124080"/>
            <a:ext cx="0" cy="609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743200"/>
            <a:ext cx="251460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 &lt; Dew point Condensate blockage reduces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14800"/>
            <a:ext cx="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gas flow rate is proportional to the area under the mobility vs pressure curve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67240" y="4080960"/>
            <a:ext cx="0" cy="85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840" y="2030400"/>
            <a:ext cx="6680160" cy="412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16160" y="2031840"/>
            <a:ext cx="4948200" cy="41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6019920"/>
            <a:ext cx="175248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eservoi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5409720"/>
            <a:ext cx="0" cy="528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477120"/>
            <a:ext cx="126684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ell B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5410080"/>
            <a:ext cx="0" cy="1054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5T14:50:09Z</dcterms:modified>
  <cp:revision>94</cp:revision>
  <dc:subject/>
  <dc:title>PowerPoint Presentation</dc:title>
</cp:coreProperties>
</file>