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C6E-ECEE-4F0E-BF59-7ABA4B56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81C-6B5E-4649-9B6B-5BC29907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F36-8BA6-44E9-AEA6-BCE1C8F5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887-911A-481A-8DD2-296E2662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589-A852-4560-9218-7983DD80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DB5-E88C-4BDA-837D-721ADE45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112-4A97-4671-9E2B-50C909D6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F29-C27C-4213-82F7-710AE3C9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E75-D07B-4E53-A293-EA94F868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C79-2DA8-43F4-A739-2B0F5BFC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3B0-58D8-46ED-9388-6F3D0EE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59D-B7BC-476D-A524-7AA64940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6424-E18F-41DC-AF8E-BFB9C08D2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457200"/>
            <a:ext cx="8850240" cy="543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698920" y="5486400"/>
                <a:ext cx="37461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27960" y="533520"/>
            <a:ext cx="891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ffman et al analysis of separator sample com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2:10:26Z</dcterms:modified>
  <cp:revision>21</cp:revision>
  <dc:subject/>
  <dc:title>PowerPoint Presentation</dc:title>
</cp:coreProperties>
</file>