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6858000" cy="9144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8686800"/>
            <a:ext cx="142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8E6DF-CB03-4276-9917-72532A079205}" type="datetime3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July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752480" y="8686800"/>
            <a:ext cx="42674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324480" y="8686800"/>
            <a:ext cx="4003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EB45B-2807-4493-A7EE-F1F5A6A7BC7A}" type="slidenum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01680" y="228600"/>
            <a:ext cx="604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Gas Condensate Blocka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22160" y="1143000"/>
            <a:ext cx="5413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A worked example using a simplified simulation model to demonst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15800" y="2209680"/>
            <a:ext cx="602460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Impact of condensate blockage in a lean gas condensate reservoi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Sensitivity to near-well relative permeabilit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How to estimate near-well relative permeabilities, taking account of velocity-dependent effec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Gas Condensate Blockage</a:t>
            </a:r>
            <a:br>
              <a:rPr sz="4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Recommended appro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0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Check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- The plateau period for the single-well radial run using straight line relative permeability curves should be about that seen for the full-field model; little blockage.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Compare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- The plateau period of gas production of the two single-well radial runs using rock and straight-line relative permeability curves.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Gas Condensate Blockage</a:t>
            </a:r>
            <a:br>
              <a:rPr sz="4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Recommended appro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0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If the difference in plateau period is not significant, you’re done. Don’t worry about condensate blockage!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If the difference in plateau period is significant and the correct period is important to the economics of the project, ‘engineer’ the condensate blockage problem.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428760" y="609480"/>
            <a:ext cx="60004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High permeability reservoir - similar results with rock and straight line rel perms – condensate blockage is not a proble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6629400" cy="40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28760" y="406440"/>
            <a:ext cx="60004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Low permeability reservoi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- different results with rock and straight line rel perms – condensate blockage impacts well deliver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3124080"/>
            <a:ext cx="7012080" cy="43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514440" y="2641680"/>
            <a:ext cx="61149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n the low permeability reservoir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he length of the plateau is reduced by &gt;50% between the ‘best’ and ‘worst’ case scenarios for condensate blockage.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n the worst case scenario, we would need more wells, more compression, etc.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n practice,  we will end up somewhere between the two extremes because of the increase in relative permeabilities at high capillary number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Gas Condensate Blockage</a:t>
            </a:r>
            <a:br>
              <a:rPr sz="4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Recommended appro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28760" y="406080"/>
            <a:ext cx="600048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How can we calculate the change in  relative permeabilities  at high velocity?</a:t>
            </a:r>
            <a:br>
              <a:rPr sz="32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99960" y="2819520"/>
            <a:ext cx="6058080" cy="44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03200" indent="-4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xperimental data suggest that the changes can be correlated as a function of the </a:t>
            </a: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Capillary Numb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03200" indent="-4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03200" indent="-4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he Capillary Number (N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) is a dimensionless number which measures the ratio between viscous and capillary for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03200" indent="-46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03200" indent="-46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Definition of Capillary Number</a:t>
            </a:r>
            <a:br>
              <a:rPr sz="48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28600" y="2209680"/>
            <a:ext cx="64008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45240" indent="-4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Nc = velocity * viscosity / I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5240" indent="-4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5240" indent="-4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    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(  Nc </a:t>
            </a:r>
            <a:r>
              <a:rPr b="0" lang="nb-NO" sz="2800" spc="-1" strike="noStrike">
                <a:solidFill>
                  <a:srgbClr val="3333cc"/>
                </a:solidFill>
                <a:latin typeface="Comic Sans MS"/>
              </a:rPr>
              <a:t>= </a:t>
            </a:r>
            <a:r>
              <a:rPr b="0" lang="nb-NO" sz="28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nb-NO" sz="2800" spc="-1" strike="noStrike">
                <a:solidFill>
                  <a:srgbClr val="3333cc"/>
                </a:solidFill>
                <a:latin typeface="Comic Sans MS"/>
              </a:rPr>
              <a:t>P(viscous)/Pc 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5240" indent="-4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5240" indent="-4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‘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velocity’ is the superficial pore gas velocity 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5240" indent="-43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Darcy velocity / porosity / (1-Sw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5240" indent="-4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5240" indent="-4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Data must be in consistent units – simplest is to use SI units - velocity in m/s, viscosity in Pa.s, IFT in N/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5240" indent="-432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5240" indent="-432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33200" y="4038480"/>
            <a:ext cx="6724800" cy="41324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99600" y="609120"/>
            <a:ext cx="6458040" cy="10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omic Sans MS"/>
              </a:rPr>
              <a:t>Change in Rel Perms with Capillary Number -  Eclipse 300 model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rot="19358400">
            <a:off x="4114440" y="5409720"/>
            <a:ext cx="258840" cy="565200"/>
          </a:xfrm>
          <a:prstGeom prst="upArrow">
            <a:avLst>
              <a:gd name="adj1" fmla="val 50000"/>
              <a:gd name="adj2" fmla="val 5459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2726400">
            <a:off x="1793160" y="5217120"/>
            <a:ext cx="304920" cy="690480"/>
          </a:xfrm>
          <a:prstGeom prst="upArrow">
            <a:avLst>
              <a:gd name="adj1" fmla="val 50000"/>
              <a:gd name="adj2" fmla="val 56612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5791320"/>
            <a:ext cx="156204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Increasing Nc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71360" y="2133720"/>
            <a:ext cx="645804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2440" indent="-4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Needs at least 7 empirical parameters – suitable values not published in open literatur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2440" indent="-4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2440" indent="-46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2440" indent="-46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343400" y="5867280"/>
            <a:ext cx="148752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Increasing Nc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4572000"/>
            <a:ext cx="6858000" cy="421308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622944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omic Sans MS"/>
              </a:rPr>
              <a:t>Change in Rel Perms with Capillary Number -  Fevang-Whitson Model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00160" y="1752480"/>
            <a:ext cx="665784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2440" indent="-4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eeds only 2 empirical parameters – suitable values published in open litera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2440" indent="-4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ased on krg as a function of krg/kro – this is the fundamental rel perm relationship which controls condensate block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2440" indent="-4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2440" indent="-46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2440" indent="-46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48320" y="6019920"/>
            <a:ext cx="14112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Increasing Nc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rot="19358400">
            <a:off x="4190760" y="6095880"/>
            <a:ext cx="258480" cy="565200"/>
          </a:xfrm>
          <a:prstGeom prst="upArrow">
            <a:avLst>
              <a:gd name="adj1" fmla="val 50000"/>
              <a:gd name="adj2" fmla="val 5466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7040" y="609480"/>
            <a:ext cx="63439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omic Sans MS"/>
              </a:rPr>
              <a:t>Change in Rel Perms with Capillary Number -  Fevang-Whitson Model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324000" y="3565440"/>
                <a:ext cx="6210000" cy="100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g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f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g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rock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g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mis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0" y="6553080"/>
                <a:ext cx="312408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00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50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304920" y="4800600"/>
                <a:ext cx="2887560" cy="14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αN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3" name=""/>
          <p:cNvSpPr/>
          <p:nvPr/>
        </p:nvSpPr>
        <p:spPr>
          <a:xfrm>
            <a:off x="457200" y="2133720"/>
            <a:ext cx="594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Interpolates between rock  and miscible (straight line) rel perms at fixed values of krg/kro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762120" y="7315200"/>
                <a:ext cx="1752480" cy="65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≈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429000" y="5181480"/>
            <a:ext cx="3276720" cy="2584440"/>
          </a:xfrm>
          <a:prstGeom prst="rect">
            <a:avLst/>
          </a:prstGeom>
          <a:ln w="936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Gas Condensate Blockage</a:t>
            </a:r>
            <a:br>
              <a:rPr sz="4400"/>
            </a:b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Problem Descri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n a gas condensate well, FBHP dropping below the dewpoint causes a significant condensate saturation buildup near the wellbore, resulting in lowered gas relative permeability.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his reduced gas permeability is called </a:t>
            </a:r>
            <a:r>
              <a:rPr b="0" i="1" lang="en-US" sz="2800" spc="-1" strike="noStrike">
                <a:solidFill>
                  <a:srgbClr val="3333cc"/>
                </a:solidFill>
                <a:latin typeface="Comic Sans MS"/>
              </a:rPr>
              <a:t>‘condensate blockage’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. It can lower a well’s </a:t>
            </a:r>
            <a:r>
              <a:rPr b="0" i="1" lang="en-US" sz="2800" spc="-1" strike="noStrike">
                <a:solidFill>
                  <a:srgbClr val="3333cc"/>
                </a:solidFill>
                <a:latin typeface="Comic Sans MS"/>
              </a:rPr>
              <a:t>reservoir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PI by 50 to 200% (equivalent to a skin of 5 to 20).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080" y="812520"/>
            <a:ext cx="600084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How can we run a single-well simulation with the ‘correct’  relative permeabilities  for the near-well region?</a:t>
            </a:r>
            <a:br>
              <a:rPr sz="3200"/>
            </a:br>
            <a:br>
              <a:rPr sz="32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3080" y="2336760"/>
            <a:ext cx="6172200" cy="68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I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Use a compositional simulator (e.g. Eclipse 300) with a model for velocity dependent rel per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eed to know the parameters for the E300 corre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stimate capillary number and rel perms manual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Described in the next 2 sl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his will give a first approximation of the importance of the Nc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14080" y="812520"/>
            <a:ext cx="600084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Estimating capillary number and choosing near-well rel perms</a:t>
            </a:r>
            <a:br>
              <a:rPr sz="3200"/>
            </a:br>
            <a:br>
              <a:rPr sz="32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8600" y="2336760"/>
            <a:ext cx="6058080" cy="44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866880" indent="-523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hoose a time step near or just after the end of platea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66880" indent="-523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alculate the Capillary Number Nc and the interpolation parameter f (Nc) at each grid ce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66880" indent="-523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ake an ‘average’ value of f – e.g. weighted according to pressure drop across the ce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66880" indent="-523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ind the krg vs krg/kro curve for this average value of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66880" indent="-523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hoose new kr vs Sg curves which honor the krg vs krg/kro relationship for this average value of f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66880" indent="-5238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66880" indent="-5238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-76320" y="2394000"/>
            <a:ext cx="7086600" cy="435456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Choosing near-well rel perms</a:t>
            </a:r>
            <a:br>
              <a:rPr sz="3200"/>
            </a:br>
            <a:br>
              <a:rPr sz="32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600280" y="1752480"/>
            <a:ext cx="165744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mic Sans MS"/>
              </a:rPr>
              <a:t>Straight line rel perms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629160" y="2362320"/>
            <a:ext cx="637920" cy="990360"/>
          </a:xfrm>
          <a:prstGeom prst="line">
            <a:avLst/>
          </a:prstGeom>
          <a:ln w="44280">
            <a:solidFill>
              <a:srgbClr val="008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200560" y="2514600"/>
            <a:ext cx="165744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cc"/>
                </a:solidFill>
                <a:latin typeface="Comic Sans MS"/>
              </a:rPr>
              <a:t>From ‘new’ kr vs Sg cur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5105160" y="3352680"/>
            <a:ext cx="399960" cy="812880"/>
          </a:xfrm>
          <a:prstGeom prst="line">
            <a:avLst/>
          </a:prstGeom>
          <a:ln w="44280">
            <a:solidFill>
              <a:srgbClr val="ff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200560" y="4952880"/>
            <a:ext cx="165744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Interpolated krg at ‘average’ Nc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 flipV="1">
            <a:off x="4267080" y="4571640"/>
            <a:ext cx="914400" cy="762120"/>
          </a:xfrm>
          <a:prstGeom prst="line">
            <a:avLst/>
          </a:prstGeom>
          <a:ln w="4428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267080" y="6477120"/>
            <a:ext cx="13716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Rock curves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 flipV="1">
            <a:off x="3962520" y="5486400"/>
            <a:ext cx="304560" cy="990720"/>
          </a:xfrm>
          <a:prstGeom prst="line">
            <a:avLst/>
          </a:prstGeom>
          <a:ln w="442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Repeat simulation using ‘near well’ rel perm curves</a:t>
            </a:r>
            <a:br>
              <a:rPr sz="3200"/>
            </a:br>
            <a:br>
              <a:rPr sz="32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6858000" cy="42130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533520" y="6477120"/>
            <a:ext cx="6019560" cy="155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For this example, the use of velocity-dependent rel perms has a significant impact, and more detailed study is justified.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-228600" y="2133720"/>
            <a:ext cx="7315200" cy="449424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Condensate blockage skin from single well model</a:t>
            </a:r>
            <a:br>
              <a:rPr sz="3200"/>
            </a:br>
            <a:br>
              <a:rPr sz="32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47920" y="2590920"/>
            <a:ext cx="16570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Rock curves – skin ~ 20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" y="4572000"/>
            <a:ext cx="150480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With ‘near-well’ curves, skin ~ 7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514440" y="2641680"/>
            <a:ext cx="61149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6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hree levels of modeling (in increasing order of complexity)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96720" indent="-344160">
              <a:lnSpc>
                <a:spcPct val="8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oarse grid model with condensate blockage skin from single well models.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96720" indent="-344160">
              <a:lnSpc>
                <a:spcPct val="8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oarse grid model with  generalized pseudopressure (GPP) model for well inflow.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lvl="1" marL="1268280" indent="-533160">
              <a:lnSpc>
                <a:spcPct val="80000"/>
              </a:lnSpc>
              <a:spcBef>
                <a:spcPts val="1500"/>
              </a:spcBef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GPP model accounts for condensate blockage in the well inflow equations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96720" indent="-344160">
              <a:lnSpc>
                <a:spcPct val="8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Use local grid refinement around the wells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Full field simulation where condensate blockage is an important issue 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228600" y="2285640"/>
            <a:ext cx="63244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25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oarse grid with  generalized pseudopressure (GPP) model is the recommended approach in almost all cases.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533520" y="5331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Full field simulation where condensate blockage is an important issue 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04920" y="3733920"/>
            <a:ext cx="632448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5960" indent="-2934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GPP model only requires a small over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2934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GPP model can include velocity-dependent rel pe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5334120"/>
            <a:ext cx="63244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25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ncluding LGRs increases run time and affects numerical stability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5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LGR only recommended for very lean gas condensates in models with very large grid cel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" y="7238880"/>
            <a:ext cx="63244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5960" indent="-2934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In this case LGR does not treat blockage </a:t>
            </a:r>
            <a:r>
              <a:rPr b="0" i="1" lang="en-US" sz="2400" spc="-1" strike="noStrike">
                <a:solidFill>
                  <a:srgbClr val="3333cc"/>
                </a:solidFill>
                <a:latin typeface="Comic Sans MS"/>
              </a:rPr>
              <a:t>per se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, but provides accurate flowing GORs to the GPP mod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375840" y="1447920"/>
            <a:ext cx="6100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4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1. (optional)  Run 1D Sensor model for these cases.  (Or just use these output files.)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447840" y="609120"/>
            <a:ext cx="59623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Simulation exerc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15800" y="2666880"/>
            <a:ext cx="59850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608760" indent="-560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10 md, rock rel pe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8760" indent="-560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10 md, straight line rel pe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8760" indent="-560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100 md, rock rel pe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8760" indent="-560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100 md, straight line rel pe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41280" y="4800600"/>
            <a:ext cx="628812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56760" indent="-356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2. Look at development of the condensate bank with time – radius of bank and gas rel perms in the bank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6760" indent="-356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3. Plot gas production rates and look at impact of condensate banking.  Is it important for the 100 md reservoir? For the 10 md reservoi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6760" indent="-356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47840" y="304560"/>
            <a:ext cx="59623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Simulation exercise (continu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60200" y="2133720"/>
            <a:ext cx="6535800" cy="55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80520" indent="-380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4.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alculate condensate blockage skin, and compare with results from simple spreadshee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520" indent="-380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5. Calculate capillary number for each grid cell near end of platea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520" indent="-380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6. Find a typical value of the parameter f for interpolating between ‘rock’ and straight line rel perms.  Assume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= 4000, n = 0.7.  Calculate the krg vs krg/kro relationship for the condensate bank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520" indent="-380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7. Find rel perm curves which give similar krg/kro behaviour for the range of krg/kro values that occur in the condensat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520" indent="-380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8. Repeat simulations with these new ‘interpolated near-well’ rel perm curves, and calculate condensate blockage ski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" y="143028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For the 10md, rock rel perms case </a:t>
            </a: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7840" y="304560"/>
            <a:ext cx="59623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Simulation exercise (result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0200" y="1523880"/>
            <a:ext cx="65358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1047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Gas production profiles show little difference between st line and rock curve results for 100 md reservoir, but a significant difference for 10 m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47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47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he calculations of capillary number and relative permeability interpolation give an average value of f of about 0.75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47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47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 rel perm calculation shows that rel perm curves with Corey exponents of 1.9 the same krg vs krg/kro relationship the interpolated curves with f = 0.75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47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47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Gas production profiles shows a plateau of about 3.5 years, compared with 1.5 years using rock rel perms and 4.5 years using straight line rel per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Gas Condensate Blockage</a:t>
            </a:r>
            <a:br>
              <a:rPr sz="4400"/>
            </a:b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Problem Description 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ondensate blockage adds pressure drop which can be important to low- and moderate-permeability (kh) wells.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High permeability (kh) wells show little effect because most of the well’s pressure drop is in the tubing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Low and moderate-permeability reservoirs ( kh &lt; about 10,000 md.ft ) may be affected by condensate blockage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lockage can still be important for fractured and horizontal wells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04920" y="228600"/>
            <a:ext cx="6324480" cy="18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Referen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33cc"/>
                </a:solidFill>
                <a:uFillTx/>
                <a:latin typeface="Comic Sans MS"/>
              </a:rPr>
              <a:t>Gas Condensate Relative Permeability for Well Calculation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33cc"/>
                </a:solidFill>
                <a:uFillTx/>
                <a:latin typeface="Comic Sans MS"/>
              </a:rPr>
              <a:t>Measurement of Relative Permeability for calculating Gas Condensate Well Deliverabilit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33cc"/>
                </a:solidFill>
                <a:uFillTx/>
                <a:latin typeface="Comic Sans MS"/>
              </a:rPr>
              <a:t>Calculating Well Deliverability in Gas condensate Reservoi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3048120"/>
            <a:ext cx="6324480" cy="5673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No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Gas Condensate Blockage</a:t>
            </a:r>
            <a:br>
              <a:rPr sz="4400"/>
            </a:b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Problem Description 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14440" y="284472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ine grid simulation studies using measured ‘rock’ rel perm curves often predict a significant loss in gas deliverability due to condensate blockage.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Recently, numerous authors have shown from field data that the use of rock curves in radial simulations overstates the condensate blockage  effect – </a:t>
            </a:r>
            <a:r>
              <a:rPr b="0" i="1" lang="en-US" sz="2400" spc="-1" strike="noStrike">
                <a:solidFill>
                  <a:srgbClr val="3333cc"/>
                </a:solidFill>
                <a:latin typeface="Comic Sans MS"/>
              </a:rPr>
              <a:t>a different modeling approach is needed.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Lab experiments show that</a:t>
            </a:r>
            <a:r>
              <a:rPr b="0" i="1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rel perms in gas condensate systems increase at high velocity.  The rel perms in simulation models need to take account of this effect. 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Gas Condensate Blockage</a:t>
            </a:r>
            <a:br>
              <a:rPr sz="4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Recommended appro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14440" y="294624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he following data will be used: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VT data for the reservoir fluid – black oil or EoS.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Relative permeability curves from full-field simulation model (rock curves); use another field’s curves or Corey functions if no measured data.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Radial single-well model carefully constructed to represent an average well in the full-field model.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Gas Condensate Blockage</a:t>
            </a:r>
            <a:br>
              <a:rPr sz="4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Recommended appro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Build a single-well radial model 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cale model to represent an average well’s drainage area, OGIP, kh, etc.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ick gas rate as a well’s share of the total field’s plateau rate.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se r-z radial grid with 20-30 cells in r direction, with &lt;1 ft first block radius and logarithmic radial spacing. Run implicit.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se well tubing tables and THP control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Gas Condensate Blockage</a:t>
            </a:r>
            <a:br>
              <a:rPr sz="4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Recommended appro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he first single-well radial model run should use rock curves. 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he gas &amp; oil curves should cross at about 0.1 (0.05 - 0.12 usually); use Corey exponents 2-3 if core data are not available.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Rock curves are considered the worst case for condensate blockage. 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Gas Condensate Blockage</a:t>
            </a:r>
            <a:br>
              <a:rPr sz="4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Recommended appro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he second single-well radial model run should use straight line (‘miscible’) curves.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20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he straight-line miscible curves are considered the best case for condensate blockage. 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2465280"/>
            <a:ext cx="6858000" cy="42134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28760" y="507960"/>
            <a:ext cx="60004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Rock and straight line rel perms used to estimate possible impact of condensate blockage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6934320"/>
            <a:ext cx="217188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mic Sans MS"/>
              </a:rPr>
              <a:t>Rock rel perms have crossover ‘value’ of ~ 0.08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3200040" y="5638680"/>
            <a:ext cx="1143000" cy="1447920"/>
          </a:xfrm>
          <a:prstGeom prst="line">
            <a:avLst/>
          </a:prstGeom>
          <a:ln w="44280">
            <a:solidFill>
              <a:srgbClr val="008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21:22:44Z</dcterms:created>
  <dc:creator>CHW</dc:creator>
  <dc:description/>
  <dc:language>en-US</dc:language>
  <cp:lastModifiedBy>Robert Mott</cp:lastModifiedBy>
  <dcterms:modified xsi:type="dcterms:W3CDTF">2004-02-23T10:03:14Z</dcterms:modified>
  <cp:revision>103</cp:revision>
  <dc:subject/>
  <dc:title>PowerPoint Presentation</dc:title>
</cp:coreProperties>
</file>