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8800" y="372276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804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6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64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88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6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64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9160" y="-36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804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Click to edit the title text format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1" marL="69228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2" marL="11872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3" marL="16066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" name=""/>
          <p:cNvSpPr/>
          <p:nvPr/>
        </p:nvSpPr>
        <p:spPr>
          <a:xfrm>
            <a:off x="6585120" y="6494400"/>
            <a:ext cx="200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rutiger 55 Roman"/>
              </a:rPr>
              <a:t>Slide no </a:t>
            </a:r>
            <a:fld id="{FAA4BD89-E3AE-41E1-B933-8E790D03FFC2}" type="slidenum">
              <a:rPr b="0" lang="en-US" sz="800" spc="-1" strike="noStrike">
                <a:solidFill>
                  <a:srgbClr val="ffffff"/>
                </a:solidFill>
                <a:latin typeface="Frutiger 55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9800" y="0"/>
            <a:ext cx="25200" cy="6845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drawdown to a gas condensate well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204920" y="4254480"/>
            <a:ext cx="6589800" cy="1092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93760" y="2949480"/>
            <a:ext cx="0" cy="1838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81760" y="2949480"/>
            <a:ext cx="0" cy="1851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440240" y="1298160"/>
            <a:ext cx="144360" cy="3502440"/>
            <a:chOff x="4440240" y="1298160"/>
            <a:chExt cx="144360" cy="3502440"/>
          </a:xfrm>
        </p:grpSpPr>
        <p:grpSp>
          <p:nvGrpSpPr>
            <p:cNvPr id="45" name=""/>
            <p:cNvGrpSpPr/>
            <p:nvPr/>
          </p:nvGrpSpPr>
          <p:grpSpPr>
            <a:xfrm>
              <a:off x="4440240" y="1544760"/>
              <a:ext cx="144360" cy="3255840"/>
              <a:chOff x="4440240" y="1544760"/>
              <a:chExt cx="144360" cy="3255840"/>
            </a:xfrm>
          </p:grpSpPr>
          <p:sp>
            <p:nvSpPr>
              <p:cNvPr id="46" name=""/>
              <p:cNvSpPr/>
              <p:nvPr/>
            </p:nvSpPr>
            <p:spPr>
              <a:xfrm>
                <a:off x="4444920" y="15894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584600" y="15894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440240" y="154476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440240" y="472608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 flipV="1">
              <a:off x="4506840" y="12981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843200" y="5608800"/>
            <a:ext cx="5040360" cy="8182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01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Most of the drawdown occurs very close to the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411800" y="4970160"/>
            <a:ext cx="122040" cy="646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618160" y="2954160"/>
            <a:ext cx="638280" cy="1828800"/>
            <a:chOff x="5618160" y="2954160"/>
            <a:chExt cx="638280" cy="1828800"/>
          </a:xfrm>
        </p:grpSpPr>
        <p:sp>
          <p:nvSpPr>
            <p:cNvPr id="54" name=""/>
            <p:cNvSpPr/>
            <p:nvPr/>
          </p:nvSpPr>
          <p:spPr>
            <a:xfrm>
              <a:off x="561816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1816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1816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1816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1816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1816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1816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1816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1816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1816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1816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1816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1816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1816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423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23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423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423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23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23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423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423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423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423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423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423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423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423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423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423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423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423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423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23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23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23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423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23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423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23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423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423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23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423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423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423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423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423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423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423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23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23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23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423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423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423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423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423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423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423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423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423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423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423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423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423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423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423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423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423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423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423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932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932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932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932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932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932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93280" y="3145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93280" y="3177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93280" y="3209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93280" y="3241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93280" y="3272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93280" y="3304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93280" y="3337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93280" y="3368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3280" y="3400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93280" y="3432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93280" y="3463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93280" y="3496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3280" y="3528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93280" y="3560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93280" y="3591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93280" y="36234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93280" y="3656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93280" y="3687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93280" y="371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93280" y="3751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93280" y="378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3280" y="381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93280" y="3846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93280" y="3879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93280" y="391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93280" y="3943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93280" y="3974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93280" y="400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93280" y="4038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93280" y="407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93280" y="41025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93280" y="4134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93280" y="4166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3280" y="4197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93280" y="4229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93280" y="4262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93280" y="4293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93280" y="4325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9328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9328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9328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9328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9328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9328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9328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9328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9328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9328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9328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328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328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9328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784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784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1784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784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1784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1784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1784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1784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784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1784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1784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1784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1784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1784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1784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1784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1784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1784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1784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1784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1784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1784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1784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1784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1784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1784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1784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1784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784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1784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784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1784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1784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784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1784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1784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1784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1784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1784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1784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1784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1784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1784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1784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1784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1784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1784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1784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1784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1784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1784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1784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1784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1784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1784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1784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1784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1784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499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499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499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499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499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99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499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499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99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499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499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499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248520" y="2954160"/>
            <a:ext cx="506160" cy="1828800"/>
            <a:chOff x="6248520" y="2954160"/>
            <a:chExt cx="506160" cy="1828800"/>
          </a:xfrm>
        </p:grpSpPr>
        <p:sp>
          <p:nvSpPr>
            <p:cNvPr id="255" name=""/>
            <p:cNvSpPr/>
            <p:nvPr/>
          </p:nvSpPr>
          <p:spPr>
            <a:xfrm>
              <a:off x="624852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4852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4852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4852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4852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4852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4852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4852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4852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4852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4852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4852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4852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4852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4852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4852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852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852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4852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4852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4852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4852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4852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4852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52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4852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4852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4852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4852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4852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4852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4852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4852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4852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4852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852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852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4852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4852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4852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4852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7272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7272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7272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7272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7272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7272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7272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7272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7272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7272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7272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7272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7272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7272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7272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7272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7272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7272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7272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7272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7272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7272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7272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7272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7272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7272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7272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7272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7272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7272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7272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7272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7272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7272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7272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7272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7272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7272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7272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7272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7272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7272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272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7272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7272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7272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7272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7272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7272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7272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272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7272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7272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7272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7272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7272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7272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7272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364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364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2364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2364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2364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364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2364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2364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364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2364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62364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364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2364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2364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2364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2364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2364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2364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364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2364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2364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2364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364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2364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2364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2364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2364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364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2364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2364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2364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364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364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2364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2364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2364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364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364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2364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364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2364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364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364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2364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2364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2364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2364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2364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2364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2364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2364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2364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2364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2364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364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2364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2364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2364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4820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4820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4820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4820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4820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4820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4820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4820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4820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4820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4820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4820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4820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4820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4820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4820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4820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4820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4820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4820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4820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4820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4820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820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4820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4820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74820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74820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4820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4820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4820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74820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4820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4820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4820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4820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4820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4820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748560" y="2954160"/>
            <a:ext cx="636480" cy="1828800"/>
            <a:chOff x="6748560" y="2954160"/>
            <a:chExt cx="636480" cy="1828800"/>
          </a:xfrm>
        </p:grpSpPr>
        <p:sp>
          <p:nvSpPr>
            <p:cNvPr id="456" name=""/>
            <p:cNvSpPr/>
            <p:nvPr/>
          </p:nvSpPr>
          <p:spPr>
            <a:xfrm>
              <a:off x="67485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485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485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485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485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485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485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485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485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485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485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7485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485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485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485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485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485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7485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485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485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799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799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799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799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799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799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799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799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799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799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799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799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799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799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799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799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799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799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799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799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799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799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799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799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799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799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799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799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799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799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799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799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799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799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799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799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799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799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799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799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799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799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799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799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799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799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99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799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799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799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799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799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799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799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799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799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799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799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048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048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048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048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048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048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04880" y="3145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04880" y="3177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04880" y="3209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04880" y="3241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4880" y="3272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04880" y="3304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04880" y="3337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04880" y="3368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04880" y="3400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04880" y="3432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04880" y="3463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04880" y="3496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04880" y="3528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04880" y="3560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04880" y="3591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04880" y="36234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04880" y="3656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04880" y="3687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04880" y="371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04880" y="3751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04880" y="378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04880" y="381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04880" y="3846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04880" y="3879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04880" y="391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04880" y="3943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04880" y="3974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04880" y="400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04880" y="4038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04880" y="407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04880" y="41025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04880" y="4134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04880" y="4166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04880" y="4197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04880" y="4229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04880" y="4262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04880" y="4293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04880" y="4325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0488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0488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0488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0488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0488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0488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00488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0488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0488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00488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488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488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488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488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543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543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543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543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543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543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543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543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543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543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543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543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543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543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543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543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543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543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543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543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543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543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543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543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543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543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543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543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543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543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543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543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543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543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543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543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543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543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543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543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543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2543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543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543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543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2543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543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543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543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543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2543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2543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43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543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543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543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543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543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3792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792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792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792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792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792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 flipV="1">
            <a:off x="4651200" y="3463560"/>
            <a:ext cx="12960" cy="42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60760" y="4211640"/>
            <a:ext cx="10008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464000" y="2355840"/>
            <a:ext cx="10476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4614840" y="2922480"/>
            <a:ext cx="3135240" cy="1830600"/>
            <a:chOff x="4614840" y="2922480"/>
            <a:chExt cx="3135240" cy="1830600"/>
          </a:xfrm>
        </p:grpSpPr>
        <p:sp>
          <p:nvSpPr>
            <p:cNvPr id="660" name=""/>
            <p:cNvSpPr/>
            <p:nvPr/>
          </p:nvSpPr>
          <p:spPr>
            <a:xfrm>
              <a:off x="4614840" y="2922480"/>
              <a:ext cx="3135240" cy="1830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14840" y="449280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14840" y="422784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614840" y="396756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14840" y="3708000"/>
              <a:ext cx="3135240" cy="7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614840" y="344772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14840" y="318240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14840" y="292248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383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383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383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383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383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7383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383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383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383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383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3832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3832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3832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3832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7383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7383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383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7383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383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383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383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383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7383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7383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383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383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383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383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383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383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383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7383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7383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383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7383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73832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383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3832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73832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73832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7383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73832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383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73832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3832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7383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73832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73832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3832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3832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73832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3832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3832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3832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3832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73832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3832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3832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628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628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8628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8628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628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628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628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628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628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628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6288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6288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6288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6288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8628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628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8628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628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628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628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628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628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628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628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628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628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628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628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628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628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628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28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628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628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628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6288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628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6288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6288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6288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862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6288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62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6288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6288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62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6288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6288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6288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6288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6288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86288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6288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6288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86288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6288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86288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86288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928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928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28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9928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928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9928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928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928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928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9928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9284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9284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99284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99284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9928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9928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9928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9928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9928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9928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9928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9928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9928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9928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9928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928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9928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9928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9928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928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928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928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928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928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928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99284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9928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9284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9284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9284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928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99284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9928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99284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99284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928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99284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99284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99284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9284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9284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9284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99284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9284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99284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9284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9284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99284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1740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1740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1740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11740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11740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1740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1740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1740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11740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1740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1740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1740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1740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11740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1740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1740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11740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11740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116680" y="2922480"/>
            <a:ext cx="509400" cy="1825560"/>
            <a:chOff x="5116680" y="2922480"/>
            <a:chExt cx="509400" cy="1825560"/>
          </a:xfrm>
        </p:grpSpPr>
        <p:sp>
          <p:nvSpPr>
            <p:cNvPr id="861" name=""/>
            <p:cNvSpPr/>
            <p:nvPr/>
          </p:nvSpPr>
          <p:spPr>
            <a:xfrm>
              <a:off x="51166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1166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166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166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166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166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166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166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1166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1166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1166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166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166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166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166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166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166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166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1166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166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1166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166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1166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1166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1166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1166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166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1166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66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166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166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166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166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166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166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1166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166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1166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166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1166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647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3647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3647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3647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647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647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3647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3647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647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647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647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3647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3647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3647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647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3647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3647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647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3647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3647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3647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3647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647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3647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647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647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647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3647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3647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647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647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647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647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647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647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647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647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3647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647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647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647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647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3647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3647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647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3647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647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647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3647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647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647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647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647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647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3647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647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647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647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4892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4892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92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892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892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4892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4892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4892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4892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892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8928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8928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8928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8928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892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892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892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892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892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892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892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892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892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892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892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892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4892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4892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892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4892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4892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892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892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892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4892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4892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92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892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892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4892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4892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4892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4892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4892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892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4892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4892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892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892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892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4892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892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892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892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4892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4892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92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892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62032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2032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2032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2032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62032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2032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2032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2032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2032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62032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62032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62032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2032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2032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62032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2032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62032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62032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62032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2032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62032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62032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62032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62032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62032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62032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62032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62032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62032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2032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62032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62032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62032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62032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2032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2032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62032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62032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62032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62032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62032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62032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62032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62032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5621400" y="2922480"/>
            <a:ext cx="633240" cy="1825560"/>
            <a:chOff x="5621400" y="2922480"/>
            <a:chExt cx="633240" cy="1825560"/>
          </a:xfrm>
        </p:grpSpPr>
        <p:sp>
          <p:nvSpPr>
            <p:cNvPr id="1062" name=""/>
            <p:cNvSpPr/>
            <p:nvPr/>
          </p:nvSpPr>
          <p:spPr>
            <a:xfrm>
              <a:off x="562140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62140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62140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62140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62140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2140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62140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2140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2140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62140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2140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2140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2140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62140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448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448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448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448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448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448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7448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448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448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448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74488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74488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74488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74488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7448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448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7448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7448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448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7448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7448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448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7448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7448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7448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448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7448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7448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7448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7448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7448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7448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7448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448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7448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7448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7448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7448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7448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7448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744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448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44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7448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7448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744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7448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7448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7448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7448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7448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448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448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448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7448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7448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448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448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99364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99364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9364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9364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364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99364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9364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9364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9364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9364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9364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99364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9364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9364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9364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9364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99364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9364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9364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9364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9364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99364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99364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99364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99364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99364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99364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99364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99364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99364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99364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9364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9364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9364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9364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99364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9364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9364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99364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99364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9364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9364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99364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9364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9364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9364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9364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9364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99364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99364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99364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99364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99364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9364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99364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99364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9364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99364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1171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1171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1171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1171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1171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1171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1171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1171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1171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1171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171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1171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1171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1171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171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1171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1171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1171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171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1171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1171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171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71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171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1171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1171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1171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1171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1171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171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171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171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1171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1171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1171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171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1171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171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171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171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1171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1171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171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171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171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171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171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171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171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1171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171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1171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1171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1171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1171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1171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171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171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4816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24816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4816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16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24816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4816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4816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24816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4816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4816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4816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24816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6248520" y="2922480"/>
            <a:ext cx="501480" cy="1825560"/>
            <a:chOff x="6248520" y="2922480"/>
            <a:chExt cx="501480" cy="1825560"/>
          </a:xfrm>
        </p:grpSpPr>
        <p:sp>
          <p:nvSpPr>
            <p:cNvPr id="1263" name=""/>
            <p:cNvSpPr/>
            <p:nvPr/>
          </p:nvSpPr>
          <p:spPr>
            <a:xfrm>
              <a:off x="6248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248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248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248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248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248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48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48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485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485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485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485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485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485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485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485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5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485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2485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485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2485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2485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2485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248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2485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48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485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2485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485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485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485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485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485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485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485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485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2485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2485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2485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2485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485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485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485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2485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2485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485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716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716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716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716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716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716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716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716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3716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3716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7164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7164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7164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37164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716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716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716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3716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716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716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3716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3716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716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716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716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716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716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716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716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716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716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716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716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716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716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7164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716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7164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7164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7164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716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7164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716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7164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7164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716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7164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7164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7164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7164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7164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7164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7164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7164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7164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7164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7164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7164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6200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6200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200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200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6200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6200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6200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6200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6200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6200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2004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2004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2004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2004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6200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6200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6200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200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6200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200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200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6200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6200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200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200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200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200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200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200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6200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6200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6200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6200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200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6200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62004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6200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62004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62004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62004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6200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2004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6200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62004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62004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6200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62004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62004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62004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62004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62004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62004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62004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2004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62004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2004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2004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62004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7435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7435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7435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7435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7435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7435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7435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7435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7435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7435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7435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7435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743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743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743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743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743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743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743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743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7435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7435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7435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7435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7435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7435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435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7435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435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435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7435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7435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7435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7435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7435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743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7435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743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6743880" y="2922480"/>
            <a:ext cx="633240" cy="1825560"/>
            <a:chOff x="6743880" y="2922480"/>
            <a:chExt cx="633240" cy="1825560"/>
          </a:xfrm>
        </p:grpSpPr>
        <p:sp>
          <p:nvSpPr>
            <p:cNvPr id="1464" name=""/>
            <p:cNvSpPr/>
            <p:nvPr/>
          </p:nvSpPr>
          <p:spPr>
            <a:xfrm>
              <a:off x="67438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7438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743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7438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743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7438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7438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743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7438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7438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7438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7438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7438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7438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7438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7438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7438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7438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7438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7438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749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8749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8749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749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8749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8749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8749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8749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8749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8749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8749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8749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749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749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749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749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8749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8749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8749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749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8749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8749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749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8749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8749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8749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749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749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8749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8749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8749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8749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8749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8749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8749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8749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8749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8749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8749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8749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8749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8749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8749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8749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749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8749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8749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8749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8749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8749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8749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749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8749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8749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8749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8749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8749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749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99912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9912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99912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99912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99912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99912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99912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99912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99912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99912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99912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99912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99912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99912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99912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99912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99912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99912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9912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99912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99912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99912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99912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99912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99912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99912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99912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99912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99912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99912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99912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99912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99912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99912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99912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9912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9912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9912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9912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99912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99912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99912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99912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99912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9912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99912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99912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99912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99912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99912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99912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99912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99912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99912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99912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99912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99912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99912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24716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24716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24716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24716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4716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24716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24716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4716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24716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24716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24716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24716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24716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4716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4716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24716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24716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24716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24716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24716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24716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24716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24716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4716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4716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24716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24716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24716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24716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24716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24716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24716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24716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4716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24716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24716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24716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24716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24716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24716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24716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24716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24716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24716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24716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24716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24716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24716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24716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24716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24716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24716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24716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24716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24716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24716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24716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24716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37136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37136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37136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37136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37136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37136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4581360" y="2922480"/>
            <a:ext cx="3168360" cy="1857240"/>
            <a:chOff x="4581360" y="2922480"/>
            <a:chExt cx="3168360" cy="1857240"/>
          </a:xfrm>
        </p:grpSpPr>
        <p:sp>
          <p:nvSpPr>
            <p:cNvPr id="1665" name=""/>
            <p:cNvSpPr/>
            <p:nvPr/>
          </p:nvSpPr>
          <p:spPr>
            <a:xfrm>
              <a:off x="737100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37100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7100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37100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37100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37100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37100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37100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37100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37100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37100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37100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37100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37100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371000" y="3559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71000" y="3591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371000" y="3623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371000" y="3655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371000" y="3686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371000" y="3718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371000" y="3750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371000" y="3782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371000" y="3814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371000" y="38458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71000" y="3877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371000" y="39099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371000" y="3941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371000" y="39733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371000" y="4005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37100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371000" y="4069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37100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37100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37100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371000" y="4195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37100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371000" y="4259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371000" y="42919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371000" y="43236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371000" y="43556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371000" y="4387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371000" y="4419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371000" y="4451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371000" y="4482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371000" y="45151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371000" y="4546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371000" y="4578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371000" y="461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371000" y="4641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371000" y="46742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71000" y="4705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371000" y="4737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5013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5013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5013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501320" y="3018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5013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013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5013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5013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5013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5013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5013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5013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5013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5013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5013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5013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5013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5013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5013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5013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501320" y="3559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01320" y="3591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501320" y="3623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501320" y="3655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501320" y="3686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501320" y="3718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01320" y="3750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01320" y="3782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501320" y="3814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501320" y="3845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501320" y="3877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501320" y="3909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501320" y="3941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501320" y="3973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501320" y="4005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5013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501320" y="4069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5013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5013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5013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501320" y="4195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5013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501320" y="4259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501320" y="42919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501320" y="43236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501320" y="43556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501320" y="4387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501320" y="4419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501320" y="4451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501320" y="4482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501320" y="4515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501320" y="4546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501320" y="4578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501320" y="461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501320" y="4641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501320" y="4674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501320" y="4705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501320" y="4737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6255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6255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6255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625520" y="3018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6255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6255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6255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6255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6255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6255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255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6255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625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625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625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625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625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625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625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625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625520" y="3559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625520" y="3591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625520" y="3623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625520" y="3655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625520" y="3686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625520" y="3718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625520" y="3750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625520" y="3782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625520" y="3814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625520" y="3845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625520" y="3877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625520" y="3909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625520" y="3941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625520" y="3973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625520" y="4005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625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625520" y="4069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625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6255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6255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25520" y="4195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6255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625520" y="4259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625520" y="42919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625520" y="43236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625520" y="43556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625520" y="4387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625520" y="4419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625520" y="4451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625520" y="4482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625520" y="4515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625520" y="4546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625520" y="4578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625520" y="461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625520" y="4641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625520" y="4674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625520" y="4705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625520" y="4737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24124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86836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49548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12224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74900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614120" y="2922480"/>
              <a:ext cx="720" cy="1831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581360" y="4753800"/>
              <a:ext cx="3276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581360" y="44935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581360" y="422820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581360" y="39679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581360" y="3708000"/>
              <a:ext cx="3276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581360" y="34477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581360" y="318276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581360" y="292248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614120" y="4753800"/>
              <a:ext cx="313452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461412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524124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V="1">
              <a:off x="586836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649548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712224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774900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614120" y="4594680"/>
              <a:ext cx="720" cy="52200"/>
            </a:xfrm>
            <a:custGeom>
              <a:avLst/>
              <a:gdLst/>
              <a:ahLst/>
              <a:rect l="l" t="t" r="r" b="b"/>
              <a:pathLst>
                <a:path w="0" h="78">
                  <a:moveTo>
                    <a:pt x="0" y="78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614120" y="4530600"/>
              <a:ext cx="720" cy="64080"/>
            </a:xfrm>
            <a:custGeom>
              <a:avLst/>
              <a:gdLst/>
              <a:ahLst/>
              <a:rect l="l" t="t" r="r" b="b"/>
              <a:pathLst>
                <a:path w="0" h="95">
                  <a:moveTo>
                    <a:pt x="0" y="95"/>
                  </a:moveTo>
                  <a:lnTo>
                    <a:pt x="0" y="4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614120" y="4478040"/>
              <a:ext cx="720" cy="52560"/>
            </a:xfrm>
            <a:custGeom>
              <a:avLst/>
              <a:gdLst/>
              <a:ahLst/>
              <a:rect l="l" t="t" r="r" b="b"/>
              <a:pathLst>
                <a:path w="0" h="78">
                  <a:moveTo>
                    <a:pt x="0" y="78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614120" y="4440240"/>
              <a:ext cx="720" cy="37440"/>
            </a:xfrm>
            <a:custGeom>
              <a:avLst/>
              <a:gdLst/>
              <a:ahLst/>
              <a:rect l="l" t="t" r="r" b="b"/>
              <a:pathLst>
                <a:path w="0" h="56">
                  <a:moveTo>
                    <a:pt x="0" y="56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614120" y="4387680"/>
              <a:ext cx="5760" cy="52560"/>
            </a:xfrm>
            <a:custGeom>
              <a:avLst/>
              <a:gdLst/>
              <a:ahLst/>
              <a:rect l="l" t="t" r="r" b="b"/>
              <a:pathLst>
                <a:path w="7" h="78">
                  <a:moveTo>
                    <a:pt x="0" y="78"/>
                  </a:moveTo>
                  <a:lnTo>
                    <a:pt x="0" y="39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620240" y="4334040"/>
              <a:ext cx="720" cy="5328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620240" y="4297320"/>
              <a:ext cx="720" cy="3672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620240" y="4243680"/>
              <a:ext cx="720" cy="5328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4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620240" y="4206600"/>
              <a:ext cx="6480" cy="36720"/>
            </a:xfrm>
            <a:custGeom>
              <a:avLst/>
              <a:gdLst/>
              <a:ahLst/>
              <a:rect l="l" t="t" r="r" b="b"/>
              <a:pathLst>
                <a:path w="8" h="55">
                  <a:moveTo>
                    <a:pt x="0" y="55"/>
                  </a:moveTo>
                  <a:lnTo>
                    <a:pt x="0" y="24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4626720" y="4164120"/>
              <a:ext cx="720" cy="42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626720" y="4111560"/>
              <a:ext cx="6480" cy="52560"/>
            </a:xfrm>
            <a:custGeom>
              <a:avLst/>
              <a:gdLst/>
              <a:ahLst/>
              <a:rect l="l" t="t" r="r" b="b"/>
              <a:pathLst>
                <a:path w="8" h="78">
                  <a:moveTo>
                    <a:pt x="0" y="78"/>
                  </a:moveTo>
                  <a:lnTo>
                    <a:pt x="0" y="39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5" name=""/>
          <p:cNvSpPr/>
          <p:nvPr/>
        </p:nvSpPr>
        <p:spPr>
          <a:xfrm>
            <a:off x="4633920" y="4073400"/>
            <a:ext cx="6480" cy="38160"/>
          </a:xfrm>
          <a:custGeom>
            <a:avLst/>
            <a:gdLst/>
            <a:ahLst/>
            <a:rect l="l" t="t" r="r" b="b"/>
            <a:pathLst>
              <a:path w="8" h="56">
                <a:moveTo>
                  <a:pt x="0" y="56"/>
                </a:moveTo>
                <a:lnTo>
                  <a:pt x="0" y="24"/>
                </a:lnTo>
                <a:lnTo>
                  <a:pt x="8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4640400" y="4032360"/>
            <a:ext cx="12600" cy="410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4653000" y="3994200"/>
            <a:ext cx="7920" cy="38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4660920" y="3957480"/>
            <a:ext cx="11160" cy="36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672080" y="3914640"/>
            <a:ext cx="20520" cy="42840"/>
          </a:xfrm>
          <a:custGeom>
            <a:avLst/>
            <a:gdLst/>
            <a:ahLst/>
            <a:rect l="l" t="t" r="r" b="b"/>
            <a:pathLst>
              <a:path w="24" h="63">
                <a:moveTo>
                  <a:pt x="0" y="63"/>
                </a:moveTo>
                <a:lnTo>
                  <a:pt x="8" y="32"/>
                </a:lnTo>
                <a:lnTo>
                  <a:pt x="2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92600" y="3887640"/>
            <a:ext cx="27000" cy="27000"/>
          </a:xfrm>
          <a:custGeom>
            <a:avLst/>
            <a:gdLst/>
            <a:ahLst/>
            <a:rect l="l" t="t" r="r" b="b"/>
            <a:pathLst>
              <a:path w="32" h="39">
                <a:moveTo>
                  <a:pt x="0" y="39"/>
                </a:moveTo>
                <a:lnTo>
                  <a:pt x="16" y="16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719600" y="3851280"/>
            <a:ext cx="31680" cy="36360"/>
          </a:xfrm>
          <a:custGeom>
            <a:avLst/>
            <a:gdLst/>
            <a:ahLst/>
            <a:rect l="l" t="t" r="r" b="b"/>
            <a:pathLst>
              <a:path w="39" h="55">
                <a:moveTo>
                  <a:pt x="0" y="55"/>
                </a:moveTo>
                <a:lnTo>
                  <a:pt x="15" y="24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751280" y="3824280"/>
            <a:ext cx="39960" cy="27000"/>
          </a:xfrm>
          <a:custGeom>
            <a:avLst/>
            <a:gdLst/>
            <a:ahLst/>
            <a:rect l="l" t="t" r="r" b="b"/>
            <a:pathLst>
              <a:path w="47" h="39">
                <a:moveTo>
                  <a:pt x="0" y="39"/>
                </a:moveTo>
                <a:lnTo>
                  <a:pt x="24" y="15"/>
                </a:lnTo>
                <a:lnTo>
                  <a:pt x="4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4791240" y="3796920"/>
            <a:ext cx="52200" cy="27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843440" y="3772080"/>
            <a:ext cx="65160" cy="25200"/>
          </a:xfrm>
          <a:custGeom>
            <a:avLst/>
            <a:gdLst/>
            <a:ahLst/>
            <a:rect l="l" t="t" r="r" b="b"/>
            <a:pathLst>
              <a:path w="79" h="39">
                <a:moveTo>
                  <a:pt x="0" y="39"/>
                </a:moveTo>
                <a:lnTo>
                  <a:pt x="40" y="16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908600" y="3760920"/>
            <a:ext cx="90360" cy="11160"/>
          </a:xfrm>
          <a:custGeom>
            <a:avLst/>
            <a:gdLst/>
            <a:ahLst/>
            <a:rect l="l" t="t" r="r" b="b"/>
            <a:pathLst>
              <a:path w="110" h="16">
                <a:moveTo>
                  <a:pt x="0" y="16"/>
                </a:moveTo>
                <a:lnTo>
                  <a:pt x="55" y="8"/>
                </a:lnTo>
                <a:lnTo>
                  <a:pt x="110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998960" y="3735360"/>
            <a:ext cx="117720" cy="25560"/>
          </a:xfrm>
          <a:custGeom>
            <a:avLst/>
            <a:gdLst/>
            <a:ahLst/>
            <a:rect l="l" t="t" r="r" b="b"/>
            <a:pathLst>
              <a:path w="142" h="39">
                <a:moveTo>
                  <a:pt x="0" y="39"/>
                </a:moveTo>
                <a:lnTo>
                  <a:pt x="63" y="23"/>
                </a:lnTo>
                <a:lnTo>
                  <a:pt x="142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116680" y="3718080"/>
            <a:ext cx="150480" cy="17280"/>
          </a:xfrm>
          <a:custGeom>
            <a:avLst/>
            <a:gdLst/>
            <a:ahLst/>
            <a:rect l="l" t="t" r="r" b="b"/>
            <a:pathLst>
              <a:path w="181" h="24">
                <a:moveTo>
                  <a:pt x="0" y="24"/>
                </a:moveTo>
                <a:lnTo>
                  <a:pt x="87" y="8"/>
                </a:lnTo>
                <a:lnTo>
                  <a:pt x="181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267160" y="3692520"/>
            <a:ext cx="196920" cy="25560"/>
          </a:xfrm>
          <a:custGeom>
            <a:avLst/>
            <a:gdLst/>
            <a:ahLst/>
            <a:rect l="l" t="t" r="r" b="b"/>
            <a:pathLst>
              <a:path w="237" h="39">
                <a:moveTo>
                  <a:pt x="0" y="39"/>
                </a:moveTo>
                <a:lnTo>
                  <a:pt x="111" y="16"/>
                </a:lnTo>
                <a:lnTo>
                  <a:pt x="23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464080" y="3681360"/>
            <a:ext cx="254160" cy="11160"/>
          </a:xfrm>
          <a:custGeom>
            <a:avLst/>
            <a:gdLst/>
            <a:ahLst/>
            <a:rect l="l" t="t" r="r" b="b"/>
            <a:pathLst>
              <a:path w="307" h="16">
                <a:moveTo>
                  <a:pt x="0" y="16"/>
                </a:moveTo>
                <a:lnTo>
                  <a:pt x="141" y="8"/>
                </a:lnTo>
                <a:lnTo>
                  <a:pt x="220" y="8"/>
                </a:lnTo>
                <a:lnTo>
                  <a:pt x="30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718240" y="3654360"/>
            <a:ext cx="326880" cy="27000"/>
          </a:xfrm>
          <a:custGeom>
            <a:avLst/>
            <a:gdLst/>
            <a:ahLst/>
            <a:rect l="l" t="t" r="r" b="b"/>
            <a:pathLst>
              <a:path w="394" h="39">
                <a:moveTo>
                  <a:pt x="0" y="39"/>
                </a:moveTo>
                <a:lnTo>
                  <a:pt x="86" y="31"/>
                </a:lnTo>
                <a:lnTo>
                  <a:pt x="181" y="16"/>
                </a:lnTo>
                <a:lnTo>
                  <a:pt x="283" y="8"/>
                </a:lnTo>
                <a:lnTo>
                  <a:pt x="39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045120" y="3645000"/>
            <a:ext cx="430200" cy="9360"/>
          </a:xfrm>
          <a:custGeom>
            <a:avLst/>
            <a:gdLst/>
            <a:ahLst/>
            <a:rect l="l" t="t" r="r" b="b"/>
            <a:pathLst>
              <a:path w="519" h="16">
                <a:moveTo>
                  <a:pt x="0" y="16"/>
                </a:moveTo>
                <a:lnTo>
                  <a:pt x="118" y="8"/>
                </a:lnTo>
                <a:lnTo>
                  <a:pt x="244" y="8"/>
                </a:lnTo>
                <a:lnTo>
                  <a:pt x="378" y="8"/>
                </a:lnTo>
                <a:lnTo>
                  <a:pt x="51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475320" y="3618000"/>
            <a:ext cx="561960" cy="27000"/>
          </a:xfrm>
          <a:custGeom>
            <a:avLst/>
            <a:gdLst/>
            <a:ahLst/>
            <a:rect l="l" t="t" r="r" b="b"/>
            <a:pathLst>
              <a:path w="678" h="39">
                <a:moveTo>
                  <a:pt x="0" y="39"/>
                </a:moveTo>
                <a:lnTo>
                  <a:pt x="158" y="31"/>
                </a:lnTo>
                <a:lnTo>
                  <a:pt x="315" y="23"/>
                </a:lnTo>
                <a:lnTo>
                  <a:pt x="489" y="8"/>
                </a:lnTo>
                <a:lnTo>
                  <a:pt x="678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7037280" y="3602160"/>
            <a:ext cx="725760" cy="15840"/>
          </a:xfrm>
          <a:custGeom>
            <a:avLst/>
            <a:gdLst/>
            <a:ahLst/>
            <a:rect l="l" t="t" r="r" b="b"/>
            <a:pathLst>
              <a:path w="874" h="24">
                <a:moveTo>
                  <a:pt x="0" y="24"/>
                </a:moveTo>
                <a:lnTo>
                  <a:pt x="197" y="16"/>
                </a:lnTo>
                <a:lnTo>
                  <a:pt x="409" y="8"/>
                </a:lnTo>
                <a:lnTo>
                  <a:pt x="630" y="8"/>
                </a:lnTo>
                <a:lnTo>
                  <a:pt x="87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192320" y="2400480"/>
            <a:ext cx="6589440" cy="10918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Frutiger 55 Roman"/>
              </a:rPr>
              <a:t>Oil-Gas Ratio is the most important parameter for characterising condensate fluids</a:t>
            </a:r>
            <a:endParaRPr b="1" lang="en-US" sz="2800" spc="-1" strike="noStrike">
              <a:solidFill>
                <a:srgbClr val="000080"/>
              </a:solidFill>
              <a:latin typeface="Frutiger 55 Roman"/>
            </a:endParaRPr>
          </a:p>
        </p:txBody>
      </p:sp>
      <p:pic>
        <p:nvPicPr>
          <p:cNvPr id="1886" name="" descr=""/>
          <p:cNvPicPr/>
          <p:nvPr/>
        </p:nvPicPr>
        <p:blipFill>
          <a:blip r:embed="rId1"/>
          <a:stretch/>
        </p:blipFill>
        <p:spPr>
          <a:xfrm>
            <a:off x="0" y="1236600"/>
            <a:ext cx="8902800" cy="5473800"/>
          </a:xfrm>
          <a:prstGeom prst="rect">
            <a:avLst/>
          </a:prstGeom>
          <a:ln w="0">
            <a:noFill/>
          </a:ln>
        </p:spPr>
      </p:pic>
      <p:sp>
        <p:nvSpPr>
          <p:cNvPr id="1887" name=""/>
          <p:cNvSpPr/>
          <p:nvPr/>
        </p:nvSpPr>
        <p:spPr>
          <a:xfrm>
            <a:off x="3375360" y="4227480"/>
            <a:ext cx="6055920" cy="95544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mbo"/>
              </a:rPr>
              <a:t>OGR falls as pressure dec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emb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mbo"/>
              </a:rPr>
              <a:t>liquid condenses near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 flipV="1">
            <a:off x="4520880" y="3162240"/>
            <a:ext cx="1181160" cy="990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Liquid build-up in lean gas condensate reservoir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204920" y="4254480"/>
            <a:ext cx="6589800" cy="1092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193760" y="2949480"/>
            <a:ext cx="0" cy="1838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781760" y="2949480"/>
            <a:ext cx="0" cy="1851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3" name=""/>
          <p:cNvGrpSpPr/>
          <p:nvPr/>
        </p:nvGrpSpPr>
        <p:grpSpPr>
          <a:xfrm>
            <a:off x="4440240" y="1285560"/>
            <a:ext cx="144360" cy="3502440"/>
            <a:chOff x="4440240" y="1285560"/>
            <a:chExt cx="144360" cy="3502440"/>
          </a:xfrm>
        </p:grpSpPr>
        <p:grpSp>
          <p:nvGrpSpPr>
            <p:cNvPr id="1894" name=""/>
            <p:cNvGrpSpPr/>
            <p:nvPr/>
          </p:nvGrpSpPr>
          <p:grpSpPr>
            <a:xfrm>
              <a:off x="4440240" y="1532160"/>
              <a:ext cx="144360" cy="3255840"/>
              <a:chOff x="4440240" y="1532160"/>
              <a:chExt cx="144360" cy="3255840"/>
            </a:xfrm>
          </p:grpSpPr>
          <p:sp>
            <p:nvSpPr>
              <p:cNvPr id="1895" name=""/>
              <p:cNvSpPr/>
              <p:nvPr/>
            </p:nvSpPr>
            <p:spPr>
              <a:xfrm>
                <a:off x="4444920" y="15768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584600" y="15768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440240" y="153216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440240" y="471348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9" name=""/>
            <p:cNvSpPr/>
            <p:nvPr/>
          </p:nvSpPr>
          <p:spPr>
            <a:xfrm flipV="1">
              <a:off x="4506840" y="12855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4614840" y="3290760"/>
            <a:ext cx="0" cy="1478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614840" y="4768920"/>
            <a:ext cx="3154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4556160" y="2938320"/>
            <a:ext cx="3196800" cy="1860120"/>
            <a:chOff x="4556160" y="2938320"/>
            <a:chExt cx="3196800" cy="1860120"/>
          </a:xfrm>
        </p:grpSpPr>
        <p:grpSp>
          <p:nvGrpSpPr>
            <p:cNvPr id="1903" name=""/>
            <p:cNvGrpSpPr/>
            <p:nvPr/>
          </p:nvGrpSpPr>
          <p:grpSpPr>
            <a:xfrm>
              <a:off x="4556160" y="2938320"/>
              <a:ext cx="3196800" cy="1860120"/>
              <a:chOff x="4556160" y="2938320"/>
              <a:chExt cx="3196800" cy="1860120"/>
            </a:xfrm>
          </p:grpSpPr>
          <p:grpSp>
            <p:nvGrpSpPr>
              <p:cNvPr id="1904" name=""/>
              <p:cNvGrpSpPr/>
              <p:nvPr/>
            </p:nvGrpSpPr>
            <p:grpSpPr>
              <a:xfrm>
                <a:off x="4586760" y="2938320"/>
                <a:ext cx="3153240" cy="1833480"/>
                <a:chOff x="4586760" y="2938320"/>
                <a:chExt cx="3153240" cy="183348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4586760" y="2938320"/>
                  <a:ext cx="3153240" cy="1833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4586760" y="4511520"/>
                  <a:ext cx="3153240" cy="72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4586760" y="424548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4586760" y="398520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4586760" y="372456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4586760" y="3464280"/>
                  <a:ext cx="3153240" cy="72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4586760" y="319824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4586760" y="293832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47106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47106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47106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47106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47106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47106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47106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47106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47106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47106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47106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47106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47106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47106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47106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47106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47106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47106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47106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47106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47106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47106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47106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47106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47106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47106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47106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47106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47106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47106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47106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47106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47106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47106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47106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47106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47106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47106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47106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47106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47106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47106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47106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47106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47106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47106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47106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47106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47106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47106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47106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47106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47106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47106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47106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47106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47106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47106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48402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48402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48402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48402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48402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48402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48402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48402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48402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48402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48402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48402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48402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48402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48402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48402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48402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48402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48402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48402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48402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48402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48402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48402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48402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8402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8402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8402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8402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8402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8402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8402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402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48402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48402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8402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8402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8402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8402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8402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8402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8402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402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48402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48402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48402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48402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48402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48402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48402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48402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48402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48402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48402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48402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48402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48402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48402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49640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49640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49640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49640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49640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49640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49640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49640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49640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9640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9640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49640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49640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49640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49640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49640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49640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49640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9640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9640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49640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49640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9640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49640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49640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49640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49640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496404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49640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49640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49640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49640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49640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49640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49640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49640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49640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49640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9640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96404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9640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49640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49640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9640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496404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49640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49640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49640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9640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49640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49640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49640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9640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9640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49640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9640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49640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49640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50936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50936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50936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50936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50936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50936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50936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50936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50936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50936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50936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50936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50936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50936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50936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50936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50936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50936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5" name=""/>
              <p:cNvGrpSpPr/>
              <p:nvPr/>
            </p:nvGrpSpPr>
            <p:grpSpPr>
              <a:xfrm>
                <a:off x="5093640" y="2938320"/>
                <a:ext cx="506520" cy="1828080"/>
                <a:chOff x="5093640" y="2938320"/>
                <a:chExt cx="506520" cy="1828080"/>
              </a:xfrm>
            </p:grpSpPr>
            <p:sp>
              <p:nvSpPr>
                <p:cNvPr id="2106" name=""/>
                <p:cNvSpPr/>
                <p:nvPr/>
              </p:nvSpPr>
              <p:spPr>
                <a:xfrm>
                  <a:off x="50936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50936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50936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50936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0936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50936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50936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50936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50936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50936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50936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50936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50936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50936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50936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50936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50936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50936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50936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50936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50936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50936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50936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50936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50936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50936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50936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50936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50936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50936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50936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50936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50936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50936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50936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50936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50936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50936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50936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50936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53406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53406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53406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53406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53406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53406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53406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53406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53406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53406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53406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53406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53406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53406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53406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53406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53406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53406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53406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53406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53406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53406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53406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53406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53406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53406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53406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53406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53406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53406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53406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53406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53406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53406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53406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53406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53406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53406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53406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53406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53406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53406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53406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53406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53406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53406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53406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53406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53406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53406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53406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53406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53406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53406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53406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53406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53406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53406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547092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547092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547092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547092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547092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547092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47092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547092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547092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547092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547092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547092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547092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547092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547092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547092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547092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547092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547092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547092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547092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547092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547092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547092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547092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547092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547092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547092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547092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547092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547092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547092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547092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547092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547092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547092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547092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547092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547092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547092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547092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547092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547092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547092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547092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547092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547092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547092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547092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547092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547092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547092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547092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547092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547092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547092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547092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547092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55940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55940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55940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55940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55940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55940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55940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55940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55940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55940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55940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55940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55940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55940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55940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55940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55940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55940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55940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55940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55940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55940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55940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5940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5940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5940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5940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55940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55940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55940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5940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5940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5940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55940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55940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55940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5940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5940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55940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55940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55940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55940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55940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55940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6" name=""/>
              <p:cNvGrpSpPr/>
              <p:nvPr/>
            </p:nvGrpSpPr>
            <p:grpSpPr>
              <a:xfrm>
                <a:off x="5594400" y="2938320"/>
                <a:ext cx="636480" cy="1828080"/>
                <a:chOff x="5594400" y="2938320"/>
                <a:chExt cx="636480" cy="182808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55944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55944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55944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55944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55944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55944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55944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55944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55944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55944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55944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55944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55944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55944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5724360" y="2938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5724360" y="2970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5724360" y="30016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5724360" y="30333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5724360" y="3065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5724360" y="30978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5724360" y="31294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5724360" y="31611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5724360" y="3192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5724360" y="32245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5724360" y="32569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5724360" y="3288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5724360" y="3320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5724360" y="33523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5724360" y="33847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5724360" y="34164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5724360" y="34480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5724360" y="34801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5724360" y="3511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5724360" y="35442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5724360" y="35758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5724360" y="36075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5724360" y="3639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5724360" y="36712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5724360" y="37036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5724360" y="37353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5724360" y="37670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5724360" y="37987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5724360" y="38314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5724360" y="38631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5724360" y="3894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5724360" y="3926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5724360" y="39585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5724360" y="39906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5724360" y="4022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5724360" y="40543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5724360" y="4086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5724360" y="41176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5724360" y="41500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5724360" y="41817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5724360" y="4213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5724360" y="42454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5724360" y="42778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724360" y="43095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5724360" y="4341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5724360" y="43732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5724360" y="4404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5724360" y="44373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5724360" y="4469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5724360" y="45010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5724360" y="45327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724360" y="45644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5724360" y="459684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5724360" y="4628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5724360" y="46602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5724360" y="46922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5724360" y="47239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5724360" y="4756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59716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59716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59716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59716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59716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59716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59716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59716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59716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59716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59716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59716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59716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59716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59716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59716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59716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59716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59716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59716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59716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59716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59716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59716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59716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59716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59716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59716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59716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59716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59716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59716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59716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59716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59716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59716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59716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59716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59716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59716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59716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59716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59716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59716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59716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59716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59716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59716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59716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59716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59716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59716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59716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59716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59716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59716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59716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59716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61012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61012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61012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61012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61012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61012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61012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61012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61012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61012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61012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61012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61012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61012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61012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61012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61012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61012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61012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61012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61012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61012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1012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61012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61012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1012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61012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61012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61012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1012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61012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61012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61012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61012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61012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61012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61012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61012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61012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61012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61012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61012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61012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61012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61012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61012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61012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61012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61012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61012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61012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61012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61012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61012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61012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61012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61012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61012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6225480" y="2938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6225480" y="2970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6225480" y="30016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6225480" y="30333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6225480" y="3065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6225480" y="30978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6225480" y="31294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6225480" y="31611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6225480" y="3192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6225480" y="32245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6225480" y="32569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6225480" y="3288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7" name=""/>
              <p:cNvGrpSpPr/>
              <p:nvPr/>
            </p:nvGrpSpPr>
            <p:grpSpPr>
              <a:xfrm>
                <a:off x="6225840" y="2938320"/>
                <a:ext cx="512280" cy="1828080"/>
                <a:chOff x="6225840" y="2938320"/>
                <a:chExt cx="512280" cy="1828080"/>
              </a:xfrm>
            </p:grpSpPr>
            <p:sp>
              <p:nvSpPr>
                <p:cNvPr id="2508" name=""/>
                <p:cNvSpPr/>
                <p:nvPr/>
              </p:nvSpPr>
              <p:spPr>
                <a:xfrm>
                  <a:off x="6225840" y="3320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6225840" y="33523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6225840" y="33847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6225840" y="34164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6225840" y="34480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6225840" y="34801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6225840" y="3511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6225840" y="35442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6225840" y="35758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6225840" y="36075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6225840" y="3639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6225840" y="36712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6225840" y="37036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6225840" y="37353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6225840" y="37670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6225840" y="37987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6225840" y="38314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6225840" y="38631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6225840" y="3894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6225840" y="3926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6225840" y="39585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6225840" y="39906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6225840" y="4022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6225840" y="40543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6225840" y="4086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6225840" y="41176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6225840" y="41500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6225840" y="41817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6225840" y="4213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6225840" y="42454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6225840" y="42778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6225840" y="43095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6225840" y="4341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6225840" y="43732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6225840" y="4404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6225840" y="44373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6225840" y="4469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6225840" y="45010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6225840" y="45327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6225840" y="45644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6225840" y="459684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6225840" y="4628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6225840" y="46602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6225840" y="46922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6225840" y="47239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6225840" y="4756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63550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63550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63550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63550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63550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63550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63550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63550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63550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63550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63550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63550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63550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63550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63550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63550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63550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63550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63550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63550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63550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63550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63550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63550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63550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63550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63550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63550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63550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63550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63550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63550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63550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63550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63550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63550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63550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63550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63550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63550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63550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63550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63550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63550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63550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63550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63550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63550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63550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3550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63550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63550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63550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63550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63550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63550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63550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63550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66024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66024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66024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66024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66024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66024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66024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66024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66024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66024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66024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66024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66024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66024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66024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66024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66024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66024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66024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66024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66024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66024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66024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66024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>
                  <a:off x="66024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>
                  <a:off x="66024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66024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66024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66024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66024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66024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66024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66024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66024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66024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66024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66024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66024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66024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66024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66024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66024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66024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66024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66024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66024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66024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66024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66024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66024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66024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66024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>
                  <a:off x="66024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66024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66024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66024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66024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66024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67320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67320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67320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67320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67320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67320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67320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67320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67320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67320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67320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67320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67320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67320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67320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67320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67320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67320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67320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67320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67320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67320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67320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67320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67320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67320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67320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67320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67320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67320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67320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67320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67320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67320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67320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67320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67320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67320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8" name=""/>
              <p:cNvGrpSpPr/>
              <p:nvPr/>
            </p:nvGrpSpPr>
            <p:grpSpPr>
              <a:xfrm>
                <a:off x="6732000" y="2938320"/>
                <a:ext cx="637200" cy="1828080"/>
                <a:chOff x="6732000" y="2938320"/>
                <a:chExt cx="637200" cy="1828080"/>
              </a:xfrm>
            </p:grpSpPr>
            <p:sp>
              <p:nvSpPr>
                <p:cNvPr id="2709" name=""/>
                <p:cNvSpPr/>
                <p:nvPr/>
              </p:nvSpPr>
              <p:spPr>
                <a:xfrm>
                  <a:off x="67320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67320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67320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67320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67320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67320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67320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67320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67320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67320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67320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67320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67320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67320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67320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67320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67320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67320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67320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67320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68558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68558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68558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68558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68558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68558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68558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68558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68558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68558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68558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68558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68558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68558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68558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68558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68558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68558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68558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68558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68558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68558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68558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68558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68558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68558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68558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68558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68558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68558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68558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68558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68558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68558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68558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68558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68558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68558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68558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68558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68558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68558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68558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68558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68558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68558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68558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68558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68558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68558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68558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68558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68558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68558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68558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68558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68558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68558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69854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69854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69854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69854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69854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69854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69854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69854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69854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69854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69854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69854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69854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69854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69854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69854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69854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69854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69854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69854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69854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69854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69854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69854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69854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69854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69854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69854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69854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69854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69854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69854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69854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69854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69854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69854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69854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69854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69854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69854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69854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>
                  <a:off x="69854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69854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69854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69854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69854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69854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69854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69854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69854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69854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69854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69854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69854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69854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69854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69854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69854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723276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>
                  <a:off x="723276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723276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723276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723276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723276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723276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723276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>
                  <a:off x="723276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723276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723276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723276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723276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723276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723276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723276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723276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723276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723276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723276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723276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723276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723276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723276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723276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723276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723276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723276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723276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723276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723276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723276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723276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723276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723276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723276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723276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723276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723276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723276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723276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723276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723276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723276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723276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723276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723276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723276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723276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723276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723276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723276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723276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723276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723276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723276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723276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723276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73630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73630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73630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73630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73630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73630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9" name=""/>
              <p:cNvGrpSpPr/>
              <p:nvPr/>
            </p:nvGrpSpPr>
            <p:grpSpPr>
              <a:xfrm>
                <a:off x="4556160" y="2938320"/>
                <a:ext cx="3184560" cy="1860120"/>
                <a:chOff x="4556160" y="2938320"/>
                <a:chExt cx="3184560" cy="1860120"/>
              </a:xfrm>
            </p:grpSpPr>
            <p:sp>
              <p:nvSpPr>
                <p:cNvPr id="2910" name=""/>
                <p:cNvSpPr/>
                <p:nvPr/>
              </p:nvSpPr>
              <p:spPr>
                <a:xfrm>
                  <a:off x="73630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73630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73630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73630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73630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73630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73630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73630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73630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73630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73630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73630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73630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73630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73630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73630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736308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73630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73630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73630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73630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736308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73630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73630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73630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73630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73630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73630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73630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73630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73630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73630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73630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736308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73630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73630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73630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736308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736308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73630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73630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73630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73630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73630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73630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73630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73630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73630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73630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73630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73630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73630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74862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74862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74862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74862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74862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74862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74862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74862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74862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74862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74862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74862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74862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74862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74862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74862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74862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74862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74862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74862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74862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74862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748620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74862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74862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74862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74862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74862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74862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74862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74862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74862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74862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74862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74862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74862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74862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74862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74862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74862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74862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74862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74862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748620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74862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74862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74862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74862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74862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74862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74862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74862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74862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74862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74862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74862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74862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74862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761652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761652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761652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761652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761652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761652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761652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761652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761652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761652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761652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761652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761652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761652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761652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761652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761652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761652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761652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761652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761652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761652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761652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761652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761652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761652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761652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761652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761652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761652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761652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761652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761652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761652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761652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761652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761652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761652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761652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761652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761652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761652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761652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761652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761652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761652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761652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761652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761652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761652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761652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761652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761652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761652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761652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761652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761652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761652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5217840" y="2938320"/>
                  <a:ext cx="36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5848200" y="2938320"/>
                  <a:ext cx="36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647928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710964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774000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458676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4556160" y="477180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4556160" y="4511520"/>
                  <a:ext cx="30600" cy="7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4556160" y="424548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4556160" y="398556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4556160" y="372456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4556160" y="3464280"/>
                  <a:ext cx="30600" cy="7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4556160" y="319824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4556160" y="293832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4586760" y="4771800"/>
                  <a:ext cx="315288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 flipV="1">
                  <a:off x="458676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 flipV="1">
                  <a:off x="5217840" y="4771800"/>
                  <a:ext cx="36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 flipV="1">
                  <a:off x="5848200" y="4771800"/>
                  <a:ext cx="36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 flipV="1">
                  <a:off x="647928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V="1">
                  <a:off x="710964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 flipV="1">
                  <a:off x="774000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4586760" y="3229920"/>
                  <a:ext cx="7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4586760" y="3246120"/>
                  <a:ext cx="7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4586760" y="3262680"/>
                  <a:ext cx="720" cy="10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4586760" y="3272760"/>
                  <a:ext cx="61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4592880" y="3288960"/>
                  <a:ext cx="360" cy="15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4592880" y="3304800"/>
                  <a:ext cx="360" cy="15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4592880" y="3320640"/>
                  <a:ext cx="36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4592880" y="3336840"/>
                  <a:ext cx="6120" cy="1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4599360" y="3352320"/>
                  <a:ext cx="36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4599360" y="3368520"/>
                  <a:ext cx="61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4605480" y="3384720"/>
                  <a:ext cx="720" cy="1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0" name=""/>
              <p:cNvSpPr/>
              <p:nvPr/>
            </p:nvSpPr>
            <p:spPr>
              <a:xfrm>
                <a:off x="4605480" y="3400200"/>
                <a:ext cx="1260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4618080" y="3421800"/>
                <a:ext cx="6120" cy="1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624200" y="3437640"/>
                <a:ext cx="1152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4636080" y="3459240"/>
                <a:ext cx="12600" cy="31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648680" y="3490920"/>
                <a:ext cx="18720" cy="57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667760" y="3548880"/>
                <a:ext cx="24120" cy="5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691880" y="3607560"/>
                <a:ext cx="31320" cy="5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723200" y="3666600"/>
                <a:ext cx="42840" cy="122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766400" y="3788640"/>
                <a:ext cx="49320" cy="424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4815720" y="4213800"/>
                <a:ext cx="67320" cy="228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883400" y="4442040"/>
                <a:ext cx="93240" cy="12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4976640" y="4569840"/>
                <a:ext cx="116640" cy="6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5093640" y="4639320"/>
                <a:ext cx="147960" cy="47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241960" y="4686840"/>
                <a:ext cx="19764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439960" y="4708440"/>
                <a:ext cx="253440" cy="1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5693400" y="4723920"/>
                <a:ext cx="334440" cy="10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027840" y="4734720"/>
                <a:ext cx="432360" cy="5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460560" y="4740120"/>
                <a:ext cx="562680" cy="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023240" y="4745520"/>
                <a:ext cx="729000" cy="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752600" y="4750920"/>
                <a:ext cx="36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0" name=""/>
            <p:cNvSpPr/>
            <p:nvPr/>
          </p:nvSpPr>
          <p:spPr>
            <a:xfrm>
              <a:off x="4586400" y="3260520"/>
              <a:ext cx="1461960" cy="1514520"/>
            </a:xfrm>
            <a:custGeom>
              <a:avLst/>
              <a:gdLst/>
              <a:ahLst/>
              <a:rect l="l" t="t" r="r" b="b"/>
              <a:pathLst>
                <a:path w="921" h="954">
                  <a:moveTo>
                    <a:pt x="0" y="0"/>
                  </a:moveTo>
                  <a:lnTo>
                    <a:pt x="0" y="948"/>
                  </a:lnTo>
                  <a:lnTo>
                    <a:pt x="921" y="954"/>
                  </a:lnTo>
                  <a:lnTo>
                    <a:pt x="909" y="930"/>
                  </a:lnTo>
                  <a:cubicBezTo>
                    <a:pt x="780" y="924"/>
                    <a:pt x="651" y="919"/>
                    <a:pt x="522" y="912"/>
                  </a:cubicBezTo>
                  <a:cubicBezTo>
                    <a:pt x="493" y="911"/>
                    <a:pt x="435" y="906"/>
                    <a:pt x="435" y="906"/>
                  </a:cubicBezTo>
                  <a:cubicBezTo>
                    <a:pt x="432" y="907"/>
                    <a:pt x="426" y="909"/>
                    <a:pt x="426" y="909"/>
                  </a:cubicBezTo>
                  <a:lnTo>
                    <a:pt x="408" y="900"/>
                  </a:lnTo>
                  <a:lnTo>
                    <a:pt x="312" y="876"/>
                  </a:lnTo>
                  <a:lnTo>
                    <a:pt x="261" y="834"/>
                  </a:lnTo>
                  <a:lnTo>
                    <a:pt x="192" y="756"/>
                  </a:lnTo>
                  <a:lnTo>
                    <a:pt x="156" y="657"/>
                  </a:lnTo>
                  <a:lnTo>
                    <a:pt x="141" y="603"/>
                  </a:lnTo>
                  <a:lnTo>
                    <a:pt x="135" y="573"/>
                  </a:lnTo>
                  <a:lnTo>
                    <a:pt x="114" y="336"/>
                  </a:lnTo>
                  <a:lnTo>
                    <a:pt x="90" y="252"/>
                  </a:lnTo>
                  <a:lnTo>
                    <a:pt x="54" y="183"/>
                  </a:lnTo>
                  <a:lnTo>
                    <a:pt x="18" y="114"/>
                  </a:lnTo>
                  <a:lnTo>
                    <a:pt x="15" y="90"/>
                  </a:lnTo>
                  <a:lnTo>
                    <a:pt x="6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1" name=""/>
          <p:cNvSpPr/>
          <p:nvPr/>
        </p:nvSpPr>
        <p:spPr>
          <a:xfrm>
            <a:off x="5245200" y="4757760"/>
            <a:ext cx="2523960" cy="46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1192320" y="2400480"/>
            <a:ext cx="6589440" cy="10918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992160" y="1576440"/>
            <a:ext cx="2513160" cy="73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Frutiger 55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=25% near well b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6116760" y="5346720"/>
            <a:ext cx="2512800" cy="73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Frutiger 55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= 2% away from w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3505320" y="1979640"/>
            <a:ext cx="761760" cy="12193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 flipV="1">
            <a:off x="7470720" y="4800240"/>
            <a:ext cx="0" cy="5461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4464000" y="4208400"/>
            <a:ext cx="10008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4464000" y="2355840"/>
            <a:ext cx="10476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 flipH="1">
            <a:off x="731520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 flipH="1">
            <a:off x="746748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 flipH="1">
            <a:off x="716292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 flipH="1">
            <a:off x="739152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 flipH="1">
            <a:off x="75438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 flipH="1">
            <a:off x="75438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 flipH="1">
            <a:off x="70866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 flipH="1">
            <a:off x="472428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flipH="1">
            <a:off x="6248520" y="37339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 flipH="1">
            <a:off x="594360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 flipH="1">
            <a:off x="624852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 flipH="1">
            <a:off x="594360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 flipH="1">
            <a:off x="609588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flipH="1">
            <a:off x="624852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 flipH="1">
            <a:off x="693432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 flipH="1">
            <a:off x="655308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 flipH="1">
            <a:off x="6705720" y="335448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 flipH="1">
            <a:off x="632448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 flipH="1">
            <a:off x="4876920" y="38862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 flipH="1">
            <a:off x="50292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 flipH="1">
            <a:off x="541008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H="1">
            <a:off x="5715000" y="38862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 flipH="1">
            <a:off x="6172200" y="35053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 flipH="1">
            <a:off x="5715000" y="4267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 flipH="1">
            <a:off x="6248520" y="44956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 flipH="1">
            <a:off x="495288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 flipH="1">
            <a:off x="472428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 flipH="1">
            <a:off x="4952880" y="4191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 flipH="1">
            <a:off x="5257800" y="4419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 flipH="1">
            <a:off x="533412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 flipH="1">
            <a:off x="5562720" y="44956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 flipH="1">
            <a:off x="62485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H="1">
            <a:off x="60199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 flipH="1">
            <a:off x="685800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701028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 flipH="1">
            <a:off x="716292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 flipH="1">
            <a:off x="678168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6934320" y="36576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7" name=""/>
          <p:cNvGrpSpPr/>
          <p:nvPr/>
        </p:nvGrpSpPr>
        <p:grpSpPr>
          <a:xfrm>
            <a:off x="6553080" y="3809880"/>
            <a:ext cx="466560" cy="836640"/>
            <a:chOff x="6553080" y="3809880"/>
            <a:chExt cx="466560" cy="836640"/>
          </a:xfrm>
        </p:grpSpPr>
        <p:sp>
          <p:nvSpPr>
            <p:cNvPr id="3178" name=""/>
            <p:cNvSpPr/>
            <p:nvPr/>
          </p:nvSpPr>
          <p:spPr>
            <a:xfrm flipH="1">
              <a:off x="6781680" y="42670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H="1">
              <a:off x="6858000" y="38862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6553080" y="40384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6553080" y="38098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H="1">
              <a:off x="6933960" y="40384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H="1">
              <a:off x="6933960" y="441972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H="1">
              <a:off x="6553080" y="43434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H="1">
              <a:off x="6781680" y="45720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H="1">
              <a:off x="6553080" y="45720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7" name=""/>
          <p:cNvSpPr/>
          <p:nvPr/>
        </p:nvSpPr>
        <p:spPr>
          <a:xfrm flipH="1">
            <a:off x="594360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 flipH="1">
            <a:off x="571500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H="1">
            <a:off x="54864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 flipH="1">
            <a:off x="59436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6019920" y="40384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73915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 flipH="1">
            <a:off x="746748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 flipH="1">
            <a:off x="716292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 flipH="1">
            <a:off x="723888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 flipH="1">
            <a:off x="754380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 flipH="1">
            <a:off x="7620120" y="4419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 flipH="1">
            <a:off x="71629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 flipH="1">
            <a:off x="746748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 flipH="1">
            <a:off x="716292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 flipH="1">
            <a:off x="7391520" y="36576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 flipH="1">
            <a:off x="731520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 flipH="1">
            <a:off x="670572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 flipH="1">
            <a:off x="655308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H="1">
            <a:off x="6400800" y="335448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 flipH="1">
            <a:off x="66294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 flipH="1">
            <a:off x="7543800" y="4191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Development of condensate bank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09" name=""/>
          <p:cNvGraphicFramePr/>
          <p:nvPr/>
        </p:nvGraphicFramePr>
        <p:xfrm>
          <a:off x="228600" y="114948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948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" dur="1" fill="hold"/>
                                  <p:tgtEl>
                                    <p:spTgt spid="32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and condensate saturation (linear scale for radius)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12" name=""/>
          <p:cNvGraphicFramePr/>
          <p:nvPr/>
        </p:nvGraphicFramePr>
        <p:xfrm>
          <a:off x="228600" y="113184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3184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4" name=""/>
          <p:cNvSpPr/>
          <p:nvPr/>
        </p:nvSpPr>
        <p:spPr>
          <a:xfrm>
            <a:off x="5814360" y="1903320"/>
            <a:ext cx="2096640" cy="452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7fff00"/>
                </a:solidFill>
                <a:latin typeface="Frutiger 55 Roman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5645160" y="4506840"/>
            <a:ext cx="2530800" cy="894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condens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sat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and condensate saturation (log scale for radius)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17" name=""/>
          <p:cNvGraphicFramePr/>
          <p:nvPr/>
        </p:nvGraphicFramePr>
        <p:xfrm>
          <a:off x="228600" y="107964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7964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9" name=""/>
          <p:cNvSpPr/>
          <p:nvPr/>
        </p:nvSpPr>
        <p:spPr>
          <a:xfrm>
            <a:off x="5814360" y="1903320"/>
            <a:ext cx="2096640" cy="452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Frutiger 55 Roman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5645160" y="4506840"/>
            <a:ext cx="2530800" cy="894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condens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sat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Development of condensate bank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22" name=""/>
          <p:cNvGraphicFramePr/>
          <p:nvPr/>
        </p:nvGraphicFramePr>
        <p:xfrm>
          <a:off x="228600" y="114948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948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4" dur="1" fill="hold"/>
                                  <p:tgtEl>
                                    <p:spTgt spid="3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4T14:06:46Z</dcterms:created>
  <dc:creator>AEA Technology</dc:creator>
  <dc:description/>
  <dc:language>en-US</dc:language>
  <cp:lastModifiedBy>Robert Mott</cp:lastModifiedBy>
  <cp:lastPrinted>2000-04-06T12:34:46Z</cp:lastPrinted>
  <dcterms:modified xsi:type="dcterms:W3CDTF">2004-03-05T10:17:57Z</dcterms:modified>
  <cp:revision>144</cp:revision>
  <dc:subject/>
  <dc:title>AEA Technology OHT presentation templates</dc:title>
</cp:coreProperties>
</file>