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B4DA-D72F-4AF7-81FF-135342240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6280-36B1-4C84-8752-E9F354E3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F08B-C9ED-41FC-A342-2D79F89EE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D205-2D0B-4149-8436-556DA26AA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AE94-D25A-44D7-9908-03F3CECB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D58F-E5BB-4C84-BA77-9906A7D8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A496-34B1-4D09-8AD5-454E6A14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9BE8-73D4-4984-BA07-4E2767A9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7641-07BB-4CAE-9F55-9B800301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AD2B-4E63-4DA0-9AC3-E5BE8F93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36CF-112A-4729-8564-13FCD30D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1930-E98D-4607-8D81-F185B7AD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5956-CE61-4A21-94E4-C7835FDDB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60400" y="809640"/>
          <a:ext cx="6188040" cy="411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0400" y="809640"/>
                    <a:ext cx="6188040" cy="41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794240" y="363600"/>
            <a:ext cx="32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Liquid saturation in CV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2440" y="5211720"/>
            <a:ext cx="5846760" cy="35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CVD ‘liquid dropout curve’ is perhaps the most familiar PVT property of a condensate fluid, but it has little direct impact on reservoir and well perform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When tuning an EOS model to CVD data, it is much more important to match the gas Z-factor and C7+ fraction in produced g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Net revaporization of retrograde condensate starts only at very low pressures (&lt;50 bar). It does not start when the liquid volume starts dropping (e.g. 140 bar above), as this drop is related to solution gas coming out of solution from the retrograde condensate (‘shrinkage’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CHW</cp:lastModifiedBy>
  <dcterms:modified xsi:type="dcterms:W3CDTF">2003-08-18T10:10:25Z</dcterms:modified>
  <cp:revision>64</cp:revision>
  <dc:subject/>
  <dc:title>PowerPoint Presentation</dc:title>
</cp:coreProperties>
</file>