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F46-9881-4712-9F3D-4456BE67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911-283A-4C9B-A517-B60F1F71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830-3B5D-4A6B-B6C1-1AB3BD71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2A37-D962-4BA7-B61C-32B0013C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1EA-D4AF-4E82-B574-C87D27C1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CE6-4F9E-4853-821B-9F7EE185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032-9DFC-459C-A3DE-33EF2A68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D16-E82C-4077-8B2F-68BEAC48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A60-D282-4A89-A9C6-AAAE1502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F69-D06B-4B1A-A3F6-6E53A118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D74-7DC7-46BE-AFED-4BBE356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64C-EDB9-4E78-9A9B-11A2C210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1441-5AC1-4593-A6FD-F0808F8D2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ear-well rel perm data – krg versus Nc at fixed krg/k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14680" y="1346040"/>
            <a:ext cx="57150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54:39Z</dcterms:modified>
  <cp:revision>20</cp:revision>
  <dc:subject/>
  <dc:title>PowerPoint Presentation</dc:title>
</cp:coreProperties>
</file>