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E18-2204-46E3-BB20-B0076D1D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5377-DE9D-4A4C-B09F-8F87EC5D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0D3B-5C22-4A51-8764-EE9269D1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F4E3-D41F-4790-9767-BC9FD13B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BCE-D804-4F45-92FE-8F3677C7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6959-5531-48D8-900F-F910D060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075-A3A0-49A7-BB55-7E529D3E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320-A5CE-416F-95ED-50B0B791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631-5AA5-42E0-AA1E-933263BA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72D4-28D2-4370-A5AF-7DD416B6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65A-950E-40C9-A527-B9AC874E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145-4E6C-4F1C-8E48-1E1BABA7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857D-476B-4B2C-996C-0EF35A69A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2514600" y="685800"/>
                <a:ext cx="19242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431720" y="1523880"/>
            <a:ext cx="4266360" cy="22885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volume, m</a:t>
            </a:r>
            <a:r>
              <a:rPr b="0" lang="nb-NO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oles, k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bsolute temperature,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universal gas con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083143 b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km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6T09:57:07Z</dcterms:modified>
  <cp:revision>3</cp:revision>
  <dc:subject/>
  <dc:title>PowerPoint Presentation</dc:title>
</cp:coreProperties>
</file>