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DD7-3DA9-493B-81C9-33A7422F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042-EECD-4910-8525-54DA1710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87F-6BBE-48AD-8117-FA91A5EC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BBA-5C04-4CAB-93A8-782036A6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02C-C4E4-4E0D-A805-07F1BF85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5D1-266C-4A6E-A17A-FACFC435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BB8-10FE-44A8-9230-BAB28EAA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A98-2394-4017-A9B9-C16B7105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C98-3D61-4DE0-89C1-7E22232F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993-441E-42F1-9C19-D1388C4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A32-1E60-4875-B4F0-6A4D51CA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0CD-D32E-4F94-8350-62008FE2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0A9E-FCB3-44E8-B2B6-9FD9784D6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953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initial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-factor at 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gas produced from depletion at pre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et gas or m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nitial gas in place (wet gas or mol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52400" y="1427040"/>
                <a:ext cx="53499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45Z</dcterms:modified>
  <cp:revision>15</cp:revision>
  <dc:subject/>
  <dc:title>PowerPoint Presentation</dc:title>
</cp:coreProperties>
</file>