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019-484F-42B4-B448-3B3BCFEA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E12-1492-441D-9B95-F368F3B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362-7975-4EC2-991D-CD6109C7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FDA-37E7-4B38-9F08-4898EDD8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DF8-5F30-46F1-AA3F-2CB0A6B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2DD-2842-4986-B487-64403435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6F8-78C0-4ABB-9367-C49610C9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F2F-E78B-4F32-A256-3FE7CBC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B9B-43AE-4FE6-91FE-28DE44DF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33A-CAB0-4147-8623-BBA9397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9EE-D545-4617-B0C9-F732B79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DFE-AC91-49F5-9474-FCBEC22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4B86-1694-442A-81A9-0D0BB154C31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DA7A-26E5-46BE-A89F-7B6FEB6893D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9A5-266B-48C0-B9E0-8B848FA6B3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2C907-3EF2-408E-8694-2D25A6924684}" type="datetime3">
              <a:rPr lang="en-US"/>
              <a:t>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677-8842-464F-A2ED-F2DFEDE9E0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409A5-6448-4F98-A6B6-B7BED04F4FB0}" type="datetime3">
              <a:rPr lang="en-US"/>
              <a:t>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