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905-57E2-46E7-A5B4-B89C2956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F61-7EFB-4EF9-BB20-927C328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A13-EB45-4028-BB9F-3539CDF8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5B1-28D0-4335-BFCD-8C614707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C41-C959-49D1-ADAE-8B43E055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F21-6AA3-4D61-B33D-B45A08B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393-F5B5-42F0-907E-8AA6F076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095-A03F-44C2-A2AC-F2A5FEAF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A02-21D3-44B1-9C45-DDFC7F77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A0D-6281-4CA0-9E4C-104B43B6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0A2-D5A9-4715-A9C9-A419D761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DC5-AFF5-4BAF-9BCF-E28D6EBB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71EE-63D1-4004-9D6A-5463AE454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ig1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763120" cy="61034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 Dry Gas engineering 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except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Retrograde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ndensation impacts condensate recovery and well deliverability (i.e. economics)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09T09:09:51Z</dcterms:modified>
  <cp:revision>12</cp:revision>
  <dc:subject/>
  <dc:title>PowerPoint Presentation</dc:title>
</cp:coreProperties>
</file>