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2D6A-6FF4-46A1-BB68-5DC216234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9196-2EBF-4FA5-920E-784080196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1940-0E63-4095-A3D4-37629DCF4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570E-CA85-464A-B70D-E8CA92DFA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28CB-8A1F-4811-B4C1-499BEA741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2894-3F9C-4591-B98E-17302191B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C641-F81C-4230-8A55-6621202D1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73BA-FE34-4254-962C-FE092FC6D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6E3D-8C05-4BCD-B5CB-6958A4799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0C0A-3E82-4981-BF5B-975BEFEE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D2A9-8AC5-4273-B02E-D5181006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6098-67FA-40E6-BDE5-27EC0A76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52220-9C22-4AC0-A714-7060D7EA03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9880" y="30492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imple radial simulation model results in 10 md reservoir – condensate blockage has a major impact on on well delive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43080" y="1371600"/>
            <a:ext cx="8458200" cy="5197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229600" y="6095880"/>
            <a:ext cx="685800" cy="533520"/>
          </a:xfrm>
          <a:prstGeom prst="rightArrow">
            <a:avLst>
              <a:gd name="adj1" fmla="val 50000"/>
              <a:gd name="adj2" fmla="val 321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69880" y="30492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imple radial simulation model results in 100 md reservoir – condensate blockage has little impact on well delive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792504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8T15:36:41Z</dcterms:modified>
  <cp:revision>21</cp:revision>
  <dc:subject/>
  <dc:title>PowerPoint Presentation</dc:title>
</cp:coreProperties>
</file>