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4D9C-0EE1-408A-9CD0-BC7149258821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5861-8942-48CE-B9C6-6047F062F3B1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GC-Reservoirs/GC-Reservoirs-example/other-links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GC-Reservoirs/GC-Reservoirs-example/other-links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GC-Reservoirs/GC-Reservoirs-example/other-links.ppt" TargetMode="Externa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RADIAL10.DAT" TargetMode="External"/><Relationship Id="rId2" Type="http://schemas.openxmlformats.org/officeDocument/2006/relationships/hyperlink" Target="file:///RADIAL10.DAT" TargetMode="External"/><Relationship Id="rId3" Type="http://schemas.openxmlformats.org/officeDocument/2006/relationships/hyperlink" Target="file:///RADIAL10.DAT" TargetMode="External"/><Relationship Id="rId4" Type="http://schemas.openxmlformats.org/officeDocument/2006/relationships/hyperlink" Target="file:///RADIAL_MODKR.DAT" TargetMode="External"/><Relationship Id="rId5" Type="http://schemas.openxmlformats.org/officeDocument/2006/relationships/hyperlink" Target="file:///RADIAL_MODKR.DAT" TargetMode="External"/><Relationship Id="rId6" Type="http://schemas.openxmlformats.org/officeDocument/2006/relationships/hyperlink" Target="file:///RADIAL_MODKR.DAT" TargetMode="External"/><Relationship Id="rId7" Type="http://schemas.openxmlformats.org/officeDocument/2006/relationships/hyperlink" Target="file:///radial_10md_rock.out" TargetMode="External"/><Relationship Id="rId8" Type="http://schemas.openxmlformats.org/officeDocument/2006/relationships/hyperlink" Target="file:///RADIAL_10MD_MODKR.OUT" TargetMode="External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301680" y="228600"/>
            <a:ext cx="604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Bloc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3960" y="1447920"/>
            <a:ext cx="5410080" cy="52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using a simplified simulation model to demonstrate the fundamental relative permeability relationship affecting condensate block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The fundamental relationship which determines condensate blockage is krg as a function of the ratio krg/k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n the condensate bank, the ratio krg/kro (a sort of fractional flow)</a:t>
            </a: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an be determined from the flowing OGR (r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) and the PVT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676520" y="7010280"/>
                <a:ext cx="28954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/>
          </p:cNvPr>
          <p:cNvSpPr/>
          <p:nvPr/>
        </p:nvSpPr>
        <p:spPr>
          <a:xfrm>
            <a:off x="457200" y="228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l perms for Condensate Bloc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23960" y="1447920"/>
            <a:ext cx="51433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sider two different sets of gas-oil rel perm cur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The blue curves have a critical condensate saturation of 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The blue curves have a critical condensate saturation of 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4267080"/>
            <a:ext cx="685800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"/>
          </p:cNvPr>
          <p:cNvSpPr/>
          <p:nvPr/>
        </p:nvSpPr>
        <p:spPr>
          <a:xfrm>
            <a:off x="457200" y="228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Rel perms for Condensate Bloc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7160" y="1981080"/>
            <a:ext cx="514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But both sets of rel perm curves have the same krg vs krg/kro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685800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78000" y="1447920"/>
            <a:ext cx="6100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un 1D Sensor model for 10 md reservoir with these two sets of rel perm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47840" y="60912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mulation calc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5800" y="2666880"/>
            <a:ext cx="5985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62040" indent="-6094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Original (blue)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rel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094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Modified (red)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rel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6"/>
              </a:rPr>
              <a:t>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4040" y="4572000"/>
            <a:ext cx="62881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8000" y="4191120"/>
            <a:ext cx="6022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r use these output files for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7"/>
              </a:rPr>
              <a:t>Case 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nd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8"/>
              </a:rPr>
              <a:t>Case B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mpare oil saturations at 4 years and gas production pro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28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Oil saturations after 4 years’ 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9200" y="2057400"/>
            <a:ext cx="561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Different rel perms give different saturations in the condensate bank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685800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production profi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121932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…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but the different rel perms give almost identical gas production prof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6858000" cy="4213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19040" y="6477120"/>
            <a:ext cx="6019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krg vs krg/kro is the primary relationship which determines the effect of condensate blockage. Saturations (including critical condensate saturation) are much less importa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228600"/>
            <a:ext cx="6324480" cy="18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Modeling Gas Condensate Well Deliver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Relative Permeability for Well Calcul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Measurement of Relative Permeability for calculating Gas Condensate Well Deliverabil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048120"/>
            <a:ext cx="6324480" cy="567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3T16:54:27Z</dcterms:modified>
  <cp:revision>102</cp:revision>
  <dc:subject/>
  <dc:title>PowerPoint Presentation</dc:title>
</cp:coreProperties>
</file>