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CD3-69C1-4E99-9846-9100F96E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B43-D7C2-46A8-BDDE-A374FE21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C60-F3AE-47DE-B764-A4ECA1D3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DD2-9159-4D05-8004-2B52F0B3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642-350A-47B4-9A97-31A7FD46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AFE-6828-4918-B0C1-CCCC444E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731-F9C0-4F0D-B99B-9461E58B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DED-92C6-4DA5-8C36-0627DE1F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8E2-C47D-4076-BC18-9FFDCFD7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847-D24D-46ED-8B31-287A4646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BF6-E5BB-4523-BF08-1015DA02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0F1-AC91-43F2-801F-790B56A7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F8CD-E2F3-4612-8C83-4AF149A70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6080" y="274680"/>
            <a:ext cx="6172200" cy="64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GOR : 500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– 35 000 Sm3/S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OGR : 1700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– 30 Sm3/(1E6 Sm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 : 0.5 – 12(-14) mol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c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&lt; 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R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criconden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Retrograde condensation (liquid dropout) – reduces liquid recov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ondensate blockage (productivity lo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ondensate revenues are an important part of the value of the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CGR = condensate-gas ratio = O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OGR = oil-gas ratio = C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39:21Z</dcterms:created>
  <dc:creator>CHW</dc:creator>
  <dc:description/>
  <dc:language>en-US</dc:language>
  <cp:lastModifiedBy>Robert Mott</cp:lastModifiedBy>
  <dcterms:modified xsi:type="dcterms:W3CDTF">2004-02-02T17:17:19Z</dcterms:modified>
  <cp:revision>7</cp:revision>
  <dc:subject/>
  <dc:title>PowerPoint Presentation</dc:title>
</cp:coreProperties>
</file>