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DCB-BD19-48C2-A06A-CFA77769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C1FA-17E6-4A8F-A3EE-D63EFA17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BC8-AEB4-4544-812E-66CBE5ED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4D41-8563-45C3-B911-93482D8B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169-2770-4847-9D18-DAD7FC8C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A2AA-29CB-4584-8F80-53AACA00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9B42-C2FD-4495-929B-B6418F1C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9D3-1159-49E6-8947-B06F0391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C48B-47B3-4AC3-93B8-D291BC09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CCE5-C890-4433-B311-687A065C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DA8-96FC-4A5D-A773-F2867FE9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092-1464-4736-872D-89E66974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C7FE-0652-4558-834D-2C301F44F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rg/kro from PVT data for a rich gas condens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2209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 near-well region,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1 &lt; krg/kro &lt;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34290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434880" y="1600200"/>
            <a:ext cx="8272440" cy="4800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mmiscible-type Data (from SPE 564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4840" y="914400"/>
            <a:ext cx="8194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6:48:54Z</dcterms:modified>
  <cp:revision>18</cp:revision>
  <dc:subject/>
  <dc:title>PowerPoint Presentation</dc:title>
</cp:coreProperties>
</file>