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DE2A-20AF-4205-90A8-A36C49BA8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97B0-6754-4370-B3CD-3E90AC5A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FC85-A257-4554-92CC-AC44E8D8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57ED-0AAF-4ACC-82C5-72BA8E60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DE0E-5AEE-428E-AED8-5E02A6BC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69A5-A050-4064-B11B-491B71EF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323B-BB6A-4AD2-9013-25447A77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8DC9-08E3-429B-94F9-C4D9F050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1BB4-71B8-4D5C-8C53-3A9C4816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2C43-0741-4ACF-ADA9-9C1B02C4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440F-8CE4-462E-81C3-107E104A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1957-EBAD-46DB-94A1-CB9A53E6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ECF2-536A-4970-BA85-DF72CBB4E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6858000" cy="603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90920" y="1752480"/>
            <a:ext cx="1447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itical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33920" y="205740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62720" y="1600200"/>
            <a:ext cx="0" cy="4267080"/>
          </a:xfrm>
          <a:prstGeom prst="line">
            <a:avLst/>
          </a:prstGeom>
          <a:ln w="507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487692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30% 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4191120"/>
            <a:ext cx="1143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cc"/>
                </a:solidFill>
                <a:latin typeface="Arial"/>
              </a:rPr>
              <a:t>20% 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3962520"/>
            <a:ext cx="6858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4800600"/>
            <a:ext cx="685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80120" y="990720"/>
            <a:ext cx="16635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nitial reservo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562360" y="1523880"/>
            <a:ext cx="5331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1905120"/>
            <a:ext cx="1828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ew point 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Reservoir tem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562360" y="24382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1280" y="152280"/>
            <a:ext cx="62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-T diagram for gas condensate reserv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1T11:33:54Z</dcterms:modified>
  <cp:revision>12</cp:revision>
  <dc:subject/>
  <dc:title>PowerPoint Presentation</dc:title>
</cp:coreProperties>
</file>