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1AC-1FA8-4EE5-ADF6-9BF075D9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A84-C7B4-4151-88DF-5F84EEF8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F4F-9602-4851-A0C0-08EC6CA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84C-2B31-4A5A-BE00-A8474AFA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971-AEEC-416C-895D-5C4EF91B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25C-5339-4CB2-920D-6ADC1287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A95-9E9C-49D7-9426-3C1D227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829-8B8D-470F-8414-9DB0187A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5EC-9B61-43C5-A76A-E59C8BE9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5F2-F47A-4713-B4B0-35173548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01B-6C94-4965-936A-E9DAB10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762-40C3-4BF5-B03B-10A5B71C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124-1F9F-4A00-8526-9BF2952D3A3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E807-E3AD-45FB-A593-0E417FC1743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PVT-Expts.ppt" TargetMode="External"/><Relationship Id="rId10" Type="http://schemas.openxmlformats.org/officeDocument/2006/relationships/hyperlink" Target="file:///../MISC/UNITS-CONVERSION.PDF" TargetMode="External"/><Relationship Id="rId11" Type="http://schemas.openxmlformats.org/officeDocument/2006/relationships/hyperlink" Target="file:///IBC1999SLIDES.PPT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Papers/IBC1999paper.pdf" TargetMode="External"/><Relationship Id="rId2" Type="http://schemas.openxmlformats.org/officeDocument/2006/relationships/hyperlink" Target="file:///..%5CPVT-Papers/SPEPBM-Ch2.pdf" TargetMode="External"/><Relationship Id="rId3" Type="http://schemas.openxmlformats.org/officeDocument/2006/relationships/hyperlink" Target="file:///..%5CPVT-Papers/SPEPBM-Ch6.pdf" TargetMode="External"/><Relationship Id="rId4" Type="http://schemas.openxmlformats.org/officeDocument/2006/relationships/hyperlink" Target="file:///GC-PVT-EXAMPLE+RESULTS.PPT" TargetMode="External"/><Relationship Id="rId5" Type="http://schemas.openxmlformats.org/officeDocument/2006/relationships/hyperlink" Target="file:///gas-properties.xls" TargetMode="External"/><Relationship Id="rId6" Type="http://schemas.openxmlformats.org/officeDocument/2006/relationships/hyperlink" Target="file:///CVD-ANALYSIS%20.XLS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368-67E7-499A-9EAD-4C302F82C7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DDDED-6A1B-4BC1-B0C1-A6BB01B9F2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1D9-AF14-4A67-A0A1-66B74852DD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52290-5490-484F-AA3F-DC5E01BFEF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urtis</cp:lastModifiedBy>
  <dcterms:modified xsi:type="dcterms:W3CDTF">2007-05-08T05:52:26Z</dcterms:modified>
  <cp:revision>92</cp:revision>
  <dc:subject/>
  <dc:title>PowerPoint Presentation</dc:title>
</cp:coreProperties>
</file>