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AD6-AE3C-4B7E-AA98-6466CCB6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7267-918A-43BA-A8AF-148875DA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E42-B646-41B2-BFCC-2B3013DB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2372-B489-44BF-930D-5A008790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609-146E-423B-A105-408062DD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DBA-2B59-4727-BF06-FBBD8557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5189-43A9-46D6-9051-8520F28D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C67-99DE-4F3B-8260-71013FFF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57C3-EE4B-4ACF-9876-E77C7371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677-60B5-4F71-BFDC-945C1B86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19B-A041-438F-B034-3DBB4A72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379-1897-4847-942F-9701F771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5D77-3CAE-44CA-A0AE-8C13572A8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819000"/>
            <a:ext cx="8610480" cy="578736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Gas field development involves the optimal selection of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number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placement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tubing size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nd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pipeline characteristic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deliver a specified contract rate (DCQ - daily contract quota) and specified contractual (plateau) peri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engineering tools required are (a) reservoir material balance(s); (b) well rate equations for reservoir and tubing; and (c) pipeline rate equations. Reservoir simulation is often not necessary, but may be conven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Data acquisition is needed early to estimate key parameters in the calculations mentioned in (2). These include core data, log interpretation, geologic mapping, and well tes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ield gas rate ‘swing’ considerations may be important, accounting for a seasonal variation in production rate demand (maximum in winte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mpression design may be important during the contractual period, but almost certainly during the decline period of produ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Uncertainty analysis should focus on the parameters which are known to be important and known to be uncertain (IGIP, kh, skin, aquifer strength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HW</cp:lastModifiedBy>
  <dcterms:modified xsi:type="dcterms:W3CDTF">2003-08-22T08:09:12Z</dcterms:modified>
  <cp:revision>9</cp:revision>
  <dc:subject/>
  <dc:title>PowerPoint Presentation</dc:title>
</cp:coreProperties>
</file>