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555F-B546-472F-9756-CF150675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90E-FAA5-48D7-BFF9-19E77A2A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28D3-82F3-4FD1-87B8-FCC3D03A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010-6DB9-47D1-8B48-831D8E17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0DA-1AAE-4AE5-B312-470EDB43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F74-67EB-47AB-9B76-4A15C8DA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A07B-5D82-407A-9869-03D24C5F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750A-7383-4682-9DD2-131BC7A7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C3A-9271-43C3-8AB5-D2937F5A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24F-5190-4B2A-B62C-D5A3458F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193-3A06-4A88-BF02-92142D74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779-F64C-4F4C-AE60-BC12C1AF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2D9B-294E-44A8-B589-AFAA4D63D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hyperlink" Target="file:///3-region-composite.ppt" TargetMode="External"/><Relationship Id="rId3" Type="http://schemas.openxmlformats.org/officeDocument/2006/relationships/hyperlink" Target="file:///2-phase-build-up.ppt" TargetMode="External"/><Relationship Id="rId4" Type="http://schemas.openxmlformats.org/officeDocument/2006/relationships/hyperlink" Target="file:///Multi-rate-test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760" y="206280"/>
            <a:ext cx="8610480" cy="6783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4:14Z</dcterms:modified>
  <cp:revision>18</cp:revision>
  <dc:subject/>
  <dc:title>PowerPoint Presentation</dc:title>
</cp:coreProperties>
</file>