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C4A-8D06-40F9-8D9C-E5BC5052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296-8086-44C3-86F1-EB498151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4C4-016E-478E-9803-DF11D325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100-E98E-4BDF-97BC-8AF38065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A17-E755-4A7B-81B2-F25B0C23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436-BECE-41AA-A323-CFF811E5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797-B618-490D-8AFA-6667A6FF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0A9-2E24-4EA9-BAE0-E3211EB8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29B-BBC5-426C-B124-8A98CFF6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16D-C428-4BC5-87D7-EF23D252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55F-A3E8-4467-92F7-11B6108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A5F-1D90-49A7-B505-C8A13723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5440-BB18-4DAE-A666-93DAECBBB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ackpressur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4013280"/>
            <a:ext cx="53337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constan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stant contains all of the terms as for the general equation, but also includes (empirically) the n and rate-dependent skin term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28840" y="1752480"/>
                <a:ext cx="3676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27040" y="2728800"/>
                <a:ext cx="3144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71640" y="2413080"/>
                <a:ext cx="45306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11120" y="149868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295280" y="5460840"/>
            <a:ext cx="4267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dependent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31840" y="3835440"/>
                <a:ext cx="18576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780000" y="3801960"/>
                <a:ext cx="18586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22092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1T12:27:04Z</dcterms:modified>
  <cp:revision>27</cp:revision>
  <dc:subject/>
  <dc:title>PowerPoint Presentation</dc:title>
</cp:coreProperties>
</file>