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48584-5E3F-46CE-81AA-A0440332E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58662-9B38-43F2-9C51-12561D16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FE1B-8E34-4C3C-BC60-8E9749195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41388-06C1-420B-ADEC-B8CB35F95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F7FB-90A5-4BD1-8251-DD516D6A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4F7FB-D724-41E3-A335-03B1DC1A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FCB5B-F2F6-4774-B30C-F1BDDB8A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FED42-C287-456D-8BBE-F456CFEC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1255-ADBB-4F1A-B6A1-DCF9B5DD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AEC4-7988-41FD-BC3E-7FA7191CD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92F9-1DF9-4749-B4A0-D2F34BCB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CE37-2714-4F33-AC8F-BE1E8992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319A-6D4E-4B59-BF3B-5FCBCF088016}"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D64C-824F-4782-850B-2E6AD1BF3D7E}"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F97B7D99-E334-4C6A-9703-CDED6210457F}" type="slidenum">
              <a:t>1</a:t>
            </a:fld>
          </a:p>
        </p:txBody>
      </p:sp>
      <p:sp>
        <p:nvSpPr>
          <p:cNvPr id="4" name="PlaceHolder 3"/>
          <p:cNvSpPr>
            <a:spLocks noGrp="1"/>
          </p:cNvSpPr>
          <p:nvPr>
            <p:ph type="dt" idx="1"/>
          </p:nvPr>
        </p:nvSpPr>
        <p:spPr/>
        <p:txBody>
          <a:bodyPr/>
          <a:p>
            <a:fld id="{55505C05-0180-45F4-9B1C-E469A3D2064C}"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9B2C8545-1082-4446-BC96-365CA361E49E}" type="slidenum">
              <a:t>2</a:t>
            </a:fld>
          </a:p>
        </p:txBody>
      </p:sp>
      <p:sp>
        <p:nvSpPr>
          <p:cNvPr id="4" name="PlaceHolder 3"/>
          <p:cNvSpPr>
            <a:spLocks noGrp="1"/>
          </p:cNvSpPr>
          <p:nvPr>
            <p:ph type="dt" idx="1"/>
          </p:nvPr>
        </p:nvSpPr>
        <p:spPr/>
        <p:txBody>
          <a:bodyPr/>
          <a:p>
            <a:fld id="{6FD63C3C-87B4-4C8C-A57B-02771E4FEDDD}"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