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D17F-F930-46E8-B4D7-D44EE85968FC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BE23-C27E-4FD1-97C4-039CDDCB0043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419040" y="3049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05120"/>
            <a:ext cx="5413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demonstrate the use of the gas condensate rate equation to estimate well productivity, taking account of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ata will be taken from a Sensor simulation  model to allow comparison with simulation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. Calculate the term inside the pseudopressure integ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625760" y="5486400"/>
          <a:ext cx="3605040" cy="2819520"/>
        </p:xfrm>
        <a:graphic>
          <a:graphicData uri="http://schemas.openxmlformats.org/drawingml/2006/table">
            <a:tbl>
              <a:tblPr/>
              <a:tblGrid>
                <a:gridCol w="1471320"/>
                <a:gridCol w="2133720"/>
              </a:tblGrid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 (ps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(Mscf/stb/c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38360" y="2514600"/>
                <a:ext cx="35812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57200" y="403848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For a lean gas condensate, the second term is very small and can be neglected (&lt; 1% in this exa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6629400" cy="43988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ep 4. Calculate the pseudopressure integral – the area under the Gas mobility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v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Pressure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114800"/>
            <a:ext cx="27432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This point estimated by extrap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3360" y="4799160"/>
            <a:ext cx="1296720" cy="458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7162920"/>
            <a:ext cx="63244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mobility vs pressure curve has a discontinuity at dew point pressure – need to allow for this when evaluating the integ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2819520"/>
            <a:ext cx="3733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as mobility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4. Calculate the pseudopressure integ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4240" y="2666520"/>
            <a:ext cx="54295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valuating the integral by the trapezoid rule giv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7200" y="3886200"/>
                <a:ext cx="15238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154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965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057400" y="4114800"/>
            <a:ext cx="50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 25,117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psi.Mscf/rb/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486400"/>
            <a:ext cx="5943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8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is gives a gas flow rate of 21.3 MMscf/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gas flow rate from Sensor = 21.5 MMscf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5. Estimate the condensate blockage sk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3880" y="2133720"/>
            <a:ext cx="56102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ecalculate the gas mobility </a:t>
            </a:r>
            <a:r>
              <a:rPr b="0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 baseline="-25000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(P) assuming krg=0.96, kro =0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pseudopressure integral is now 90,100 psi.Mscf/rb/cp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alculate the skin from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14400" y="4572000"/>
                <a:ext cx="45194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23880" y="5867280"/>
            <a:ext cx="5610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10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condensate blockage skin = 21.6. In practice, this is almost certainly too high as it ignores the effect of velocity-dependent rel p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mic Sans MS"/>
              </a:rPr>
              <a:t>Spreadsheet with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How can we include the effect of velocity dependent rel pe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3880" y="2133720"/>
            <a:ext cx="56102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Guess the gas production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this is needed to calculate velocity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For each pressure in the pseudopressure integral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radius by assuming P~ln(radius)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Darcy velocity at this radius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capillary number (will also need IFT as a function of pressure)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Adjust the krg vs krg/kro relationship using the Fevang-Whitson correlation (Ref 2).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Calculate the pseudopressure integral and the gas production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Repeat if gas production rate is very different from original guess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623880" y="6553080"/>
            <a:ext cx="5610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0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3800" y="457200"/>
            <a:ext cx="58104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seudopressure integral with velocity dependent rel p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6858000" cy="4556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3880" y="4038480"/>
            <a:ext cx="2438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With vel-dep k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047760" y="4495680"/>
            <a:ext cx="7596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6400800"/>
            <a:ext cx="1981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With rock k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905120" y="5714640"/>
            <a:ext cx="609480" cy="685800"/>
          </a:xfrm>
          <a:prstGeom prst="line">
            <a:avLst/>
          </a:prstGeom>
          <a:ln w="2844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760" y="73152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Gas production rate with velocity dependent rel perms is about 31 MMscf/d – a blockage skin of about 1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8600"/>
            <a:ext cx="6324480" cy="19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odeling Gas Condensate Well Deliver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33cc"/>
                </a:solidFill>
                <a:uFillTx/>
                <a:latin typeface="Comic Sans MS"/>
              </a:rPr>
              <a:t>Engineering Calculations of Gas Condensate Well Productivity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360" y="2590920"/>
            <a:ext cx="6192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kh = 1,000 md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w = 0.33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e = 30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echanical ski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verage reservoir pressure = 396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Wellbore flowing BHP = 154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an gas condensate (PVT properties on next slide), flowing OGR = 26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ock’ rel perms, with Corey exponent of 3 (data on slid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sume oil saturation = 1% outside near-well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7162920"/>
            <a:ext cx="5811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se conditions correspond to this Sensor simulation case after 3 years (1095 days) 10 md, rock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120" y="1600200"/>
            <a:ext cx="6411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well in a lean gas condensate reservoir has with these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440" y="2514600"/>
            <a:ext cx="625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maximum gas production rate for the we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condensate blockage sk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as-Oil Relative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09680" y="1676520"/>
          <a:ext cx="3019320" cy="6804000"/>
        </p:xfrm>
        <a:graphic>
          <a:graphicData uri="http://schemas.openxmlformats.org/drawingml/2006/table">
            <a:tbl>
              <a:tblPr/>
              <a:tblGrid>
                <a:gridCol w="966600"/>
                <a:gridCol w="1025640"/>
                <a:gridCol w="1027080"/>
              </a:tblGrid>
              <a:tr h="49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429000" y="2666880"/>
          <a:ext cx="3429000" cy="26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666880"/>
                    <a:ext cx="342900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4440" y="1854360"/>
          <a:ext cx="5829120" cy="5435280"/>
        </p:xfrm>
        <a:graphic>
          <a:graphicData uri="http://schemas.openxmlformats.org/drawingml/2006/table">
            <a:tbl>
              <a:tblPr/>
              <a:tblGrid>
                <a:gridCol w="779400"/>
                <a:gridCol w="828720"/>
                <a:gridCol w="828720"/>
                <a:gridCol w="779400"/>
                <a:gridCol w="955800"/>
                <a:gridCol w="828360"/>
                <a:gridCol w="828720"/>
              </a:tblGrid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f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b/mm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6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3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8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33520" y="76201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Dew point pressure of fluid with OGR = 26 stb/Mmscf = 3734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. Estimate krg/kro from 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600200" y="2438280"/>
                <a:ext cx="2895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52280" y="3505320"/>
            <a:ext cx="6553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Comic Sans MS"/>
              </a:rPr>
              <a:t>r</a:t>
            </a:r>
            <a:r>
              <a:rPr b="0" i="1" lang="en-US" sz="28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= flowing OGR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All other properties from PVT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4120"/>
            <a:ext cx="59436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For a fluid with rp = 26 stb/MMscf, dew point pressure = 3734 psi (estimated from PVT table).  This is the pressure at the outer edge of Region 1 (P*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The equation only applies below the dew point pres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the dew point pressure, kro = 0 and krg/kro = infin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. Estimate krg/kro from 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00280" y="5334120"/>
            <a:ext cx="5257800" cy="34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171880" y="1905120"/>
          <a:ext cx="2514240" cy="3123720"/>
        </p:xfrm>
        <a:graphic>
          <a:graphicData uri="http://schemas.openxmlformats.org/drawingml/2006/table">
            <a:tbl>
              <a:tblPr/>
              <a:tblGrid>
                <a:gridCol w="1271160"/>
                <a:gridCol w="124308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/k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2. Estimate krg(P) from krg/kro and rel perm curv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62520" y="2057400"/>
          <a:ext cx="2895480" cy="274320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  <a:gridCol w="965160"/>
              </a:tblGrid>
              <a:tr h="524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/k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30240" y="5257800"/>
            <a:ext cx="4995720" cy="33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0" y="1828800"/>
          <a:ext cx="4038480" cy="334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03848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. Calculate the term inside the pseudopressure integ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23760" y="2666880"/>
                <a:ext cx="50104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c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38360" y="6019920"/>
                <a:ext cx="35812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57200" y="41911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For field units, the conversion factor c is 0.001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3:53Z</dcterms:modified>
  <cp:revision>102</cp:revision>
  <dc:subject/>
  <dc:title>PowerPoint Presentation</dc:title>
</cp:coreProperties>
</file>