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5EAB-5642-4246-9C67-7CB08F2259B7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2F3F-3157-438C-9929-6521089A8989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of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5054760"/>
          <a:ext cx="6572160" cy="427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54760"/>
                    <a:ext cx="657216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247680" y="1155600"/>
          <a:ext cx="6288120" cy="4089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7680" y="1155600"/>
                    <a:ext cx="6288120" cy="40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6676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Liquid saturation and pressure around well in low-perm lean condensate reservo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06680" y="2195640"/>
            <a:ext cx="1852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44760" y="1560600"/>
            <a:ext cx="36604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‘</a:t>
            </a: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Condensate blockage’ region of high liquid saturation close to the w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150920" y="2460600"/>
            <a:ext cx="696960" cy="73980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62080" y="6167520"/>
            <a:ext cx="3660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Most of the pressure drawdown occurs close to the well, so condensate blockage has a large impact on deliverabil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107720" y="6434280"/>
            <a:ext cx="958680" cy="1584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408480" y="3629160"/>
            <a:ext cx="696960" cy="73980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8360" y="3208320"/>
            <a:ext cx="40086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Far from the well, liquid saturation is &lt; 2% (as in CVD exp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14400" y="5083200"/>
            <a:ext cx="6608880" cy="4060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89000" y="1147680"/>
            <a:ext cx="6357960" cy="390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6676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Liquid saturation and pressure around well in low-perm lean condensate reservo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06680" y="2195640"/>
            <a:ext cx="1852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93760" y="2925720"/>
            <a:ext cx="27399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Semilog plot shows importance of ‘condensate blockage’ reg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544840" y="2431800"/>
            <a:ext cx="1377720" cy="50796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11400" y="5681520"/>
            <a:ext cx="581040" cy="522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92240" y="5049720"/>
            <a:ext cx="406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With no condensate blockage, p vs log(r) is roughly linea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63840" y="7307280"/>
            <a:ext cx="30369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Steeper gradient near well is due to condensate block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2987280" y="6673680"/>
            <a:ext cx="770040" cy="65592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01T11:57:02Z</dcterms:modified>
  <cp:revision>92</cp:revision>
  <dc:subject/>
  <dc:title>PowerPoint Presentation</dc:title>
</cp:coreProperties>
</file>