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11963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8E6-288D-4B4B-B3CF-D79350AD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3B4-EE47-4ACB-8692-FE123D03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377-6C74-4256-A6B9-057ECE2C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1AD-75B6-4293-82DD-1EF8B15A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8F0-6243-4B96-AB39-DB2A9E6D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0402-CE68-4BB8-BAEF-A39BD2D4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3315-A48F-4FB7-A006-4B67EF11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2B56-F7AF-4C08-A42E-04C029E0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8043-E954-41BD-BED7-668BA6E8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2856-D7B7-4454-974E-AD92F0CE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350A-C011-4544-8F51-4376FC7B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05B7-802D-4BDA-BBAD-A804BA0C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2499-F71D-46AD-885A-0B08D018EF2B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46FF-4E6F-41E3-B1D9-648C3278E35B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../E-NOTES/GC-RATE/TEXTBOX.PPT" TargetMode="External"/><Relationship Id="rId2" Type="http://schemas.openxmlformats.org/officeDocument/2006/relationships/package" Target="../embeddings/oleObject1.xlsx"/><Relationship Id="rId3" Type="http://schemas.openxmlformats.org/officeDocument/2006/relationships/image" Target="../media/image1.wmf"/><Relationship Id="rId4" Type="http://schemas.openxmlformats.org/officeDocument/2006/relationships/hyperlink" Target="file:///../../E-NOTES/GC-RATE/FIG-1.PPT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../GC-Papers/SPE28749-Arun.pdf" TargetMode="External"/><Relationship Id="rId3" Type="http://schemas.openxmlformats.org/officeDocument/2006/relationships/hyperlink" Target="file:///GC-RATE-EXAMPLE+RESULTS.PPT" TargetMode="External"/><Relationship Id="rId4" Type="http://schemas.openxmlformats.org/officeDocument/2006/relationships/hyperlink" Target="file:///Calculate-krg_kro.xls" TargetMode="External"/><Relationship Id="rId5" Type="http://schemas.openxmlformats.org/officeDocument/2006/relationships/hyperlink" Target="file:///Calculate-krg_kro.xls" TargetMode="External"/><Relationship Id="rId6" Type="http://schemas.openxmlformats.org/officeDocument/2006/relationships/hyperlink" Target="file:///Calculate-krg_kro.xls" TargetMode="External"/><Relationship Id="rId7" Type="http://schemas.openxmlformats.org/officeDocument/2006/relationships/hyperlink" Target="file:///Calculate-krg_kro.xls" TargetMode="External"/><Relationship Id="rId8" Type="http://schemas.openxmlformats.org/officeDocument/2006/relationships/hyperlink" Target="file:///Calculate-krg_kro.xls" TargetMode="External"/><Relationship Id="rId9" Type="http://schemas.openxmlformats.org/officeDocument/2006/relationships/hyperlink" Target="file:///Calculate-krg_kro.xls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28480" y="155520"/>
            <a:ext cx="57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ate Equ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334800" y="5410080"/>
            <a:ext cx="6188400" cy="33588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he volumetric rate equation for a gas condensate well can be expressed in terms of a 2-phase pseudopressure integral.  The pseudopressure accounts for ‘condensate blockage’ by including relative permeability k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inside the pressure integra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Flow </a:t>
            </a:r>
            <a:r>
              <a:rPr b="0" lang="nb-NO" sz="1000" spc="-1" strike="noStrike">
                <a:solidFill>
                  <a:srgbClr val="a50021"/>
                </a:solidFill>
                <a:latin typeface="Comic Sans MS"/>
              </a:rPr>
              <a:t>to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a gas condensate well can be modeled by three regions around the well.  Region 1 – the area closest to the well where both oil and gas phases are flowing – dictates productivity loss o</a:t>
            </a:r>
            <a:r>
              <a:rPr b="0" lang="nb-NO" sz="1000" spc="-1" strike="noStrike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‘condensate blockage’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The flowing composition is constant in Region 1.  The single phase gas entering Region 1 has the same composition as the producing wellbore mixture; this observation leads to the the equation for 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(p)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 in Region 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The pseudopressure integral can be used to model condensate blockage in coarse grid reservoir simulation models; or it can be combined with material balance models to provide a simple model of condensate well performa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The 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pseudopressure integral can be extended to include high-velocity and IFT effects on relative permeability -- improvement from high capillary numbers and reduction from ‘inertial’ non-Darcy flow.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849240" y="1295280"/>
                <a:ext cx="5159520" cy="14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976560" y="4672080"/>
                <a:ext cx="2306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808440" y="2846520"/>
                <a:ext cx="21193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032360" y="3862440"/>
                <a:ext cx="2163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228600" y="2895480"/>
            <a:ext cx="3479760" cy="2387880"/>
            <a:chOff x="228600" y="2895480"/>
            <a:chExt cx="3479760" cy="2387880"/>
          </a:xfrm>
        </p:grpSpPr>
        <p:grpSp>
          <p:nvGrpSpPr>
            <p:cNvPr id="49" name=""/>
            <p:cNvGrpSpPr/>
            <p:nvPr/>
          </p:nvGrpSpPr>
          <p:grpSpPr>
            <a:xfrm>
              <a:off x="350640" y="2959200"/>
              <a:ext cx="3294720" cy="2262240"/>
              <a:chOff x="350640" y="2959200"/>
              <a:chExt cx="3294720" cy="226224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401400" y="3198960"/>
                <a:ext cx="3078360" cy="2022480"/>
                <a:chOff x="401400" y="3198960"/>
                <a:chExt cx="3078360" cy="202248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1084680" y="3351600"/>
                  <a:ext cx="1895760" cy="1434240"/>
                  <a:chOff x="1084680" y="3351600"/>
                  <a:chExt cx="1895760" cy="143424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>
                    <a:off x="2203920" y="3356280"/>
                    <a:ext cx="370440" cy="142956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2575440" y="3351600"/>
                    <a:ext cx="405000" cy="142956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084680" y="3361320"/>
                    <a:ext cx="1122120" cy="1416600"/>
                  </a:xfrm>
                  <a:prstGeom prst="rect">
                    <a:avLst/>
                  </a:prstGeom>
                  <a:solidFill>
                    <a:srgbClr val="66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aphicFrame>
              <p:nvGraphicFramePr>
                <p:cNvPr id="55" name=""/>
                <p:cNvGraphicFramePr/>
                <p:nvPr/>
              </p:nvGraphicFramePr>
              <p:xfrm>
                <a:off x="401400" y="3198960"/>
                <a:ext cx="3078360" cy="2022480"/>
              </p:xfrm>
              <a:graphic>
                <a:graphicData uri="http://schemas.openxmlformats.org/presentationml/2006/ole">
                  <p:oleObj progId="Excel.Sheet.12" r:id="rId2" spid="">
                    <p:embed/>
                    <p:pic>
                      <p:nvPicPr>
                        <p:cNvPr id="56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401400" y="3198960"/>
                          <a:ext cx="3078360" cy="2022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7" name=""/>
                <p:cNvSpPr/>
                <p:nvPr/>
              </p:nvSpPr>
              <p:spPr>
                <a:xfrm>
                  <a:off x="1093320" y="3571920"/>
                  <a:ext cx="11239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" name=""/>
              <p:cNvSpPr/>
              <p:nvPr/>
            </p:nvSpPr>
            <p:spPr>
              <a:xfrm>
                <a:off x="350640" y="2959200"/>
                <a:ext cx="996120" cy="26424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omic Sans MS"/>
                  </a:rPr>
                  <a:t>Region 1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68160" y="2972160"/>
                <a:ext cx="996120" cy="26424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omic Sans MS"/>
                  </a:rPr>
                  <a:t>Region 2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649240" y="2972160"/>
                <a:ext cx="996120" cy="2642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omic Sans MS"/>
                  </a:rPr>
                  <a:t>Region 3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>
              <a:hlinkClick r:id="rId4"/>
            </p:cNvPr>
            <p:cNvSpPr/>
            <p:nvPr/>
          </p:nvSpPr>
          <p:spPr>
            <a:xfrm>
              <a:off x="228600" y="2895480"/>
              <a:ext cx="3479760" cy="238788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8306-0F64-4283-AED7-12DF3499423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A3115-3321-434B-B85A-B36FE8859B8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124080"/>
            <a:ext cx="6324480" cy="585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28600"/>
            <a:ext cx="6324480" cy="17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Modeling Gas Condensate Well Deliver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Measurement and Correlation of Gas Condensate Relativ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Comic Sans MS"/>
              </a:rPr>
              <a:t>Generalized Pseudopressure Well Treatment In Reservoir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Comic Sans MS"/>
              </a:rPr>
              <a:t>Engineering Calculations of Gas Condensate Well Productivity</a:t>
            </a: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4160" y="2120760"/>
            <a:ext cx="6324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Worked example for estimating gas production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Spreadsheet for c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alculating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krg/kro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7"/>
              </a:rPr>
              <a:t> and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8"/>
              </a:rPr>
              <a:t>krg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9"/>
              </a:rPr>
              <a:t> in Reg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1A7-0B7D-4914-8E1A-13328DFF67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8D3A1-3E23-4532-A1C3-5587DD9DB41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urtis</cp:lastModifiedBy>
  <dcterms:modified xsi:type="dcterms:W3CDTF">2007-02-21T11:30:44Z</dcterms:modified>
  <cp:revision>69</cp:revision>
  <dc:subject/>
  <dc:title>PowerPoint Presentation</dc:title>
</cp:coreProperties>
</file>