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206-0511-427E-8B32-465D4E74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5E2-EEEF-4593-8CBA-89F1B85A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269-6D7A-4C8B-BB1E-D5E50F18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43AD-DE28-4B59-8655-AD1545A7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0C0-A306-40DD-83C6-60A623E1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9AB-D41F-4BBA-9145-E970ED54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3920-586D-4FE7-897B-B9CAC259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649-FD56-461A-9384-CC0EECC7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A98-C5F3-4AF4-B48E-CD6FC02E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198E-905A-4FCE-A8BB-E3C9DF14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1773-0DD1-43FC-843C-BD22A616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F7A-1EA7-4AC5-AB1E-DCBE091E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DB68-8A0F-4057-A061-D6690545B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63440" y="113976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and two-phase pseudopress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88620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38280"/>
            <a:ext cx="1981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45:00Z</dcterms:modified>
  <cp:revision>22</cp:revision>
  <dc:subject/>
  <dc:title>PowerPoint Presentation</dc:title>
</cp:coreProperties>
</file>