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26E0-CEFD-4921-BC6E-3EA1323A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B899-32EC-40D2-ACD2-3554C5C4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AB00-115B-498B-878B-544D7742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4A3C-BD91-42AB-AEDD-EFBBB507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33F0-8C2E-4F54-B5C4-E594FCC5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A03-A9FC-4037-AB7D-C859035C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DBD7-D356-482A-831C-09A7A7C7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729A-14AC-4794-9207-C6245CCB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5D31-3B53-4B28-8680-DF259D97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E585-C412-47BA-B05D-BAB10616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62F-52A5-4F86-9852-5A33449C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4CC9-2D7E-4679-8444-18EBDD48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1559-2774-43E1-A4FB-AC6860B17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atching flowing bottom hole pressure data from a multi-rate well test using single well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5064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57400" y="190512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Simulation (including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358128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el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6019920" y="4495680"/>
            <a:ext cx="380880" cy="76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426708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imulation (no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599840" y="3429000"/>
            <a:ext cx="304920" cy="457200"/>
          </a:xfrm>
          <a:prstGeom prst="line">
            <a:avLst/>
          </a:prstGeom>
          <a:ln w="2232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828800" y="2590920"/>
            <a:ext cx="533520" cy="60948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9:06Z</dcterms:modified>
  <cp:revision>21</cp:revision>
  <dc:subject/>
  <dc:title>PowerPoint Presentation</dc:title>
</cp:coreProperties>
</file>