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C6A7-58C6-406B-826B-FA89103AD825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7666-70D9-494E-859C-FCFEFE3EB4C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040" y="304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05120"/>
            <a:ext cx="5413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demonstrate the use of the gas condensate rate equation to estimate well productivity, taking account of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ata will be taken from a Sensor simulation  model to allow comparison with simulation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2590920"/>
            <a:ext cx="619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kh = 1,000 md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w = 0.3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 = 30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chanical ski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verage reservoir pressure = 396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Wellbore flowing BHP = 154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an gas condensate (PVT properties on next slide), flowing OGR = 26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ock’ rel perms, with Corey exponent of 3 (data on slid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sume oil saturation = 1% outside near-wel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7162920"/>
            <a:ext cx="5811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se conditions correspond to this Sensor simulation case after 3 years (1095 days) 10 md, rock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120" y="1600200"/>
            <a:ext cx="641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well in a lean gas condensate reservoir has with these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" y="2514600"/>
            <a:ext cx="625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maximum gas production rate for the w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condensate blockage sk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as-Oil Relative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09680" y="1676520"/>
          <a:ext cx="3019320" cy="6804000"/>
        </p:xfrm>
        <a:graphic>
          <a:graphicData uri="http://schemas.openxmlformats.org/drawingml/2006/table">
            <a:tbl>
              <a:tblPr/>
              <a:tblGrid>
                <a:gridCol w="966600"/>
                <a:gridCol w="1025640"/>
                <a:gridCol w="1027080"/>
              </a:tblGrid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2666880"/>
          <a:ext cx="3429000" cy="26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666880"/>
                    <a:ext cx="34290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4440" y="1854360"/>
          <a:ext cx="5829120" cy="5435280"/>
        </p:xfrm>
        <a:graphic>
          <a:graphicData uri="http://schemas.openxmlformats.org/drawingml/2006/table">
            <a:tbl>
              <a:tblPr/>
              <a:tblGrid>
                <a:gridCol w="779400"/>
                <a:gridCol w="828720"/>
                <a:gridCol w="828720"/>
                <a:gridCol w="779400"/>
                <a:gridCol w="955800"/>
                <a:gridCol w="828360"/>
                <a:gridCol w="828720"/>
              </a:tblGrid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f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b/mm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33520" y="76201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ew point pressure of fluid with OGR = 26 stb/Mmscf = 3734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4:26Z</dcterms:modified>
  <cp:revision>99</cp:revision>
  <dc:subject/>
  <dc:title>PowerPoint Presentation</dc:title>
</cp:coreProperties>
</file>