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972-F755-4D95-B85E-6E4D99E4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C09-79DC-4B26-84F3-9F1C4FF2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7C7-EC89-4784-8B11-9521D10F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BFB-1F46-45EE-83B7-B2ACD424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0E5-E196-4EEF-AA46-6EF5DFF0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75F-3250-4911-8F5A-7E90506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6B8-8BB3-4596-BEFF-5940FA37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7F0-70B8-4E01-A1DC-A5081FC2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0FB-A53D-49CF-AECC-362EF19E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5A1-0A26-44CF-BC55-CDBBE053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BF9-E19C-435A-93CF-181308D0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7C0-98A1-4C15-A5CC-337A9E65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BC1B-068D-43A9-9CBA-483A1904B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7621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are E300 and Fevang-Whitson models for Nc behaviour (at krg/kro=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13:14Z</dcterms:modified>
  <cp:revision>20</cp:revision>
  <dc:subject/>
  <dc:title>PowerPoint Presentation</dc:title>
</cp:coreProperties>
</file>