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499C-8805-432D-BCC6-3BF226A3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6007-7CBB-4DE8-9858-7041F963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E055-D762-4896-AACC-F5068DFD5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15D6-E990-4416-B17C-A3F46E5B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1A4D-B765-42E8-B539-945E1382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4C24-4C0B-4500-B8C0-4A98FE10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DF4A-0BDD-4244-82B5-B27855CE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39F0-67EF-4F11-AB1D-F5FEE83D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417B-10AA-4678-A9C5-A631C626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99CE-E4A5-4D75-87C0-758C4B07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2776-BE35-49C0-A71C-F11B1318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7349-02C9-4C7E-95AA-B39C9A7E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A45E-BCDD-40BC-BD0F-F9EA59AA9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1-phase-build-up.ppt" TargetMode="External"/><Relationship Id="rId2" Type="http://schemas.openxmlformats.org/officeDocument/2006/relationships/hyperlink" Target="file:///3-region-composite.ppt" TargetMode="External"/><Relationship Id="rId3" Type="http://schemas.openxmlformats.org/officeDocument/2006/relationships/hyperlink" Target="file:///2-phase-build-up.ppt" TargetMode="External"/><Relationship Id="rId4" Type="http://schemas.openxmlformats.org/officeDocument/2006/relationships/hyperlink" Target="file:///Multi-rate-test.ppt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760" y="206280"/>
            <a:ext cx="8610480" cy="67838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ransient data during a pressure build-up can be analyzed to try and understand gas condensate well performance, by plotting the change in pseudopressure and its derivative [with respect to log(</a:t>
            </a:r>
            <a:r>
              <a:rPr b="0" lang="en-US" sz="16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)] on a log-log plo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build-up analysis is influenced by a near-well condensate bank with reduced k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.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Using a single-phase gas pseudopressure to interpret well test data usually requires a radial-composite model with 2 zones. This will give information on the gas permeability in the bank and the size of the bank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Some wells may show 3-region composite radial behavior, caused by increased gas mobility at high capillary numbers near to the well. This is an area of current research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2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Using two-phase pseudopressure to interpret well test data requires a set of relative permeability curves, krg=f(krg/kro,Nc), and uses the steady-state flow theory (e.g. Fevang-Whitson method) to calculate pseudopressure, resulting in ‘normal semi-log’ radial behavior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3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Multi-rate tests can also be used to understand condensate well performance, by history matching  single-well simulation models. This is usually the most reliable way of confirming the benefit of capillary number effects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4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34:14Z</dcterms:modified>
  <cp:revision>18</cp:revision>
  <dc:subject/>
  <dc:title>PowerPoint Presentation</dc:title>
</cp:coreProperties>
</file>