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039E-6AB8-458C-9D66-B9624D366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7717-71C4-407F-9AE3-A8354506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A292-548F-4D24-9F6F-4AD0DF9B8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530C-A07F-4858-9E5F-71C2123EA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57B2-527A-4B4A-8ECC-B67363F2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D8E6-FAB3-4B95-9285-F3808EC9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13E2-CDCB-4EDF-90F1-9AC8D690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3B9D-86E5-4236-9232-0268A392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EF7C-22D6-4B3B-8D6D-2917E0AE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A87E-F1A3-4906-B20C-AB0D9DE6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199C-606C-4FDA-BE43-0B417F7F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26B9-B36B-48DD-80AB-8FE8B66A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09A0-17C0-4643-A4CA-C9EF45E56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22860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essure build-up data (analysis using single-phase pseudopress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78000" y="1371600"/>
            <a:ext cx="8386560" cy="5153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752480" y="1752480"/>
            <a:ext cx="24386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hange in pseudo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2514600"/>
            <a:ext cx="22860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3886200"/>
            <a:ext cx="24382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dm(P)/dlog(</a:t>
            </a:r>
            <a:r>
              <a:rPr b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476760" y="4648320"/>
            <a:ext cx="609480" cy="45720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153280" y="61722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69880" y="22860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essure build-up data (analysis using single-phase pseudopress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78000" y="1371600"/>
            <a:ext cx="8386560" cy="5153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19320" y="3962520"/>
            <a:ext cx="6705360" cy="0"/>
          </a:xfrm>
          <a:prstGeom prst="line">
            <a:avLst/>
          </a:prstGeom>
          <a:ln w="3492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5181480"/>
            <a:ext cx="6705360" cy="0"/>
          </a:xfrm>
          <a:prstGeom prst="line">
            <a:avLst/>
          </a:prstGeom>
          <a:ln w="3492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3429000"/>
            <a:ext cx="2514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nner zone (condensate ban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0200" y="4572000"/>
            <a:ext cx="2514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outer zone (outside condensate ban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3962520"/>
            <a:ext cx="0" cy="121896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1676520"/>
            <a:ext cx="38862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The difference between the two lines (about 0.2) shows the ratio between krg in the two zo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2895480"/>
            <a:ext cx="175248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2:28:33Z</dcterms:modified>
  <cp:revision>20</cp:revision>
  <dc:subject/>
  <dc:title>PowerPoint Presentation</dc:title>
</cp:coreProperties>
</file>