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9DD-9D93-4AE2-9F70-C2227EE6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390-504D-43E8-83AA-C286160F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C4B-8E67-47A9-84E5-FFBF7FD8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B11-A469-462B-9345-966888C2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8DF-B4BB-4EDA-8312-61DCAD15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9F7-8902-462B-9CFD-745EE34C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DC5-E890-4D62-975F-5BBE4D38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5A0-A0B3-4F75-AEC0-418117B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A87-A2D1-4E4B-91AF-9F7DED3D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EF8-15AC-4557-A5DA-66D0349A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EC8-061C-4F82-A8AE-9E5484A1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DBE-227E-47C7-8817-BC5654A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6A16-805C-42AE-9B96-6F23EAE16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Havlena-Odeh.pd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runs-Fetkovich, Effect of Water Influx on p/z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Robert Mott</cp:lastModifiedBy>
  <dcterms:modified xsi:type="dcterms:W3CDTF">2004-02-13T17:24:27Z</dcterms:modified>
  <cp:revision>7</cp:revision>
  <dc:subject/>
  <dc:title>Other e-note links</dc:title>
</cp:coreProperties>
</file>