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B45-5D46-4767-9544-DD6F5C75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BDB-53B7-477C-B088-30B3B7A6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C30-D6CD-45D2-A750-ABA2322A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942-A0A2-4D36-ADAA-8C395422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B54-FABE-4B5E-876D-10E7D1F6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1BA-5FD2-48F2-A312-7C4D190D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E55-7E62-42E8-B6FD-3EA80942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A56-2014-4EC2-A4D4-FC864CD8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5CB-FC78-4775-ADA0-B6ACEA1B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B6A-46FB-4756-8291-402FC71A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5F9-3D28-48A3-96AA-7B8D4A1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5CF-0DB1-46FD-8A8B-63B08454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7C22-0891-4FDD-ADE0-D76C0297D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219320" y="1044720"/>
                <a:ext cx="61862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52480" y="6073920"/>
                <a:ext cx="46180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HW</cp:lastModifiedBy>
  <dcterms:modified xsi:type="dcterms:W3CDTF">2003-08-21T10:54:03Z</dcterms:modified>
  <cp:revision>7</cp:revision>
  <dc:subject/>
  <dc:title>PowerPoint Presentation</dc:title>
</cp:coreProperties>
</file>