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D1FE-1579-4503-A47F-A2B0642B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551D-3A5E-4983-9F3B-0031A500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F465-4B01-4F4B-BEF2-3E04F853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D1A9-4710-461D-B73B-2AAEB17F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371-9DCF-4165-B7C7-A8037627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25C0-BEE8-4678-961B-B746CB3C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B78E-2FB0-45FE-A6D2-38AD5B4D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F0E8-94B4-4F18-8AD4-6B0E4C25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9B37-37B2-44CF-9D37-4EB1AFDA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869D-D7E2-4284-97FB-E174708C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BBE2-BC9A-4CDF-900F-78229446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9213-E63E-4C53-B57F-C2D028B8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8AB9-D516-4BDC-9194-06DA47D8B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70000"/>
            <a:ext cx="8686800" cy="5946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low Region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accurate yet simple model of a gas condensate well undergoing depletion consists of three reg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gion 1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 An inner near-wellbore region where both gas and oil flow simultaneously (at different velociti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gion 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 A region of condensate buildup where only gas is flow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gion 3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 A region containing single phase (original) reservoir 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 given producing condition, one, two, or all three regions may exist. These three regions define ‘pseudo steady-state’ flow conditions, meaning that they represent steady-state conditions at a given time but that the conditions change gradually during deple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1T12:58:46Z</dcterms:modified>
  <cp:revision>18</cp:revision>
  <dc:subject/>
  <dc:title>PowerPoint Presentation</dc:title>
</cp:coreProperties>
</file>