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C626-C602-4303-9BF3-7171E89CF5A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B818-87E0-487D-886B-09B39898E63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09:59:58Z</dcterms:modified>
  <cp:revision>96</cp:revision>
  <dc:subject/>
  <dc:title>PowerPoint Presentation</dc:title>
</cp:coreProperties>
</file>