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968-7692-4EBD-9BB7-79D04523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C2F-3851-48F3-A711-5B12C8E5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FF3-2B85-4B77-BA31-6133B9D3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DDC-C1A7-4169-9047-BED9606A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03F-DC45-41AD-827E-14C24371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1DB-197A-4DDD-87AC-306B33C3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D84-710C-41E4-BB7C-8D098FF2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2D4-9916-417E-A8AB-1F34CB59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0BA-E285-4646-BA88-6B7BA9DB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628-33CC-4D75-A6A7-DA9749E5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C92-F231-44F6-8999-1E465B85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A80-2089-4ACB-B1F2-E509E3FF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E6D0-1254-4665-8F03-1961BBD8A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27936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eneralized krg/kro plot based on Corey rel per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0920" y="5016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520" y="1231920"/>
            <a:ext cx="6810480" cy="5210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13160" y="742464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7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2T09:26:22Z</dcterms:modified>
  <cp:revision>78</cp:revision>
  <dc:subject/>
  <dc:title>PowerPoint Presentation</dc:title>
</cp:coreProperties>
</file>