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910-1056-4777-9DBE-832BCAFE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CAC1-02E3-4533-8709-7BD8A999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4E1-AF51-4DB7-85C4-0900800A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A029-31FE-4C23-B40E-92135762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78C-68CA-48FD-8160-AD02415C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B8A-42FF-4125-9AB8-8C56A7C2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3934-78D8-4153-BC5C-3CBE28A1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E43-2C4F-4C6F-8868-5F8AD979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8FF-C642-40F5-92C1-471C9632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E270-4CFF-48AA-95A2-6DB5C76F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ACF2-39B9-4627-8FB3-73785E3E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46E-4D8A-4268-A999-B05CB696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B14C-9D26-499E-9521-71172ACE1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2480" y="1752480"/>
            <a:ext cx="2438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hange in pseudo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514600"/>
            <a:ext cx="228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3886200"/>
            <a:ext cx="2438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m(P)/dlog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476760" y="4648320"/>
            <a:ext cx="6094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53280" y="6172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3962520"/>
            <a:ext cx="6705360" cy="0"/>
          </a:xfrm>
          <a:prstGeom prst="line">
            <a:avLst/>
          </a:prstGeom>
          <a:ln w="3492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181480"/>
            <a:ext cx="6705360" cy="0"/>
          </a:xfrm>
          <a:prstGeom prst="line">
            <a:avLst/>
          </a:prstGeom>
          <a:ln w="349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429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nner zone (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4572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outer zone (outside 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9625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3886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he difference between the two lines (about 0.2) shows the ratio between krg in the two z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95480"/>
            <a:ext cx="17524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28:33Z</dcterms:modified>
  <cp:revision>20</cp:revision>
  <dc:subject/>
  <dc:title>PowerPoint Presentation</dc:title>
</cp:coreProperties>
</file>