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EA9-A213-4C4F-902C-460D52CA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8E7-F2BD-483C-91AF-3C308CD9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889-E5DF-44C1-9E01-562E3198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EEEF-1CB6-4BFD-B4D4-A3151477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E562-0C22-4157-B6CE-6B7B84C3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E7A-5CBB-4686-A55D-2B5B9F05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BEB-DED8-4564-9971-9748A663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685-A4C7-42EF-90D4-64850DC2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5A3-4DD6-4152-B8FE-6B3862C7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5FD-F729-4316-B0C0-1ACFFEF5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D5D-D322-4081-8D59-7B426438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30B2-BFC4-47EE-A3CC-B0C16A58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8C16-6F63-4A4F-B30E-A92C4A9D2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858000" cy="603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1752480"/>
            <a:ext cx="1447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i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20574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600200"/>
            <a:ext cx="0" cy="426708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8769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3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4191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cc"/>
                </a:solidFill>
                <a:latin typeface="Arial"/>
              </a:rPr>
              <a:t>2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9625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480060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80120" y="990720"/>
            <a:ext cx="1663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itial reserv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15238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905120"/>
            <a:ext cx="1828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w point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servoir te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62360" y="2438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1280" y="15228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-T diagram for gas condensate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1:33:54Z</dcterms:modified>
  <cp:revision>12</cp:revision>
  <dc:subject/>
  <dc:title>PowerPoint Presentation</dc:title>
</cp:coreProperties>
</file>