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FFC8-5A89-48C3-8C0E-1771591D3B8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CD53-2465-4F61-BF7B-686F3287234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6:43Z</dcterms:modified>
  <cp:revision>91</cp:revision>
  <dc:subject/>
  <dc:title>PowerPoint Presentation</dc:title>
</cp:coreProperties>
</file>