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034E-8E78-427D-83E2-6DF991D72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633A-030F-485D-9CCE-842A0D01B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1C6C-D15B-48A4-A2BE-BD7EAF65A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A4E3-89B4-4AFF-B976-EE2B2350D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DE86-00E4-4FD0-82D8-9BE6EF26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B3CA-C46E-4910-9885-756E0F058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3124-6BDF-44DC-8743-103161AAC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0ADB-D233-4427-BC60-C774980B4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D044-C98E-40BB-A4BA-9EA781846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F0EB-CF81-4105-ABEE-84F45C14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CB74-C8AA-4B22-B421-6101BA2F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5249-0451-40B3-8AEE-C1AFB2B2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19EB5-59E0-49D0-843B-478DA78F8E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380880"/>
            <a:ext cx="8686800" cy="623412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he material balance for simple depletion defines the relation between average reservoir pressure and cumulative gas produc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The straight-line MB assumes negligible water&amp;rock expansion &amp; aquifer influx. A plot of p/Z vs Gp (cum. gas produced) is a straight line with (p</a:t>
            </a:r>
            <a:r>
              <a:rPr b="0" lang="en-US" sz="16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/Z</a:t>
            </a:r>
            <a:r>
              <a:rPr b="0" lang="en-US" sz="16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) as intercept and slope given by (p</a:t>
            </a:r>
            <a:r>
              <a:rPr b="0" lang="en-US" sz="16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/Z</a:t>
            </a:r>
            <a:r>
              <a:rPr b="0" lang="en-US" sz="16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)/G, where G is the initial gas in place (IGIP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An important use of the material balance is to estimate IGIP from historical pressure and cumulative production dat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When water expansion and/or aquifer encroachment are important, the material balance calculation is more complex and may require an iterative solution to find the fundamental relation between </a:t>
            </a:r>
            <a:r>
              <a:rPr b="0" i="1" lang="en-US" sz="1600" spc="-1" strike="noStrike">
                <a:solidFill>
                  <a:srgbClr val="a50021"/>
                </a:solidFill>
                <a:latin typeface="Comic Sans MS"/>
              </a:rPr>
              <a:t>cumulative production and pressure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Comic Sans MS"/>
              </a:rPr>
              <a:t>Water expansion and water encroachment delay the decline in reservoir pressure due to gas production, resulting in sustained higher well deliverability (for a given G</a:t>
            </a:r>
            <a:r>
              <a:rPr b="0" lang="en-GB" sz="1600" spc="-1" strike="noStrike" baseline="-25000">
                <a:solidFill>
                  <a:srgbClr val="3333cc"/>
                </a:solidFill>
                <a:latin typeface="Comic Sans MS"/>
              </a:rPr>
              <a:t>p</a:t>
            </a:r>
            <a:r>
              <a:rPr b="0" lang="en-GB" sz="1600" spc="-1" strike="noStrike">
                <a:solidFill>
                  <a:srgbClr val="3333cc"/>
                </a:solidFill>
                <a:latin typeface="Comic Sans MS"/>
              </a:rPr>
              <a:t>). Water breakthrough often marks the end of life for a gas well. For a number of reasons, the ultimate recovery may be lower for reservoirs with strong aquif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50021"/>
                </a:solidFill>
                <a:latin typeface="Comic Sans MS"/>
              </a:rPr>
              <a:t>Layered no-crossflow reservoirs show an early drop in p/Z followed by a longer period of slowly-decreasing (near-constant) p/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CURTIS</cp:lastModifiedBy>
  <dcterms:modified xsi:type="dcterms:W3CDTF">2003-09-11T08:11:33Z</dcterms:modified>
  <cp:revision>23</cp:revision>
  <dc:subject/>
  <dc:title>PowerPoint Presentation</dc:title>
</cp:coreProperties>
</file>