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907588" cy="6858000"/>
  <p:notesSz cx="6872288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CE52-7CE9-4360-A71B-F789844C4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38400" y="380520"/>
            <a:ext cx="800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38040" y="1676520"/>
            <a:ext cx="79246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1238040" y="3984840"/>
            <a:ext cx="79246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2DC0-510F-4AFA-A3DD-0BD9431F1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38400" y="380520"/>
            <a:ext cx="800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238040" y="1676520"/>
            <a:ext cx="38671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298840" y="1676520"/>
            <a:ext cx="38671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238040" y="3984840"/>
            <a:ext cx="38671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5298840" y="3984840"/>
            <a:ext cx="38671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E6B1-128C-487B-A56B-6D473B538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38400" y="380520"/>
            <a:ext cx="800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38040" y="1676520"/>
            <a:ext cx="25516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917520" y="1676520"/>
            <a:ext cx="25516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597360" y="1676520"/>
            <a:ext cx="25516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1238040" y="3984840"/>
            <a:ext cx="25516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917520" y="3984840"/>
            <a:ext cx="25516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597360" y="3984840"/>
            <a:ext cx="25516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9A5B-9753-425B-BB7D-EBAED0530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38400" y="380520"/>
            <a:ext cx="800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238040" y="167652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8831-FBD0-4855-B176-427163596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38400" y="380520"/>
            <a:ext cx="800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238040" y="167652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6744-CA53-4398-94B8-08FB1AFBB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38400" y="380520"/>
            <a:ext cx="800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38040" y="1676520"/>
            <a:ext cx="38671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298840" y="1676520"/>
            <a:ext cx="38671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1234-F709-4C1E-8FE1-F12CF9314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38400" y="380520"/>
            <a:ext cx="800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A00C-7B7B-40FF-8807-6E579AAF2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1238400" y="380520"/>
            <a:ext cx="800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AF38-B68E-49F9-BDA1-2B13F2C83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38400" y="380520"/>
            <a:ext cx="800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38040" y="1676520"/>
            <a:ext cx="38671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298840" y="1676520"/>
            <a:ext cx="38671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238040" y="3984840"/>
            <a:ext cx="38671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06EC-7C67-48F6-A9C2-AE754B9EF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38400" y="380520"/>
            <a:ext cx="800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38040" y="1676520"/>
            <a:ext cx="38671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298840" y="1676520"/>
            <a:ext cx="38671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298840" y="3984840"/>
            <a:ext cx="38671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FC2F-3DA8-4091-AFB7-8CB6C35E0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38400" y="380520"/>
            <a:ext cx="800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238040" y="1676520"/>
            <a:ext cx="38671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298840" y="1676520"/>
            <a:ext cx="38671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238040" y="3984840"/>
            <a:ext cx="79246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38E7-C395-447C-97D5-B95923E89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38400" y="380520"/>
            <a:ext cx="800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38040" y="167652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352CB-BE8F-41CC-9D6E-B6465E5297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7680" y="228600"/>
            <a:ext cx="825480" cy="7621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47680" y="1066680"/>
            <a:ext cx="825480" cy="106704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ff99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247680" y="5638680"/>
            <a:ext cx="82548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47680" y="2209680"/>
            <a:ext cx="825480" cy="106704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47680" y="4495680"/>
            <a:ext cx="825480" cy="106704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47680" y="3352680"/>
            <a:ext cx="825480" cy="10670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306360" y="266760"/>
            <a:ext cx="701280" cy="727920"/>
            <a:chOff x="306360" y="266760"/>
            <a:chExt cx="701280" cy="727920"/>
          </a:xfrm>
        </p:grpSpPr>
        <p:grpSp>
          <p:nvGrpSpPr>
            <p:cNvPr id="12" name=""/>
            <p:cNvGrpSpPr/>
            <p:nvPr/>
          </p:nvGrpSpPr>
          <p:grpSpPr>
            <a:xfrm>
              <a:off x="306360" y="266760"/>
              <a:ext cx="701280" cy="485280"/>
              <a:chOff x="306360" y="266760"/>
              <a:chExt cx="701280" cy="485280"/>
            </a:xfrm>
          </p:grpSpPr>
          <p:sp>
            <p:nvSpPr>
              <p:cNvPr id="13" name=""/>
              <p:cNvSpPr/>
              <p:nvPr/>
            </p:nvSpPr>
            <p:spPr>
              <a:xfrm>
                <a:off x="306360" y="362160"/>
                <a:ext cx="700560" cy="389880"/>
              </a:xfrm>
              <a:custGeom>
                <a:avLst/>
                <a:gdLst/>
                <a:ahLst/>
                <a:rect l="l" t="t" r="r" b="b"/>
                <a:pathLst>
                  <a:path w="8112" h="4071">
                    <a:moveTo>
                      <a:pt x="0" y="4071"/>
                    </a:moveTo>
                    <a:lnTo>
                      <a:pt x="0" y="4071"/>
                    </a:lnTo>
                    <a:lnTo>
                      <a:pt x="17" y="4054"/>
                    </a:lnTo>
                    <a:lnTo>
                      <a:pt x="32" y="4021"/>
                    </a:lnTo>
                    <a:lnTo>
                      <a:pt x="49" y="3979"/>
                    </a:lnTo>
                    <a:lnTo>
                      <a:pt x="65" y="3928"/>
                    </a:lnTo>
                    <a:lnTo>
                      <a:pt x="82" y="3868"/>
                    </a:lnTo>
                    <a:lnTo>
                      <a:pt x="97" y="3809"/>
                    </a:lnTo>
                    <a:lnTo>
                      <a:pt x="114" y="3751"/>
                    </a:lnTo>
                    <a:lnTo>
                      <a:pt x="130" y="3683"/>
                    </a:lnTo>
                    <a:lnTo>
                      <a:pt x="147" y="3616"/>
                    </a:lnTo>
                    <a:lnTo>
                      <a:pt x="162" y="3548"/>
                    </a:lnTo>
                    <a:lnTo>
                      <a:pt x="179" y="3472"/>
                    </a:lnTo>
                    <a:lnTo>
                      <a:pt x="195" y="3404"/>
                    </a:lnTo>
                    <a:lnTo>
                      <a:pt x="212" y="3329"/>
                    </a:lnTo>
                    <a:lnTo>
                      <a:pt x="227" y="3252"/>
                    </a:lnTo>
                    <a:lnTo>
                      <a:pt x="244" y="3176"/>
                    </a:lnTo>
                    <a:lnTo>
                      <a:pt x="260" y="3108"/>
                    </a:lnTo>
                    <a:lnTo>
                      <a:pt x="277" y="3033"/>
                    </a:lnTo>
                    <a:lnTo>
                      <a:pt x="292" y="2956"/>
                    </a:lnTo>
                    <a:lnTo>
                      <a:pt x="309" y="2881"/>
                    </a:lnTo>
                    <a:lnTo>
                      <a:pt x="325" y="2804"/>
                    </a:lnTo>
                    <a:lnTo>
                      <a:pt x="342" y="2728"/>
                    </a:lnTo>
                    <a:lnTo>
                      <a:pt x="357" y="2653"/>
                    </a:lnTo>
                    <a:lnTo>
                      <a:pt x="374" y="2576"/>
                    </a:lnTo>
                    <a:lnTo>
                      <a:pt x="390" y="2501"/>
                    </a:lnTo>
                    <a:lnTo>
                      <a:pt x="406" y="2432"/>
                    </a:lnTo>
                    <a:lnTo>
                      <a:pt x="422" y="2357"/>
                    </a:lnTo>
                    <a:lnTo>
                      <a:pt x="439" y="2289"/>
                    </a:lnTo>
                    <a:lnTo>
                      <a:pt x="456" y="2213"/>
                    </a:lnTo>
                    <a:lnTo>
                      <a:pt x="471" y="2145"/>
                    </a:lnTo>
                    <a:lnTo>
                      <a:pt x="488" y="2079"/>
                    </a:lnTo>
                    <a:lnTo>
                      <a:pt x="504" y="2010"/>
                    </a:lnTo>
                    <a:lnTo>
                      <a:pt x="521" y="1944"/>
                    </a:lnTo>
                    <a:lnTo>
                      <a:pt x="536" y="1875"/>
                    </a:lnTo>
                    <a:lnTo>
                      <a:pt x="553" y="1807"/>
                    </a:lnTo>
                    <a:lnTo>
                      <a:pt x="569" y="1749"/>
                    </a:lnTo>
                    <a:lnTo>
                      <a:pt x="586" y="1681"/>
                    </a:lnTo>
                    <a:lnTo>
                      <a:pt x="601" y="1622"/>
                    </a:lnTo>
                    <a:lnTo>
                      <a:pt x="618" y="1562"/>
                    </a:lnTo>
                    <a:lnTo>
                      <a:pt x="634" y="1504"/>
                    </a:lnTo>
                    <a:lnTo>
                      <a:pt x="651" y="1445"/>
                    </a:lnTo>
                    <a:lnTo>
                      <a:pt x="666" y="1385"/>
                    </a:lnTo>
                    <a:lnTo>
                      <a:pt x="683" y="1334"/>
                    </a:lnTo>
                    <a:lnTo>
                      <a:pt x="699" y="1275"/>
                    </a:lnTo>
                    <a:lnTo>
                      <a:pt x="716" y="1226"/>
                    </a:lnTo>
                    <a:lnTo>
                      <a:pt x="731" y="1175"/>
                    </a:lnTo>
                    <a:lnTo>
                      <a:pt x="748" y="1124"/>
                    </a:lnTo>
                    <a:lnTo>
                      <a:pt x="764" y="1073"/>
                    </a:lnTo>
                    <a:lnTo>
                      <a:pt x="780" y="1023"/>
                    </a:lnTo>
                    <a:lnTo>
                      <a:pt x="796" y="981"/>
                    </a:lnTo>
                    <a:lnTo>
                      <a:pt x="813" y="930"/>
                    </a:lnTo>
                    <a:lnTo>
                      <a:pt x="828" y="888"/>
                    </a:lnTo>
                    <a:lnTo>
                      <a:pt x="845" y="844"/>
                    </a:lnTo>
                    <a:lnTo>
                      <a:pt x="862" y="802"/>
                    </a:lnTo>
                    <a:lnTo>
                      <a:pt x="878" y="760"/>
                    </a:lnTo>
                    <a:lnTo>
                      <a:pt x="895" y="727"/>
                    </a:lnTo>
                    <a:lnTo>
                      <a:pt x="910" y="685"/>
                    </a:lnTo>
                    <a:lnTo>
                      <a:pt x="927" y="651"/>
                    </a:lnTo>
                    <a:lnTo>
                      <a:pt x="943" y="608"/>
                    </a:lnTo>
                    <a:lnTo>
                      <a:pt x="960" y="574"/>
                    </a:lnTo>
                    <a:lnTo>
                      <a:pt x="975" y="541"/>
                    </a:lnTo>
                    <a:lnTo>
                      <a:pt x="992" y="508"/>
                    </a:lnTo>
                    <a:lnTo>
                      <a:pt x="1008" y="482"/>
                    </a:lnTo>
                    <a:lnTo>
                      <a:pt x="1025" y="448"/>
                    </a:lnTo>
                    <a:lnTo>
                      <a:pt x="1040" y="422"/>
                    </a:lnTo>
                    <a:lnTo>
                      <a:pt x="1057" y="389"/>
                    </a:lnTo>
                    <a:lnTo>
                      <a:pt x="1073" y="364"/>
                    </a:lnTo>
                    <a:lnTo>
                      <a:pt x="1090" y="338"/>
                    </a:lnTo>
                    <a:lnTo>
                      <a:pt x="1105" y="313"/>
                    </a:lnTo>
                    <a:lnTo>
                      <a:pt x="1122" y="287"/>
                    </a:lnTo>
                    <a:lnTo>
                      <a:pt x="1138" y="271"/>
                    </a:lnTo>
                    <a:lnTo>
                      <a:pt x="1154" y="245"/>
                    </a:lnTo>
                    <a:lnTo>
                      <a:pt x="1170" y="228"/>
                    </a:lnTo>
                    <a:lnTo>
                      <a:pt x="1187" y="203"/>
                    </a:lnTo>
                    <a:lnTo>
                      <a:pt x="1202" y="186"/>
                    </a:lnTo>
                    <a:lnTo>
                      <a:pt x="1219" y="170"/>
                    </a:lnTo>
                    <a:lnTo>
                      <a:pt x="1235" y="152"/>
                    </a:lnTo>
                    <a:lnTo>
                      <a:pt x="1252" y="135"/>
                    </a:lnTo>
                    <a:lnTo>
                      <a:pt x="1267" y="128"/>
                    </a:lnTo>
                    <a:lnTo>
                      <a:pt x="1284" y="110"/>
                    </a:lnTo>
                    <a:lnTo>
                      <a:pt x="1301" y="93"/>
                    </a:lnTo>
                    <a:lnTo>
                      <a:pt x="1317" y="84"/>
                    </a:lnTo>
                    <a:lnTo>
                      <a:pt x="1334" y="77"/>
                    </a:lnTo>
                    <a:lnTo>
                      <a:pt x="1349" y="60"/>
                    </a:lnTo>
                    <a:lnTo>
                      <a:pt x="1366" y="51"/>
                    </a:lnTo>
                    <a:lnTo>
                      <a:pt x="1382" y="42"/>
                    </a:lnTo>
                    <a:lnTo>
                      <a:pt x="1399" y="33"/>
                    </a:lnTo>
                    <a:lnTo>
                      <a:pt x="1414" y="33"/>
                    </a:lnTo>
                    <a:lnTo>
                      <a:pt x="1431" y="26"/>
                    </a:lnTo>
                    <a:lnTo>
                      <a:pt x="1447" y="17"/>
                    </a:lnTo>
                    <a:lnTo>
                      <a:pt x="1464" y="17"/>
                    </a:lnTo>
                    <a:lnTo>
                      <a:pt x="1479" y="9"/>
                    </a:lnTo>
                    <a:lnTo>
                      <a:pt x="1496" y="9"/>
                    </a:lnTo>
                    <a:lnTo>
                      <a:pt x="1512" y="9"/>
                    </a:lnTo>
                    <a:lnTo>
                      <a:pt x="1528" y="0"/>
                    </a:lnTo>
                    <a:lnTo>
                      <a:pt x="1544" y="0"/>
                    </a:lnTo>
                    <a:lnTo>
                      <a:pt x="1561" y="0"/>
                    </a:lnTo>
                    <a:lnTo>
                      <a:pt x="1576" y="0"/>
                    </a:lnTo>
                    <a:lnTo>
                      <a:pt x="1593" y="0"/>
                    </a:lnTo>
                    <a:lnTo>
                      <a:pt x="1609" y="9"/>
                    </a:lnTo>
                    <a:lnTo>
                      <a:pt x="1626" y="9"/>
                    </a:lnTo>
                    <a:lnTo>
                      <a:pt x="1641" y="9"/>
                    </a:lnTo>
                    <a:lnTo>
                      <a:pt x="1658" y="17"/>
                    </a:lnTo>
                    <a:lnTo>
                      <a:pt x="1674" y="17"/>
                    </a:lnTo>
                    <a:lnTo>
                      <a:pt x="1691" y="26"/>
                    </a:lnTo>
                    <a:lnTo>
                      <a:pt x="1706" y="26"/>
                    </a:lnTo>
                    <a:lnTo>
                      <a:pt x="1723" y="33"/>
                    </a:lnTo>
                    <a:lnTo>
                      <a:pt x="1740" y="42"/>
                    </a:lnTo>
                    <a:lnTo>
                      <a:pt x="1756" y="42"/>
                    </a:lnTo>
                    <a:lnTo>
                      <a:pt x="1773" y="51"/>
                    </a:lnTo>
                    <a:lnTo>
                      <a:pt x="1788" y="60"/>
                    </a:lnTo>
                    <a:lnTo>
                      <a:pt x="1805" y="68"/>
                    </a:lnTo>
                    <a:lnTo>
                      <a:pt x="1821" y="77"/>
                    </a:lnTo>
                    <a:lnTo>
                      <a:pt x="1838" y="84"/>
                    </a:lnTo>
                    <a:lnTo>
                      <a:pt x="1853" y="93"/>
                    </a:lnTo>
                    <a:lnTo>
                      <a:pt x="1870" y="110"/>
                    </a:lnTo>
                    <a:lnTo>
                      <a:pt x="1886" y="119"/>
                    </a:lnTo>
                    <a:lnTo>
                      <a:pt x="1902" y="128"/>
                    </a:lnTo>
                    <a:lnTo>
                      <a:pt x="1918" y="135"/>
                    </a:lnTo>
                    <a:lnTo>
                      <a:pt x="1935" y="152"/>
                    </a:lnTo>
                    <a:lnTo>
                      <a:pt x="1950" y="161"/>
                    </a:lnTo>
                    <a:lnTo>
                      <a:pt x="1967" y="177"/>
                    </a:lnTo>
                    <a:lnTo>
                      <a:pt x="1983" y="186"/>
                    </a:lnTo>
                    <a:lnTo>
                      <a:pt x="2000" y="203"/>
                    </a:lnTo>
                    <a:lnTo>
                      <a:pt x="2015" y="212"/>
                    </a:lnTo>
                    <a:lnTo>
                      <a:pt x="2032" y="228"/>
                    </a:lnTo>
                    <a:lnTo>
                      <a:pt x="2048" y="245"/>
                    </a:lnTo>
                    <a:lnTo>
                      <a:pt x="2065" y="254"/>
                    </a:lnTo>
                    <a:lnTo>
                      <a:pt x="2080" y="271"/>
                    </a:lnTo>
                    <a:lnTo>
                      <a:pt x="2097" y="287"/>
                    </a:lnTo>
                    <a:lnTo>
                      <a:pt x="2113" y="305"/>
                    </a:lnTo>
                    <a:lnTo>
                      <a:pt x="2130" y="313"/>
                    </a:lnTo>
                    <a:lnTo>
                      <a:pt x="2147" y="329"/>
                    </a:lnTo>
                    <a:lnTo>
                      <a:pt x="2162" y="347"/>
                    </a:lnTo>
                    <a:lnTo>
                      <a:pt x="2179" y="364"/>
                    </a:lnTo>
                    <a:lnTo>
                      <a:pt x="2195" y="380"/>
                    </a:lnTo>
                    <a:lnTo>
                      <a:pt x="2212" y="397"/>
                    </a:lnTo>
                    <a:lnTo>
                      <a:pt x="2227" y="413"/>
                    </a:lnTo>
                    <a:lnTo>
                      <a:pt x="2244" y="431"/>
                    </a:lnTo>
                    <a:lnTo>
                      <a:pt x="2260" y="448"/>
                    </a:lnTo>
                    <a:lnTo>
                      <a:pt x="2276" y="464"/>
                    </a:lnTo>
                    <a:lnTo>
                      <a:pt x="2292" y="482"/>
                    </a:lnTo>
                    <a:lnTo>
                      <a:pt x="2309" y="508"/>
                    </a:lnTo>
                    <a:lnTo>
                      <a:pt x="2324" y="524"/>
                    </a:lnTo>
                    <a:lnTo>
                      <a:pt x="2341" y="541"/>
                    </a:lnTo>
                    <a:lnTo>
                      <a:pt x="2357" y="557"/>
                    </a:lnTo>
                    <a:lnTo>
                      <a:pt x="2374" y="574"/>
                    </a:lnTo>
                    <a:lnTo>
                      <a:pt x="2389" y="601"/>
                    </a:lnTo>
                    <a:lnTo>
                      <a:pt x="2406" y="616"/>
                    </a:lnTo>
                    <a:lnTo>
                      <a:pt x="2422" y="634"/>
                    </a:lnTo>
                    <a:lnTo>
                      <a:pt x="2439" y="651"/>
                    </a:lnTo>
                    <a:lnTo>
                      <a:pt x="2454" y="676"/>
                    </a:lnTo>
                    <a:lnTo>
                      <a:pt x="2471" y="693"/>
                    </a:lnTo>
                    <a:lnTo>
                      <a:pt x="2487" y="709"/>
                    </a:lnTo>
                    <a:lnTo>
                      <a:pt x="2504" y="727"/>
                    </a:lnTo>
                    <a:lnTo>
                      <a:pt x="2519" y="751"/>
                    </a:lnTo>
                    <a:lnTo>
                      <a:pt x="2536" y="769"/>
                    </a:lnTo>
                    <a:lnTo>
                      <a:pt x="2552" y="795"/>
                    </a:lnTo>
                    <a:lnTo>
                      <a:pt x="2569" y="811"/>
                    </a:lnTo>
                    <a:lnTo>
                      <a:pt x="2586" y="828"/>
                    </a:lnTo>
                    <a:lnTo>
                      <a:pt x="2601" y="853"/>
                    </a:lnTo>
                    <a:lnTo>
                      <a:pt x="2618" y="870"/>
                    </a:lnTo>
                    <a:lnTo>
                      <a:pt x="2634" y="888"/>
                    </a:lnTo>
                    <a:lnTo>
                      <a:pt x="2650" y="912"/>
                    </a:lnTo>
                    <a:lnTo>
                      <a:pt x="2666" y="930"/>
                    </a:lnTo>
                    <a:lnTo>
                      <a:pt x="2683" y="954"/>
                    </a:lnTo>
                    <a:lnTo>
                      <a:pt x="2698" y="972"/>
                    </a:lnTo>
                    <a:lnTo>
                      <a:pt x="2715" y="988"/>
                    </a:lnTo>
                    <a:lnTo>
                      <a:pt x="2731" y="1014"/>
                    </a:lnTo>
                    <a:lnTo>
                      <a:pt x="2748" y="1031"/>
                    </a:lnTo>
                    <a:lnTo>
                      <a:pt x="2763" y="1056"/>
                    </a:lnTo>
                    <a:lnTo>
                      <a:pt x="2780" y="1073"/>
                    </a:lnTo>
                    <a:lnTo>
                      <a:pt x="2796" y="1098"/>
                    </a:lnTo>
                    <a:lnTo>
                      <a:pt x="2813" y="1115"/>
                    </a:lnTo>
                    <a:lnTo>
                      <a:pt x="2828" y="1131"/>
                    </a:lnTo>
                    <a:lnTo>
                      <a:pt x="2845" y="1157"/>
                    </a:lnTo>
                    <a:lnTo>
                      <a:pt x="2861" y="1175"/>
                    </a:lnTo>
                    <a:lnTo>
                      <a:pt x="2878" y="1200"/>
                    </a:lnTo>
                    <a:lnTo>
                      <a:pt x="2893" y="1217"/>
                    </a:lnTo>
                    <a:lnTo>
                      <a:pt x="2910" y="1242"/>
                    </a:lnTo>
                    <a:lnTo>
                      <a:pt x="2926" y="1259"/>
                    </a:lnTo>
                    <a:lnTo>
                      <a:pt x="2943" y="1275"/>
                    </a:lnTo>
                    <a:lnTo>
                      <a:pt x="2958" y="1301"/>
                    </a:lnTo>
                    <a:lnTo>
                      <a:pt x="2975" y="1318"/>
                    </a:lnTo>
                    <a:lnTo>
                      <a:pt x="2992" y="1343"/>
                    </a:lnTo>
                    <a:lnTo>
                      <a:pt x="3008" y="1361"/>
                    </a:lnTo>
                    <a:lnTo>
                      <a:pt x="3024" y="1385"/>
                    </a:lnTo>
                    <a:lnTo>
                      <a:pt x="3040" y="1403"/>
                    </a:lnTo>
                    <a:lnTo>
                      <a:pt x="3057" y="1419"/>
                    </a:lnTo>
                    <a:lnTo>
                      <a:pt x="3072" y="1445"/>
                    </a:lnTo>
                    <a:lnTo>
                      <a:pt x="3089" y="1462"/>
                    </a:lnTo>
                    <a:lnTo>
                      <a:pt x="3105" y="1487"/>
                    </a:lnTo>
                    <a:lnTo>
                      <a:pt x="3122" y="1504"/>
                    </a:lnTo>
                    <a:lnTo>
                      <a:pt x="3137" y="1520"/>
                    </a:lnTo>
                    <a:lnTo>
                      <a:pt x="3154" y="1546"/>
                    </a:lnTo>
                    <a:lnTo>
                      <a:pt x="3170" y="1562"/>
                    </a:lnTo>
                    <a:lnTo>
                      <a:pt x="3187" y="1580"/>
                    </a:lnTo>
                    <a:lnTo>
                      <a:pt x="3202" y="1606"/>
                    </a:lnTo>
                    <a:lnTo>
                      <a:pt x="3219" y="1622"/>
                    </a:lnTo>
                    <a:lnTo>
                      <a:pt x="3235" y="1639"/>
                    </a:lnTo>
                    <a:lnTo>
                      <a:pt x="3252" y="1664"/>
                    </a:lnTo>
                    <a:lnTo>
                      <a:pt x="3267" y="1681"/>
                    </a:lnTo>
                    <a:lnTo>
                      <a:pt x="3284" y="1699"/>
                    </a:lnTo>
                    <a:lnTo>
                      <a:pt x="3300" y="1723"/>
                    </a:lnTo>
                    <a:lnTo>
                      <a:pt x="3317" y="1741"/>
                    </a:lnTo>
                    <a:lnTo>
                      <a:pt x="3332" y="1757"/>
                    </a:lnTo>
                    <a:lnTo>
                      <a:pt x="3349" y="1774"/>
                    </a:lnTo>
                    <a:lnTo>
                      <a:pt x="3365" y="1800"/>
                    </a:lnTo>
                    <a:lnTo>
                      <a:pt x="3382" y="1816"/>
                    </a:lnTo>
                    <a:lnTo>
                      <a:pt x="3397" y="1833"/>
                    </a:lnTo>
                    <a:lnTo>
                      <a:pt x="3414" y="1849"/>
                    </a:lnTo>
                    <a:lnTo>
                      <a:pt x="3431" y="1875"/>
                    </a:lnTo>
                    <a:lnTo>
                      <a:pt x="3446" y="1893"/>
                    </a:lnTo>
                    <a:lnTo>
                      <a:pt x="3463" y="1909"/>
                    </a:lnTo>
                    <a:lnTo>
                      <a:pt x="3479" y="1926"/>
                    </a:lnTo>
                    <a:lnTo>
                      <a:pt x="3496" y="1944"/>
                    </a:lnTo>
                    <a:lnTo>
                      <a:pt x="3511" y="1968"/>
                    </a:lnTo>
                    <a:lnTo>
                      <a:pt x="3528" y="1986"/>
                    </a:lnTo>
                    <a:lnTo>
                      <a:pt x="3544" y="2002"/>
                    </a:lnTo>
                    <a:lnTo>
                      <a:pt x="3561" y="2019"/>
                    </a:lnTo>
                    <a:lnTo>
                      <a:pt x="3576" y="2036"/>
                    </a:lnTo>
                    <a:lnTo>
                      <a:pt x="3593" y="2052"/>
                    </a:lnTo>
                    <a:lnTo>
                      <a:pt x="3609" y="2070"/>
                    </a:lnTo>
                    <a:lnTo>
                      <a:pt x="3626" y="2094"/>
                    </a:lnTo>
                    <a:lnTo>
                      <a:pt x="3641" y="2112"/>
                    </a:lnTo>
                    <a:lnTo>
                      <a:pt x="3658" y="2129"/>
                    </a:lnTo>
                    <a:lnTo>
                      <a:pt x="3674" y="2145"/>
                    </a:lnTo>
                    <a:lnTo>
                      <a:pt x="3691" y="2163"/>
                    </a:lnTo>
                    <a:lnTo>
                      <a:pt x="3706" y="2180"/>
                    </a:lnTo>
                    <a:lnTo>
                      <a:pt x="3723" y="2196"/>
                    </a:lnTo>
                    <a:lnTo>
                      <a:pt x="3739" y="2213"/>
                    </a:lnTo>
                    <a:lnTo>
                      <a:pt x="3756" y="2231"/>
                    </a:lnTo>
                    <a:lnTo>
                      <a:pt x="3771" y="2247"/>
                    </a:lnTo>
                    <a:lnTo>
                      <a:pt x="3788" y="2264"/>
                    </a:lnTo>
                    <a:lnTo>
                      <a:pt x="3804" y="2280"/>
                    </a:lnTo>
                    <a:lnTo>
                      <a:pt x="3820" y="2298"/>
                    </a:lnTo>
                    <a:lnTo>
                      <a:pt x="3836" y="2315"/>
                    </a:lnTo>
                    <a:lnTo>
                      <a:pt x="3853" y="2331"/>
                    </a:lnTo>
                    <a:lnTo>
                      <a:pt x="3870" y="2340"/>
                    </a:lnTo>
                    <a:lnTo>
                      <a:pt x="3885" y="2357"/>
                    </a:lnTo>
                    <a:lnTo>
                      <a:pt x="3902" y="2374"/>
                    </a:lnTo>
                    <a:lnTo>
                      <a:pt x="3918" y="2390"/>
                    </a:lnTo>
                    <a:lnTo>
                      <a:pt x="3935" y="2408"/>
                    </a:lnTo>
                    <a:lnTo>
                      <a:pt x="3950" y="2424"/>
                    </a:lnTo>
                    <a:lnTo>
                      <a:pt x="3967" y="2441"/>
                    </a:lnTo>
                    <a:lnTo>
                      <a:pt x="3983" y="2459"/>
                    </a:lnTo>
                    <a:lnTo>
                      <a:pt x="4000" y="2467"/>
                    </a:lnTo>
                    <a:lnTo>
                      <a:pt x="4015" y="2483"/>
                    </a:lnTo>
                    <a:lnTo>
                      <a:pt x="4032" y="2501"/>
                    </a:lnTo>
                    <a:lnTo>
                      <a:pt x="4048" y="2518"/>
                    </a:lnTo>
                    <a:lnTo>
                      <a:pt x="4065" y="2525"/>
                    </a:lnTo>
                    <a:lnTo>
                      <a:pt x="4080" y="2543"/>
                    </a:lnTo>
                    <a:lnTo>
                      <a:pt x="4097" y="2560"/>
                    </a:lnTo>
                    <a:lnTo>
                      <a:pt x="4113" y="2576"/>
                    </a:lnTo>
                    <a:lnTo>
                      <a:pt x="4130" y="2585"/>
                    </a:lnTo>
                    <a:lnTo>
                      <a:pt x="4145" y="2602"/>
                    </a:lnTo>
                    <a:lnTo>
                      <a:pt x="4162" y="2618"/>
                    </a:lnTo>
                    <a:lnTo>
                      <a:pt x="4178" y="2627"/>
                    </a:lnTo>
                    <a:lnTo>
                      <a:pt x="4194" y="2644"/>
                    </a:lnTo>
                    <a:lnTo>
                      <a:pt x="4210" y="2662"/>
                    </a:lnTo>
                    <a:lnTo>
                      <a:pt x="4227" y="2669"/>
                    </a:lnTo>
                    <a:lnTo>
                      <a:pt x="4242" y="2686"/>
                    </a:lnTo>
                    <a:lnTo>
                      <a:pt x="4259" y="2704"/>
                    </a:lnTo>
                    <a:lnTo>
                      <a:pt x="4276" y="2711"/>
                    </a:lnTo>
                    <a:lnTo>
                      <a:pt x="4292" y="2728"/>
                    </a:lnTo>
                    <a:lnTo>
                      <a:pt x="4309" y="2737"/>
                    </a:lnTo>
                    <a:lnTo>
                      <a:pt x="4324" y="2754"/>
                    </a:lnTo>
                    <a:lnTo>
                      <a:pt x="4341" y="2770"/>
                    </a:lnTo>
                    <a:lnTo>
                      <a:pt x="4357" y="2779"/>
                    </a:lnTo>
                    <a:lnTo>
                      <a:pt x="4374" y="2796"/>
                    </a:lnTo>
                    <a:lnTo>
                      <a:pt x="4389" y="2804"/>
                    </a:lnTo>
                    <a:lnTo>
                      <a:pt x="4406" y="2821"/>
                    </a:lnTo>
                    <a:lnTo>
                      <a:pt x="4422" y="2830"/>
                    </a:lnTo>
                    <a:lnTo>
                      <a:pt x="4439" y="2847"/>
                    </a:lnTo>
                    <a:lnTo>
                      <a:pt x="4454" y="2854"/>
                    </a:lnTo>
                    <a:lnTo>
                      <a:pt x="4471" y="2872"/>
                    </a:lnTo>
                    <a:lnTo>
                      <a:pt x="4487" y="2881"/>
                    </a:lnTo>
                    <a:lnTo>
                      <a:pt x="4504" y="2889"/>
                    </a:lnTo>
                    <a:lnTo>
                      <a:pt x="4519" y="2905"/>
                    </a:lnTo>
                    <a:lnTo>
                      <a:pt x="4536" y="2914"/>
                    </a:lnTo>
                    <a:lnTo>
                      <a:pt x="4552" y="2931"/>
                    </a:lnTo>
                    <a:lnTo>
                      <a:pt x="4568" y="2940"/>
                    </a:lnTo>
                    <a:lnTo>
                      <a:pt x="4584" y="2947"/>
                    </a:lnTo>
                    <a:lnTo>
                      <a:pt x="4601" y="2965"/>
                    </a:lnTo>
                    <a:lnTo>
                      <a:pt x="4616" y="2973"/>
                    </a:lnTo>
                    <a:lnTo>
                      <a:pt x="4633" y="2982"/>
                    </a:lnTo>
                    <a:lnTo>
                      <a:pt x="4649" y="2998"/>
                    </a:lnTo>
                    <a:lnTo>
                      <a:pt x="4666" y="3007"/>
                    </a:lnTo>
                    <a:lnTo>
                      <a:pt x="4681" y="3015"/>
                    </a:lnTo>
                    <a:lnTo>
                      <a:pt x="4698" y="3033"/>
                    </a:lnTo>
                    <a:lnTo>
                      <a:pt x="4715" y="3042"/>
                    </a:lnTo>
                    <a:lnTo>
                      <a:pt x="4731" y="3049"/>
                    </a:lnTo>
                    <a:lnTo>
                      <a:pt x="4748" y="3058"/>
                    </a:lnTo>
                    <a:lnTo>
                      <a:pt x="4763" y="3075"/>
                    </a:lnTo>
                    <a:lnTo>
                      <a:pt x="4780" y="3084"/>
                    </a:lnTo>
                    <a:lnTo>
                      <a:pt x="4796" y="3091"/>
                    </a:lnTo>
                    <a:lnTo>
                      <a:pt x="4813" y="3100"/>
                    </a:lnTo>
                    <a:lnTo>
                      <a:pt x="4828" y="3117"/>
                    </a:lnTo>
                    <a:lnTo>
                      <a:pt x="4845" y="3126"/>
                    </a:lnTo>
                    <a:lnTo>
                      <a:pt x="4861" y="3134"/>
                    </a:lnTo>
                    <a:lnTo>
                      <a:pt x="4878" y="3142"/>
                    </a:lnTo>
                    <a:lnTo>
                      <a:pt x="4893" y="3150"/>
                    </a:lnTo>
                    <a:lnTo>
                      <a:pt x="4910" y="3159"/>
                    </a:lnTo>
                    <a:lnTo>
                      <a:pt x="4926" y="3176"/>
                    </a:lnTo>
                    <a:lnTo>
                      <a:pt x="4942" y="3185"/>
                    </a:lnTo>
                    <a:lnTo>
                      <a:pt x="4958" y="3192"/>
                    </a:lnTo>
                    <a:lnTo>
                      <a:pt x="4975" y="3201"/>
                    </a:lnTo>
                    <a:lnTo>
                      <a:pt x="4990" y="3210"/>
                    </a:lnTo>
                    <a:lnTo>
                      <a:pt x="5007" y="3219"/>
                    </a:lnTo>
                    <a:lnTo>
                      <a:pt x="5023" y="3227"/>
                    </a:lnTo>
                    <a:lnTo>
                      <a:pt x="5040" y="3235"/>
                    </a:lnTo>
                    <a:lnTo>
                      <a:pt x="5055" y="3243"/>
                    </a:lnTo>
                    <a:lnTo>
                      <a:pt x="5072" y="3252"/>
                    </a:lnTo>
                    <a:lnTo>
                      <a:pt x="5088" y="3261"/>
                    </a:lnTo>
                    <a:lnTo>
                      <a:pt x="5105" y="3269"/>
                    </a:lnTo>
                    <a:lnTo>
                      <a:pt x="5120" y="3278"/>
                    </a:lnTo>
                    <a:lnTo>
                      <a:pt x="5137" y="3294"/>
                    </a:lnTo>
                    <a:lnTo>
                      <a:pt x="5154" y="3303"/>
                    </a:lnTo>
                    <a:lnTo>
                      <a:pt x="5170" y="3303"/>
                    </a:lnTo>
                    <a:lnTo>
                      <a:pt x="5187" y="3311"/>
                    </a:lnTo>
                    <a:lnTo>
                      <a:pt x="5202" y="3320"/>
                    </a:lnTo>
                    <a:lnTo>
                      <a:pt x="5219" y="3329"/>
                    </a:lnTo>
                    <a:lnTo>
                      <a:pt x="5235" y="3336"/>
                    </a:lnTo>
                    <a:lnTo>
                      <a:pt x="5252" y="3345"/>
                    </a:lnTo>
                    <a:lnTo>
                      <a:pt x="5267" y="3353"/>
                    </a:lnTo>
                    <a:lnTo>
                      <a:pt x="5284" y="3362"/>
                    </a:lnTo>
                    <a:lnTo>
                      <a:pt x="5300" y="3371"/>
                    </a:lnTo>
                    <a:lnTo>
                      <a:pt x="5316" y="3378"/>
                    </a:lnTo>
                    <a:lnTo>
                      <a:pt x="5332" y="3387"/>
                    </a:lnTo>
                    <a:lnTo>
                      <a:pt x="5349" y="3396"/>
                    </a:lnTo>
                    <a:lnTo>
                      <a:pt x="5364" y="3404"/>
                    </a:lnTo>
                    <a:lnTo>
                      <a:pt x="5381" y="3413"/>
                    </a:lnTo>
                    <a:lnTo>
                      <a:pt x="5397" y="3413"/>
                    </a:lnTo>
                    <a:lnTo>
                      <a:pt x="5414" y="3422"/>
                    </a:lnTo>
                    <a:lnTo>
                      <a:pt x="5429" y="3429"/>
                    </a:lnTo>
                    <a:lnTo>
                      <a:pt x="5446" y="3438"/>
                    </a:lnTo>
                    <a:lnTo>
                      <a:pt x="5462" y="3446"/>
                    </a:lnTo>
                    <a:lnTo>
                      <a:pt x="5479" y="3455"/>
                    </a:lnTo>
                    <a:lnTo>
                      <a:pt x="5494" y="3455"/>
                    </a:lnTo>
                    <a:lnTo>
                      <a:pt x="5511" y="3464"/>
                    </a:lnTo>
                    <a:lnTo>
                      <a:pt x="5527" y="3472"/>
                    </a:lnTo>
                    <a:lnTo>
                      <a:pt x="5544" y="3480"/>
                    </a:lnTo>
                    <a:lnTo>
                      <a:pt x="5561" y="3488"/>
                    </a:lnTo>
                    <a:lnTo>
                      <a:pt x="5576" y="3488"/>
                    </a:lnTo>
                    <a:lnTo>
                      <a:pt x="5593" y="3497"/>
                    </a:lnTo>
                    <a:lnTo>
                      <a:pt x="5609" y="3506"/>
                    </a:lnTo>
                    <a:lnTo>
                      <a:pt x="5626" y="3514"/>
                    </a:lnTo>
                    <a:lnTo>
                      <a:pt x="5641" y="3514"/>
                    </a:lnTo>
                    <a:lnTo>
                      <a:pt x="5658" y="3522"/>
                    </a:lnTo>
                    <a:lnTo>
                      <a:pt x="5674" y="3530"/>
                    </a:lnTo>
                    <a:lnTo>
                      <a:pt x="5690" y="3539"/>
                    </a:lnTo>
                    <a:lnTo>
                      <a:pt x="5706" y="3539"/>
                    </a:lnTo>
                    <a:lnTo>
                      <a:pt x="5723" y="3548"/>
                    </a:lnTo>
                    <a:lnTo>
                      <a:pt x="5738" y="3556"/>
                    </a:lnTo>
                    <a:lnTo>
                      <a:pt x="5755" y="3556"/>
                    </a:lnTo>
                    <a:lnTo>
                      <a:pt x="5771" y="3565"/>
                    </a:lnTo>
                    <a:lnTo>
                      <a:pt x="5788" y="3572"/>
                    </a:lnTo>
                    <a:lnTo>
                      <a:pt x="5803" y="3572"/>
                    </a:lnTo>
                    <a:lnTo>
                      <a:pt x="5820" y="3581"/>
                    </a:lnTo>
                    <a:lnTo>
                      <a:pt x="5836" y="3590"/>
                    </a:lnTo>
                    <a:lnTo>
                      <a:pt x="5853" y="3590"/>
                    </a:lnTo>
                    <a:lnTo>
                      <a:pt x="5868" y="3599"/>
                    </a:lnTo>
                    <a:lnTo>
                      <a:pt x="5885" y="3607"/>
                    </a:lnTo>
                    <a:lnTo>
                      <a:pt x="5901" y="3607"/>
                    </a:lnTo>
                    <a:lnTo>
                      <a:pt x="5918" y="3616"/>
                    </a:lnTo>
                    <a:lnTo>
                      <a:pt x="5933" y="3623"/>
                    </a:lnTo>
                    <a:lnTo>
                      <a:pt x="5950" y="3623"/>
                    </a:lnTo>
                    <a:lnTo>
                      <a:pt x="5966" y="3632"/>
                    </a:lnTo>
                    <a:lnTo>
                      <a:pt x="5983" y="3632"/>
                    </a:lnTo>
                    <a:lnTo>
                      <a:pt x="6000" y="3641"/>
                    </a:lnTo>
                    <a:lnTo>
                      <a:pt x="6015" y="3649"/>
                    </a:lnTo>
                    <a:lnTo>
                      <a:pt x="6032" y="3649"/>
                    </a:lnTo>
                    <a:lnTo>
                      <a:pt x="6048" y="3658"/>
                    </a:lnTo>
                    <a:lnTo>
                      <a:pt x="6064" y="3658"/>
                    </a:lnTo>
                    <a:lnTo>
                      <a:pt x="6080" y="3665"/>
                    </a:lnTo>
                    <a:lnTo>
                      <a:pt x="6097" y="3665"/>
                    </a:lnTo>
                    <a:lnTo>
                      <a:pt x="6112" y="3674"/>
                    </a:lnTo>
                    <a:lnTo>
                      <a:pt x="6129" y="3683"/>
                    </a:lnTo>
                    <a:lnTo>
                      <a:pt x="6145" y="3683"/>
                    </a:lnTo>
                    <a:lnTo>
                      <a:pt x="6162" y="3691"/>
                    </a:lnTo>
                    <a:lnTo>
                      <a:pt x="6177" y="3691"/>
                    </a:lnTo>
                    <a:lnTo>
                      <a:pt x="6194" y="3700"/>
                    </a:lnTo>
                    <a:lnTo>
                      <a:pt x="6210" y="3700"/>
                    </a:lnTo>
                    <a:lnTo>
                      <a:pt x="6227" y="3709"/>
                    </a:lnTo>
                    <a:lnTo>
                      <a:pt x="6242" y="3709"/>
                    </a:lnTo>
                    <a:lnTo>
                      <a:pt x="6259" y="3716"/>
                    </a:lnTo>
                    <a:lnTo>
                      <a:pt x="6275" y="3716"/>
                    </a:lnTo>
                    <a:lnTo>
                      <a:pt x="6292" y="3725"/>
                    </a:lnTo>
                    <a:lnTo>
                      <a:pt x="6307" y="3725"/>
                    </a:lnTo>
                    <a:lnTo>
                      <a:pt x="6324" y="3733"/>
                    </a:lnTo>
                    <a:lnTo>
                      <a:pt x="6340" y="3733"/>
                    </a:lnTo>
                    <a:lnTo>
                      <a:pt x="6357" y="3742"/>
                    </a:lnTo>
                    <a:lnTo>
                      <a:pt x="6372" y="3742"/>
                    </a:lnTo>
                    <a:lnTo>
                      <a:pt x="6389" y="3742"/>
                    </a:lnTo>
                    <a:lnTo>
                      <a:pt x="6406" y="3751"/>
                    </a:lnTo>
                    <a:lnTo>
                      <a:pt x="6422" y="3751"/>
                    </a:lnTo>
                    <a:lnTo>
                      <a:pt x="6438" y="3760"/>
                    </a:lnTo>
                    <a:lnTo>
                      <a:pt x="6454" y="3760"/>
                    </a:lnTo>
                    <a:lnTo>
                      <a:pt x="6471" y="3767"/>
                    </a:lnTo>
                    <a:lnTo>
                      <a:pt x="6486" y="3767"/>
                    </a:lnTo>
                    <a:lnTo>
                      <a:pt x="6503" y="3776"/>
                    </a:lnTo>
                    <a:lnTo>
                      <a:pt x="6519" y="3776"/>
                    </a:lnTo>
                    <a:lnTo>
                      <a:pt x="6536" y="3776"/>
                    </a:lnTo>
                    <a:lnTo>
                      <a:pt x="6551" y="3784"/>
                    </a:lnTo>
                    <a:lnTo>
                      <a:pt x="6568" y="3784"/>
                    </a:lnTo>
                    <a:lnTo>
                      <a:pt x="6584" y="3793"/>
                    </a:lnTo>
                    <a:lnTo>
                      <a:pt x="6601" y="3793"/>
                    </a:lnTo>
                    <a:lnTo>
                      <a:pt x="6616" y="3793"/>
                    </a:lnTo>
                    <a:lnTo>
                      <a:pt x="6633" y="3802"/>
                    </a:lnTo>
                    <a:lnTo>
                      <a:pt x="6649" y="3802"/>
                    </a:lnTo>
                    <a:lnTo>
                      <a:pt x="6666" y="3809"/>
                    </a:lnTo>
                    <a:lnTo>
                      <a:pt x="6681" y="3809"/>
                    </a:lnTo>
                    <a:lnTo>
                      <a:pt x="6698" y="3809"/>
                    </a:lnTo>
                    <a:lnTo>
                      <a:pt x="6714" y="3818"/>
                    </a:lnTo>
                    <a:lnTo>
                      <a:pt x="6731" y="3818"/>
                    </a:lnTo>
                    <a:lnTo>
                      <a:pt x="6746" y="3818"/>
                    </a:lnTo>
                    <a:lnTo>
                      <a:pt x="6763" y="3826"/>
                    </a:lnTo>
                    <a:lnTo>
                      <a:pt x="6779" y="3826"/>
                    </a:lnTo>
                    <a:lnTo>
                      <a:pt x="6796" y="3826"/>
                    </a:lnTo>
                    <a:lnTo>
                      <a:pt x="6811" y="3835"/>
                    </a:lnTo>
                    <a:lnTo>
                      <a:pt x="6828" y="3835"/>
                    </a:lnTo>
                    <a:lnTo>
                      <a:pt x="6845" y="3835"/>
                    </a:lnTo>
                    <a:lnTo>
                      <a:pt x="6860" y="3844"/>
                    </a:lnTo>
                    <a:lnTo>
                      <a:pt x="6877" y="3844"/>
                    </a:lnTo>
                    <a:lnTo>
                      <a:pt x="6893" y="3844"/>
                    </a:lnTo>
                    <a:lnTo>
                      <a:pt x="6910" y="3852"/>
                    </a:lnTo>
                    <a:lnTo>
                      <a:pt x="6925" y="3852"/>
                    </a:lnTo>
                    <a:lnTo>
                      <a:pt x="6942" y="3852"/>
                    </a:lnTo>
                    <a:lnTo>
                      <a:pt x="6958" y="3860"/>
                    </a:lnTo>
                    <a:lnTo>
                      <a:pt x="6975" y="3860"/>
                    </a:lnTo>
                    <a:lnTo>
                      <a:pt x="6990" y="3860"/>
                    </a:lnTo>
                    <a:lnTo>
                      <a:pt x="7007" y="3868"/>
                    </a:lnTo>
                    <a:lnTo>
                      <a:pt x="7023" y="3868"/>
                    </a:lnTo>
                    <a:lnTo>
                      <a:pt x="7040" y="3868"/>
                    </a:lnTo>
                    <a:lnTo>
                      <a:pt x="7055" y="3868"/>
                    </a:lnTo>
                    <a:lnTo>
                      <a:pt x="7072" y="3877"/>
                    </a:lnTo>
                    <a:lnTo>
                      <a:pt x="7088" y="3877"/>
                    </a:lnTo>
                    <a:lnTo>
                      <a:pt x="7105" y="3877"/>
                    </a:lnTo>
                    <a:lnTo>
                      <a:pt x="7120" y="3886"/>
                    </a:lnTo>
                    <a:lnTo>
                      <a:pt x="7137" y="3886"/>
                    </a:lnTo>
                    <a:lnTo>
                      <a:pt x="7153" y="3886"/>
                    </a:lnTo>
                    <a:lnTo>
                      <a:pt x="7170" y="3886"/>
                    </a:lnTo>
                    <a:lnTo>
                      <a:pt x="7185" y="3894"/>
                    </a:lnTo>
                    <a:lnTo>
                      <a:pt x="7202" y="3894"/>
                    </a:lnTo>
                    <a:lnTo>
                      <a:pt x="7218" y="3894"/>
                    </a:lnTo>
                    <a:lnTo>
                      <a:pt x="7234" y="3894"/>
                    </a:lnTo>
                    <a:lnTo>
                      <a:pt x="7250" y="3903"/>
                    </a:lnTo>
                    <a:lnTo>
                      <a:pt x="7267" y="3903"/>
                    </a:lnTo>
                    <a:lnTo>
                      <a:pt x="7284" y="3903"/>
                    </a:lnTo>
                    <a:lnTo>
                      <a:pt x="7299" y="3903"/>
                    </a:lnTo>
                    <a:lnTo>
                      <a:pt x="7316" y="3910"/>
                    </a:lnTo>
                    <a:lnTo>
                      <a:pt x="7332" y="3910"/>
                    </a:lnTo>
                    <a:lnTo>
                      <a:pt x="7349" y="3910"/>
                    </a:lnTo>
                    <a:lnTo>
                      <a:pt x="7364" y="3910"/>
                    </a:lnTo>
                    <a:lnTo>
                      <a:pt x="7381" y="3919"/>
                    </a:lnTo>
                    <a:lnTo>
                      <a:pt x="7397" y="3919"/>
                    </a:lnTo>
                    <a:lnTo>
                      <a:pt x="7414" y="3919"/>
                    </a:lnTo>
                    <a:lnTo>
                      <a:pt x="7429" y="3919"/>
                    </a:lnTo>
                    <a:lnTo>
                      <a:pt x="7446" y="3919"/>
                    </a:lnTo>
                    <a:lnTo>
                      <a:pt x="7462" y="3928"/>
                    </a:lnTo>
                    <a:lnTo>
                      <a:pt x="7479" y="3945"/>
                    </a:lnTo>
                    <a:lnTo>
                      <a:pt x="7494" y="3928"/>
                    </a:lnTo>
                    <a:lnTo>
                      <a:pt x="7511" y="3928"/>
                    </a:lnTo>
                    <a:lnTo>
                      <a:pt x="7527" y="3937"/>
                    </a:lnTo>
                    <a:lnTo>
                      <a:pt x="7544" y="3937"/>
                    </a:lnTo>
                    <a:lnTo>
                      <a:pt x="7559" y="3937"/>
                    </a:lnTo>
                    <a:lnTo>
                      <a:pt x="7576" y="3937"/>
                    </a:lnTo>
                    <a:lnTo>
                      <a:pt x="7592" y="3937"/>
                    </a:lnTo>
                    <a:lnTo>
                      <a:pt x="7608" y="3937"/>
                    </a:lnTo>
                    <a:lnTo>
                      <a:pt x="7624" y="3945"/>
                    </a:lnTo>
                    <a:lnTo>
                      <a:pt x="7641" y="3945"/>
                    </a:lnTo>
                    <a:lnTo>
                      <a:pt x="7656" y="3945"/>
                    </a:lnTo>
                    <a:lnTo>
                      <a:pt x="7673" y="3945"/>
                    </a:lnTo>
                    <a:lnTo>
                      <a:pt x="7690" y="3945"/>
                    </a:lnTo>
                    <a:lnTo>
                      <a:pt x="7706" y="3952"/>
                    </a:lnTo>
                    <a:lnTo>
                      <a:pt x="7723" y="3952"/>
                    </a:lnTo>
                    <a:lnTo>
                      <a:pt x="7738" y="3952"/>
                    </a:lnTo>
                    <a:lnTo>
                      <a:pt x="7755" y="3952"/>
                    </a:lnTo>
                    <a:lnTo>
                      <a:pt x="7771" y="3952"/>
                    </a:lnTo>
                    <a:lnTo>
                      <a:pt x="7788" y="3952"/>
                    </a:lnTo>
                    <a:lnTo>
                      <a:pt x="7803" y="3961"/>
                    </a:lnTo>
                    <a:lnTo>
                      <a:pt x="7820" y="3961"/>
                    </a:lnTo>
                    <a:lnTo>
                      <a:pt x="7836" y="3961"/>
                    </a:lnTo>
                    <a:lnTo>
                      <a:pt x="7853" y="3961"/>
                    </a:lnTo>
                    <a:lnTo>
                      <a:pt x="7868" y="3961"/>
                    </a:lnTo>
                    <a:lnTo>
                      <a:pt x="7885" y="3961"/>
                    </a:lnTo>
                    <a:lnTo>
                      <a:pt x="7901" y="3970"/>
                    </a:lnTo>
                    <a:lnTo>
                      <a:pt x="7918" y="3970"/>
                    </a:lnTo>
                    <a:lnTo>
                      <a:pt x="7933" y="3970"/>
                    </a:lnTo>
                    <a:lnTo>
                      <a:pt x="7950" y="3970"/>
                    </a:lnTo>
                    <a:lnTo>
                      <a:pt x="7966" y="3970"/>
                    </a:lnTo>
                    <a:lnTo>
                      <a:pt x="7982" y="3970"/>
                    </a:lnTo>
                    <a:lnTo>
                      <a:pt x="7998" y="3979"/>
                    </a:lnTo>
                    <a:lnTo>
                      <a:pt x="8015" y="3979"/>
                    </a:lnTo>
                    <a:lnTo>
                      <a:pt x="8030" y="3979"/>
                    </a:lnTo>
                    <a:lnTo>
                      <a:pt x="8047" y="3979"/>
                    </a:lnTo>
                    <a:lnTo>
                      <a:pt x="8063" y="3979"/>
                    </a:lnTo>
                    <a:lnTo>
                      <a:pt x="8080" y="3979"/>
                    </a:lnTo>
                    <a:lnTo>
                      <a:pt x="8095" y="3979"/>
                    </a:lnTo>
                    <a:lnTo>
                      <a:pt x="8112" y="3979"/>
                    </a:lnTo>
                    <a:lnTo>
                      <a:pt x="8112" y="4071"/>
                    </a:lnTo>
                    <a:lnTo>
                      <a:pt x="8095" y="4071"/>
                    </a:lnTo>
                    <a:lnTo>
                      <a:pt x="8080" y="4071"/>
                    </a:lnTo>
                    <a:lnTo>
                      <a:pt x="8063" y="4071"/>
                    </a:lnTo>
                    <a:lnTo>
                      <a:pt x="8047" y="4071"/>
                    </a:lnTo>
                    <a:lnTo>
                      <a:pt x="8030" y="4071"/>
                    </a:lnTo>
                    <a:lnTo>
                      <a:pt x="8015" y="4071"/>
                    </a:lnTo>
                    <a:lnTo>
                      <a:pt x="7998" y="4071"/>
                    </a:lnTo>
                    <a:lnTo>
                      <a:pt x="7982" y="4071"/>
                    </a:lnTo>
                    <a:lnTo>
                      <a:pt x="7966" y="4071"/>
                    </a:lnTo>
                    <a:lnTo>
                      <a:pt x="7950" y="4071"/>
                    </a:lnTo>
                    <a:lnTo>
                      <a:pt x="7933" y="4071"/>
                    </a:lnTo>
                    <a:lnTo>
                      <a:pt x="7918" y="4071"/>
                    </a:lnTo>
                    <a:lnTo>
                      <a:pt x="7901" y="4071"/>
                    </a:lnTo>
                    <a:lnTo>
                      <a:pt x="7885" y="4071"/>
                    </a:lnTo>
                    <a:lnTo>
                      <a:pt x="7868" y="4071"/>
                    </a:lnTo>
                    <a:lnTo>
                      <a:pt x="7853" y="4071"/>
                    </a:lnTo>
                    <a:lnTo>
                      <a:pt x="7836" y="4071"/>
                    </a:lnTo>
                    <a:lnTo>
                      <a:pt x="7820" y="4071"/>
                    </a:lnTo>
                    <a:lnTo>
                      <a:pt x="7803" y="4071"/>
                    </a:lnTo>
                    <a:lnTo>
                      <a:pt x="7788" y="4071"/>
                    </a:lnTo>
                    <a:lnTo>
                      <a:pt x="7771" y="4071"/>
                    </a:lnTo>
                    <a:lnTo>
                      <a:pt x="7755" y="4071"/>
                    </a:lnTo>
                    <a:lnTo>
                      <a:pt x="7738" y="4071"/>
                    </a:lnTo>
                    <a:lnTo>
                      <a:pt x="7723" y="4071"/>
                    </a:lnTo>
                    <a:lnTo>
                      <a:pt x="7706" y="4071"/>
                    </a:lnTo>
                    <a:lnTo>
                      <a:pt x="7690" y="4071"/>
                    </a:lnTo>
                    <a:lnTo>
                      <a:pt x="7673" y="4071"/>
                    </a:lnTo>
                    <a:lnTo>
                      <a:pt x="7656" y="4071"/>
                    </a:lnTo>
                    <a:lnTo>
                      <a:pt x="7641" y="4071"/>
                    </a:lnTo>
                    <a:lnTo>
                      <a:pt x="7624" y="4071"/>
                    </a:lnTo>
                    <a:lnTo>
                      <a:pt x="7608" y="4071"/>
                    </a:lnTo>
                    <a:lnTo>
                      <a:pt x="7592" y="4071"/>
                    </a:lnTo>
                    <a:lnTo>
                      <a:pt x="7576" y="4071"/>
                    </a:lnTo>
                    <a:lnTo>
                      <a:pt x="7559" y="4071"/>
                    </a:lnTo>
                    <a:lnTo>
                      <a:pt x="7544" y="4071"/>
                    </a:lnTo>
                    <a:lnTo>
                      <a:pt x="7527" y="4071"/>
                    </a:lnTo>
                    <a:lnTo>
                      <a:pt x="7511" y="4071"/>
                    </a:lnTo>
                    <a:lnTo>
                      <a:pt x="7494" y="4071"/>
                    </a:lnTo>
                    <a:lnTo>
                      <a:pt x="7479" y="4071"/>
                    </a:lnTo>
                    <a:lnTo>
                      <a:pt x="7462" y="4071"/>
                    </a:lnTo>
                    <a:lnTo>
                      <a:pt x="7446" y="4071"/>
                    </a:lnTo>
                    <a:lnTo>
                      <a:pt x="7429" y="4071"/>
                    </a:lnTo>
                    <a:lnTo>
                      <a:pt x="7414" y="4071"/>
                    </a:lnTo>
                    <a:lnTo>
                      <a:pt x="7397" y="4071"/>
                    </a:lnTo>
                    <a:lnTo>
                      <a:pt x="7381" y="4071"/>
                    </a:lnTo>
                    <a:lnTo>
                      <a:pt x="7364" y="4071"/>
                    </a:lnTo>
                    <a:lnTo>
                      <a:pt x="7349" y="4071"/>
                    </a:lnTo>
                    <a:lnTo>
                      <a:pt x="7332" y="4071"/>
                    </a:lnTo>
                    <a:lnTo>
                      <a:pt x="7316" y="4071"/>
                    </a:lnTo>
                    <a:lnTo>
                      <a:pt x="7299" y="4071"/>
                    </a:lnTo>
                    <a:lnTo>
                      <a:pt x="7284" y="4071"/>
                    </a:lnTo>
                    <a:lnTo>
                      <a:pt x="7267" y="4071"/>
                    </a:lnTo>
                    <a:lnTo>
                      <a:pt x="7250" y="4071"/>
                    </a:lnTo>
                    <a:lnTo>
                      <a:pt x="7234" y="4071"/>
                    </a:lnTo>
                    <a:lnTo>
                      <a:pt x="7218" y="4071"/>
                    </a:lnTo>
                    <a:lnTo>
                      <a:pt x="7202" y="4071"/>
                    </a:lnTo>
                    <a:lnTo>
                      <a:pt x="7185" y="4071"/>
                    </a:lnTo>
                    <a:lnTo>
                      <a:pt x="7170" y="4071"/>
                    </a:lnTo>
                    <a:lnTo>
                      <a:pt x="7153" y="4071"/>
                    </a:lnTo>
                    <a:lnTo>
                      <a:pt x="7137" y="4071"/>
                    </a:lnTo>
                    <a:lnTo>
                      <a:pt x="7120" y="4071"/>
                    </a:lnTo>
                    <a:lnTo>
                      <a:pt x="7105" y="4071"/>
                    </a:lnTo>
                    <a:lnTo>
                      <a:pt x="7088" y="4071"/>
                    </a:lnTo>
                    <a:lnTo>
                      <a:pt x="7072" y="4071"/>
                    </a:lnTo>
                    <a:lnTo>
                      <a:pt x="7055" y="4071"/>
                    </a:lnTo>
                    <a:lnTo>
                      <a:pt x="7040" y="4071"/>
                    </a:lnTo>
                    <a:lnTo>
                      <a:pt x="7023" y="4071"/>
                    </a:lnTo>
                    <a:lnTo>
                      <a:pt x="7007" y="4071"/>
                    </a:lnTo>
                    <a:lnTo>
                      <a:pt x="6990" y="4071"/>
                    </a:lnTo>
                    <a:lnTo>
                      <a:pt x="6975" y="4071"/>
                    </a:lnTo>
                    <a:lnTo>
                      <a:pt x="6958" y="4071"/>
                    </a:lnTo>
                    <a:lnTo>
                      <a:pt x="6942" y="4071"/>
                    </a:lnTo>
                    <a:lnTo>
                      <a:pt x="6925" y="4071"/>
                    </a:lnTo>
                    <a:lnTo>
                      <a:pt x="6910" y="4071"/>
                    </a:lnTo>
                    <a:lnTo>
                      <a:pt x="6893" y="4071"/>
                    </a:lnTo>
                    <a:lnTo>
                      <a:pt x="6877" y="4071"/>
                    </a:lnTo>
                    <a:lnTo>
                      <a:pt x="6860" y="4071"/>
                    </a:lnTo>
                    <a:lnTo>
                      <a:pt x="6845" y="4071"/>
                    </a:lnTo>
                    <a:lnTo>
                      <a:pt x="6828" y="4071"/>
                    </a:lnTo>
                    <a:lnTo>
                      <a:pt x="6811" y="4071"/>
                    </a:lnTo>
                    <a:lnTo>
                      <a:pt x="6796" y="4071"/>
                    </a:lnTo>
                    <a:lnTo>
                      <a:pt x="6779" y="4071"/>
                    </a:lnTo>
                    <a:lnTo>
                      <a:pt x="6763" y="4071"/>
                    </a:lnTo>
                    <a:lnTo>
                      <a:pt x="6746" y="4071"/>
                    </a:lnTo>
                    <a:lnTo>
                      <a:pt x="6731" y="4071"/>
                    </a:lnTo>
                    <a:lnTo>
                      <a:pt x="6714" y="4071"/>
                    </a:lnTo>
                    <a:lnTo>
                      <a:pt x="6698" y="4071"/>
                    </a:lnTo>
                    <a:lnTo>
                      <a:pt x="6681" y="4071"/>
                    </a:lnTo>
                    <a:lnTo>
                      <a:pt x="6666" y="4071"/>
                    </a:lnTo>
                    <a:lnTo>
                      <a:pt x="6649" y="4071"/>
                    </a:lnTo>
                    <a:lnTo>
                      <a:pt x="6633" y="4071"/>
                    </a:lnTo>
                    <a:lnTo>
                      <a:pt x="6616" y="4071"/>
                    </a:lnTo>
                    <a:lnTo>
                      <a:pt x="6601" y="4071"/>
                    </a:lnTo>
                    <a:lnTo>
                      <a:pt x="6584" y="4071"/>
                    </a:lnTo>
                    <a:lnTo>
                      <a:pt x="6568" y="4071"/>
                    </a:lnTo>
                    <a:lnTo>
                      <a:pt x="6551" y="4071"/>
                    </a:lnTo>
                    <a:lnTo>
                      <a:pt x="6536" y="4071"/>
                    </a:lnTo>
                    <a:lnTo>
                      <a:pt x="6519" y="4071"/>
                    </a:lnTo>
                    <a:lnTo>
                      <a:pt x="6503" y="4071"/>
                    </a:lnTo>
                    <a:lnTo>
                      <a:pt x="6486" y="4071"/>
                    </a:lnTo>
                    <a:lnTo>
                      <a:pt x="6471" y="4071"/>
                    </a:lnTo>
                    <a:lnTo>
                      <a:pt x="6454" y="4071"/>
                    </a:lnTo>
                    <a:lnTo>
                      <a:pt x="6438" y="4071"/>
                    </a:lnTo>
                    <a:lnTo>
                      <a:pt x="6422" y="4071"/>
                    </a:lnTo>
                    <a:lnTo>
                      <a:pt x="6406" y="4071"/>
                    </a:lnTo>
                    <a:lnTo>
                      <a:pt x="6389" y="4071"/>
                    </a:lnTo>
                    <a:lnTo>
                      <a:pt x="6372" y="4071"/>
                    </a:lnTo>
                    <a:lnTo>
                      <a:pt x="6357" y="4071"/>
                    </a:lnTo>
                    <a:lnTo>
                      <a:pt x="6340" y="4071"/>
                    </a:lnTo>
                    <a:lnTo>
                      <a:pt x="6324" y="4071"/>
                    </a:lnTo>
                    <a:lnTo>
                      <a:pt x="6307" y="4071"/>
                    </a:lnTo>
                    <a:lnTo>
                      <a:pt x="6292" y="4071"/>
                    </a:lnTo>
                    <a:lnTo>
                      <a:pt x="6275" y="4071"/>
                    </a:lnTo>
                    <a:lnTo>
                      <a:pt x="6259" y="4071"/>
                    </a:lnTo>
                    <a:lnTo>
                      <a:pt x="6242" y="4071"/>
                    </a:lnTo>
                    <a:lnTo>
                      <a:pt x="6227" y="4071"/>
                    </a:lnTo>
                    <a:lnTo>
                      <a:pt x="6210" y="4071"/>
                    </a:lnTo>
                    <a:lnTo>
                      <a:pt x="6194" y="4071"/>
                    </a:lnTo>
                    <a:lnTo>
                      <a:pt x="6177" y="4071"/>
                    </a:lnTo>
                    <a:lnTo>
                      <a:pt x="6162" y="4071"/>
                    </a:lnTo>
                    <a:lnTo>
                      <a:pt x="6145" y="4071"/>
                    </a:lnTo>
                    <a:lnTo>
                      <a:pt x="6129" y="4071"/>
                    </a:lnTo>
                    <a:lnTo>
                      <a:pt x="6112" y="4071"/>
                    </a:lnTo>
                    <a:lnTo>
                      <a:pt x="6097" y="4071"/>
                    </a:lnTo>
                    <a:lnTo>
                      <a:pt x="6080" y="4071"/>
                    </a:lnTo>
                    <a:lnTo>
                      <a:pt x="6064" y="4071"/>
                    </a:lnTo>
                    <a:lnTo>
                      <a:pt x="6048" y="4071"/>
                    </a:lnTo>
                    <a:lnTo>
                      <a:pt x="6032" y="4071"/>
                    </a:lnTo>
                    <a:lnTo>
                      <a:pt x="6015" y="4071"/>
                    </a:lnTo>
                    <a:lnTo>
                      <a:pt x="6000" y="4071"/>
                    </a:lnTo>
                    <a:lnTo>
                      <a:pt x="5983" y="4071"/>
                    </a:lnTo>
                    <a:lnTo>
                      <a:pt x="5966" y="4071"/>
                    </a:lnTo>
                    <a:lnTo>
                      <a:pt x="5950" y="4071"/>
                    </a:lnTo>
                    <a:lnTo>
                      <a:pt x="5933" y="4071"/>
                    </a:lnTo>
                    <a:lnTo>
                      <a:pt x="5918" y="4071"/>
                    </a:lnTo>
                    <a:lnTo>
                      <a:pt x="5901" y="4071"/>
                    </a:lnTo>
                    <a:lnTo>
                      <a:pt x="5885" y="4071"/>
                    </a:lnTo>
                    <a:lnTo>
                      <a:pt x="5868" y="4071"/>
                    </a:lnTo>
                    <a:lnTo>
                      <a:pt x="5853" y="4071"/>
                    </a:lnTo>
                    <a:lnTo>
                      <a:pt x="5836" y="4071"/>
                    </a:lnTo>
                    <a:lnTo>
                      <a:pt x="5820" y="4071"/>
                    </a:lnTo>
                    <a:lnTo>
                      <a:pt x="5803" y="4071"/>
                    </a:lnTo>
                    <a:lnTo>
                      <a:pt x="5788" y="4071"/>
                    </a:lnTo>
                    <a:lnTo>
                      <a:pt x="5771" y="4071"/>
                    </a:lnTo>
                    <a:lnTo>
                      <a:pt x="5755" y="4071"/>
                    </a:lnTo>
                    <a:lnTo>
                      <a:pt x="5738" y="4071"/>
                    </a:lnTo>
                    <a:lnTo>
                      <a:pt x="5723" y="4071"/>
                    </a:lnTo>
                    <a:lnTo>
                      <a:pt x="5706" y="4071"/>
                    </a:lnTo>
                    <a:lnTo>
                      <a:pt x="5690" y="4071"/>
                    </a:lnTo>
                    <a:lnTo>
                      <a:pt x="5674" y="4071"/>
                    </a:lnTo>
                    <a:lnTo>
                      <a:pt x="5658" y="4071"/>
                    </a:lnTo>
                    <a:lnTo>
                      <a:pt x="5641" y="4071"/>
                    </a:lnTo>
                    <a:lnTo>
                      <a:pt x="5626" y="4071"/>
                    </a:lnTo>
                    <a:lnTo>
                      <a:pt x="5609" y="4071"/>
                    </a:lnTo>
                    <a:lnTo>
                      <a:pt x="5593" y="4071"/>
                    </a:lnTo>
                    <a:lnTo>
                      <a:pt x="5576" y="4071"/>
                    </a:lnTo>
                    <a:lnTo>
                      <a:pt x="5561" y="4071"/>
                    </a:lnTo>
                    <a:lnTo>
                      <a:pt x="5544" y="4071"/>
                    </a:lnTo>
                    <a:lnTo>
                      <a:pt x="5527" y="4071"/>
                    </a:lnTo>
                    <a:lnTo>
                      <a:pt x="5511" y="4071"/>
                    </a:lnTo>
                    <a:lnTo>
                      <a:pt x="5494" y="4071"/>
                    </a:lnTo>
                    <a:lnTo>
                      <a:pt x="5479" y="4071"/>
                    </a:lnTo>
                    <a:lnTo>
                      <a:pt x="5462" y="4071"/>
                    </a:lnTo>
                    <a:lnTo>
                      <a:pt x="5446" y="4071"/>
                    </a:lnTo>
                    <a:lnTo>
                      <a:pt x="5429" y="4071"/>
                    </a:lnTo>
                    <a:lnTo>
                      <a:pt x="5414" y="4071"/>
                    </a:lnTo>
                    <a:lnTo>
                      <a:pt x="5397" y="4071"/>
                    </a:lnTo>
                    <a:lnTo>
                      <a:pt x="5381" y="4071"/>
                    </a:lnTo>
                    <a:lnTo>
                      <a:pt x="5364" y="4071"/>
                    </a:lnTo>
                    <a:lnTo>
                      <a:pt x="5349" y="4071"/>
                    </a:lnTo>
                    <a:lnTo>
                      <a:pt x="5332" y="4071"/>
                    </a:lnTo>
                    <a:lnTo>
                      <a:pt x="5316" y="4071"/>
                    </a:lnTo>
                    <a:lnTo>
                      <a:pt x="5300" y="4071"/>
                    </a:lnTo>
                    <a:lnTo>
                      <a:pt x="5284" y="4071"/>
                    </a:lnTo>
                    <a:lnTo>
                      <a:pt x="5267" y="4071"/>
                    </a:lnTo>
                    <a:lnTo>
                      <a:pt x="5252" y="4071"/>
                    </a:lnTo>
                    <a:lnTo>
                      <a:pt x="5235" y="4071"/>
                    </a:lnTo>
                    <a:lnTo>
                      <a:pt x="5219" y="4071"/>
                    </a:lnTo>
                    <a:lnTo>
                      <a:pt x="5202" y="4071"/>
                    </a:lnTo>
                    <a:lnTo>
                      <a:pt x="5187" y="4071"/>
                    </a:lnTo>
                    <a:lnTo>
                      <a:pt x="5170" y="4071"/>
                    </a:lnTo>
                    <a:lnTo>
                      <a:pt x="5154" y="4071"/>
                    </a:lnTo>
                    <a:lnTo>
                      <a:pt x="5137" y="4071"/>
                    </a:lnTo>
                    <a:lnTo>
                      <a:pt x="5120" y="4071"/>
                    </a:lnTo>
                    <a:lnTo>
                      <a:pt x="5105" y="4071"/>
                    </a:lnTo>
                    <a:lnTo>
                      <a:pt x="5088" y="4071"/>
                    </a:lnTo>
                    <a:lnTo>
                      <a:pt x="5072" y="4071"/>
                    </a:lnTo>
                    <a:lnTo>
                      <a:pt x="5055" y="4071"/>
                    </a:lnTo>
                    <a:lnTo>
                      <a:pt x="5040" y="4071"/>
                    </a:lnTo>
                    <a:lnTo>
                      <a:pt x="5023" y="4071"/>
                    </a:lnTo>
                    <a:lnTo>
                      <a:pt x="5007" y="4071"/>
                    </a:lnTo>
                    <a:lnTo>
                      <a:pt x="4990" y="4071"/>
                    </a:lnTo>
                    <a:lnTo>
                      <a:pt x="4975" y="4071"/>
                    </a:lnTo>
                    <a:lnTo>
                      <a:pt x="4958" y="4071"/>
                    </a:lnTo>
                    <a:lnTo>
                      <a:pt x="4942" y="4071"/>
                    </a:lnTo>
                    <a:lnTo>
                      <a:pt x="4926" y="4071"/>
                    </a:lnTo>
                    <a:lnTo>
                      <a:pt x="4910" y="4071"/>
                    </a:lnTo>
                    <a:lnTo>
                      <a:pt x="4893" y="4071"/>
                    </a:lnTo>
                    <a:lnTo>
                      <a:pt x="4878" y="4071"/>
                    </a:lnTo>
                    <a:lnTo>
                      <a:pt x="4861" y="4071"/>
                    </a:lnTo>
                    <a:lnTo>
                      <a:pt x="4845" y="4071"/>
                    </a:lnTo>
                    <a:lnTo>
                      <a:pt x="4828" y="4071"/>
                    </a:lnTo>
                    <a:lnTo>
                      <a:pt x="4813" y="4071"/>
                    </a:lnTo>
                    <a:lnTo>
                      <a:pt x="4796" y="4071"/>
                    </a:lnTo>
                    <a:lnTo>
                      <a:pt x="4780" y="4071"/>
                    </a:lnTo>
                    <a:lnTo>
                      <a:pt x="4763" y="4071"/>
                    </a:lnTo>
                    <a:lnTo>
                      <a:pt x="4748" y="4071"/>
                    </a:lnTo>
                    <a:lnTo>
                      <a:pt x="4731" y="4071"/>
                    </a:lnTo>
                    <a:lnTo>
                      <a:pt x="4715" y="4071"/>
                    </a:lnTo>
                    <a:lnTo>
                      <a:pt x="4698" y="4071"/>
                    </a:lnTo>
                    <a:lnTo>
                      <a:pt x="4681" y="4071"/>
                    </a:lnTo>
                    <a:lnTo>
                      <a:pt x="4666" y="4071"/>
                    </a:lnTo>
                    <a:lnTo>
                      <a:pt x="4649" y="4071"/>
                    </a:lnTo>
                    <a:lnTo>
                      <a:pt x="4633" y="4071"/>
                    </a:lnTo>
                    <a:lnTo>
                      <a:pt x="4616" y="4071"/>
                    </a:lnTo>
                    <a:lnTo>
                      <a:pt x="4601" y="4071"/>
                    </a:lnTo>
                    <a:lnTo>
                      <a:pt x="4584" y="4071"/>
                    </a:lnTo>
                    <a:lnTo>
                      <a:pt x="4568" y="4071"/>
                    </a:lnTo>
                    <a:lnTo>
                      <a:pt x="4552" y="4071"/>
                    </a:lnTo>
                    <a:lnTo>
                      <a:pt x="4536" y="4071"/>
                    </a:lnTo>
                    <a:lnTo>
                      <a:pt x="4519" y="4071"/>
                    </a:lnTo>
                    <a:lnTo>
                      <a:pt x="4504" y="4071"/>
                    </a:lnTo>
                    <a:lnTo>
                      <a:pt x="4487" y="4071"/>
                    </a:lnTo>
                    <a:lnTo>
                      <a:pt x="4471" y="4071"/>
                    </a:lnTo>
                    <a:lnTo>
                      <a:pt x="4454" y="4071"/>
                    </a:lnTo>
                    <a:lnTo>
                      <a:pt x="4439" y="4071"/>
                    </a:lnTo>
                    <a:lnTo>
                      <a:pt x="4422" y="4071"/>
                    </a:lnTo>
                    <a:lnTo>
                      <a:pt x="4406" y="4071"/>
                    </a:lnTo>
                    <a:lnTo>
                      <a:pt x="4389" y="4071"/>
                    </a:lnTo>
                    <a:lnTo>
                      <a:pt x="4374" y="4071"/>
                    </a:lnTo>
                    <a:lnTo>
                      <a:pt x="4357" y="4071"/>
                    </a:lnTo>
                    <a:lnTo>
                      <a:pt x="4341" y="4071"/>
                    </a:lnTo>
                    <a:lnTo>
                      <a:pt x="4324" y="4071"/>
                    </a:lnTo>
                    <a:lnTo>
                      <a:pt x="4309" y="4071"/>
                    </a:lnTo>
                    <a:lnTo>
                      <a:pt x="4292" y="4071"/>
                    </a:lnTo>
                    <a:lnTo>
                      <a:pt x="4276" y="4071"/>
                    </a:lnTo>
                    <a:lnTo>
                      <a:pt x="4259" y="4071"/>
                    </a:lnTo>
                    <a:lnTo>
                      <a:pt x="4242" y="4071"/>
                    </a:lnTo>
                    <a:lnTo>
                      <a:pt x="4227" y="4071"/>
                    </a:lnTo>
                    <a:lnTo>
                      <a:pt x="4210" y="4071"/>
                    </a:lnTo>
                    <a:lnTo>
                      <a:pt x="4194" y="4071"/>
                    </a:lnTo>
                    <a:lnTo>
                      <a:pt x="4178" y="4071"/>
                    </a:lnTo>
                    <a:lnTo>
                      <a:pt x="4162" y="4071"/>
                    </a:lnTo>
                    <a:lnTo>
                      <a:pt x="4145" y="4071"/>
                    </a:lnTo>
                    <a:lnTo>
                      <a:pt x="4130" y="4071"/>
                    </a:lnTo>
                    <a:lnTo>
                      <a:pt x="4113" y="4071"/>
                    </a:lnTo>
                    <a:lnTo>
                      <a:pt x="4097" y="4071"/>
                    </a:lnTo>
                    <a:lnTo>
                      <a:pt x="4080" y="4071"/>
                    </a:lnTo>
                    <a:lnTo>
                      <a:pt x="4065" y="4071"/>
                    </a:lnTo>
                    <a:lnTo>
                      <a:pt x="4048" y="4071"/>
                    </a:lnTo>
                    <a:lnTo>
                      <a:pt x="4032" y="4071"/>
                    </a:lnTo>
                    <a:lnTo>
                      <a:pt x="4015" y="4071"/>
                    </a:lnTo>
                    <a:lnTo>
                      <a:pt x="4000" y="4071"/>
                    </a:lnTo>
                    <a:lnTo>
                      <a:pt x="3983" y="4071"/>
                    </a:lnTo>
                    <a:lnTo>
                      <a:pt x="3967" y="4071"/>
                    </a:lnTo>
                    <a:lnTo>
                      <a:pt x="3950" y="4071"/>
                    </a:lnTo>
                    <a:lnTo>
                      <a:pt x="3935" y="4071"/>
                    </a:lnTo>
                    <a:lnTo>
                      <a:pt x="3918" y="4071"/>
                    </a:lnTo>
                    <a:lnTo>
                      <a:pt x="3902" y="4071"/>
                    </a:lnTo>
                    <a:lnTo>
                      <a:pt x="3885" y="4071"/>
                    </a:lnTo>
                    <a:lnTo>
                      <a:pt x="3870" y="4071"/>
                    </a:lnTo>
                    <a:lnTo>
                      <a:pt x="3853" y="4071"/>
                    </a:lnTo>
                    <a:lnTo>
                      <a:pt x="3836" y="4071"/>
                    </a:lnTo>
                    <a:lnTo>
                      <a:pt x="3820" y="4071"/>
                    </a:lnTo>
                    <a:lnTo>
                      <a:pt x="3804" y="4071"/>
                    </a:lnTo>
                    <a:lnTo>
                      <a:pt x="3788" y="4071"/>
                    </a:lnTo>
                    <a:lnTo>
                      <a:pt x="3771" y="4071"/>
                    </a:lnTo>
                    <a:lnTo>
                      <a:pt x="3756" y="4071"/>
                    </a:lnTo>
                    <a:lnTo>
                      <a:pt x="3739" y="4071"/>
                    </a:lnTo>
                    <a:lnTo>
                      <a:pt x="3723" y="4071"/>
                    </a:lnTo>
                    <a:lnTo>
                      <a:pt x="3706" y="4071"/>
                    </a:lnTo>
                    <a:lnTo>
                      <a:pt x="3691" y="4071"/>
                    </a:lnTo>
                    <a:lnTo>
                      <a:pt x="3674" y="4071"/>
                    </a:lnTo>
                    <a:lnTo>
                      <a:pt x="3658" y="4071"/>
                    </a:lnTo>
                    <a:lnTo>
                      <a:pt x="3641" y="4071"/>
                    </a:lnTo>
                    <a:lnTo>
                      <a:pt x="3626" y="4071"/>
                    </a:lnTo>
                    <a:lnTo>
                      <a:pt x="3609" y="4071"/>
                    </a:lnTo>
                    <a:lnTo>
                      <a:pt x="3593" y="4071"/>
                    </a:lnTo>
                    <a:lnTo>
                      <a:pt x="3576" y="4071"/>
                    </a:lnTo>
                    <a:lnTo>
                      <a:pt x="3561" y="4071"/>
                    </a:lnTo>
                    <a:lnTo>
                      <a:pt x="3544" y="4071"/>
                    </a:lnTo>
                    <a:lnTo>
                      <a:pt x="3528" y="4071"/>
                    </a:lnTo>
                    <a:lnTo>
                      <a:pt x="3511" y="4071"/>
                    </a:lnTo>
                    <a:lnTo>
                      <a:pt x="3496" y="4071"/>
                    </a:lnTo>
                    <a:lnTo>
                      <a:pt x="3479" y="4071"/>
                    </a:lnTo>
                    <a:lnTo>
                      <a:pt x="3463" y="4071"/>
                    </a:lnTo>
                    <a:lnTo>
                      <a:pt x="3446" y="4071"/>
                    </a:lnTo>
                    <a:lnTo>
                      <a:pt x="3431" y="4071"/>
                    </a:lnTo>
                    <a:lnTo>
                      <a:pt x="3414" y="4071"/>
                    </a:lnTo>
                    <a:lnTo>
                      <a:pt x="3397" y="4071"/>
                    </a:lnTo>
                    <a:lnTo>
                      <a:pt x="3382" y="4071"/>
                    </a:lnTo>
                    <a:lnTo>
                      <a:pt x="3365" y="4071"/>
                    </a:lnTo>
                    <a:lnTo>
                      <a:pt x="3349" y="4071"/>
                    </a:lnTo>
                    <a:lnTo>
                      <a:pt x="3332" y="4071"/>
                    </a:lnTo>
                    <a:lnTo>
                      <a:pt x="3317" y="4071"/>
                    </a:lnTo>
                    <a:lnTo>
                      <a:pt x="3300" y="4071"/>
                    </a:lnTo>
                    <a:lnTo>
                      <a:pt x="3284" y="4071"/>
                    </a:lnTo>
                    <a:lnTo>
                      <a:pt x="3267" y="4071"/>
                    </a:lnTo>
                    <a:lnTo>
                      <a:pt x="3252" y="4071"/>
                    </a:lnTo>
                    <a:lnTo>
                      <a:pt x="3235" y="4071"/>
                    </a:lnTo>
                    <a:lnTo>
                      <a:pt x="3219" y="4071"/>
                    </a:lnTo>
                    <a:lnTo>
                      <a:pt x="3202" y="4071"/>
                    </a:lnTo>
                    <a:lnTo>
                      <a:pt x="3187" y="4071"/>
                    </a:lnTo>
                    <a:lnTo>
                      <a:pt x="3170" y="4071"/>
                    </a:lnTo>
                    <a:lnTo>
                      <a:pt x="3154" y="4071"/>
                    </a:lnTo>
                    <a:lnTo>
                      <a:pt x="3137" y="4071"/>
                    </a:lnTo>
                    <a:lnTo>
                      <a:pt x="3122" y="4071"/>
                    </a:lnTo>
                    <a:lnTo>
                      <a:pt x="3105" y="4071"/>
                    </a:lnTo>
                    <a:lnTo>
                      <a:pt x="3089" y="4071"/>
                    </a:lnTo>
                    <a:lnTo>
                      <a:pt x="3072" y="4071"/>
                    </a:lnTo>
                    <a:lnTo>
                      <a:pt x="3057" y="4071"/>
                    </a:lnTo>
                    <a:lnTo>
                      <a:pt x="3040" y="4071"/>
                    </a:lnTo>
                    <a:lnTo>
                      <a:pt x="3024" y="4071"/>
                    </a:lnTo>
                    <a:lnTo>
                      <a:pt x="3008" y="4071"/>
                    </a:lnTo>
                    <a:lnTo>
                      <a:pt x="2992" y="4071"/>
                    </a:lnTo>
                    <a:lnTo>
                      <a:pt x="2975" y="4071"/>
                    </a:lnTo>
                    <a:lnTo>
                      <a:pt x="2958" y="4071"/>
                    </a:lnTo>
                    <a:lnTo>
                      <a:pt x="2943" y="4071"/>
                    </a:lnTo>
                    <a:lnTo>
                      <a:pt x="2926" y="4071"/>
                    </a:lnTo>
                    <a:lnTo>
                      <a:pt x="2910" y="4071"/>
                    </a:lnTo>
                    <a:lnTo>
                      <a:pt x="2893" y="4071"/>
                    </a:lnTo>
                    <a:lnTo>
                      <a:pt x="2878" y="4071"/>
                    </a:lnTo>
                    <a:lnTo>
                      <a:pt x="2861" y="4071"/>
                    </a:lnTo>
                    <a:lnTo>
                      <a:pt x="2845" y="4071"/>
                    </a:lnTo>
                    <a:lnTo>
                      <a:pt x="2828" y="4071"/>
                    </a:lnTo>
                    <a:lnTo>
                      <a:pt x="2813" y="4071"/>
                    </a:lnTo>
                    <a:lnTo>
                      <a:pt x="2796" y="4071"/>
                    </a:lnTo>
                    <a:lnTo>
                      <a:pt x="2780" y="4071"/>
                    </a:lnTo>
                    <a:lnTo>
                      <a:pt x="2763" y="4071"/>
                    </a:lnTo>
                    <a:lnTo>
                      <a:pt x="2748" y="4071"/>
                    </a:lnTo>
                    <a:lnTo>
                      <a:pt x="2731" y="4071"/>
                    </a:lnTo>
                    <a:lnTo>
                      <a:pt x="2715" y="4071"/>
                    </a:lnTo>
                    <a:lnTo>
                      <a:pt x="2698" y="4071"/>
                    </a:lnTo>
                    <a:lnTo>
                      <a:pt x="2683" y="4071"/>
                    </a:lnTo>
                    <a:lnTo>
                      <a:pt x="2666" y="4071"/>
                    </a:lnTo>
                    <a:lnTo>
                      <a:pt x="2650" y="4071"/>
                    </a:lnTo>
                    <a:lnTo>
                      <a:pt x="2634" y="4071"/>
                    </a:lnTo>
                    <a:lnTo>
                      <a:pt x="2618" y="4071"/>
                    </a:lnTo>
                    <a:lnTo>
                      <a:pt x="2601" y="4071"/>
                    </a:lnTo>
                    <a:lnTo>
                      <a:pt x="2586" y="4071"/>
                    </a:lnTo>
                    <a:lnTo>
                      <a:pt x="2569" y="4071"/>
                    </a:lnTo>
                    <a:lnTo>
                      <a:pt x="2552" y="4071"/>
                    </a:lnTo>
                    <a:lnTo>
                      <a:pt x="2536" y="4071"/>
                    </a:lnTo>
                    <a:lnTo>
                      <a:pt x="2519" y="4071"/>
                    </a:lnTo>
                    <a:lnTo>
                      <a:pt x="2504" y="4071"/>
                    </a:lnTo>
                    <a:lnTo>
                      <a:pt x="2487" y="4071"/>
                    </a:lnTo>
                    <a:lnTo>
                      <a:pt x="2471" y="4071"/>
                    </a:lnTo>
                    <a:lnTo>
                      <a:pt x="2454" y="4071"/>
                    </a:lnTo>
                    <a:lnTo>
                      <a:pt x="2439" y="4071"/>
                    </a:lnTo>
                    <a:lnTo>
                      <a:pt x="2422" y="4071"/>
                    </a:lnTo>
                    <a:lnTo>
                      <a:pt x="2406" y="4071"/>
                    </a:lnTo>
                    <a:lnTo>
                      <a:pt x="2389" y="4071"/>
                    </a:lnTo>
                    <a:lnTo>
                      <a:pt x="2374" y="4071"/>
                    </a:lnTo>
                    <a:lnTo>
                      <a:pt x="2357" y="4071"/>
                    </a:lnTo>
                    <a:lnTo>
                      <a:pt x="2341" y="4071"/>
                    </a:lnTo>
                    <a:lnTo>
                      <a:pt x="2324" y="4071"/>
                    </a:lnTo>
                    <a:lnTo>
                      <a:pt x="2309" y="4071"/>
                    </a:lnTo>
                    <a:lnTo>
                      <a:pt x="2292" y="4071"/>
                    </a:lnTo>
                    <a:lnTo>
                      <a:pt x="2276" y="4071"/>
                    </a:lnTo>
                    <a:lnTo>
                      <a:pt x="2260" y="4071"/>
                    </a:lnTo>
                    <a:lnTo>
                      <a:pt x="2244" y="4071"/>
                    </a:lnTo>
                    <a:lnTo>
                      <a:pt x="2227" y="4071"/>
                    </a:lnTo>
                    <a:lnTo>
                      <a:pt x="2212" y="4071"/>
                    </a:lnTo>
                    <a:lnTo>
                      <a:pt x="2195" y="4071"/>
                    </a:lnTo>
                    <a:lnTo>
                      <a:pt x="2179" y="4071"/>
                    </a:lnTo>
                    <a:lnTo>
                      <a:pt x="2162" y="4071"/>
                    </a:lnTo>
                    <a:lnTo>
                      <a:pt x="2147" y="4071"/>
                    </a:lnTo>
                    <a:lnTo>
                      <a:pt x="2130" y="4071"/>
                    </a:lnTo>
                    <a:lnTo>
                      <a:pt x="2113" y="4071"/>
                    </a:lnTo>
                    <a:lnTo>
                      <a:pt x="2097" y="4071"/>
                    </a:lnTo>
                    <a:lnTo>
                      <a:pt x="2080" y="4071"/>
                    </a:lnTo>
                    <a:lnTo>
                      <a:pt x="2065" y="4071"/>
                    </a:lnTo>
                    <a:lnTo>
                      <a:pt x="2048" y="4071"/>
                    </a:lnTo>
                    <a:lnTo>
                      <a:pt x="2032" y="4071"/>
                    </a:lnTo>
                    <a:lnTo>
                      <a:pt x="2015" y="4071"/>
                    </a:lnTo>
                    <a:lnTo>
                      <a:pt x="2000" y="4071"/>
                    </a:lnTo>
                    <a:lnTo>
                      <a:pt x="1983" y="4071"/>
                    </a:lnTo>
                    <a:lnTo>
                      <a:pt x="1967" y="4071"/>
                    </a:lnTo>
                    <a:lnTo>
                      <a:pt x="1950" y="4071"/>
                    </a:lnTo>
                    <a:lnTo>
                      <a:pt x="1935" y="4071"/>
                    </a:lnTo>
                    <a:lnTo>
                      <a:pt x="1918" y="4071"/>
                    </a:lnTo>
                    <a:lnTo>
                      <a:pt x="1902" y="4071"/>
                    </a:lnTo>
                    <a:lnTo>
                      <a:pt x="1886" y="4071"/>
                    </a:lnTo>
                    <a:lnTo>
                      <a:pt x="1870" y="4071"/>
                    </a:lnTo>
                    <a:lnTo>
                      <a:pt x="1853" y="4071"/>
                    </a:lnTo>
                    <a:lnTo>
                      <a:pt x="1838" y="4071"/>
                    </a:lnTo>
                    <a:lnTo>
                      <a:pt x="1821" y="4071"/>
                    </a:lnTo>
                    <a:lnTo>
                      <a:pt x="1805" y="4071"/>
                    </a:lnTo>
                    <a:lnTo>
                      <a:pt x="1788" y="4071"/>
                    </a:lnTo>
                    <a:lnTo>
                      <a:pt x="1773" y="4071"/>
                    </a:lnTo>
                    <a:lnTo>
                      <a:pt x="1756" y="4071"/>
                    </a:lnTo>
                    <a:lnTo>
                      <a:pt x="1740" y="4071"/>
                    </a:lnTo>
                    <a:lnTo>
                      <a:pt x="1723" y="4071"/>
                    </a:lnTo>
                    <a:lnTo>
                      <a:pt x="1706" y="4071"/>
                    </a:lnTo>
                    <a:lnTo>
                      <a:pt x="1691" y="4071"/>
                    </a:lnTo>
                    <a:lnTo>
                      <a:pt x="1674" y="4071"/>
                    </a:lnTo>
                    <a:lnTo>
                      <a:pt x="1658" y="4071"/>
                    </a:lnTo>
                    <a:lnTo>
                      <a:pt x="1641" y="4071"/>
                    </a:lnTo>
                    <a:lnTo>
                      <a:pt x="1626" y="4071"/>
                    </a:lnTo>
                    <a:lnTo>
                      <a:pt x="1609" y="4071"/>
                    </a:lnTo>
                    <a:lnTo>
                      <a:pt x="1593" y="4071"/>
                    </a:lnTo>
                    <a:lnTo>
                      <a:pt x="1576" y="4071"/>
                    </a:lnTo>
                    <a:lnTo>
                      <a:pt x="1561" y="4071"/>
                    </a:lnTo>
                    <a:lnTo>
                      <a:pt x="1544" y="4071"/>
                    </a:lnTo>
                    <a:lnTo>
                      <a:pt x="1528" y="4071"/>
                    </a:lnTo>
                    <a:lnTo>
                      <a:pt x="1512" y="4071"/>
                    </a:lnTo>
                    <a:lnTo>
                      <a:pt x="1496" y="4071"/>
                    </a:lnTo>
                    <a:lnTo>
                      <a:pt x="1479" y="4071"/>
                    </a:lnTo>
                    <a:lnTo>
                      <a:pt x="1464" y="4071"/>
                    </a:lnTo>
                    <a:lnTo>
                      <a:pt x="1447" y="4071"/>
                    </a:lnTo>
                    <a:lnTo>
                      <a:pt x="1431" y="4071"/>
                    </a:lnTo>
                    <a:lnTo>
                      <a:pt x="1414" y="4071"/>
                    </a:lnTo>
                    <a:lnTo>
                      <a:pt x="1399" y="4071"/>
                    </a:lnTo>
                    <a:lnTo>
                      <a:pt x="1382" y="4071"/>
                    </a:lnTo>
                    <a:lnTo>
                      <a:pt x="1366" y="4071"/>
                    </a:lnTo>
                    <a:lnTo>
                      <a:pt x="1349" y="4071"/>
                    </a:lnTo>
                    <a:lnTo>
                      <a:pt x="1334" y="4071"/>
                    </a:lnTo>
                    <a:lnTo>
                      <a:pt x="1317" y="4071"/>
                    </a:lnTo>
                    <a:lnTo>
                      <a:pt x="1301" y="4071"/>
                    </a:lnTo>
                    <a:lnTo>
                      <a:pt x="1284" y="4071"/>
                    </a:lnTo>
                    <a:lnTo>
                      <a:pt x="1267" y="4071"/>
                    </a:lnTo>
                    <a:lnTo>
                      <a:pt x="1252" y="4071"/>
                    </a:lnTo>
                    <a:lnTo>
                      <a:pt x="1235" y="4071"/>
                    </a:lnTo>
                    <a:lnTo>
                      <a:pt x="1219" y="4071"/>
                    </a:lnTo>
                    <a:lnTo>
                      <a:pt x="1202" y="4071"/>
                    </a:lnTo>
                    <a:lnTo>
                      <a:pt x="1187" y="4071"/>
                    </a:lnTo>
                    <a:lnTo>
                      <a:pt x="1170" y="4071"/>
                    </a:lnTo>
                    <a:lnTo>
                      <a:pt x="1154" y="4071"/>
                    </a:lnTo>
                    <a:lnTo>
                      <a:pt x="1138" y="4071"/>
                    </a:lnTo>
                    <a:lnTo>
                      <a:pt x="1122" y="4071"/>
                    </a:lnTo>
                    <a:lnTo>
                      <a:pt x="1105" y="4071"/>
                    </a:lnTo>
                    <a:lnTo>
                      <a:pt x="1090" y="4071"/>
                    </a:lnTo>
                    <a:lnTo>
                      <a:pt x="1073" y="4071"/>
                    </a:lnTo>
                    <a:lnTo>
                      <a:pt x="1057" y="4071"/>
                    </a:lnTo>
                    <a:lnTo>
                      <a:pt x="1040" y="4071"/>
                    </a:lnTo>
                    <a:lnTo>
                      <a:pt x="1025" y="4071"/>
                    </a:lnTo>
                    <a:lnTo>
                      <a:pt x="1008" y="4071"/>
                    </a:lnTo>
                    <a:lnTo>
                      <a:pt x="992" y="4071"/>
                    </a:lnTo>
                    <a:lnTo>
                      <a:pt x="975" y="4071"/>
                    </a:lnTo>
                    <a:lnTo>
                      <a:pt x="960" y="4071"/>
                    </a:lnTo>
                    <a:lnTo>
                      <a:pt x="943" y="4071"/>
                    </a:lnTo>
                    <a:lnTo>
                      <a:pt x="927" y="4071"/>
                    </a:lnTo>
                    <a:lnTo>
                      <a:pt x="910" y="4071"/>
                    </a:lnTo>
                    <a:lnTo>
                      <a:pt x="895" y="4071"/>
                    </a:lnTo>
                    <a:lnTo>
                      <a:pt x="878" y="4071"/>
                    </a:lnTo>
                    <a:lnTo>
                      <a:pt x="862" y="4071"/>
                    </a:lnTo>
                    <a:lnTo>
                      <a:pt x="845" y="4071"/>
                    </a:lnTo>
                    <a:lnTo>
                      <a:pt x="828" y="4071"/>
                    </a:lnTo>
                    <a:lnTo>
                      <a:pt x="813" y="4071"/>
                    </a:lnTo>
                    <a:lnTo>
                      <a:pt x="796" y="4071"/>
                    </a:lnTo>
                    <a:lnTo>
                      <a:pt x="780" y="4071"/>
                    </a:lnTo>
                    <a:lnTo>
                      <a:pt x="764" y="4071"/>
                    </a:lnTo>
                    <a:lnTo>
                      <a:pt x="748" y="4071"/>
                    </a:lnTo>
                    <a:lnTo>
                      <a:pt x="731" y="4071"/>
                    </a:lnTo>
                    <a:lnTo>
                      <a:pt x="716" y="4071"/>
                    </a:lnTo>
                    <a:lnTo>
                      <a:pt x="699" y="4071"/>
                    </a:lnTo>
                    <a:lnTo>
                      <a:pt x="683" y="4071"/>
                    </a:lnTo>
                    <a:lnTo>
                      <a:pt x="666" y="4071"/>
                    </a:lnTo>
                    <a:lnTo>
                      <a:pt x="651" y="4071"/>
                    </a:lnTo>
                    <a:lnTo>
                      <a:pt x="634" y="4071"/>
                    </a:lnTo>
                    <a:lnTo>
                      <a:pt x="618" y="4071"/>
                    </a:lnTo>
                    <a:lnTo>
                      <a:pt x="601" y="4071"/>
                    </a:lnTo>
                    <a:lnTo>
                      <a:pt x="586" y="4071"/>
                    </a:lnTo>
                    <a:lnTo>
                      <a:pt x="569" y="4071"/>
                    </a:lnTo>
                    <a:lnTo>
                      <a:pt x="553" y="4071"/>
                    </a:lnTo>
                    <a:lnTo>
                      <a:pt x="536" y="4071"/>
                    </a:lnTo>
                    <a:lnTo>
                      <a:pt x="521" y="4071"/>
                    </a:lnTo>
                    <a:lnTo>
                      <a:pt x="504" y="4071"/>
                    </a:lnTo>
                    <a:lnTo>
                      <a:pt x="488" y="4071"/>
                    </a:lnTo>
                    <a:lnTo>
                      <a:pt x="471" y="4071"/>
                    </a:lnTo>
                    <a:lnTo>
                      <a:pt x="456" y="4071"/>
                    </a:lnTo>
                    <a:lnTo>
                      <a:pt x="439" y="4071"/>
                    </a:lnTo>
                    <a:lnTo>
                      <a:pt x="422" y="4071"/>
                    </a:lnTo>
                    <a:lnTo>
                      <a:pt x="406" y="4071"/>
                    </a:lnTo>
                    <a:lnTo>
                      <a:pt x="390" y="4071"/>
                    </a:lnTo>
                    <a:lnTo>
                      <a:pt x="374" y="4071"/>
                    </a:lnTo>
                    <a:lnTo>
                      <a:pt x="357" y="4071"/>
                    </a:lnTo>
                    <a:lnTo>
                      <a:pt x="342" y="4071"/>
                    </a:lnTo>
                    <a:lnTo>
                      <a:pt x="325" y="4071"/>
                    </a:lnTo>
                    <a:lnTo>
                      <a:pt x="309" y="4071"/>
                    </a:lnTo>
                    <a:lnTo>
                      <a:pt x="292" y="4071"/>
                    </a:lnTo>
                    <a:lnTo>
                      <a:pt x="277" y="4071"/>
                    </a:lnTo>
                    <a:lnTo>
                      <a:pt x="260" y="4071"/>
                    </a:lnTo>
                    <a:lnTo>
                      <a:pt x="244" y="4071"/>
                    </a:lnTo>
                    <a:lnTo>
                      <a:pt x="227" y="4071"/>
                    </a:lnTo>
                    <a:lnTo>
                      <a:pt x="212" y="4071"/>
                    </a:lnTo>
                    <a:lnTo>
                      <a:pt x="195" y="4071"/>
                    </a:lnTo>
                    <a:lnTo>
                      <a:pt x="179" y="4071"/>
                    </a:lnTo>
                    <a:lnTo>
                      <a:pt x="162" y="4071"/>
                    </a:lnTo>
                    <a:lnTo>
                      <a:pt x="147" y="4071"/>
                    </a:lnTo>
                    <a:lnTo>
                      <a:pt x="130" y="4071"/>
                    </a:lnTo>
                    <a:lnTo>
                      <a:pt x="114" y="4071"/>
                    </a:lnTo>
                    <a:lnTo>
                      <a:pt x="97" y="4071"/>
                    </a:lnTo>
                    <a:lnTo>
                      <a:pt x="82" y="4071"/>
                    </a:lnTo>
                    <a:lnTo>
                      <a:pt x="65" y="4071"/>
                    </a:lnTo>
                    <a:lnTo>
                      <a:pt x="49" y="4071"/>
                    </a:lnTo>
                    <a:lnTo>
                      <a:pt x="32" y="4071"/>
                    </a:lnTo>
                    <a:lnTo>
                      <a:pt x="17" y="4071"/>
                    </a:lnTo>
                    <a:lnTo>
                      <a:pt x="0" y="40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306360" y="362160"/>
                <a:ext cx="700560" cy="389880"/>
              </a:xfrm>
              <a:custGeom>
                <a:avLst/>
                <a:gdLst/>
                <a:ahLst/>
                <a:rect l="l" t="t" r="r" b="b"/>
                <a:pathLst>
                  <a:path w="8112" h="4071">
                    <a:moveTo>
                      <a:pt x="0" y="4071"/>
                    </a:moveTo>
                    <a:lnTo>
                      <a:pt x="0" y="4071"/>
                    </a:lnTo>
                    <a:lnTo>
                      <a:pt x="17" y="4054"/>
                    </a:lnTo>
                    <a:lnTo>
                      <a:pt x="32" y="4021"/>
                    </a:lnTo>
                    <a:lnTo>
                      <a:pt x="49" y="3979"/>
                    </a:lnTo>
                    <a:lnTo>
                      <a:pt x="65" y="3928"/>
                    </a:lnTo>
                    <a:lnTo>
                      <a:pt x="82" y="3868"/>
                    </a:lnTo>
                    <a:lnTo>
                      <a:pt x="97" y="3809"/>
                    </a:lnTo>
                    <a:lnTo>
                      <a:pt x="114" y="3751"/>
                    </a:lnTo>
                    <a:lnTo>
                      <a:pt x="130" y="3683"/>
                    </a:lnTo>
                    <a:lnTo>
                      <a:pt x="147" y="3616"/>
                    </a:lnTo>
                    <a:lnTo>
                      <a:pt x="162" y="3548"/>
                    </a:lnTo>
                    <a:lnTo>
                      <a:pt x="179" y="3472"/>
                    </a:lnTo>
                    <a:lnTo>
                      <a:pt x="195" y="3404"/>
                    </a:lnTo>
                    <a:lnTo>
                      <a:pt x="212" y="3329"/>
                    </a:lnTo>
                    <a:lnTo>
                      <a:pt x="227" y="3252"/>
                    </a:lnTo>
                    <a:lnTo>
                      <a:pt x="244" y="3176"/>
                    </a:lnTo>
                    <a:lnTo>
                      <a:pt x="260" y="3108"/>
                    </a:lnTo>
                    <a:lnTo>
                      <a:pt x="277" y="3033"/>
                    </a:lnTo>
                    <a:lnTo>
                      <a:pt x="292" y="2956"/>
                    </a:lnTo>
                    <a:lnTo>
                      <a:pt x="309" y="2881"/>
                    </a:lnTo>
                    <a:lnTo>
                      <a:pt x="325" y="2804"/>
                    </a:lnTo>
                    <a:lnTo>
                      <a:pt x="342" y="2728"/>
                    </a:lnTo>
                    <a:lnTo>
                      <a:pt x="357" y="2653"/>
                    </a:lnTo>
                    <a:lnTo>
                      <a:pt x="374" y="2576"/>
                    </a:lnTo>
                    <a:lnTo>
                      <a:pt x="390" y="2501"/>
                    </a:lnTo>
                    <a:lnTo>
                      <a:pt x="406" y="2432"/>
                    </a:lnTo>
                    <a:lnTo>
                      <a:pt x="422" y="2357"/>
                    </a:lnTo>
                    <a:lnTo>
                      <a:pt x="439" y="2289"/>
                    </a:lnTo>
                    <a:lnTo>
                      <a:pt x="456" y="2213"/>
                    </a:lnTo>
                    <a:lnTo>
                      <a:pt x="471" y="2145"/>
                    </a:lnTo>
                    <a:lnTo>
                      <a:pt x="488" y="2079"/>
                    </a:lnTo>
                    <a:lnTo>
                      <a:pt x="504" y="2010"/>
                    </a:lnTo>
                    <a:lnTo>
                      <a:pt x="521" y="1944"/>
                    </a:lnTo>
                    <a:lnTo>
                      <a:pt x="536" y="1875"/>
                    </a:lnTo>
                    <a:lnTo>
                      <a:pt x="553" y="1807"/>
                    </a:lnTo>
                    <a:lnTo>
                      <a:pt x="569" y="1749"/>
                    </a:lnTo>
                    <a:lnTo>
                      <a:pt x="586" y="1681"/>
                    </a:lnTo>
                    <a:lnTo>
                      <a:pt x="601" y="1622"/>
                    </a:lnTo>
                    <a:lnTo>
                      <a:pt x="618" y="1562"/>
                    </a:lnTo>
                    <a:lnTo>
                      <a:pt x="634" y="1504"/>
                    </a:lnTo>
                    <a:lnTo>
                      <a:pt x="651" y="1445"/>
                    </a:lnTo>
                    <a:lnTo>
                      <a:pt x="666" y="1385"/>
                    </a:lnTo>
                    <a:lnTo>
                      <a:pt x="683" y="1334"/>
                    </a:lnTo>
                    <a:lnTo>
                      <a:pt x="699" y="1275"/>
                    </a:lnTo>
                    <a:lnTo>
                      <a:pt x="716" y="1226"/>
                    </a:lnTo>
                    <a:lnTo>
                      <a:pt x="731" y="1175"/>
                    </a:lnTo>
                    <a:lnTo>
                      <a:pt x="748" y="1124"/>
                    </a:lnTo>
                    <a:lnTo>
                      <a:pt x="764" y="1073"/>
                    </a:lnTo>
                    <a:lnTo>
                      <a:pt x="780" y="1023"/>
                    </a:lnTo>
                    <a:lnTo>
                      <a:pt x="796" y="981"/>
                    </a:lnTo>
                    <a:lnTo>
                      <a:pt x="813" y="930"/>
                    </a:lnTo>
                    <a:lnTo>
                      <a:pt x="828" y="888"/>
                    </a:lnTo>
                    <a:lnTo>
                      <a:pt x="845" y="844"/>
                    </a:lnTo>
                    <a:lnTo>
                      <a:pt x="862" y="802"/>
                    </a:lnTo>
                    <a:lnTo>
                      <a:pt x="878" y="760"/>
                    </a:lnTo>
                    <a:lnTo>
                      <a:pt x="895" y="727"/>
                    </a:lnTo>
                    <a:lnTo>
                      <a:pt x="910" y="685"/>
                    </a:lnTo>
                    <a:lnTo>
                      <a:pt x="927" y="651"/>
                    </a:lnTo>
                    <a:lnTo>
                      <a:pt x="943" y="608"/>
                    </a:lnTo>
                    <a:lnTo>
                      <a:pt x="960" y="574"/>
                    </a:lnTo>
                    <a:lnTo>
                      <a:pt x="975" y="541"/>
                    </a:lnTo>
                    <a:lnTo>
                      <a:pt x="992" y="508"/>
                    </a:lnTo>
                    <a:lnTo>
                      <a:pt x="1008" y="482"/>
                    </a:lnTo>
                    <a:lnTo>
                      <a:pt x="1025" y="448"/>
                    </a:lnTo>
                    <a:lnTo>
                      <a:pt x="1040" y="422"/>
                    </a:lnTo>
                    <a:lnTo>
                      <a:pt x="1057" y="389"/>
                    </a:lnTo>
                    <a:lnTo>
                      <a:pt x="1073" y="364"/>
                    </a:lnTo>
                    <a:lnTo>
                      <a:pt x="1090" y="338"/>
                    </a:lnTo>
                    <a:lnTo>
                      <a:pt x="1105" y="313"/>
                    </a:lnTo>
                    <a:lnTo>
                      <a:pt x="1122" y="287"/>
                    </a:lnTo>
                    <a:lnTo>
                      <a:pt x="1138" y="271"/>
                    </a:lnTo>
                    <a:lnTo>
                      <a:pt x="1154" y="245"/>
                    </a:lnTo>
                    <a:lnTo>
                      <a:pt x="1170" y="228"/>
                    </a:lnTo>
                    <a:lnTo>
                      <a:pt x="1187" y="203"/>
                    </a:lnTo>
                    <a:lnTo>
                      <a:pt x="1202" y="186"/>
                    </a:lnTo>
                    <a:lnTo>
                      <a:pt x="1219" y="170"/>
                    </a:lnTo>
                    <a:lnTo>
                      <a:pt x="1235" y="152"/>
                    </a:lnTo>
                    <a:lnTo>
                      <a:pt x="1252" y="135"/>
                    </a:lnTo>
                    <a:lnTo>
                      <a:pt x="1267" y="128"/>
                    </a:lnTo>
                    <a:lnTo>
                      <a:pt x="1284" y="110"/>
                    </a:lnTo>
                    <a:lnTo>
                      <a:pt x="1301" y="93"/>
                    </a:lnTo>
                    <a:lnTo>
                      <a:pt x="1317" y="84"/>
                    </a:lnTo>
                    <a:lnTo>
                      <a:pt x="1334" y="77"/>
                    </a:lnTo>
                    <a:lnTo>
                      <a:pt x="1349" y="60"/>
                    </a:lnTo>
                    <a:lnTo>
                      <a:pt x="1366" y="51"/>
                    </a:lnTo>
                    <a:lnTo>
                      <a:pt x="1382" y="42"/>
                    </a:lnTo>
                    <a:lnTo>
                      <a:pt x="1399" y="33"/>
                    </a:lnTo>
                    <a:lnTo>
                      <a:pt x="1414" y="33"/>
                    </a:lnTo>
                    <a:lnTo>
                      <a:pt x="1431" y="26"/>
                    </a:lnTo>
                    <a:lnTo>
                      <a:pt x="1447" y="17"/>
                    </a:lnTo>
                    <a:lnTo>
                      <a:pt x="1464" y="17"/>
                    </a:lnTo>
                    <a:lnTo>
                      <a:pt x="1479" y="9"/>
                    </a:lnTo>
                    <a:lnTo>
                      <a:pt x="1496" y="9"/>
                    </a:lnTo>
                    <a:lnTo>
                      <a:pt x="1512" y="9"/>
                    </a:lnTo>
                    <a:lnTo>
                      <a:pt x="1528" y="0"/>
                    </a:lnTo>
                    <a:lnTo>
                      <a:pt x="1544" y="0"/>
                    </a:lnTo>
                    <a:lnTo>
                      <a:pt x="1561" y="0"/>
                    </a:lnTo>
                    <a:lnTo>
                      <a:pt x="1576" y="0"/>
                    </a:lnTo>
                    <a:lnTo>
                      <a:pt x="1593" y="0"/>
                    </a:lnTo>
                    <a:lnTo>
                      <a:pt x="1609" y="9"/>
                    </a:lnTo>
                    <a:lnTo>
                      <a:pt x="1626" y="9"/>
                    </a:lnTo>
                    <a:lnTo>
                      <a:pt x="1641" y="9"/>
                    </a:lnTo>
                    <a:lnTo>
                      <a:pt x="1658" y="17"/>
                    </a:lnTo>
                    <a:lnTo>
                      <a:pt x="1674" y="17"/>
                    </a:lnTo>
                    <a:lnTo>
                      <a:pt x="1691" y="26"/>
                    </a:lnTo>
                    <a:lnTo>
                      <a:pt x="1706" y="26"/>
                    </a:lnTo>
                    <a:lnTo>
                      <a:pt x="1723" y="33"/>
                    </a:lnTo>
                    <a:lnTo>
                      <a:pt x="1740" y="42"/>
                    </a:lnTo>
                    <a:lnTo>
                      <a:pt x="1756" y="42"/>
                    </a:lnTo>
                    <a:lnTo>
                      <a:pt x="1773" y="51"/>
                    </a:lnTo>
                    <a:lnTo>
                      <a:pt x="1788" y="60"/>
                    </a:lnTo>
                    <a:lnTo>
                      <a:pt x="1805" y="68"/>
                    </a:lnTo>
                    <a:lnTo>
                      <a:pt x="1821" y="77"/>
                    </a:lnTo>
                    <a:lnTo>
                      <a:pt x="1838" y="84"/>
                    </a:lnTo>
                    <a:lnTo>
                      <a:pt x="1853" y="93"/>
                    </a:lnTo>
                    <a:lnTo>
                      <a:pt x="1870" y="110"/>
                    </a:lnTo>
                    <a:lnTo>
                      <a:pt x="1886" y="119"/>
                    </a:lnTo>
                    <a:lnTo>
                      <a:pt x="1902" y="128"/>
                    </a:lnTo>
                    <a:lnTo>
                      <a:pt x="1918" y="135"/>
                    </a:lnTo>
                    <a:lnTo>
                      <a:pt x="1935" y="152"/>
                    </a:lnTo>
                    <a:lnTo>
                      <a:pt x="1950" y="161"/>
                    </a:lnTo>
                    <a:lnTo>
                      <a:pt x="1967" y="177"/>
                    </a:lnTo>
                    <a:lnTo>
                      <a:pt x="1983" y="186"/>
                    </a:lnTo>
                    <a:lnTo>
                      <a:pt x="2000" y="203"/>
                    </a:lnTo>
                    <a:lnTo>
                      <a:pt x="2015" y="212"/>
                    </a:lnTo>
                    <a:lnTo>
                      <a:pt x="2032" y="228"/>
                    </a:lnTo>
                    <a:lnTo>
                      <a:pt x="2048" y="245"/>
                    </a:lnTo>
                    <a:lnTo>
                      <a:pt x="2065" y="254"/>
                    </a:lnTo>
                    <a:lnTo>
                      <a:pt x="2080" y="271"/>
                    </a:lnTo>
                    <a:lnTo>
                      <a:pt x="2097" y="287"/>
                    </a:lnTo>
                    <a:lnTo>
                      <a:pt x="2113" y="305"/>
                    </a:lnTo>
                    <a:lnTo>
                      <a:pt x="2130" y="313"/>
                    </a:lnTo>
                    <a:lnTo>
                      <a:pt x="2147" y="329"/>
                    </a:lnTo>
                    <a:lnTo>
                      <a:pt x="2162" y="347"/>
                    </a:lnTo>
                    <a:lnTo>
                      <a:pt x="2179" y="364"/>
                    </a:lnTo>
                    <a:lnTo>
                      <a:pt x="2195" y="380"/>
                    </a:lnTo>
                    <a:lnTo>
                      <a:pt x="2212" y="397"/>
                    </a:lnTo>
                    <a:lnTo>
                      <a:pt x="2227" y="413"/>
                    </a:lnTo>
                    <a:lnTo>
                      <a:pt x="2244" y="431"/>
                    </a:lnTo>
                    <a:lnTo>
                      <a:pt x="2260" y="448"/>
                    </a:lnTo>
                    <a:lnTo>
                      <a:pt x="2276" y="464"/>
                    </a:lnTo>
                    <a:lnTo>
                      <a:pt x="2292" y="482"/>
                    </a:lnTo>
                    <a:lnTo>
                      <a:pt x="2309" y="508"/>
                    </a:lnTo>
                    <a:lnTo>
                      <a:pt x="2324" y="524"/>
                    </a:lnTo>
                    <a:lnTo>
                      <a:pt x="2341" y="541"/>
                    </a:lnTo>
                    <a:lnTo>
                      <a:pt x="2357" y="557"/>
                    </a:lnTo>
                    <a:lnTo>
                      <a:pt x="2374" y="574"/>
                    </a:lnTo>
                    <a:lnTo>
                      <a:pt x="2389" y="601"/>
                    </a:lnTo>
                    <a:lnTo>
                      <a:pt x="2406" y="616"/>
                    </a:lnTo>
                    <a:lnTo>
                      <a:pt x="2422" y="634"/>
                    </a:lnTo>
                    <a:lnTo>
                      <a:pt x="2439" y="651"/>
                    </a:lnTo>
                    <a:lnTo>
                      <a:pt x="2454" y="676"/>
                    </a:lnTo>
                    <a:lnTo>
                      <a:pt x="2471" y="693"/>
                    </a:lnTo>
                    <a:lnTo>
                      <a:pt x="2487" y="709"/>
                    </a:lnTo>
                    <a:lnTo>
                      <a:pt x="2504" y="727"/>
                    </a:lnTo>
                    <a:lnTo>
                      <a:pt x="2519" y="751"/>
                    </a:lnTo>
                    <a:lnTo>
                      <a:pt x="2536" y="769"/>
                    </a:lnTo>
                    <a:lnTo>
                      <a:pt x="2552" y="795"/>
                    </a:lnTo>
                    <a:lnTo>
                      <a:pt x="2569" y="811"/>
                    </a:lnTo>
                    <a:lnTo>
                      <a:pt x="2586" y="828"/>
                    </a:lnTo>
                    <a:lnTo>
                      <a:pt x="2601" y="853"/>
                    </a:lnTo>
                    <a:lnTo>
                      <a:pt x="2618" y="870"/>
                    </a:lnTo>
                    <a:lnTo>
                      <a:pt x="2634" y="888"/>
                    </a:lnTo>
                    <a:lnTo>
                      <a:pt x="2650" y="912"/>
                    </a:lnTo>
                    <a:lnTo>
                      <a:pt x="2666" y="930"/>
                    </a:lnTo>
                    <a:lnTo>
                      <a:pt x="2683" y="954"/>
                    </a:lnTo>
                    <a:lnTo>
                      <a:pt x="2698" y="972"/>
                    </a:lnTo>
                    <a:lnTo>
                      <a:pt x="2715" y="988"/>
                    </a:lnTo>
                    <a:lnTo>
                      <a:pt x="2731" y="1014"/>
                    </a:lnTo>
                    <a:lnTo>
                      <a:pt x="2748" y="1031"/>
                    </a:lnTo>
                    <a:lnTo>
                      <a:pt x="2763" y="1056"/>
                    </a:lnTo>
                    <a:lnTo>
                      <a:pt x="2780" y="1073"/>
                    </a:lnTo>
                    <a:lnTo>
                      <a:pt x="2796" y="1098"/>
                    </a:lnTo>
                    <a:lnTo>
                      <a:pt x="2813" y="1115"/>
                    </a:lnTo>
                    <a:lnTo>
                      <a:pt x="2828" y="1131"/>
                    </a:lnTo>
                    <a:lnTo>
                      <a:pt x="2845" y="1157"/>
                    </a:lnTo>
                    <a:lnTo>
                      <a:pt x="2861" y="1175"/>
                    </a:lnTo>
                    <a:lnTo>
                      <a:pt x="2878" y="1200"/>
                    </a:lnTo>
                    <a:lnTo>
                      <a:pt x="2893" y="1217"/>
                    </a:lnTo>
                    <a:lnTo>
                      <a:pt x="2910" y="1242"/>
                    </a:lnTo>
                    <a:lnTo>
                      <a:pt x="2926" y="1259"/>
                    </a:lnTo>
                    <a:lnTo>
                      <a:pt x="2943" y="1275"/>
                    </a:lnTo>
                    <a:lnTo>
                      <a:pt x="2958" y="1301"/>
                    </a:lnTo>
                    <a:lnTo>
                      <a:pt x="2975" y="1318"/>
                    </a:lnTo>
                    <a:lnTo>
                      <a:pt x="2992" y="1343"/>
                    </a:lnTo>
                    <a:lnTo>
                      <a:pt x="3008" y="1361"/>
                    </a:lnTo>
                    <a:lnTo>
                      <a:pt x="3024" y="1385"/>
                    </a:lnTo>
                    <a:lnTo>
                      <a:pt x="3040" y="1403"/>
                    </a:lnTo>
                    <a:lnTo>
                      <a:pt x="3057" y="1419"/>
                    </a:lnTo>
                    <a:lnTo>
                      <a:pt x="3072" y="1445"/>
                    </a:lnTo>
                    <a:lnTo>
                      <a:pt x="3089" y="1462"/>
                    </a:lnTo>
                    <a:lnTo>
                      <a:pt x="3105" y="1487"/>
                    </a:lnTo>
                    <a:lnTo>
                      <a:pt x="3122" y="1504"/>
                    </a:lnTo>
                    <a:lnTo>
                      <a:pt x="3137" y="1520"/>
                    </a:lnTo>
                    <a:lnTo>
                      <a:pt x="3154" y="1546"/>
                    </a:lnTo>
                    <a:lnTo>
                      <a:pt x="3170" y="1562"/>
                    </a:lnTo>
                    <a:lnTo>
                      <a:pt x="3187" y="1580"/>
                    </a:lnTo>
                    <a:lnTo>
                      <a:pt x="3202" y="1606"/>
                    </a:lnTo>
                    <a:lnTo>
                      <a:pt x="3219" y="1622"/>
                    </a:lnTo>
                    <a:lnTo>
                      <a:pt x="3235" y="1639"/>
                    </a:lnTo>
                    <a:lnTo>
                      <a:pt x="3252" y="1664"/>
                    </a:lnTo>
                    <a:lnTo>
                      <a:pt x="3267" y="1681"/>
                    </a:lnTo>
                    <a:lnTo>
                      <a:pt x="3284" y="1699"/>
                    </a:lnTo>
                    <a:lnTo>
                      <a:pt x="3300" y="1723"/>
                    </a:lnTo>
                    <a:lnTo>
                      <a:pt x="3317" y="1741"/>
                    </a:lnTo>
                    <a:lnTo>
                      <a:pt x="3332" y="1757"/>
                    </a:lnTo>
                    <a:lnTo>
                      <a:pt x="3349" y="1774"/>
                    </a:lnTo>
                    <a:lnTo>
                      <a:pt x="3365" y="1800"/>
                    </a:lnTo>
                    <a:lnTo>
                      <a:pt x="3382" y="1816"/>
                    </a:lnTo>
                    <a:lnTo>
                      <a:pt x="3397" y="1833"/>
                    </a:lnTo>
                    <a:lnTo>
                      <a:pt x="3414" y="1849"/>
                    </a:lnTo>
                    <a:lnTo>
                      <a:pt x="3431" y="1875"/>
                    </a:lnTo>
                    <a:lnTo>
                      <a:pt x="3446" y="1893"/>
                    </a:lnTo>
                    <a:lnTo>
                      <a:pt x="3463" y="1909"/>
                    </a:lnTo>
                    <a:lnTo>
                      <a:pt x="3479" y="1926"/>
                    </a:lnTo>
                    <a:lnTo>
                      <a:pt x="3496" y="1944"/>
                    </a:lnTo>
                    <a:lnTo>
                      <a:pt x="3511" y="1968"/>
                    </a:lnTo>
                    <a:lnTo>
                      <a:pt x="3528" y="1986"/>
                    </a:lnTo>
                    <a:lnTo>
                      <a:pt x="3544" y="2002"/>
                    </a:lnTo>
                    <a:lnTo>
                      <a:pt x="3561" y="2019"/>
                    </a:lnTo>
                    <a:lnTo>
                      <a:pt x="3576" y="2036"/>
                    </a:lnTo>
                    <a:lnTo>
                      <a:pt x="3593" y="2052"/>
                    </a:lnTo>
                    <a:lnTo>
                      <a:pt x="3609" y="2070"/>
                    </a:lnTo>
                    <a:lnTo>
                      <a:pt x="3626" y="2094"/>
                    </a:lnTo>
                    <a:lnTo>
                      <a:pt x="3641" y="2112"/>
                    </a:lnTo>
                    <a:lnTo>
                      <a:pt x="3658" y="2129"/>
                    </a:lnTo>
                    <a:lnTo>
                      <a:pt x="3674" y="2145"/>
                    </a:lnTo>
                    <a:lnTo>
                      <a:pt x="3691" y="2163"/>
                    </a:lnTo>
                    <a:lnTo>
                      <a:pt x="3706" y="2180"/>
                    </a:lnTo>
                    <a:lnTo>
                      <a:pt x="3723" y="2196"/>
                    </a:lnTo>
                    <a:lnTo>
                      <a:pt x="3739" y="2213"/>
                    </a:lnTo>
                    <a:lnTo>
                      <a:pt x="3756" y="2231"/>
                    </a:lnTo>
                    <a:lnTo>
                      <a:pt x="3771" y="2247"/>
                    </a:lnTo>
                    <a:lnTo>
                      <a:pt x="3788" y="2264"/>
                    </a:lnTo>
                    <a:lnTo>
                      <a:pt x="3804" y="2280"/>
                    </a:lnTo>
                    <a:lnTo>
                      <a:pt x="3820" y="2298"/>
                    </a:lnTo>
                    <a:lnTo>
                      <a:pt x="3836" y="2315"/>
                    </a:lnTo>
                    <a:lnTo>
                      <a:pt x="3853" y="2331"/>
                    </a:lnTo>
                    <a:lnTo>
                      <a:pt x="3870" y="2340"/>
                    </a:lnTo>
                    <a:lnTo>
                      <a:pt x="3885" y="2357"/>
                    </a:lnTo>
                    <a:lnTo>
                      <a:pt x="3902" y="2374"/>
                    </a:lnTo>
                    <a:lnTo>
                      <a:pt x="3918" y="2390"/>
                    </a:lnTo>
                    <a:lnTo>
                      <a:pt x="3935" y="2408"/>
                    </a:lnTo>
                    <a:lnTo>
                      <a:pt x="3950" y="2424"/>
                    </a:lnTo>
                    <a:lnTo>
                      <a:pt x="3967" y="2441"/>
                    </a:lnTo>
                    <a:lnTo>
                      <a:pt x="3983" y="2459"/>
                    </a:lnTo>
                    <a:lnTo>
                      <a:pt x="4000" y="2467"/>
                    </a:lnTo>
                    <a:lnTo>
                      <a:pt x="4015" y="2483"/>
                    </a:lnTo>
                    <a:lnTo>
                      <a:pt x="4032" y="2501"/>
                    </a:lnTo>
                    <a:lnTo>
                      <a:pt x="4048" y="2518"/>
                    </a:lnTo>
                    <a:lnTo>
                      <a:pt x="4065" y="2525"/>
                    </a:lnTo>
                    <a:lnTo>
                      <a:pt x="4080" y="2543"/>
                    </a:lnTo>
                    <a:lnTo>
                      <a:pt x="4097" y="2560"/>
                    </a:lnTo>
                    <a:lnTo>
                      <a:pt x="4113" y="2576"/>
                    </a:lnTo>
                    <a:lnTo>
                      <a:pt x="4130" y="2585"/>
                    </a:lnTo>
                    <a:lnTo>
                      <a:pt x="4145" y="2602"/>
                    </a:lnTo>
                    <a:lnTo>
                      <a:pt x="4162" y="2618"/>
                    </a:lnTo>
                    <a:lnTo>
                      <a:pt x="4178" y="2627"/>
                    </a:lnTo>
                    <a:lnTo>
                      <a:pt x="4194" y="2644"/>
                    </a:lnTo>
                    <a:lnTo>
                      <a:pt x="4210" y="2662"/>
                    </a:lnTo>
                    <a:lnTo>
                      <a:pt x="4227" y="2669"/>
                    </a:lnTo>
                    <a:lnTo>
                      <a:pt x="4242" y="2686"/>
                    </a:lnTo>
                    <a:lnTo>
                      <a:pt x="4259" y="2704"/>
                    </a:lnTo>
                    <a:lnTo>
                      <a:pt x="4276" y="2711"/>
                    </a:lnTo>
                    <a:lnTo>
                      <a:pt x="4292" y="2728"/>
                    </a:lnTo>
                    <a:lnTo>
                      <a:pt x="4309" y="2737"/>
                    </a:lnTo>
                    <a:lnTo>
                      <a:pt x="4324" y="2754"/>
                    </a:lnTo>
                    <a:lnTo>
                      <a:pt x="4341" y="2770"/>
                    </a:lnTo>
                    <a:lnTo>
                      <a:pt x="4357" y="2779"/>
                    </a:lnTo>
                    <a:lnTo>
                      <a:pt x="4374" y="2796"/>
                    </a:lnTo>
                    <a:lnTo>
                      <a:pt x="4389" y="2804"/>
                    </a:lnTo>
                    <a:lnTo>
                      <a:pt x="4406" y="2821"/>
                    </a:lnTo>
                    <a:lnTo>
                      <a:pt x="4422" y="2830"/>
                    </a:lnTo>
                    <a:lnTo>
                      <a:pt x="4439" y="2847"/>
                    </a:lnTo>
                    <a:lnTo>
                      <a:pt x="4454" y="2854"/>
                    </a:lnTo>
                    <a:lnTo>
                      <a:pt x="4471" y="2872"/>
                    </a:lnTo>
                    <a:lnTo>
                      <a:pt x="4487" y="2881"/>
                    </a:lnTo>
                    <a:lnTo>
                      <a:pt x="4504" y="2889"/>
                    </a:lnTo>
                    <a:lnTo>
                      <a:pt x="4519" y="2905"/>
                    </a:lnTo>
                    <a:lnTo>
                      <a:pt x="4536" y="2914"/>
                    </a:lnTo>
                    <a:lnTo>
                      <a:pt x="4552" y="2931"/>
                    </a:lnTo>
                    <a:lnTo>
                      <a:pt x="4568" y="2940"/>
                    </a:lnTo>
                    <a:lnTo>
                      <a:pt x="4584" y="2947"/>
                    </a:lnTo>
                    <a:lnTo>
                      <a:pt x="4601" y="2965"/>
                    </a:lnTo>
                    <a:lnTo>
                      <a:pt x="4616" y="2973"/>
                    </a:lnTo>
                    <a:lnTo>
                      <a:pt x="4633" y="2982"/>
                    </a:lnTo>
                    <a:lnTo>
                      <a:pt x="4649" y="2998"/>
                    </a:lnTo>
                    <a:lnTo>
                      <a:pt x="4666" y="3007"/>
                    </a:lnTo>
                    <a:lnTo>
                      <a:pt x="4681" y="3015"/>
                    </a:lnTo>
                    <a:lnTo>
                      <a:pt x="4698" y="3033"/>
                    </a:lnTo>
                    <a:lnTo>
                      <a:pt x="4715" y="3042"/>
                    </a:lnTo>
                    <a:lnTo>
                      <a:pt x="4731" y="3049"/>
                    </a:lnTo>
                    <a:lnTo>
                      <a:pt x="4748" y="3058"/>
                    </a:lnTo>
                    <a:lnTo>
                      <a:pt x="4763" y="3075"/>
                    </a:lnTo>
                    <a:lnTo>
                      <a:pt x="4780" y="3084"/>
                    </a:lnTo>
                    <a:lnTo>
                      <a:pt x="4796" y="3091"/>
                    </a:lnTo>
                    <a:lnTo>
                      <a:pt x="4813" y="3100"/>
                    </a:lnTo>
                    <a:lnTo>
                      <a:pt x="4828" y="3117"/>
                    </a:lnTo>
                    <a:lnTo>
                      <a:pt x="4845" y="3126"/>
                    </a:lnTo>
                    <a:lnTo>
                      <a:pt x="4861" y="3134"/>
                    </a:lnTo>
                    <a:lnTo>
                      <a:pt x="4878" y="3142"/>
                    </a:lnTo>
                    <a:lnTo>
                      <a:pt x="4893" y="3150"/>
                    </a:lnTo>
                    <a:lnTo>
                      <a:pt x="4910" y="3159"/>
                    </a:lnTo>
                    <a:lnTo>
                      <a:pt x="4926" y="3176"/>
                    </a:lnTo>
                    <a:lnTo>
                      <a:pt x="4942" y="3185"/>
                    </a:lnTo>
                    <a:lnTo>
                      <a:pt x="4958" y="3192"/>
                    </a:lnTo>
                    <a:lnTo>
                      <a:pt x="4975" y="3201"/>
                    </a:lnTo>
                    <a:lnTo>
                      <a:pt x="4990" y="3210"/>
                    </a:lnTo>
                    <a:lnTo>
                      <a:pt x="5007" y="3219"/>
                    </a:lnTo>
                    <a:lnTo>
                      <a:pt x="5023" y="3227"/>
                    </a:lnTo>
                    <a:lnTo>
                      <a:pt x="5040" y="3235"/>
                    </a:lnTo>
                    <a:lnTo>
                      <a:pt x="5055" y="3243"/>
                    </a:lnTo>
                    <a:lnTo>
                      <a:pt x="5072" y="3252"/>
                    </a:lnTo>
                    <a:lnTo>
                      <a:pt x="5088" y="3261"/>
                    </a:lnTo>
                    <a:lnTo>
                      <a:pt x="5105" y="3269"/>
                    </a:lnTo>
                    <a:lnTo>
                      <a:pt x="5120" y="3278"/>
                    </a:lnTo>
                    <a:lnTo>
                      <a:pt x="5137" y="3294"/>
                    </a:lnTo>
                    <a:lnTo>
                      <a:pt x="5154" y="3303"/>
                    </a:lnTo>
                    <a:lnTo>
                      <a:pt x="5170" y="3303"/>
                    </a:lnTo>
                    <a:lnTo>
                      <a:pt x="5187" y="3311"/>
                    </a:lnTo>
                    <a:lnTo>
                      <a:pt x="5202" y="3320"/>
                    </a:lnTo>
                    <a:lnTo>
                      <a:pt x="5219" y="3329"/>
                    </a:lnTo>
                    <a:lnTo>
                      <a:pt x="5235" y="3336"/>
                    </a:lnTo>
                    <a:lnTo>
                      <a:pt x="5252" y="3345"/>
                    </a:lnTo>
                    <a:lnTo>
                      <a:pt x="5267" y="3353"/>
                    </a:lnTo>
                    <a:lnTo>
                      <a:pt x="5284" y="3362"/>
                    </a:lnTo>
                    <a:lnTo>
                      <a:pt x="5300" y="3371"/>
                    </a:lnTo>
                    <a:lnTo>
                      <a:pt x="5316" y="3378"/>
                    </a:lnTo>
                    <a:lnTo>
                      <a:pt x="5332" y="3387"/>
                    </a:lnTo>
                    <a:lnTo>
                      <a:pt x="5349" y="3396"/>
                    </a:lnTo>
                    <a:lnTo>
                      <a:pt x="5364" y="3404"/>
                    </a:lnTo>
                    <a:lnTo>
                      <a:pt x="5381" y="3413"/>
                    </a:lnTo>
                    <a:lnTo>
                      <a:pt x="5397" y="3413"/>
                    </a:lnTo>
                    <a:lnTo>
                      <a:pt x="5414" y="3422"/>
                    </a:lnTo>
                    <a:lnTo>
                      <a:pt x="5429" y="3429"/>
                    </a:lnTo>
                    <a:lnTo>
                      <a:pt x="5446" y="3438"/>
                    </a:lnTo>
                    <a:lnTo>
                      <a:pt x="5462" y="3446"/>
                    </a:lnTo>
                    <a:lnTo>
                      <a:pt x="5479" y="3455"/>
                    </a:lnTo>
                    <a:lnTo>
                      <a:pt x="5494" y="3455"/>
                    </a:lnTo>
                    <a:lnTo>
                      <a:pt x="5511" y="3464"/>
                    </a:lnTo>
                    <a:lnTo>
                      <a:pt x="5527" y="3472"/>
                    </a:lnTo>
                    <a:lnTo>
                      <a:pt x="5544" y="3480"/>
                    </a:lnTo>
                    <a:lnTo>
                      <a:pt x="5561" y="3488"/>
                    </a:lnTo>
                    <a:lnTo>
                      <a:pt x="5576" y="3488"/>
                    </a:lnTo>
                    <a:lnTo>
                      <a:pt x="5593" y="3497"/>
                    </a:lnTo>
                    <a:lnTo>
                      <a:pt x="5609" y="3506"/>
                    </a:lnTo>
                    <a:lnTo>
                      <a:pt x="5626" y="3514"/>
                    </a:lnTo>
                    <a:lnTo>
                      <a:pt x="5641" y="3514"/>
                    </a:lnTo>
                    <a:lnTo>
                      <a:pt x="5658" y="3522"/>
                    </a:lnTo>
                    <a:lnTo>
                      <a:pt x="5674" y="3530"/>
                    </a:lnTo>
                    <a:lnTo>
                      <a:pt x="5690" y="3539"/>
                    </a:lnTo>
                    <a:lnTo>
                      <a:pt x="5706" y="3539"/>
                    </a:lnTo>
                    <a:lnTo>
                      <a:pt x="5723" y="3548"/>
                    </a:lnTo>
                    <a:lnTo>
                      <a:pt x="5738" y="3556"/>
                    </a:lnTo>
                    <a:lnTo>
                      <a:pt x="5755" y="3556"/>
                    </a:lnTo>
                    <a:lnTo>
                      <a:pt x="5771" y="3565"/>
                    </a:lnTo>
                    <a:lnTo>
                      <a:pt x="5788" y="3572"/>
                    </a:lnTo>
                    <a:lnTo>
                      <a:pt x="5803" y="3572"/>
                    </a:lnTo>
                    <a:lnTo>
                      <a:pt x="5820" y="3581"/>
                    </a:lnTo>
                    <a:lnTo>
                      <a:pt x="5836" y="3590"/>
                    </a:lnTo>
                    <a:lnTo>
                      <a:pt x="5853" y="3590"/>
                    </a:lnTo>
                    <a:lnTo>
                      <a:pt x="5868" y="3599"/>
                    </a:lnTo>
                    <a:lnTo>
                      <a:pt x="5885" y="3607"/>
                    </a:lnTo>
                    <a:lnTo>
                      <a:pt x="5901" y="3607"/>
                    </a:lnTo>
                    <a:lnTo>
                      <a:pt x="5918" y="3616"/>
                    </a:lnTo>
                    <a:lnTo>
                      <a:pt x="5933" y="3623"/>
                    </a:lnTo>
                    <a:lnTo>
                      <a:pt x="5950" y="3623"/>
                    </a:lnTo>
                    <a:lnTo>
                      <a:pt x="5966" y="3632"/>
                    </a:lnTo>
                    <a:lnTo>
                      <a:pt x="5983" y="3632"/>
                    </a:lnTo>
                    <a:lnTo>
                      <a:pt x="6000" y="3641"/>
                    </a:lnTo>
                    <a:lnTo>
                      <a:pt x="6015" y="3649"/>
                    </a:lnTo>
                    <a:lnTo>
                      <a:pt x="6032" y="3649"/>
                    </a:lnTo>
                    <a:lnTo>
                      <a:pt x="6048" y="3658"/>
                    </a:lnTo>
                    <a:lnTo>
                      <a:pt x="6064" y="3658"/>
                    </a:lnTo>
                    <a:lnTo>
                      <a:pt x="6080" y="3665"/>
                    </a:lnTo>
                    <a:lnTo>
                      <a:pt x="6097" y="3665"/>
                    </a:lnTo>
                    <a:lnTo>
                      <a:pt x="6112" y="3674"/>
                    </a:lnTo>
                    <a:lnTo>
                      <a:pt x="6129" y="3683"/>
                    </a:lnTo>
                    <a:lnTo>
                      <a:pt x="6145" y="3683"/>
                    </a:lnTo>
                    <a:lnTo>
                      <a:pt x="6162" y="3691"/>
                    </a:lnTo>
                    <a:lnTo>
                      <a:pt x="6177" y="3691"/>
                    </a:lnTo>
                    <a:lnTo>
                      <a:pt x="6194" y="3700"/>
                    </a:lnTo>
                    <a:lnTo>
                      <a:pt x="6210" y="3700"/>
                    </a:lnTo>
                    <a:lnTo>
                      <a:pt x="6227" y="3709"/>
                    </a:lnTo>
                    <a:lnTo>
                      <a:pt x="6242" y="3709"/>
                    </a:lnTo>
                    <a:lnTo>
                      <a:pt x="6259" y="3716"/>
                    </a:lnTo>
                    <a:lnTo>
                      <a:pt x="6275" y="3716"/>
                    </a:lnTo>
                    <a:lnTo>
                      <a:pt x="6292" y="3725"/>
                    </a:lnTo>
                    <a:lnTo>
                      <a:pt x="6307" y="3725"/>
                    </a:lnTo>
                    <a:lnTo>
                      <a:pt x="6324" y="3733"/>
                    </a:lnTo>
                    <a:lnTo>
                      <a:pt x="6340" y="3733"/>
                    </a:lnTo>
                    <a:lnTo>
                      <a:pt x="6357" y="3742"/>
                    </a:lnTo>
                    <a:lnTo>
                      <a:pt x="6372" y="3742"/>
                    </a:lnTo>
                    <a:lnTo>
                      <a:pt x="6389" y="3742"/>
                    </a:lnTo>
                    <a:lnTo>
                      <a:pt x="6406" y="3751"/>
                    </a:lnTo>
                    <a:lnTo>
                      <a:pt x="6422" y="3751"/>
                    </a:lnTo>
                    <a:lnTo>
                      <a:pt x="6438" y="3760"/>
                    </a:lnTo>
                    <a:lnTo>
                      <a:pt x="6454" y="3760"/>
                    </a:lnTo>
                    <a:lnTo>
                      <a:pt x="6471" y="3767"/>
                    </a:lnTo>
                    <a:lnTo>
                      <a:pt x="6486" y="3767"/>
                    </a:lnTo>
                    <a:lnTo>
                      <a:pt x="6503" y="3776"/>
                    </a:lnTo>
                    <a:lnTo>
                      <a:pt x="6519" y="3776"/>
                    </a:lnTo>
                    <a:lnTo>
                      <a:pt x="6536" y="3776"/>
                    </a:lnTo>
                    <a:lnTo>
                      <a:pt x="6551" y="3784"/>
                    </a:lnTo>
                    <a:lnTo>
                      <a:pt x="6568" y="3784"/>
                    </a:lnTo>
                    <a:lnTo>
                      <a:pt x="6584" y="3793"/>
                    </a:lnTo>
                    <a:lnTo>
                      <a:pt x="6601" y="3793"/>
                    </a:lnTo>
                    <a:lnTo>
                      <a:pt x="6616" y="3793"/>
                    </a:lnTo>
                    <a:lnTo>
                      <a:pt x="6633" y="3802"/>
                    </a:lnTo>
                    <a:lnTo>
                      <a:pt x="6649" y="3802"/>
                    </a:lnTo>
                    <a:lnTo>
                      <a:pt x="6666" y="3809"/>
                    </a:lnTo>
                    <a:lnTo>
                      <a:pt x="6681" y="3809"/>
                    </a:lnTo>
                    <a:lnTo>
                      <a:pt x="6698" y="3809"/>
                    </a:lnTo>
                    <a:lnTo>
                      <a:pt x="6714" y="3818"/>
                    </a:lnTo>
                    <a:lnTo>
                      <a:pt x="6731" y="3818"/>
                    </a:lnTo>
                    <a:lnTo>
                      <a:pt x="6746" y="3818"/>
                    </a:lnTo>
                    <a:lnTo>
                      <a:pt x="6763" y="3826"/>
                    </a:lnTo>
                    <a:lnTo>
                      <a:pt x="6779" y="3826"/>
                    </a:lnTo>
                    <a:lnTo>
                      <a:pt x="6796" y="3826"/>
                    </a:lnTo>
                    <a:lnTo>
                      <a:pt x="6811" y="3835"/>
                    </a:lnTo>
                    <a:lnTo>
                      <a:pt x="6828" y="3835"/>
                    </a:lnTo>
                    <a:lnTo>
                      <a:pt x="6845" y="3835"/>
                    </a:lnTo>
                    <a:lnTo>
                      <a:pt x="6860" y="3844"/>
                    </a:lnTo>
                    <a:lnTo>
                      <a:pt x="6877" y="3844"/>
                    </a:lnTo>
                    <a:lnTo>
                      <a:pt x="6893" y="3844"/>
                    </a:lnTo>
                    <a:lnTo>
                      <a:pt x="6910" y="3852"/>
                    </a:lnTo>
                    <a:lnTo>
                      <a:pt x="6925" y="3852"/>
                    </a:lnTo>
                    <a:lnTo>
                      <a:pt x="6942" y="3852"/>
                    </a:lnTo>
                    <a:lnTo>
                      <a:pt x="6958" y="3860"/>
                    </a:lnTo>
                    <a:lnTo>
                      <a:pt x="6975" y="3860"/>
                    </a:lnTo>
                    <a:lnTo>
                      <a:pt x="6990" y="3860"/>
                    </a:lnTo>
                    <a:lnTo>
                      <a:pt x="7007" y="3868"/>
                    </a:lnTo>
                    <a:lnTo>
                      <a:pt x="7023" y="3868"/>
                    </a:lnTo>
                    <a:lnTo>
                      <a:pt x="7040" y="3868"/>
                    </a:lnTo>
                    <a:lnTo>
                      <a:pt x="7055" y="3868"/>
                    </a:lnTo>
                    <a:lnTo>
                      <a:pt x="7072" y="3877"/>
                    </a:lnTo>
                    <a:lnTo>
                      <a:pt x="7088" y="3877"/>
                    </a:lnTo>
                    <a:lnTo>
                      <a:pt x="7105" y="3877"/>
                    </a:lnTo>
                    <a:lnTo>
                      <a:pt x="7120" y="3886"/>
                    </a:lnTo>
                    <a:lnTo>
                      <a:pt x="7137" y="3886"/>
                    </a:lnTo>
                    <a:lnTo>
                      <a:pt x="7153" y="3886"/>
                    </a:lnTo>
                    <a:lnTo>
                      <a:pt x="7170" y="3886"/>
                    </a:lnTo>
                    <a:lnTo>
                      <a:pt x="7185" y="3894"/>
                    </a:lnTo>
                    <a:lnTo>
                      <a:pt x="7202" y="3894"/>
                    </a:lnTo>
                    <a:lnTo>
                      <a:pt x="7218" y="3894"/>
                    </a:lnTo>
                    <a:lnTo>
                      <a:pt x="7234" y="3894"/>
                    </a:lnTo>
                    <a:lnTo>
                      <a:pt x="7250" y="3903"/>
                    </a:lnTo>
                    <a:lnTo>
                      <a:pt x="7267" y="3903"/>
                    </a:lnTo>
                    <a:lnTo>
                      <a:pt x="7284" y="3903"/>
                    </a:lnTo>
                    <a:lnTo>
                      <a:pt x="7299" y="3903"/>
                    </a:lnTo>
                    <a:lnTo>
                      <a:pt x="7316" y="3910"/>
                    </a:lnTo>
                    <a:lnTo>
                      <a:pt x="7332" y="3910"/>
                    </a:lnTo>
                    <a:lnTo>
                      <a:pt x="7349" y="3910"/>
                    </a:lnTo>
                    <a:lnTo>
                      <a:pt x="7364" y="3910"/>
                    </a:lnTo>
                    <a:lnTo>
                      <a:pt x="7381" y="3919"/>
                    </a:lnTo>
                    <a:lnTo>
                      <a:pt x="7397" y="3919"/>
                    </a:lnTo>
                    <a:lnTo>
                      <a:pt x="7414" y="3919"/>
                    </a:lnTo>
                    <a:lnTo>
                      <a:pt x="7429" y="3919"/>
                    </a:lnTo>
                    <a:lnTo>
                      <a:pt x="7446" y="3919"/>
                    </a:lnTo>
                    <a:lnTo>
                      <a:pt x="7462" y="3928"/>
                    </a:lnTo>
                    <a:lnTo>
                      <a:pt x="7479" y="3945"/>
                    </a:lnTo>
                    <a:lnTo>
                      <a:pt x="7494" y="3928"/>
                    </a:lnTo>
                    <a:lnTo>
                      <a:pt x="7511" y="3928"/>
                    </a:lnTo>
                    <a:lnTo>
                      <a:pt x="7527" y="3937"/>
                    </a:lnTo>
                    <a:lnTo>
                      <a:pt x="7544" y="3937"/>
                    </a:lnTo>
                    <a:lnTo>
                      <a:pt x="7559" y="3937"/>
                    </a:lnTo>
                    <a:lnTo>
                      <a:pt x="7576" y="3937"/>
                    </a:lnTo>
                    <a:lnTo>
                      <a:pt x="7592" y="3937"/>
                    </a:lnTo>
                    <a:lnTo>
                      <a:pt x="7608" y="3937"/>
                    </a:lnTo>
                    <a:lnTo>
                      <a:pt x="7624" y="3945"/>
                    </a:lnTo>
                    <a:lnTo>
                      <a:pt x="7641" y="3945"/>
                    </a:lnTo>
                    <a:lnTo>
                      <a:pt x="7656" y="3945"/>
                    </a:lnTo>
                    <a:lnTo>
                      <a:pt x="7673" y="3945"/>
                    </a:lnTo>
                    <a:lnTo>
                      <a:pt x="7690" y="3945"/>
                    </a:lnTo>
                    <a:lnTo>
                      <a:pt x="7706" y="3952"/>
                    </a:lnTo>
                    <a:lnTo>
                      <a:pt x="7723" y="3952"/>
                    </a:lnTo>
                    <a:lnTo>
                      <a:pt x="7738" y="3952"/>
                    </a:lnTo>
                    <a:lnTo>
                      <a:pt x="7755" y="3952"/>
                    </a:lnTo>
                    <a:lnTo>
                      <a:pt x="7771" y="3952"/>
                    </a:lnTo>
                    <a:lnTo>
                      <a:pt x="7788" y="3952"/>
                    </a:lnTo>
                    <a:lnTo>
                      <a:pt x="7803" y="3961"/>
                    </a:lnTo>
                    <a:lnTo>
                      <a:pt x="7820" y="3961"/>
                    </a:lnTo>
                    <a:lnTo>
                      <a:pt x="7836" y="3961"/>
                    </a:lnTo>
                    <a:lnTo>
                      <a:pt x="7853" y="3961"/>
                    </a:lnTo>
                    <a:lnTo>
                      <a:pt x="7868" y="3961"/>
                    </a:lnTo>
                    <a:lnTo>
                      <a:pt x="7885" y="3961"/>
                    </a:lnTo>
                    <a:lnTo>
                      <a:pt x="7901" y="3970"/>
                    </a:lnTo>
                    <a:lnTo>
                      <a:pt x="7918" y="3970"/>
                    </a:lnTo>
                    <a:lnTo>
                      <a:pt x="7933" y="3970"/>
                    </a:lnTo>
                    <a:lnTo>
                      <a:pt x="7950" y="3970"/>
                    </a:lnTo>
                    <a:lnTo>
                      <a:pt x="7966" y="3970"/>
                    </a:lnTo>
                    <a:lnTo>
                      <a:pt x="7982" y="3970"/>
                    </a:lnTo>
                    <a:lnTo>
                      <a:pt x="7998" y="3979"/>
                    </a:lnTo>
                    <a:lnTo>
                      <a:pt x="8015" y="3979"/>
                    </a:lnTo>
                    <a:lnTo>
                      <a:pt x="8030" y="3979"/>
                    </a:lnTo>
                    <a:lnTo>
                      <a:pt x="8047" y="3979"/>
                    </a:lnTo>
                    <a:lnTo>
                      <a:pt x="8063" y="3979"/>
                    </a:lnTo>
                    <a:lnTo>
                      <a:pt x="8080" y="3979"/>
                    </a:lnTo>
                    <a:lnTo>
                      <a:pt x="8095" y="3979"/>
                    </a:lnTo>
                    <a:lnTo>
                      <a:pt x="8112" y="3979"/>
                    </a:lnTo>
                    <a:lnTo>
                      <a:pt x="8112" y="4071"/>
                    </a:lnTo>
                    <a:lnTo>
                      <a:pt x="8095" y="4071"/>
                    </a:lnTo>
                    <a:lnTo>
                      <a:pt x="8080" y="4071"/>
                    </a:lnTo>
                    <a:lnTo>
                      <a:pt x="8063" y="4071"/>
                    </a:lnTo>
                    <a:lnTo>
                      <a:pt x="8047" y="4071"/>
                    </a:lnTo>
                    <a:lnTo>
                      <a:pt x="8030" y="4071"/>
                    </a:lnTo>
                    <a:lnTo>
                      <a:pt x="8015" y="4071"/>
                    </a:lnTo>
                    <a:lnTo>
                      <a:pt x="7998" y="4071"/>
                    </a:lnTo>
                    <a:lnTo>
                      <a:pt x="7982" y="4071"/>
                    </a:lnTo>
                    <a:lnTo>
                      <a:pt x="7966" y="4071"/>
                    </a:lnTo>
                    <a:lnTo>
                      <a:pt x="7950" y="4071"/>
                    </a:lnTo>
                    <a:lnTo>
                      <a:pt x="7933" y="4071"/>
                    </a:lnTo>
                    <a:lnTo>
                      <a:pt x="7918" y="4071"/>
                    </a:lnTo>
                    <a:lnTo>
                      <a:pt x="7901" y="4071"/>
                    </a:lnTo>
                    <a:lnTo>
                      <a:pt x="7885" y="4071"/>
                    </a:lnTo>
                    <a:lnTo>
                      <a:pt x="7868" y="4071"/>
                    </a:lnTo>
                    <a:lnTo>
                      <a:pt x="7853" y="4071"/>
                    </a:lnTo>
                    <a:lnTo>
                      <a:pt x="7836" y="4071"/>
                    </a:lnTo>
                    <a:lnTo>
                      <a:pt x="7820" y="4071"/>
                    </a:lnTo>
                    <a:lnTo>
                      <a:pt x="7803" y="4071"/>
                    </a:lnTo>
                    <a:lnTo>
                      <a:pt x="7788" y="4071"/>
                    </a:lnTo>
                    <a:lnTo>
                      <a:pt x="7771" y="4071"/>
                    </a:lnTo>
                    <a:lnTo>
                      <a:pt x="7755" y="4071"/>
                    </a:lnTo>
                    <a:lnTo>
                      <a:pt x="7738" y="4071"/>
                    </a:lnTo>
                    <a:lnTo>
                      <a:pt x="7723" y="4071"/>
                    </a:lnTo>
                    <a:lnTo>
                      <a:pt x="7706" y="4071"/>
                    </a:lnTo>
                    <a:lnTo>
                      <a:pt x="7690" y="4071"/>
                    </a:lnTo>
                    <a:lnTo>
                      <a:pt x="7673" y="4071"/>
                    </a:lnTo>
                    <a:lnTo>
                      <a:pt x="7656" y="4071"/>
                    </a:lnTo>
                    <a:lnTo>
                      <a:pt x="7641" y="4071"/>
                    </a:lnTo>
                    <a:lnTo>
                      <a:pt x="7624" y="4071"/>
                    </a:lnTo>
                    <a:lnTo>
                      <a:pt x="7608" y="4071"/>
                    </a:lnTo>
                    <a:lnTo>
                      <a:pt x="7592" y="4071"/>
                    </a:lnTo>
                    <a:lnTo>
                      <a:pt x="7576" y="4071"/>
                    </a:lnTo>
                    <a:lnTo>
                      <a:pt x="7559" y="4071"/>
                    </a:lnTo>
                    <a:lnTo>
                      <a:pt x="7544" y="4071"/>
                    </a:lnTo>
                    <a:lnTo>
                      <a:pt x="7527" y="4071"/>
                    </a:lnTo>
                    <a:lnTo>
                      <a:pt x="7511" y="4071"/>
                    </a:lnTo>
                    <a:lnTo>
                      <a:pt x="7494" y="4071"/>
                    </a:lnTo>
                    <a:lnTo>
                      <a:pt x="7479" y="4071"/>
                    </a:lnTo>
                    <a:lnTo>
                      <a:pt x="7462" y="4071"/>
                    </a:lnTo>
                    <a:lnTo>
                      <a:pt x="7446" y="4071"/>
                    </a:lnTo>
                    <a:lnTo>
                      <a:pt x="7429" y="4071"/>
                    </a:lnTo>
                    <a:lnTo>
                      <a:pt x="7414" y="4071"/>
                    </a:lnTo>
                    <a:lnTo>
                      <a:pt x="7397" y="4071"/>
                    </a:lnTo>
                    <a:lnTo>
                      <a:pt x="7381" y="4071"/>
                    </a:lnTo>
                    <a:lnTo>
                      <a:pt x="7364" y="4071"/>
                    </a:lnTo>
                    <a:lnTo>
                      <a:pt x="7349" y="4071"/>
                    </a:lnTo>
                    <a:lnTo>
                      <a:pt x="7332" y="4071"/>
                    </a:lnTo>
                    <a:lnTo>
                      <a:pt x="7316" y="4071"/>
                    </a:lnTo>
                    <a:lnTo>
                      <a:pt x="7299" y="4071"/>
                    </a:lnTo>
                    <a:lnTo>
                      <a:pt x="7284" y="4071"/>
                    </a:lnTo>
                    <a:lnTo>
                      <a:pt x="7267" y="4071"/>
                    </a:lnTo>
                    <a:lnTo>
                      <a:pt x="7250" y="4071"/>
                    </a:lnTo>
                    <a:lnTo>
                      <a:pt x="7234" y="4071"/>
                    </a:lnTo>
                    <a:lnTo>
                      <a:pt x="7218" y="4071"/>
                    </a:lnTo>
                    <a:lnTo>
                      <a:pt x="7202" y="4071"/>
                    </a:lnTo>
                    <a:lnTo>
                      <a:pt x="7185" y="4071"/>
                    </a:lnTo>
                    <a:lnTo>
                      <a:pt x="7170" y="4071"/>
                    </a:lnTo>
                    <a:lnTo>
                      <a:pt x="7153" y="4071"/>
                    </a:lnTo>
                    <a:lnTo>
                      <a:pt x="7137" y="4071"/>
                    </a:lnTo>
                    <a:lnTo>
                      <a:pt x="7120" y="4071"/>
                    </a:lnTo>
                    <a:lnTo>
                      <a:pt x="7105" y="4071"/>
                    </a:lnTo>
                    <a:lnTo>
                      <a:pt x="7088" y="4071"/>
                    </a:lnTo>
                    <a:lnTo>
                      <a:pt x="7072" y="4071"/>
                    </a:lnTo>
                    <a:lnTo>
                      <a:pt x="7055" y="4071"/>
                    </a:lnTo>
                    <a:lnTo>
                      <a:pt x="7040" y="4071"/>
                    </a:lnTo>
                    <a:lnTo>
                      <a:pt x="7023" y="4071"/>
                    </a:lnTo>
                    <a:lnTo>
                      <a:pt x="7007" y="4071"/>
                    </a:lnTo>
                    <a:lnTo>
                      <a:pt x="6990" y="4071"/>
                    </a:lnTo>
                    <a:lnTo>
                      <a:pt x="6975" y="4071"/>
                    </a:lnTo>
                    <a:lnTo>
                      <a:pt x="6958" y="4071"/>
                    </a:lnTo>
                    <a:lnTo>
                      <a:pt x="6942" y="4071"/>
                    </a:lnTo>
                    <a:lnTo>
                      <a:pt x="6925" y="4071"/>
                    </a:lnTo>
                    <a:lnTo>
                      <a:pt x="6910" y="4071"/>
                    </a:lnTo>
                    <a:lnTo>
                      <a:pt x="6893" y="4071"/>
                    </a:lnTo>
                    <a:lnTo>
                      <a:pt x="6877" y="4071"/>
                    </a:lnTo>
                    <a:lnTo>
                      <a:pt x="6860" y="4071"/>
                    </a:lnTo>
                    <a:lnTo>
                      <a:pt x="6845" y="4071"/>
                    </a:lnTo>
                    <a:lnTo>
                      <a:pt x="6828" y="4071"/>
                    </a:lnTo>
                    <a:lnTo>
                      <a:pt x="6811" y="4071"/>
                    </a:lnTo>
                    <a:lnTo>
                      <a:pt x="6796" y="4071"/>
                    </a:lnTo>
                    <a:lnTo>
                      <a:pt x="6779" y="4071"/>
                    </a:lnTo>
                    <a:lnTo>
                      <a:pt x="6763" y="4071"/>
                    </a:lnTo>
                    <a:lnTo>
                      <a:pt x="6746" y="4071"/>
                    </a:lnTo>
                    <a:lnTo>
                      <a:pt x="6731" y="4071"/>
                    </a:lnTo>
                    <a:lnTo>
                      <a:pt x="6714" y="4071"/>
                    </a:lnTo>
                    <a:lnTo>
                      <a:pt x="6698" y="4071"/>
                    </a:lnTo>
                    <a:lnTo>
                      <a:pt x="6681" y="4071"/>
                    </a:lnTo>
                    <a:lnTo>
                      <a:pt x="6666" y="4071"/>
                    </a:lnTo>
                    <a:lnTo>
                      <a:pt x="6649" y="4071"/>
                    </a:lnTo>
                    <a:lnTo>
                      <a:pt x="6633" y="4071"/>
                    </a:lnTo>
                    <a:lnTo>
                      <a:pt x="6616" y="4071"/>
                    </a:lnTo>
                    <a:lnTo>
                      <a:pt x="6601" y="4071"/>
                    </a:lnTo>
                    <a:lnTo>
                      <a:pt x="6584" y="4071"/>
                    </a:lnTo>
                    <a:lnTo>
                      <a:pt x="6568" y="4071"/>
                    </a:lnTo>
                    <a:lnTo>
                      <a:pt x="6551" y="4071"/>
                    </a:lnTo>
                    <a:lnTo>
                      <a:pt x="6536" y="4071"/>
                    </a:lnTo>
                    <a:lnTo>
                      <a:pt x="6519" y="4071"/>
                    </a:lnTo>
                    <a:lnTo>
                      <a:pt x="6503" y="4071"/>
                    </a:lnTo>
                    <a:lnTo>
                      <a:pt x="6486" y="4071"/>
                    </a:lnTo>
                    <a:lnTo>
                      <a:pt x="6471" y="4071"/>
                    </a:lnTo>
                    <a:lnTo>
                      <a:pt x="6454" y="4071"/>
                    </a:lnTo>
                    <a:lnTo>
                      <a:pt x="6438" y="4071"/>
                    </a:lnTo>
                    <a:lnTo>
                      <a:pt x="6422" y="4071"/>
                    </a:lnTo>
                    <a:lnTo>
                      <a:pt x="6406" y="4071"/>
                    </a:lnTo>
                    <a:lnTo>
                      <a:pt x="6389" y="4071"/>
                    </a:lnTo>
                    <a:lnTo>
                      <a:pt x="6372" y="4071"/>
                    </a:lnTo>
                    <a:lnTo>
                      <a:pt x="6357" y="4071"/>
                    </a:lnTo>
                    <a:lnTo>
                      <a:pt x="6340" y="4071"/>
                    </a:lnTo>
                    <a:lnTo>
                      <a:pt x="6324" y="4071"/>
                    </a:lnTo>
                    <a:lnTo>
                      <a:pt x="6307" y="4071"/>
                    </a:lnTo>
                    <a:lnTo>
                      <a:pt x="6292" y="4071"/>
                    </a:lnTo>
                    <a:lnTo>
                      <a:pt x="6275" y="4071"/>
                    </a:lnTo>
                    <a:lnTo>
                      <a:pt x="6259" y="4071"/>
                    </a:lnTo>
                    <a:lnTo>
                      <a:pt x="6242" y="4071"/>
                    </a:lnTo>
                    <a:lnTo>
                      <a:pt x="6227" y="4071"/>
                    </a:lnTo>
                    <a:lnTo>
                      <a:pt x="6210" y="4071"/>
                    </a:lnTo>
                    <a:lnTo>
                      <a:pt x="6194" y="4071"/>
                    </a:lnTo>
                    <a:lnTo>
                      <a:pt x="6177" y="4071"/>
                    </a:lnTo>
                    <a:lnTo>
                      <a:pt x="6162" y="4071"/>
                    </a:lnTo>
                    <a:lnTo>
                      <a:pt x="6145" y="4071"/>
                    </a:lnTo>
                    <a:lnTo>
                      <a:pt x="6129" y="4071"/>
                    </a:lnTo>
                    <a:lnTo>
                      <a:pt x="6112" y="4071"/>
                    </a:lnTo>
                    <a:lnTo>
                      <a:pt x="6097" y="4071"/>
                    </a:lnTo>
                    <a:lnTo>
                      <a:pt x="6080" y="4071"/>
                    </a:lnTo>
                    <a:lnTo>
                      <a:pt x="6064" y="4071"/>
                    </a:lnTo>
                    <a:lnTo>
                      <a:pt x="6048" y="4071"/>
                    </a:lnTo>
                    <a:lnTo>
                      <a:pt x="6032" y="4071"/>
                    </a:lnTo>
                    <a:lnTo>
                      <a:pt x="6015" y="4071"/>
                    </a:lnTo>
                    <a:lnTo>
                      <a:pt x="6000" y="4071"/>
                    </a:lnTo>
                    <a:lnTo>
                      <a:pt x="5983" y="4071"/>
                    </a:lnTo>
                    <a:lnTo>
                      <a:pt x="5966" y="4071"/>
                    </a:lnTo>
                    <a:lnTo>
                      <a:pt x="5950" y="4071"/>
                    </a:lnTo>
                    <a:lnTo>
                      <a:pt x="5933" y="4071"/>
                    </a:lnTo>
                    <a:lnTo>
                      <a:pt x="5918" y="4071"/>
                    </a:lnTo>
                    <a:lnTo>
                      <a:pt x="5901" y="4071"/>
                    </a:lnTo>
                    <a:lnTo>
                      <a:pt x="5885" y="4071"/>
                    </a:lnTo>
                    <a:lnTo>
                      <a:pt x="5868" y="4071"/>
                    </a:lnTo>
                    <a:lnTo>
                      <a:pt x="5853" y="4071"/>
                    </a:lnTo>
                    <a:lnTo>
                      <a:pt x="5836" y="4071"/>
                    </a:lnTo>
                    <a:lnTo>
                      <a:pt x="5820" y="4071"/>
                    </a:lnTo>
                    <a:lnTo>
                      <a:pt x="5803" y="4071"/>
                    </a:lnTo>
                    <a:lnTo>
                      <a:pt x="5788" y="4071"/>
                    </a:lnTo>
                    <a:lnTo>
                      <a:pt x="5771" y="4071"/>
                    </a:lnTo>
                    <a:lnTo>
                      <a:pt x="5755" y="4071"/>
                    </a:lnTo>
                    <a:lnTo>
                      <a:pt x="5738" y="4071"/>
                    </a:lnTo>
                    <a:lnTo>
                      <a:pt x="5723" y="4071"/>
                    </a:lnTo>
                    <a:lnTo>
                      <a:pt x="5706" y="4071"/>
                    </a:lnTo>
                    <a:lnTo>
                      <a:pt x="5690" y="4071"/>
                    </a:lnTo>
                    <a:lnTo>
                      <a:pt x="5674" y="4071"/>
                    </a:lnTo>
                    <a:lnTo>
                      <a:pt x="5658" y="4071"/>
                    </a:lnTo>
                    <a:lnTo>
                      <a:pt x="5641" y="4071"/>
                    </a:lnTo>
                    <a:lnTo>
                      <a:pt x="5626" y="4071"/>
                    </a:lnTo>
                    <a:lnTo>
                      <a:pt x="5609" y="4071"/>
                    </a:lnTo>
                    <a:lnTo>
                      <a:pt x="5593" y="4071"/>
                    </a:lnTo>
                    <a:lnTo>
                      <a:pt x="5576" y="4071"/>
                    </a:lnTo>
                    <a:lnTo>
                      <a:pt x="5561" y="4071"/>
                    </a:lnTo>
                    <a:lnTo>
                      <a:pt x="5544" y="4071"/>
                    </a:lnTo>
                    <a:lnTo>
                      <a:pt x="5527" y="4071"/>
                    </a:lnTo>
                    <a:lnTo>
                      <a:pt x="5511" y="4071"/>
                    </a:lnTo>
                    <a:lnTo>
                      <a:pt x="5494" y="4071"/>
                    </a:lnTo>
                    <a:lnTo>
                      <a:pt x="5479" y="4071"/>
                    </a:lnTo>
                    <a:lnTo>
                      <a:pt x="5462" y="4071"/>
                    </a:lnTo>
                    <a:lnTo>
                      <a:pt x="5446" y="4071"/>
                    </a:lnTo>
                    <a:lnTo>
                      <a:pt x="5429" y="4071"/>
                    </a:lnTo>
                    <a:lnTo>
                      <a:pt x="5414" y="4071"/>
                    </a:lnTo>
                    <a:lnTo>
                      <a:pt x="5397" y="4071"/>
                    </a:lnTo>
                    <a:lnTo>
                      <a:pt x="5381" y="4071"/>
                    </a:lnTo>
                    <a:lnTo>
                      <a:pt x="5364" y="4071"/>
                    </a:lnTo>
                    <a:lnTo>
                      <a:pt x="5349" y="4071"/>
                    </a:lnTo>
                    <a:lnTo>
                      <a:pt x="5332" y="4071"/>
                    </a:lnTo>
                    <a:lnTo>
                      <a:pt x="5316" y="4071"/>
                    </a:lnTo>
                    <a:lnTo>
                      <a:pt x="5300" y="4071"/>
                    </a:lnTo>
                    <a:lnTo>
                      <a:pt x="5284" y="4071"/>
                    </a:lnTo>
                    <a:lnTo>
                      <a:pt x="5267" y="4071"/>
                    </a:lnTo>
                    <a:lnTo>
                      <a:pt x="5252" y="4071"/>
                    </a:lnTo>
                    <a:lnTo>
                      <a:pt x="5235" y="4071"/>
                    </a:lnTo>
                    <a:lnTo>
                      <a:pt x="5219" y="4071"/>
                    </a:lnTo>
                    <a:lnTo>
                      <a:pt x="5202" y="4071"/>
                    </a:lnTo>
                    <a:lnTo>
                      <a:pt x="5187" y="4071"/>
                    </a:lnTo>
                    <a:lnTo>
                      <a:pt x="5170" y="4071"/>
                    </a:lnTo>
                    <a:lnTo>
                      <a:pt x="5154" y="4071"/>
                    </a:lnTo>
                    <a:lnTo>
                      <a:pt x="5137" y="4071"/>
                    </a:lnTo>
                    <a:lnTo>
                      <a:pt x="5120" y="4071"/>
                    </a:lnTo>
                    <a:lnTo>
                      <a:pt x="5105" y="4071"/>
                    </a:lnTo>
                    <a:lnTo>
                      <a:pt x="5088" y="4071"/>
                    </a:lnTo>
                    <a:lnTo>
                      <a:pt x="5072" y="4071"/>
                    </a:lnTo>
                    <a:lnTo>
                      <a:pt x="5055" y="4071"/>
                    </a:lnTo>
                    <a:lnTo>
                      <a:pt x="5040" y="4071"/>
                    </a:lnTo>
                    <a:lnTo>
                      <a:pt x="5023" y="4071"/>
                    </a:lnTo>
                    <a:lnTo>
                      <a:pt x="5007" y="4071"/>
                    </a:lnTo>
                    <a:lnTo>
                      <a:pt x="4990" y="4071"/>
                    </a:lnTo>
                    <a:lnTo>
                      <a:pt x="4975" y="4071"/>
                    </a:lnTo>
                    <a:lnTo>
                      <a:pt x="4958" y="4071"/>
                    </a:lnTo>
                    <a:lnTo>
                      <a:pt x="4942" y="4071"/>
                    </a:lnTo>
                    <a:lnTo>
                      <a:pt x="4926" y="4071"/>
                    </a:lnTo>
                    <a:lnTo>
                      <a:pt x="4910" y="4071"/>
                    </a:lnTo>
                    <a:lnTo>
                      <a:pt x="4893" y="4071"/>
                    </a:lnTo>
                    <a:lnTo>
                      <a:pt x="4878" y="4071"/>
                    </a:lnTo>
                    <a:lnTo>
                      <a:pt x="4861" y="4071"/>
                    </a:lnTo>
                    <a:lnTo>
                      <a:pt x="4845" y="4071"/>
                    </a:lnTo>
                    <a:lnTo>
                      <a:pt x="4828" y="4071"/>
                    </a:lnTo>
                    <a:lnTo>
                      <a:pt x="4813" y="4071"/>
                    </a:lnTo>
                    <a:lnTo>
                      <a:pt x="4796" y="4071"/>
                    </a:lnTo>
                    <a:lnTo>
                      <a:pt x="4780" y="4071"/>
                    </a:lnTo>
                    <a:lnTo>
                      <a:pt x="4763" y="4071"/>
                    </a:lnTo>
                    <a:lnTo>
                      <a:pt x="4748" y="4071"/>
                    </a:lnTo>
                    <a:lnTo>
                      <a:pt x="4731" y="4071"/>
                    </a:lnTo>
                    <a:lnTo>
                      <a:pt x="4715" y="4071"/>
                    </a:lnTo>
                    <a:lnTo>
                      <a:pt x="4698" y="4071"/>
                    </a:lnTo>
                    <a:lnTo>
                      <a:pt x="4681" y="4071"/>
                    </a:lnTo>
                    <a:lnTo>
                      <a:pt x="4666" y="4071"/>
                    </a:lnTo>
                    <a:lnTo>
                      <a:pt x="4649" y="4071"/>
                    </a:lnTo>
                    <a:lnTo>
                      <a:pt x="4633" y="4071"/>
                    </a:lnTo>
                    <a:lnTo>
                      <a:pt x="4616" y="4071"/>
                    </a:lnTo>
                    <a:lnTo>
                      <a:pt x="4601" y="4071"/>
                    </a:lnTo>
                    <a:lnTo>
                      <a:pt x="4584" y="4071"/>
                    </a:lnTo>
                    <a:lnTo>
                      <a:pt x="4568" y="4071"/>
                    </a:lnTo>
                    <a:lnTo>
                      <a:pt x="4552" y="4071"/>
                    </a:lnTo>
                    <a:lnTo>
                      <a:pt x="4536" y="4071"/>
                    </a:lnTo>
                    <a:lnTo>
                      <a:pt x="4519" y="4071"/>
                    </a:lnTo>
                    <a:lnTo>
                      <a:pt x="4504" y="4071"/>
                    </a:lnTo>
                    <a:lnTo>
                      <a:pt x="4487" y="4071"/>
                    </a:lnTo>
                    <a:lnTo>
                      <a:pt x="4471" y="4071"/>
                    </a:lnTo>
                    <a:lnTo>
                      <a:pt x="4454" y="4071"/>
                    </a:lnTo>
                    <a:lnTo>
                      <a:pt x="4439" y="4071"/>
                    </a:lnTo>
                    <a:lnTo>
                      <a:pt x="4422" y="4071"/>
                    </a:lnTo>
                    <a:lnTo>
                      <a:pt x="4406" y="4071"/>
                    </a:lnTo>
                    <a:lnTo>
                      <a:pt x="4389" y="4071"/>
                    </a:lnTo>
                    <a:lnTo>
                      <a:pt x="4374" y="4071"/>
                    </a:lnTo>
                    <a:lnTo>
                      <a:pt x="4357" y="4071"/>
                    </a:lnTo>
                    <a:lnTo>
                      <a:pt x="4341" y="4071"/>
                    </a:lnTo>
                    <a:lnTo>
                      <a:pt x="4324" y="4071"/>
                    </a:lnTo>
                    <a:lnTo>
                      <a:pt x="4309" y="4071"/>
                    </a:lnTo>
                    <a:lnTo>
                      <a:pt x="4292" y="4071"/>
                    </a:lnTo>
                    <a:lnTo>
                      <a:pt x="4276" y="4071"/>
                    </a:lnTo>
                    <a:lnTo>
                      <a:pt x="4259" y="4071"/>
                    </a:lnTo>
                    <a:lnTo>
                      <a:pt x="4242" y="4071"/>
                    </a:lnTo>
                    <a:lnTo>
                      <a:pt x="4227" y="4071"/>
                    </a:lnTo>
                    <a:lnTo>
                      <a:pt x="4210" y="4071"/>
                    </a:lnTo>
                    <a:lnTo>
                      <a:pt x="4194" y="4071"/>
                    </a:lnTo>
                    <a:lnTo>
                      <a:pt x="4178" y="4071"/>
                    </a:lnTo>
                    <a:lnTo>
                      <a:pt x="4162" y="4071"/>
                    </a:lnTo>
                    <a:lnTo>
                      <a:pt x="4145" y="4071"/>
                    </a:lnTo>
                    <a:lnTo>
                      <a:pt x="4130" y="4071"/>
                    </a:lnTo>
                    <a:lnTo>
                      <a:pt x="4113" y="4071"/>
                    </a:lnTo>
                    <a:lnTo>
                      <a:pt x="4097" y="4071"/>
                    </a:lnTo>
                    <a:lnTo>
                      <a:pt x="4080" y="4071"/>
                    </a:lnTo>
                    <a:lnTo>
                      <a:pt x="4065" y="4071"/>
                    </a:lnTo>
                    <a:lnTo>
                      <a:pt x="4048" y="4071"/>
                    </a:lnTo>
                    <a:lnTo>
                      <a:pt x="4032" y="4071"/>
                    </a:lnTo>
                    <a:lnTo>
                      <a:pt x="4015" y="4071"/>
                    </a:lnTo>
                    <a:lnTo>
                      <a:pt x="4000" y="4071"/>
                    </a:lnTo>
                    <a:lnTo>
                      <a:pt x="3983" y="4071"/>
                    </a:lnTo>
                    <a:lnTo>
                      <a:pt x="3967" y="4071"/>
                    </a:lnTo>
                    <a:lnTo>
                      <a:pt x="3950" y="4071"/>
                    </a:lnTo>
                    <a:lnTo>
                      <a:pt x="3935" y="4071"/>
                    </a:lnTo>
                    <a:lnTo>
                      <a:pt x="3918" y="4071"/>
                    </a:lnTo>
                    <a:lnTo>
                      <a:pt x="3902" y="4071"/>
                    </a:lnTo>
                    <a:lnTo>
                      <a:pt x="3885" y="4071"/>
                    </a:lnTo>
                    <a:lnTo>
                      <a:pt x="3870" y="4071"/>
                    </a:lnTo>
                    <a:lnTo>
                      <a:pt x="3853" y="4071"/>
                    </a:lnTo>
                    <a:lnTo>
                      <a:pt x="3836" y="4071"/>
                    </a:lnTo>
                    <a:lnTo>
                      <a:pt x="3820" y="4071"/>
                    </a:lnTo>
                    <a:lnTo>
                      <a:pt x="3804" y="4071"/>
                    </a:lnTo>
                    <a:lnTo>
                      <a:pt x="3788" y="4071"/>
                    </a:lnTo>
                    <a:lnTo>
                      <a:pt x="3771" y="4071"/>
                    </a:lnTo>
                    <a:lnTo>
                      <a:pt x="3756" y="4071"/>
                    </a:lnTo>
                    <a:lnTo>
                      <a:pt x="3739" y="4071"/>
                    </a:lnTo>
                    <a:lnTo>
                      <a:pt x="3723" y="4071"/>
                    </a:lnTo>
                    <a:lnTo>
                      <a:pt x="3706" y="4071"/>
                    </a:lnTo>
                    <a:lnTo>
                      <a:pt x="3691" y="4071"/>
                    </a:lnTo>
                    <a:lnTo>
                      <a:pt x="3674" y="4071"/>
                    </a:lnTo>
                    <a:lnTo>
                      <a:pt x="3658" y="4071"/>
                    </a:lnTo>
                    <a:lnTo>
                      <a:pt x="3641" y="4071"/>
                    </a:lnTo>
                    <a:lnTo>
                      <a:pt x="3626" y="4071"/>
                    </a:lnTo>
                    <a:lnTo>
                      <a:pt x="3609" y="4071"/>
                    </a:lnTo>
                    <a:lnTo>
                      <a:pt x="3593" y="4071"/>
                    </a:lnTo>
                    <a:lnTo>
                      <a:pt x="3576" y="4071"/>
                    </a:lnTo>
                    <a:lnTo>
                      <a:pt x="3561" y="4071"/>
                    </a:lnTo>
                    <a:lnTo>
                      <a:pt x="3544" y="4071"/>
                    </a:lnTo>
                    <a:lnTo>
                      <a:pt x="3528" y="4071"/>
                    </a:lnTo>
                    <a:lnTo>
                      <a:pt x="3511" y="4071"/>
                    </a:lnTo>
                    <a:lnTo>
                      <a:pt x="3496" y="4071"/>
                    </a:lnTo>
                    <a:lnTo>
                      <a:pt x="3479" y="4071"/>
                    </a:lnTo>
                    <a:lnTo>
                      <a:pt x="3463" y="4071"/>
                    </a:lnTo>
                    <a:lnTo>
                      <a:pt x="3446" y="4071"/>
                    </a:lnTo>
                    <a:lnTo>
                      <a:pt x="3431" y="4071"/>
                    </a:lnTo>
                    <a:lnTo>
                      <a:pt x="3414" y="4071"/>
                    </a:lnTo>
                    <a:lnTo>
                      <a:pt x="3397" y="4071"/>
                    </a:lnTo>
                    <a:lnTo>
                      <a:pt x="3382" y="4071"/>
                    </a:lnTo>
                    <a:lnTo>
                      <a:pt x="3365" y="4071"/>
                    </a:lnTo>
                    <a:lnTo>
                      <a:pt x="3349" y="4071"/>
                    </a:lnTo>
                    <a:lnTo>
                      <a:pt x="3332" y="4071"/>
                    </a:lnTo>
                    <a:lnTo>
                      <a:pt x="3317" y="4071"/>
                    </a:lnTo>
                    <a:lnTo>
                      <a:pt x="3300" y="4071"/>
                    </a:lnTo>
                    <a:lnTo>
                      <a:pt x="3284" y="4071"/>
                    </a:lnTo>
                    <a:lnTo>
                      <a:pt x="3267" y="4071"/>
                    </a:lnTo>
                    <a:lnTo>
                      <a:pt x="3252" y="4071"/>
                    </a:lnTo>
                    <a:lnTo>
                      <a:pt x="3235" y="4071"/>
                    </a:lnTo>
                    <a:lnTo>
                      <a:pt x="3219" y="4071"/>
                    </a:lnTo>
                    <a:lnTo>
                      <a:pt x="3202" y="4071"/>
                    </a:lnTo>
                    <a:lnTo>
                      <a:pt x="3187" y="4071"/>
                    </a:lnTo>
                    <a:lnTo>
                      <a:pt x="3170" y="4071"/>
                    </a:lnTo>
                    <a:lnTo>
                      <a:pt x="3154" y="4071"/>
                    </a:lnTo>
                    <a:lnTo>
                      <a:pt x="3137" y="4071"/>
                    </a:lnTo>
                    <a:lnTo>
                      <a:pt x="3122" y="4071"/>
                    </a:lnTo>
                    <a:lnTo>
                      <a:pt x="3105" y="4071"/>
                    </a:lnTo>
                    <a:lnTo>
                      <a:pt x="3089" y="4071"/>
                    </a:lnTo>
                    <a:lnTo>
                      <a:pt x="3072" y="4071"/>
                    </a:lnTo>
                    <a:lnTo>
                      <a:pt x="3057" y="4071"/>
                    </a:lnTo>
                    <a:lnTo>
                      <a:pt x="3040" y="4071"/>
                    </a:lnTo>
                    <a:lnTo>
                      <a:pt x="3024" y="4071"/>
                    </a:lnTo>
                    <a:lnTo>
                      <a:pt x="3008" y="4071"/>
                    </a:lnTo>
                    <a:lnTo>
                      <a:pt x="2992" y="4071"/>
                    </a:lnTo>
                    <a:lnTo>
                      <a:pt x="2975" y="4071"/>
                    </a:lnTo>
                    <a:lnTo>
                      <a:pt x="2958" y="4071"/>
                    </a:lnTo>
                    <a:lnTo>
                      <a:pt x="2943" y="4071"/>
                    </a:lnTo>
                    <a:lnTo>
                      <a:pt x="2926" y="4071"/>
                    </a:lnTo>
                    <a:lnTo>
                      <a:pt x="2910" y="4071"/>
                    </a:lnTo>
                    <a:lnTo>
                      <a:pt x="2893" y="4071"/>
                    </a:lnTo>
                    <a:lnTo>
                      <a:pt x="2878" y="4071"/>
                    </a:lnTo>
                    <a:lnTo>
                      <a:pt x="2861" y="4071"/>
                    </a:lnTo>
                    <a:lnTo>
                      <a:pt x="2845" y="4071"/>
                    </a:lnTo>
                    <a:lnTo>
                      <a:pt x="2828" y="4071"/>
                    </a:lnTo>
                    <a:lnTo>
                      <a:pt x="2813" y="4071"/>
                    </a:lnTo>
                    <a:lnTo>
                      <a:pt x="2796" y="4071"/>
                    </a:lnTo>
                    <a:lnTo>
                      <a:pt x="2780" y="4071"/>
                    </a:lnTo>
                    <a:lnTo>
                      <a:pt x="2763" y="4071"/>
                    </a:lnTo>
                    <a:lnTo>
                      <a:pt x="2748" y="4071"/>
                    </a:lnTo>
                    <a:lnTo>
                      <a:pt x="2731" y="4071"/>
                    </a:lnTo>
                    <a:lnTo>
                      <a:pt x="2715" y="4071"/>
                    </a:lnTo>
                    <a:lnTo>
                      <a:pt x="2698" y="4071"/>
                    </a:lnTo>
                    <a:lnTo>
                      <a:pt x="2683" y="4071"/>
                    </a:lnTo>
                    <a:lnTo>
                      <a:pt x="2666" y="4071"/>
                    </a:lnTo>
                    <a:lnTo>
                      <a:pt x="2650" y="4071"/>
                    </a:lnTo>
                    <a:lnTo>
                      <a:pt x="2634" y="4071"/>
                    </a:lnTo>
                    <a:lnTo>
                      <a:pt x="2618" y="4071"/>
                    </a:lnTo>
                    <a:lnTo>
                      <a:pt x="2601" y="4071"/>
                    </a:lnTo>
                    <a:lnTo>
                      <a:pt x="2586" y="4071"/>
                    </a:lnTo>
                    <a:lnTo>
                      <a:pt x="2569" y="4071"/>
                    </a:lnTo>
                    <a:lnTo>
                      <a:pt x="2552" y="4071"/>
                    </a:lnTo>
                    <a:lnTo>
                      <a:pt x="2536" y="4071"/>
                    </a:lnTo>
                    <a:lnTo>
                      <a:pt x="2519" y="4071"/>
                    </a:lnTo>
                    <a:lnTo>
                      <a:pt x="2504" y="4071"/>
                    </a:lnTo>
                    <a:lnTo>
                      <a:pt x="2487" y="4071"/>
                    </a:lnTo>
                    <a:lnTo>
                      <a:pt x="2471" y="4071"/>
                    </a:lnTo>
                    <a:lnTo>
                      <a:pt x="2454" y="4071"/>
                    </a:lnTo>
                    <a:lnTo>
                      <a:pt x="2439" y="4071"/>
                    </a:lnTo>
                    <a:lnTo>
                      <a:pt x="2422" y="4071"/>
                    </a:lnTo>
                    <a:lnTo>
                      <a:pt x="2406" y="4071"/>
                    </a:lnTo>
                    <a:lnTo>
                      <a:pt x="2389" y="4071"/>
                    </a:lnTo>
                    <a:lnTo>
                      <a:pt x="2374" y="4071"/>
                    </a:lnTo>
                    <a:lnTo>
                      <a:pt x="2357" y="4071"/>
                    </a:lnTo>
                    <a:lnTo>
                      <a:pt x="2341" y="4071"/>
                    </a:lnTo>
                    <a:lnTo>
                      <a:pt x="2324" y="4071"/>
                    </a:lnTo>
                    <a:lnTo>
                      <a:pt x="2309" y="4071"/>
                    </a:lnTo>
                    <a:lnTo>
                      <a:pt x="2292" y="4071"/>
                    </a:lnTo>
                    <a:lnTo>
                      <a:pt x="2276" y="4071"/>
                    </a:lnTo>
                    <a:lnTo>
                      <a:pt x="2260" y="4071"/>
                    </a:lnTo>
                    <a:lnTo>
                      <a:pt x="2244" y="4071"/>
                    </a:lnTo>
                    <a:lnTo>
                      <a:pt x="2227" y="4071"/>
                    </a:lnTo>
                    <a:lnTo>
                      <a:pt x="2212" y="4071"/>
                    </a:lnTo>
                    <a:lnTo>
                      <a:pt x="2195" y="4071"/>
                    </a:lnTo>
                    <a:lnTo>
                      <a:pt x="2179" y="4071"/>
                    </a:lnTo>
                    <a:lnTo>
                      <a:pt x="2162" y="4071"/>
                    </a:lnTo>
                    <a:lnTo>
                      <a:pt x="2147" y="4071"/>
                    </a:lnTo>
                    <a:lnTo>
                      <a:pt x="2130" y="4071"/>
                    </a:lnTo>
                    <a:lnTo>
                      <a:pt x="2113" y="4071"/>
                    </a:lnTo>
                    <a:lnTo>
                      <a:pt x="2097" y="4071"/>
                    </a:lnTo>
                    <a:lnTo>
                      <a:pt x="2080" y="4071"/>
                    </a:lnTo>
                    <a:lnTo>
                      <a:pt x="2065" y="4071"/>
                    </a:lnTo>
                    <a:lnTo>
                      <a:pt x="2048" y="4071"/>
                    </a:lnTo>
                    <a:lnTo>
                      <a:pt x="2032" y="4071"/>
                    </a:lnTo>
                    <a:lnTo>
                      <a:pt x="2015" y="4071"/>
                    </a:lnTo>
                    <a:lnTo>
                      <a:pt x="2000" y="4071"/>
                    </a:lnTo>
                    <a:lnTo>
                      <a:pt x="1983" y="4071"/>
                    </a:lnTo>
                    <a:lnTo>
                      <a:pt x="1967" y="4071"/>
                    </a:lnTo>
                    <a:lnTo>
                      <a:pt x="1950" y="4071"/>
                    </a:lnTo>
                    <a:lnTo>
                      <a:pt x="1935" y="4071"/>
                    </a:lnTo>
                    <a:lnTo>
                      <a:pt x="1918" y="4071"/>
                    </a:lnTo>
                    <a:lnTo>
                      <a:pt x="1902" y="4071"/>
                    </a:lnTo>
                    <a:lnTo>
                      <a:pt x="1886" y="4071"/>
                    </a:lnTo>
                    <a:lnTo>
                      <a:pt x="1870" y="4071"/>
                    </a:lnTo>
                    <a:lnTo>
                      <a:pt x="1853" y="4071"/>
                    </a:lnTo>
                    <a:lnTo>
                      <a:pt x="1838" y="4071"/>
                    </a:lnTo>
                    <a:lnTo>
                      <a:pt x="1821" y="4071"/>
                    </a:lnTo>
                    <a:lnTo>
                      <a:pt x="1805" y="4071"/>
                    </a:lnTo>
                    <a:lnTo>
                      <a:pt x="1788" y="4071"/>
                    </a:lnTo>
                    <a:lnTo>
                      <a:pt x="1773" y="4071"/>
                    </a:lnTo>
                    <a:lnTo>
                      <a:pt x="1756" y="4071"/>
                    </a:lnTo>
                    <a:lnTo>
                      <a:pt x="1740" y="4071"/>
                    </a:lnTo>
                    <a:lnTo>
                      <a:pt x="1723" y="4071"/>
                    </a:lnTo>
                    <a:lnTo>
                      <a:pt x="1706" y="4071"/>
                    </a:lnTo>
                    <a:lnTo>
                      <a:pt x="1691" y="4071"/>
                    </a:lnTo>
                    <a:lnTo>
                      <a:pt x="1674" y="4071"/>
                    </a:lnTo>
                    <a:lnTo>
                      <a:pt x="1658" y="4071"/>
                    </a:lnTo>
                    <a:lnTo>
                      <a:pt x="1641" y="4071"/>
                    </a:lnTo>
                    <a:lnTo>
                      <a:pt x="1626" y="4071"/>
                    </a:lnTo>
                    <a:lnTo>
                      <a:pt x="1609" y="4071"/>
                    </a:lnTo>
                    <a:lnTo>
                      <a:pt x="1593" y="4071"/>
                    </a:lnTo>
                    <a:lnTo>
                      <a:pt x="1576" y="4071"/>
                    </a:lnTo>
                    <a:lnTo>
                      <a:pt x="1561" y="4071"/>
                    </a:lnTo>
                    <a:lnTo>
                      <a:pt x="1544" y="4071"/>
                    </a:lnTo>
                    <a:lnTo>
                      <a:pt x="1528" y="4071"/>
                    </a:lnTo>
                    <a:lnTo>
                      <a:pt x="1512" y="4071"/>
                    </a:lnTo>
                    <a:lnTo>
                      <a:pt x="1496" y="4071"/>
                    </a:lnTo>
                    <a:lnTo>
                      <a:pt x="1479" y="4071"/>
                    </a:lnTo>
                    <a:lnTo>
                      <a:pt x="1464" y="4071"/>
                    </a:lnTo>
                    <a:lnTo>
                      <a:pt x="1447" y="4071"/>
                    </a:lnTo>
                    <a:lnTo>
                      <a:pt x="1431" y="4071"/>
                    </a:lnTo>
                    <a:lnTo>
                      <a:pt x="1414" y="4071"/>
                    </a:lnTo>
                    <a:lnTo>
                      <a:pt x="1399" y="4071"/>
                    </a:lnTo>
                    <a:lnTo>
                      <a:pt x="1382" y="4071"/>
                    </a:lnTo>
                    <a:lnTo>
                      <a:pt x="1366" y="4071"/>
                    </a:lnTo>
                    <a:lnTo>
                      <a:pt x="1349" y="4071"/>
                    </a:lnTo>
                    <a:lnTo>
                      <a:pt x="1334" y="4071"/>
                    </a:lnTo>
                    <a:lnTo>
                      <a:pt x="1317" y="4071"/>
                    </a:lnTo>
                    <a:lnTo>
                      <a:pt x="1301" y="4071"/>
                    </a:lnTo>
                    <a:lnTo>
                      <a:pt x="1284" y="4071"/>
                    </a:lnTo>
                    <a:lnTo>
                      <a:pt x="1267" y="4071"/>
                    </a:lnTo>
                    <a:lnTo>
                      <a:pt x="1252" y="4071"/>
                    </a:lnTo>
                    <a:lnTo>
                      <a:pt x="1235" y="4071"/>
                    </a:lnTo>
                    <a:lnTo>
                      <a:pt x="1219" y="4071"/>
                    </a:lnTo>
                    <a:lnTo>
                      <a:pt x="1202" y="4071"/>
                    </a:lnTo>
                    <a:lnTo>
                      <a:pt x="1187" y="4071"/>
                    </a:lnTo>
                    <a:lnTo>
                      <a:pt x="1170" y="4071"/>
                    </a:lnTo>
                    <a:lnTo>
                      <a:pt x="1154" y="4071"/>
                    </a:lnTo>
                    <a:lnTo>
                      <a:pt x="1138" y="4071"/>
                    </a:lnTo>
                    <a:lnTo>
                      <a:pt x="1122" y="4071"/>
                    </a:lnTo>
                    <a:lnTo>
                      <a:pt x="1105" y="4071"/>
                    </a:lnTo>
                    <a:lnTo>
                      <a:pt x="1090" y="4071"/>
                    </a:lnTo>
                    <a:lnTo>
                      <a:pt x="1073" y="4071"/>
                    </a:lnTo>
                    <a:lnTo>
                      <a:pt x="1057" y="4071"/>
                    </a:lnTo>
                    <a:lnTo>
                      <a:pt x="1040" y="4071"/>
                    </a:lnTo>
                    <a:lnTo>
                      <a:pt x="1025" y="4071"/>
                    </a:lnTo>
                    <a:lnTo>
                      <a:pt x="1008" y="4071"/>
                    </a:lnTo>
                    <a:lnTo>
                      <a:pt x="992" y="4071"/>
                    </a:lnTo>
                    <a:lnTo>
                      <a:pt x="975" y="4071"/>
                    </a:lnTo>
                    <a:lnTo>
                      <a:pt x="960" y="4071"/>
                    </a:lnTo>
                    <a:lnTo>
                      <a:pt x="943" y="4071"/>
                    </a:lnTo>
                    <a:lnTo>
                      <a:pt x="927" y="4071"/>
                    </a:lnTo>
                    <a:lnTo>
                      <a:pt x="910" y="4071"/>
                    </a:lnTo>
                    <a:lnTo>
                      <a:pt x="895" y="4071"/>
                    </a:lnTo>
                    <a:lnTo>
                      <a:pt x="878" y="4071"/>
                    </a:lnTo>
                    <a:lnTo>
                      <a:pt x="862" y="4071"/>
                    </a:lnTo>
                    <a:lnTo>
                      <a:pt x="845" y="4071"/>
                    </a:lnTo>
                    <a:lnTo>
                      <a:pt x="828" y="4071"/>
                    </a:lnTo>
                    <a:lnTo>
                      <a:pt x="813" y="4071"/>
                    </a:lnTo>
                    <a:lnTo>
                      <a:pt x="796" y="4071"/>
                    </a:lnTo>
                    <a:lnTo>
                      <a:pt x="780" y="4071"/>
                    </a:lnTo>
                    <a:lnTo>
                      <a:pt x="764" y="4071"/>
                    </a:lnTo>
                    <a:lnTo>
                      <a:pt x="748" y="4071"/>
                    </a:lnTo>
                    <a:lnTo>
                      <a:pt x="731" y="4071"/>
                    </a:lnTo>
                    <a:lnTo>
                      <a:pt x="716" y="4071"/>
                    </a:lnTo>
                    <a:lnTo>
                      <a:pt x="699" y="4071"/>
                    </a:lnTo>
                    <a:lnTo>
                      <a:pt x="683" y="4071"/>
                    </a:lnTo>
                    <a:lnTo>
                      <a:pt x="666" y="4071"/>
                    </a:lnTo>
                    <a:lnTo>
                      <a:pt x="651" y="4071"/>
                    </a:lnTo>
                    <a:lnTo>
                      <a:pt x="634" y="4071"/>
                    </a:lnTo>
                    <a:lnTo>
                      <a:pt x="618" y="4071"/>
                    </a:lnTo>
                    <a:lnTo>
                      <a:pt x="601" y="4071"/>
                    </a:lnTo>
                    <a:lnTo>
                      <a:pt x="586" y="4071"/>
                    </a:lnTo>
                    <a:lnTo>
                      <a:pt x="569" y="4071"/>
                    </a:lnTo>
                    <a:lnTo>
                      <a:pt x="553" y="4071"/>
                    </a:lnTo>
                    <a:lnTo>
                      <a:pt x="536" y="4071"/>
                    </a:lnTo>
                    <a:lnTo>
                      <a:pt x="521" y="4071"/>
                    </a:lnTo>
                    <a:lnTo>
                      <a:pt x="504" y="4071"/>
                    </a:lnTo>
                    <a:lnTo>
                      <a:pt x="488" y="4071"/>
                    </a:lnTo>
                    <a:lnTo>
                      <a:pt x="471" y="4071"/>
                    </a:lnTo>
                    <a:lnTo>
                      <a:pt x="456" y="4071"/>
                    </a:lnTo>
                    <a:lnTo>
                      <a:pt x="439" y="4071"/>
                    </a:lnTo>
                    <a:lnTo>
                      <a:pt x="422" y="4071"/>
                    </a:lnTo>
                    <a:lnTo>
                      <a:pt x="406" y="4071"/>
                    </a:lnTo>
                    <a:lnTo>
                      <a:pt x="390" y="4071"/>
                    </a:lnTo>
                    <a:lnTo>
                      <a:pt x="374" y="4071"/>
                    </a:lnTo>
                    <a:lnTo>
                      <a:pt x="357" y="4071"/>
                    </a:lnTo>
                    <a:lnTo>
                      <a:pt x="342" y="4071"/>
                    </a:lnTo>
                    <a:lnTo>
                      <a:pt x="325" y="4071"/>
                    </a:lnTo>
                    <a:lnTo>
                      <a:pt x="309" y="4071"/>
                    </a:lnTo>
                    <a:lnTo>
                      <a:pt x="292" y="4071"/>
                    </a:lnTo>
                    <a:lnTo>
                      <a:pt x="277" y="4071"/>
                    </a:lnTo>
                    <a:lnTo>
                      <a:pt x="260" y="4071"/>
                    </a:lnTo>
                    <a:lnTo>
                      <a:pt x="244" y="4071"/>
                    </a:lnTo>
                    <a:lnTo>
                      <a:pt x="227" y="4071"/>
                    </a:lnTo>
                    <a:lnTo>
                      <a:pt x="212" y="4071"/>
                    </a:lnTo>
                    <a:lnTo>
                      <a:pt x="195" y="4071"/>
                    </a:lnTo>
                    <a:lnTo>
                      <a:pt x="179" y="4071"/>
                    </a:lnTo>
                    <a:lnTo>
                      <a:pt x="162" y="4071"/>
                    </a:lnTo>
                    <a:lnTo>
                      <a:pt x="147" y="4071"/>
                    </a:lnTo>
                    <a:lnTo>
                      <a:pt x="130" y="4071"/>
                    </a:lnTo>
                    <a:lnTo>
                      <a:pt x="114" y="4071"/>
                    </a:lnTo>
                    <a:lnTo>
                      <a:pt x="97" y="4071"/>
                    </a:lnTo>
                    <a:lnTo>
                      <a:pt x="82" y="4071"/>
                    </a:lnTo>
                    <a:lnTo>
                      <a:pt x="65" y="4071"/>
                    </a:lnTo>
                    <a:lnTo>
                      <a:pt x="49" y="4071"/>
                    </a:lnTo>
                    <a:lnTo>
                      <a:pt x="32" y="4071"/>
                    </a:lnTo>
                    <a:lnTo>
                      <a:pt x="17" y="4071"/>
                    </a:lnTo>
                    <a:lnTo>
                      <a:pt x="0" y="4071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306360" y="362160"/>
                <a:ext cx="560160" cy="389880"/>
              </a:xfrm>
              <a:custGeom>
                <a:avLst/>
                <a:gdLst/>
                <a:ahLst/>
                <a:rect l="l" t="t" r="r" b="b"/>
                <a:pathLst>
                  <a:path w="6486" h="4071">
                    <a:moveTo>
                      <a:pt x="0" y="4071"/>
                    </a:moveTo>
                    <a:lnTo>
                      <a:pt x="0" y="4071"/>
                    </a:lnTo>
                    <a:lnTo>
                      <a:pt x="17" y="4054"/>
                    </a:lnTo>
                    <a:lnTo>
                      <a:pt x="32" y="4021"/>
                    </a:lnTo>
                    <a:lnTo>
                      <a:pt x="49" y="3979"/>
                    </a:lnTo>
                    <a:lnTo>
                      <a:pt x="65" y="3928"/>
                    </a:lnTo>
                    <a:lnTo>
                      <a:pt x="82" y="3868"/>
                    </a:lnTo>
                    <a:lnTo>
                      <a:pt x="97" y="3809"/>
                    </a:lnTo>
                    <a:lnTo>
                      <a:pt x="114" y="3751"/>
                    </a:lnTo>
                    <a:lnTo>
                      <a:pt x="130" y="3683"/>
                    </a:lnTo>
                    <a:lnTo>
                      <a:pt x="147" y="3616"/>
                    </a:lnTo>
                    <a:lnTo>
                      <a:pt x="162" y="3548"/>
                    </a:lnTo>
                    <a:lnTo>
                      <a:pt x="179" y="3472"/>
                    </a:lnTo>
                    <a:lnTo>
                      <a:pt x="195" y="3404"/>
                    </a:lnTo>
                    <a:lnTo>
                      <a:pt x="212" y="3329"/>
                    </a:lnTo>
                    <a:lnTo>
                      <a:pt x="227" y="3252"/>
                    </a:lnTo>
                    <a:lnTo>
                      <a:pt x="244" y="3176"/>
                    </a:lnTo>
                    <a:lnTo>
                      <a:pt x="260" y="3108"/>
                    </a:lnTo>
                    <a:lnTo>
                      <a:pt x="277" y="3033"/>
                    </a:lnTo>
                    <a:lnTo>
                      <a:pt x="292" y="2956"/>
                    </a:lnTo>
                    <a:lnTo>
                      <a:pt x="309" y="2881"/>
                    </a:lnTo>
                    <a:lnTo>
                      <a:pt x="325" y="2804"/>
                    </a:lnTo>
                    <a:lnTo>
                      <a:pt x="342" y="2728"/>
                    </a:lnTo>
                    <a:lnTo>
                      <a:pt x="357" y="2653"/>
                    </a:lnTo>
                    <a:lnTo>
                      <a:pt x="374" y="2576"/>
                    </a:lnTo>
                    <a:lnTo>
                      <a:pt x="390" y="2501"/>
                    </a:lnTo>
                    <a:lnTo>
                      <a:pt x="406" y="2432"/>
                    </a:lnTo>
                    <a:lnTo>
                      <a:pt x="422" y="2357"/>
                    </a:lnTo>
                    <a:lnTo>
                      <a:pt x="439" y="2289"/>
                    </a:lnTo>
                    <a:lnTo>
                      <a:pt x="456" y="2213"/>
                    </a:lnTo>
                    <a:lnTo>
                      <a:pt x="471" y="2145"/>
                    </a:lnTo>
                    <a:lnTo>
                      <a:pt x="488" y="2079"/>
                    </a:lnTo>
                    <a:lnTo>
                      <a:pt x="504" y="2010"/>
                    </a:lnTo>
                    <a:lnTo>
                      <a:pt x="521" y="1944"/>
                    </a:lnTo>
                    <a:lnTo>
                      <a:pt x="536" y="1875"/>
                    </a:lnTo>
                    <a:lnTo>
                      <a:pt x="553" y="1807"/>
                    </a:lnTo>
                    <a:lnTo>
                      <a:pt x="569" y="1749"/>
                    </a:lnTo>
                    <a:lnTo>
                      <a:pt x="586" y="1681"/>
                    </a:lnTo>
                    <a:lnTo>
                      <a:pt x="601" y="1622"/>
                    </a:lnTo>
                    <a:lnTo>
                      <a:pt x="618" y="1562"/>
                    </a:lnTo>
                    <a:lnTo>
                      <a:pt x="634" y="1504"/>
                    </a:lnTo>
                    <a:lnTo>
                      <a:pt x="651" y="1445"/>
                    </a:lnTo>
                    <a:lnTo>
                      <a:pt x="666" y="1385"/>
                    </a:lnTo>
                    <a:lnTo>
                      <a:pt x="683" y="1334"/>
                    </a:lnTo>
                    <a:lnTo>
                      <a:pt x="699" y="1275"/>
                    </a:lnTo>
                    <a:lnTo>
                      <a:pt x="716" y="1226"/>
                    </a:lnTo>
                    <a:lnTo>
                      <a:pt x="731" y="1175"/>
                    </a:lnTo>
                    <a:lnTo>
                      <a:pt x="748" y="1124"/>
                    </a:lnTo>
                    <a:lnTo>
                      <a:pt x="764" y="1073"/>
                    </a:lnTo>
                    <a:lnTo>
                      <a:pt x="780" y="1023"/>
                    </a:lnTo>
                    <a:lnTo>
                      <a:pt x="796" y="981"/>
                    </a:lnTo>
                    <a:lnTo>
                      <a:pt x="813" y="930"/>
                    </a:lnTo>
                    <a:lnTo>
                      <a:pt x="828" y="888"/>
                    </a:lnTo>
                    <a:lnTo>
                      <a:pt x="845" y="844"/>
                    </a:lnTo>
                    <a:lnTo>
                      <a:pt x="862" y="802"/>
                    </a:lnTo>
                    <a:lnTo>
                      <a:pt x="878" y="760"/>
                    </a:lnTo>
                    <a:lnTo>
                      <a:pt x="895" y="727"/>
                    </a:lnTo>
                    <a:lnTo>
                      <a:pt x="910" y="685"/>
                    </a:lnTo>
                    <a:lnTo>
                      <a:pt x="927" y="651"/>
                    </a:lnTo>
                    <a:lnTo>
                      <a:pt x="943" y="608"/>
                    </a:lnTo>
                    <a:lnTo>
                      <a:pt x="960" y="574"/>
                    </a:lnTo>
                    <a:lnTo>
                      <a:pt x="975" y="541"/>
                    </a:lnTo>
                    <a:lnTo>
                      <a:pt x="992" y="508"/>
                    </a:lnTo>
                    <a:lnTo>
                      <a:pt x="1008" y="482"/>
                    </a:lnTo>
                    <a:lnTo>
                      <a:pt x="1025" y="448"/>
                    </a:lnTo>
                    <a:lnTo>
                      <a:pt x="1040" y="422"/>
                    </a:lnTo>
                    <a:lnTo>
                      <a:pt x="1057" y="389"/>
                    </a:lnTo>
                    <a:lnTo>
                      <a:pt x="1073" y="364"/>
                    </a:lnTo>
                    <a:lnTo>
                      <a:pt x="1090" y="338"/>
                    </a:lnTo>
                    <a:lnTo>
                      <a:pt x="1105" y="313"/>
                    </a:lnTo>
                    <a:lnTo>
                      <a:pt x="1122" y="287"/>
                    </a:lnTo>
                    <a:lnTo>
                      <a:pt x="1138" y="271"/>
                    </a:lnTo>
                    <a:lnTo>
                      <a:pt x="1154" y="245"/>
                    </a:lnTo>
                    <a:lnTo>
                      <a:pt x="1170" y="228"/>
                    </a:lnTo>
                    <a:lnTo>
                      <a:pt x="1187" y="203"/>
                    </a:lnTo>
                    <a:lnTo>
                      <a:pt x="1202" y="186"/>
                    </a:lnTo>
                    <a:lnTo>
                      <a:pt x="1219" y="170"/>
                    </a:lnTo>
                    <a:lnTo>
                      <a:pt x="1235" y="152"/>
                    </a:lnTo>
                    <a:lnTo>
                      <a:pt x="1252" y="135"/>
                    </a:lnTo>
                    <a:lnTo>
                      <a:pt x="1267" y="128"/>
                    </a:lnTo>
                    <a:lnTo>
                      <a:pt x="1284" y="110"/>
                    </a:lnTo>
                    <a:lnTo>
                      <a:pt x="1301" y="93"/>
                    </a:lnTo>
                    <a:lnTo>
                      <a:pt x="1317" y="84"/>
                    </a:lnTo>
                    <a:lnTo>
                      <a:pt x="1334" y="77"/>
                    </a:lnTo>
                    <a:lnTo>
                      <a:pt x="1349" y="60"/>
                    </a:lnTo>
                    <a:lnTo>
                      <a:pt x="1366" y="51"/>
                    </a:lnTo>
                    <a:lnTo>
                      <a:pt x="1382" y="42"/>
                    </a:lnTo>
                    <a:lnTo>
                      <a:pt x="1399" y="33"/>
                    </a:lnTo>
                    <a:lnTo>
                      <a:pt x="1414" y="33"/>
                    </a:lnTo>
                    <a:lnTo>
                      <a:pt x="1431" y="26"/>
                    </a:lnTo>
                    <a:lnTo>
                      <a:pt x="1447" y="17"/>
                    </a:lnTo>
                    <a:lnTo>
                      <a:pt x="1464" y="17"/>
                    </a:lnTo>
                    <a:lnTo>
                      <a:pt x="1479" y="9"/>
                    </a:lnTo>
                    <a:lnTo>
                      <a:pt x="1496" y="9"/>
                    </a:lnTo>
                    <a:lnTo>
                      <a:pt x="1512" y="9"/>
                    </a:lnTo>
                    <a:lnTo>
                      <a:pt x="1528" y="0"/>
                    </a:lnTo>
                    <a:lnTo>
                      <a:pt x="1544" y="0"/>
                    </a:lnTo>
                    <a:lnTo>
                      <a:pt x="1561" y="0"/>
                    </a:lnTo>
                    <a:lnTo>
                      <a:pt x="1576" y="0"/>
                    </a:lnTo>
                    <a:lnTo>
                      <a:pt x="1593" y="0"/>
                    </a:lnTo>
                    <a:lnTo>
                      <a:pt x="1609" y="9"/>
                    </a:lnTo>
                    <a:lnTo>
                      <a:pt x="1626" y="9"/>
                    </a:lnTo>
                    <a:lnTo>
                      <a:pt x="1641" y="9"/>
                    </a:lnTo>
                    <a:lnTo>
                      <a:pt x="1658" y="17"/>
                    </a:lnTo>
                    <a:lnTo>
                      <a:pt x="1674" y="17"/>
                    </a:lnTo>
                    <a:lnTo>
                      <a:pt x="1691" y="26"/>
                    </a:lnTo>
                    <a:lnTo>
                      <a:pt x="1706" y="26"/>
                    </a:lnTo>
                    <a:lnTo>
                      <a:pt x="1723" y="33"/>
                    </a:lnTo>
                    <a:lnTo>
                      <a:pt x="1740" y="42"/>
                    </a:lnTo>
                    <a:lnTo>
                      <a:pt x="1756" y="42"/>
                    </a:lnTo>
                    <a:lnTo>
                      <a:pt x="1773" y="51"/>
                    </a:lnTo>
                    <a:lnTo>
                      <a:pt x="1788" y="60"/>
                    </a:lnTo>
                    <a:lnTo>
                      <a:pt x="1805" y="68"/>
                    </a:lnTo>
                    <a:lnTo>
                      <a:pt x="1821" y="77"/>
                    </a:lnTo>
                    <a:lnTo>
                      <a:pt x="1838" y="84"/>
                    </a:lnTo>
                    <a:lnTo>
                      <a:pt x="1853" y="93"/>
                    </a:lnTo>
                    <a:lnTo>
                      <a:pt x="1870" y="110"/>
                    </a:lnTo>
                    <a:lnTo>
                      <a:pt x="1886" y="119"/>
                    </a:lnTo>
                    <a:lnTo>
                      <a:pt x="1902" y="128"/>
                    </a:lnTo>
                    <a:lnTo>
                      <a:pt x="1918" y="135"/>
                    </a:lnTo>
                    <a:lnTo>
                      <a:pt x="1935" y="152"/>
                    </a:lnTo>
                    <a:lnTo>
                      <a:pt x="1950" y="161"/>
                    </a:lnTo>
                    <a:lnTo>
                      <a:pt x="1967" y="177"/>
                    </a:lnTo>
                    <a:lnTo>
                      <a:pt x="1983" y="186"/>
                    </a:lnTo>
                    <a:lnTo>
                      <a:pt x="2000" y="203"/>
                    </a:lnTo>
                    <a:lnTo>
                      <a:pt x="2015" y="212"/>
                    </a:lnTo>
                    <a:lnTo>
                      <a:pt x="2032" y="228"/>
                    </a:lnTo>
                    <a:lnTo>
                      <a:pt x="2048" y="245"/>
                    </a:lnTo>
                    <a:lnTo>
                      <a:pt x="2065" y="254"/>
                    </a:lnTo>
                    <a:lnTo>
                      <a:pt x="2080" y="271"/>
                    </a:lnTo>
                    <a:lnTo>
                      <a:pt x="2097" y="287"/>
                    </a:lnTo>
                    <a:lnTo>
                      <a:pt x="2113" y="305"/>
                    </a:lnTo>
                    <a:lnTo>
                      <a:pt x="2130" y="313"/>
                    </a:lnTo>
                    <a:lnTo>
                      <a:pt x="2147" y="329"/>
                    </a:lnTo>
                    <a:lnTo>
                      <a:pt x="2162" y="347"/>
                    </a:lnTo>
                    <a:lnTo>
                      <a:pt x="2179" y="364"/>
                    </a:lnTo>
                    <a:lnTo>
                      <a:pt x="2195" y="380"/>
                    </a:lnTo>
                    <a:lnTo>
                      <a:pt x="2212" y="397"/>
                    </a:lnTo>
                    <a:lnTo>
                      <a:pt x="2227" y="413"/>
                    </a:lnTo>
                    <a:lnTo>
                      <a:pt x="2244" y="431"/>
                    </a:lnTo>
                    <a:lnTo>
                      <a:pt x="2260" y="448"/>
                    </a:lnTo>
                    <a:lnTo>
                      <a:pt x="2276" y="464"/>
                    </a:lnTo>
                    <a:lnTo>
                      <a:pt x="2292" y="482"/>
                    </a:lnTo>
                    <a:lnTo>
                      <a:pt x="2309" y="508"/>
                    </a:lnTo>
                    <a:lnTo>
                      <a:pt x="2324" y="524"/>
                    </a:lnTo>
                    <a:lnTo>
                      <a:pt x="2341" y="541"/>
                    </a:lnTo>
                    <a:lnTo>
                      <a:pt x="2357" y="557"/>
                    </a:lnTo>
                    <a:lnTo>
                      <a:pt x="2374" y="574"/>
                    </a:lnTo>
                    <a:lnTo>
                      <a:pt x="2389" y="601"/>
                    </a:lnTo>
                    <a:lnTo>
                      <a:pt x="2406" y="616"/>
                    </a:lnTo>
                    <a:lnTo>
                      <a:pt x="2422" y="634"/>
                    </a:lnTo>
                    <a:lnTo>
                      <a:pt x="2439" y="651"/>
                    </a:lnTo>
                    <a:lnTo>
                      <a:pt x="2454" y="676"/>
                    </a:lnTo>
                    <a:lnTo>
                      <a:pt x="2471" y="693"/>
                    </a:lnTo>
                    <a:lnTo>
                      <a:pt x="2487" y="709"/>
                    </a:lnTo>
                    <a:lnTo>
                      <a:pt x="2504" y="727"/>
                    </a:lnTo>
                    <a:lnTo>
                      <a:pt x="2519" y="751"/>
                    </a:lnTo>
                    <a:lnTo>
                      <a:pt x="2536" y="769"/>
                    </a:lnTo>
                    <a:lnTo>
                      <a:pt x="2552" y="795"/>
                    </a:lnTo>
                    <a:lnTo>
                      <a:pt x="2569" y="811"/>
                    </a:lnTo>
                    <a:lnTo>
                      <a:pt x="2586" y="828"/>
                    </a:lnTo>
                    <a:lnTo>
                      <a:pt x="2601" y="853"/>
                    </a:lnTo>
                    <a:lnTo>
                      <a:pt x="2618" y="870"/>
                    </a:lnTo>
                    <a:lnTo>
                      <a:pt x="2634" y="888"/>
                    </a:lnTo>
                    <a:lnTo>
                      <a:pt x="2650" y="912"/>
                    </a:lnTo>
                    <a:lnTo>
                      <a:pt x="2666" y="930"/>
                    </a:lnTo>
                    <a:lnTo>
                      <a:pt x="2683" y="954"/>
                    </a:lnTo>
                    <a:lnTo>
                      <a:pt x="2698" y="972"/>
                    </a:lnTo>
                    <a:lnTo>
                      <a:pt x="2715" y="988"/>
                    </a:lnTo>
                    <a:lnTo>
                      <a:pt x="2731" y="1014"/>
                    </a:lnTo>
                    <a:lnTo>
                      <a:pt x="2748" y="1031"/>
                    </a:lnTo>
                    <a:lnTo>
                      <a:pt x="2763" y="1056"/>
                    </a:lnTo>
                    <a:lnTo>
                      <a:pt x="2780" y="1073"/>
                    </a:lnTo>
                    <a:lnTo>
                      <a:pt x="2796" y="1098"/>
                    </a:lnTo>
                    <a:lnTo>
                      <a:pt x="2813" y="1115"/>
                    </a:lnTo>
                    <a:lnTo>
                      <a:pt x="2828" y="1131"/>
                    </a:lnTo>
                    <a:lnTo>
                      <a:pt x="2845" y="1157"/>
                    </a:lnTo>
                    <a:lnTo>
                      <a:pt x="2861" y="1175"/>
                    </a:lnTo>
                    <a:lnTo>
                      <a:pt x="2878" y="1200"/>
                    </a:lnTo>
                    <a:lnTo>
                      <a:pt x="2893" y="1217"/>
                    </a:lnTo>
                    <a:lnTo>
                      <a:pt x="2910" y="1242"/>
                    </a:lnTo>
                    <a:lnTo>
                      <a:pt x="2926" y="1259"/>
                    </a:lnTo>
                    <a:lnTo>
                      <a:pt x="2943" y="1275"/>
                    </a:lnTo>
                    <a:lnTo>
                      <a:pt x="2958" y="1301"/>
                    </a:lnTo>
                    <a:lnTo>
                      <a:pt x="2975" y="1318"/>
                    </a:lnTo>
                    <a:lnTo>
                      <a:pt x="2992" y="1343"/>
                    </a:lnTo>
                    <a:lnTo>
                      <a:pt x="3008" y="1361"/>
                    </a:lnTo>
                    <a:lnTo>
                      <a:pt x="3024" y="1385"/>
                    </a:lnTo>
                    <a:lnTo>
                      <a:pt x="3040" y="1403"/>
                    </a:lnTo>
                    <a:lnTo>
                      <a:pt x="3057" y="1419"/>
                    </a:lnTo>
                    <a:lnTo>
                      <a:pt x="3072" y="1445"/>
                    </a:lnTo>
                    <a:lnTo>
                      <a:pt x="3089" y="1462"/>
                    </a:lnTo>
                    <a:lnTo>
                      <a:pt x="3105" y="1487"/>
                    </a:lnTo>
                    <a:lnTo>
                      <a:pt x="3122" y="1504"/>
                    </a:lnTo>
                    <a:lnTo>
                      <a:pt x="3137" y="1520"/>
                    </a:lnTo>
                    <a:lnTo>
                      <a:pt x="3154" y="1546"/>
                    </a:lnTo>
                    <a:lnTo>
                      <a:pt x="3170" y="1562"/>
                    </a:lnTo>
                    <a:lnTo>
                      <a:pt x="3187" y="1580"/>
                    </a:lnTo>
                    <a:lnTo>
                      <a:pt x="3202" y="1606"/>
                    </a:lnTo>
                    <a:lnTo>
                      <a:pt x="3219" y="1622"/>
                    </a:lnTo>
                    <a:lnTo>
                      <a:pt x="3235" y="1639"/>
                    </a:lnTo>
                    <a:lnTo>
                      <a:pt x="3252" y="1664"/>
                    </a:lnTo>
                    <a:lnTo>
                      <a:pt x="3267" y="1681"/>
                    </a:lnTo>
                    <a:lnTo>
                      <a:pt x="3284" y="1699"/>
                    </a:lnTo>
                    <a:lnTo>
                      <a:pt x="3300" y="1723"/>
                    </a:lnTo>
                    <a:lnTo>
                      <a:pt x="3317" y="1741"/>
                    </a:lnTo>
                    <a:lnTo>
                      <a:pt x="3332" y="1757"/>
                    </a:lnTo>
                    <a:lnTo>
                      <a:pt x="3349" y="1774"/>
                    </a:lnTo>
                    <a:lnTo>
                      <a:pt x="3365" y="1800"/>
                    </a:lnTo>
                    <a:lnTo>
                      <a:pt x="3382" y="1816"/>
                    </a:lnTo>
                    <a:lnTo>
                      <a:pt x="3397" y="1833"/>
                    </a:lnTo>
                    <a:lnTo>
                      <a:pt x="3414" y="1849"/>
                    </a:lnTo>
                    <a:lnTo>
                      <a:pt x="3431" y="1875"/>
                    </a:lnTo>
                    <a:lnTo>
                      <a:pt x="3446" y="1893"/>
                    </a:lnTo>
                    <a:lnTo>
                      <a:pt x="3463" y="1909"/>
                    </a:lnTo>
                    <a:lnTo>
                      <a:pt x="3479" y="1926"/>
                    </a:lnTo>
                    <a:lnTo>
                      <a:pt x="3496" y="1944"/>
                    </a:lnTo>
                    <a:lnTo>
                      <a:pt x="3511" y="1968"/>
                    </a:lnTo>
                    <a:lnTo>
                      <a:pt x="3528" y="1986"/>
                    </a:lnTo>
                    <a:lnTo>
                      <a:pt x="3544" y="2002"/>
                    </a:lnTo>
                    <a:lnTo>
                      <a:pt x="3561" y="2019"/>
                    </a:lnTo>
                    <a:lnTo>
                      <a:pt x="3576" y="2036"/>
                    </a:lnTo>
                    <a:lnTo>
                      <a:pt x="3593" y="2052"/>
                    </a:lnTo>
                    <a:lnTo>
                      <a:pt x="3609" y="2070"/>
                    </a:lnTo>
                    <a:lnTo>
                      <a:pt x="3626" y="2094"/>
                    </a:lnTo>
                    <a:lnTo>
                      <a:pt x="3641" y="2112"/>
                    </a:lnTo>
                    <a:lnTo>
                      <a:pt x="3658" y="2129"/>
                    </a:lnTo>
                    <a:lnTo>
                      <a:pt x="3674" y="2145"/>
                    </a:lnTo>
                    <a:lnTo>
                      <a:pt x="3691" y="2163"/>
                    </a:lnTo>
                    <a:lnTo>
                      <a:pt x="3706" y="2180"/>
                    </a:lnTo>
                    <a:lnTo>
                      <a:pt x="3723" y="2196"/>
                    </a:lnTo>
                    <a:lnTo>
                      <a:pt x="3739" y="2213"/>
                    </a:lnTo>
                    <a:lnTo>
                      <a:pt x="3756" y="2231"/>
                    </a:lnTo>
                    <a:lnTo>
                      <a:pt x="3771" y="2247"/>
                    </a:lnTo>
                    <a:lnTo>
                      <a:pt x="3788" y="2264"/>
                    </a:lnTo>
                    <a:lnTo>
                      <a:pt x="3804" y="2280"/>
                    </a:lnTo>
                    <a:lnTo>
                      <a:pt x="3820" y="2298"/>
                    </a:lnTo>
                    <a:lnTo>
                      <a:pt x="3836" y="2315"/>
                    </a:lnTo>
                    <a:lnTo>
                      <a:pt x="3853" y="2331"/>
                    </a:lnTo>
                    <a:lnTo>
                      <a:pt x="3870" y="2340"/>
                    </a:lnTo>
                    <a:lnTo>
                      <a:pt x="3885" y="2357"/>
                    </a:lnTo>
                    <a:lnTo>
                      <a:pt x="3902" y="2374"/>
                    </a:lnTo>
                    <a:lnTo>
                      <a:pt x="3918" y="2390"/>
                    </a:lnTo>
                    <a:lnTo>
                      <a:pt x="3935" y="2408"/>
                    </a:lnTo>
                    <a:lnTo>
                      <a:pt x="3950" y="2424"/>
                    </a:lnTo>
                    <a:lnTo>
                      <a:pt x="3967" y="2441"/>
                    </a:lnTo>
                    <a:lnTo>
                      <a:pt x="3983" y="2459"/>
                    </a:lnTo>
                    <a:lnTo>
                      <a:pt x="4000" y="2467"/>
                    </a:lnTo>
                    <a:lnTo>
                      <a:pt x="4015" y="2483"/>
                    </a:lnTo>
                    <a:lnTo>
                      <a:pt x="4032" y="2501"/>
                    </a:lnTo>
                    <a:lnTo>
                      <a:pt x="4048" y="2518"/>
                    </a:lnTo>
                    <a:lnTo>
                      <a:pt x="4065" y="2525"/>
                    </a:lnTo>
                    <a:lnTo>
                      <a:pt x="4080" y="2543"/>
                    </a:lnTo>
                    <a:lnTo>
                      <a:pt x="4097" y="2560"/>
                    </a:lnTo>
                    <a:lnTo>
                      <a:pt x="4113" y="2576"/>
                    </a:lnTo>
                    <a:lnTo>
                      <a:pt x="4130" y="2585"/>
                    </a:lnTo>
                    <a:lnTo>
                      <a:pt x="4145" y="2602"/>
                    </a:lnTo>
                    <a:lnTo>
                      <a:pt x="4162" y="2618"/>
                    </a:lnTo>
                    <a:lnTo>
                      <a:pt x="4178" y="2627"/>
                    </a:lnTo>
                    <a:lnTo>
                      <a:pt x="4194" y="2644"/>
                    </a:lnTo>
                    <a:lnTo>
                      <a:pt x="4210" y="2662"/>
                    </a:lnTo>
                    <a:lnTo>
                      <a:pt x="4227" y="2669"/>
                    </a:lnTo>
                    <a:lnTo>
                      <a:pt x="4242" y="2686"/>
                    </a:lnTo>
                    <a:lnTo>
                      <a:pt x="4259" y="2704"/>
                    </a:lnTo>
                    <a:lnTo>
                      <a:pt x="4276" y="2711"/>
                    </a:lnTo>
                    <a:lnTo>
                      <a:pt x="4292" y="2728"/>
                    </a:lnTo>
                    <a:lnTo>
                      <a:pt x="4309" y="2737"/>
                    </a:lnTo>
                    <a:lnTo>
                      <a:pt x="4324" y="2754"/>
                    </a:lnTo>
                    <a:lnTo>
                      <a:pt x="4341" y="2770"/>
                    </a:lnTo>
                    <a:lnTo>
                      <a:pt x="4357" y="2779"/>
                    </a:lnTo>
                    <a:lnTo>
                      <a:pt x="4374" y="2796"/>
                    </a:lnTo>
                    <a:lnTo>
                      <a:pt x="4389" y="2804"/>
                    </a:lnTo>
                    <a:lnTo>
                      <a:pt x="4406" y="2821"/>
                    </a:lnTo>
                    <a:lnTo>
                      <a:pt x="4422" y="2830"/>
                    </a:lnTo>
                    <a:lnTo>
                      <a:pt x="4439" y="2847"/>
                    </a:lnTo>
                    <a:lnTo>
                      <a:pt x="4454" y="2854"/>
                    </a:lnTo>
                    <a:lnTo>
                      <a:pt x="4471" y="2872"/>
                    </a:lnTo>
                    <a:lnTo>
                      <a:pt x="4487" y="2881"/>
                    </a:lnTo>
                    <a:lnTo>
                      <a:pt x="4504" y="2889"/>
                    </a:lnTo>
                    <a:lnTo>
                      <a:pt x="4519" y="2905"/>
                    </a:lnTo>
                    <a:lnTo>
                      <a:pt x="4536" y="2914"/>
                    </a:lnTo>
                    <a:lnTo>
                      <a:pt x="4552" y="2931"/>
                    </a:lnTo>
                    <a:lnTo>
                      <a:pt x="4568" y="2940"/>
                    </a:lnTo>
                    <a:lnTo>
                      <a:pt x="4584" y="2947"/>
                    </a:lnTo>
                    <a:lnTo>
                      <a:pt x="4601" y="2965"/>
                    </a:lnTo>
                    <a:lnTo>
                      <a:pt x="4616" y="2973"/>
                    </a:lnTo>
                    <a:lnTo>
                      <a:pt x="4633" y="2982"/>
                    </a:lnTo>
                    <a:lnTo>
                      <a:pt x="4649" y="2998"/>
                    </a:lnTo>
                    <a:lnTo>
                      <a:pt x="4666" y="3007"/>
                    </a:lnTo>
                    <a:lnTo>
                      <a:pt x="4681" y="3015"/>
                    </a:lnTo>
                    <a:lnTo>
                      <a:pt x="4698" y="3033"/>
                    </a:lnTo>
                    <a:lnTo>
                      <a:pt x="4715" y="3042"/>
                    </a:lnTo>
                    <a:lnTo>
                      <a:pt x="4731" y="3049"/>
                    </a:lnTo>
                    <a:lnTo>
                      <a:pt x="4748" y="3058"/>
                    </a:lnTo>
                    <a:lnTo>
                      <a:pt x="4763" y="3075"/>
                    </a:lnTo>
                    <a:lnTo>
                      <a:pt x="4780" y="3084"/>
                    </a:lnTo>
                    <a:lnTo>
                      <a:pt x="4796" y="3091"/>
                    </a:lnTo>
                    <a:lnTo>
                      <a:pt x="4813" y="3100"/>
                    </a:lnTo>
                    <a:lnTo>
                      <a:pt x="4828" y="3117"/>
                    </a:lnTo>
                    <a:lnTo>
                      <a:pt x="4845" y="3126"/>
                    </a:lnTo>
                    <a:lnTo>
                      <a:pt x="4861" y="3134"/>
                    </a:lnTo>
                    <a:lnTo>
                      <a:pt x="4878" y="3142"/>
                    </a:lnTo>
                    <a:lnTo>
                      <a:pt x="4893" y="3150"/>
                    </a:lnTo>
                    <a:lnTo>
                      <a:pt x="4910" y="3159"/>
                    </a:lnTo>
                    <a:lnTo>
                      <a:pt x="4926" y="3176"/>
                    </a:lnTo>
                    <a:lnTo>
                      <a:pt x="4942" y="3185"/>
                    </a:lnTo>
                    <a:lnTo>
                      <a:pt x="4958" y="3192"/>
                    </a:lnTo>
                    <a:lnTo>
                      <a:pt x="4975" y="3201"/>
                    </a:lnTo>
                    <a:lnTo>
                      <a:pt x="4990" y="3210"/>
                    </a:lnTo>
                    <a:lnTo>
                      <a:pt x="5007" y="3219"/>
                    </a:lnTo>
                    <a:lnTo>
                      <a:pt x="5023" y="3227"/>
                    </a:lnTo>
                    <a:lnTo>
                      <a:pt x="5040" y="3235"/>
                    </a:lnTo>
                    <a:lnTo>
                      <a:pt x="5055" y="3243"/>
                    </a:lnTo>
                    <a:lnTo>
                      <a:pt x="5072" y="3252"/>
                    </a:lnTo>
                    <a:lnTo>
                      <a:pt x="5088" y="3261"/>
                    </a:lnTo>
                    <a:lnTo>
                      <a:pt x="5105" y="3269"/>
                    </a:lnTo>
                    <a:lnTo>
                      <a:pt x="5120" y="3278"/>
                    </a:lnTo>
                    <a:lnTo>
                      <a:pt x="5137" y="3294"/>
                    </a:lnTo>
                    <a:lnTo>
                      <a:pt x="5154" y="3303"/>
                    </a:lnTo>
                    <a:lnTo>
                      <a:pt x="5170" y="3303"/>
                    </a:lnTo>
                    <a:lnTo>
                      <a:pt x="5187" y="3311"/>
                    </a:lnTo>
                    <a:lnTo>
                      <a:pt x="5202" y="3320"/>
                    </a:lnTo>
                    <a:lnTo>
                      <a:pt x="5219" y="3329"/>
                    </a:lnTo>
                    <a:lnTo>
                      <a:pt x="5235" y="3336"/>
                    </a:lnTo>
                    <a:lnTo>
                      <a:pt x="5252" y="3345"/>
                    </a:lnTo>
                    <a:lnTo>
                      <a:pt x="5267" y="3353"/>
                    </a:lnTo>
                    <a:lnTo>
                      <a:pt x="5284" y="3362"/>
                    </a:lnTo>
                    <a:lnTo>
                      <a:pt x="5300" y="3371"/>
                    </a:lnTo>
                    <a:lnTo>
                      <a:pt x="5316" y="3378"/>
                    </a:lnTo>
                    <a:lnTo>
                      <a:pt x="5332" y="3387"/>
                    </a:lnTo>
                    <a:lnTo>
                      <a:pt x="5349" y="3396"/>
                    </a:lnTo>
                    <a:lnTo>
                      <a:pt x="5364" y="3404"/>
                    </a:lnTo>
                    <a:lnTo>
                      <a:pt x="5381" y="3413"/>
                    </a:lnTo>
                    <a:lnTo>
                      <a:pt x="5397" y="3413"/>
                    </a:lnTo>
                    <a:lnTo>
                      <a:pt x="5414" y="3422"/>
                    </a:lnTo>
                    <a:lnTo>
                      <a:pt x="5429" y="3429"/>
                    </a:lnTo>
                    <a:lnTo>
                      <a:pt x="5446" y="3438"/>
                    </a:lnTo>
                    <a:lnTo>
                      <a:pt x="5462" y="3446"/>
                    </a:lnTo>
                    <a:lnTo>
                      <a:pt x="5479" y="3455"/>
                    </a:lnTo>
                    <a:lnTo>
                      <a:pt x="5494" y="3455"/>
                    </a:lnTo>
                    <a:lnTo>
                      <a:pt x="5511" y="3464"/>
                    </a:lnTo>
                    <a:lnTo>
                      <a:pt x="5527" y="3472"/>
                    </a:lnTo>
                    <a:lnTo>
                      <a:pt x="5544" y="3480"/>
                    </a:lnTo>
                    <a:lnTo>
                      <a:pt x="5561" y="3488"/>
                    </a:lnTo>
                    <a:lnTo>
                      <a:pt x="5576" y="3488"/>
                    </a:lnTo>
                    <a:lnTo>
                      <a:pt x="5593" y="3497"/>
                    </a:lnTo>
                    <a:lnTo>
                      <a:pt x="5609" y="3506"/>
                    </a:lnTo>
                    <a:lnTo>
                      <a:pt x="5626" y="3514"/>
                    </a:lnTo>
                    <a:lnTo>
                      <a:pt x="5641" y="3514"/>
                    </a:lnTo>
                    <a:lnTo>
                      <a:pt x="5658" y="3522"/>
                    </a:lnTo>
                    <a:lnTo>
                      <a:pt x="5674" y="3530"/>
                    </a:lnTo>
                    <a:lnTo>
                      <a:pt x="5690" y="3539"/>
                    </a:lnTo>
                    <a:lnTo>
                      <a:pt x="5706" y="3539"/>
                    </a:lnTo>
                    <a:lnTo>
                      <a:pt x="5723" y="3548"/>
                    </a:lnTo>
                    <a:lnTo>
                      <a:pt x="5738" y="3556"/>
                    </a:lnTo>
                    <a:lnTo>
                      <a:pt x="5755" y="3556"/>
                    </a:lnTo>
                    <a:lnTo>
                      <a:pt x="5771" y="3565"/>
                    </a:lnTo>
                    <a:lnTo>
                      <a:pt x="5788" y="3572"/>
                    </a:lnTo>
                    <a:lnTo>
                      <a:pt x="5803" y="3572"/>
                    </a:lnTo>
                    <a:lnTo>
                      <a:pt x="5820" y="3581"/>
                    </a:lnTo>
                    <a:lnTo>
                      <a:pt x="5836" y="3590"/>
                    </a:lnTo>
                    <a:lnTo>
                      <a:pt x="5853" y="3590"/>
                    </a:lnTo>
                    <a:lnTo>
                      <a:pt x="5868" y="3599"/>
                    </a:lnTo>
                    <a:lnTo>
                      <a:pt x="5885" y="3607"/>
                    </a:lnTo>
                    <a:lnTo>
                      <a:pt x="5901" y="3607"/>
                    </a:lnTo>
                    <a:lnTo>
                      <a:pt x="5918" y="3616"/>
                    </a:lnTo>
                    <a:lnTo>
                      <a:pt x="5933" y="3623"/>
                    </a:lnTo>
                    <a:lnTo>
                      <a:pt x="5950" y="3623"/>
                    </a:lnTo>
                    <a:lnTo>
                      <a:pt x="5966" y="3632"/>
                    </a:lnTo>
                    <a:lnTo>
                      <a:pt x="5983" y="3632"/>
                    </a:lnTo>
                    <a:lnTo>
                      <a:pt x="6000" y="3641"/>
                    </a:lnTo>
                    <a:lnTo>
                      <a:pt x="6015" y="3649"/>
                    </a:lnTo>
                    <a:lnTo>
                      <a:pt x="6032" y="3649"/>
                    </a:lnTo>
                    <a:lnTo>
                      <a:pt x="6048" y="3658"/>
                    </a:lnTo>
                    <a:lnTo>
                      <a:pt x="6064" y="3658"/>
                    </a:lnTo>
                    <a:lnTo>
                      <a:pt x="6080" y="3665"/>
                    </a:lnTo>
                    <a:lnTo>
                      <a:pt x="6097" y="3665"/>
                    </a:lnTo>
                    <a:lnTo>
                      <a:pt x="6112" y="3674"/>
                    </a:lnTo>
                    <a:lnTo>
                      <a:pt x="6129" y="3683"/>
                    </a:lnTo>
                    <a:lnTo>
                      <a:pt x="6145" y="3683"/>
                    </a:lnTo>
                    <a:lnTo>
                      <a:pt x="6162" y="3691"/>
                    </a:lnTo>
                    <a:lnTo>
                      <a:pt x="6177" y="3691"/>
                    </a:lnTo>
                    <a:lnTo>
                      <a:pt x="6194" y="3700"/>
                    </a:lnTo>
                    <a:lnTo>
                      <a:pt x="6210" y="3700"/>
                    </a:lnTo>
                    <a:lnTo>
                      <a:pt x="6227" y="3709"/>
                    </a:lnTo>
                    <a:lnTo>
                      <a:pt x="6242" y="3709"/>
                    </a:lnTo>
                    <a:lnTo>
                      <a:pt x="6259" y="3716"/>
                    </a:lnTo>
                    <a:lnTo>
                      <a:pt x="6275" y="3716"/>
                    </a:lnTo>
                    <a:lnTo>
                      <a:pt x="6292" y="3725"/>
                    </a:lnTo>
                    <a:lnTo>
                      <a:pt x="6307" y="3725"/>
                    </a:lnTo>
                    <a:lnTo>
                      <a:pt x="6324" y="3733"/>
                    </a:lnTo>
                    <a:lnTo>
                      <a:pt x="6340" y="3733"/>
                    </a:lnTo>
                    <a:lnTo>
                      <a:pt x="6357" y="3742"/>
                    </a:lnTo>
                    <a:lnTo>
                      <a:pt x="6372" y="3742"/>
                    </a:lnTo>
                    <a:lnTo>
                      <a:pt x="6389" y="3742"/>
                    </a:lnTo>
                    <a:lnTo>
                      <a:pt x="6406" y="3751"/>
                    </a:lnTo>
                    <a:lnTo>
                      <a:pt x="6422" y="3751"/>
                    </a:lnTo>
                    <a:lnTo>
                      <a:pt x="6438" y="3760"/>
                    </a:lnTo>
                    <a:lnTo>
                      <a:pt x="6454" y="3760"/>
                    </a:lnTo>
                    <a:lnTo>
                      <a:pt x="6471" y="3767"/>
                    </a:lnTo>
                    <a:lnTo>
                      <a:pt x="6486" y="3767"/>
                    </a:lnTo>
                    <a:lnTo>
                      <a:pt x="6486" y="4071"/>
                    </a:lnTo>
                    <a:lnTo>
                      <a:pt x="6471" y="4071"/>
                    </a:lnTo>
                    <a:lnTo>
                      <a:pt x="6454" y="4071"/>
                    </a:lnTo>
                    <a:lnTo>
                      <a:pt x="6438" y="4071"/>
                    </a:lnTo>
                    <a:lnTo>
                      <a:pt x="6422" y="4071"/>
                    </a:lnTo>
                    <a:lnTo>
                      <a:pt x="6406" y="4071"/>
                    </a:lnTo>
                    <a:lnTo>
                      <a:pt x="6389" y="4071"/>
                    </a:lnTo>
                    <a:lnTo>
                      <a:pt x="6372" y="4071"/>
                    </a:lnTo>
                    <a:lnTo>
                      <a:pt x="6357" y="4071"/>
                    </a:lnTo>
                    <a:lnTo>
                      <a:pt x="6340" y="4071"/>
                    </a:lnTo>
                    <a:lnTo>
                      <a:pt x="6324" y="4071"/>
                    </a:lnTo>
                    <a:lnTo>
                      <a:pt x="6307" y="4071"/>
                    </a:lnTo>
                    <a:lnTo>
                      <a:pt x="6292" y="4071"/>
                    </a:lnTo>
                    <a:lnTo>
                      <a:pt x="6275" y="4071"/>
                    </a:lnTo>
                    <a:lnTo>
                      <a:pt x="6259" y="4071"/>
                    </a:lnTo>
                    <a:lnTo>
                      <a:pt x="6242" y="4071"/>
                    </a:lnTo>
                    <a:lnTo>
                      <a:pt x="6227" y="4071"/>
                    </a:lnTo>
                    <a:lnTo>
                      <a:pt x="6210" y="4071"/>
                    </a:lnTo>
                    <a:lnTo>
                      <a:pt x="6194" y="4071"/>
                    </a:lnTo>
                    <a:lnTo>
                      <a:pt x="6177" y="4071"/>
                    </a:lnTo>
                    <a:lnTo>
                      <a:pt x="6162" y="4071"/>
                    </a:lnTo>
                    <a:lnTo>
                      <a:pt x="6145" y="4071"/>
                    </a:lnTo>
                    <a:lnTo>
                      <a:pt x="6129" y="4071"/>
                    </a:lnTo>
                    <a:lnTo>
                      <a:pt x="6112" y="4071"/>
                    </a:lnTo>
                    <a:lnTo>
                      <a:pt x="6097" y="4071"/>
                    </a:lnTo>
                    <a:lnTo>
                      <a:pt x="6080" y="4071"/>
                    </a:lnTo>
                    <a:lnTo>
                      <a:pt x="6064" y="4071"/>
                    </a:lnTo>
                    <a:lnTo>
                      <a:pt x="6048" y="4071"/>
                    </a:lnTo>
                    <a:lnTo>
                      <a:pt x="6032" y="4071"/>
                    </a:lnTo>
                    <a:lnTo>
                      <a:pt x="6015" y="4071"/>
                    </a:lnTo>
                    <a:lnTo>
                      <a:pt x="6000" y="4071"/>
                    </a:lnTo>
                    <a:lnTo>
                      <a:pt x="5983" y="4071"/>
                    </a:lnTo>
                    <a:lnTo>
                      <a:pt x="5966" y="4071"/>
                    </a:lnTo>
                    <a:lnTo>
                      <a:pt x="5950" y="4071"/>
                    </a:lnTo>
                    <a:lnTo>
                      <a:pt x="5933" y="4071"/>
                    </a:lnTo>
                    <a:lnTo>
                      <a:pt x="5918" y="4071"/>
                    </a:lnTo>
                    <a:lnTo>
                      <a:pt x="5901" y="4071"/>
                    </a:lnTo>
                    <a:lnTo>
                      <a:pt x="5885" y="4071"/>
                    </a:lnTo>
                    <a:lnTo>
                      <a:pt x="5868" y="4071"/>
                    </a:lnTo>
                    <a:lnTo>
                      <a:pt x="5853" y="4071"/>
                    </a:lnTo>
                    <a:lnTo>
                      <a:pt x="5836" y="4071"/>
                    </a:lnTo>
                    <a:lnTo>
                      <a:pt x="5820" y="4071"/>
                    </a:lnTo>
                    <a:lnTo>
                      <a:pt x="5803" y="4071"/>
                    </a:lnTo>
                    <a:lnTo>
                      <a:pt x="5788" y="4071"/>
                    </a:lnTo>
                    <a:lnTo>
                      <a:pt x="5771" y="4071"/>
                    </a:lnTo>
                    <a:lnTo>
                      <a:pt x="5755" y="4071"/>
                    </a:lnTo>
                    <a:lnTo>
                      <a:pt x="5738" y="4071"/>
                    </a:lnTo>
                    <a:lnTo>
                      <a:pt x="5723" y="4071"/>
                    </a:lnTo>
                    <a:lnTo>
                      <a:pt x="5706" y="4071"/>
                    </a:lnTo>
                    <a:lnTo>
                      <a:pt x="5690" y="4071"/>
                    </a:lnTo>
                    <a:lnTo>
                      <a:pt x="5674" y="4071"/>
                    </a:lnTo>
                    <a:lnTo>
                      <a:pt x="5658" y="4071"/>
                    </a:lnTo>
                    <a:lnTo>
                      <a:pt x="5641" y="4071"/>
                    </a:lnTo>
                    <a:lnTo>
                      <a:pt x="5626" y="4071"/>
                    </a:lnTo>
                    <a:lnTo>
                      <a:pt x="5609" y="4071"/>
                    </a:lnTo>
                    <a:lnTo>
                      <a:pt x="5593" y="4071"/>
                    </a:lnTo>
                    <a:lnTo>
                      <a:pt x="5576" y="4071"/>
                    </a:lnTo>
                    <a:lnTo>
                      <a:pt x="5561" y="4071"/>
                    </a:lnTo>
                    <a:lnTo>
                      <a:pt x="5544" y="4071"/>
                    </a:lnTo>
                    <a:lnTo>
                      <a:pt x="5527" y="4071"/>
                    </a:lnTo>
                    <a:lnTo>
                      <a:pt x="5511" y="4071"/>
                    </a:lnTo>
                    <a:lnTo>
                      <a:pt x="5494" y="4071"/>
                    </a:lnTo>
                    <a:lnTo>
                      <a:pt x="5479" y="4071"/>
                    </a:lnTo>
                    <a:lnTo>
                      <a:pt x="5462" y="4071"/>
                    </a:lnTo>
                    <a:lnTo>
                      <a:pt x="5446" y="4071"/>
                    </a:lnTo>
                    <a:lnTo>
                      <a:pt x="5429" y="4071"/>
                    </a:lnTo>
                    <a:lnTo>
                      <a:pt x="5414" y="4071"/>
                    </a:lnTo>
                    <a:lnTo>
                      <a:pt x="5397" y="4071"/>
                    </a:lnTo>
                    <a:lnTo>
                      <a:pt x="5381" y="4071"/>
                    </a:lnTo>
                    <a:lnTo>
                      <a:pt x="5364" y="4071"/>
                    </a:lnTo>
                    <a:lnTo>
                      <a:pt x="5349" y="4071"/>
                    </a:lnTo>
                    <a:lnTo>
                      <a:pt x="5332" y="4071"/>
                    </a:lnTo>
                    <a:lnTo>
                      <a:pt x="5316" y="4071"/>
                    </a:lnTo>
                    <a:lnTo>
                      <a:pt x="5300" y="4071"/>
                    </a:lnTo>
                    <a:lnTo>
                      <a:pt x="5284" y="4071"/>
                    </a:lnTo>
                    <a:lnTo>
                      <a:pt x="5267" y="4071"/>
                    </a:lnTo>
                    <a:lnTo>
                      <a:pt x="5252" y="4071"/>
                    </a:lnTo>
                    <a:lnTo>
                      <a:pt x="5235" y="4071"/>
                    </a:lnTo>
                    <a:lnTo>
                      <a:pt x="5219" y="4071"/>
                    </a:lnTo>
                    <a:lnTo>
                      <a:pt x="5202" y="4071"/>
                    </a:lnTo>
                    <a:lnTo>
                      <a:pt x="5187" y="4071"/>
                    </a:lnTo>
                    <a:lnTo>
                      <a:pt x="5170" y="4071"/>
                    </a:lnTo>
                    <a:lnTo>
                      <a:pt x="5154" y="4071"/>
                    </a:lnTo>
                    <a:lnTo>
                      <a:pt x="5137" y="4071"/>
                    </a:lnTo>
                    <a:lnTo>
                      <a:pt x="5120" y="4071"/>
                    </a:lnTo>
                    <a:lnTo>
                      <a:pt x="5105" y="4071"/>
                    </a:lnTo>
                    <a:lnTo>
                      <a:pt x="5088" y="4071"/>
                    </a:lnTo>
                    <a:lnTo>
                      <a:pt x="5072" y="4071"/>
                    </a:lnTo>
                    <a:lnTo>
                      <a:pt x="5055" y="4071"/>
                    </a:lnTo>
                    <a:lnTo>
                      <a:pt x="5040" y="4071"/>
                    </a:lnTo>
                    <a:lnTo>
                      <a:pt x="5023" y="4071"/>
                    </a:lnTo>
                    <a:lnTo>
                      <a:pt x="5007" y="4071"/>
                    </a:lnTo>
                    <a:lnTo>
                      <a:pt x="4990" y="4071"/>
                    </a:lnTo>
                    <a:lnTo>
                      <a:pt x="4975" y="4071"/>
                    </a:lnTo>
                    <a:lnTo>
                      <a:pt x="4958" y="4071"/>
                    </a:lnTo>
                    <a:lnTo>
                      <a:pt x="4942" y="4071"/>
                    </a:lnTo>
                    <a:lnTo>
                      <a:pt x="4926" y="4071"/>
                    </a:lnTo>
                    <a:lnTo>
                      <a:pt x="4910" y="4071"/>
                    </a:lnTo>
                    <a:lnTo>
                      <a:pt x="4893" y="4071"/>
                    </a:lnTo>
                    <a:lnTo>
                      <a:pt x="4878" y="4071"/>
                    </a:lnTo>
                    <a:lnTo>
                      <a:pt x="4861" y="4071"/>
                    </a:lnTo>
                    <a:lnTo>
                      <a:pt x="4845" y="4071"/>
                    </a:lnTo>
                    <a:lnTo>
                      <a:pt x="4828" y="4071"/>
                    </a:lnTo>
                    <a:lnTo>
                      <a:pt x="4813" y="4071"/>
                    </a:lnTo>
                    <a:lnTo>
                      <a:pt x="4796" y="4071"/>
                    </a:lnTo>
                    <a:lnTo>
                      <a:pt x="4780" y="4071"/>
                    </a:lnTo>
                    <a:lnTo>
                      <a:pt x="4763" y="4071"/>
                    </a:lnTo>
                    <a:lnTo>
                      <a:pt x="4748" y="4071"/>
                    </a:lnTo>
                    <a:lnTo>
                      <a:pt x="4731" y="4071"/>
                    </a:lnTo>
                    <a:lnTo>
                      <a:pt x="4715" y="4071"/>
                    </a:lnTo>
                    <a:lnTo>
                      <a:pt x="4698" y="4071"/>
                    </a:lnTo>
                    <a:lnTo>
                      <a:pt x="4681" y="4071"/>
                    </a:lnTo>
                    <a:lnTo>
                      <a:pt x="4666" y="4071"/>
                    </a:lnTo>
                    <a:lnTo>
                      <a:pt x="4649" y="4071"/>
                    </a:lnTo>
                    <a:lnTo>
                      <a:pt x="4633" y="4071"/>
                    </a:lnTo>
                    <a:lnTo>
                      <a:pt x="4616" y="4071"/>
                    </a:lnTo>
                    <a:lnTo>
                      <a:pt x="4601" y="4071"/>
                    </a:lnTo>
                    <a:lnTo>
                      <a:pt x="4584" y="4071"/>
                    </a:lnTo>
                    <a:lnTo>
                      <a:pt x="4568" y="4071"/>
                    </a:lnTo>
                    <a:lnTo>
                      <a:pt x="4552" y="4071"/>
                    </a:lnTo>
                    <a:lnTo>
                      <a:pt x="4536" y="4071"/>
                    </a:lnTo>
                    <a:lnTo>
                      <a:pt x="4519" y="4071"/>
                    </a:lnTo>
                    <a:lnTo>
                      <a:pt x="4504" y="4071"/>
                    </a:lnTo>
                    <a:lnTo>
                      <a:pt x="4487" y="4071"/>
                    </a:lnTo>
                    <a:lnTo>
                      <a:pt x="4471" y="4071"/>
                    </a:lnTo>
                    <a:lnTo>
                      <a:pt x="4454" y="4071"/>
                    </a:lnTo>
                    <a:lnTo>
                      <a:pt x="4439" y="4071"/>
                    </a:lnTo>
                    <a:lnTo>
                      <a:pt x="4422" y="4071"/>
                    </a:lnTo>
                    <a:lnTo>
                      <a:pt x="4406" y="4071"/>
                    </a:lnTo>
                    <a:lnTo>
                      <a:pt x="4389" y="4071"/>
                    </a:lnTo>
                    <a:lnTo>
                      <a:pt x="4374" y="4071"/>
                    </a:lnTo>
                    <a:lnTo>
                      <a:pt x="4357" y="4071"/>
                    </a:lnTo>
                    <a:lnTo>
                      <a:pt x="4341" y="4071"/>
                    </a:lnTo>
                    <a:lnTo>
                      <a:pt x="4324" y="4071"/>
                    </a:lnTo>
                    <a:lnTo>
                      <a:pt x="4309" y="4071"/>
                    </a:lnTo>
                    <a:lnTo>
                      <a:pt x="4292" y="4071"/>
                    </a:lnTo>
                    <a:lnTo>
                      <a:pt x="4276" y="4071"/>
                    </a:lnTo>
                    <a:lnTo>
                      <a:pt x="4259" y="4071"/>
                    </a:lnTo>
                    <a:lnTo>
                      <a:pt x="4242" y="4071"/>
                    </a:lnTo>
                    <a:lnTo>
                      <a:pt x="4227" y="4071"/>
                    </a:lnTo>
                    <a:lnTo>
                      <a:pt x="4210" y="4071"/>
                    </a:lnTo>
                    <a:lnTo>
                      <a:pt x="4194" y="4071"/>
                    </a:lnTo>
                    <a:lnTo>
                      <a:pt x="4178" y="4071"/>
                    </a:lnTo>
                    <a:lnTo>
                      <a:pt x="4162" y="4071"/>
                    </a:lnTo>
                    <a:lnTo>
                      <a:pt x="4145" y="4071"/>
                    </a:lnTo>
                    <a:lnTo>
                      <a:pt x="4130" y="4071"/>
                    </a:lnTo>
                    <a:lnTo>
                      <a:pt x="4113" y="4071"/>
                    </a:lnTo>
                    <a:lnTo>
                      <a:pt x="4097" y="4071"/>
                    </a:lnTo>
                    <a:lnTo>
                      <a:pt x="4080" y="4071"/>
                    </a:lnTo>
                    <a:lnTo>
                      <a:pt x="4065" y="4071"/>
                    </a:lnTo>
                    <a:lnTo>
                      <a:pt x="4048" y="4071"/>
                    </a:lnTo>
                    <a:lnTo>
                      <a:pt x="4032" y="4071"/>
                    </a:lnTo>
                    <a:lnTo>
                      <a:pt x="4015" y="4071"/>
                    </a:lnTo>
                    <a:lnTo>
                      <a:pt x="4000" y="4071"/>
                    </a:lnTo>
                    <a:lnTo>
                      <a:pt x="3983" y="4071"/>
                    </a:lnTo>
                    <a:lnTo>
                      <a:pt x="3967" y="4071"/>
                    </a:lnTo>
                    <a:lnTo>
                      <a:pt x="3950" y="4071"/>
                    </a:lnTo>
                    <a:lnTo>
                      <a:pt x="3935" y="4071"/>
                    </a:lnTo>
                    <a:lnTo>
                      <a:pt x="3918" y="4071"/>
                    </a:lnTo>
                    <a:lnTo>
                      <a:pt x="3902" y="4071"/>
                    </a:lnTo>
                    <a:lnTo>
                      <a:pt x="3885" y="4071"/>
                    </a:lnTo>
                    <a:lnTo>
                      <a:pt x="3870" y="4071"/>
                    </a:lnTo>
                    <a:lnTo>
                      <a:pt x="3853" y="4071"/>
                    </a:lnTo>
                    <a:lnTo>
                      <a:pt x="3836" y="4071"/>
                    </a:lnTo>
                    <a:lnTo>
                      <a:pt x="3820" y="4071"/>
                    </a:lnTo>
                    <a:lnTo>
                      <a:pt x="3804" y="4071"/>
                    </a:lnTo>
                    <a:lnTo>
                      <a:pt x="3788" y="4071"/>
                    </a:lnTo>
                    <a:lnTo>
                      <a:pt x="3771" y="4071"/>
                    </a:lnTo>
                    <a:lnTo>
                      <a:pt x="3756" y="4071"/>
                    </a:lnTo>
                    <a:lnTo>
                      <a:pt x="3739" y="4071"/>
                    </a:lnTo>
                    <a:lnTo>
                      <a:pt x="3723" y="4071"/>
                    </a:lnTo>
                    <a:lnTo>
                      <a:pt x="3706" y="4071"/>
                    </a:lnTo>
                    <a:lnTo>
                      <a:pt x="3691" y="4071"/>
                    </a:lnTo>
                    <a:lnTo>
                      <a:pt x="3674" y="4071"/>
                    </a:lnTo>
                    <a:lnTo>
                      <a:pt x="3658" y="4071"/>
                    </a:lnTo>
                    <a:lnTo>
                      <a:pt x="3641" y="4071"/>
                    </a:lnTo>
                    <a:lnTo>
                      <a:pt x="3626" y="4071"/>
                    </a:lnTo>
                    <a:lnTo>
                      <a:pt x="3609" y="4071"/>
                    </a:lnTo>
                    <a:lnTo>
                      <a:pt x="3593" y="4071"/>
                    </a:lnTo>
                    <a:lnTo>
                      <a:pt x="3576" y="4071"/>
                    </a:lnTo>
                    <a:lnTo>
                      <a:pt x="3561" y="4071"/>
                    </a:lnTo>
                    <a:lnTo>
                      <a:pt x="3544" y="4071"/>
                    </a:lnTo>
                    <a:lnTo>
                      <a:pt x="3528" y="4071"/>
                    </a:lnTo>
                    <a:lnTo>
                      <a:pt x="3511" y="4071"/>
                    </a:lnTo>
                    <a:lnTo>
                      <a:pt x="3496" y="4071"/>
                    </a:lnTo>
                    <a:lnTo>
                      <a:pt x="3479" y="4071"/>
                    </a:lnTo>
                    <a:lnTo>
                      <a:pt x="3463" y="4071"/>
                    </a:lnTo>
                    <a:lnTo>
                      <a:pt x="3446" y="4071"/>
                    </a:lnTo>
                    <a:lnTo>
                      <a:pt x="3431" y="4071"/>
                    </a:lnTo>
                    <a:lnTo>
                      <a:pt x="3414" y="4071"/>
                    </a:lnTo>
                    <a:lnTo>
                      <a:pt x="3397" y="4071"/>
                    </a:lnTo>
                    <a:lnTo>
                      <a:pt x="3382" y="4071"/>
                    </a:lnTo>
                    <a:lnTo>
                      <a:pt x="3365" y="4071"/>
                    </a:lnTo>
                    <a:lnTo>
                      <a:pt x="3349" y="4071"/>
                    </a:lnTo>
                    <a:lnTo>
                      <a:pt x="3332" y="4071"/>
                    </a:lnTo>
                    <a:lnTo>
                      <a:pt x="3317" y="4071"/>
                    </a:lnTo>
                    <a:lnTo>
                      <a:pt x="3300" y="4071"/>
                    </a:lnTo>
                    <a:lnTo>
                      <a:pt x="3284" y="4071"/>
                    </a:lnTo>
                    <a:lnTo>
                      <a:pt x="3267" y="4071"/>
                    </a:lnTo>
                    <a:lnTo>
                      <a:pt x="3252" y="4071"/>
                    </a:lnTo>
                    <a:lnTo>
                      <a:pt x="3235" y="4071"/>
                    </a:lnTo>
                    <a:lnTo>
                      <a:pt x="3219" y="4071"/>
                    </a:lnTo>
                    <a:lnTo>
                      <a:pt x="3202" y="4071"/>
                    </a:lnTo>
                    <a:lnTo>
                      <a:pt x="3187" y="4071"/>
                    </a:lnTo>
                    <a:lnTo>
                      <a:pt x="3170" y="4071"/>
                    </a:lnTo>
                    <a:lnTo>
                      <a:pt x="3154" y="4071"/>
                    </a:lnTo>
                    <a:lnTo>
                      <a:pt x="3137" y="4071"/>
                    </a:lnTo>
                    <a:lnTo>
                      <a:pt x="3122" y="4071"/>
                    </a:lnTo>
                    <a:lnTo>
                      <a:pt x="3105" y="4071"/>
                    </a:lnTo>
                    <a:lnTo>
                      <a:pt x="3089" y="4071"/>
                    </a:lnTo>
                    <a:lnTo>
                      <a:pt x="3072" y="4071"/>
                    </a:lnTo>
                    <a:lnTo>
                      <a:pt x="3057" y="4071"/>
                    </a:lnTo>
                    <a:lnTo>
                      <a:pt x="3040" y="4071"/>
                    </a:lnTo>
                    <a:lnTo>
                      <a:pt x="3024" y="4071"/>
                    </a:lnTo>
                    <a:lnTo>
                      <a:pt x="3008" y="4071"/>
                    </a:lnTo>
                    <a:lnTo>
                      <a:pt x="2992" y="4071"/>
                    </a:lnTo>
                    <a:lnTo>
                      <a:pt x="2975" y="4071"/>
                    </a:lnTo>
                    <a:lnTo>
                      <a:pt x="2958" y="4071"/>
                    </a:lnTo>
                    <a:lnTo>
                      <a:pt x="2943" y="4071"/>
                    </a:lnTo>
                    <a:lnTo>
                      <a:pt x="2926" y="4071"/>
                    </a:lnTo>
                    <a:lnTo>
                      <a:pt x="2910" y="4071"/>
                    </a:lnTo>
                    <a:lnTo>
                      <a:pt x="2893" y="4071"/>
                    </a:lnTo>
                    <a:lnTo>
                      <a:pt x="2878" y="4071"/>
                    </a:lnTo>
                    <a:lnTo>
                      <a:pt x="2861" y="4071"/>
                    </a:lnTo>
                    <a:lnTo>
                      <a:pt x="2845" y="4071"/>
                    </a:lnTo>
                    <a:lnTo>
                      <a:pt x="2828" y="4071"/>
                    </a:lnTo>
                    <a:lnTo>
                      <a:pt x="2813" y="4071"/>
                    </a:lnTo>
                    <a:lnTo>
                      <a:pt x="2796" y="4071"/>
                    </a:lnTo>
                    <a:lnTo>
                      <a:pt x="2780" y="4071"/>
                    </a:lnTo>
                    <a:lnTo>
                      <a:pt x="2763" y="4071"/>
                    </a:lnTo>
                    <a:lnTo>
                      <a:pt x="2748" y="4071"/>
                    </a:lnTo>
                    <a:lnTo>
                      <a:pt x="2731" y="4071"/>
                    </a:lnTo>
                    <a:lnTo>
                      <a:pt x="2715" y="4071"/>
                    </a:lnTo>
                    <a:lnTo>
                      <a:pt x="2698" y="4071"/>
                    </a:lnTo>
                    <a:lnTo>
                      <a:pt x="2683" y="4071"/>
                    </a:lnTo>
                    <a:lnTo>
                      <a:pt x="2666" y="4071"/>
                    </a:lnTo>
                    <a:lnTo>
                      <a:pt x="2650" y="4071"/>
                    </a:lnTo>
                    <a:lnTo>
                      <a:pt x="2634" y="4071"/>
                    </a:lnTo>
                    <a:lnTo>
                      <a:pt x="2618" y="4071"/>
                    </a:lnTo>
                    <a:lnTo>
                      <a:pt x="2601" y="4071"/>
                    </a:lnTo>
                    <a:lnTo>
                      <a:pt x="2586" y="4071"/>
                    </a:lnTo>
                    <a:lnTo>
                      <a:pt x="2569" y="4071"/>
                    </a:lnTo>
                    <a:lnTo>
                      <a:pt x="2552" y="4071"/>
                    </a:lnTo>
                    <a:lnTo>
                      <a:pt x="2536" y="4071"/>
                    </a:lnTo>
                    <a:lnTo>
                      <a:pt x="2519" y="4071"/>
                    </a:lnTo>
                    <a:lnTo>
                      <a:pt x="2504" y="4071"/>
                    </a:lnTo>
                    <a:lnTo>
                      <a:pt x="2487" y="4071"/>
                    </a:lnTo>
                    <a:lnTo>
                      <a:pt x="2471" y="4071"/>
                    </a:lnTo>
                    <a:lnTo>
                      <a:pt x="2454" y="4071"/>
                    </a:lnTo>
                    <a:lnTo>
                      <a:pt x="2439" y="4071"/>
                    </a:lnTo>
                    <a:lnTo>
                      <a:pt x="2422" y="4071"/>
                    </a:lnTo>
                    <a:lnTo>
                      <a:pt x="2406" y="4071"/>
                    </a:lnTo>
                    <a:lnTo>
                      <a:pt x="2389" y="4071"/>
                    </a:lnTo>
                    <a:lnTo>
                      <a:pt x="2374" y="4071"/>
                    </a:lnTo>
                    <a:lnTo>
                      <a:pt x="2357" y="4071"/>
                    </a:lnTo>
                    <a:lnTo>
                      <a:pt x="2341" y="4071"/>
                    </a:lnTo>
                    <a:lnTo>
                      <a:pt x="2324" y="4071"/>
                    </a:lnTo>
                    <a:lnTo>
                      <a:pt x="2309" y="4071"/>
                    </a:lnTo>
                    <a:lnTo>
                      <a:pt x="2292" y="4071"/>
                    </a:lnTo>
                    <a:lnTo>
                      <a:pt x="2276" y="4071"/>
                    </a:lnTo>
                    <a:lnTo>
                      <a:pt x="2260" y="4071"/>
                    </a:lnTo>
                    <a:lnTo>
                      <a:pt x="2244" y="4071"/>
                    </a:lnTo>
                    <a:lnTo>
                      <a:pt x="2227" y="4071"/>
                    </a:lnTo>
                    <a:lnTo>
                      <a:pt x="2212" y="4071"/>
                    </a:lnTo>
                    <a:lnTo>
                      <a:pt x="2195" y="4071"/>
                    </a:lnTo>
                    <a:lnTo>
                      <a:pt x="2179" y="4071"/>
                    </a:lnTo>
                    <a:lnTo>
                      <a:pt x="2162" y="4071"/>
                    </a:lnTo>
                    <a:lnTo>
                      <a:pt x="2147" y="4071"/>
                    </a:lnTo>
                    <a:lnTo>
                      <a:pt x="2130" y="4071"/>
                    </a:lnTo>
                    <a:lnTo>
                      <a:pt x="2113" y="4071"/>
                    </a:lnTo>
                    <a:lnTo>
                      <a:pt x="2097" y="4071"/>
                    </a:lnTo>
                    <a:lnTo>
                      <a:pt x="2080" y="4071"/>
                    </a:lnTo>
                    <a:lnTo>
                      <a:pt x="2065" y="4071"/>
                    </a:lnTo>
                    <a:lnTo>
                      <a:pt x="2048" y="4071"/>
                    </a:lnTo>
                    <a:lnTo>
                      <a:pt x="2032" y="4071"/>
                    </a:lnTo>
                    <a:lnTo>
                      <a:pt x="2015" y="4071"/>
                    </a:lnTo>
                    <a:lnTo>
                      <a:pt x="2000" y="4071"/>
                    </a:lnTo>
                    <a:lnTo>
                      <a:pt x="1983" y="4071"/>
                    </a:lnTo>
                    <a:lnTo>
                      <a:pt x="1967" y="4071"/>
                    </a:lnTo>
                    <a:lnTo>
                      <a:pt x="1950" y="4071"/>
                    </a:lnTo>
                    <a:lnTo>
                      <a:pt x="1935" y="4071"/>
                    </a:lnTo>
                    <a:lnTo>
                      <a:pt x="1918" y="4071"/>
                    </a:lnTo>
                    <a:lnTo>
                      <a:pt x="1902" y="4071"/>
                    </a:lnTo>
                    <a:lnTo>
                      <a:pt x="1886" y="4071"/>
                    </a:lnTo>
                    <a:lnTo>
                      <a:pt x="1870" y="4071"/>
                    </a:lnTo>
                    <a:lnTo>
                      <a:pt x="1853" y="4071"/>
                    </a:lnTo>
                    <a:lnTo>
                      <a:pt x="1838" y="4071"/>
                    </a:lnTo>
                    <a:lnTo>
                      <a:pt x="1821" y="4071"/>
                    </a:lnTo>
                    <a:lnTo>
                      <a:pt x="1805" y="4071"/>
                    </a:lnTo>
                    <a:lnTo>
                      <a:pt x="1788" y="4071"/>
                    </a:lnTo>
                    <a:lnTo>
                      <a:pt x="1773" y="4071"/>
                    </a:lnTo>
                    <a:lnTo>
                      <a:pt x="1756" y="4071"/>
                    </a:lnTo>
                    <a:lnTo>
                      <a:pt x="1740" y="4071"/>
                    </a:lnTo>
                    <a:lnTo>
                      <a:pt x="1723" y="4071"/>
                    </a:lnTo>
                    <a:lnTo>
                      <a:pt x="1706" y="4071"/>
                    </a:lnTo>
                    <a:lnTo>
                      <a:pt x="1691" y="4071"/>
                    </a:lnTo>
                    <a:lnTo>
                      <a:pt x="1674" y="4071"/>
                    </a:lnTo>
                    <a:lnTo>
                      <a:pt x="1658" y="4071"/>
                    </a:lnTo>
                    <a:lnTo>
                      <a:pt x="1641" y="4071"/>
                    </a:lnTo>
                    <a:lnTo>
                      <a:pt x="1626" y="4071"/>
                    </a:lnTo>
                    <a:lnTo>
                      <a:pt x="1609" y="4071"/>
                    </a:lnTo>
                    <a:lnTo>
                      <a:pt x="1593" y="4071"/>
                    </a:lnTo>
                    <a:lnTo>
                      <a:pt x="1576" y="4071"/>
                    </a:lnTo>
                    <a:lnTo>
                      <a:pt x="1561" y="4071"/>
                    </a:lnTo>
                    <a:lnTo>
                      <a:pt x="1544" y="4071"/>
                    </a:lnTo>
                    <a:lnTo>
                      <a:pt x="1528" y="4071"/>
                    </a:lnTo>
                    <a:lnTo>
                      <a:pt x="1512" y="4071"/>
                    </a:lnTo>
                    <a:lnTo>
                      <a:pt x="1496" y="4071"/>
                    </a:lnTo>
                    <a:lnTo>
                      <a:pt x="1479" y="4071"/>
                    </a:lnTo>
                    <a:lnTo>
                      <a:pt x="1464" y="4071"/>
                    </a:lnTo>
                    <a:lnTo>
                      <a:pt x="1447" y="4071"/>
                    </a:lnTo>
                    <a:lnTo>
                      <a:pt x="1431" y="4071"/>
                    </a:lnTo>
                    <a:lnTo>
                      <a:pt x="1414" y="4071"/>
                    </a:lnTo>
                    <a:lnTo>
                      <a:pt x="1399" y="4071"/>
                    </a:lnTo>
                    <a:lnTo>
                      <a:pt x="1382" y="4071"/>
                    </a:lnTo>
                    <a:lnTo>
                      <a:pt x="1366" y="4071"/>
                    </a:lnTo>
                    <a:lnTo>
                      <a:pt x="1349" y="4071"/>
                    </a:lnTo>
                    <a:lnTo>
                      <a:pt x="1334" y="4071"/>
                    </a:lnTo>
                    <a:lnTo>
                      <a:pt x="1317" y="4071"/>
                    </a:lnTo>
                    <a:lnTo>
                      <a:pt x="1301" y="4071"/>
                    </a:lnTo>
                    <a:lnTo>
                      <a:pt x="1284" y="4071"/>
                    </a:lnTo>
                    <a:lnTo>
                      <a:pt x="1267" y="4071"/>
                    </a:lnTo>
                    <a:lnTo>
                      <a:pt x="1252" y="4071"/>
                    </a:lnTo>
                    <a:lnTo>
                      <a:pt x="1235" y="4071"/>
                    </a:lnTo>
                    <a:lnTo>
                      <a:pt x="1219" y="4071"/>
                    </a:lnTo>
                    <a:lnTo>
                      <a:pt x="1202" y="4071"/>
                    </a:lnTo>
                    <a:lnTo>
                      <a:pt x="1187" y="4071"/>
                    </a:lnTo>
                    <a:lnTo>
                      <a:pt x="1170" y="4071"/>
                    </a:lnTo>
                    <a:lnTo>
                      <a:pt x="1154" y="4071"/>
                    </a:lnTo>
                    <a:lnTo>
                      <a:pt x="1138" y="4071"/>
                    </a:lnTo>
                    <a:lnTo>
                      <a:pt x="1122" y="4071"/>
                    </a:lnTo>
                    <a:lnTo>
                      <a:pt x="1105" y="4071"/>
                    </a:lnTo>
                    <a:lnTo>
                      <a:pt x="1090" y="4071"/>
                    </a:lnTo>
                    <a:lnTo>
                      <a:pt x="1073" y="4071"/>
                    </a:lnTo>
                    <a:lnTo>
                      <a:pt x="1057" y="4071"/>
                    </a:lnTo>
                    <a:lnTo>
                      <a:pt x="1040" y="4071"/>
                    </a:lnTo>
                    <a:lnTo>
                      <a:pt x="1025" y="4071"/>
                    </a:lnTo>
                    <a:lnTo>
                      <a:pt x="1008" y="4071"/>
                    </a:lnTo>
                    <a:lnTo>
                      <a:pt x="992" y="4071"/>
                    </a:lnTo>
                    <a:lnTo>
                      <a:pt x="975" y="4071"/>
                    </a:lnTo>
                    <a:lnTo>
                      <a:pt x="960" y="4071"/>
                    </a:lnTo>
                    <a:lnTo>
                      <a:pt x="943" y="4071"/>
                    </a:lnTo>
                    <a:lnTo>
                      <a:pt x="927" y="4071"/>
                    </a:lnTo>
                    <a:lnTo>
                      <a:pt x="910" y="4071"/>
                    </a:lnTo>
                    <a:lnTo>
                      <a:pt x="895" y="4071"/>
                    </a:lnTo>
                    <a:lnTo>
                      <a:pt x="878" y="4071"/>
                    </a:lnTo>
                    <a:lnTo>
                      <a:pt x="862" y="4071"/>
                    </a:lnTo>
                    <a:lnTo>
                      <a:pt x="845" y="4071"/>
                    </a:lnTo>
                    <a:lnTo>
                      <a:pt x="828" y="4071"/>
                    </a:lnTo>
                    <a:lnTo>
                      <a:pt x="813" y="4071"/>
                    </a:lnTo>
                    <a:lnTo>
                      <a:pt x="796" y="4071"/>
                    </a:lnTo>
                    <a:lnTo>
                      <a:pt x="780" y="4071"/>
                    </a:lnTo>
                    <a:lnTo>
                      <a:pt x="764" y="4071"/>
                    </a:lnTo>
                    <a:lnTo>
                      <a:pt x="748" y="4071"/>
                    </a:lnTo>
                    <a:lnTo>
                      <a:pt x="731" y="4071"/>
                    </a:lnTo>
                    <a:lnTo>
                      <a:pt x="716" y="4071"/>
                    </a:lnTo>
                    <a:lnTo>
                      <a:pt x="699" y="4071"/>
                    </a:lnTo>
                    <a:lnTo>
                      <a:pt x="683" y="4071"/>
                    </a:lnTo>
                    <a:lnTo>
                      <a:pt x="666" y="4071"/>
                    </a:lnTo>
                    <a:lnTo>
                      <a:pt x="651" y="4071"/>
                    </a:lnTo>
                    <a:lnTo>
                      <a:pt x="634" y="4071"/>
                    </a:lnTo>
                    <a:lnTo>
                      <a:pt x="618" y="4071"/>
                    </a:lnTo>
                    <a:lnTo>
                      <a:pt x="601" y="4071"/>
                    </a:lnTo>
                    <a:lnTo>
                      <a:pt x="586" y="4071"/>
                    </a:lnTo>
                    <a:lnTo>
                      <a:pt x="569" y="4071"/>
                    </a:lnTo>
                    <a:lnTo>
                      <a:pt x="553" y="4071"/>
                    </a:lnTo>
                    <a:lnTo>
                      <a:pt x="536" y="4071"/>
                    </a:lnTo>
                    <a:lnTo>
                      <a:pt x="521" y="4071"/>
                    </a:lnTo>
                    <a:lnTo>
                      <a:pt x="504" y="4071"/>
                    </a:lnTo>
                    <a:lnTo>
                      <a:pt x="488" y="4071"/>
                    </a:lnTo>
                    <a:lnTo>
                      <a:pt x="471" y="4071"/>
                    </a:lnTo>
                    <a:lnTo>
                      <a:pt x="456" y="4071"/>
                    </a:lnTo>
                    <a:lnTo>
                      <a:pt x="439" y="4071"/>
                    </a:lnTo>
                    <a:lnTo>
                      <a:pt x="422" y="4071"/>
                    </a:lnTo>
                    <a:lnTo>
                      <a:pt x="406" y="4071"/>
                    </a:lnTo>
                    <a:lnTo>
                      <a:pt x="390" y="4071"/>
                    </a:lnTo>
                    <a:lnTo>
                      <a:pt x="374" y="4071"/>
                    </a:lnTo>
                    <a:lnTo>
                      <a:pt x="357" y="4071"/>
                    </a:lnTo>
                    <a:lnTo>
                      <a:pt x="342" y="4071"/>
                    </a:lnTo>
                    <a:lnTo>
                      <a:pt x="325" y="4071"/>
                    </a:lnTo>
                    <a:lnTo>
                      <a:pt x="309" y="4071"/>
                    </a:lnTo>
                    <a:lnTo>
                      <a:pt x="292" y="4071"/>
                    </a:lnTo>
                    <a:lnTo>
                      <a:pt x="277" y="4071"/>
                    </a:lnTo>
                    <a:lnTo>
                      <a:pt x="260" y="4071"/>
                    </a:lnTo>
                    <a:lnTo>
                      <a:pt x="244" y="4071"/>
                    </a:lnTo>
                    <a:lnTo>
                      <a:pt x="227" y="4071"/>
                    </a:lnTo>
                    <a:lnTo>
                      <a:pt x="212" y="4071"/>
                    </a:lnTo>
                    <a:lnTo>
                      <a:pt x="195" y="4071"/>
                    </a:lnTo>
                    <a:lnTo>
                      <a:pt x="179" y="4071"/>
                    </a:lnTo>
                    <a:lnTo>
                      <a:pt x="162" y="4071"/>
                    </a:lnTo>
                    <a:lnTo>
                      <a:pt x="147" y="4071"/>
                    </a:lnTo>
                    <a:lnTo>
                      <a:pt x="130" y="4071"/>
                    </a:lnTo>
                    <a:lnTo>
                      <a:pt x="114" y="4071"/>
                    </a:lnTo>
                    <a:lnTo>
                      <a:pt x="97" y="4071"/>
                    </a:lnTo>
                    <a:lnTo>
                      <a:pt x="82" y="4071"/>
                    </a:lnTo>
                    <a:lnTo>
                      <a:pt x="65" y="4071"/>
                    </a:lnTo>
                    <a:lnTo>
                      <a:pt x="49" y="4071"/>
                    </a:lnTo>
                    <a:lnTo>
                      <a:pt x="32" y="4071"/>
                    </a:lnTo>
                    <a:lnTo>
                      <a:pt x="17" y="4071"/>
                    </a:lnTo>
                    <a:lnTo>
                      <a:pt x="0" y="4071"/>
                    </a:lnTo>
                    <a:close/>
                  </a:path>
                </a:pathLst>
              </a:cu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6360" y="362160"/>
                <a:ext cx="560160" cy="389880"/>
              </a:xfrm>
              <a:custGeom>
                <a:avLst/>
                <a:gdLst/>
                <a:ahLst/>
                <a:rect l="l" t="t" r="r" b="b"/>
                <a:pathLst>
                  <a:path w="6486" h="4071">
                    <a:moveTo>
                      <a:pt x="0" y="4071"/>
                    </a:moveTo>
                    <a:lnTo>
                      <a:pt x="0" y="4071"/>
                    </a:lnTo>
                    <a:lnTo>
                      <a:pt x="17" y="4054"/>
                    </a:lnTo>
                    <a:lnTo>
                      <a:pt x="32" y="4021"/>
                    </a:lnTo>
                    <a:lnTo>
                      <a:pt x="49" y="3979"/>
                    </a:lnTo>
                    <a:lnTo>
                      <a:pt x="65" y="3928"/>
                    </a:lnTo>
                    <a:lnTo>
                      <a:pt x="82" y="3868"/>
                    </a:lnTo>
                    <a:lnTo>
                      <a:pt x="97" y="3809"/>
                    </a:lnTo>
                    <a:lnTo>
                      <a:pt x="114" y="3751"/>
                    </a:lnTo>
                    <a:lnTo>
                      <a:pt x="130" y="3683"/>
                    </a:lnTo>
                    <a:lnTo>
                      <a:pt x="147" y="3616"/>
                    </a:lnTo>
                    <a:lnTo>
                      <a:pt x="162" y="3548"/>
                    </a:lnTo>
                    <a:lnTo>
                      <a:pt x="179" y="3472"/>
                    </a:lnTo>
                    <a:lnTo>
                      <a:pt x="195" y="3404"/>
                    </a:lnTo>
                    <a:lnTo>
                      <a:pt x="212" y="3329"/>
                    </a:lnTo>
                    <a:lnTo>
                      <a:pt x="227" y="3252"/>
                    </a:lnTo>
                    <a:lnTo>
                      <a:pt x="244" y="3176"/>
                    </a:lnTo>
                    <a:lnTo>
                      <a:pt x="260" y="3108"/>
                    </a:lnTo>
                    <a:lnTo>
                      <a:pt x="277" y="3033"/>
                    </a:lnTo>
                    <a:lnTo>
                      <a:pt x="292" y="2956"/>
                    </a:lnTo>
                    <a:lnTo>
                      <a:pt x="309" y="2881"/>
                    </a:lnTo>
                    <a:lnTo>
                      <a:pt x="325" y="2804"/>
                    </a:lnTo>
                    <a:lnTo>
                      <a:pt x="342" y="2728"/>
                    </a:lnTo>
                    <a:lnTo>
                      <a:pt x="357" y="2653"/>
                    </a:lnTo>
                    <a:lnTo>
                      <a:pt x="374" y="2576"/>
                    </a:lnTo>
                    <a:lnTo>
                      <a:pt x="390" y="2501"/>
                    </a:lnTo>
                    <a:lnTo>
                      <a:pt x="406" y="2432"/>
                    </a:lnTo>
                    <a:lnTo>
                      <a:pt x="422" y="2357"/>
                    </a:lnTo>
                    <a:lnTo>
                      <a:pt x="439" y="2289"/>
                    </a:lnTo>
                    <a:lnTo>
                      <a:pt x="456" y="2213"/>
                    </a:lnTo>
                    <a:lnTo>
                      <a:pt x="471" y="2145"/>
                    </a:lnTo>
                    <a:lnTo>
                      <a:pt x="488" y="2079"/>
                    </a:lnTo>
                    <a:lnTo>
                      <a:pt x="504" y="2010"/>
                    </a:lnTo>
                    <a:lnTo>
                      <a:pt x="521" y="1944"/>
                    </a:lnTo>
                    <a:lnTo>
                      <a:pt x="536" y="1875"/>
                    </a:lnTo>
                    <a:lnTo>
                      <a:pt x="553" y="1807"/>
                    </a:lnTo>
                    <a:lnTo>
                      <a:pt x="569" y="1749"/>
                    </a:lnTo>
                    <a:lnTo>
                      <a:pt x="586" y="1681"/>
                    </a:lnTo>
                    <a:lnTo>
                      <a:pt x="601" y="1622"/>
                    </a:lnTo>
                    <a:lnTo>
                      <a:pt x="618" y="1562"/>
                    </a:lnTo>
                    <a:lnTo>
                      <a:pt x="634" y="1504"/>
                    </a:lnTo>
                    <a:lnTo>
                      <a:pt x="651" y="1445"/>
                    </a:lnTo>
                    <a:lnTo>
                      <a:pt x="666" y="1385"/>
                    </a:lnTo>
                    <a:lnTo>
                      <a:pt x="683" y="1334"/>
                    </a:lnTo>
                    <a:lnTo>
                      <a:pt x="699" y="1275"/>
                    </a:lnTo>
                    <a:lnTo>
                      <a:pt x="716" y="1226"/>
                    </a:lnTo>
                    <a:lnTo>
                      <a:pt x="731" y="1175"/>
                    </a:lnTo>
                    <a:lnTo>
                      <a:pt x="748" y="1124"/>
                    </a:lnTo>
                    <a:lnTo>
                      <a:pt x="764" y="1073"/>
                    </a:lnTo>
                    <a:lnTo>
                      <a:pt x="780" y="1023"/>
                    </a:lnTo>
                    <a:lnTo>
                      <a:pt x="796" y="981"/>
                    </a:lnTo>
                    <a:lnTo>
                      <a:pt x="813" y="930"/>
                    </a:lnTo>
                    <a:lnTo>
                      <a:pt x="828" y="888"/>
                    </a:lnTo>
                    <a:lnTo>
                      <a:pt x="845" y="844"/>
                    </a:lnTo>
                    <a:lnTo>
                      <a:pt x="862" y="802"/>
                    </a:lnTo>
                    <a:lnTo>
                      <a:pt x="878" y="760"/>
                    </a:lnTo>
                    <a:lnTo>
                      <a:pt x="895" y="727"/>
                    </a:lnTo>
                    <a:lnTo>
                      <a:pt x="910" y="685"/>
                    </a:lnTo>
                    <a:lnTo>
                      <a:pt x="927" y="651"/>
                    </a:lnTo>
                    <a:lnTo>
                      <a:pt x="943" y="608"/>
                    </a:lnTo>
                    <a:lnTo>
                      <a:pt x="960" y="574"/>
                    </a:lnTo>
                    <a:lnTo>
                      <a:pt x="975" y="541"/>
                    </a:lnTo>
                    <a:lnTo>
                      <a:pt x="992" y="508"/>
                    </a:lnTo>
                    <a:lnTo>
                      <a:pt x="1008" y="482"/>
                    </a:lnTo>
                    <a:lnTo>
                      <a:pt x="1025" y="448"/>
                    </a:lnTo>
                    <a:lnTo>
                      <a:pt x="1040" y="422"/>
                    </a:lnTo>
                    <a:lnTo>
                      <a:pt x="1057" y="389"/>
                    </a:lnTo>
                    <a:lnTo>
                      <a:pt x="1073" y="364"/>
                    </a:lnTo>
                    <a:lnTo>
                      <a:pt x="1090" y="338"/>
                    </a:lnTo>
                    <a:lnTo>
                      <a:pt x="1105" y="313"/>
                    </a:lnTo>
                    <a:lnTo>
                      <a:pt x="1122" y="287"/>
                    </a:lnTo>
                    <a:lnTo>
                      <a:pt x="1138" y="271"/>
                    </a:lnTo>
                    <a:lnTo>
                      <a:pt x="1154" y="245"/>
                    </a:lnTo>
                    <a:lnTo>
                      <a:pt x="1170" y="228"/>
                    </a:lnTo>
                    <a:lnTo>
                      <a:pt x="1187" y="203"/>
                    </a:lnTo>
                    <a:lnTo>
                      <a:pt x="1202" y="186"/>
                    </a:lnTo>
                    <a:lnTo>
                      <a:pt x="1219" y="170"/>
                    </a:lnTo>
                    <a:lnTo>
                      <a:pt x="1235" y="152"/>
                    </a:lnTo>
                    <a:lnTo>
                      <a:pt x="1252" y="135"/>
                    </a:lnTo>
                    <a:lnTo>
                      <a:pt x="1267" y="128"/>
                    </a:lnTo>
                    <a:lnTo>
                      <a:pt x="1284" y="110"/>
                    </a:lnTo>
                    <a:lnTo>
                      <a:pt x="1301" y="93"/>
                    </a:lnTo>
                    <a:lnTo>
                      <a:pt x="1317" y="84"/>
                    </a:lnTo>
                    <a:lnTo>
                      <a:pt x="1334" y="77"/>
                    </a:lnTo>
                    <a:lnTo>
                      <a:pt x="1349" y="60"/>
                    </a:lnTo>
                    <a:lnTo>
                      <a:pt x="1366" y="51"/>
                    </a:lnTo>
                    <a:lnTo>
                      <a:pt x="1382" y="42"/>
                    </a:lnTo>
                    <a:lnTo>
                      <a:pt x="1399" y="33"/>
                    </a:lnTo>
                    <a:lnTo>
                      <a:pt x="1414" y="33"/>
                    </a:lnTo>
                    <a:lnTo>
                      <a:pt x="1431" y="26"/>
                    </a:lnTo>
                    <a:lnTo>
                      <a:pt x="1447" y="17"/>
                    </a:lnTo>
                    <a:lnTo>
                      <a:pt x="1464" y="17"/>
                    </a:lnTo>
                    <a:lnTo>
                      <a:pt x="1479" y="9"/>
                    </a:lnTo>
                    <a:lnTo>
                      <a:pt x="1496" y="9"/>
                    </a:lnTo>
                    <a:lnTo>
                      <a:pt x="1512" y="9"/>
                    </a:lnTo>
                    <a:lnTo>
                      <a:pt x="1528" y="0"/>
                    </a:lnTo>
                    <a:lnTo>
                      <a:pt x="1544" y="0"/>
                    </a:lnTo>
                    <a:lnTo>
                      <a:pt x="1561" y="0"/>
                    </a:lnTo>
                    <a:lnTo>
                      <a:pt x="1576" y="0"/>
                    </a:lnTo>
                    <a:lnTo>
                      <a:pt x="1593" y="0"/>
                    </a:lnTo>
                    <a:lnTo>
                      <a:pt x="1609" y="9"/>
                    </a:lnTo>
                    <a:lnTo>
                      <a:pt x="1626" y="9"/>
                    </a:lnTo>
                    <a:lnTo>
                      <a:pt x="1641" y="9"/>
                    </a:lnTo>
                    <a:lnTo>
                      <a:pt x="1658" y="17"/>
                    </a:lnTo>
                    <a:lnTo>
                      <a:pt x="1674" y="17"/>
                    </a:lnTo>
                    <a:lnTo>
                      <a:pt x="1691" y="26"/>
                    </a:lnTo>
                    <a:lnTo>
                      <a:pt x="1706" y="26"/>
                    </a:lnTo>
                    <a:lnTo>
                      <a:pt x="1723" y="33"/>
                    </a:lnTo>
                    <a:lnTo>
                      <a:pt x="1740" y="42"/>
                    </a:lnTo>
                    <a:lnTo>
                      <a:pt x="1756" y="42"/>
                    </a:lnTo>
                    <a:lnTo>
                      <a:pt x="1773" y="51"/>
                    </a:lnTo>
                    <a:lnTo>
                      <a:pt x="1788" y="60"/>
                    </a:lnTo>
                    <a:lnTo>
                      <a:pt x="1805" y="68"/>
                    </a:lnTo>
                    <a:lnTo>
                      <a:pt x="1821" y="77"/>
                    </a:lnTo>
                    <a:lnTo>
                      <a:pt x="1838" y="84"/>
                    </a:lnTo>
                    <a:lnTo>
                      <a:pt x="1853" y="93"/>
                    </a:lnTo>
                    <a:lnTo>
                      <a:pt x="1870" y="110"/>
                    </a:lnTo>
                    <a:lnTo>
                      <a:pt x="1886" y="119"/>
                    </a:lnTo>
                    <a:lnTo>
                      <a:pt x="1902" y="128"/>
                    </a:lnTo>
                    <a:lnTo>
                      <a:pt x="1918" y="135"/>
                    </a:lnTo>
                    <a:lnTo>
                      <a:pt x="1935" y="152"/>
                    </a:lnTo>
                    <a:lnTo>
                      <a:pt x="1950" y="161"/>
                    </a:lnTo>
                    <a:lnTo>
                      <a:pt x="1967" y="177"/>
                    </a:lnTo>
                    <a:lnTo>
                      <a:pt x="1983" y="186"/>
                    </a:lnTo>
                    <a:lnTo>
                      <a:pt x="2000" y="203"/>
                    </a:lnTo>
                    <a:lnTo>
                      <a:pt x="2015" y="212"/>
                    </a:lnTo>
                    <a:lnTo>
                      <a:pt x="2032" y="228"/>
                    </a:lnTo>
                    <a:lnTo>
                      <a:pt x="2048" y="245"/>
                    </a:lnTo>
                    <a:lnTo>
                      <a:pt x="2065" y="254"/>
                    </a:lnTo>
                    <a:lnTo>
                      <a:pt x="2080" y="271"/>
                    </a:lnTo>
                    <a:lnTo>
                      <a:pt x="2097" y="287"/>
                    </a:lnTo>
                    <a:lnTo>
                      <a:pt x="2113" y="305"/>
                    </a:lnTo>
                    <a:lnTo>
                      <a:pt x="2130" y="313"/>
                    </a:lnTo>
                    <a:lnTo>
                      <a:pt x="2147" y="329"/>
                    </a:lnTo>
                    <a:lnTo>
                      <a:pt x="2162" y="347"/>
                    </a:lnTo>
                    <a:lnTo>
                      <a:pt x="2179" y="364"/>
                    </a:lnTo>
                    <a:lnTo>
                      <a:pt x="2195" y="380"/>
                    </a:lnTo>
                    <a:lnTo>
                      <a:pt x="2212" y="397"/>
                    </a:lnTo>
                    <a:lnTo>
                      <a:pt x="2227" y="413"/>
                    </a:lnTo>
                    <a:lnTo>
                      <a:pt x="2244" y="431"/>
                    </a:lnTo>
                    <a:lnTo>
                      <a:pt x="2260" y="448"/>
                    </a:lnTo>
                    <a:lnTo>
                      <a:pt x="2276" y="464"/>
                    </a:lnTo>
                    <a:lnTo>
                      <a:pt x="2292" y="482"/>
                    </a:lnTo>
                    <a:lnTo>
                      <a:pt x="2309" y="508"/>
                    </a:lnTo>
                    <a:lnTo>
                      <a:pt x="2324" y="524"/>
                    </a:lnTo>
                    <a:lnTo>
                      <a:pt x="2341" y="541"/>
                    </a:lnTo>
                    <a:lnTo>
                      <a:pt x="2357" y="557"/>
                    </a:lnTo>
                    <a:lnTo>
                      <a:pt x="2374" y="574"/>
                    </a:lnTo>
                    <a:lnTo>
                      <a:pt x="2389" y="601"/>
                    </a:lnTo>
                    <a:lnTo>
                      <a:pt x="2406" y="616"/>
                    </a:lnTo>
                    <a:lnTo>
                      <a:pt x="2422" y="634"/>
                    </a:lnTo>
                    <a:lnTo>
                      <a:pt x="2439" y="651"/>
                    </a:lnTo>
                    <a:lnTo>
                      <a:pt x="2454" y="676"/>
                    </a:lnTo>
                    <a:lnTo>
                      <a:pt x="2471" y="693"/>
                    </a:lnTo>
                    <a:lnTo>
                      <a:pt x="2487" y="709"/>
                    </a:lnTo>
                    <a:lnTo>
                      <a:pt x="2504" y="727"/>
                    </a:lnTo>
                    <a:lnTo>
                      <a:pt x="2519" y="751"/>
                    </a:lnTo>
                    <a:lnTo>
                      <a:pt x="2536" y="769"/>
                    </a:lnTo>
                    <a:lnTo>
                      <a:pt x="2552" y="795"/>
                    </a:lnTo>
                    <a:lnTo>
                      <a:pt x="2569" y="811"/>
                    </a:lnTo>
                    <a:lnTo>
                      <a:pt x="2586" y="828"/>
                    </a:lnTo>
                    <a:lnTo>
                      <a:pt x="2601" y="853"/>
                    </a:lnTo>
                    <a:lnTo>
                      <a:pt x="2618" y="870"/>
                    </a:lnTo>
                    <a:lnTo>
                      <a:pt x="2634" y="888"/>
                    </a:lnTo>
                    <a:lnTo>
                      <a:pt x="2650" y="912"/>
                    </a:lnTo>
                    <a:lnTo>
                      <a:pt x="2666" y="930"/>
                    </a:lnTo>
                    <a:lnTo>
                      <a:pt x="2683" y="954"/>
                    </a:lnTo>
                    <a:lnTo>
                      <a:pt x="2698" y="972"/>
                    </a:lnTo>
                    <a:lnTo>
                      <a:pt x="2715" y="988"/>
                    </a:lnTo>
                    <a:lnTo>
                      <a:pt x="2731" y="1014"/>
                    </a:lnTo>
                    <a:lnTo>
                      <a:pt x="2748" y="1031"/>
                    </a:lnTo>
                    <a:lnTo>
                      <a:pt x="2763" y="1056"/>
                    </a:lnTo>
                    <a:lnTo>
                      <a:pt x="2780" y="1073"/>
                    </a:lnTo>
                    <a:lnTo>
                      <a:pt x="2796" y="1098"/>
                    </a:lnTo>
                    <a:lnTo>
                      <a:pt x="2813" y="1115"/>
                    </a:lnTo>
                    <a:lnTo>
                      <a:pt x="2828" y="1131"/>
                    </a:lnTo>
                    <a:lnTo>
                      <a:pt x="2845" y="1157"/>
                    </a:lnTo>
                    <a:lnTo>
                      <a:pt x="2861" y="1175"/>
                    </a:lnTo>
                    <a:lnTo>
                      <a:pt x="2878" y="1200"/>
                    </a:lnTo>
                    <a:lnTo>
                      <a:pt x="2893" y="1217"/>
                    </a:lnTo>
                    <a:lnTo>
                      <a:pt x="2910" y="1242"/>
                    </a:lnTo>
                    <a:lnTo>
                      <a:pt x="2926" y="1259"/>
                    </a:lnTo>
                    <a:lnTo>
                      <a:pt x="2943" y="1275"/>
                    </a:lnTo>
                    <a:lnTo>
                      <a:pt x="2958" y="1301"/>
                    </a:lnTo>
                    <a:lnTo>
                      <a:pt x="2975" y="1318"/>
                    </a:lnTo>
                    <a:lnTo>
                      <a:pt x="2992" y="1343"/>
                    </a:lnTo>
                    <a:lnTo>
                      <a:pt x="3008" y="1361"/>
                    </a:lnTo>
                    <a:lnTo>
                      <a:pt x="3024" y="1385"/>
                    </a:lnTo>
                    <a:lnTo>
                      <a:pt x="3040" y="1403"/>
                    </a:lnTo>
                    <a:lnTo>
                      <a:pt x="3057" y="1419"/>
                    </a:lnTo>
                    <a:lnTo>
                      <a:pt x="3072" y="1445"/>
                    </a:lnTo>
                    <a:lnTo>
                      <a:pt x="3089" y="1462"/>
                    </a:lnTo>
                    <a:lnTo>
                      <a:pt x="3105" y="1487"/>
                    </a:lnTo>
                    <a:lnTo>
                      <a:pt x="3122" y="1504"/>
                    </a:lnTo>
                    <a:lnTo>
                      <a:pt x="3137" y="1520"/>
                    </a:lnTo>
                    <a:lnTo>
                      <a:pt x="3154" y="1546"/>
                    </a:lnTo>
                    <a:lnTo>
                      <a:pt x="3170" y="1562"/>
                    </a:lnTo>
                    <a:lnTo>
                      <a:pt x="3187" y="1580"/>
                    </a:lnTo>
                    <a:lnTo>
                      <a:pt x="3202" y="1606"/>
                    </a:lnTo>
                    <a:lnTo>
                      <a:pt x="3219" y="1622"/>
                    </a:lnTo>
                    <a:lnTo>
                      <a:pt x="3235" y="1639"/>
                    </a:lnTo>
                    <a:lnTo>
                      <a:pt x="3252" y="1664"/>
                    </a:lnTo>
                    <a:lnTo>
                      <a:pt x="3267" y="1681"/>
                    </a:lnTo>
                    <a:lnTo>
                      <a:pt x="3284" y="1699"/>
                    </a:lnTo>
                    <a:lnTo>
                      <a:pt x="3300" y="1723"/>
                    </a:lnTo>
                    <a:lnTo>
                      <a:pt x="3317" y="1741"/>
                    </a:lnTo>
                    <a:lnTo>
                      <a:pt x="3332" y="1757"/>
                    </a:lnTo>
                    <a:lnTo>
                      <a:pt x="3349" y="1774"/>
                    </a:lnTo>
                    <a:lnTo>
                      <a:pt x="3365" y="1800"/>
                    </a:lnTo>
                    <a:lnTo>
                      <a:pt x="3382" y="1816"/>
                    </a:lnTo>
                    <a:lnTo>
                      <a:pt x="3397" y="1833"/>
                    </a:lnTo>
                    <a:lnTo>
                      <a:pt x="3414" y="1849"/>
                    </a:lnTo>
                    <a:lnTo>
                      <a:pt x="3431" y="1875"/>
                    </a:lnTo>
                    <a:lnTo>
                      <a:pt x="3446" y="1893"/>
                    </a:lnTo>
                    <a:lnTo>
                      <a:pt x="3463" y="1909"/>
                    </a:lnTo>
                    <a:lnTo>
                      <a:pt x="3479" y="1926"/>
                    </a:lnTo>
                    <a:lnTo>
                      <a:pt x="3496" y="1944"/>
                    </a:lnTo>
                    <a:lnTo>
                      <a:pt x="3511" y="1968"/>
                    </a:lnTo>
                    <a:lnTo>
                      <a:pt x="3528" y="1986"/>
                    </a:lnTo>
                    <a:lnTo>
                      <a:pt x="3544" y="2002"/>
                    </a:lnTo>
                    <a:lnTo>
                      <a:pt x="3561" y="2019"/>
                    </a:lnTo>
                    <a:lnTo>
                      <a:pt x="3576" y="2036"/>
                    </a:lnTo>
                    <a:lnTo>
                      <a:pt x="3593" y="2052"/>
                    </a:lnTo>
                    <a:lnTo>
                      <a:pt x="3609" y="2070"/>
                    </a:lnTo>
                    <a:lnTo>
                      <a:pt x="3626" y="2094"/>
                    </a:lnTo>
                    <a:lnTo>
                      <a:pt x="3641" y="2112"/>
                    </a:lnTo>
                    <a:lnTo>
                      <a:pt x="3658" y="2129"/>
                    </a:lnTo>
                    <a:lnTo>
                      <a:pt x="3674" y="2145"/>
                    </a:lnTo>
                    <a:lnTo>
                      <a:pt x="3691" y="2163"/>
                    </a:lnTo>
                    <a:lnTo>
                      <a:pt x="3706" y="2180"/>
                    </a:lnTo>
                    <a:lnTo>
                      <a:pt x="3723" y="2196"/>
                    </a:lnTo>
                    <a:lnTo>
                      <a:pt x="3739" y="2213"/>
                    </a:lnTo>
                    <a:lnTo>
                      <a:pt x="3756" y="2231"/>
                    </a:lnTo>
                    <a:lnTo>
                      <a:pt x="3771" y="2247"/>
                    </a:lnTo>
                    <a:lnTo>
                      <a:pt x="3788" y="2264"/>
                    </a:lnTo>
                    <a:lnTo>
                      <a:pt x="3804" y="2280"/>
                    </a:lnTo>
                    <a:lnTo>
                      <a:pt x="3820" y="2298"/>
                    </a:lnTo>
                    <a:lnTo>
                      <a:pt x="3836" y="2315"/>
                    </a:lnTo>
                    <a:lnTo>
                      <a:pt x="3853" y="2331"/>
                    </a:lnTo>
                    <a:lnTo>
                      <a:pt x="3870" y="2340"/>
                    </a:lnTo>
                    <a:lnTo>
                      <a:pt x="3885" y="2357"/>
                    </a:lnTo>
                    <a:lnTo>
                      <a:pt x="3902" y="2374"/>
                    </a:lnTo>
                    <a:lnTo>
                      <a:pt x="3918" y="2390"/>
                    </a:lnTo>
                    <a:lnTo>
                      <a:pt x="3935" y="2408"/>
                    </a:lnTo>
                    <a:lnTo>
                      <a:pt x="3950" y="2424"/>
                    </a:lnTo>
                    <a:lnTo>
                      <a:pt x="3967" y="2441"/>
                    </a:lnTo>
                    <a:lnTo>
                      <a:pt x="3983" y="2459"/>
                    </a:lnTo>
                    <a:lnTo>
                      <a:pt x="4000" y="2467"/>
                    </a:lnTo>
                    <a:lnTo>
                      <a:pt x="4015" y="2483"/>
                    </a:lnTo>
                    <a:lnTo>
                      <a:pt x="4032" y="2501"/>
                    </a:lnTo>
                    <a:lnTo>
                      <a:pt x="4048" y="2518"/>
                    </a:lnTo>
                    <a:lnTo>
                      <a:pt x="4065" y="2525"/>
                    </a:lnTo>
                    <a:lnTo>
                      <a:pt x="4080" y="2543"/>
                    </a:lnTo>
                    <a:lnTo>
                      <a:pt x="4097" y="2560"/>
                    </a:lnTo>
                    <a:lnTo>
                      <a:pt x="4113" y="2576"/>
                    </a:lnTo>
                    <a:lnTo>
                      <a:pt x="4130" y="2585"/>
                    </a:lnTo>
                    <a:lnTo>
                      <a:pt x="4145" y="2602"/>
                    </a:lnTo>
                    <a:lnTo>
                      <a:pt x="4162" y="2618"/>
                    </a:lnTo>
                    <a:lnTo>
                      <a:pt x="4178" y="2627"/>
                    </a:lnTo>
                    <a:lnTo>
                      <a:pt x="4194" y="2644"/>
                    </a:lnTo>
                    <a:lnTo>
                      <a:pt x="4210" y="2662"/>
                    </a:lnTo>
                    <a:lnTo>
                      <a:pt x="4227" y="2669"/>
                    </a:lnTo>
                    <a:lnTo>
                      <a:pt x="4242" y="2686"/>
                    </a:lnTo>
                    <a:lnTo>
                      <a:pt x="4259" y="2704"/>
                    </a:lnTo>
                    <a:lnTo>
                      <a:pt x="4276" y="2711"/>
                    </a:lnTo>
                    <a:lnTo>
                      <a:pt x="4292" y="2728"/>
                    </a:lnTo>
                    <a:lnTo>
                      <a:pt x="4309" y="2737"/>
                    </a:lnTo>
                    <a:lnTo>
                      <a:pt x="4324" y="2754"/>
                    </a:lnTo>
                    <a:lnTo>
                      <a:pt x="4341" y="2770"/>
                    </a:lnTo>
                    <a:lnTo>
                      <a:pt x="4357" y="2779"/>
                    </a:lnTo>
                    <a:lnTo>
                      <a:pt x="4374" y="2796"/>
                    </a:lnTo>
                    <a:lnTo>
                      <a:pt x="4389" y="2804"/>
                    </a:lnTo>
                    <a:lnTo>
                      <a:pt x="4406" y="2821"/>
                    </a:lnTo>
                    <a:lnTo>
                      <a:pt x="4422" y="2830"/>
                    </a:lnTo>
                    <a:lnTo>
                      <a:pt x="4439" y="2847"/>
                    </a:lnTo>
                    <a:lnTo>
                      <a:pt x="4454" y="2854"/>
                    </a:lnTo>
                    <a:lnTo>
                      <a:pt x="4471" y="2872"/>
                    </a:lnTo>
                    <a:lnTo>
                      <a:pt x="4487" y="2881"/>
                    </a:lnTo>
                    <a:lnTo>
                      <a:pt x="4504" y="2889"/>
                    </a:lnTo>
                    <a:lnTo>
                      <a:pt x="4519" y="2905"/>
                    </a:lnTo>
                    <a:lnTo>
                      <a:pt x="4536" y="2914"/>
                    </a:lnTo>
                    <a:lnTo>
                      <a:pt x="4552" y="2931"/>
                    </a:lnTo>
                    <a:lnTo>
                      <a:pt x="4568" y="2940"/>
                    </a:lnTo>
                    <a:lnTo>
                      <a:pt x="4584" y="2947"/>
                    </a:lnTo>
                    <a:lnTo>
                      <a:pt x="4601" y="2965"/>
                    </a:lnTo>
                    <a:lnTo>
                      <a:pt x="4616" y="2973"/>
                    </a:lnTo>
                    <a:lnTo>
                      <a:pt x="4633" y="2982"/>
                    </a:lnTo>
                    <a:lnTo>
                      <a:pt x="4649" y="2998"/>
                    </a:lnTo>
                    <a:lnTo>
                      <a:pt x="4666" y="3007"/>
                    </a:lnTo>
                    <a:lnTo>
                      <a:pt x="4681" y="3015"/>
                    </a:lnTo>
                    <a:lnTo>
                      <a:pt x="4698" y="3033"/>
                    </a:lnTo>
                    <a:lnTo>
                      <a:pt x="4715" y="3042"/>
                    </a:lnTo>
                    <a:lnTo>
                      <a:pt x="4731" y="3049"/>
                    </a:lnTo>
                    <a:lnTo>
                      <a:pt x="4748" y="3058"/>
                    </a:lnTo>
                    <a:lnTo>
                      <a:pt x="4763" y="3075"/>
                    </a:lnTo>
                    <a:lnTo>
                      <a:pt x="4780" y="3084"/>
                    </a:lnTo>
                    <a:lnTo>
                      <a:pt x="4796" y="3091"/>
                    </a:lnTo>
                    <a:lnTo>
                      <a:pt x="4813" y="3100"/>
                    </a:lnTo>
                    <a:lnTo>
                      <a:pt x="4828" y="3117"/>
                    </a:lnTo>
                    <a:lnTo>
                      <a:pt x="4845" y="3126"/>
                    </a:lnTo>
                    <a:lnTo>
                      <a:pt x="4861" y="3134"/>
                    </a:lnTo>
                    <a:lnTo>
                      <a:pt x="4878" y="3142"/>
                    </a:lnTo>
                    <a:lnTo>
                      <a:pt x="4893" y="3150"/>
                    </a:lnTo>
                    <a:lnTo>
                      <a:pt x="4910" y="3159"/>
                    </a:lnTo>
                    <a:lnTo>
                      <a:pt x="4926" y="3176"/>
                    </a:lnTo>
                    <a:lnTo>
                      <a:pt x="4942" y="3185"/>
                    </a:lnTo>
                    <a:lnTo>
                      <a:pt x="4958" y="3192"/>
                    </a:lnTo>
                    <a:lnTo>
                      <a:pt x="4975" y="3201"/>
                    </a:lnTo>
                    <a:lnTo>
                      <a:pt x="4990" y="3210"/>
                    </a:lnTo>
                    <a:lnTo>
                      <a:pt x="5007" y="3219"/>
                    </a:lnTo>
                    <a:lnTo>
                      <a:pt x="5023" y="3227"/>
                    </a:lnTo>
                    <a:lnTo>
                      <a:pt x="5040" y="3235"/>
                    </a:lnTo>
                    <a:lnTo>
                      <a:pt x="5055" y="3243"/>
                    </a:lnTo>
                    <a:lnTo>
                      <a:pt x="5072" y="3252"/>
                    </a:lnTo>
                    <a:lnTo>
                      <a:pt x="5088" y="3261"/>
                    </a:lnTo>
                    <a:lnTo>
                      <a:pt x="5105" y="3269"/>
                    </a:lnTo>
                    <a:lnTo>
                      <a:pt x="5120" y="3278"/>
                    </a:lnTo>
                    <a:lnTo>
                      <a:pt x="5137" y="3294"/>
                    </a:lnTo>
                    <a:lnTo>
                      <a:pt x="5154" y="3303"/>
                    </a:lnTo>
                    <a:lnTo>
                      <a:pt x="5170" y="3303"/>
                    </a:lnTo>
                    <a:lnTo>
                      <a:pt x="5187" y="3311"/>
                    </a:lnTo>
                    <a:lnTo>
                      <a:pt x="5202" y="3320"/>
                    </a:lnTo>
                    <a:lnTo>
                      <a:pt x="5219" y="3329"/>
                    </a:lnTo>
                    <a:lnTo>
                      <a:pt x="5235" y="3336"/>
                    </a:lnTo>
                    <a:lnTo>
                      <a:pt x="5252" y="3345"/>
                    </a:lnTo>
                    <a:lnTo>
                      <a:pt x="5267" y="3353"/>
                    </a:lnTo>
                    <a:lnTo>
                      <a:pt x="5284" y="3362"/>
                    </a:lnTo>
                    <a:lnTo>
                      <a:pt x="5300" y="3371"/>
                    </a:lnTo>
                    <a:lnTo>
                      <a:pt x="5316" y="3378"/>
                    </a:lnTo>
                    <a:lnTo>
                      <a:pt x="5332" y="3387"/>
                    </a:lnTo>
                    <a:lnTo>
                      <a:pt x="5349" y="3396"/>
                    </a:lnTo>
                    <a:lnTo>
                      <a:pt x="5364" y="3404"/>
                    </a:lnTo>
                    <a:lnTo>
                      <a:pt x="5381" y="3413"/>
                    </a:lnTo>
                    <a:lnTo>
                      <a:pt x="5397" y="3413"/>
                    </a:lnTo>
                    <a:lnTo>
                      <a:pt x="5414" y="3422"/>
                    </a:lnTo>
                    <a:lnTo>
                      <a:pt x="5429" y="3429"/>
                    </a:lnTo>
                    <a:lnTo>
                      <a:pt x="5446" y="3438"/>
                    </a:lnTo>
                    <a:lnTo>
                      <a:pt x="5462" y="3446"/>
                    </a:lnTo>
                    <a:lnTo>
                      <a:pt x="5479" y="3455"/>
                    </a:lnTo>
                    <a:lnTo>
                      <a:pt x="5494" y="3455"/>
                    </a:lnTo>
                    <a:lnTo>
                      <a:pt x="5511" y="3464"/>
                    </a:lnTo>
                    <a:lnTo>
                      <a:pt x="5527" y="3472"/>
                    </a:lnTo>
                    <a:lnTo>
                      <a:pt x="5544" y="3480"/>
                    </a:lnTo>
                    <a:lnTo>
                      <a:pt x="5561" y="3488"/>
                    </a:lnTo>
                    <a:lnTo>
                      <a:pt x="5576" y="3488"/>
                    </a:lnTo>
                    <a:lnTo>
                      <a:pt x="5593" y="3497"/>
                    </a:lnTo>
                    <a:lnTo>
                      <a:pt x="5609" y="3506"/>
                    </a:lnTo>
                    <a:lnTo>
                      <a:pt x="5626" y="3514"/>
                    </a:lnTo>
                    <a:lnTo>
                      <a:pt x="5641" y="3514"/>
                    </a:lnTo>
                    <a:lnTo>
                      <a:pt x="5658" y="3522"/>
                    </a:lnTo>
                    <a:lnTo>
                      <a:pt x="5674" y="3530"/>
                    </a:lnTo>
                    <a:lnTo>
                      <a:pt x="5690" y="3539"/>
                    </a:lnTo>
                    <a:lnTo>
                      <a:pt x="5706" y="3539"/>
                    </a:lnTo>
                    <a:lnTo>
                      <a:pt x="5723" y="3548"/>
                    </a:lnTo>
                    <a:lnTo>
                      <a:pt x="5738" y="3556"/>
                    </a:lnTo>
                    <a:lnTo>
                      <a:pt x="5755" y="3556"/>
                    </a:lnTo>
                    <a:lnTo>
                      <a:pt x="5771" y="3565"/>
                    </a:lnTo>
                    <a:lnTo>
                      <a:pt x="5788" y="3572"/>
                    </a:lnTo>
                    <a:lnTo>
                      <a:pt x="5803" y="3572"/>
                    </a:lnTo>
                    <a:lnTo>
                      <a:pt x="5820" y="3581"/>
                    </a:lnTo>
                    <a:lnTo>
                      <a:pt x="5836" y="3590"/>
                    </a:lnTo>
                    <a:lnTo>
                      <a:pt x="5853" y="3590"/>
                    </a:lnTo>
                    <a:lnTo>
                      <a:pt x="5868" y="3599"/>
                    </a:lnTo>
                    <a:lnTo>
                      <a:pt x="5885" y="3607"/>
                    </a:lnTo>
                    <a:lnTo>
                      <a:pt x="5901" y="3607"/>
                    </a:lnTo>
                    <a:lnTo>
                      <a:pt x="5918" y="3616"/>
                    </a:lnTo>
                    <a:lnTo>
                      <a:pt x="5933" y="3623"/>
                    </a:lnTo>
                    <a:lnTo>
                      <a:pt x="5950" y="3623"/>
                    </a:lnTo>
                    <a:lnTo>
                      <a:pt x="5966" y="3632"/>
                    </a:lnTo>
                    <a:lnTo>
                      <a:pt x="5983" y="3632"/>
                    </a:lnTo>
                    <a:lnTo>
                      <a:pt x="6000" y="3641"/>
                    </a:lnTo>
                    <a:lnTo>
                      <a:pt x="6015" y="3649"/>
                    </a:lnTo>
                    <a:lnTo>
                      <a:pt x="6032" y="3649"/>
                    </a:lnTo>
                    <a:lnTo>
                      <a:pt x="6048" y="3658"/>
                    </a:lnTo>
                    <a:lnTo>
                      <a:pt x="6064" y="3658"/>
                    </a:lnTo>
                    <a:lnTo>
                      <a:pt x="6080" y="3665"/>
                    </a:lnTo>
                    <a:lnTo>
                      <a:pt x="6097" y="3665"/>
                    </a:lnTo>
                    <a:lnTo>
                      <a:pt x="6112" y="3674"/>
                    </a:lnTo>
                    <a:lnTo>
                      <a:pt x="6129" y="3683"/>
                    </a:lnTo>
                    <a:lnTo>
                      <a:pt x="6145" y="3683"/>
                    </a:lnTo>
                    <a:lnTo>
                      <a:pt x="6162" y="3691"/>
                    </a:lnTo>
                    <a:lnTo>
                      <a:pt x="6177" y="3691"/>
                    </a:lnTo>
                    <a:lnTo>
                      <a:pt x="6194" y="3700"/>
                    </a:lnTo>
                    <a:lnTo>
                      <a:pt x="6210" y="3700"/>
                    </a:lnTo>
                    <a:lnTo>
                      <a:pt x="6227" y="3709"/>
                    </a:lnTo>
                    <a:lnTo>
                      <a:pt x="6242" y="3709"/>
                    </a:lnTo>
                    <a:lnTo>
                      <a:pt x="6259" y="3716"/>
                    </a:lnTo>
                    <a:lnTo>
                      <a:pt x="6275" y="3716"/>
                    </a:lnTo>
                    <a:lnTo>
                      <a:pt x="6292" y="3725"/>
                    </a:lnTo>
                    <a:lnTo>
                      <a:pt x="6307" y="3725"/>
                    </a:lnTo>
                    <a:lnTo>
                      <a:pt x="6324" y="3733"/>
                    </a:lnTo>
                    <a:lnTo>
                      <a:pt x="6340" y="3733"/>
                    </a:lnTo>
                    <a:lnTo>
                      <a:pt x="6357" y="3742"/>
                    </a:lnTo>
                    <a:lnTo>
                      <a:pt x="6372" y="3742"/>
                    </a:lnTo>
                    <a:lnTo>
                      <a:pt x="6389" y="3742"/>
                    </a:lnTo>
                    <a:lnTo>
                      <a:pt x="6406" y="3751"/>
                    </a:lnTo>
                    <a:lnTo>
                      <a:pt x="6422" y="3751"/>
                    </a:lnTo>
                    <a:lnTo>
                      <a:pt x="6438" y="3760"/>
                    </a:lnTo>
                    <a:lnTo>
                      <a:pt x="6454" y="3760"/>
                    </a:lnTo>
                    <a:lnTo>
                      <a:pt x="6471" y="3767"/>
                    </a:lnTo>
                    <a:lnTo>
                      <a:pt x="6486" y="3767"/>
                    </a:lnTo>
                    <a:lnTo>
                      <a:pt x="6486" y="4071"/>
                    </a:lnTo>
                    <a:lnTo>
                      <a:pt x="6471" y="4071"/>
                    </a:lnTo>
                    <a:lnTo>
                      <a:pt x="6454" y="4071"/>
                    </a:lnTo>
                    <a:lnTo>
                      <a:pt x="6438" y="4071"/>
                    </a:lnTo>
                    <a:lnTo>
                      <a:pt x="6422" y="4071"/>
                    </a:lnTo>
                    <a:lnTo>
                      <a:pt x="6406" y="4071"/>
                    </a:lnTo>
                    <a:lnTo>
                      <a:pt x="6389" y="4071"/>
                    </a:lnTo>
                    <a:lnTo>
                      <a:pt x="6372" y="4071"/>
                    </a:lnTo>
                    <a:lnTo>
                      <a:pt x="6357" y="4071"/>
                    </a:lnTo>
                    <a:lnTo>
                      <a:pt x="6340" y="4071"/>
                    </a:lnTo>
                    <a:lnTo>
                      <a:pt x="6324" y="4071"/>
                    </a:lnTo>
                    <a:lnTo>
                      <a:pt x="6307" y="4071"/>
                    </a:lnTo>
                    <a:lnTo>
                      <a:pt x="6292" y="4071"/>
                    </a:lnTo>
                    <a:lnTo>
                      <a:pt x="6275" y="4071"/>
                    </a:lnTo>
                    <a:lnTo>
                      <a:pt x="6259" y="4071"/>
                    </a:lnTo>
                    <a:lnTo>
                      <a:pt x="6242" y="4071"/>
                    </a:lnTo>
                    <a:lnTo>
                      <a:pt x="6227" y="4071"/>
                    </a:lnTo>
                    <a:lnTo>
                      <a:pt x="6210" y="4071"/>
                    </a:lnTo>
                    <a:lnTo>
                      <a:pt x="6194" y="4071"/>
                    </a:lnTo>
                    <a:lnTo>
                      <a:pt x="6177" y="4071"/>
                    </a:lnTo>
                    <a:lnTo>
                      <a:pt x="6162" y="4071"/>
                    </a:lnTo>
                    <a:lnTo>
                      <a:pt x="6145" y="4071"/>
                    </a:lnTo>
                    <a:lnTo>
                      <a:pt x="6129" y="4071"/>
                    </a:lnTo>
                    <a:lnTo>
                      <a:pt x="6112" y="4071"/>
                    </a:lnTo>
                    <a:lnTo>
                      <a:pt x="6097" y="4071"/>
                    </a:lnTo>
                    <a:lnTo>
                      <a:pt x="6080" y="4071"/>
                    </a:lnTo>
                    <a:lnTo>
                      <a:pt x="6064" y="4071"/>
                    </a:lnTo>
                    <a:lnTo>
                      <a:pt x="6048" y="4071"/>
                    </a:lnTo>
                    <a:lnTo>
                      <a:pt x="6032" y="4071"/>
                    </a:lnTo>
                    <a:lnTo>
                      <a:pt x="6015" y="4071"/>
                    </a:lnTo>
                    <a:lnTo>
                      <a:pt x="6000" y="4071"/>
                    </a:lnTo>
                    <a:lnTo>
                      <a:pt x="5983" y="4071"/>
                    </a:lnTo>
                    <a:lnTo>
                      <a:pt x="5966" y="4071"/>
                    </a:lnTo>
                    <a:lnTo>
                      <a:pt x="5950" y="4071"/>
                    </a:lnTo>
                    <a:lnTo>
                      <a:pt x="5933" y="4071"/>
                    </a:lnTo>
                    <a:lnTo>
                      <a:pt x="5918" y="4071"/>
                    </a:lnTo>
                    <a:lnTo>
                      <a:pt x="5901" y="4071"/>
                    </a:lnTo>
                    <a:lnTo>
                      <a:pt x="5885" y="4071"/>
                    </a:lnTo>
                    <a:lnTo>
                      <a:pt x="5868" y="4071"/>
                    </a:lnTo>
                    <a:lnTo>
                      <a:pt x="5853" y="4071"/>
                    </a:lnTo>
                    <a:lnTo>
                      <a:pt x="5836" y="4071"/>
                    </a:lnTo>
                    <a:lnTo>
                      <a:pt x="5820" y="4071"/>
                    </a:lnTo>
                    <a:lnTo>
                      <a:pt x="5803" y="4071"/>
                    </a:lnTo>
                    <a:lnTo>
                      <a:pt x="5788" y="4071"/>
                    </a:lnTo>
                    <a:lnTo>
                      <a:pt x="5771" y="4071"/>
                    </a:lnTo>
                    <a:lnTo>
                      <a:pt x="5755" y="4071"/>
                    </a:lnTo>
                    <a:lnTo>
                      <a:pt x="5738" y="4071"/>
                    </a:lnTo>
                    <a:lnTo>
                      <a:pt x="5723" y="4071"/>
                    </a:lnTo>
                    <a:lnTo>
                      <a:pt x="5706" y="4071"/>
                    </a:lnTo>
                    <a:lnTo>
                      <a:pt x="5690" y="4071"/>
                    </a:lnTo>
                    <a:lnTo>
                      <a:pt x="5674" y="4071"/>
                    </a:lnTo>
                    <a:lnTo>
                      <a:pt x="5658" y="4071"/>
                    </a:lnTo>
                    <a:lnTo>
                      <a:pt x="5641" y="4071"/>
                    </a:lnTo>
                    <a:lnTo>
                      <a:pt x="5626" y="4071"/>
                    </a:lnTo>
                    <a:lnTo>
                      <a:pt x="5609" y="4071"/>
                    </a:lnTo>
                    <a:lnTo>
                      <a:pt x="5593" y="4071"/>
                    </a:lnTo>
                    <a:lnTo>
                      <a:pt x="5576" y="4071"/>
                    </a:lnTo>
                    <a:lnTo>
                      <a:pt x="5561" y="4071"/>
                    </a:lnTo>
                    <a:lnTo>
                      <a:pt x="5544" y="4071"/>
                    </a:lnTo>
                    <a:lnTo>
                      <a:pt x="5527" y="4071"/>
                    </a:lnTo>
                    <a:lnTo>
                      <a:pt x="5511" y="4071"/>
                    </a:lnTo>
                    <a:lnTo>
                      <a:pt x="5494" y="4071"/>
                    </a:lnTo>
                    <a:lnTo>
                      <a:pt x="5479" y="4071"/>
                    </a:lnTo>
                    <a:lnTo>
                      <a:pt x="5462" y="4071"/>
                    </a:lnTo>
                    <a:lnTo>
                      <a:pt x="5446" y="4071"/>
                    </a:lnTo>
                    <a:lnTo>
                      <a:pt x="5429" y="4071"/>
                    </a:lnTo>
                    <a:lnTo>
                      <a:pt x="5414" y="4071"/>
                    </a:lnTo>
                    <a:lnTo>
                      <a:pt x="5397" y="4071"/>
                    </a:lnTo>
                    <a:lnTo>
                      <a:pt x="5381" y="4071"/>
                    </a:lnTo>
                    <a:lnTo>
                      <a:pt x="5364" y="4071"/>
                    </a:lnTo>
                    <a:lnTo>
                      <a:pt x="5349" y="4071"/>
                    </a:lnTo>
                    <a:lnTo>
                      <a:pt x="5332" y="4071"/>
                    </a:lnTo>
                    <a:lnTo>
                      <a:pt x="5316" y="4071"/>
                    </a:lnTo>
                    <a:lnTo>
                      <a:pt x="5300" y="4071"/>
                    </a:lnTo>
                    <a:lnTo>
                      <a:pt x="5284" y="4071"/>
                    </a:lnTo>
                    <a:lnTo>
                      <a:pt x="5267" y="4071"/>
                    </a:lnTo>
                    <a:lnTo>
                      <a:pt x="5252" y="4071"/>
                    </a:lnTo>
                    <a:lnTo>
                      <a:pt x="5235" y="4071"/>
                    </a:lnTo>
                    <a:lnTo>
                      <a:pt x="5219" y="4071"/>
                    </a:lnTo>
                    <a:lnTo>
                      <a:pt x="5202" y="4071"/>
                    </a:lnTo>
                    <a:lnTo>
                      <a:pt x="5187" y="4071"/>
                    </a:lnTo>
                    <a:lnTo>
                      <a:pt x="5170" y="4071"/>
                    </a:lnTo>
                    <a:lnTo>
                      <a:pt x="5154" y="4071"/>
                    </a:lnTo>
                    <a:lnTo>
                      <a:pt x="5137" y="4071"/>
                    </a:lnTo>
                    <a:lnTo>
                      <a:pt x="5120" y="4071"/>
                    </a:lnTo>
                    <a:lnTo>
                      <a:pt x="5105" y="4071"/>
                    </a:lnTo>
                    <a:lnTo>
                      <a:pt x="5088" y="4071"/>
                    </a:lnTo>
                    <a:lnTo>
                      <a:pt x="5072" y="4071"/>
                    </a:lnTo>
                    <a:lnTo>
                      <a:pt x="5055" y="4071"/>
                    </a:lnTo>
                    <a:lnTo>
                      <a:pt x="5040" y="4071"/>
                    </a:lnTo>
                    <a:lnTo>
                      <a:pt x="5023" y="4071"/>
                    </a:lnTo>
                    <a:lnTo>
                      <a:pt x="5007" y="4071"/>
                    </a:lnTo>
                    <a:lnTo>
                      <a:pt x="4990" y="4071"/>
                    </a:lnTo>
                    <a:lnTo>
                      <a:pt x="4975" y="4071"/>
                    </a:lnTo>
                    <a:lnTo>
                      <a:pt x="4958" y="4071"/>
                    </a:lnTo>
                    <a:lnTo>
                      <a:pt x="4942" y="4071"/>
                    </a:lnTo>
                    <a:lnTo>
                      <a:pt x="4926" y="4071"/>
                    </a:lnTo>
                    <a:lnTo>
                      <a:pt x="4910" y="4071"/>
                    </a:lnTo>
                    <a:lnTo>
                      <a:pt x="4893" y="4071"/>
                    </a:lnTo>
                    <a:lnTo>
                      <a:pt x="4878" y="4071"/>
                    </a:lnTo>
                    <a:lnTo>
                      <a:pt x="4861" y="4071"/>
                    </a:lnTo>
                    <a:lnTo>
                      <a:pt x="4845" y="4071"/>
                    </a:lnTo>
                    <a:lnTo>
                      <a:pt x="4828" y="4071"/>
                    </a:lnTo>
                    <a:lnTo>
                      <a:pt x="4813" y="4071"/>
                    </a:lnTo>
                    <a:lnTo>
                      <a:pt x="4796" y="4071"/>
                    </a:lnTo>
                    <a:lnTo>
                      <a:pt x="4780" y="4071"/>
                    </a:lnTo>
                    <a:lnTo>
                      <a:pt x="4763" y="4071"/>
                    </a:lnTo>
                    <a:lnTo>
                      <a:pt x="4748" y="4071"/>
                    </a:lnTo>
                    <a:lnTo>
                      <a:pt x="4731" y="4071"/>
                    </a:lnTo>
                    <a:lnTo>
                      <a:pt x="4715" y="4071"/>
                    </a:lnTo>
                    <a:lnTo>
                      <a:pt x="4698" y="4071"/>
                    </a:lnTo>
                    <a:lnTo>
                      <a:pt x="4681" y="4071"/>
                    </a:lnTo>
                    <a:lnTo>
                      <a:pt x="4666" y="4071"/>
                    </a:lnTo>
                    <a:lnTo>
                      <a:pt x="4649" y="4071"/>
                    </a:lnTo>
                    <a:lnTo>
                      <a:pt x="4633" y="4071"/>
                    </a:lnTo>
                    <a:lnTo>
                      <a:pt x="4616" y="4071"/>
                    </a:lnTo>
                    <a:lnTo>
                      <a:pt x="4601" y="4071"/>
                    </a:lnTo>
                    <a:lnTo>
                      <a:pt x="4584" y="4071"/>
                    </a:lnTo>
                    <a:lnTo>
                      <a:pt x="4568" y="4071"/>
                    </a:lnTo>
                    <a:lnTo>
                      <a:pt x="4552" y="4071"/>
                    </a:lnTo>
                    <a:lnTo>
                      <a:pt x="4536" y="4071"/>
                    </a:lnTo>
                    <a:lnTo>
                      <a:pt x="4519" y="4071"/>
                    </a:lnTo>
                    <a:lnTo>
                      <a:pt x="4504" y="4071"/>
                    </a:lnTo>
                    <a:lnTo>
                      <a:pt x="4487" y="4071"/>
                    </a:lnTo>
                    <a:lnTo>
                      <a:pt x="4471" y="4071"/>
                    </a:lnTo>
                    <a:lnTo>
                      <a:pt x="4454" y="4071"/>
                    </a:lnTo>
                    <a:lnTo>
                      <a:pt x="4439" y="4071"/>
                    </a:lnTo>
                    <a:lnTo>
                      <a:pt x="4422" y="4071"/>
                    </a:lnTo>
                    <a:lnTo>
                      <a:pt x="4406" y="4071"/>
                    </a:lnTo>
                    <a:lnTo>
                      <a:pt x="4389" y="4071"/>
                    </a:lnTo>
                    <a:lnTo>
                      <a:pt x="4374" y="4071"/>
                    </a:lnTo>
                    <a:lnTo>
                      <a:pt x="4357" y="4071"/>
                    </a:lnTo>
                    <a:lnTo>
                      <a:pt x="4341" y="4071"/>
                    </a:lnTo>
                    <a:lnTo>
                      <a:pt x="4324" y="4071"/>
                    </a:lnTo>
                    <a:lnTo>
                      <a:pt x="4309" y="4071"/>
                    </a:lnTo>
                    <a:lnTo>
                      <a:pt x="4292" y="4071"/>
                    </a:lnTo>
                    <a:lnTo>
                      <a:pt x="4276" y="4071"/>
                    </a:lnTo>
                    <a:lnTo>
                      <a:pt x="4259" y="4071"/>
                    </a:lnTo>
                    <a:lnTo>
                      <a:pt x="4242" y="4071"/>
                    </a:lnTo>
                    <a:lnTo>
                      <a:pt x="4227" y="4071"/>
                    </a:lnTo>
                    <a:lnTo>
                      <a:pt x="4210" y="4071"/>
                    </a:lnTo>
                    <a:lnTo>
                      <a:pt x="4194" y="4071"/>
                    </a:lnTo>
                    <a:lnTo>
                      <a:pt x="4178" y="4071"/>
                    </a:lnTo>
                    <a:lnTo>
                      <a:pt x="4162" y="4071"/>
                    </a:lnTo>
                    <a:lnTo>
                      <a:pt x="4145" y="4071"/>
                    </a:lnTo>
                    <a:lnTo>
                      <a:pt x="4130" y="4071"/>
                    </a:lnTo>
                    <a:lnTo>
                      <a:pt x="4113" y="4071"/>
                    </a:lnTo>
                    <a:lnTo>
                      <a:pt x="4097" y="4071"/>
                    </a:lnTo>
                    <a:lnTo>
                      <a:pt x="4080" y="4071"/>
                    </a:lnTo>
                    <a:lnTo>
                      <a:pt x="4065" y="4071"/>
                    </a:lnTo>
                    <a:lnTo>
                      <a:pt x="4048" y="4071"/>
                    </a:lnTo>
                    <a:lnTo>
                      <a:pt x="4032" y="4071"/>
                    </a:lnTo>
                    <a:lnTo>
                      <a:pt x="4015" y="4071"/>
                    </a:lnTo>
                    <a:lnTo>
                      <a:pt x="4000" y="4071"/>
                    </a:lnTo>
                    <a:lnTo>
                      <a:pt x="3983" y="4071"/>
                    </a:lnTo>
                    <a:lnTo>
                      <a:pt x="3967" y="4071"/>
                    </a:lnTo>
                    <a:lnTo>
                      <a:pt x="3950" y="4071"/>
                    </a:lnTo>
                    <a:lnTo>
                      <a:pt x="3935" y="4071"/>
                    </a:lnTo>
                    <a:lnTo>
                      <a:pt x="3918" y="4071"/>
                    </a:lnTo>
                    <a:lnTo>
                      <a:pt x="3902" y="4071"/>
                    </a:lnTo>
                    <a:lnTo>
                      <a:pt x="3885" y="4071"/>
                    </a:lnTo>
                    <a:lnTo>
                      <a:pt x="3870" y="4071"/>
                    </a:lnTo>
                    <a:lnTo>
                      <a:pt x="3853" y="4071"/>
                    </a:lnTo>
                    <a:lnTo>
                      <a:pt x="3836" y="4071"/>
                    </a:lnTo>
                    <a:lnTo>
                      <a:pt x="3820" y="4071"/>
                    </a:lnTo>
                    <a:lnTo>
                      <a:pt x="3804" y="4071"/>
                    </a:lnTo>
                    <a:lnTo>
                      <a:pt x="3788" y="4071"/>
                    </a:lnTo>
                    <a:lnTo>
                      <a:pt x="3771" y="4071"/>
                    </a:lnTo>
                    <a:lnTo>
                      <a:pt x="3756" y="4071"/>
                    </a:lnTo>
                    <a:lnTo>
                      <a:pt x="3739" y="4071"/>
                    </a:lnTo>
                    <a:lnTo>
                      <a:pt x="3723" y="4071"/>
                    </a:lnTo>
                    <a:lnTo>
                      <a:pt x="3706" y="4071"/>
                    </a:lnTo>
                    <a:lnTo>
                      <a:pt x="3691" y="4071"/>
                    </a:lnTo>
                    <a:lnTo>
                      <a:pt x="3674" y="4071"/>
                    </a:lnTo>
                    <a:lnTo>
                      <a:pt x="3658" y="4071"/>
                    </a:lnTo>
                    <a:lnTo>
                      <a:pt x="3641" y="4071"/>
                    </a:lnTo>
                    <a:lnTo>
                      <a:pt x="3626" y="4071"/>
                    </a:lnTo>
                    <a:lnTo>
                      <a:pt x="3609" y="4071"/>
                    </a:lnTo>
                    <a:lnTo>
                      <a:pt x="3593" y="4071"/>
                    </a:lnTo>
                    <a:lnTo>
                      <a:pt x="3576" y="4071"/>
                    </a:lnTo>
                    <a:lnTo>
                      <a:pt x="3561" y="4071"/>
                    </a:lnTo>
                    <a:lnTo>
                      <a:pt x="3544" y="4071"/>
                    </a:lnTo>
                    <a:lnTo>
                      <a:pt x="3528" y="4071"/>
                    </a:lnTo>
                    <a:lnTo>
                      <a:pt x="3511" y="4071"/>
                    </a:lnTo>
                    <a:lnTo>
                      <a:pt x="3496" y="4071"/>
                    </a:lnTo>
                    <a:lnTo>
                      <a:pt x="3479" y="4071"/>
                    </a:lnTo>
                    <a:lnTo>
                      <a:pt x="3463" y="4071"/>
                    </a:lnTo>
                    <a:lnTo>
                      <a:pt x="3446" y="4071"/>
                    </a:lnTo>
                    <a:lnTo>
                      <a:pt x="3431" y="4071"/>
                    </a:lnTo>
                    <a:lnTo>
                      <a:pt x="3414" y="4071"/>
                    </a:lnTo>
                    <a:lnTo>
                      <a:pt x="3397" y="4071"/>
                    </a:lnTo>
                    <a:lnTo>
                      <a:pt x="3382" y="4071"/>
                    </a:lnTo>
                    <a:lnTo>
                      <a:pt x="3365" y="4071"/>
                    </a:lnTo>
                    <a:lnTo>
                      <a:pt x="3349" y="4071"/>
                    </a:lnTo>
                    <a:lnTo>
                      <a:pt x="3332" y="4071"/>
                    </a:lnTo>
                    <a:lnTo>
                      <a:pt x="3317" y="4071"/>
                    </a:lnTo>
                    <a:lnTo>
                      <a:pt x="3300" y="4071"/>
                    </a:lnTo>
                    <a:lnTo>
                      <a:pt x="3284" y="4071"/>
                    </a:lnTo>
                    <a:lnTo>
                      <a:pt x="3267" y="4071"/>
                    </a:lnTo>
                    <a:lnTo>
                      <a:pt x="3252" y="4071"/>
                    </a:lnTo>
                    <a:lnTo>
                      <a:pt x="3235" y="4071"/>
                    </a:lnTo>
                    <a:lnTo>
                      <a:pt x="3219" y="4071"/>
                    </a:lnTo>
                    <a:lnTo>
                      <a:pt x="3202" y="4071"/>
                    </a:lnTo>
                    <a:lnTo>
                      <a:pt x="3187" y="4071"/>
                    </a:lnTo>
                    <a:lnTo>
                      <a:pt x="3170" y="4071"/>
                    </a:lnTo>
                    <a:lnTo>
                      <a:pt x="3154" y="4071"/>
                    </a:lnTo>
                    <a:lnTo>
                      <a:pt x="3137" y="4071"/>
                    </a:lnTo>
                    <a:lnTo>
                      <a:pt x="3122" y="4071"/>
                    </a:lnTo>
                    <a:lnTo>
                      <a:pt x="3105" y="4071"/>
                    </a:lnTo>
                    <a:lnTo>
                      <a:pt x="3089" y="4071"/>
                    </a:lnTo>
                    <a:lnTo>
                      <a:pt x="3072" y="4071"/>
                    </a:lnTo>
                    <a:lnTo>
                      <a:pt x="3057" y="4071"/>
                    </a:lnTo>
                    <a:lnTo>
                      <a:pt x="3040" y="4071"/>
                    </a:lnTo>
                    <a:lnTo>
                      <a:pt x="3024" y="4071"/>
                    </a:lnTo>
                    <a:lnTo>
                      <a:pt x="3008" y="4071"/>
                    </a:lnTo>
                    <a:lnTo>
                      <a:pt x="2992" y="4071"/>
                    </a:lnTo>
                    <a:lnTo>
                      <a:pt x="2975" y="4071"/>
                    </a:lnTo>
                    <a:lnTo>
                      <a:pt x="2958" y="4071"/>
                    </a:lnTo>
                    <a:lnTo>
                      <a:pt x="2943" y="4071"/>
                    </a:lnTo>
                    <a:lnTo>
                      <a:pt x="2926" y="4071"/>
                    </a:lnTo>
                    <a:lnTo>
                      <a:pt x="2910" y="4071"/>
                    </a:lnTo>
                    <a:lnTo>
                      <a:pt x="2893" y="4071"/>
                    </a:lnTo>
                    <a:lnTo>
                      <a:pt x="2878" y="4071"/>
                    </a:lnTo>
                    <a:lnTo>
                      <a:pt x="2861" y="4071"/>
                    </a:lnTo>
                    <a:lnTo>
                      <a:pt x="2845" y="4071"/>
                    </a:lnTo>
                    <a:lnTo>
                      <a:pt x="2828" y="4071"/>
                    </a:lnTo>
                    <a:lnTo>
                      <a:pt x="2813" y="4071"/>
                    </a:lnTo>
                    <a:lnTo>
                      <a:pt x="2796" y="4071"/>
                    </a:lnTo>
                    <a:lnTo>
                      <a:pt x="2780" y="4071"/>
                    </a:lnTo>
                    <a:lnTo>
                      <a:pt x="2763" y="4071"/>
                    </a:lnTo>
                    <a:lnTo>
                      <a:pt x="2748" y="4071"/>
                    </a:lnTo>
                    <a:lnTo>
                      <a:pt x="2731" y="4071"/>
                    </a:lnTo>
                    <a:lnTo>
                      <a:pt x="2715" y="4071"/>
                    </a:lnTo>
                    <a:lnTo>
                      <a:pt x="2698" y="4071"/>
                    </a:lnTo>
                    <a:lnTo>
                      <a:pt x="2683" y="4071"/>
                    </a:lnTo>
                    <a:lnTo>
                      <a:pt x="2666" y="4071"/>
                    </a:lnTo>
                    <a:lnTo>
                      <a:pt x="2650" y="4071"/>
                    </a:lnTo>
                    <a:lnTo>
                      <a:pt x="2634" y="4071"/>
                    </a:lnTo>
                    <a:lnTo>
                      <a:pt x="2618" y="4071"/>
                    </a:lnTo>
                    <a:lnTo>
                      <a:pt x="2601" y="4071"/>
                    </a:lnTo>
                    <a:lnTo>
                      <a:pt x="2586" y="4071"/>
                    </a:lnTo>
                    <a:lnTo>
                      <a:pt x="2569" y="4071"/>
                    </a:lnTo>
                    <a:lnTo>
                      <a:pt x="2552" y="4071"/>
                    </a:lnTo>
                    <a:lnTo>
                      <a:pt x="2536" y="4071"/>
                    </a:lnTo>
                    <a:lnTo>
                      <a:pt x="2519" y="4071"/>
                    </a:lnTo>
                    <a:lnTo>
                      <a:pt x="2504" y="4071"/>
                    </a:lnTo>
                    <a:lnTo>
                      <a:pt x="2487" y="4071"/>
                    </a:lnTo>
                    <a:lnTo>
                      <a:pt x="2471" y="4071"/>
                    </a:lnTo>
                    <a:lnTo>
                      <a:pt x="2454" y="4071"/>
                    </a:lnTo>
                    <a:lnTo>
                      <a:pt x="2439" y="4071"/>
                    </a:lnTo>
                    <a:lnTo>
                      <a:pt x="2422" y="4071"/>
                    </a:lnTo>
                    <a:lnTo>
                      <a:pt x="2406" y="4071"/>
                    </a:lnTo>
                    <a:lnTo>
                      <a:pt x="2389" y="4071"/>
                    </a:lnTo>
                    <a:lnTo>
                      <a:pt x="2374" y="4071"/>
                    </a:lnTo>
                    <a:lnTo>
                      <a:pt x="2357" y="4071"/>
                    </a:lnTo>
                    <a:lnTo>
                      <a:pt x="2341" y="4071"/>
                    </a:lnTo>
                    <a:lnTo>
                      <a:pt x="2324" y="4071"/>
                    </a:lnTo>
                    <a:lnTo>
                      <a:pt x="2309" y="4071"/>
                    </a:lnTo>
                    <a:lnTo>
                      <a:pt x="2292" y="4071"/>
                    </a:lnTo>
                    <a:lnTo>
                      <a:pt x="2276" y="4071"/>
                    </a:lnTo>
                    <a:lnTo>
                      <a:pt x="2260" y="4071"/>
                    </a:lnTo>
                    <a:lnTo>
                      <a:pt x="2244" y="4071"/>
                    </a:lnTo>
                    <a:lnTo>
                      <a:pt x="2227" y="4071"/>
                    </a:lnTo>
                    <a:lnTo>
                      <a:pt x="2212" y="4071"/>
                    </a:lnTo>
                    <a:lnTo>
                      <a:pt x="2195" y="4071"/>
                    </a:lnTo>
                    <a:lnTo>
                      <a:pt x="2179" y="4071"/>
                    </a:lnTo>
                    <a:lnTo>
                      <a:pt x="2162" y="4071"/>
                    </a:lnTo>
                    <a:lnTo>
                      <a:pt x="2147" y="4071"/>
                    </a:lnTo>
                    <a:lnTo>
                      <a:pt x="2130" y="4071"/>
                    </a:lnTo>
                    <a:lnTo>
                      <a:pt x="2113" y="4071"/>
                    </a:lnTo>
                    <a:lnTo>
                      <a:pt x="2097" y="4071"/>
                    </a:lnTo>
                    <a:lnTo>
                      <a:pt x="2080" y="4071"/>
                    </a:lnTo>
                    <a:lnTo>
                      <a:pt x="2065" y="4071"/>
                    </a:lnTo>
                    <a:lnTo>
                      <a:pt x="2048" y="4071"/>
                    </a:lnTo>
                    <a:lnTo>
                      <a:pt x="2032" y="4071"/>
                    </a:lnTo>
                    <a:lnTo>
                      <a:pt x="2015" y="4071"/>
                    </a:lnTo>
                    <a:lnTo>
                      <a:pt x="2000" y="4071"/>
                    </a:lnTo>
                    <a:lnTo>
                      <a:pt x="1983" y="4071"/>
                    </a:lnTo>
                    <a:lnTo>
                      <a:pt x="1967" y="4071"/>
                    </a:lnTo>
                    <a:lnTo>
                      <a:pt x="1950" y="4071"/>
                    </a:lnTo>
                    <a:lnTo>
                      <a:pt x="1935" y="4071"/>
                    </a:lnTo>
                    <a:lnTo>
                      <a:pt x="1918" y="4071"/>
                    </a:lnTo>
                    <a:lnTo>
                      <a:pt x="1902" y="4071"/>
                    </a:lnTo>
                    <a:lnTo>
                      <a:pt x="1886" y="4071"/>
                    </a:lnTo>
                    <a:lnTo>
                      <a:pt x="1870" y="4071"/>
                    </a:lnTo>
                    <a:lnTo>
                      <a:pt x="1853" y="4071"/>
                    </a:lnTo>
                    <a:lnTo>
                      <a:pt x="1838" y="4071"/>
                    </a:lnTo>
                    <a:lnTo>
                      <a:pt x="1821" y="4071"/>
                    </a:lnTo>
                    <a:lnTo>
                      <a:pt x="1805" y="4071"/>
                    </a:lnTo>
                    <a:lnTo>
                      <a:pt x="1788" y="4071"/>
                    </a:lnTo>
                    <a:lnTo>
                      <a:pt x="1773" y="4071"/>
                    </a:lnTo>
                    <a:lnTo>
                      <a:pt x="1756" y="4071"/>
                    </a:lnTo>
                    <a:lnTo>
                      <a:pt x="1740" y="4071"/>
                    </a:lnTo>
                    <a:lnTo>
                      <a:pt x="1723" y="4071"/>
                    </a:lnTo>
                    <a:lnTo>
                      <a:pt x="1706" y="4071"/>
                    </a:lnTo>
                    <a:lnTo>
                      <a:pt x="1691" y="4071"/>
                    </a:lnTo>
                    <a:lnTo>
                      <a:pt x="1674" y="4071"/>
                    </a:lnTo>
                    <a:lnTo>
                      <a:pt x="1658" y="4071"/>
                    </a:lnTo>
                    <a:lnTo>
                      <a:pt x="1641" y="4071"/>
                    </a:lnTo>
                    <a:lnTo>
                      <a:pt x="1626" y="4071"/>
                    </a:lnTo>
                    <a:lnTo>
                      <a:pt x="1609" y="4071"/>
                    </a:lnTo>
                    <a:lnTo>
                      <a:pt x="1593" y="4071"/>
                    </a:lnTo>
                    <a:lnTo>
                      <a:pt x="1576" y="4071"/>
                    </a:lnTo>
                    <a:lnTo>
                      <a:pt x="1561" y="4071"/>
                    </a:lnTo>
                    <a:lnTo>
                      <a:pt x="1544" y="4071"/>
                    </a:lnTo>
                    <a:lnTo>
                      <a:pt x="1528" y="4071"/>
                    </a:lnTo>
                    <a:lnTo>
                      <a:pt x="1512" y="4071"/>
                    </a:lnTo>
                    <a:lnTo>
                      <a:pt x="1496" y="4071"/>
                    </a:lnTo>
                    <a:lnTo>
                      <a:pt x="1479" y="4071"/>
                    </a:lnTo>
                    <a:lnTo>
                      <a:pt x="1464" y="4071"/>
                    </a:lnTo>
                    <a:lnTo>
                      <a:pt x="1447" y="4071"/>
                    </a:lnTo>
                    <a:lnTo>
                      <a:pt x="1431" y="4071"/>
                    </a:lnTo>
                    <a:lnTo>
                      <a:pt x="1414" y="4071"/>
                    </a:lnTo>
                    <a:lnTo>
                      <a:pt x="1399" y="4071"/>
                    </a:lnTo>
                    <a:lnTo>
                      <a:pt x="1382" y="4071"/>
                    </a:lnTo>
                    <a:lnTo>
                      <a:pt x="1366" y="4071"/>
                    </a:lnTo>
                    <a:lnTo>
                      <a:pt x="1349" y="4071"/>
                    </a:lnTo>
                    <a:lnTo>
                      <a:pt x="1334" y="4071"/>
                    </a:lnTo>
                    <a:lnTo>
                      <a:pt x="1317" y="4071"/>
                    </a:lnTo>
                    <a:lnTo>
                      <a:pt x="1301" y="4071"/>
                    </a:lnTo>
                    <a:lnTo>
                      <a:pt x="1284" y="4071"/>
                    </a:lnTo>
                    <a:lnTo>
                      <a:pt x="1267" y="4071"/>
                    </a:lnTo>
                    <a:lnTo>
                      <a:pt x="1252" y="4071"/>
                    </a:lnTo>
                    <a:lnTo>
                      <a:pt x="1235" y="4071"/>
                    </a:lnTo>
                    <a:lnTo>
                      <a:pt x="1219" y="4071"/>
                    </a:lnTo>
                    <a:lnTo>
                      <a:pt x="1202" y="4071"/>
                    </a:lnTo>
                    <a:lnTo>
                      <a:pt x="1187" y="4071"/>
                    </a:lnTo>
                    <a:lnTo>
                      <a:pt x="1170" y="4071"/>
                    </a:lnTo>
                    <a:lnTo>
                      <a:pt x="1154" y="4071"/>
                    </a:lnTo>
                    <a:lnTo>
                      <a:pt x="1138" y="4071"/>
                    </a:lnTo>
                    <a:lnTo>
                      <a:pt x="1122" y="4071"/>
                    </a:lnTo>
                    <a:lnTo>
                      <a:pt x="1105" y="4071"/>
                    </a:lnTo>
                    <a:lnTo>
                      <a:pt x="1090" y="4071"/>
                    </a:lnTo>
                    <a:lnTo>
                      <a:pt x="1073" y="4071"/>
                    </a:lnTo>
                    <a:lnTo>
                      <a:pt x="1057" y="4071"/>
                    </a:lnTo>
                    <a:lnTo>
                      <a:pt x="1040" y="4071"/>
                    </a:lnTo>
                    <a:lnTo>
                      <a:pt x="1025" y="4071"/>
                    </a:lnTo>
                    <a:lnTo>
                      <a:pt x="1008" y="4071"/>
                    </a:lnTo>
                    <a:lnTo>
                      <a:pt x="992" y="4071"/>
                    </a:lnTo>
                    <a:lnTo>
                      <a:pt x="975" y="4071"/>
                    </a:lnTo>
                    <a:lnTo>
                      <a:pt x="960" y="4071"/>
                    </a:lnTo>
                    <a:lnTo>
                      <a:pt x="943" y="4071"/>
                    </a:lnTo>
                    <a:lnTo>
                      <a:pt x="927" y="4071"/>
                    </a:lnTo>
                    <a:lnTo>
                      <a:pt x="910" y="4071"/>
                    </a:lnTo>
                    <a:lnTo>
                      <a:pt x="895" y="4071"/>
                    </a:lnTo>
                    <a:lnTo>
                      <a:pt x="878" y="4071"/>
                    </a:lnTo>
                    <a:lnTo>
                      <a:pt x="862" y="4071"/>
                    </a:lnTo>
                    <a:lnTo>
                      <a:pt x="845" y="4071"/>
                    </a:lnTo>
                    <a:lnTo>
                      <a:pt x="828" y="4071"/>
                    </a:lnTo>
                    <a:lnTo>
                      <a:pt x="813" y="4071"/>
                    </a:lnTo>
                    <a:lnTo>
                      <a:pt x="796" y="4071"/>
                    </a:lnTo>
                    <a:lnTo>
                      <a:pt x="780" y="4071"/>
                    </a:lnTo>
                    <a:lnTo>
                      <a:pt x="764" y="4071"/>
                    </a:lnTo>
                    <a:lnTo>
                      <a:pt x="748" y="4071"/>
                    </a:lnTo>
                    <a:lnTo>
                      <a:pt x="731" y="4071"/>
                    </a:lnTo>
                    <a:lnTo>
                      <a:pt x="716" y="4071"/>
                    </a:lnTo>
                    <a:lnTo>
                      <a:pt x="699" y="4071"/>
                    </a:lnTo>
                    <a:lnTo>
                      <a:pt x="683" y="4071"/>
                    </a:lnTo>
                    <a:lnTo>
                      <a:pt x="666" y="4071"/>
                    </a:lnTo>
                    <a:lnTo>
                      <a:pt x="651" y="4071"/>
                    </a:lnTo>
                    <a:lnTo>
                      <a:pt x="634" y="4071"/>
                    </a:lnTo>
                    <a:lnTo>
                      <a:pt x="618" y="4071"/>
                    </a:lnTo>
                    <a:lnTo>
                      <a:pt x="601" y="4071"/>
                    </a:lnTo>
                    <a:lnTo>
                      <a:pt x="586" y="4071"/>
                    </a:lnTo>
                    <a:lnTo>
                      <a:pt x="569" y="4071"/>
                    </a:lnTo>
                    <a:lnTo>
                      <a:pt x="553" y="4071"/>
                    </a:lnTo>
                    <a:lnTo>
                      <a:pt x="536" y="4071"/>
                    </a:lnTo>
                    <a:lnTo>
                      <a:pt x="521" y="4071"/>
                    </a:lnTo>
                    <a:lnTo>
                      <a:pt x="504" y="4071"/>
                    </a:lnTo>
                    <a:lnTo>
                      <a:pt x="488" y="4071"/>
                    </a:lnTo>
                    <a:lnTo>
                      <a:pt x="471" y="4071"/>
                    </a:lnTo>
                    <a:lnTo>
                      <a:pt x="456" y="4071"/>
                    </a:lnTo>
                    <a:lnTo>
                      <a:pt x="439" y="4071"/>
                    </a:lnTo>
                    <a:lnTo>
                      <a:pt x="422" y="4071"/>
                    </a:lnTo>
                    <a:lnTo>
                      <a:pt x="406" y="4071"/>
                    </a:lnTo>
                    <a:lnTo>
                      <a:pt x="390" y="4071"/>
                    </a:lnTo>
                    <a:lnTo>
                      <a:pt x="374" y="4071"/>
                    </a:lnTo>
                    <a:lnTo>
                      <a:pt x="357" y="4071"/>
                    </a:lnTo>
                    <a:lnTo>
                      <a:pt x="342" y="4071"/>
                    </a:lnTo>
                    <a:lnTo>
                      <a:pt x="325" y="4071"/>
                    </a:lnTo>
                    <a:lnTo>
                      <a:pt x="309" y="4071"/>
                    </a:lnTo>
                    <a:lnTo>
                      <a:pt x="292" y="4071"/>
                    </a:lnTo>
                    <a:lnTo>
                      <a:pt x="277" y="4071"/>
                    </a:lnTo>
                    <a:lnTo>
                      <a:pt x="260" y="4071"/>
                    </a:lnTo>
                    <a:lnTo>
                      <a:pt x="244" y="4071"/>
                    </a:lnTo>
                    <a:lnTo>
                      <a:pt x="227" y="4071"/>
                    </a:lnTo>
                    <a:lnTo>
                      <a:pt x="212" y="4071"/>
                    </a:lnTo>
                    <a:lnTo>
                      <a:pt x="195" y="4071"/>
                    </a:lnTo>
                    <a:lnTo>
                      <a:pt x="179" y="4071"/>
                    </a:lnTo>
                    <a:lnTo>
                      <a:pt x="162" y="4071"/>
                    </a:lnTo>
                    <a:lnTo>
                      <a:pt x="147" y="4071"/>
                    </a:lnTo>
                    <a:lnTo>
                      <a:pt x="130" y="4071"/>
                    </a:lnTo>
                    <a:lnTo>
                      <a:pt x="114" y="4071"/>
                    </a:lnTo>
                    <a:lnTo>
                      <a:pt x="97" y="4071"/>
                    </a:lnTo>
                    <a:lnTo>
                      <a:pt x="82" y="4071"/>
                    </a:lnTo>
                    <a:lnTo>
                      <a:pt x="65" y="4071"/>
                    </a:lnTo>
                    <a:lnTo>
                      <a:pt x="49" y="4071"/>
                    </a:lnTo>
                    <a:lnTo>
                      <a:pt x="32" y="4071"/>
                    </a:lnTo>
                    <a:lnTo>
                      <a:pt x="17" y="4071"/>
                    </a:lnTo>
                    <a:lnTo>
                      <a:pt x="0" y="407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06360" y="362160"/>
                <a:ext cx="419760" cy="389880"/>
              </a:xfrm>
              <a:custGeom>
                <a:avLst/>
                <a:gdLst/>
                <a:ahLst/>
                <a:rect l="l" t="t" r="r" b="b"/>
                <a:pathLst>
                  <a:path w="4861" h="4071">
                    <a:moveTo>
                      <a:pt x="0" y="4071"/>
                    </a:moveTo>
                    <a:lnTo>
                      <a:pt x="0" y="4071"/>
                    </a:lnTo>
                    <a:lnTo>
                      <a:pt x="17" y="4054"/>
                    </a:lnTo>
                    <a:lnTo>
                      <a:pt x="32" y="4021"/>
                    </a:lnTo>
                    <a:lnTo>
                      <a:pt x="49" y="3979"/>
                    </a:lnTo>
                    <a:lnTo>
                      <a:pt x="65" y="3928"/>
                    </a:lnTo>
                    <a:lnTo>
                      <a:pt x="82" y="3868"/>
                    </a:lnTo>
                    <a:lnTo>
                      <a:pt x="97" y="3809"/>
                    </a:lnTo>
                    <a:lnTo>
                      <a:pt x="114" y="3751"/>
                    </a:lnTo>
                    <a:lnTo>
                      <a:pt x="130" y="3683"/>
                    </a:lnTo>
                    <a:lnTo>
                      <a:pt x="147" y="3616"/>
                    </a:lnTo>
                    <a:lnTo>
                      <a:pt x="162" y="3548"/>
                    </a:lnTo>
                    <a:lnTo>
                      <a:pt x="179" y="3472"/>
                    </a:lnTo>
                    <a:lnTo>
                      <a:pt x="195" y="3404"/>
                    </a:lnTo>
                    <a:lnTo>
                      <a:pt x="212" y="3329"/>
                    </a:lnTo>
                    <a:lnTo>
                      <a:pt x="227" y="3252"/>
                    </a:lnTo>
                    <a:lnTo>
                      <a:pt x="244" y="3176"/>
                    </a:lnTo>
                    <a:lnTo>
                      <a:pt x="260" y="3108"/>
                    </a:lnTo>
                    <a:lnTo>
                      <a:pt x="277" y="3033"/>
                    </a:lnTo>
                    <a:lnTo>
                      <a:pt x="292" y="2956"/>
                    </a:lnTo>
                    <a:lnTo>
                      <a:pt x="309" y="2881"/>
                    </a:lnTo>
                    <a:lnTo>
                      <a:pt x="325" y="2804"/>
                    </a:lnTo>
                    <a:lnTo>
                      <a:pt x="342" y="2728"/>
                    </a:lnTo>
                    <a:lnTo>
                      <a:pt x="357" y="2653"/>
                    </a:lnTo>
                    <a:lnTo>
                      <a:pt x="374" y="2576"/>
                    </a:lnTo>
                    <a:lnTo>
                      <a:pt x="390" y="2501"/>
                    </a:lnTo>
                    <a:lnTo>
                      <a:pt x="406" y="2432"/>
                    </a:lnTo>
                    <a:lnTo>
                      <a:pt x="422" y="2357"/>
                    </a:lnTo>
                    <a:lnTo>
                      <a:pt x="439" y="2289"/>
                    </a:lnTo>
                    <a:lnTo>
                      <a:pt x="456" y="2213"/>
                    </a:lnTo>
                    <a:lnTo>
                      <a:pt x="471" y="2145"/>
                    </a:lnTo>
                    <a:lnTo>
                      <a:pt x="488" y="2079"/>
                    </a:lnTo>
                    <a:lnTo>
                      <a:pt x="504" y="2010"/>
                    </a:lnTo>
                    <a:lnTo>
                      <a:pt x="521" y="1944"/>
                    </a:lnTo>
                    <a:lnTo>
                      <a:pt x="536" y="1875"/>
                    </a:lnTo>
                    <a:lnTo>
                      <a:pt x="553" y="1807"/>
                    </a:lnTo>
                    <a:lnTo>
                      <a:pt x="569" y="1749"/>
                    </a:lnTo>
                    <a:lnTo>
                      <a:pt x="586" y="1681"/>
                    </a:lnTo>
                    <a:lnTo>
                      <a:pt x="601" y="1622"/>
                    </a:lnTo>
                    <a:lnTo>
                      <a:pt x="618" y="1562"/>
                    </a:lnTo>
                    <a:lnTo>
                      <a:pt x="634" y="1504"/>
                    </a:lnTo>
                    <a:lnTo>
                      <a:pt x="651" y="1445"/>
                    </a:lnTo>
                    <a:lnTo>
                      <a:pt x="666" y="1385"/>
                    </a:lnTo>
                    <a:lnTo>
                      <a:pt x="683" y="1334"/>
                    </a:lnTo>
                    <a:lnTo>
                      <a:pt x="699" y="1275"/>
                    </a:lnTo>
                    <a:lnTo>
                      <a:pt x="716" y="1226"/>
                    </a:lnTo>
                    <a:lnTo>
                      <a:pt x="731" y="1175"/>
                    </a:lnTo>
                    <a:lnTo>
                      <a:pt x="748" y="1124"/>
                    </a:lnTo>
                    <a:lnTo>
                      <a:pt x="764" y="1073"/>
                    </a:lnTo>
                    <a:lnTo>
                      <a:pt x="780" y="1023"/>
                    </a:lnTo>
                    <a:lnTo>
                      <a:pt x="796" y="981"/>
                    </a:lnTo>
                    <a:lnTo>
                      <a:pt x="813" y="930"/>
                    </a:lnTo>
                    <a:lnTo>
                      <a:pt x="828" y="888"/>
                    </a:lnTo>
                    <a:lnTo>
                      <a:pt x="845" y="844"/>
                    </a:lnTo>
                    <a:lnTo>
                      <a:pt x="862" y="802"/>
                    </a:lnTo>
                    <a:lnTo>
                      <a:pt x="878" y="760"/>
                    </a:lnTo>
                    <a:lnTo>
                      <a:pt x="895" y="727"/>
                    </a:lnTo>
                    <a:lnTo>
                      <a:pt x="910" y="685"/>
                    </a:lnTo>
                    <a:lnTo>
                      <a:pt x="927" y="651"/>
                    </a:lnTo>
                    <a:lnTo>
                      <a:pt x="943" y="608"/>
                    </a:lnTo>
                    <a:lnTo>
                      <a:pt x="960" y="574"/>
                    </a:lnTo>
                    <a:lnTo>
                      <a:pt x="975" y="541"/>
                    </a:lnTo>
                    <a:lnTo>
                      <a:pt x="992" y="508"/>
                    </a:lnTo>
                    <a:lnTo>
                      <a:pt x="1008" y="482"/>
                    </a:lnTo>
                    <a:lnTo>
                      <a:pt x="1025" y="448"/>
                    </a:lnTo>
                    <a:lnTo>
                      <a:pt x="1040" y="422"/>
                    </a:lnTo>
                    <a:lnTo>
                      <a:pt x="1057" y="389"/>
                    </a:lnTo>
                    <a:lnTo>
                      <a:pt x="1073" y="364"/>
                    </a:lnTo>
                    <a:lnTo>
                      <a:pt x="1090" y="338"/>
                    </a:lnTo>
                    <a:lnTo>
                      <a:pt x="1105" y="313"/>
                    </a:lnTo>
                    <a:lnTo>
                      <a:pt x="1122" y="287"/>
                    </a:lnTo>
                    <a:lnTo>
                      <a:pt x="1138" y="271"/>
                    </a:lnTo>
                    <a:lnTo>
                      <a:pt x="1154" y="245"/>
                    </a:lnTo>
                    <a:lnTo>
                      <a:pt x="1170" y="228"/>
                    </a:lnTo>
                    <a:lnTo>
                      <a:pt x="1187" y="203"/>
                    </a:lnTo>
                    <a:lnTo>
                      <a:pt x="1202" y="186"/>
                    </a:lnTo>
                    <a:lnTo>
                      <a:pt x="1219" y="170"/>
                    </a:lnTo>
                    <a:lnTo>
                      <a:pt x="1235" y="152"/>
                    </a:lnTo>
                    <a:lnTo>
                      <a:pt x="1252" y="135"/>
                    </a:lnTo>
                    <a:lnTo>
                      <a:pt x="1267" y="128"/>
                    </a:lnTo>
                    <a:lnTo>
                      <a:pt x="1284" y="110"/>
                    </a:lnTo>
                    <a:lnTo>
                      <a:pt x="1301" y="93"/>
                    </a:lnTo>
                    <a:lnTo>
                      <a:pt x="1317" y="84"/>
                    </a:lnTo>
                    <a:lnTo>
                      <a:pt x="1334" y="77"/>
                    </a:lnTo>
                    <a:lnTo>
                      <a:pt x="1349" y="60"/>
                    </a:lnTo>
                    <a:lnTo>
                      <a:pt x="1366" y="51"/>
                    </a:lnTo>
                    <a:lnTo>
                      <a:pt x="1382" y="42"/>
                    </a:lnTo>
                    <a:lnTo>
                      <a:pt x="1399" y="33"/>
                    </a:lnTo>
                    <a:lnTo>
                      <a:pt x="1414" y="33"/>
                    </a:lnTo>
                    <a:lnTo>
                      <a:pt x="1431" y="26"/>
                    </a:lnTo>
                    <a:lnTo>
                      <a:pt x="1447" y="17"/>
                    </a:lnTo>
                    <a:lnTo>
                      <a:pt x="1464" y="17"/>
                    </a:lnTo>
                    <a:lnTo>
                      <a:pt x="1479" y="9"/>
                    </a:lnTo>
                    <a:lnTo>
                      <a:pt x="1496" y="9"/>
                    </a:lnTo>
                    <a:lnTo>
                      <a:pt x="1512" y="9"/>
                    </a:lnTo>
                    <a:lnTo>
                      <a:pt x="1528" y="0"/>
                    </a:lnTo>
                    <a:lnTo>
                      <a:pt x="1544" y="0"/>
                    </a:lnTo>
                    <a:lnTo>
                      <a:pt x="1561" y="0"/>
                    </a:lnTo>
                    <a:lnTo>
                      <a:pt x="1576" y="0"/>
                    </a:lnTo>
                    <a:lnTo>
                      <a:pt x="1593" y="0"/>
                    </a:lnTo>
                    <a:lnTo>
                      <a:pt x="1609" y="9"/>
                    </a:lnTo>
                    <a:lnTo>
                      <a:pt x="1626" y="9"/>
                    </a:lnTo>
                    <a:lnTo>
                      <a:pt x="1641" y="9"/>
                    </a:lnTo>
                    <a:lnTo>
                      <a:pt x="1658" y="17"/>
                    </a:lnTo>
                    <a:lnTo>
                      <a:pt x="1674" y="17"/>
                    </a:lnTo>
                    <a:lnTo>
                      <a:pt x="1691" y="26"/>
                    </a:lnTo>
                    <a:lnTo>
                      <a:pt x="1706" y="26"/>
                    </a:lnTo>
                    <a:lnTo>
                      <a:pt x="1723" y="33"/>
                    </a:lnTo>
                    <a:lnTo>
                      <a:pt x="1740" y="42"/>
                    </a:lnTo>
                    <a:lnTo>
                      <a:pt x="1756" y="42"/>
                    </a:lnTo>
                    <a:lnTo>
                      <a:pt x="1773" y="51"/>
                    </a:lnTo>
                    <a:lnTo>
                      <a:pt x="1788" y="60"/>
                    </a:lnTo>
                    <a:lnTo>
                      <a:pt x="1805" y="68"/>
                    </a:lnTo>
                    <a:lnTo>
                      <a:pt x="1821" y="77"/>
                    </a:lnTo>
                    <a:lnTo>
                      <a:pt x="1838" y="84"/>
                    </a:lnTo>
                    <a:lnTo>
                      <a:pt x="1853" y="93"/>
                    </a:lnTo>
                    <a:lnTo>
                      <a:pt x="1870" y="110"/>
                    </a:lnTo>
                    <a:lnTo>
                      <a:pt x="1886" y="119"/>
                    </a:lnTo>
                    <a:lnTo>
                      <a:pt x="1902" y="128"/>
                    </a:lnTo>
                    <a:lnTo>
                      <a:pt x="1918" y="135"/>
                    </a:lnTo>
                    <a:lnTo>
                      <a:pt x="1935" y="152"/>
                    </a:lnTo>
                    <a:lnTo>
                      <a:pt x="1950" y="161"/>
                    </a:lnTo>
                    <a:lnTo>
                      <a:pt x="1967" y="177"/>
                    </a:lnTo>
                    <a:lnTo>
                      <a:pt x="1983" y="186"/>
                    </a:lnTo>
                    <a:lnTo>
                      <a:pt x="2000" y="203"/>
                    </a:lnTo>
                    <a:lnTo>
                      <a:pt x="2015" y="212"/>
                    </a:lnTo>
                    <a:lnTo>
                      <a:pt x="2032" y="228"/>
                    </a:lnTo>
                    <a:lnTo>
                      <a:pt x="2048" y="245"/>
                    </a:lnTo>
                    <a:lnTo>
                      <a:pt x="2065" y="254"/>
                    </a:lnTo>
                    <a:lnTo>
                      <a:pt x="2080" y="271"/>
                    </a:lnTo>
                    <a:lnTo>
                      <a:pt x="2097" y="287"/>
                    </a:lnTo>
                    <a:lnTo>
                      <a:pt x="2113" y="305"/>
                    </a:lnTo>
                    <a:lnTo>
                      <a:pt x="2130" y="313"/>
                    </a:lnTo>
                    <a:lnTo>
                      <a:pt x="2147" y="329"/>
                    </a:lnTo>
                    <a:lnTo>
                      <a:pt x="2162" y="347"/>
                    </a:lnTo>
                    <a:lnTo>
                      <a:pt x="2179" y="364"/>
                    </a:lnTo>
                    <a:lnTo>
                      <a:pt x="2195" y="380"/>
                    </a:lnTo>
                    <a:lnTo>
                      <a:pt x="2212" y="397"/>
                    </a:lnTo>
                    <a:lnTo>
                      <a:pt x="2227" y="413"/>
                    </a:lnTo>
                    <a:lnTo>
                      <a:pt x="2244" y="431"/>
                    </a:lnTo>
                    <a:lnTo>
                      <a:pt x="2260" y="448"/>
                    </a:lnTo>
                    <a:lnTo>
                      <a:pt x="2276" y="464"/>
                    </a:lnTo>
                    <a:lnTo>
                      <a:pt x="2292" y="482"/>
                    </a:lnTo>
                    <a:lnTo>
                      <a:pt x="2309" y="508"/>
                    </a:lnTo>
                    <a:lnTo>
                      <a:pt x="2324" y="524"/>
                    </a:lnTo>
                    <a:lnTo>
                      <a:pt x="2341" y="541"/>
                    </a:lnTo>
                    <a:lnTo>
                      <a:pt x="2357" y="557"/>
                    </a:lnTo>
                    <a:lnTo>
                      <a:pt x="2374" y="574"/>
                    </a:lnTo>
                    <a:lnTo>
                      <a:pt x="2389" y="601"/>
                    </a:lnTo>
                    <a:lnTo>
                      <a:pt x="2406" y="616"/>
                    </a:lnTo>
                    <a:lnTo>
                      <a:pt x="2422" y="634"/>
                    </a:lnTo>
                    <a:lnTo>
                      <a:pt x="2439" y="651"/>
                    </a:lnTo>
                    <a:lnTo>
                      <a:pt x="2454" y="676"/>
                    </a:lnTo>
                    <a:lnTo>
                      <a:pt x="2471" y="693"/>
                    </a:lnTo>
                    <a:lnTo>
                      <a:pt x="2487" y="709"/>
                    </a:lnTo>
                    <a:lnTo>
                      <a:pt x="2504" y="727"/>
                    </a:lnTo>
                    <a:lnTo>
                      <a:pt x="2519" y="751"/>
                    </a:lnTo>
                    <a:lnTo>
                      <a:pt x="2536" y="769"/>
                    </a:lnTo>
                    <a:lnTo>
                      <a:pt x="2552" y="795"/>
                    </a:lnTo>
                    <a:lnTo>
                      <a:pt x="2569" y="811"/>
                    </a:lnTo>
                    <a:lnTo>
                      <a:pt x="2586" y="828"/>
                    </a:lnTo>
                    <a:lnTo>
                      <a:pt x="2601" y="853"/>
                    </a:lnTo>
                    <a:lnTo>
                      <a:pt x="2618" y="870"/>
                    </a:lnTo>
                    <a:lnTo>
                      <a:pt x="2634" y="888"/>
                    </a:lnTo>
                    <a:lnTo>
                      <a:pt x="2650" y="912"/>
                    </a:lnTo>
                    <a:lnTo>
                      <a:pt x="2666" y="930"/>
                    </a:lnTo>
                    <a:lnTo>
                      <a:pt x="2683" y="954"/>
                    </a:lnTo>
                    <a:lnTo>
                      <a:pt x="2698" y="972"/>
                    </a:lnTo>
                    <a:lnTo>
                      <a:pt x="2715" y="988"/>
                    </a:lnTo>
                    <a:lnTo>
                      <a:pt x="2731" y="1014"/>
                    </a:lnTo>
                    <a:lnTo>
                      <a:pt x="2748" y="1031"/>
                    </a:lnTo>
                    <a:lnTo>
                      <a:pt x="2763" y="1056"/>
                    </a:lnTo>
                    <a:lnTo>
                      <a:pt x="2780" y="1073"/>
                    </a:lnTo>
                    <a:lnTo>
                      <a:pt x="2796" y="1098"/>
                    </a:lnTo>
                    <a:lnTo>
                      <a:pt x="2813" y="1115"/>
                    </a:lnTo>
                    <a:lnTo>
                      <a:pt x="2828" y="1131"/>
                    </a:lnTo>
                    <a:lnTo>
                      <a:pt x="2845" y="1157"/>
                    </a:lnTo>
                    <a:lnTo>
                      <a:pt x="2861" y="1175"/>
                    </a:lnTo>
                    <a:lnTo>
                      <a:pt x="2878" y="1200"/>
                    </a:lnTo>
                    <a:lnTo>
                      <a:pt x="2893" y="1217"/>
                    </a:lnTo>
                    <a:lnTo>
                      <a:pt x="2910" y="1242"/>
                    </a:lnTo>
                    <a:lnTo>
                      <a:pt x="2926" y="1259"/>
                    </a:lnTo>
                    <a:lnTo>
                      <a:pt x="2943" y="1275"/>
                    </a:lnTo>
                    <a:lnTo>
                      <a:pt x="2958" y="1301"/>
                    </a:lnTo>
                    <a:lnTo>
                      <a:pt x="2975" y="1318"/>
                    </a:lnTo>
                    <a:lnTo>
                      <a:pt x="2992" y="1343"/>
                    </a:lnTo>
                    <a:lnTo>
                      <a:pt x="3008" y="1361"/>
                    </a:lnTo>
                    <a:lnTo>
                      <a:pt x="3024" y="1385"/>
                    </a:lnTo>
                    <a:lnTo>
                      <a:pt x="3040" y="1403"/>
                    </a:lnTo>
                    <a:lnTo>
                      <a:pt x="3057" y="1419"/>
                    </a:lnTo>
                    <a:lnTo>
                      <a:pt x="3072" y="1445"/>
                    </a:lnTo>
                    <a:lnTo>
                      <a:pt x="3089" y="1462"/>
                    </a:lnTo>
                    <a:lnTo>
                      <a:pt x="3105" y="1487"/>
                    </a:lnTo>
                    <a:lnTo>
                      <a:pt x="3122" y="1504"/>
                    </a:lnTo>
                    <a:lnTo>
                      <a:pt x="3137" y="1520"/>
                    </a:lnTo>
                    <a:lnTo>
                      <a:pt x="3154" y="1546"/>
                    </a:lnTo>
                    <a:lnTo>
                      <a:pt x="3170" y="1562"/>
                    </a:lnTo>
                    <a:lnTo>
                      <a:pt x="3187" y="1580"/>
                    </a:lnTo>
                    <a:lnTo>
                      <a:pt x="3202" y="1606"/>
                    </a:lnTo>
                    <a:lnTo>
                      <a:pt x="3219" y="1622"/>
                    </a:lnTo>
                    <a:lnTo>
                      <a:pt x="3235" y="1639"/>
                    </a:lnTo>
                    <a:lnTo>
                      <a:pt x="3252" y="1664"/>
                    </a:lnTo>
                    <a:lnTo>
                      <a:pt x="3267" y="1681"/>
                    </a:lnTo>
                    <a:lnTo>
                      <a:pt x="3284" y="1699"/>
                    </a:lnTo>
                    <a:lnTo>
                      <a:pt x="3300" y="1723"/>
                    </a:lnTo>
                    <a:lnTo>
                      <a:pt x="3317" y="1741"/>
                    </a:lnTo>
                    <a:lnTo>
                      <a:pt x="3332" y="1757"/>
                    </a:lnTo>
                    <a:lnTo>
                      <a:pt x="3349" y="1774"/>
                    </a:lnTo>
                    <a:lnTo>
                      <a:pt x="3365" y="1800"/>
                    </a:lnTo>
                    <a:lnTo>
                      <a:pt x="3382" y="1816"/>
                    </a:lnTo>
                    <a:lnTo>
                      <a:pt x="3397" y="1833"/>
                    </a:lnTo>
                    <a:lnTo>
                      <a:pt x="3414" y="1849"/>
                    </a:lnTo>
                    <a:lnTo>
                      <a:pt x="3431" y="1875"/>
                    </a:lnTo>
                    <a:lnTo>
                      <a:pt x="3446" y="1893"/>
                    </a:lnTo>
                    <a:lnTo>
                      <a:pt x="3463" y="1909"/>
                    </a:lnTo>
                    <a:lnTo>
                      <a:pt x="3479" y="1926"/>
                    </a:lnTo>
                    <a:lnTo>
                      <a:pt x="3496" y="1944"/>
                    </a:lnTo>
                    <a:lnTo>
                      <a:pt x="3511" y="1968"/>
                    </a:lnTo>
                    <a:lnTo>
                      <a:pt x="3528" y="1986"/>
                    </a:lnTo>
                    <a:lnTo>
                      <a:pt x="3544" y="2002"/>
                    </a:lnTo>
                    <a:lnTo>
                      <a:pt x="3561" y="2019"/>
                    </a:lnTo>
                    <a:lnTo>
                      <a:pt x="3576" y="2036"/>
                    </a:lnTo>
                    <a:lnTo>
                      <a:pt x="3593" y="2052"/>
                    </a:lnTo>
                    <a:lnTo>
                      <a:pt x="3609" y="2070"/>
                    </a:lnTo>
                    <a:lnTo>
                      <a:pt x="3626" y="2094"/>
                    </a:lnTo>
                    <a:lnTo>
                      <a:pt x="3641" y="2112"/>
                    </a:lnTo>
                    <a:lnTo>
                      <a:pt x="3658" y="2129"/>
                    </a:lnTo>
                    <a:lnTo>
                      <a:pt x="3674" y="2145"/>
                    </a:lnTo>
                    <a:lnTo>
                      <a:pt x="3691" y="2163"/>
                    </a:lnTo>
                    <a:lnTo>
                      <a:pt x="3706" y="2180"/>
                    </a:lnTo>
                    <a:lnTo>
                      <a:pt x="3723" y="2196"/>
                    </a:lnTo>
                    <a:lnTo>
                      <a:pt x="3739" y="2213"/>
                    </a:lnTo>
                    <a:lnTo>
                      <a:pt x="3756" y="2231"/>
                    </a:lnTo>
                    <a:lnTo>
                      <a:pt x="3771" y="2247"/>
                    </a:lnTo>
                    <a:lnTo>
                      <a:pt x="3788" y="2264"/>
                    </a:lnTo>
                    <a:lnTo>
                      <a:pt x="3804" y="2280"/>
                    </a:lnTo>
                    <a:lnTo>
                      <a:pt x="3820" y="2298"/>
                    </a:lnTo>
                    <a:lnTo>
                      <a:pt x="3836" y="2315"/>
                    </a:lnTo>
                    <a:lnTo>
                      <a:pt x="3853" y="2331"/>
                    </a:lnTo>
                    <a:lnTo>
                      <a:pt x="3870" y="2340"/>
                    </a:lnTo>
                    <a:lnTo>
                      <a:pt x="3885" y="2357"/>
                    </a:lnTo>
                    <a:lnTo>
                      <a:pt x="3902" y="2374"/>
                    </a:lnTo>
                    <a:lnTo>
                      <a:pt x="3918" y="2390"/>
                    </a:lnTo>
                    <a:lnTo>
                      <a:pt x="3935" y="2408"/>
                    </a:lnTo>
                    <a:lnTo>
                      <a:pt x="3950" y="2424"/>
                    </a:lnTo>
                    <a:lnTo>
                      <a:pt x="3967" y="2441"/>
                    </a:lnTo>
                    <a:lnTo>
                      <a:pt x="3983" y="2459"/>
                    </a:lnTo>
                    <a:lnTo>
                      <a:pt x="4000" y="2467"/>
                    </a:lnTo>
                    <a:lnTo>
                      <a:pt x="4015" y="2483"/>
                    </a:lnTo>
                    <a:lnTo>
                      <a:pt x="4032" y="2501"/>
                    </a:lnTo>
                    <a:lnTo>
                      <a:pt x="4048" y="2518"/>
                    </a:lnTo>
                    <a:lnTo>
                      <a:pt x="4065" y="2525"/>
                    </a:lnTo>
                    <a:lnTo>
                      <a:pt x="4080" y="2543"/>
                    </a:lnTo>
                    <a:lnTo>
                      <a:pt x="4097" y="2560"/>
                    </a:lnTo>
                    <a:lnTo>
                      <a:pt x="4113" y="2576"/>
                    </a:lnTo>
                    <a:lnTo>
                      <a:pt x="4130" y="2585"/>
                    </a:lnTo>
                    <a:lnTo>
                      <a:pt x="4145" y="2602"/>
                    </a:lnTo>
                    <a:lnTo>
                      <a:pt x="4162" y="2618"/>
                    </a:lnTo>
                    <a:lnTo>
                      <a:pt x="4178" y="2627"/>
                    </a:lnTo>
                    <a:lnTo>
                      <a:pt x="4194" y="2644"/>
                    </a:lnTo>
                    <a:lnTo>
                      <a:pt x="4210" y="2662"/>
                    </a:lnTo>
                    <a:lnTo>
                      <a:pt x="4227" y="2669"/>
                    </a:lnTo>
                    <a:lnTo>
                      <a:pt x="4242" y="2686"/>
                    </a:lnTo>
                    <a:lnTo>
                      <a:pt x="4259" y="2704"/>
                    </a:lnTo>
                    <a:lnTo>
                      <a:pt x="4276" y="2711"/>
                    </a:lnTo>
                    <a:lnTo>
                      <a:pt x="4292" y="2728"/>
                    </a:lnTo>
                    <a:lnTo>
                      <a:pt x="4309" y="2737"/>
                    </a:lnTo>
                    <a:lnTo>
                      <a:pt x="4324" y="2754"/>
                    </a:lnTo>
                    <a:lnTo>
                      <a:pt x="4341" y="2770"/>
                    </a:lnTo>
                    <a:lnTo>
                      <a:pt x="4357" y="2779"/>
                    </a:lnTo>
                    <a:lnTo>
                      <a:pt x="4374" y="2796"/>
                    </a:lnTo>
                    <a:lnTo>
                      <a:pt x="4389" y="2804"/>
                    </a:lnTo>
                    <a:lnTo>
                      <a:pt x="4406" y="2821"/>
                    </a:lnTo>
                    <a:lnTo>
                      <a:pt x="4422" y="2830"/>
                    </a:lnTo>
                    <a:lnTo>
                      <a:pt x="4439" y="2847"/>
                    </a:lnTo>
                    <a:lnTo>
                      <a:pt x="4454" y="2854"/>
                    </a:lnTo>
                    <a:lnTo>
                      <a:pt x="4471" y="2872"/>
                    </a:lnTo>
                    <a:lnTo>
                      <a:pt x="4487" y="2881"/>
                    </a:lnTo>
                    <a:lnTo>
                      <a:pt x="4504" y="2889"/>
                    </a:lnTo>
                    <a:lnTo>
                      <a:pt x="4519" y="2905"/>
                    </a:lnTo>
                    <a:lnTo>
                      <a:pt x="4536" y="2914"/>
                    </a:lnTo>
                    <a:lnTo>
                      <a:pt x="4552" y="2931"/>
                    </a:lnTo>
                    <a:lnTo>
                      <a:pt x="4568" y="2940"/>
                    </a:lnTo>
                    <a:lnTo>
                      <a:pt x="4584" y="2947"/>
                    </a:lnTo>
                    <a:lnTo>
                      <a:pt x="4601" y="2965"/>
                    </a:lnTo>
                    <a:lnTo>
                      <a:pt x="4616" y="2973"/>
                    </a:lnTo>
                    <a:lnTo>
                      <a:pt x="4633" y="2982"/>
                    </a:lnTo>
                    <a:lnTo>
                      <a:pt x="4649" y="2998"/>
                    </a:lnTo>
                    <a:lnTo>
                      <a:pt x="4666" y="3007"/>
                    </a:lnTo>
                    <a:lnTo>
                      <a:pt x="4681" y="3015"/>
                    </a:lnTo>
                    <a:lnTo>
                      <a:pt x="4698" y="3033"/>
                    </a:lnTo>
                    <a:lnTo>
                      <a:pt x="4715" y="3042"/>
                    </a:lnTo>
                    <a:lnTo>
                      <a:pt x="4731" y="3049"/>
                    </a:lnTo>
                    <a:lnTo>
                      <a:pt x="4748" y="3058"/>
                    </a:lnTo>
                    <a:lnTo>
                      <a:pt x="4763" y="3075"/>
                    </a:lnTo>
                    <a:lnTo>
                      <a:pt x="4780" y="3084"/>
                    </a:lnTo>
                    <a:lnTo>
                      <a:pt x="4796" y="3091"/>
                    </a:lnTo>
                    <a:lnTo>
                      <a:pt x="4813" y="3100"/>
                    </a:lnTo>
                    <a:lnTo>
                      <a:pt x="4828" y="3117"/>
                    </a:lnTo>
                    <a:lnTo>
                      <a:pt x="4845" y="3126"/>
                    </a:lnTo>
                    <a:lnTo>
                      <a:pt x="4861" y="3134"/>
                    </a:lnTo>
                    <a:lnTo>
                      <a:pt x="4861" y="4071"/>
                    </a:lnTo>
                    <a:lnTo>
                      <a:pt x="4845" y="4071"/>
                    </a:lnTo>
                    <a:lnTo>
                      <a:pt x="4828" y="4071"/>
                    </a:lnTo>
                    <a:lnTo>
                      <a:pt x="4813" y="4071"/>
                    </a:lnTo>
                    <a:lnTo>
                      <a:pt x="4796" y="4071"/>
                    </a:lnTo>
                    <a:lnTo>
                      <a:pt x="4780" y="4071"/>
                    </a:lnTo>
                    <a:lnTo>
                      <a:pt x="4763" y="4071"/>
                    </a:lnTo>
                    <a:lnTo>
                      <a:pt x="4748" y="4071"/>
                    </a:lnTo>
                    <a:lnTo>
                      <a:pt x="4731" y="4071"/>
                    </a:lnTo>
                    <a:lnTo>
                      <a:pt x="4715" y="4071"/>
                    </a:lnTo>
                    <a:lnTo>
                      <a:pt x="4698" y="4071"/>
                    </a:lnTo>
                    <a:lnTo>
                      <a:pt x="4681" y="4071"/>
                    </a:lnTo>
                    <a:lnTo>
                      <a:pt x="4666" y="4071"/>
                    </a:lnTo>
                    <a:lnTo>
                      <a:pt x="4649" y="4071"/>
                    </a:lnTo>
                    <a:lnTo>
                      <a:pt x="4633" y="4071"/>
                    </a:lnTo>
                    <a:lnTo>
                      <a:pt x="4616" y="4071"/>
                    </a:lnTo>
                    <a:lnTo>
                      <a:pt x="4601" y="4071"/>
                    </a:lnTo>
                    <a:lnTo>
                      <a:pt x="4584" y="4071"/>
                    </a:lnTo>
                    <a:lnTo>
                      <a:pt x="4568" y="4071"/>
                    </a:lnTo>
                    <a:lnTo>
                      <a:pt x="4552" y="4071"/>
                    </a:lnTo>
                    <a:lnTo>
                      <a:pt x="4536" y="4071"/>
                    </a:lnTo>
                    <a:lnTo>
                      <a:pt x="4519" y="4071"/>
                    </a:lnTo>
                    <a:lnTo>
                      <a:pt x="4504" y="4071"/>
                    </a:lnTo>
                    <a:lnTo>
                      <a:pt x="4487" y="4071"/>
                    </a:lnTo>
                    <a:lnTo>
                      <a:pt x="4471" y="4071"/>
                    </a:lnTo>
                    <a:lnTo>
                      <a:pt x="4454" y="4071"/>
                    </a:lnTo>
                    <a:lnTo>
                      <a:pt x="4439" y="4071"/>
                    </a:lnTo>
                    <a:lnTo>
                      <a:pt x="4422" y="4071"/>
                    </a:lnTo>
                    <a:lnTo>
                      <a:pt x="4406" y="4071"/>
                    </a:lnTo>
                    <a:lnTo>
                      <a:pt x="4389" y="4071"/>
                    </a:lnTo>
                    <a:lnTo>
                      <a:pt x="4374" y="4071"/>
                    </a:lnTo>
                    <a:lnTo>
                      <a:pt x="4357" y="4071"/>
                    </a:lnTo>
                    <a:lnTo>
                      <a:pt x="4341" y="4071"/>
                    </a:lnTo>
                    <a:lnTo>
                      <a:pt x="4324" y="4071"/>
                    </a:lnTo>
                    <a:lnTo>
                      <a:pt x="4309" y="4071"/>
                    </a:lnTo>
                    <a:lnTo>
                      <a:pt x="4292" y="4071"/>
                    </a:lnTo>
                    <a:lnTo>
                      <a:pt x="4276" y="4071"/>
                    </a:lnTo>
                    <a:lnTo>
                      <a:pt x="4259" y="4071"/>
                    </a:lnTo>
                    <a:lnTo>
                      <a:pt x="4242" y="4071"/>
                    </a:lnTo>
                    <a:lnTo>
                      <a:pt x="4227" y="4071"/>
                    </a:lnTo>
                    <a:lnTo>
                      <a:pt x="4210" y="4071"/>
                    </a:lnTo>
                    <a:lnTo>
                      <a:pt x="4194" y="4071"/>
                    </a:lnTo>
                    <a:lnTo>
                      <a:pt x="4178" y="4071"/>
                    </a:lnTo>
                    <a:lnTo>
                      <a:pt x="4162" y="4071"/>
                    </a:lnTo>
                    <a:lnTo>
                      <a:pt x="4145" y="4071"/>
                    </a:lnTo>
                    <a:lnTo>
                      <a:pt x="4130" y="4071"/>
                    </a:lnTo>
                    <a:lnTo>
                      <a:pt x="4113" y="4071"/>
                    </a:lnTo>
                    <a:lnTo>
                      <a:pt x="4097" y="4071"/>
                    </a:lnTo>
                    <a:lnTo>
                      <a:pt x="4080" y="4071"/>
                    </a:lnTo>
                    <a:lnTo>
                      <a:pt x="4065" y="4071"/>
                    </a:lnTo>
                    <a:lnTo>
                      <a:pt x="4048" y="4071"/>
                    </a:lnTo>
                    <a:lnTo>
                      <a:pt x="4032" y="4071"/>
                    </a:lnTo>
                    <a:lnTo>
                      <a:pt x="4015" y="4071"/>
                    </a:lnTo>
                    <a:lnTo>
                      <a:pt x="4000" y="4071"/>
                    </a:lnTo>
                    <a:lnTo>
                      <a:pt x="3983" y="4071"/>
                    </a:lnTo>
                    <a:lnTo>
                      <a:pt x="3967" y="4071"/>
                    </a:lnTo>
                    <a:lnTo>
                      <a:pt x="3950" y="4071"/>
                    </a:lnTo>
                    <a:lnTo>
                      <a:pt x="3935" y="4071"/>
                    </a:lnTo>
                    <a:lnTo>
                      <a:pt x="3918" y="4071"/>
                    </a:lnTo>
                    <a:lnTo>
                      <a:pt x="3902" y="4071"/>
                    </a:lnTo>
                    <a:lnTo>
                      <a:pt x="3885" y="4071"/>
                    </a:lnTo>
                    <a:lnTo>
                      <a:pt x="3870" y="4071"/>
                    </a:lnTo>
                    <a:lnTo>
                      <a:pt x="3853" y="4071"/>
                    </a:lnTo>
                    <a:lnTo>
                      <a:pt x="3836" y="4071"/>
                    </a:lnTo>
                    <a:lnTo>
                      <a:pt x="3820" y="4071"/>
                    </a:lnTo>
                    <a:lnTo>
                      <a:pt x="3804" y="4071"/>
                    </a:lnTo>
                    <a:lnTo>
                      <a:pt x="3788" y="4071"/>
                    </a:lnTo>
                    <a:lnTo>
                      <a:pt x="3771" y="4071"/>
                    </a:lnTo>
                    <a:lnTo>
                      <a:pt x="3756" y="4071"/>
                    </a:lnTo>
                    <a:lnTo>
                      <a:pt x="3739" y="4071"/>
                    </a:lnTo>
                    <a:lnTo>
                      <a:pt x="3723" y="4071"/>
                    </a:lnTo>
                    <a:lnTo>
                      <a:pt x="3706" y="4071"/>
                    </a:lnTo>
                    <a:lnTo>
                      <a:pt x="3691" y="4071"/>
                    </a:lnTo>
                    <a:lnTo>
                      <a:pt x="3674" y="4071"/>
                    </a:lnTo>
                    <a:lnTo>
                      <a:pt x="3658" y="4071"/>
                    </a:lnTo>
                    <a:lnTo>
                      <a:pt x="3641" y="4071"/>
                    </a:lnTo>
                    <a:lnTo>
                      <a:pt x="3626" y="4071"/>
                    </a:lnTo>
                    <a:lnTo>
                      <a:pt x="3609" y="4071"/>
                    </a:lnTo>
                    <a:lnTo>
                      <a:pt x="3593" y="4071"/>
                    </a:lnTo>
                    <a:lnTo>
                      <a:pt x="3576" y="4071"/>
                    </a:lnTo>
                    <a:lnTo>
                      <a:pt x="3561" y="4071"/>
                    </a:lnTo>
                    <a:lnTo>
                      <a:pt x="3544" y="4071"/>
                    </a:lnTo>
                    <a:lnTo>
                      <a:pt x="3528" y="4071"/>
                    </a:lnTo>
                    <a:lnTo>
                      <a:pt x="3511" y="4071"/>
                    </a:lnTo>
                    <a:lnTo>
                      <a:pt x="3496" y="4071"/>
                    </a:lnTo>
                    <a:lnTo>
                      <a:pt x="3479" y="4071"/>
                    </a:lnTo>
                    <a:lnTo>
                      <a:pt x="3463" y="4071"/>
                    </a:lnTo>
                    <a:lnTo>
                      <a:pt x="3446" y="4071"/>
                    </a:lnTo>
                    <a:lnTo>
                      <a:pt x="3431" y="4071"/>
                    </a:lnTo>
                    <a:lnTo>
                      <a:pt x="3414" y="4071"/>
                    </a:lnTo>
                    <a:lnTo>
                      <a:pt x="3397" y="4071"/>
                    </a:lnTo>
                    <a:lnTo>
                      <a:pt x="3382" y="4071"/>
                    </a:lnTo>
                    <a:lnTo>
                      <a:pt x="3365" y="4071"/>
                    </a:lnTo>
                    <a:lnTo>
                      <a:pt x="3349" y="4071"/>
                    </a:lnTo>
                    <a:lnTo>
                      <a:pt x="3332" y="4071"/>
                    </a:lnTo>
                    <a:lnTo>
                      <a:pt x="3317" y="4071"/>
                    </a:lnTo>
                    <a:lnTo>
                      <a:pt x="3300" y="4071"/>
                    </a:lnTo>
                    <a:lnTo>
                      <a:pt x="3284" y="4071"/>
                    </a:lnTo>
                    <a:lnTo>
                      <a:pt x="3267" y="4071"/>
                    </a:lnTo>
                    <a:lnTo>
                      <a:pt x="3252" y="4071"/>
                    </a:lnTo>
                    <a:lnTo>
                      <a:pt x="3235" y="4071"/>
                    </a:lnTo>
                    <a:lnTo>
                      <a:pt x="3219" y="4071"/>
                    </a:lnTo>
                    <a:lnTo>
                      <a:pt x="3202" y="4071"/>
                    </a:lnTo>
                    <a:lnTo>
                      <a:pt x="3187" y="4071"/>
                    </a:lnTo>
                    <a:lnTo>
                      <a:pt x="3170" y="4071"/>
                    </a:lnTo>
                    <a:lnTo>
                      <a:pt x="3154" y="4071"/>
                    </a:lnTo>
                    <a:lnTo>
                      <a:pt x="3137" y="4071"/>
                    </a:lnTo>
                    <a:lnTo>
                      <a:pt x="3122" y="4071"/>
                    </a:lnTo>
                    <a:lnTo>
                      <a:pt x="3105" y="4071"/>
                    </a:lnTo>
                    <a:lnTo>
                      <a:pt x="3089" y="4071"/>
                    </a:lnTo>
                    <a:lnTo>
                      <a:pt x="3072" y="4071"/>
                    </a:lnTo>
                    <a:lnTo>
                      <a:pt x="3057" y="4071"/>
                    </a:lnTo>
                    <a:lnTo>
                      <a:pt x="3040" y="4071"/>
                    </a:lnTo>
                    <a:lnTo>
                      <a:pt x="3024" y="4071"/>
                    </a:lnTo>
                    <a:lnTo>
                      <a:pt x="3008" y="4071"/>
                    </a:lnTo>
                    <a:lnTo>
                      <a:pt x="2992" y="4071"/>
                    </a:lnTo>
                    <a:lnTo>
                      <a:pt x="2975" y="4071"/>
                    </a:lnTo>
                    <a:lnTo>
                      <a:pt x="2958" y="4071"/>
                    </a:lnTo>
                    <a:lnTo>
                      <a:pt x="2943" y="4071"/>
                    </a:lnTo>
                    <a:lnTo>
                      <a:pt x="2926" y="4071"/>
                    </a:lnTo>
                    <a:lnTo>
                      <a:pt x="2910" y="4071"/>
                    </a:lnTo>
                    <a:lnTo>
                      <a:pt x="2893" y="4071"/>
                    </a:lnTo>
                    <a:lnTo>
                      <a:pt x="2878" y="4071"/>
                    </a:lnTo>
                    <a:lnTo>
                      <a:pt x="2861" y="4071"/>
                    </a:lnTo>
                    <a:lnTo>
                      <a:pt x="2845" y="4071"/>
                    </a:lnTo>
                    <a:lnTo>
                      <a:pt x="2828" y="4071"/>
                    </a:lnTo>
                    <a:lnTo>
                      <a:pt x="2813" y="4071"/>
                    </a:lnTo>
                    <a:lnTo>
                      <a:pt x="2796" y="4071"/>
                    </a:lnTo>
                    <a:lnTo>
                      <a:pt x="2780" y="4071"/>
                    </a:lnTo>
                    <a:lnTo>
                      <a:pt x="2763" y="4071"/>
                    </a:lnTo>
                    <a:lnTo>
                      <a:pt x="2748" y="4071"/>
                    </a:lnTo>
                    <a:lnTo>
                      <a:pt x="2731" y="4071"/>
                    </a:lnTo>
                    <a:lnTo>
                      <a:pt x="2715" y="4071"/>
                    </a:lnTo>
                    <a:lnTo>
                      <a:pt x="2698" y="4071"/>
                    </a:lnTo>
                    <a:lnTo>
                      <a:pt x="2683" y="4071"/>
                    </a:lnTo>
                    <a:lnTo>
                      <a:pt x="2666" y="4071"/>
                    </a:lnTo>
                    <a:lnTo>
                      <a:pt x="2650" y="4071"/>
                    </a:lnTo>
                    <a:lnTo>
                      <a:pt x="2634" y="4071"/>
                    </a:lnTo>
                    <a:lnTo>
                      <a:pt x="2618" y="4071"/>
                    </a:lnTo>
                    <a:lnTo>
                      <a:pt x="2601" y="4071"/>
                    </a:lnTo>
                    <a:lnTo>
                      <a:pt x="2586" y="4071"/>
                    </a:lnTo>
                    <a:lnTo>
                      <a:pt x="2569" y="4071"/>
                    </a:lnTo>
                    <a:lnTo>
                      <a:pt x="2552" y="4071"/>
                    </a:lnTo>
                    <a:lnTo>
                      <a:pt x="2536" y="4071"/>
                    </a:lnTo>
                    <a:lnTo>
                      <a:pt x="2519" y="4071"/>
                    </a:lnTo>
                    <a:lnTo>
                      <a:pt x="2504" y="4071"/>
                    </a:lnTo>
                    <a:lnTo>
                      <a:pt x="2487" y="4071"/>
                    </a:lnTo>
                    <a:lnTo>
                      <a:pt x="2471" y="4071"/>
                    </a:lnTo>
                    <a:lnTo>
                      <a:pt x="2454" y="4071"/>
                    </a:lnTo>
                    <a:lnTo>
                      <a:pt x="2439" y="4071"/>
                    </a:lnTo>
                    <a:lnTo>
                      <a:pt x="2422" y="4071"/>
                    </a:lnTo>
                    <a:lnTo>
                      <a:pt x="2406" y="4071"/>
                    </a:lnTo>
                    <a:lnTo>
                      <a:pt x="2389" y="4071"/>
                    </a:lnTo>
                    <a:lnTo>
                      <a:pt x="2374" y="4071"/>
                    </a:lnTo>
                    <a:lnTo>
                      <a:pt x="2357" y="4071"/>
                    </a:lnTo>
                    <a:lnTo>
                      <a:pt x="2341" y="4071"/>
                    </a:lnTo>
                    <a:lnTo>
                      <a:pt x="2324" y="4071"/>
                    </a:lnTo>
                    <a:lnTo>
                      <a:pt x="2309" y="4071"/>
                    </a:lnTo>
                    <a:lnTo>
                      <a:pt x="2292" y="4071"/>
                    </a:lnTo>
                    <a:lnTo>
                      <a:pt x="2276" y="4071"/>
                    </a:lnTo>
                    <a:lnTo>
                      <a:pt x="2260" y="4071"/>
                    </a:lnTo>
                    <a:lnTo>
                      <a:pt x="2244" y="4071"/>
                    </a:lnTo>
                    <a:lnTo>
                      <a:pt x="2227" y="4071"/>
                    </a:lnTo>
                    <a:lnTo>
                      <a:pt x="2212" y="4071"/>
                    </a:lnTo>
                    <a:lnTo>
                      <a:pt x="2195" y="4071"/>
                    </a:lnTo>
                    <a:lnTo>
                      <a:pt x="2179" y="4071"/>
                    </a:lnTo>
                    <a:lnTo>
                      <a:pt x="2162" y="4071"/>
                    </a:lnTo>
                    <a:lnTo>
                      <a:pt x="2147" y="4071"/>
                    </a:lnTo>
                    <a:lnTo>
                      <a:pt x="2130" y="4071"/>
                    </a:lnTo>
                    <a:lnTo>
                      <a:pt x="2113" y="4071"/>
                    </a:lnTo>
                    <a:lnTo>
                      <a:pt x="2097" y="4071"/>
                    </a:lnTo>
                    <a:lnTo>
                      <a:pt x="2080" y="4071"/>
                    </a:lnTo>
                    <a:lnTo>
                      <a:pt x="2065" y="4071"/>
                    </a:lnTo>
                    <a:lnTo>
                      <a:pt x="2048" y="4071"/>
                    </a:lnTo>
                    <a:lnTo>
                      <a:pt x="2032" y="4071"/>
                    </a:lnTo>
                    <a:lnTo>
                      <a:pt x="2015" y="4071"/>
                    </a:lnTo>
                    <a:lnTo>
                      <a:pt x="2000" y="4071"/>
                    </a:lnTo>
                    <a:lnTo>
                      <a:pt x="1983" y="4071"/>
                    </a:lnTo>
                    <a:lnTo>
                      <a:pt x="1967" y="4071"/>
                    </a:lnTo>
                    <a:lnTo>
                      <a:pt x="1950" y="4071"/>
                    </a:lnTo>
                    <a:lnTo>
                      <a:pt x="1935" y="4071"/>
                    </a:lnTo>
                    <a:lnTo>
                      <a:pt x="1918" y="4071"/>
                    </a:lnTo>
                    <a:lnTo>
                      <a:pt x="1902" y="4071"/>
                    </a:lnTo>
                    <a:lnTo>
                      <a:pt x="1886" y="4071"/>
                    </a:lnTo>
                    <a:lnTo>
                      <a:pt x="1870" y="4071"/>
                    </a:lnTo>
                    <a:lnTo>
                      <a:pt x="1853" y="4071"/>
                    </a:lnTo>
                    <a:lnTo>
                      <a:pt x="1838" y="4071"/>
                    </a:lnTo>
                    <a:lnTo>
                      <a:pt x="1821" y="4071"/>
                    </a:lnTo>
                    <a:lnTo>
                      <a:pt x="1805" y="4071"/>
                    </a:lnTo>
                    <a:lnTo>
                      <a:pt x="1788" y="4071"/>
                    </a:lnTo>
                    <a:lnTo>
                      <a:pt x="1773" y="4071"/>
                    </a:lnTo>
                    <a:lnTo>
                      <a:pt x="1756" y="4071"/>
                    </a:lnTo>
                    <a:lnTo>
                      <a:pt x="1740" y="4071"/>
                    </a:lnTo>
                    <a:lnTo>
                      <a:pt x="1723" y="4071"/>
                    </a:lnTo>
                    <a:lnTo>
                      <a:pt x="1706" y="4071"/>
                    </a:lnTo>
                    <a:lnTo>
                      <a:pt x="1691" y="4071"/>
                    </a:lnTo>
                    <a:lnTo>
                      <a:pt x="1674" y="4071"/>
                    </a:lnTo>
                    <a:lnTo>
                      <a:pt x="1658" y="4071"/>
                    </a:lnTo>
                    <a:lnTo>
                      <a:pt x="1641" y="4071"/>
                    </a:lnTo>
                    <a:lnTo>
                      <a:pt x="1626" y="4071"/>
                    </a:lnTo>
                    <a:lnTo>
                      <a:pt x="1609" y="4071"/>
                    </a:lnTo>
                    <a:lnTo>
                      <a:pt x="1593" y="4071"/>
                    </a:lnTo>
                    <a:lnTo>
                      <a:pt x="1576" y="4071"/>
                    </a:lnTo>
                    <a:lnTo>
                      <a:pt x="1561" y="4071"/>
                    </a:lnTo>
                    <a:lnTo>
                      <a:pt x="1544" y="4071"/>
                    </a:lnTo>
                    <a:lnTo>
                      <a:pt x="1528" y="4071"/>
                    </a:lnTo>
                    <a:lnTo>
                      <a:pt x="1512" y="4071"/>
                    </a:lnTo>
                    <a:lnTo>
                      <a:pt x="1496" y="4071"/>
                    </a:lnTo>
                    <a:lnTo>
                      <a:pt x="1479" y="4071"/>
                    </a:lnTo>
                    <a:lnTo>
                      <a:pt x="1464" y="4071"/>
                    </a:lnTo>
                    <a:lnTo>
                      <a:pt x="1447" y="4071"/>
                    </a:lnTo>
                    <a:lnTo>
                      <a:pt x="1431" y="4071"/>
                    </a:lnTo>
                    <a:lnTo>
                      <a:pt x="1414" y="4071"/>
                    </a:lnTo>
                    <a:lnTo>
                      <a:pt x="1399" y="4071"/>
                    </a:lnTo>
                    <a:lnTo>
                      <a:pt x="1382" y="4071"/>
                    </a:lnTo>
                    <a:lnTo>
                      <a:pt x="1366" y="4071"/>
                    </a:lnTo>
                    <a:lnTo>
                      <a:pt x="1349" y="4071"/>
                    </a:lnTo>
                    <a:lnTo>
                      <a:pt x="1334" y="4071"/>
                    </a:lnTo>
                    <a:lnTo>
                      <a:pt x="1317" y="4071"/>
                    </a:lnTo>
                    <a:lnTo>
                      <a:pt x="1301" y="4071"/>
                    </a:lnTo>
                    <a:lnTo>
                      <a:pt x="1284" y="4071"/>
                    </a:lnTo>
                    <a:lnTo>
                      <a:pt x="1267" y="4071"/>
                    </a:lnTo>
                    <a:lnTo>
                      <a:pt x="1252" y="4071"/>
                    </a:lnTo>
                    <a:lnTo>
                      <a:pt x="1235" y="4071"/>
                    </a:lnTo>
                    <a:lnTo>
                      <a:pt x="1219" y="4071"/>
                    </a:lnTo>
                    <a:lnTo>
                      <a:pt x="1202" y="4071"/>
                    </a:lnTo>
                    <a:lnTo>
                      <a:pt x="1187" y="4071"/>
                    </a:lnTo>
                    <a:lnTo>
                      <a:pt x="1170" y="4071"/>
                    </a:lnTo>
                    <a:lnTo>
                      <a:pt x="1154" y="4071"/>
                    </a:lnTo>
                    <a:lnTo>
                      <a:pt x="1138" y="4071"/>
                    </a:lnTo>
                    <a:lnTo>
                      <a:pt x="1122" y="4071"/>
                    </a:lnTo>
                    <a:lnTo>
                      <a:pt x="1105" y="4071"/>
                    </a:lnTo>
                    <a:lnTo>
                      <a:pt x="1090" y="4071"/>
                    </a:lnTo>
                    <a:lnTo>
                      <a:pt x="1073" y="4071"/>
                    </a:lnTo>
                    <a:lnTo>
                      <a:pt x="1057" y="4071"/>
                    </a:lnTo>
                    <a:lnTo>
                      <a:pt x="1040" y="4071"/>
                    </a:lnTo>
                    <a:lnTo>
                      <a:pt x="1025" y="4071"/>
                    </a:lnTo>
                    <a:lnTo>
                      <a:pt x="1008" y="4071"/>
                    </a:lnTo>
                    <a:lnTo>
                      <a:pt x="992" y="4071"/>
                    </a:lnTo>
                    <a:lnTo>
                      <a:pt x="975" y="4071"/>
                    </a:lnTo>
                    <a:lnTo>
                      <a:pt x="960" y="4071"/>
                    </a:lnTo>
                    <a:lnTo>
                      <a:pt x="943" y="4071"/>
                    </a:lnTo>
                    <a:lnTo>
                      <a:pt x="927" y="4071"/>
                    </a:lnTo>
                    <a:lnTo>
                      <a:pt x="910" y="4071"/>
                    </a:lnTo>
                    <a:lnTo>
                      <a:pt x="895" y="4071"/>
                    </a:lnTo>
                    <a:lnTo>
                      <a:pt x="878" y="4071"/>
                    </a:lnTo>
                    <a:lnTo>
                      <a:pt x="862" y="4071"/>
                    </a:lnTo>
                    <a:lnTo>
                      <a:pt x="845" y="4071"/>
                    </a:lnTo>
                    <a:lnTo>
                      <a:pt x="828" y="4071"/>
                    </a:lnTo>
                    <a:lnTo>
                      <a:pt x="813" y="4071"/>
                    </a:lnTo>
                    <a:lnTo>
                      <a:pt x="796" y="4071"/>
                    </a:lnTo>
                    <a:lnTo>
                      <a:pt x="780" y="4071"/>
                    </a:lnTo>
                    <a:lnTo>
                      <a:pt x="764" y="4071"/>
                    </a:lnTo>
                    <a:lnTo>
                      <a:pt x="748" y="4071"/>
                    </a:lnTo>
                    <a:lnTo>
                      <a:pt x="731" y="4071"/>
                    </a:lnTo>
                    <a:lnTo>
                      <a:pt x="716" y="4071"/>
                    </a:lnTo>
                    <a:lnTo>
                      <a:pt x="699" y="4071"/>
                    </a:lnTo>
                    <a:lnTo>
                      <a:pt x="683" y="4071"/>
                    </a:lnTo>
                    <a:lnTo>
                      <a:pt x="666" y="4071"/>
                    </a:lnTo>
                    <a:lnTo>
                      <a:pt x="651" y="4071"/>
                    </a:lnTo>
                    <a:lnTo>
                      <a:pt x="634" y="4071"/>
                    </a:lnTo>
                    <a:lnTo>
                      <a:pt x="618" y="4071"/>
                    </a:lnTo>
                    <a:lnTo>
                      <a:pt x="601" y="4071"/>
                    </a:lnTo>
                    <a:lnTo>
                      <a:pt x="586" y="4071"/>
                    </a:lnTo>
                    <a:lnTo>
                      <a:pt x="569" y="4071"/>
                    </a:lnTo>
                    <a:lnTo>
                      <a:pt x="553" y="4071"/>
                    </a:lnTo>
                    <a:lnTo>
                      <a:pt x="536" y="4071"/>
                    </a:lnTo>
                    <a:lnTo>
                      <a:pt x="521" y="4071"/>
                    </a:lnTo>
                    <a:lnTo>
                      <a:pt x="504" y="4071"/>
                    </a:lnTo>
                    <a:lnTo>
                      <a:pt x="488" y="4071"/>
                    </a:lnTo>
                    <a:lnTo>
                      <a:pt x="471" y="4071"/>
                    </a:lnTo>
                    <a:lnTo>
                      <a:pt x="456" y="4071"/>
                    </a:lnTo>
                    <a:lnTo>
                      <a:pt x="439" y="4071"/>
                    </a:lnTo>
                    <a:lnTo>
                      <a:pt x="422" y="4071"/>
                    </a:lnTo>
                    <a:lnTo>
                      <a:pt x="406" y="4071"/>
                    </a:lnTo>
                    <a:lnTo>
                      <a:pt x="390" y="4071"/>
                    </a:lnTo>
                    <a:lnTo>
                      <a:pt x="374" y="4071"/>
                    </a:lnTo>
                    <a:lnTo>
                      <a:pt x="357" y="4071"/>
                    </a:lnTo>
                    <a:lnTo>
                      <a:pt x="342" y="4071"/>
                    </a:lnTo>
                    <a:lnTo>
                      <a:pt x="325" y="4071"/>
                    </a:lnTo>
                    <a:lnTo>
                      <a:pt x="309" y="4071"/>
                    </a:lnTo>
                    <a:lnTo>
                      <a:pt x="292" y="4071"/>
                    </a:lnTo>
                    <a:lnTo>
                      <a:pt x="277" y="4071"/>
                    </a:lnTo>
                    <a:lnTo>
                      <a:pt x="260" y="4071"/>
                    </a:lnTo>
                    <a:lnTo>
                      <a:pt x="244" y="4071"/>
                    </a:lnTo>
                    <a:lnTo>
                      <a:pt x="227" y="4071"/>
                    </a:lnTo>
                    <a:lnTo>
                      <a:pt x="212" y="4071"/>
                    </a:lnTo>
                    <a:lnTo>
                      <a:pt x="195" y="4071"/>
                    </a:lnTo>
                    <a:lnTo>
                      <a:pt x="179" y="4071"/>
                    </a:lnTo>
                    <a:lnTo>
                      <a:pt x="162" y="4071"/>
                    </a:lnTo>
                    <a:lnTo>
                      <a:pt x="147" y="4071"/>
                    </a:lnTo>
                    <a:lnTo>
                      <a:pt x="130" y="4071"/>
                    </a:lnTo>
                    <a:lnTo>
                      <a:pt x="114" y="4071"/>
                    </a:lnTo>
                    <a:lnTo>
                      <a:pt x="97" y="4071"/>
                    </a:lnTo>
                    <a:lnTo>
                      <a:pt x="82" y="4071"/>
                    </a:lnTo>
                    <a:lnTo>
                      <a:pt x="65" y="4071"/>
                    </a:lnTo>
                    <a:lnTo>
                      <a:pt x="49" y="4071"/>
                    </a:lnTo>
                    <a:lnTo>
                      <a:pt x="32" y="4071"/>
                    </a:lnTo>
                    <a:lnTo>
                      <a:pt x="17" y="4071"/>
                    </a:lnTo>
                    <a:lnTo>
                      <a:pt x="0" y="407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06360" y="362160"/>
                <a:ext cx="419760" cy="389880"/>
              </a:xfrm>
              <a:custGeom>
                <a:avLst/>
                <a:gdLst/>
                <a:ahLst/>
                <a:rect l="l" t="t" r="r" b="b"/>
                <a:pathLst>
                  <a:path w="4861" h="4071">
                    <a:moveTo>
                      <a:pt x="0" y="4071"/>
                    </a:moveTo>
                    <a:lnTo>
                      <a:pt x="0" y="4071"/>
                    </a:lnTo>
                    <a:lnTo>
                      <a:pt x="17" y="4054"/>
                    </a:lnTo>
                    <a:lnTo>
                      <a:pt x="32" y="4021"/>
                    </a:lnTo>
                    <a:lnTo>
                      <a:pt x="49" y="3979"/>
                    </a:lnTo>
                    <a:lnTo>
                      <a:pt x="65" y="3928"/>
                    </a:lnTo>
                    <a:lnTo>
                      <a:pt x="82" y="3868"/>
                    </a:lnTo>
                    <a:lnTo>
                      <a:pt x="97" y="3809"/>
                    </a:lnTo>
                    <a:lnTo>
                      <a:pt x="114" y="3751"/>
                    </a:lnTo>
                    <a:lnTo>
                      <a:pt x="130" y="3683"/>
                    </a:lnTo>
                    <a:lnTo>
                      <a:pt x="147" y="3616"/>
                    </a:lnTo>
                    <a:lnTo>
                      <a:pt x="162" y="3548"/>
                    </a:lnTo>
                    <a:lnTo>
                      <a:pt x="179" y="3472"/>
                    </a:lnTo>
                    <a:lnTo>
                      <a:pt x="195" y="3404"/>
                    </a:lnTo>
                    <a:lnTo>
                      <a:pt x="212" y="3329"/>
                    </a:lnTo>
                    <a:lnTo>
                      <a:pt x="227" y="3252"/>
                    </a:lnTo>
                    <a:lnTo>
                      <a:pt x="244" y="3176"/>
                    </a:lnTo>
                    <a:lnTo>
                      <a:pt x="260" y="3108"/>
                    </a:lnTo>
                    <a:lnTo>
                      <a:pt x="277" y="3033"/>
                    </a:lnTo>
                    <a:lnTo>
                      <a:pt x="292" y="2956"/>
                    </a:lnTo>
                    <a:lnTo>
                      <a:pt x="309" y="2881"/>
                    </a:lnTo>
                    <a:lnTo>
                      <a:pt x="325" y="2804"/>
                    </a:lnTo>
                    <a:lnTo>
                      <a:pt x="342" y="2728"/>
                    </a:lnTo>
                    <a:lnTo>
                      <a:pt x="357" y="2653"/>
                    </a:lnTo>
                    <a:lnTo>
                      <a:pt x="374" y="2576"/>
                    </a:lnTo>
                    <a:lnTo>
                      <a:pt x="390" y="2501"/>
                    </a:lnTo>
                    <a:lnTo>
                      <a:pt x="406" y="2432"/>
                    </a:lnTo>
                    <a:lnTo>
                      <a:pt x="422" y="2357"/>
                    </a:lnTo>
                    <a:lnTo>
                      <a:pt x="439" y="2289"/>
                    </a:lnTo>
                    <a:lnTo>
                      <a:pt x="456" y="2213"/>
                    </a:lnTo>
                    <a:lnTo>
                      <a:pt x="471" y="2145"/>
                    </a:lnTo>
                    <a:lnTo>
                      <a:pt x="488" y="2079"/>
                    </a:lnTo>
                    <a:lnTo>
                      <a:pt x="504" y="2010"/>
                    </a:lnTo>
                    <a:lnTo>
                      <a:pt x="521" y="1944"/>
                    </a:lnTo>
                    <a:lnTo>
                      <a:pt x="536" y="1875"/>
                    </a:lnTo>
                    <a:lnTo>
                      <a:pt x="553" y="1807"/>
                    </a:lnTo>
                    <a:lnTo>
                      <a:pt x="569" y="1749"/>
                    </a:lnTo>
                    <a:lnTo>
                      <a:pt x="586" y="1681"/>
                    </a:lnTo>
                    <a:lnTo>
                      <a:pt x="601" y="1622"/>
                    </a:lnTo>
                    <a:lnTo>
                      <a:pt x="618" y="1562"/>
                    </a:lnTo>
                    <a:lnTo>
                      <a:pt x="634" y="1504"/>
                    </a:lnTo>
                    <a:lnTo>
                      <a:pt x="651" y="1445"/>
                    </a:lnTo>
                    <a:lnTo>
                      <a:pt x="666" y="1385"/>
                    </a:lnTo>
                    <a:lnTo>
                      <a:pt x="683" y="1334"/>
                    </a:lnTo>
                    <a:lnTo>
                      <a:pt x="699" y="1275"/>
                    </a:lnTo>
                    <a:lnTo>
                      <a:pt x="716" y="1226"/>
                    </a:lnTo>
                    <a:lnTo>
                      <a:pt x="731" y="1175"/>
                    </a:lnTo>
                    <a:lnTo>
                      <a:pt x="748" y="1124"/>
                    </a:lnTo>
                    <a:lnTo>
                      <a:pt x="764" y="1073"/>
                    </a:lnTo>
                    <a:lnTo>
                      <a:pt x="780" y="1023"/>
                    </a:lnTo>
                    <a:lnTo>
                      <a:pt x="796" y="981"/>
                    </a:lnTo>
                    <a:lnTo>
                      <a:pt x="813" y="930"/>
                    </a:lnTo>
                    <a:lnTo>
                      <a:pt x="828" y="888"/>
                    </a:lnTo>
                    <a:lnTo>
                      <a:pt x="845" y="844"/>
                    </a:lnTo>
                    <a:lnTo>
                      <a:pt x="862" y="802"/>
                    </a:lnTo>
                    <a:lnTo>
                      <a:pt x="878" y="760"/>
                    </a:lnTo>
                    <a:lnTo>
                      <a:pt x="895" y="727"/>
                    </a:lnTo>
                    <a:lnTo>
                      <a:pt x="910" y="685"/>
                    </a:lnTo>
                    <a:lnTo>
                      <a:pt x="927" y="651"/>
                    </a:lnTo>
                    <a:lnTo>
                      <a:pt x="943" y="608"/>
                    </a:lnTo>
                    <a:lnTo>
                      <a:pt x="960" y="574"/>
                    </a:lnTo>
                    <a:lnTo>
                      <a:pt x="975" y="541"/>
                    </a:lnTo>
                    <a:lnTo>
                      <a:pt x="992" y="508"/>
                    </a:lnTo>
                    <a:lnTo>
                      <a:pt x="1008" y="482"/>
                    </a:lnTo>
                    <a:lnTo>
                      <a:pt x="1025" y="448"/>
                    </a:lnTo>
                    <a:lnTo>
                      <a:pt x="1040" y="422"/>
                    </a:lnTo>
                    <a:lnTo>
                      <a:pt x="1057" y="389"/>
                    </a:lnTo>
                    <a:lnTo>
                      <a:pt x="1073" y="364"/>
                    </a:lnTo>
                    <a:lnTo>
                      <a:pt x="1090" y="338"/>
                    </a:lnTo>
                    <a:lnTo>
                      <a:pt x="1105" y="313"/>
                    </a:lnTo>
                    <a:lnTo>
                      <a:pt x="1122" y="287"/>
                    </a:lnTo>
                    <a:lnTo>
                      <a:pt x="1138" y="271"/>
                    </a:lnTo>
                    <a:lnTo>
                      <a:pt x="1154" y="245"/>
                    </a:lnTo>
                    <a:lnTo>
                      <a:pt x="1170" y="228"/>
                    </a:lnTo>
                    <a:lnTo>
                      <a:pt x="1187" y="203"/>
                    </a:lnTo>
                    <a:lnTo>
                      <a:pt x="1202" y="186"/>
                    </a:lnTo>
                    <a:lnTo>
                      <a:pt x="1219" y="170"/>
                    </a:lnTo>
                    <a:lnTo>
                      <a:pt x="1235" y="152"/>
                    </a:lnTo>
                    <a:lnTo>
                      <a:pt x="1252" y="135"/>
                    </a:lnTo>
                    <a:lnTo>
                      <a:pt x="1267" y="128"/>
                    </a:lnTo>
                    <a:lnTo>
                      <a:pt x="1284" y="110"/>
                    </a:lnTo>
                    <a:lnTo>
                      <a:pt x="1301" y="93"/>
                    </a:lnTo>
                    <a:lnTo>
                      <a:pt x="1317" y="84"/>
                    </a:lnTo>
                    <a:lnTo>
                      <a:pt x="1334" y="77"/>
                    </a:lnTo>
                    <a:lnTo>
                      <a:pt x="1349" y="60"/>
                    </a:lnTo>
                    <a:lnTo>
                      <a:pt x="1366" y="51"/>
                    </a:lnTo>
                    <a:lnTo>
                      <a:pt x="1382" y="42"/>
                    </a:lnTo>
                    <a:lnTo>
                      <a:pt x="1399" y="33"/>
                    </a:lnTo>
                    <a:lnTo>
                      <a:pt x="1414" y="33"/>
                    </a:lnTo>
                    <a:lnTo>
                      <a:pt x="1431" y="26"/>
                    </a:lnTo>
                    <a:lnTo>
                      <a:pt x="1447" y="17"/>
                    </a:lnTo>
                    <a:lnTo>
                      <a:pt x="1464" y="17"/>
                    </a:lnTo>
                    <a:lnTo>
                      <a:pt x="1479" y="9"/>
                    </a:lnTo>
                    <a:lnTo>
                      <a:pt x="1496" y="9"/>
                    </a:lnTo>
                    <a:lnTo>
                      <a:pt x="1512" y="9"/>
                    </a:lnTo>
                    <a:lnTo>
                      <a:pt x="1528" y="0"/>
                    </a:lnTo>
                    <a:lnTo>
                      <a:pt x="1544" y="0"/>
                    </a:lnTo>
                    <a:lnTo>
                      <a:pt x="1561" y="0"/>
                    </a:lnTo>
                    <a:lnTo>
                      <a:pt x="1576" y="0"/>
                    </a:lnTo>
                    <a:lnTo>
                      <a:pt x="1593" y="0"/>
                    </a:lnTo>
                    <a:lnTo>
                      <a:pt x="1609" y="9"/>
                    </a:lnTo>
                    <a:lnTo>
                      <a:pt x="1626" y="9"/>
                    </a:lnTo>
                    <a:lnTo>
                      <a:pt x="1641" y="9"/>
                    </a:lnTo>
                    <a:lnTo>
                      <a:pt x="1658" y="17"/>
                    </a:lnTo>
                    <a:lnTo>
                      <a:pt x="1674" y="17"/>
                    </a:lnTo>
                    <a:lnTo>
                      <a:pt x="1691" y="26"/>
                    </a:lnTo>
                    <a:lnTo>
                      <a:pt x="1706" y="26"/>
                    </a:lnTo>
                    <a:lnTo>
                      <a:pt x="1723" y="33"/>
                    </a:lnTo>
                    <a:lnTo>
                      <a:pt x="1740" y="42"/>
                    </a:lnTo>
                    <a:lnTo>
                      <a:pt x="1756" y="42"/>
                    </a:lnTo>
                    <a:lnTo>
                      <a:pt x="1773" y="51"/>
                    </a:lnTo>
                    <a:lnTo>
                      <a:pt x="1788" y="60"/>
                    </a:lnTo>
                    <a:lnTo>
                      <a:pt x="1805" y="68"/>
                    </a:lnTo>
                    <a:lnTo>
                      <a:pt x="1821" y="77"/>
                    </a:lnTo>
                    <a:lnTo>
                      <a:pt x="1838" y="84"/>
                    </a:lnTo>
                    <a:lnTo>
                      <a:pt x="1853" y="93"/>
                    </a:lnTo>
                    <a:lnTo>
                      <a:pt x="1870" y="110"/>
                    </a:lnTo>
                    <a:lnTo>
                      <a:pt x="1886" y="119"/>
                    </a:lnTo>
                    <a:lnTo>
                      <a:pt x="1902" y="128"/>
                    </a:lnTo>
                    <a:lnTo>
                      <a:pt x="1918" y="135"/>
                    </a:lnTo>
                    <a:lnTo>
                      <a:pt x="1935" y="152"/>
                    </a:lnTo>
                    <a:lnTo>
                      <a:pt x="1950" y="161"/>
                    </a:lnTo>
                    <a:lnTo>
                      <a:pt x="1967" y="177"/>
                    </a:lnTo>
                    <a:lnTo>
                      <a:pt x="1983" y="186"/>
                    </a:lnTo>
                    <a:lnTo>
                      <a:pt x="2000" y="203"/>
                    </a:lnTo>
                    <a:lnTo>
                      <a:pt x="2015" y="212"/>
                    </a:lnTo>
                    <a:lnTo>
                      <a:pt x="2032" y="228"/>
                    </a:lnTo>
                    <a:lnTo>
                      <a:pt x="2048" y="245"/>
                    </a:lnTo>
                    <a:lnTo>
                      <a:pt x="2065" y="254"/>
                    </a:lnTo>
                    <a:lnTo>
                      <a:pt x="2080" y="271"/>
                    </a:lnTo>
                    <a:lnTo>
                      <a:pt x="2097" y="287"/>
                    </a:lnTo>
                    <a:lnTo>
                      <a:pt x="2113" y="305"/>
                    </a:lnTo>
                    <a:lnTo>
                      <a:pt x="2130" y="313"/>
                    </a:lnTo>
                    <a:lnTo>
                      <a:pt x="2147" y="329"/>
                    </a:lnTo>
                    <a:lnTo>
                      <a:pt x="2162" y="347"/>
                    </a:lnTo>
                    <a:lnTo>
                      <a:pt x="2179" y="364"/>
                    </a:lnTo>
                    <a:lnTo>
                      <a:pt x="2195" y="380"/>
                    </a:lnTo>
                    <a:lnTo>
                      <a:pt x="2212" y="397"/>
                    </a:lnTo>
                    <a:lnTo>
                      <a:pt x="2227" y="413"/>
                    </a:lnTo>
                    <a:lnTo>
                      <a:pt x="2244" y="431"/>
                    </a:lnTo>
                    <a:lnTo>
                      <a:pt x="2260" y="448"/>
                    </a:lnTo>
                    <a:lnTo>
                      <a:pt x="2276" y="464"/>
                    </a:lnTo>
                    <a:lnTo>
                      <a:pt x="2292" y="482"/>
                    </a:lnTo>
                    <a:lnTo>
                      <a:pt x="2309" y="508"/>
                    </a:lnTo>
                    <a:lnTo>
                      <a:pt x="2324" y="524"/>
                    </a:lnTo>
                    <a:lnTo>
                      <a:pt x="2341" y="541"/>
                    </a:lnTo>
                    <a:lnTo>
                      <a:pt x="2357" y="557"/>
                    </a:lnTo>
                    <a:lnTo>
                      <a:pt x="2374" y="574"/>
                    </a:lnTo>
                    <a:lnTo>
                      <a:pt x="2389" y="601"/>
                    </a:lnTo>
                    <a:lnTo>
                      <a:pt x="2406" y="616"/>
                    </a:lnTo>
                    <a:lnTo>
                      <a:pt x="2422" y="634"/>
                    </a:lnTo>
                    <a:lnTo>
                      <a:pt x="2439" y="651"/>
                    </a:lnTo>
                    <a:lnTo>
                      <a:pt x="2454" y="676"/>
                    </a:lnTo>
                    <a:lnTo>
                      <a:pt x="2471" y="693"/>
                    </a:lnTo>
                    <a:lnTo>
                      <a:pt x="2487" y="709"/>
                    </a:lnTo>
                    <a:lnTo>
                      <a:pt x="2504" y="727"/>
                    </a:lnTo>
                    <a:lnTo>
                      <a:pt x="2519" y="751"/>
                    </a:lnTo>
                    <a:lnTo>
                      <a:pt x="2536" y="769"/>
                    </a:lnTo>
                    <a:lnTo>
                      <a:pt x="2552" y="795"/>
                    </a:lnTo>
                    <a:lnTo>
                      <a:pt x="2569" y="811"/>
                    </a:lnTo>
                    <a:lnTo>
                      <a:pt x="2586" y="828"/>
                    </a:lnTo>
                    <a:lnTo>
                      <a:pt x="2601" y="853"/>
                    </a:lnTo>
                    <a:lnTo>
                      <a:pt x="2618" y="870"/>
                    </a:lnTo>
                    <a:lnTo>
                      <a:pt x="2634" y="888"/>
                    </a:lnTo>
                    <a:lnTo>
                      <a:pt x="2650" y="912"/>
                    </a:lnTo>
                    <a:lnTo>
                      <a:pt x="2666" y="930"/>
                    </a:lnTo>
                    <a:lnTo>
                      <a:pt x="2683" y="954"/>
                    </a:lnTo>
                    <a:lnTo>
                      <a:pt x="2698" y="972"/>
                    </a:lnTo>
                    <a:lnTo>
                      <a:pt x="2715" y="988"/>
                    </a:lnTo>
                    <a:lnTo>
                      <a:pt x="2731" y="1014"/>
                    </a:lnTo>
                    <a:lnTo>
                      <a:pt x="2748" y="1031"/>
                    </a:lnTo>
                    <a:lnTo>
                      <a:pt x="2763" y="1056"/>
                    </a:lnTo>
                    <a:lnTo>
                      <a:pt x="2780" y="1073"/>
                    </a:lnTo>
                    <a:lnTo>
                      <a:pt x="2796" y="1098"/>
                    </a:lnTo>
                    <a:lnTo>
                      <a:pt x="2813" y="1115"/>
                    </a:lnTo>
                    <a:lnTo>
                      <a:pt x="2828" y="1131"/>
                    </a:lnTo>
                    <a:lnTo>
                      <a:pt x="2845" y="1157"/>
                    </a:lnTo>
                    <a:lnTo>
                      <a:pt x="2861" y="1175"/>
                    </a:lnTo>
                    <a:lnTo>
                      <a:pt x="2878" y="1200"/>
                    </a:lnTo>
                    <a:lnTo>
                      <a:pt x="2893" y="1217"/>
                    </a:lnTo>
                    <a:lnTo>
                      <a:pt x="2910" y="1242"/>
                    </a:lnTo>
                    <a:lnTo>
                      <a:pt x="2926" y="1259"/>
                    </a:lnTo>
                    <a:lnTo>
                      <a:pt x="2943" y="1275"/>
                    </a:lnTo>
                    <a:lnTo>
                      <a:pt x="2958" y="1301"/>
                    </a:lnTo>
                    <a:lnTo>
                      <a:pt x="2975" y="1318"/>
                    </a:lnTo>
                    <a:lnTo>
                      <a:pt x="2992" y="1343"/>
                    </a:lnTo>
                    <a:lnTo>
                      <a:pt x="3008" y="1361"/>
                    </a:lnTo>
                    <a:lnTo>
                      <a:pt x="3024" y="1385"/>
                    </a:lnTo>
                    <a:lnTo>
                      <a:pt x="3040" y="1403"/>
                    </a:lnTo>
                    <a:lnTo>
                      <a:pt x="3057" y="1419"/>
                    </a:lnTo>
                    <a:lnTo>
                      <a:pt x="3072" y="1445"/>
                    </a:lnTo>
                    <a:lnTo>
                      <a:pt x="3089" y="1462"/>
                    </a:lnTo>
                    <a:lnTo>
                      <a:pt x="3105" y="1487"/>
                    </a:lnTo>
                    <a:lnTo>
                      <a:pt x="3122" y="1504"/>
                    </a:lnTo>
                    <a:lnTo>
                      <a:pt x="3137" y="1520"/>
                    </a:lnTo>
                    <a:lnTo>
                      <a:pt x="3154" y="1546"/>
                    </a:lnTo>
                    <a:lnTo>
                      <a:pt x="3170" y="1562"/>
                    </a:lnTo>
                    <a:lnTo>
                      <a:pt x="3187" y="1580"/>
                    </a:lnTo>
                    <a:lnTo>
                      <a:pt x="3202" y="1606"/>
                    </a:lnTo>
                    <a:lnTo>
                      <a:pt x="3219" y="1622"/>
                    </a:lnTo>
                    <a:lnTo>
                      <a:pt x="3235" y="1639"/>
                    </a:lnTo>
                    <a:lnTo>
                      <a:pt x="3252" y="1664"/>
                    </a:lnTo>
                    <a:lnTo>
                      <a:pt x="3267" y="1681"/>
                    </a:lnTo>
                    <a:lnTo>
                      <a:pt x="3284" y="1699"/>
                    </a:lnTo>
                    <a:lnTo>
                      <a:pt x="3300" y="1723"/>
                    </a:lnTo>
                    <a:lnTo>
                      <a:pt x="3317" y="1741"/>
                    </a:lnTo>
                    <a:lnTo>
                      <a:pt x="3332" y="1757"/>
                    </a:lnTo>
                    <a:lnTo>
                      <a:pt x="3349" y="1774"/>
                    </a:lnTo>
                    <a:lnTo>
                      <a:pt x="3365" y="1800"/>
                    </a:lnTo>
                    <a:lnTo>
                      <a:pt x="3382" y="1816"/>
                    </a:lnTo>
                    <a:lnTo>
                      <a:pt x="3397" y="1833"/>
                    </a:lnTo>
                    <a:lnTo>
                      <a:pt x="3414" y="1849"/>
                    </a:lnTo>
                    <a:lnTo>
                      <a:pt x="3431" y="1875"/>
                    </a:lnTo>
                    <a:lnTo>
                      <a:pt x="3446" y="1893"/>
                    </a:lnTo>
                    <a:lnTo>
                      <a:pt x="3463" y="1909"/>
                    </a:lnTo>
                    <a:lnTo>
                      <a:pt x="3479" y="1926"/>
                    </a:lnTo>
                    <a:lnTo>
                      <a:pt x="3496" y="1944"/>
                    </a:lnTo>
                    <a:lnTo>
                      <a:pt x="3511" y="1968"/>
                    </a:lnTo>
                    <a:lnTo>
                      <a:pt x="3528" y="1986"/>
                    </a:lnTo>
                    <a:lnTo>
                      <a:pt x="3544" y="2002"/>
                    </a:lnTo>
                    <a:lnTo>
                      <a:pt x="3561" y="2019"/>
                    </a:lnTo>
                    <a:lnTo>
                      <a:pt x="3576" y="2036"/>
                    </a:lnTo>
                    <a:lnTo>
                      <a:pt x="3593" y="2052"/>
                    </a:lnTo>
                    <a:lnTo>
                      <a:pt x="3609" y="2070"/>
                    </a:lnTo>
                    <a:lnTo>
                      <a:pt x="3626" y="2094"/>
                    </a:lnTo>
                    <a:lnTo>
                      <a:pt x="3641" y="2112"/>
                    </a:lnTo>
                    <a:lnTo>
                      <a:pt x="3658" y="2129"/>
                    </a:lnTo>
                    <a:lnTo>
                      <a:pt x="3674" y="2145"/>
                    </a:lnTo>
                    <a:lnTo>
                      <a:pt x="3691" y="2163"/>
                    </a:lnTo>
                    <a:lnTo>
                      <a:pt x="3706" y="2180"/>
                    </a:lnTo>
                    <a:lnTo>
                      <a:pt x="3723" y="2196"/>
                    </a:lnTo>
                    <a:lnTo>
                      <a:pt x="3739" y="2213"/>
                    </a:lnTo>
                    <a:lnTo>
                      <a:pt x="3756" y="2231"/>
                    </a:lnTo>
                    <a:lnTo>
                      <a:pt x="3771" y="2247"/>
                    </a:lnTo>
                    <a:lnTo>
                      <a:pt x="3788" y="2264"/>
                    </a:lnTo>
                    <a:lnTo>
                      <a:pt x="3804" y="2280"/>
                    </a:lnTo>
                    <a:lnTo>
                      <a:pt x="3820" y="2298"/>
                    </a:lnTo>
                    <a:lnTo>
                      <a:pt x="3836" y="2315"/>
                    </a:lnTo>
                    <a:lnTo>
                      <a:pt x="3853" y="2331"/>
                    </a:lnTo>
                    <a:lnTo>
                      <a:pt x="3870" y="2340"/>
                    </a:lnTo>
                    <a:lnTo>
                      <a:pt x="3885" y="2357"/>
                    </a:lnTo>
                    <a:lnTo>
                      <a:pt x="3902" y="2374"/>
                    </a:lnTo>
                    <a:lnTo>
                      <a:pt x="3918" y="2390"/>
                    </a:lnTo>
                    <a:lnTo>
                      <a:pt x="3935" y="2408"/>
                    </a:lnTo>
                    <a:lnTo>
                      <a:pt x="3950" y="2424"/>
                    </a:lnTo>
                    <a:lnTo>
                      <a:pt x="3967" y="2441"/>
                    </a:lnTo>
                    <a:lnTo>
                      <a:pt x="3983" y="2459"/>
                    </a:lnTo>
                    <a:lnTo>
                      <a:pt x="4000" y="2467"/>
                    </a:lnTo>
                    <a:lnTo>
                      <a:pt x="4015" y="2483"/>
                    </a:lnTo>
                    <a:lnTo>
                      <a:pt x="4032" y="2501"/>
                    </a:lnTo>
                    <a:lnTo>
                      <a:pt x="4048" y="2518"/>
                    </a:lnTo>
                    <a:lnTo>
                      <a:pt x="4065" y="2525"/>
                    </a:lnTo>
                    <a:lnTo>
                      <a:pt x="4080" y="2543"/>
                    </a:lnTo>
                    <a:lnTo>
                      <a:pt x="4097" y="2560"/>
                    </a:lnTo>
                    <a:lnTo>
                      <a:pt x="4113" y="2576"/>
                    </a:lnTo>
                    <a:lnTo>
                      <a:pt x="4130" y="2585"/>
                    </a:lnTo>
                    <a:lnTo>
                      <a:pt x="4145" y="2602"/>
                    </a:lnTo>
                    <a:lnTo>
                      <a:pt x="4162" y="2618"/>
                    </a:lnTo>
                    <a:lnTo>
                      <a:pt x="4178" y="2627"/>
                    </a:lnTo>
                    <a:lnTo>
                      <a:pt x="4194" y="2644"/>
                    </a:lnTo>
                    <a:lnTo>
                      <a:pt x="4210" y="2662"/>
                    </a:lnTo>
                    <a:lnTo>
                      <a:pt x="4227" y="2669"/>
                    </a:lnTo>
                    <a:lnTo>
                      <a:pt x="4242" y="2686"/>
                    </a:lnTo>
                    <a:lnTo>
                      <a:pt x="4259" y="2704"/>
                    </a:lnTo>
                    <a:lnTo>
                      <a:pt x="4276" y="2711"/>
                    </a:lnTo>
                    <a:lnTo>
                      <a:pt x="4292" y="2728"/>
                    </a:lnTo>
                    <a:lnTo>
                      <a:pt x="4309" y="2737"/>
                    </a:lnTo>
                    <a:lnTo>
                      <a:pt x="4324" y="2754"/>
                    </a:lnTo>
                    <a:lnTo>
                      <a:pt x="4341" y="2770"/>
                    </a:lnTo>
                    <a:lnTo>
                      <a:pt x="4357" y="2779"/>
                    </a:lnTo>
                    <a:lnTo>
                      <a:pt x="4374" y="2796"/>
                    </a:lnTo>
                    <a:lnTo>
                      <a:pt x="4389" y="2804"/>
                    </a:lnTo>
                    <a:lnTo>
                      <a:pt x="4406" y="2821"/>
                    </a:lnTo>
                    <a:lnTo>
                      <a:pt x="4422" y="2830"/>
                    </a:lnTo>
                    <a:lnTo>
                      <a:pt x="4439" y="2847"/>
                    </a:lnTo>
                    <a:lnTo>
                      <a:pt x="4454" y="2854"/>
                    </a:lnTo>
                    <a:lnTo>
                      <a:pt x="4471" y="2872"/>
                    </a:lnTo>
                    <a:lnTo>
                      <a:pt x="4487" y="2881"/>
                    </a:lnTo>
                    <a:lnTo>
                      <a:pt x="4504" y="2889"/>
                    </a:lnTo>
                    <a:lnTo>
                      <a:pt x="4519" y="2905"/>
                    </a:lnTo>
                    <a:lnTo>
                      <a:pt x="4536" y="2914"/>
                    </a:lnTo>
                    <a:lnTo>
                      <a:pt x="4552" y="2931"/>
                    </a:lnTo>
                    <a:lnTo>
                      <a:pt x="4568" y="2940"/>
                    </a:lnTo>
                    <a:lnTo>
                      <a:pt x="4584" y="2947"/>
                    </a:lnTo>
                    <a:lnTo>
                      <a:pt x="4601" y="2965"/>
                    </a:lnTo>
                    <a:lnTo>
                      <a:pt x="4616" y="2973"/>
                    </a:lnTo>
                    <a:lnTo>
                      <a:pt x="4633" y="2982"/>
                    </a:lnTo>
                    <a:lnTo>
                      <a:pt x="4649" y="2998"/>
                    </a:lnTo>
                    <a:lnTo>
                      <a:pt x="4666" y="3007"/>
                    </a:lnTo>
                    <a:lnTo>
                      <a:pt x="4681" y="3015"/>
                    </a:lnTo>
                    <a:lnTo>
                      <a:pt x="4698" y="3033"/>
                    </a:lnTo>
                    <a:lnTo>
                      <a:pt x="4715" y="3042"/>
                    </a:lnTo>
                    <a:lnTo>
                      <a:pt x="4731" y="3049"/>
                    </a:lnTo>
                    <a:lnTo>
                      <a:pt x="4748" y="3058"/>
                    </a:lnTo>
                    <a:lnTo>
                      <a:pt x="4763" y="3075"/>
                    </a:lnTo>
                    <a:lnTo>
                      <a:pt x="4780" y="3084"/>
                    </a:lnTo>
                    <a:lnTo>
                      <a:pt x="4796" y="3091"/>
                    </a:lnTo>
                    <a:lnTo>
                      <a:pt x="4813" y="3100"/>
                    </a:lnTo>
                    <a:lnTo>
                      <a:pt x="4828" y="3117"/>
                    </a:lnTo>
                    <a:lnTo>
                      <a:pt x="4845" y="3126"/>
                    </a:lnTo>
                    <a:lnTo>
                      <a:pt x="4861" y="3134"/>
                    </a:lnTo>
                    <a:lnTo>
                      <a:pt x="4861" y="4071"/>
                    </a:lnTo>
                    <a:lnTo>
                      <a:pt x="4845" y="4071"/>
                    </a:lnTo>
                    <a:lnTo>
                      <a:pt x="4828" y="4071"/>
                    </a:lnTo>
                    <a:lnTo>
                      <a:pt x="4813" y="4071"/>
                    </a:lnTo>
                    <a:lnTo>
                      <a:pt x="4796" y="4071"/>
                    </a:lnTo>
                    <a:lnTo>
                      <a:pt x="4780" y="4071"/>
                    </a:lnTo>
                    <a:lnTo>
                      <a:pt x="4763" y="4071"/>
                    </a:lnTo>
                    <a:lnTo>
                      <a:pt x="4748" y="4071"/>
                    </a:lnTo>
                    <a:lnTo>
                      <a:pt x="4731" y="4071"/>
                    </a:lnTo>
                    <a:lnTo>
                      <a:pt x="4715" y="4071"/>
                    </a:lnTo>
                    <a:lnTo>
                      <a:pt x="4698" y="4071"/>
                    </a:lnTo>
                    <a:lnTo>
                      <a:pt x="4681" y="4071"/>
                    </a:lnTo>
                    <a:lnTo>
                      <a:pt x="4666" y="4071"/>
                    </a:lnTo>
                    <a:lnTo>
                      <a:pt x="4649" y="4071"/>
                    </a:lnTo>
                    <a:lnTo>
                      <a:pt x="4633" y="4071"/>
                    </a:lnTo>
                    <a:lnTo>
                      <a:pt x="4616" y="4071"/>
                    </a:lnTo>
                    <a:lnTo>
                      <a:pt x="4601" y="4071"/>
                    </a:lnTo>
                    <a:lnTo>
                      <a:pt x="4584" y="4071"/>
                    </a:lnTo>
                    <a:lnTo>
                      <a:pt x="4568" y="4071"/>
                    </a:lnTo>
                    <a:lnTo>
                      <a:pt x="4552" y="4071"/>
                    </a:lnTo>
                    <a:lnTo>
                      <a:pt x="4536" y="4071"/>
                    </a:lnTo>
                    <a:lnTo>
                      <a:pt x="4519" y="4071"/>
                    </a:lnTo>
                    <a:lnTo>
                      <a:pt x="4504" y="4071"/>
                    </a:lnTo>
                    <a:lnTo>
                      <a:pt x="4487" y="4071"/>
                    </a:lnTo>
                    <a:lnTo>
                      <a:pt x="4471" y="4071"/>
                    </a:lnTo>
                    <a:lnTo>
                      <a:pt x="4454" y="4071"/>
                    </a:lnTo>
                    <a:lnTo>
                      <a:pt x="4439" y="4071"/>
                    </a:lnTo>
                    <a:lnTo>
                      <a:pt x="4422" y="4071"/>
                    </a:lnTo>
                    <a:lnTo>
                      <a:pt x="4406" y="4071"/>
                    </a:lnTo>
                    <a:lnTo>
                      <a:pt x="4389" y="4071"/>
                    </a:lnTo>
                    <a:lnTo>
                      <a:pt x="4374" y="4071"/>
                    </a:lnTo>
                    <a:lnTo>
                      <a:pt x="4357" y="4071"/>
                    </a:lnTo>
                    <a:lnTo>
                      <a:pt x="4341" y="4071"/>
                    </a:lnTo>
                    <a:lnTo>
                      <a:pt x="4324" y="4071"/>
                    </a:lnTo>
                    <a:lnTo>
                      <a:pt x="4309" y="4071"/>
                    </a:lnTo>
                    <a:lnTo>
                      <a:pt x="4292" y="4071"/>
                    </a:lnTo>
                    <a:lnTo>
                      <a:pt x="4276" y="4071"/>
                    </a:lnTo>
                    <a:lnTo>
                      <a:pt x="4259" y="4071"/>
                    </a:lnTo>
                    <a:lnTo>
                      <a:pt x="4242" y="4071"/>
                    </a:lnTo>
                    <a:lnTo>
                      <a:pt x="4227" y="4071"/>
                    </a:lnTo>
                    <a:lnTo>
                      <a:pt x="4210" y="4071"/>
                    </a:lnTo>
                    <a:lnTo>
                      <a:pt x="4194" y="4071"/>
                    </a:lnTo>
                    <a:lnTo>
                      <a:pt x="4178" y="4071"/>
                    </a:lnTo>
                    <a:lnTo>
                      <a:pt x="4162" y="4071"/>
                    </a:lnTo>
                    <a:lnTo>
                      <a:pt x="4145" y="4071"/>
                    </a:lnTo>
                    <a:lnTo>
                      <a:pt x="4130" y="4071"/>
                    </a:lnTo>
                    <a:lnTo>
                      <a:pt x="4113" y="4071"/>
                    </a:lnTo>
                    <a:lnTo>
                      <a:pt x="4097" y="4071"/>
                    </a:lnTo>
                    <a:lnTo>
                      <a:pt x="4080" y="4071"/>
                    </a:lnTo>
                    <a:lnTo>
                      <a:pt x="4065" y="4071"/>
                    </a:lnTo>
                    <a:lnTo>
                      <a:pt x="4048" y="4071"/>
                    </a:lnTo>
                    <a:lnTo>
                      <a:pt x="4032" y="4071"/>
                    </a:lnTo>
                    <a:lnTo>
                      <a:pt x="4015" y="4071"/>
                    </a:lnTo>
                    <a:lnTo>
                      <a:pt x="4000" y="4071"/>
                    </a:lnTo>
                    <a:lnTo>
                      <a:pt x="3983" y="4071"/>
                    </a:lnTo>
                    <a:lnTo>
                      <a:pt x="3967" y="4071"/>
                    </a:lnTo>
                    <a:lnTo>
                      <a:pt x="3950" y="4071"/>
                    </a:lnTo>
                    <a:lnTo>
                      <a:pt x="3935" y="4071"/>
                    </a:lnTo>
                    <a:lnTo>
                      <a:pt x="3918" y="4071"/>
                    </a:lnTo>
                    <a:lnTo>
                      <a:pt x="3902" y="4071"/>
                    </a:lnTo>
                    <a:lnTo>
                      <a:pt x="3885" y="4071"/>
                    </a:lnTo>
                    <a:lnTo>
                      <a:pt x="3870" y="4071"/>
                    </a:lnTo>
                    <a:lnTo>
                      <a:pt x="3853" y="4071"/>
                    </a:lnTo>
                    <a:lnTo>
                      <a:pt x="3836" y="4071"/>
                    </a:lnTo>
                    <a:lnTo>
                      <a:pt x="3820" y="4071"/>
                    </a:lnTo>
                    <a:lnTo>
                      <a:pt x="3804" y="4071"/>
                    </a:lnTo>
                    <a:lnTo>
                      <a:pt x="3788" y="4071"/>
                    </a:lnTo>
                    <a:lnTo>
                      <a:pt x="3771" y="4071"/>
                    </a:lnTo>
                    <a:lnTo>
                      <a:pt x="3756" y="4071"/>
                    </a:lnTo>
                    <a:lnTo>
                      <a:pt x="3739" y="4071"/>
                    </a:lnTo>
                    <a:lnTo>
                      <a:pt x="3723" y="4071"/>
                    </a:lnTo>
                    <a:lnTo>
                      <a:pt x="3706" y="4071"/>
                    </a:lnTo>
                    <a:lnTo>
                      <a:pt x="3691" y="4071"/>
                    </a:lnTo>
                    <a:lnTo>
                      <a:pt x="3674" y="4071"/>
                    </a:lnTo>
                    <a:lnTo>
                      <a:pt x="3658" y="4071"/>
                    </a:lnTo>
                    <a:lnTo>
                      <a:pt x="3641" y="4071"/>
                    </a:lnTo>
                    <a:lnTo>
                      <a:pt x="3626" y="4071"/>
                    </a:lnTo>
                    <a:lnTo>
                      <a:pt x="3609" y="4071"/>
                    </a:lnTo>
                    <a:lnTo>
                      <a:pt x="3593" y="4071"/>
                    </a:lnTo>
                    <a:lnTo>
                      <a:pt x="3576" y="4071"/>
                    </a:lnTo>
                    <a:lnTo>
                      <a:pt x="3561" y="4071"/>
                    </a:lnTo>
                    <a:lnTo>
                      <a:pt x="3544" y="4071"/>
                    </a:lnTo>
                    <a:lnTo>
                      <a:pt x="3528" y="4071"/>
                    </a:lnTo>
                    <a:lnTo>
                      <a:pt x="3511" y="4071"/>
                    </a:lnTo>
                    <a:lnTo>
                      <a:pt x="3496" y="4071"/>
                    </a:lnTo>
                    <a:lnTo>
                      <a:pt x="3479" y="4071"/>
                    </a:lnTo>
                    <a:lnTo>
                      <a:pt x="3463" y="4071"/>
                    </a:lnTo>
                    <a:lnTo>
                      <a:pt x="3446" y="4071"/>
                    </a:lnTo>
                    <a:lnTo>
                      <a:pt x="3431" y="4071"/>
                    </a:lnTo>
                    <a:lnTo>
                      <a:pt x="3414" y="4071"/>
                    </a:lnTo>
                    <a:lnTo>
                      <a:pt x="3397" y="4071"/>
                    </a:lnTo>
                    <a:lnTo>
                      <a:pt x="3382" y="4071"/>
                    </a:lnTo>
                    <a:lnTo>
                      <a:pt x="3365" y="4071"/>
                    </a:lnTo>
                    <a:lnTo>
                      <a:pt x="3349" y="4071"/>
                    </a:lnTo>
                    <a:lnTo>
                      <a:pt x="3332" y="4071"/>
                    </a:lnTo>
                    <a:lnTo>
                      <a:pt x="3317" y="4071"/>
                    </a:lnTo>
                    <a:lnTo>
                      <a:pt x="3300" y="4071"/>
                    </a:lnTo>
                    <a:lnTo>
                      <a:pt x="3284" y="4071"/>
                    </a:lnTo>
                    <a:lnTo>
                      <a:pt x="3267" y="4071"/>
                    </a:lnTo>
                    <a:lnTo>
                      <a:pt x="3252" y="4071"/>
                    </a:lnTo>
                    <a:lnTo>
                      <a:pt x="3235" y="4071"/>
                    </a:lnTo>
                    <a:lnTo>
                      <a:pt x="3219" y="4071"/>
                    </a:lnTo>
                    <a:lnTo>
                      <a:pt x="3202" y="4071"/>
                    </a:lnTo>
                    <a:lnTo>
                      <a:pt x="3187" y="4071"/>
                    </a:lnTo>
                    <a:lnTo>
                      <a:pt x="3170" y="4071"/>
                    </a:lnTo>
                    <a:lnTo>
                      <a:pt x="3154" y="4071"/>
                    </a:lnTo>
                    <a:lnTo>
                      <a:pt x="3137" y="4071"/>
                    </a:lnTo>
                    <a:lnTo>
                      <a:pt x="3122" y="4071"/>
                    </a:lnTo>
                    <a:lnTo>
                      <a:pt x="3105" y="4071"/>
                    </a:lnTo>
                    <a:lnTo>
                      <a:pt x="3089" y="4071"/>
                    </a:lnTo>
                    <a:lnTo>
                      <a:pt x="3072" y="4071"/>
                    </a:lnTo>
                    <a:lnTo>
                      <a:pt x="3057" y="4071"/>
                    </a:lnTo>
                    <a:lnTo>
                      <a:pt x="3040" y="4071"/>
                    </a:lnTo>
                    <a:lnTo>
                      <a:pt x="3024" y="4071"/>
                    </a:lnTo>
                    <a:lnTo>
                      <a:pt x="3008" y="4071"/>
                    </a:lnTo>
                    <a:lnTo>
                      <a:pt x="2992" y="4071"/>
                    </a:lnTo>
                    <a:lnTo>
                      <a:pt x="2975" y="4071"/>
                    </a:lnTo>
                    <a:lnTo>
                      <a:pt x="2958" y="4071"/>
                    </a:lnTo>
                    <a:lnTo>
                      <a:pt x="2943" y="4071"/>
                    </a:lnTo>
                    <a:lnTo>
                      <a:pt x="2926" y="4071"/>
                    </a:lnTo>
                    <a:lnTo>
                      <a:pt x="2910" y="4071"/>
                    </a:lnTo>
                    <a:lnTo>
                      <a:pt x="2893" y="4071"/>
                    </a:lnTo>
                    <a:lnTo>
                      <a:pt x="2878" y="4071"/>
                    </a:lnTo>
                    <a:lnTo>
                      <a:pt x="2861" y="4071"/>
                    </a:lnTo>
                    <a:lnTo>
                      <a:pt x="2845" y="4071"/>
                    </a:lnTo>
                    <a:lnTo>
                      <a:pt x="2828" y="4071"/>
                    </a:lnTo>
                    <a:lnTo>
                      <a:pt x="2813" y="4071"/>
                    </a:lnTo>
                    <a:lnTo>
                      <a:pt x="2796" y="4071"/>
                    </a:lnTo>
                    <a:lnTo>
                      <a:pt x="2780" y="4071"/>
                    </a:lnTo>
                    <a:lnTo>
                      <a:pt x="2763" y="4071"/>
                    </a:lnTo>
                    <a:lnTo>
                      <a:pt x="2748" y="4071"/>
                    </a:lnTo>
                    <a:lnTo>
                      <a:pt x="2731" y="4071"/>
                    </a:lnTo>
                    <a:lnTo>
                      <a:pt x="2715" y="4071"/>
                    </a:lnTo>
                    <a:lnTo>
                      <a:pt x="2698" y="4071"/>
                    </a:lnTo>
                    <a:lnTo>
                      <a:pt x="2683" y="4071"/>
                    </a:lnTo>
                    <a:lnTo>
                      <a:pt x="2666" y="4071"/>
                    </a:lnTo>
                    <a:lnTo>
                      <a:pt x="2650" y="4071"/>
                    </a:lnTo>
                    <a:lnTo>
                      <a:pt x="2634" y="4071"/>
                    </a:lnTo>
                    <a:lnTo>
                      <a:pt x="2618" y="4071"/>
                    </a:lnTo>
                    <a:lnTo>
                      <a:pt x="2601" y="4071"/>
                    </a:lnTo>
                    <a:lnTo>
                      <a:pt x="2586" y="4071"/>
                    </a:lnTo>
                    <a:lnTo>
                      <a:pt x="2569" y="4071"/>
                    </a:lnTo>
                    <a:lnTo>
                      <a:pt x="2552" y="4071"/>
                    </a:lnTo>
                    <a:lnTo>
                      <a:pt x="2536" y="4071"/>
                    </a:lnTo>
                    <a:lnTo>
                      <a:pt x="2519" y="4071"/>
                    </a:lnTo>
                    <a:lnTo>
                      <a:pt x="2504" y="4071"/>
                    </a:lnTo>
                    <a:lnTo>
                      <a:pt x="2487" y="4071"/>
                    </a:lnTo>
                    <a:lnTo>
                      <a:pt x="2471" y="4071"/>
                    </a:lnTo>
                    <a:lnTo>
                      <a:pt x="2454" y="4071"/>
                    </a:lnTo>
                    <a:lnTo>
                      <a:pt x="2439" y="4071"/>
                    </a:lnTo>
                    <a:lnTo>
                      <a:pt x="2422" y="4071"/>
                    </a:lnTo>
                    <a:lnTo>
                      <a:pt x="2406" y="4071"/>
                    </a:lnTo>
                    <a:lnTo>
                      <a:pt x="2389" y="4071"/>
                    </a:lnTo>
                    <a:lnTo>
                      <a:pt x="2374" y="4071"/>
                    </a:lnTo>
                    <a:lnTo>
                      <a:pt x="2357" y="4071"/>
                    </a:lnTo>
                    <a:lnTo>
                      <a:pt x="2341" y="4071"/>
                    </a:lnTo>
                    <a:lnTo>
                      <a:pt x="2324" y="4071"/>
                    </a:lnTo>
                    <a:lnTo>
                      <a:pt x="2309" y="4071"/>
                    </a:lnTo>
                    <a:lnTo>
                      <a:pt x="2292" y="4071"/>
                    </a:lnTo>
                    <a:lnTo>
                      <a:pt x="2276" y="4071"/>
                    </a:lnTo>
                    <a:lnTo>
                      <a:pt x="2260" y="4071"/>
                    </a:lnTo>
                    <a:lnTo>
                      <a:pt x="2244" y="4071"/>
                    </a:lnTo>
                    <a:lnTo>
                      <a:pt x="2227" y="4071"/>
                    </a:lnTo>
                    <a:lnTo>
                      <a:pt x="2212" y="4071"/>
                    </a:lnTo>
                    <a:lnTo>
                      <a:pt x="2195" y="4071"/>
                    </a:lnTo>
                    <a:lnTo>
                      <a:pt x="2179" y="4071"/>
                    </a:lnTo>
                    <a:lnTo>
                      <a:pt x="2162" y="4071"/>
                    </a:lnTo>
                    <a:lnTo>
                      <a:pt x="2147" y="4071"/>
                    </a:lnTo>
                    <a:lnTo>
                      <a:pt x="2130" y="4071"/>
                    </a:lnTo>
                    <a:lnTo>
                      <a:pt x="2113" y="4071"/>
                    </a:lnTo>
                    <a:lnTo>
                      <a:pt x="2097" y="4071"/>
                    </a:lnTo>
                    <a:lnTo>
                      <a:pt x="2080" y="4071"/>
                    </a:lnTo>
                    <a:lnTo>
                      <a:pt x="2065" y="4071"/>
                    </a:lnTo>
                    <a:lnTo>
                      <a:pt x="2048" y="4071"/>
                    </a:lnTo>
                    <a:lnTo>
                      <a:pt x="2032" y="4071"/>
                    </a:lnTo>
                    <a:lnTo>
                      <a:pt x="2015" y="4071"/>
                    </a:lnTo>
                    <a:lnTo>
                      <a:pt x="2000" y="4071"/>
                    </a:lnTo>
                    <a:lnTo>
                      <a:pt x="1983" y="4071"/>
                    </a:lnTo>
                    <a:lnTo>
                      <a:pt x="1967" y="4071"/>
                    </a:lnTo>
                    <a:lnTo>
                      <a:pt x="1950" y="4071"/>
                    </a:lnTo>
                    <a:lnTo>
                      <a:pt x="1935" y="4071"/>
                    </a:lnTo>
                    <a:lnTo>
                      <a:pt x="1918" y="4071"/>
                    </a:lnTo>
                    <a:lnTo>
                      <a:pt x="1902" y="4071"/>
                    </a:lnTo>
                    <a:lnTo>
                      <a:pt x="1886" y="4071"/>
                    </a:lnTo>
                    <a:lnTo>
                      <a:pt x="1870" y="4071"/>
                    </a:lnTo>
                    <a:lnTo>
                      <a:pt x="1853" y="4071"/>
                    </a:lnTo>
                    <a:lnTo>
                      <a:pt x="1838" y="4071"/>
                    </a:lnTo>
                    <a:lnTo>
                      <a:pt x="1821" y="4071"/>
                    </a:lnTo>
                    <a:lnTo>
                      <a:pt x="1805" y="4071"/>
                    </a:lnTo>
                    <a:lnTo>
                      <a:pt x="1788" y="4071"/>
                    </a:lnTo>
                    <a:lnTo>
                      <a:pt x="1773" y="4071"/>
                    </a:lnTo>
                    <a:lnTo>
                      <a:pt x="1756" y="4071"/>
                    </a:lnTo>
                    <a:lnTo>
                      <a:pt x="1740" y="4071"/>
                    </a:lnTo>
                    <a:lnTo>
                      <a:pt x="1723" y="4071"/>
                    </a:lnTo>
                    <a:lnTo>
                      <a:pt x="1706" y="4071"/>
                    </a:lnTo>
                    <a:lnTo>
                      <a:pt x="1691" y="4071"/>
                    </a:lnTo>
                    <a:lnTo>
                      <a:pt x="1674" y="4071"/>
                    </a:lnTo>
                    <a:lnTo>
                      <a:pt x="1658" y="4071"/>
                    </a:lnTo>
                    <a:lnTo>
                      <a:pt x="1641" y="4071"/>
                    </a:lnTo>
                    <a:lnTo>
                      <a:pt x="1626" y="4071"/>
                    </a:lnTo>
                    <a:lnTo>
                      <a:pt x="1609" y="4071"/>
                    </a:lnTo>
                    <a:lnTo>
                      <a:pt x="1593" y="4071"/>
                    </a:lnTo>
                    <a:lnTo>
                      <a:pt x="1576" y="4071"/>
                    </a:lnTo>
                    <a:lnTo>
                      <a:pt x="1561" y="4071"/>
                    </a:lnTo>
                    <a:lnTo>
                      <a:pt x="1544" y="4071"/>
                    </a:lnTo>
                    <a:lnTo>
                      <a:pt x="1528" y="4071"/>
                    </a:lnTo>
                    <a:lnTo>
                      <a:pt x="1512" y="4071"/>
                    </a:lnTo>
                    <a:lnTo>
                      <a:pt x="1496" y="4071"/>
                    </a:lnTo>
                    <a:lnTo>
                      <a:pt x="1479" y="4071"/>
                    </a:lnTo>
                    <a:lnTo>
                      <a:pt x="1464" y="4071"/>
                    </a:lnTo>
                    <a:lnTo>
                      <a:pt x="1447" y="4071"/>
                    </a:lnTo>
                    <a:lnTo>
                      <a:pt x="1431" y="4071"/>
                    </a:lnTo>
                    <a:lnTo>
                      <a:pt x="1414" y="4071"/>
                    </a:lnTo>
                    <a:lnTo>
                      <a:pt x="1399" y="4071"/>
                    </a:lnTo>
                    <a:lnTo>
                      <a:pt x="1382" y="4071"/>
                    </a:lnTo>
                    <a:lnTo>
                      <a:pt x="1366" y="4071"/>
                    </a:lnTo>
                    <a:lnTo>
                      <a:pt x="1349" y="4071"/>
                    </a:lnTo>
                    <a:lnTo>
                      <a:pt x="1334" y="4071"/>
                    </a:lnTo>
                    <a:lnTo>
                      <a:pt x="1317" y="4071"/>
                    </a:lnTo>
                    <a:lnTo>
                      <a:pt x="1301" y="4071"/>
                    </a:lnTo>
                    <a:lnTo>
                      <a:pt x="1284" y="4071"/>
                    </a:lnTo>
                    <a:lnTo>
                      <a:pt x="1267" y="4071"/>
                    </a:lnTo>
                    <a:lnTo>
                      <a:pt x="1252" y="4071"/>
                    </a:lnTo>
                    <a:lnTo>
                      <a:pt x="1235" y="4071"/>
                    </a:lnTo>
                    <a:lnTo>
                      <a:pt x="1219" y="4071"/>
                    </a:lnTo>
                    <a:lnTo>
                      <a:pt x="1202" y="4071"/>
                    </a:lnTo>
                    <a:lnTo>
                      <a:pt x="1187" y="4071"/>
                    </a:lnTo>
                    <a:lnTo>
                      <a:pt x="1170" y="4071"/>
                    </a:lnTo>
                    <a:lnTo>
                      <a:pt x="1154" y="4071"/>
                    </a:lnTo>
                    <a:lnTo>
                      <a:pt x="1138" y="4071"/>
                    </a:lnTo>
                    <a:lnTo>
                      <a:pt x="1122" y="4071"/>
                    </a:lnTo>
                    <a:lnTo>
                      <a:pt x="1105" y="4071"/>
                    </a:lnTo>
                    <a:lnTo>
                      <a:pt x="1090" y="4071"/>
                    </a:lnTo>
                    <a:lnTo>
                      <a:pt x="1073" y="4071"/>
                    </a:lnTo>
                    <a:lnTo>
                      <a:pt x="1057" y="4071"/>
                    </a:lnTo>
                    <a:lnTo>
                      <a:pt x="1040" y="4071"/>
                    </a:lnTo>
                    <a:lnTo>
                      <a:pt x="1025" y="4071"/>
                    </a:lnTo>
                    <a:lnTo>
                      <a:pt x="1008" y="4071"/>
                    </a:lnTo>
                    <a:lnTo>
                      <a:pt x="992" y="4071"/>
                    </a:lnTo>
                    <a:lnTo>
                      <a:pt x="975" y="4071"/>
                    </a:lnTo>
                    <a:lnTo>
                      <a:pt x="960" y="4071"/>
                    </a:lnTo>
                    <a:lnTo>
                      <a:pt x="943" y="4071"/>
                    </a:lnTo>
                    <a:lnTo>
                      <a:pt x="927" y="4071"/>
                    </a:lnTo>
                    <a:lnTo>
                      <a:pt x="910" y="4071"/>
                    </a:lnTo>
                    <a:lnTo>
                      <a:pt x="895" y="4071"/>
                    </a:lnTo>
                    <a:lnTo>
                      <a:pt x="878" y="4071"/>
                    </a:lnTo>
                    <a:lnTo>
                      <a:pt x="862" y="4071"/>
                    </a:lnTo>
                    <a:lnTo>
                      <a:pt x="845" y="4071"/>
                    </a:lnTo>
                    <a:lnTo>
                      <a:pt x="828" y="4071"/>
                    </a:lnTo>
                    <a:lnTo>
                      <a:pt x="813" y="4071"/>
                    </a:lnTo>
                    <a:lnTo>
                      <a:pt x="796" y="4071"/>
                    </a:lnTo>
                    <a:lnTo>
                      <a:pt x="780" y="4071"/>
                    </a:lnTo>
                    <a:lnTo>
                      <a:pt x="764" y="4071"/>
                    </a:lnTo>
                    <a:lnTo>
                      <a:pt x="748" y="4071"/>
                    </a:lnTo>
                    <a:lnTo>
                      <a:pt x="731" y="4071"/>
                    </a:lnTo>
                    <a:lnTo>
                      <a:pt x="716" y="4071"/>
                    </a:lnTo>
                    <a:lnTo>
                      <a:pt x="699" y="4071"/>
                    </a:lnTo>
                    <a:lnTo>
                      <a:pt x="683" y="4071"/>
                    </a:lnTo>
                    <a:lnTo>
                      <a:pt x="666" y="4071"/>
                    </a:lnTo>
                    <a:lnTo>
                      <a:pt x="651" y="4071"/>
                    </a:lnTo>
                    <a:lnTo>
                      <a:pt x="634" y="4071"/>
                    </a:lnTo>
                    <a:lnTo>
                      <a:pt x="618" y="4071"/>
                    </a:lnTo>
                    <a:lnTo>
                      <a:pt x="601" y="4071"/>
                    </a:lnTo>
                    <a:lnTo>
                      <a:pt x="586" y="4071"/>
                    </a:lnTo>
                    <a:lnTo>
                      <a:pt x="569" y="4071"/>
                    </a:lnTo>
                    <a:lnTo>
                      <a:pt x="553" y="4071"/>
                    </a:lnTo>
                    <a:lnTo>
                      <a:pt x="536" y="4071"/>
                    </a:lnTo>
                    <a:lnTo>
                      <a:pt x="521" y="4071"/>
                    </a:lnTo>
                    <a:lnTo>
                      <a:pt x="504" y="4071"/>
                    </a:lnTo>
                    <a:lnTo>
                      <a:pt x="488" y="4071"/>
                    </a:lnTo>
                    <a:lnTo>
                      <a:pt x="471" y="4071"/>
                    </a:lnTo>
                    <a:lnTo>
                      <a:pt x="456" y="4071"/>
                    </a:lnTo>
                    <a:lnTo>
                      <a:pt x="439" y="4071"/>
                    </a:lnTo>
                    <a:lnTo>
                      <a:pt x="422" y="4071"/>
                    </a:lnTo>
                    <a:lnTo>
                      <a:pt x="406" y="4071"/>
                    </a:lnTo>
                    <a:lnTo>
                      <a:pt x="390" y="4071"/>
                    </a:lnTo>
                    <a:lnTo>
                      <a:pt x="374" y="4071"/>
                    </a:lnTo>
                    <a:lnTo>
                      <a:pt x="357" y="4071"/>
                    </a:lnTo>
                    <a:lnTo>
                      <a:pt x="342" y="4071"/>
                    </a:lnTo>
                    <a:lnTo>
                      <a:pt x="325" y="4071"/>
                    </a:lnTo>
                    <a:lnTo>
                      <a:pt x="309" y="4071"/>
                    </a:lnTo>
                    <a:lnTo>
                      <a:pt x="292" y="4071"/>
                    </a:lnTo>
                    <a:lnTo>
                      <a:pt x="277" y="4071"/>
                    </a:lnTo>
                    <a:lnTo>
                      <a:pt x="260" y="4071"/>
                    </a:lnTo>
                    <a:lnTo>
                      <a:pt x="244" y="4071"/>
                    </a:lnTo>
                    <a:lnTo>
                      <a:pt x="227" y="4071"/>
                    </a:lnTo>
                    <a:lnTo>
                      <a:pt x="212" y="4071"/>
                    </a:lnTo>
                    <a:lnTo>
                      <a:pt x="195" y="4071"/>
                    </a:lnTo>
                    <a:lnTo>
                      <a:pt x="179" y="4071"/>
                    </a:lnTo>
                    <a:lnTo>
                      <a:pt x="162" y="4071"/>
                    </a:lnTo>
                    <a:lnTo>
                      <a:pt x="147" y="4071"/>
                    </a:lnTo>
                    <a:lnTo>
                      <a:pt x="130" y="4071"/>
                    </a:lnTo>
                    <a:lnTo>
                      <a:pt x="114" y="4071"/>
                    </a:lnTo>
                    <a:lnTo>
                      <a:pt x="97" y="4071"/>
                    </a:lnTo>
                    <a:lnTo>
                      <a:pt x="82" y="4071"/>
                    </a:lnTo>
                    <a:lnTo>
                      <a:pt x="65" y="4071"/>
                    </a:lnTo>
                    <a:lnTo>
                      <a:pt x="49" y="4071"/>
                    </a:lnTo>
                    <a:lnTo>
                      <a:pt x="32" y="4071"/>
                    </a:lnTo>
                    <a:lnTo>
                      <a:pt x="17" y="4071"/>
                    </a:lnTo>
                    <a:lnTo>
                      <a:pt x="0" y="407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06360" y="362160"/>
                <a:ext cx="279360" cy="389880"/>
              </a:xfrm>
              <a:custGeom>
                <a:avLst/>
                <a:gdLst/>
                <a:ahLst/>
                <a:rect l="l" t="t" r="r" b="b"/>
                <a:pathLst>
                  <a:path w="3235" h="4071">
                    <a:moveTo>
                      <a:pt x="0" y="4071"/>
                    </a:moveTo>
                    <a:lnTo>
                      <a:pt x="0" y="4071"/>
                    </a:lnTo>
                    <a:lnTo>
                      <a:pt x="17" y="4054"/>
                    </a:lnTo>
                    <a:lnTo>
                      <a:pt x="32" y="4021"/>
                    </a:lnTo>
                    <a:lnTo>
                      <a:pt x="49" y="3979"/>
                    </a:lnTo>
                    <a:lnTo>
                      <a:pt x="65" y="3928"/>
                    </a:lnTo>
                    <a:lnTo>
                      <a:pt x="82" y="3868"/>
                    </a:lnTo>
                    <a:lnTo>
                      <a:pt x="97" y="3809"/>
                    </a:lnTo>
                    <a:lnTo>
                      <a:pt x="114" y="3751"/>
                    </a:lnTo>
                    <a:lnTo>
                      <a:pt x="130" y="3683"/>
                    </a:lnTo>
                    <a:lnTo>
                      <a:pt x="147" y="3616"/>
                    </a:lnTo>
                    <a:lnTo>
                      <a:pt x="162" y="3548"/>
                    </a:lnTo>
                    <a:lnTo>
                      <a:pt x="179" y="3472"/>
                    </a:lnTo>
                    <a:lnTo>
                      <a:pt x="195" y="3404"/>
                    </a:lnTo>
                    <a:lnTo>
                      <a:pt x="212" y="3329"/>
                    </a:lnTo>
                    <a:lnTo>
                      <a:pt x="227" y="3252"/>
                    </a:lnTo>
                    <a:lnTo>
                      <a:pt x="244" y="3176"/>
                    </a:lnTo>
                    <a:lnTo>
                      <a:pt x="260" y="3108"/>
                    </a:lnTo>
                    <a:lnTo>
                      <a:pt x="277" y="3033"/>
                    </a:lnTo>
                    <a:lnTo>
                      <a:pt x="292" y="2956"/>
                    </a:lnTo>
                    <a:lnTo>
                      <a:pt x="309" y="2881"/>
                    </a:lnTo>
                    <a:lnTo>
                      <a:pt x="325" y="2804"/>
                    </a:lnTo>
                    <a:lnTo>
                      <a:pt x="342" y="2728"/>
                    </a:lnTo>
                    <a:lnTo>
                      <a:pt x="357" y="2653"/>
                    </a:lnTo>
                    <a:lnTo>
                      <a:pt x="374" y="2576"/>
                    </a:lnTo>
                    <a:lnTo>
                      <a:pt x="390" y="2501"/>
                    </a:lnTo>
                    <a:lnTo>
                      <a:pt x="406" y="2432"/>
                    </a:lnTo>
                    <a:lnTo>
                      <a:pt x="422" y="2357"/>
                    </a:lnTo>
                    <a:lnTo>
                      <a:pt x="439" y="2289"/>
                    </a:lnTo>
                    <a:lnTo>
                      <a:pt x="456" y="2213"/>
                    </a:lnTo>
                    <a:lnTo>
                      <a:pt x="471" y="2145"/>
                    </a:lnTo>
                    <a:lnTo>
                      <a:pt x="488" y="2079"/>
                    </a:lnTo>
                    <a:lnTo>
                      <a:pt x="504" y="2010"/>
                    </a:lnTo>
                    <a:lnTo>
                      <a:pt x="521" y="1944"/>
                    </a:lnTo>
                    <a:lnTo>
                      <a:pt x="536" y="1875"/>
                    </a:lnTo>
                    <a:lnTo>
                      <a:pt x="553" y="1807"/>
                    </a:lnTo>
                    <a:lnTo>
                      <a:pt x="569" y="1749"/>
                    </a:lnTo>
                    <a:lnTo>
                      <a:pt x="586" y="1681"/>
                    </a:lnTo>
                    <a:lnTo>
                      <a:pt x="601" y="1622"/>
                    </a:lnTo>
                    <a:lnTo>
                      <a:pt x="618" y="1562"/>
                    </a:lnTo>
                    <a:lnTo>
                      <a:pt x="634" y="1504"/>
                    </a:lnTo>
                    <a:lnTo>
                      <a:pt x="651" y="1445"/>
                    </a:lnTo>
                    <a:lnTo>
                      <a:pt x="666" y="1385"/>
                    </a:lnTo>
                    <a:lnTo>
                      <a:pt x="683" y="1334"/>
                    </a:lnTo>
                    <a:lnTo>
                      <a:pt x="699" y="1275"/>
                    </a:lnTo>
                    <a:lnTo>
                      <a:pt x="716" y="1226"/>
                    </a:lnTo>
                    <a:lnTo>
                      <a:pt x="731" y="1175"/>
                    </a:lnTo>
                    <a:lnTo>
                      <a:pt x="748" y="1124"/>
                    </a:lnTo>
                    <a:lnTo>
                      <a:pt x="764" y="1073"/>
                    </a:lnTo>
                    <a:lnTo>
                      <a:pt x="780" y="1023"/>
                    </a:lnTo>
                    <a:lnTo>
                      <a:pt x="796" y="981"/>
                    </a:lnTo>
                    <a:lnTo>
                      <a:pt x="813" y="930"/>
                    </a:lnTo>
                    <a:lnTo>
                      <a:pt x="828" y="888"/>
                    </a:lnTo>
                    <a:lnTo>
                      <a:pt x="845" y="844"/>
                    </a:lnTo>
                    <a:lnTo>
                      <a:pt x="862" y="802"/>
                    </a:lnTo>
                    <a:lnTo>
                      <a:pt x="878" y="760"/>
                    </a:lnTo>
                    <a:lnTo>
                      <a:pt x="895" y="727"/>
                    </a:lnTo>
                    <a:lnTo>
                      <a:pt x="910" y="685"/>
                    </a:lnTo>
                    <a:lnTo>
                      <a:pt x="927" y="651"/>
                    </a:lnTo>
                    <a:lnTo>
                      <a:pt x="943" y="608"/>
                    </a:lnTo>
                    <a:lnTo>
                      <a:pt x="960" y="574"/>
                    </a:lnTo>
                    <a:lnTo>
                      <a:pt x="975" y="541"/>
                    </a:lnTo>
                    <a:lnTo>
                      <a:pt x="992" y="508"/>
                    </a:lnTo>
                    <a:lnTo>
                      <a:pt x="1008" y="482"/>
                    </a:lnTo>
                    <a:lnTo>
                      <a:pt x="1025" y="448"/>
                    </a:lnTo>
                    <a:lnTo>
                      <a:pt x="1040" y="422"/>
                    </a:lnTo>
                    <a:lnTo>
                      <a:pt x="1057" y="389"/>
                    </a:lnTo>
                    <a:lnTo>
                      <a:pt x="1073" y="364"/>
                    </a:lnTo>
                    <a:lnTo>
                      <a:pt x="1090" y="338"/>
                    </a:lnTo>
                    <a:lnTo>
                      <a:pt x="1105" y="313"/>
                    </a:lnTo>
                    <a:lnTo>
                      <a:pt x="1122" y="287"/>
                    </a:lnTo>
                    <a:lnTo>
                      <a:pt x="1138" y="271"/>
                    </a:lnTo>
                    <a:lnTo>
                      <a:pt x="1154" y="245"/>
                    </a:lnTo>
                    <a:lnTo>
                      <a:pt x="1170" y="228"/>
                    </a:lnTo>
                    <a:lnTo>
                      <a:pt x="1187" y="203"/>
                    </a:lnTo>
                    <a:lnTo>
                      <a:pt x="1202" y="186"/>
                    </a:lnTo>
                    <a:lnTo>
                      <a:pt x="1219" y="170"/>
                    </a:lnTo>
                    <a:lnTo>
                      <a:pt x="1235" y="152"/>
                    </a:lnTo>
                    <a:lnTo>
                      <a:pt x="1252" y="135"/>
                    </a:lnTo>
                    <a:lnTo>
                      <a:pt x="1267" y="128"/>
                    </a:lnTo>
                    <a:lnTo>
                      <a:pt x="1284" y="110"/>
                    </a:lnTo>
                    <a:lnTo>
                      <a:pt x="1301" y="93"/>
                    </a:lnTo>
                    <a:lnTo>
                      <a:pt x="1317" y="84"/>
                    </a:lnTo>
                    <a:lnTo>
                      <a:pt x="1334" y="77"/>
                    </a:lnTo>
                    <a:lnTo>
                      <a:pt x="1349" y="60"/>
                    </a:lnTo>
                    <a:lnTo>
                      <a:pt x="1366" y="51"/>
                    </a:lnTo>
                    <a:lnTo>
                      <a:pt x="1382" y="42"/>
                    </a:lnTo>
                    <a:lnTo>
                      <a:pt x="1399" y="33"/>
                    </a:lnTo>
                    <a:lnTo>
                      <a:pt x="1414" y="33"/>
                    </a:lnTo>
                    <a:lnTo>
                      <a:pt x="1431" y="26"/>
                    </a:lnTo>
                    <a:lnTo>
                      <a:pt x="1447" y="17"/>
                    </a:lnTo>
                    <a:lnTo>
                      <a:pt x="1464" y="17"/>
                    </a:lnTo>
                    <a:lnTo>
                      <a:pt x="1479" y="9"/>
                    </a:lnTo>
                    <a:lnTo>
                      <a:pt x="1496" y="9"/>
                    </a:lnTo>
                    <a:lnTo>
                      <a:pt x="1512" y="9"/>
                    </a:lnTo>
                    <a:lnTo>
                      <a:pt x="1528" y="0"/>
                    </a:lnTo>
                    <a:lnTo>
                      <a:pt x="1544" y="0"/>
                    </a:lnTo>
                    <a:lnTo>
                      <a:pt x="1561" y="0"/>
                    </a:lnTo>
                    <a:lnTo>
                      <a:pt x="1576" y="0"/>
                    </a:lnTo>
                    <a:lnTo>
                      <a:pt x="1593" y="0"/>
                    </a:lnTo>
                    <a:lnTo>
                      <a:pt x="1609" y="9"/>
                    </a:lnTo>
                    <a:lnTo>
                      <a:pt x="1626" y="9"/>
                    </a:lnTo>
                    <a:lnTo>
                      <a:pt x="1641" y="9"/>
                    </a:lnTo>
                    <a:lnTo>
                      <a:pt x="1658" y="17"/>
                    </a:lnTo>
                    <a:lnTo>
                      <a:pt x="1674" y="17"/>
                    </a:lnTo>
                    <a:lnTo>
                      <a:pt x="1691" y="26"/>
                    </a:lnTo>
                    <a:lnTo>
                      <a:pt x="1706" y="26"/>
                    </a:lnTo>
                    <a:lnTo>
                      <a:pt x="1723" y="33"/>
                    </a:lnTo>
                    <a:lnTo>
                      <a:pt x="1740" y="42"/>
                    </a:lnTo>
                    <a:lnTo>
                      <a:pt x="1756" y="42"/>
                    </a:lnTo>
                    <a:lnTo>
                      <a:pt x="1773" y="51"/>
                    </a:lnTo>
                    <a:lnTo>
                      <a:pt x="1788" y="60"/>
                    </a:lnTo>
                    <a:lnTo>
                      <a:pt x="1805" y="68"/>
                    </a:lnTo>
                    <a:lnTo>
                      <a:pt x="1821" y="77"/>
                    </a:lnTo>
                    <a:lnTo>
                      <a:pt x="1838" y="84"/>
                    </a:lnTo>
                    <a:lnTo>
                      <a:pt x="1853" y="93"/>
                    </a:lnTo>
                    <a:lnTo>
                      <a:pt x="1870" y="110"/>
                    </a:lnTo>
                    <a:lnTo>
                      <a:pt x="1886" y="119"/>
                    </a:lnTo>
                    <a:lnTo>
                      <a:pt x="1902" y="128"/>
                    </a:lnTo>
                    <a:lnTo>
                      <a:pt x="1918" y="135"/>
                    </a:lnTo>
                    <a:lnTo>
                      <a:pt x="1935" y="152"/>
                    </a:lnTo>
                    <a:lnTo>
                      <a:pt x="1950" y="161"/>
                    </a:lnTo>
                    <a:lnTo>
                      <a:pt x="1967" y="177"/>
                    </a:lnTo>
                    <a:lnTo>
                      <a:pt x="1983" y="186"/>
                    </a:lnTo>
                    <a:lnTo>
                      <a:pt x="2000" y="203"/>
                    </a:lnTo>
                    <a:lnTo>
                      <a:pt x="2015" y="212"/>
                    </a:lnTo>
                    <a:lnTo>
                      <a:pt x="2032" y="228"/>
                    </a:lnTo>
                    <a:lnTo>
                      <a:pt x="2048" y="245"/>
                    </a:lnTo>
                    <a:lnTo>
                      <a:pt x="2065" y="254"/>
                    </a:lnTo>
                    <a:lnTo>
                      <a:pt x="2080" y="271"/>
                    </a:lnTo>
                    <a:lnTo>
                      <a:pt x="2097" y="287"/>
                    </a:lnTo>
                    <a:lnTo>
                      <a:pt x="2113" y="305"/>
                    </a:lnTo>
                    <a:lnTo>
                      <a:pt x="2130" y="313"/>
                    </a:lnTo>
                    <a:lnTo>
                      <a:pt x="2147" y="329"/>
                    </a:lnTo>
                    <a:lnTo>
                      <a:pt x="2162" y="347"/>
                    </a:lnTo>
                    <a:lnTo>
                      <a:pt x="2179" y="364"/>
                    </a:lnTo>
                    <a:lnTo>
                      <a:pt x="2195" y="380"/>
                    </a:lnTo>
                    <a:lnTo>
                      <a:pt x="2212" y="397"/>
                    </a:lnTo>
                    <a:lnTo>
                      <a:pt x="2227" y="413"/>
                    </a:lnTo>
                    <a:lnTo>
                      <a:pt x="2244" y="431"/>
                    </a:lnTo>
                    <a:lnTo>
                      <a:pt x="2260" y="448"/>
                    </a:lnTo>
                    <a:lnTo>
                      <a:pt x="2276" y="464"/>
                    </a:lnTo>
                    <a:lnTo>
                      <a:pt x="2292" y="482"/>
                    </a:lnTo>
                    <a:lnTo>
                      <a:pt x="2309" y="508"/>
                    </a:lnTo>
                    <a:lnTo>
                      <a:pt x="2324" y="524"/>
                    </a:lnTo>
                    <a:lnTo>
                      <a:pt x="2341" y="541"/>
                    </a:lnTo>
                    <a:lnTo>
                      <a:pt x="2357" y="557"/>
                    </a:lnTo>
                    <a:lnTo>
                      <a:pt x="2374" y="574"/>
                    </a:lnTo>
                    <a:lnTo>
                      <a:pt x="2389" y="601"/>
                    </a:lnTo>
                    <a:lnTo>
                      <a:pt x="2406" y="616"/>
                    </a:lnTo>
                    <a:lnTo>
                      <a:pt x="2422" y="634"/>
                    </a:lnTo>
                    <a:lnTo>
                      <a:pt x="2439" y="651"/>
                    </a:lnTo>
                    <a:lnTo>
                      <a:pt x="2454" y="676"/>
                    </a:lnTo>
                    <a:lnTo>
                      <a:pt x="2471" y="693"/>
                    </a:lnTo>
                    <a:lnTo>
                      <a:pt x="2487" y="709"/>
                    </a:lnTo>
                    <a:lnTo>
                      <a:pt x="2504" y="727"/>
                    </a:lnTo>
                    <a:lnTo>
                      <a:pt x="2519" y="751"/>
                    </a:lnTo>
                    <a:lnTo>
                      <a:pt x="2536" y="769"/>
                    </a:lnTo>
                    <a:lnTo>
                      <a:pt x="2552" y="795"/>
                    </a:lnTo>
                    <a:lnTo>
                      <a:pt x="2569" y="811"/>
                    </a:lnTo>
                    <a:lnTo>
                      <a:pt x="2586" y="828"/>
                    </a:lnTo>
                    <a:lnTo>
                      <a:pt x="2601" y="853"/>
                    </a:lnTo>
                    <a:lnTo>
                      <a:pt x="2618" y="870"/>
                    </a:lnTo>
                    <a:lnTo>
                      <a:pt x="2634" y="888"/>
                    </a:lnTo>
                    <a:lnTo>
                      <a:pt x="2650" y="912"/>
                    </a:lnTo>
                    <a:lnTo>
                      <a:pt x="2666" y="930"/>
                    </a:lnTo>
                    <a:lnTo>
                      <a:pt x="2683" y="954"/>
                    </a:lnTo>
                    <a:lnTo>
                      <a:pt x="2698" y="972"/>
                    </a:lnTo>
                    <a:lnTo>
                      <a:pt x="2715" y="988"/>
                    </a:lnTo>
                    <a:lnTo>
                      <a:pt x="2731" y="1014"/>
                    </a:lnTo>
                    <a:lnTo>
                      <a:pt x="2748" y="1031"/>
                    </a:lnTo>
                    <a:lnTo>
                      <a:pt x="2763" y="1056"/>
                    </a:lnTo>
                    <a:lnTo>
                      <a:pt x="2780" y="1073"/>
                    </a:lnTo>
                    <a:lnTo>
                      <a:pt x="2796" y="1098"/>
                    </a:lnTo>
                    <a:lnTo>
                      <a:pt x="2813" y="1115"/>
                    </a:lnTo>
                    <a:lnTo>
                      <a:pt x="2828" y="1131"/>
                    </a:lnTo>
                    <a:lnTo>
                      <a:pt x="2845" y="1157"/>
                    </a:lnTo>
                    <a:lnTo>
                      <a:pt x="2861" y="1175"/>
                    </a:lnTo>
                    <a:lnTo>
                      <a:pt x="2878" y="1200"/>
                    </a:lnTo>
                    <a:lnTo>
                      <a:pt x="2893" y="1217"/>
                    </a:lnTo>
                    <a:lnTo>
                      <a:pt x="2910" y="1242"/>
                    </a:lnTo>
                    <a:lnTo>
                      <a:pt x="2926" y="1259"/>
                    </a:lnTo>
                    <a:lnTo>
                      <a:pt x="2943" y="1275"/>
                    </a:lnTo>
                    <a:lnTo>
                      <a:pt x="2958" y="1301"/>
                    </a:lnTo>
                    <a:lnTo>
                      <a:pt x="2975" y="1318"/>
                    </a:lnTo>
                    <a:lnTo>
                      <a:pt x="2992" y="1343"/>
                    </a:lnTo>
                    <a:lnTo>
                      <a:pt x="3008" y="1361"/>
                    </a:lnTo>
                    <a:lnTo>
                      <a:pt x="3024" y="1385"/>
                    </a:lnTo>
                    <a:lnTo>
                      <a:pt x="3040" y="1403"/>
                    </a:lnTo>
                    <a:lnTo>
                      <a:pt x="3057" y="1419"/>
                    </a:lnTo>
                    <a:lnTo>
                      <a:pt x="3072" y="1445"/>
                    </a:lnTo>
                    <a:lnTo>
                      <a:pt x="3089" y="1462"/>
                    </a:lnTo>
                    <a:lnTo>
                      <a:pt x="3105" y="1487"/>
                    </a:lnTo>
                    <a:lnTo>
                      <a:pt x="3122" y="1504"/>
                    </a:lnTo>
                    <a:lnTo>
                      <a:pt x="3137" y="1520"/>
                    </a:lnTo>
                    <a:lnTo>
                      <a:pt x="3154" y="1546"/>
                    </a:lnTo>
                    <a:lnTo>
                      <a:pt x="3170" y="1562"/>
                    </a:lnTo>
                    <a:lnTo>
                      <a:pt x="3187" y="1580"/>
                    </a:lnTo>
                    <a:lnTo>
                      <a:pt x="3202" y="1606"/>
                    </a:lnTo>
                    <a:lnTo>
                      <a:pt x="3219" y="1622"/>
                    </a:lnTo>
                    <a:lnTo>
                      <a:pt x="3235" y="1639"/>
                    </a:lnTo>
                    <a:lnTo>
                      <a:pt x="3235" y="4071"/>
                    </a:lnTo>
                    <a:lnTo>
                      <a:pt x="3219" y="4071"/>
                    </a:lnTo>
                    <a:lnTo>
                      <a:pt x="3202" y="4071"/>
                    </a:lnTo>
                    <a:lnTo>
                      <a:pt x="3187" y="4071"/>
                    </a:lnTo>
                    <a:lnTo>
                      <a:pt x="3170" y="4071"/>
                    </a:lnTo>
                    <a:lnTo>
                      <a:pt x="3154" y="4071"/>
                    </a:lnTo>
                    <a:lnTo>
                      <a:pt x="3137" y="4071"/>
                    </a:lnTo>
                    <a:lnTo>
                      <a:pt x="3122" y="4071"/>
                    </a:lnTo>
                    <a:lnTo>
                      <a:pt x="3105" y="4071"/>
                    </a:lnTo>
                    <a:lnTo>
                      <a:pt x="3089" y="4071"/>
                    </a:lnTo>
                    <a:lnTo>
                      <a:pt x="3072" y="4071"/>
                    </a:lnTo>
                    <a:lnTo>
                      <a:pt x="3057" y="4071"/>
                    </a:lnTo>
                    <a:lnTo>
                      <a:pt x="3040" y="4071"/>
                    </a:lnTo>
                    <a:lnTo>
                      <a:pt x="3024" y="4071"/>
                    </a:lnTo>
                    <a:lnTo>
                      <a:pt x="3008" y="4071"/>
                    </a:lnTo>
                    <a:lnTo>
                      <a:pt x="2992" y="4071"/>
                    </a:lnTo>
                    <a:lnTo>
                      <a:pt x="2975" y="4071"/>
                    </a:lnTo>
                    <a:lnTo>
                      <a:pt x="2958" y="4071"/>
                    </a:lnTo>
                    <a:lnTo>
                      <a:pt x="2943" y="4071"/>
                    </a:lnTo>
                    <a:lnTo>
                      <a:pt x="2926" y="4071"/>
                    </a:lnTo>
                    <a:lnTo>
                      <a:pt x="2910" y="4071"/>
                    </a:lnTo>
                    <a:lnTo>
                      <a:pt x="2893" y="4071"/>
                    </a:lnTo>
                    <a:lnTo>
                      <a:pt x="2878" y="4071"/>
                    </a:lnTo>
                    <a:lnTo>
                      <a:pt x="2861" y="4071"/>
                    </a:lnTo>
                    <a:lnTo>
                      <a:pt x="2845" y="4071"/>
                    </a:lnTo>
                    <a:lnTo>
                      <a:pt x="2828" y="4071"/>
                    </a:lnTo>
                    <a:lnTo>
                      <a:pt x="2813" y="4071"/>
                    </a:lnTo>
                    <a:lnTo>
                      <a:pt x="2796" y="4071"/>
                    </a:lnTo>
                    <a:lnTo>
                      <a:pt x="2780" y="4071"/>
                    </a:lnTo>
                    <a:lnTo>
                      <a:pt x="2763" y="4071"/>
                    </a:lnTo>
                    <a:lnTo>
                      <a:pt x="2748" y="4071"/>
                    </a:lnTo>
                    <a:lnTo>
                      <a:pt x="2731" y="4071"/>
                    </a:lnTo>
                    <a:lnTo>
                      <a:pt x="2715" y="4071"/>
                    </a:lnTo>
                    <a:lnTo>
                      <a:pt x="2698" y="4071"/>
                    </a:lnTo>
                    <a:lnTo>
                      <a:pt x="2683" y="4071"/>
                    </a:lnTo>
                    <a:lnTo>
                      <a:pt x="2666" y="4071"/>
                    </a:lnTo>
                    <a:lnTo>
                      <a:pt x="2650" y="4071"/>
                    </a:lnTo>
                    <a:lnTo>
                      <a:pt x="2634" y="4071"/>
                    </a:lnTo>
                    <a:lnTo>
                      <a:pt x="2618" y="4071"/>
                    </a:lnTo>
                    <a:lnTo>
                      <a:pt x="2601" y="4071"/>
                    </a:lnTo>
                    <a:lnTo>
                      <a:pt x="2586" y="4071"/>
                    </a:lnTo>
                    <a:lnTo>
                      <a:pt x="2569" y="4071"/>
                    </a:lnTo>
                    <a:lnTo>
                      <a:pt x="2552" y="4071"/>
                    </a:lnTo>
                    <a:lnTo>
                      <a:pt x="2536" y="4071"/>
                    </a:lnTo>
                    <a:lnTo>
                      <a:pt x="2519" y="4071"/>
                    </a:lnTo>
                    <a:lnTo>
                      <a:pt x="2504" y="4071"/>
                    </a:lnTo>
                    <a:lnTo>
                      <a:pt x="2487" y="4071"/>
                    </a:lnTo>
                    <a:lnTo>
                      <a:pt x="2471" y="4071"/>
                    </a:lnTo>
                    <a:lnTo>
                      <a:pt x="2454" y="4071"/>
                    </a:lnTo>
                    <a:lnTo>
                      <a:pt x="2439" y="4071"/>
                    </a:lnTo>
                    <a:lnTo>
                      <a:pt x="2422" y="4071"/>
                    </a:lnTo>
                    <a:lnTo>
                      <a:pt x="2406" y="4071"/>
                    </a:lnTo>
                    <a:lnTo>
                      <a:pt x="2389" y="4071"/>
                    </a:lnTo>
                    <a:lnTo>
                      <a:pt x="2374" y="4071"/>
                    </a:lnTo>
                    <a:lnTo>
                      <a:pt x="2357" y="4071"/>
                    </a:lnTo>
                    <a:lnTo>
                      <a:pt x="2341" y="4071"/>
                    </a:lnTo>
                    <a:lnTo>
                      <a:pt x="2324" y="4071"/>
                    </a:lnTo>
                    <a:lnTo>
                      <a:pt x="2309" y="4071"/>
                    </a:lnTo>
                    <a:lnTo>
                      <a:pt x="2292" y="4071"/>
                    </a:lnTo>
                    <a:lnTo>
                      <a:pt x="2276" y="4071"/>
                    </a:lnTo>
                    <a:lnTo>
                      <a:pt x="2260" y="4071"/>
                    </a:lnTo>
                    <a:lnTo>
                      <a:pt x="2244" y="4071"/>
                    </a:lnTo>
                    <a:lnTo>
                      <a:pt x="2227" y="4071"/>
                    </a:lnTo>
                    <a:lnTo>
                      <a:pt x="2212" y="4071"/>
                    </a:lnTo>
                    <a:lnTo>
                      <a:pt x="2195" y="4071"/>
                    </a:lnTo>
                    <a:lnTo>
                      <a:pt x="2179" y="4071"/>
                    </a:lnTo>
                    <a:lnTo>
                      <a:pt x="2162" y="4071"/>
                    </a:lnTo>
                    <a:lnTo>
                      <a:pt x="2147" y="4071"/>
                    </a:lnTo>
                    <a:lnTo>
                      <a:pt x="2130" y="4071"/>
                    </a:lnTo>
                    <a:lnTo>
                      <a:pt x="2113" y="4071"/>
                    </a:lnTo>
                    <a:lnTo>
                      <a:pt x="2097" y="4071"/>
                    </a:lnTo>
                    <a:lnTo>
                      <a:pt x="2080" y="4071"/>
                    </a:lnTo>
                    <a:lnTo>
                      <a:pt x="2065" y="4071"/>
                    </a:lnTo>
                    <a:lnTo>
                      <a:pt x="2048" y="4071"/>
                    </a:lnTo>
                    <a:lnTo>
                      <a:pt x="2032" y="4071"/>
                    </a:lnTo>
                    <a:lnTo>
                      <a:pt x="2015" y="4071"/>
                    </a:lnTo>
                    <a:lnTo>
                      <a:pt x="2000" y="4071"/>
                    </a:lnTo>
                    <a:lnTo>
                      <a:pt x="1983" y="4071"/>
                    </a:lnTo>
                    <a:lnTo>
                      <a:pt x="1967" y="4071"/>
                    </a:lnTo>
                    <a:lnTo>
                      <a:pt x="1950" y="4071"/>
                    </a:lnTo>
                    <a:lnTo>
                      <a:pt x="1935" y="4071"/>
                    </a:lnTo>
                    <a:lnTo>
                      <a:pt x="1918" y="4071"/>
                    </a:lnTo>
                    <a:lnTo>
                      <a:pt x="1902" y="4071"/>
                    </a:lnTo>
                    <a:lnTo>
                      <a:pt x="1886" y="4071"/>
                    </a:lnTo>
                    <a:lnTo>
                      <a:pt x="1870" y="4071"/>
                    </a:lnTo>
                    <a:lnTo>
                      <a:pt x="1853" y="4071"/>
                    </a:lnTo>
                    <a:lnTo>
                      <a:pt x="1838" y="4071"/>
                    </a:lnTo>
                    <a:lnTo>
                      <a:pt x="1821" y="4071"/>
                    </a:lnTo>
                    <a:lnTo>
                      <a:pt x="1805" y="4071"/>
                    </a:lnTo>
                    <a:lnTo>
                      <a:pt x="1788" y="4071"/>
                    </a:lnTo>
                    <a:lnTo>
                      <a:pt x="1773" y="4071"/>
                    </a:lnTo>
                    <a:lnTo>
                      <a:pt x="1756" y="4071"/>
                    </a:lnTo>
                    <a:lnTo>
                      <a:pt x="1740" y="4071"/>
                    </a:lnTo>
                    <a:lnTo>
                      <a:pt x="1723" y="4071"/>
                    </a:lnTo>
                    <a:lnTo>
                      <a:pt x="1706" y="4071"/>
                    </a:lnTo>
                    <a:lnTo>
                      <a:pt x="1691" y="4071"/>
                    </a:lnTo>
                    <a:lnTo>
                      <a:pt x="1674" y="4071"/>
                    </a:lnTo>
                    <a:lnTo>
                      <a:pt x="1658" y="4071"/>
                    </a:lnTo>
                    <a:lnTo>
                      <a:pt x="1641" y="4071"/>
                    </a:lnTo>
                    <a:lnTo>
                      <a:pt x="1626" y="4071"/>
                    </a:lnTo>
                    <a:lnTo>
                      <a:pt x="1609" y="4071"/>
                    </a:lnTo>
                    <a:lnTo>
                      <a:pt x="1593" y="4071"/>
                    </a:lnTo>
                    <a:lnTo>
                      <a:pt x="1576" y="4071"/>
                    </a:lnTo>
                    <a:lnTo>
                      <a:pt x="1561" y="4071"/>
                    </a:lnTo>
                    <a:lnTo>
                      <a:pt x="1544" y="4071"/>
                    </a:lnTo>
                    <a:lnTo>
                      <a:pt x="1528" y="4071"/>
                    </a:lnTo>
                    <a:lnTo>
                      <a:pt x="1512" y="4071"/>
                    </a:lnTo>
                    <a:lnTo>
                      <a:pt x="1496" y="4071"/>
                    </a:lnTo>
                    <a:lnTo>
                      <a:pt x="1479" y="4071"/>
                    </a:lnTo>
                    <a:lnTo>
                      <a:pt x="1464" y="4071"/>
                    </a:lnTo>
                    <a:lnTo>
                      <a:pt x="1447" y="4071"/>
                    </a:lnTo>
                    <a:lnTo>
                      <a:pt x="1431" y="4071"/>
                    </a:lnTo>
                    <a:lnTo>
                      <a:pt x="1414" y="4071"/>
                    </a:lnTo>
                    <a:lnTo>
                      <a:pt x="1399" y="4071"/>
                    </a:lnTo>
                    <a:lnTo>
                      <a:pt x="1382" y="4071"/>
                    </a:lnTo>
                    <a:lnTo>
                      <a:pt x="1366" y="4071"/>
                    </a:lnTo>
                    <a:lnTo>
                      <a:pt x="1349" y="4071"/>
                    </a:lnTo>
                    <a:lnTo>
                      <a:pt x="1334" y="4071"/>
                    </a:lnTo>
                    <a:lnTo>
                      <a:pt x="1317" y="4071"/>
                    </a:lnTo>
                    <a:lnTo>
                      <a:pt x="1301" y="4071"/>
                    </a:lnTo>
                    <a:lnTo>
                      <a:pt x="1284" y="4071"/>
                    </a:lnTo>
                    <a:lnTo>
                      <a:pt x="1267" y="4071"/>
                    </a:lnTo>
                    <a:lnTo>
                      <a:pt x="1252" y="4071"/>
                    </a:lnTo>
                    <a:lnTo>
                      <a:pt x="1235" y="4071"/>
                    </a:lnTo>
                    <a:lnTo>
                      <a:pt x="1219" y="4071"/>
                    </a:lnTo>
                    <a:lnTo>
                      <a:pt x="1202" y="4071"/>
                    </a:lnTo>
                    <a:lnTo>
                      <a:pt x="1187" y="4071"/>
                    </a:lnTo>
                    <a:lnTo>
                      <a:pt x="1170" y="4071"/>
                    </a:lnTo>
                    <a:lnTo>
                      <a:pt x="1154" y="4071"/>
                    </a:lnTo>
                    <a:lnTo>
                      <a:pt x="1138" y="4071"/>
                    </a:lnTo>
                    <a:lnTo>
                      <a:pt x="1122" y="4071"/>
                    </a:lnTo>
                    <a:lnTo>
                      <a:pt x="1105" y="4071"/>
                    </a:lnTo>
                    <a:lnTo>
                      <a:pt x="1090" y="4071"/>
                    </a:lnTo>
                    <a:lnTo>
                      <a:pt x="1073" y="4071"/>
                    </a:lnTo>
                    <a:lnTo>
                      <a:pt x="1057" y="4071"/>
                    </a:lnTo>
                    <a:lnTo>
                      <a:pt x="1040" y="4071"/>
                    </a:lnTo>
                    <a:lnTo>
                      <a:pt x="1025" y="4071"/>
                    </a:lnTo>
                    <a:lnTo>
                      <a:pt x="1008" y="4071"/>
                    </a:lnTo>
                    <a:lnTo>
                      <a:pt x="992" y="4071"/>
                    </a:lnTo>
                    <a:lnTo>
                      <a:pt x="975" y="4071"/>
                    </a:lnTo>
                    <a:lnTo>
                      <a:pt x="960" y="4071"/>
                    </a:lnTo>
                    <a:lnTo>
                      <a:pt x="943" y="4071"/>
                    </a:lnTo>
                    <a:lnTo>
                      <a:pt x="927" y="4071"/>
                    </a:lnTo>
                    <a:lnTo>
                      <a:pt x="910" y="4071"/>
                    </a:lnTo>
                    <a:lnTo>
                      <a:pt x="895" y="4071"/>
                    </a:lnTo>
                    <a:lnTo>
                      <a:pt x="878" y="4071"/>
                    </a:lnTo>
                    <a:lnTo>
                      <a:pt x="862" y="4071"/>
                    </a:lnTo>
                    <a:lnTo>
                      <a:pt x="845" y="4071"/>
                    </a:lnTo>
                    <a:lnTo>
                      <a:pt x="828" y="4071"/>
                    </a:lnTo>
                    <a:lnTo>
                      <a:pt x="813" y="4071"/>
                    </a:lnTo>
                    <a:lnTo>
                      <a:pt x="796" y="4071"/>
                    </a:lnTo>
                    <a:lnTo>
                      <a:pt x="780" y="4071"/>
                    </a:lnTo>
                    <a:lnTo>
                      <a:pt x="764" y="4071"/>
                    </a:lnTo>
                    <a:lnTo>
                      <a:pt x="748" y="4071"/>
                    </a:lnTo>
                    <a:lnTo>
                      <a:pt x="731" y="4071"/>
                    </a:lnTo>
                    <a:lnTo>
                      <a:pt x="716" y="4071"/>
                    </a:lnTo>
                    <a:lnTo>
                      <a:pt x="699" y="4071"/>
                    </a:lnTo>
                    <a:lnTo>
                      <a:pt x="683" y="4071"/>
                    </a:lnTo>
                    <a:lnTo>
                      <a:pt x="666" y="4071"/>
                    </a:lnTo>
                    <a:lnTo>
                      <a:pt x="651" y="4071"/>
                    </a:lnTo>
                    <a:lnTo>
                      <a:pt x="634" y="4071"/>
                    </a:lnTo>
                    <a:lnTo>
                      <a:pt x="618" y="4071"/>
                    </a:lnTo>
                    <a:lnTo>
                      <a:pt x="601" y="4071"/>
                    </a:lnTo>
                    <a:lnTo>
                      <a:pt x="586" y="4071"/>
                    </a:lnTo>
                    <a:lnTo>
                      <a:pt x="569" y="4071"/>
                    </a:lnTo>
                    <a:lnTo>
                      <a:pt x="553" y="4071"/>
                    </a:lnTo>
                    <a:lnTo>
                      <a:pt x="536" y="4071"/>
                    </a:lnTo>
                    <a:lnTo>
                      <a:pt x="521" y="4071"/>
                    </a:lnTo>
                    <a:lnTo>
                      <a:pt x="504" y="4071"/>
                    </a:lnTo>
                    <a:lnTo>
                      <a:pt x="488" y="4071"/>
                    </a:lnTo>
                    <a:lnTo>
                      <a:pt x="471" y="4071"/>
                    </a:lnTo>
                    <a:lnTo>
                      <a:pt x="456" y="4071"/>
                    </a:lnTo>
                    <a:lnTo>
                      <a:pt x="439" y="4071"/>
                    </a:lnTo>
                    <a:lnTo>
                      <a:pt x="422" y="4071"/>
                    </a:lnTo>
                    <a:lnTo>
                      <a:pt x="406" y="4071"/>
                    </a:lnTo>
                    <a:lnTo>
                      <a:pt x="390" y="4071"/>
                    </a:lnTo>
                    <a:lnTo>
                      <a:pt x="374" y="4071"/>
                    </a:lnTo>
                    <a:lnTo>
                      <a:pt x="357" y="4071"/>
                    </a:lnTo>
                    <a:lnTo>
                      <a:pt x="342" y="4071"/>
                    </a:lnTo>
                    <a:lnTo>
                      <a:pt x="325" y="4071"/>
                    </a:lnTo>
                    <a:lnTo>
                      <a:pt x="309" y="4071"/>
                    </a:lnTo>
                    <a:lnTo>
                      <a:pt x="292" y="4071"/>
                    </a:lnTo>
                    <a:lnTo>
                      <a:pt x="277" y="4071"/>
                    </a:lnTo>
                    <a:lnTo>
                      <a:pt x="260" y="4071"/>
                    </a:lnTo>
                    <a:lnTo>
                      <a:pt x="244" y="4071"/>
                    </a:lnTo>
                    <a:lnTo>
                      <a:pt x="227" y="4071"/>
                    </a:lnTo>
                    <a:lnTo>
                      <a:pt x="212" y="4071"/>
                    </a:lnTo>
                    <a:lnTo>
                      <a:pt x="195" y="4071"/>
                    </a:lnTo>
                    <a:lnTo>
                      <a:pt x="179" y="4071"/>
                    </a:lnTo>
                    <a:lnTo>
                      <a:pt x="162" y="4071"/>
                    </a:lnTo>
                    <a:lnTo>
                      <a:pt x="147" y="4071"/>
                    </a:lnTo>
                    <a:lnTo>
                      <a:pt x="130" y="4071"/>
                    </a:lnTo>
                    <a:lnTo>
                      <a:pt x="114" y="4071"/>
                    </a:lnTo>
                    <a:lnTo>
                      <a:pt x="97" y="4071"/>
                    </a:lnTo>
                    <a:lnTo>
                      <a:pt x="82" y="4071"/>
                    </a:lnTo>
                    <a:lnTo>
                      <a:pt x="65" y="4071"/>
                    </a:lnTo>
                    <a:lnTo>
                      <a:pt x="49" y="4071"/>
                    </a:lnTo>
                    <a:lnTo>
                      <a:pt x="32" y="4071"/>
                    </a:lnTo>
                    <a:lnTo>
                      <a:pt x="17" y="4071"/>
                    </a:lnTo>
                    <a:lnTo>
                      <a:pt x="0" y="4071"/>
                    </a:lnTo>
                    <a:close/>
                  </a:path>
                </a:pathLst>
              </a:custGeom>
              <a:solidFill>
                <a:srgbClr val="f47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06360" y="362160"/>
                <a:ext cx="279360" cy="389880"/>
              </a:xfrm>
              <a:custGeom>
                <a:avLst/>
                <a:gdLst/>
                <a:ahLst/>
                <a:rect l="l" t="t" r="r" b="b"/>
                <a:pathLst>
                  <a:path w="3235" h="4071">
                    <a:moveTo>
                      <a:pt x="0" y="4071"/>
                    </a:moveTo>
                    <a:lnTo>
                      <a:pt x="0" y="4071"/>
                    </a:lnTo>
                    <a:lnTo>
                      <a:pt x="17" y="4054"/>
                    </a:lnTo>
                    <a:lnTo>
                      <a:pt x="32" y="4021"/>
                    </a:lnTo>
                    <a:lnTo>
                      <a:pt x="49" y="3979"/>
                    </a:lnTo>
                    <a:lnTo>
                      <a:pt x="65" y="3928"/>
                    </a:lnTo>
                    <a:lnTo>
                      <a:pt x="82" y="3868"/>
                    </a:lnTo>
                    <a:lnTo>
                      <a:pt x="97" y="3809"/>
                    </a:lnTo>
                    <a:lnTo>
                      <a:pt x="114" y="3751"/>
                    </a:lnTo>
                    <a:lnTo>
                      <a:pt x="130" y="3683"/>
                    </a:lnTo>
                    <a:lnTo>
                      <a:pt x="147" y="3616"/>
                    </a:lnTo>
                    <a:lnTo>
                      <a:pt x="162" y="3548"/>
                    </a:lnTo>
                    <a:lnTo>
                      <a:pt x="179" y="3472"/>
                    </a:lnTo>
                    <a:lnTo>
                      <a:pt x="195" y="3404"/>
                    </a:lnTo>
                    <a:lnTo>
                      <a:pt x="212" y="3329"/>
                    </a:lnTo>
                    <a:lnTo>
                      <a:pt x="227" y="3252"/>
                    </a:lnTo>
                    <a:lnTo>
                      <a:pt x="244" y="3176"/>
                    </a:lnTo>
                    <a:lnTo>
                      <a:pt x="260" y="3108"/>
                    </a:lnTo>
                    <a:lnTo>
                      <a:pt x="277" y="3033"/>
                    </a:lnTo>
                    <a:lnTo>
                      <a:pt x="292" y="2956"/>
                    </a:lnTo>
                    <a:lnTo>
                      <a:pt x="309" y="2881"/>
                    </a:lnTo>
                    <a:lnTo>
                      <a:pt x="325" y="2804"/>
                    </a:lnTo>
                    <a:lnTo>
                      <a:pt x="342" y="2728"/>
                    </a:lnTo>
                    <a:lnTo>
                      <a:pt x="357" y="2653"/>
                    </a:lnTo>
                    <a:lnTo>
                      <a:pt x="374" y="2576"/>
                    </a:lnTo>
                    <a:lnTo>
                      <a:pt x="390" y="2501"/>
                    </a:lnTo>
                    <a:lnTo>
                      <a:pt x="406" y="2432"/>
                    </a:lnTo>
                    <a:lnTo>
                      <a:pt x="422" y="2357"/>
                    </a:lnTo>
                    <a:lnTo>
                      <a:pt x="439" y="2289"/>
                    </a:lnTo>
                    <a:lnTo>
                      <a:pt x="456" y="2213"/>
                    </a:lnTo>
                    <a:lnTo>
                      <a:pt x="471" y="2145"/>
                    </a:lnTo>
                    <a:lnTo>
                      <a:pt x="488" y="2079"/>
                    </a:lnTo>
                    <a:lnTo>
                      <a:pt x="504" y="2010"/>
                    </a:lnTo>
                    <a:lnTo>
                      <a:pt x="521" y="1944"/>
                    </a:lnTo>
                    <a:lnTo>
                      <a:pt x="536" y="1875"/>
                    </a:lnTo>
                    <a:lnTo>
                      <a:pt x="553" y="1807"/>
                    </a:lnTo>
                    <a:lnTo>
                      <a:pt x="569" y="1749"/>
                    </a:lnTo>
                    <a:lnTo>
                      <a:pt x="586" y="1681"/>
                    </a:lnTo>
                    <a:lnTo>
                      <a:pt x="601" y="1622"/>
                    </a:lnTo>
                    <a:lnTo>
                      <a:pt x="618" y="1562"/>
                    </a:lnTo>
                    <a:lnTo>
                      <a:pt x="634" y="1504"/>
                    </a:lnTo>
                    <a:lnTo>
                      <a:pt x="651" y="1445"/>
                    </a:lnTo>
                    <a:lnTo>
                      <a:pt x="666" y="1385"/>
                    </a:lnTo>
                    <a:lnTo>
                      <a:pt x="683" y="1334"/>
                    </a:lnTo>
                    <a:lnTo>
                      <a:pt x="699" y="1275"/>
                    </a:lnTo>
                    <a:lnTo>
                      <a:pt x="716" y="1226"/>
                    </a:lnTo>
                    <a:lnTo>
                      <a:pt x="731" y="1175"/>
                    </a:lnTo>
                    <a:lnTo>
                      <a:pt x="748" y="1124"/>
                    </a:lnTo>
                    <a:lnTo>
                      <a:pt x="764" y="1073"/>
                    </a:lnTo>
                    <a:lnTo>
                      <a:pt x="780" y="1023"/>
                    </a:lnTo>
                    <a:lnTo>
                      <a:pt x="796" y="981"/>
                    </a:lnTo>
                    <a:lnTo>
                      <a:pt x="813" y="930"/>
                    </a:lnTo>
                    <a:lnTo>
                      <a:pt x="828" y="888"/>
                    </a:lnTo>
                    <a:lnTo>
                      <a:pt x="845" y="844"/>
                    </a:lnTo>
                    <a:lnTo>
                      <a:pt x="862" y="802"/>
                    </a:lnTo>
                    <a:lnTo>
                      <a:pt x="878" y="760"/>
                    </a:lnTo>
                    <a:lnTo>
                      <a:pt x="895" y="727"/>
                    </a:lnTo>
                    <a:lnTo>
                      <a:pt x="910" y="685"/>
                    </a:lnTo>
                    <a:lnTo>
                      <a:pt x="927" y="651"/>
                    </a:lnTo>
                    <a:lnTo>
                      <a:pt x="943" y="608"/>
                    </a:lnTo>
                    <a:lnTo>
                      <a:pt x="960" y="574"/>
                    </a:lnTo>
                    <a:lnTo>
                      <a:pt x="975" y="541"/>
                    </a:lnTo>
                    <a:lnTo>
                      <a:pt x="992" y="508"/>
                    </a:lnTo>
                    <a:lnTo>
                      <a:pt x="1008" y="482"/>
                    </a:lnTo>
                    <a:lnTo>
                      <a:pt x="1025" y="448"/>
                    </a:lnTo>
                    <a:lnTo>
                      <a:pt x="1040" y="422"/>
                    </a:lnTo>
                    <a:lnTo>
                      <a:pt x="1057" y="389"/>
                    </a:lnTo>
                    <a:lnTo>
                      <a:pt x="1073" y="364"/>
                    </a:lnTo>
                    <a:lnTo>
                      <a:pt x="1090" y="338"/>
                    </a:lnTo>
                    <a:lnTo>
                      <a:pt x="1105" y="313"/>
                    </a:lnTo>
                    <a:lnTo>
                      <a:pt x="1122" y="287"/>
                    </a:lnTo>
                    <a:lnTo>
                      <a:pt x="1138" y="271"/>
                    </a:lnTo>
                    <a:lnTo>
                      <a:pt x="1154" y="245"/>
                    </a:lnTo>
                    <a:lnTo>
                      <a:pt x="1170" y="228"/>
                    </a:lnTo>
                    <a:lnTo>
                      <a:pt x="1187" y="203"/>
                    </a:lnTo>
                    <a:lnTo>
                      <a:pt x="1202" y="186"/>
                    </a:lnTo>
                    <a:lnTo>
                      <a:pt x="1219" y="170"/>
                    </a:lnTo>
                    <a:lnTo>
                      <a:pt x="1235" y="152"/>
                    </a:lnTo>
                    <a:lnTo>
                      <a:pt x="1252" y="135"/>
                    </a:lnTo>
                    <a:lnTo>
                      <a:pt x="1267" y="128"/>
                    </a:lnTo>
                    <a:lnTo>
                      <a:pt x="1284" y="110"/>
                    </a:lnTo>
                    <a:lnTo>
                      <a:pt x="1301" y="93"/>
                    </a:lnTo>
                    <a:lnTo>
                      <a:pt x="1317" y="84"/>
                    </a:lnTo>
                    <a:lnTo>
                      <a:pt x="1334" y="77"/>
                    </a:lnTo>
                    <a:lnTo>
                      <a:pt x="1349" y="60"/>
                    </a:lnTo>
                    <a:lnTo>
                      <a:pt x="1366" y="51"/>
                    </a:lnTo>
                    <a:lnTo>
                      <a:pt x="1382" y="42"/>
                    </a:lnTo>
                    <a:lnTo>
                      <a:pt x="1399" y="33"/>
                    </a:lnTo>
                    <a:lnTo>
                      <a:pt x="1414" y="33"/>
                    </a:lnTo>
                    <a:lnTo>
                      <a:pt x="1431" y="26"/>
                    </a:lnTo>
                    <a:lnTo>
                      <a:pt x="1447" y="17"/>
                    </a:lnTo>
                    <a:lnTo>
                      <a:pt x="1464" y="17"/>
                    </a:lnTo>
                    <a:lnTo>
                      <a:pt x="1479" y="9"/>
                    </a:lnTo>
                    <a:lnTo>
                      <a:pt x="1496" y="9"/>
                    </a:lnTo>
                    <a:lnTo>
                      <a:pt x="1512" y="9"/>
                    </a:lnTo>
                    <a:lnTo>
                      <a:pt x="1528" y="0"/>
                    </a:lnTo>
                    <a:lnTo>
                      <a:pt x="1544" y="0"/>
                    </a:lnTo>
                    <a:lnTo>
                      <a:pt x="1561" y="0"/>
                    </a:lnTo>
                    <a:lnTo>
                      <a:pt x="1576" y="0"/>
                    </a:lnTo>
                    <a:lnTo>
                      <a:pt x="1593" y="0"/>
                    </a:lnTo>
                    <a:lnTo>
                      <a:pt x="1609" y="9"/>
                    </a:lnTo>
                    <a:lnTo>
                      <a:pt x="1626" y="9"/>
                    </a:lnTo>
                    <a:lnTo>
                      <a:pt x="1641" y="9"/>
                    </a:lnTo>
                    <a:lnTo>
                      <a:pt x="1658" y="17"/>
                    </a:lnTo>
                    <a:lnTo>
                      <a:pt x="1674" y="17"/>
                    </a:lnTo>
                    <a:lnTo>
                      <a:pt x="1691" y="26"/>
                    </a:lnTo>
                    <a:lnTo>
                      <a:pt x="1706" y="26"/>
                    </a:lnTo>
                    <a:lnTo>
                      <a:pt x="1723" y="33"/>
                    </a:lnTo>
                    <a:lnTo>
                      <a:pt x="1740" y="42"/>
                    </a:lnTo>
                    <a:lnTo>
                      <a:pt x="1756" y="42"/>
                    </a:lnTo>
                    <a:lnTo>
                      <a:pt x="1773" y="51"/>
                    </a:lnTo>
                    <a:lnTo>
                      <a:pt x="1788" y="60"/>
                    </a:lnTo>
                    <a:lnTo>
                      <a:pt x="1805" y="68"/>
                    </a:lnTo>
                    <a:lnTo>
                      <a:pt x="1821" y="77"/>
                    </a:lnTo>
                    <a:lnTo>
                      <a:pt x="1838" y="84"/>
                    </a:lnTo>
                    <a:lnTo>
                      <a:pt x="1853" y="93"/>
                    </a:lnTo>
                    <a:lnTo>
                      <a:pt x="1870" y="110"/>
                    </a:lnTo>
                    <a:lnTo>
                      <a:pt x="1886" y="119"/>
                    </a:lnTo>
                    <a:lnTo>
                      <a:pt x="1902" y="128"/>
                    </a:lnTo>
                    <a:lnTo>
                      <a:pt x="1918" y="135"/>
                    </a:lnTo>
                    <a:lnTo>
                      <a:pt x="1935" y="152"/>
                    </a:lnTo>
                    <a:lnTo>
                      <a:pt x="1950" y="161"/>
                    </a:lnTo>
                    <a:lnTo>
                      <a:pt x="1967" y="177"/>
                    </a:lnTo>
                    <a:lnTo>
                      <a:pt x="1983" y="186"/>
                    </a:lnTo>
                    <a:lnTo>
                      <a:pt x="2000" y="203"/>
                    </a:lnTo>
                    <a:lnTo>
                      <a:pt x="2015" y="212"/>
                    </a:lnTo>
                    <a:lnTo>
                      <a:pt x="2032" y="228"/>
                    </a:lnTo>
                    <a:lnTo>
                      <a:pt x="2048" y="245"/>
                    </a:lnTo>
                    <a:lnTo>
                      <a:pt x="2065" y="254"/>
                    </a:lnTo>
                    <a:lnTo>
                      <a:pt x="2080" y="271"/>
                    </a:lnTo>
                    <a:lnTo>
                      <a:pt x="2097" y="287"/>
                    </a:lnTo>
                    <a:lnTo>
                      <a:pt x="2113" y="305"/>
                    </a:lnTo>
                    <a:lnTo>
                      <a:pt x="2130" y="313"/>
                    </a:lnTo>
                    <a:lnTo>
                      <a:pt x="2147" y="329"/>
                    </a:lnTo>
                    <a:lnTo>
                      <a:pt x="2162" y="347"/>
                    </a:lnTo>
                    <a:lnTo>
                      <a:pt x="2179" y="364"/>
                    </a:lnTo>
                    <a:lnTo>
                      <a:pt x="2195" y="380"/>
                    </a:lnTo>
                    <a:lnTo>
                      <a:pt x="2212" y="397"/>
                    </a:lnTo>
                    <a:lnTo>
                      <a:pt x="2227" y="413"/>
                    </a:lnTo>
                    <a:lnTo>
                      <a:pt x="2244" y="431"/>
                    </a:lnTo>
                    <a:lnTo>
                      <a:pt x="2260" y="448"/>
                    </a:lnTo>
                    <a:lnTo>
                      <a:pt x="2276" y="464"/>
                    </a:lnTo>
                    <a:lnTo>
                      <a:pt x="2292" y="482"/>
                    </a:lnTo>
                    <a:lnTo>
                      <a:pt x="2309" y="508"/>
                    </a:lnTo>
                    <a:lnTo>
                      <a:pt x="2324" y="524"/>
                    </a:lnTo>
                    <a:lnTo>
                      <a:pt x="2341" y="541"/>
                    </a:lnTo>
                    <a:lnTo>
                      <a:pt x="2357" y="557"/>
                    </a:lnTo>
                    <a:lnTo>
                      <a:pt x="2374" y="574"/>
                    </a:lnTo>
                    <a:lnTo>
                      <a:pt x="2389" y="601"/>
                    </a:lnTo>
                    <a:lnTo>
                      <a:pt x="2406" y="616"/>
                    </a:lnTo>
                    <a:lnTo>
                      <a:pt x="2422" y="634"/>
                    </a:lnTo>
                    <a:lnTo>
                      <a:pt x="2439" y="651"/>
                    </a:lnTo>
                    <a:lnTo>
                      <a:pt x="2454" y="676"/>
                    </a:lnTo>
                    <a:lnTo>
                      <a:pt x="2471" y="693"/>
                    </a:lnTo>
                    <a:lnTo>
                      <a:pt x="2487" y="709"/>
                    </a:lnTo>
                    <a:lnTo>
                      <a:pt x="2504" y="727"/>
                    </a:lnTo>
                    <a:lnTo>
                      <a:pt x="2519" y="751"/>
                    </a:lnTo>
                    <a:lnTo>
                      <a:pt x="2536" y="769"/>
                    </a:lnTo>
                    <a:lnTo>
                      <a:pt x="2552" y="795"/>
                    </a:lnTo>
                    <a:lnTo>
                      <a:pt x="2569" y="811"/>
                    </a:lnTo>
                    <a:lnTo>
                      <a:pt x="2586" y="828"/>
                    </a:lnTo>
                    <a:lnTo>
                      <a:pt x="2601" y="853"/>
                    </a:lnTo>
                    <a:lnTo>
                      <a:pt x="2618" y="870"/>
                    </a:lnTo>
                    <a:lnTo>
                      <a:pt x="2634" y="888"/>
                    </a:lnTo>
                    <a:lnTo>
                      <a:pt x="2650" y="912"/>
                    </a:lnTo>
                    <a:lnTo>
                      <a:pt x="2666" y="930"/>
                    </a:lnTo>
                    <a:lnTo>
                      <a:pt x="2683" y="954"/>
                    </a:lnTo>
                    <a:lnTo>
                      <a:pt x="2698" y="972"/>
                    </a:lnTo>
                    <a:lnTo>
                      <a:pt x="2715" y="988"/>
                    </a:lnTo>
                    <a:lnTo>
                      <a:pt x="2731" y="1014"/>
                    </a:lnTo>
                    <a:lnTo>
                      <a:pt x="2748" y="1031"/>
                    </a:lnTo>
                    <a:lnTo>
                      <a:pt x="2763" y="1056"/>
                    </a:lnTo>
                    <a:lnTo>
                      <a:pt x="2780" y="1073"/>
                    </a:lnTo>
                    <a:lnTo>
                      <a:pt x="2796" y="1098"/>
                    </a:lnTo>
                    <a:lnTo>
                      <a:pt x="2813" y="1115"/>
                    </a:lnTo>
                    <a:lnTo>
                      <a:pt x="2828" y="1131"/>
                    </a:lnTo>
                    <a:lnTo>
                      <a:pt x="2845" y="1157"/>
                    </a:lnTo>
                    <a:lnTo>
                      <a:pt x="2861" y="1175"/>
                    </a:lnTo>
                    <a:lnTo>
                      <a:pt x="2878" y="1200"/>
                    </a:lnTo>
                    <a:lnTo>
                      <a:pt x="2893" y="1217"/>
                    </a:lnTo>
                    <a:lnTo>
                      <a:pt x="2910" y="1242"/>
                    </a:lnTo>
                    <a:lnTo>
                      <a:pt x="2926" y="1259"/>
                    </a:lnTo>
                    <a:lnTo>
                      <a:pt x="2943" y="1275"/>
                    </a:lnTo>
                    <a:lnTo>
                      <a:pt x="2958" y="1301"/>
                    </a:lnTo>
                    <a:lnTo>
                      <a:pt x="2975" y="1318"/>
                    </a:lnTo>
                    <a:lnTo>
                      <a:pt x="2992" y="1343"/>
                    </a:lnTo>
                    <a:lnTo>
                      <a:pt x="3008" y="1361"/>
                    </a:lnTo>
                    <a:lnTo>
                      <a:pt x="3024" y="1385"/>
                    </a:lnTo>
                    <a:lnTo>
                      <a:pt x="3040" y="1403"/>
                    </a:lnTo>
                    <a:lnTo>
                      <a:pt x="3057" y="1419"/>
                    </a:lnTo>
                    <a:lnTo>
                      <a:pt x="3072" y="1445"/>
                    </a:lnTo>
                    <a:lnTo>
                      <a:pt x="3089" y="1462"/>
                    </a:lnTo>
                    <a:lnTo>
                      <a:pt x="3105" y="1487"/>
                    </a:lnTo>
                    <a:lnTo>
                      <a:pt x="3122" y="1504"/>
                    </a:lnTo>
                    <a:lnTo>
                      <a:pt x="3137" y="1520"/>
                    </a:lnTo>
                    <a:lnTo>
                      <a:pt x="3154" y="1546"/>
                    </a:lnTo>
                    <a:lnTo>
                      <a:pt x="3170" y="1562"/>
                    </a:lnTo>
                    <a:lnTo>
                      <a:pt x="3187" y="1580"/>
                    </a:lnTo>
                    <a:lnTo>
                      <a:pt x="3202" y="1606"/>
                    </a:lnTo>
                    <a:lnTo>
                      <a:pt x="3219" y="1622"/>
                    </a:lnTo>
                    <a:lnTo>
                      <a:pt x="3235" y="1639"/>
                    </a:lnTo>
                    <a:lnTo>
                      <a:pt x="3235" y="4071"/>
                    </a:lnTo>
                    <a:lnTo>
                      <a:pt x="3219" y="4071"/>
                    </a:lnTo>
                    <a:lnTo>
                      <a:pt x="3202" y="4071"/>
                    </a:lnTo>
                    <a:lnTo>
                      <a:pt x="3187" y="4071"/>
                    </a:lnTo>
                    <a:lnTo>
                      <a:pt x="3170" y="4071"/>
                    </a:lnTo>
                    <a:lnTo>
                      <a:pt x="3154" y="4071"/>
                    </a:lnTo>
                    <a:lnTo>
                      <a:pt x="3137" y="4071"/>
                    </a:lnTo>
                    <a:lnTo>
                      <a:pt x="3122" y="4071"/>
                    </a:lnTo>
                    <a:lnTo>
                      <a:pt x="3105" y="4071"/>
                    </a:lnTo>
                    <a:lnTo>
                      <a:pt x="3089" y="4071"/>
                    </a:lnTo>
                    <a:lnTo>
                      <a:pt x="3072" y="4071"/>
                    </a:lnTo>
                    <a:lnTo>
                      <a:pt x="3057" y="4071"/>
                    </a:lnTo>
                    <a:lnTo>
                      <a:pt x="3040" y="4071"/>
                    </a:lnTo>
                    <a:lnTo>
                      <a:pt x="3024" y="4071"/>
                    </a:lnTo>
                    <a:lnTo>
                      <a:pt x="3008" y="4071"/>
                    </a:lnTo>
                    <a:lnTo>
                      <a:pt x="2992" y="4071"/>
                    </a:lnTo>
                    <a:lnTo>
                      <a:pt x="2975" y="4071"/>
                    </a:lnTo>
                    <a:lnTo>
                      <a:pt x="2958" y="4071"/>
                    </a:lnTo>
                    <a:lnTo>
                      <a:pt x="2943" y="4071"/>
                    </a:lnTo>
                    <a:lnTo>
                      <a:pt x="2926" y="4071"/>
                    </a:lnTo>
                    <a:lnTo>
                      <a:pt x="2910" y="4071"/>
                    </a:lnTo>
                    <a:lnTo>
                      <a:pt x="2893" y="4071"/>
                    </a:lnTo>
                    <a:lnTo>
                      <a:pt x="2878" y="4071"/>
                    </a:lnTo>
                    <a:lnTo>
                      <a:pt x="2861" y="4071"/>
                    </a:lnTo>
                    <a:lnTo>
                      <a:pt x="2845" y="4071"/>
                    </a:lnTo>
                    <a:lnTo>
                      <a:pt x="2828" y="4071"/>
                    </a:lnTo>
                    <a:lnTo>
                      <a:pt x="2813" y="4071"/>
                    </a:lnTo>
                    <a:lnTo>
                      <a:pt x="2796" y="4071"/>
                    </a:lnTo>
                    <a:lnTo>
                      <a:pt x="2780" y="4071"/>
                    </a:lnTo>
                    <a:lnTo>
                      <a:pt x="2763" y="4071"/>
                    </a:lnTo>
                    <a:lnTo>
                      <a:pt x="2748" y="4071"/>
                    </a:lnTo>
                    <a:lnTo>
                      <a:pt x="2731" y="4071"/>
                    </a:lnTo>
                    <a:lnTo>
                      <a:pt x="2715" y="4071"/>
                    </a:lnTo>
                    <a:lnTo>
                      <a:pt x="2698" y="4071"/>
                    </a:lnTo>
                    <a:lnTo>
                      <a:pt x="2683" y="4071"/>
                    </a:lnTo>
                    <a:lnTo>
                      <a:pt x="2666" y="4071"/>
                    </a:lnTo>
                    <a:lnTo>
                      <a:pt x="2650" y="4071"/>
                    </a:lnTo>
                    <a:lnTo>
                      <a:pt x="2634" y="4071"/>
                    </a:lnTo>
                    <a:lnTo>
                      <a:pt x="2618" y="4071"/>
                    </a:lnTo>
                    <a:lnTo>
                      <a:pt x="2601" y="4071"/>
                    </a:lnTo>
                    <a:lnTo>
                      <a:pt x="2586" y="4071"/>
                    </a:lnTo>
                    <a:lnTo>
                      <a:pt x="2569" y="4071"/>
                    </a:lnTo>
                    <a:lnTo>
                      <a:pt x="2552" y="4071"/>
                    </a:lnTo>
                    <a:lnTo>
                      <a:pt x="2536" y="4071"/>
                    </a:lnTo>
                    <a:lnTo>
                      <a:pt x="2519" y="4071"/>
                    </a:lnTo>
                    <a:lnTo>
                      <a:pt x="2504" y="4071"/>
                    </a:lnTo>
                    <a:lnTo>
                      <a:pt x="2487" y="4071"/>
                    </a:lnTo>
                    <a:lnTo>
                      <a:pt x="2471" y="4071"/>
                    </a:lnTo>
                    <a:lnTo>
                      <a:pt x="2454" y="4071"/>
                    </a:lnTo>
                    <a:lnTo>
                      <a:pt x="2439" y="4071"/>
                    </a:lnTo>
                    <a:lnTo>
                      <a:pt x="2422" y="4071"/>
                    </a:lnTo>
                    <a:lnTo>
                      <a:pt x="2406" y="4071"/>
                    </a:lnTo>
                    <a:lnTo>
                      <a:pt x="2389" y="4071"/>
                    </a:lnTo>
                    <a:lnTo>
                      <a:pt x="2374" y="4071"/>
                    </a:lnTo>
                    <a:lnTo>
                      <a:pt x="2357" y="4071"/>
                    </a:lnTo>
                    <a:lnTo>
                      <a:pt x="2341" y="4071"/>
                    </a:lnTo>
                    <a:lnTo>
                      <a:pt x="2324" y="4071"/>
                    </a:lnTo>
                    <a:lnTo>
                      <a:pt x="2309" y="4071"/>
                    </a:lnTo>
                    <a:lnTo>
                      <a:pt x="2292" y="4071"/>
                    </a:lnTo>
                    <a:lnTo>
                      <a:pt x="2276" y="4071"/>
                    </a:lnTo>
                    <a:lnTo>
                      <a:pt x="2260" y="4071"/>
                    </a:lnTo>
                    <a:lnTo>
                      <a:pt x="2244" y="4071"/>
                    </a:lnTo>
                    <a:lnTo>
                      <a:pt x="2227" y="4071"/>
                    </a:lnTo>
                    <a:lnTo>
                      <a:pt x="2212" y="4071"/>
                    </a:lnTo>
                    <a:lnTo>
                      <a:pt x="2195" y="4071"/>
                    </a:lnTo>
                    <a:lnTo>
                      <a:pt x="2179" y="4071"/>
                    </a:lnTo>
                    <a:lnTo>
                      <a:pt x="2162" y="4071"/>
                    </a:lnTo>
                    <a:lnTo>
                      <a:pt x="2147" y="4071"/>
                    </a:lnTo>
                    <a:lnTo>
                      <a:pt x="2130" y="4071"/>
                    </a:lnTo>
                    <a:lnTo>
                      <a:pt x="2113" y="4071"/>
                    </a:lnTo>
                    <a:lnTo>
                      <a:pt x="2097" y="4071"/>
                    </a:lnTo>
                    <a:lnTo>
                      <a:pt x="2080" y="4071"/>
                    </a:lnTo>
                    <a:lnTo>
                      <a:pt x="2065" y="4071"/>
                    </a:lnTo>
                    <a:lnTo>
                      <a:pt x="2048" y="4071"/>
                    </a:lnTo>
                    <a:lnTo>
                      <a:pt x="2032" y="4071"/>
                    </a:lnTo>
                    <a:lnTo>
                      <a:pt x="2015" y="4071"/>
                    </a:lnTo>
                    <a:lnTo>
                      <a:pt x="2000" y="4071"/>
                    </a:lnTo>
                    <a:lnTo>
                      <a:pt x="1983" y="4071"/>
                    </a:lnTo>
                    <a:lnTo>
                      <a:pt x="1967" y="4071"/>
                    </a:lnTo>
                    <a:lnTo>
                      <a:pt x="1950" y="4071"/>
                    </a:lnTo>
                    <a:lnTo>
                      <a:pt x="1935" y="4071"/>
                    </a:lnTo>
                    <a:lnTo>
                      <a:pt x="1918" y="4071"/>
                    </a:lnTo>
                    <a:lnTo>
                      <a:pt x="1902" y="4071"/>
                    </a:lnTo>
                    <a:lnTo>
                      <a:pt x="1886" y="4071"/>
                    </a:lnTo>
                    <a:lnTo>
                      <a:pt x="1870" y="4071"/>
                    </a:lnTo>
                    <a:lnTo>
                      <a:pt x="1853" y="4071"/>
                    </a:lnTo>
                    <a:lnTo>
                      <a:pt x="1838" y="4071"/>
                    </a:lnTo>
                    <a:lnTo>
                      <a:pt x="1821" y="4071"/>
                    </a:lnTo>
                    <a:lnTo>
                      <a:pt x="1805" y="4071"/>
                    </a:lnTo>
                    <a:lnTo>
                      <a:pt x="1788" y="4071"/>
                    </a:lnTo>
                    <a:lnTo>
                      <a:pt x="1773" y="4071"/>
                    </a:lnTo>
                    <a:lnTo>
                      <a:pt x="1756" y="4071"/>
                    </a:lnTo>
                    <a:lnTo>
                      <a:pt x="1740" y="4071"/>
                    </a:lnTo>
                    <a:lnTo>
                      <a:pt x="1723" y="4071"/>
                    </a:lnTo>
                    <a:lnTo>
                      <a:pt x="1706" y="4071"/>
                    </a:lnTo>
                    <a:lnTo>
                      <a:pt x="1691" y="4071"/>
                    </a:lnTo>
                    <a:lnTo>
                      <a:pt x="1674" y="4071"/>
                    </a:lnTo>
                    <a:lnTo>
                      <a:pt x="1658" y="4071"/>
                    </a:lnTo>
                    <a:lnTo>
                      <a:pt x="1641" y="4071"/>
                    </a:lnTo>
                    <a:lnTo>
                      <a:pt x="1626" y="4071"/>
                    </a:lnTo>
                    <a:lnTo>
                      <a:pt x="1609" y="4071"/>
                    </a:lnTo>
                    <a:lnTo>
                      <a:pt x="1593" y="4071"/>
                    </a:lnTo>
                    <a:lnTo>
                      <a:pt x="1576" y="4071"/>
                    </a:lnTo>
                    <a:lnTo>
                      <a:pt x="1561" y="4071"/>
                    </a:lnTo>
                    <a:lnTo>
                      <a:pt x="1544" y="4071"/>
                    </a:lnTo>
                    <a:lnTo>
                      <a:pt x="1528" y="4071"/>
                    </a:lnTo>
                    <a:lnTo>
                      <a:pt x="1512" y="4071"/>
                    </a:lnTo>
                    <a:lnTo>
                      <a:pt x="1496" y="4071"/>
                    </a:lnTo>
                    <a:lnTo>
                      <a:pt x="1479" y="4071"/>
                    </a:lnTo>
                    <a:lnTo>
                      <a:pt x="1464" y="4071"/>
                    </a:lnTo>
                    <a:lnTo>
                      <a:pt x="1447" y="4071"/>
                    </a:lnTo>
                    <a:lnTo>
                      <a:pt x="1431" y="4071"/>
                    </a:lnTo>
                    <a:lnTo>
                      <a:pt x="1414" y="4071"/>
                    </a:lnTo>
                    <a:lnTo>
                      <a:pt x="1399" y="4071"/>
                    </a:lnTo>
                    <a:lnTo>
                      <a:pt x="1382" y="4071"/>
                    </a:lnTo>
                    <a:lnTo>
                      <a:pt x="1366" y="4071"/>
                    </a:lnTo>
                    <a:lnTo>
                      <a:pt x="1349" y="4071"/>
                    </a:lnTo>
                    <a:lnTo>
                      <a:pt x="1334" y="4071"/>
                    </a:lnTo>
                    <a:lnTo>
                      <a:pt x="1317" y="4071"/>
                    </a:lnTo>
                    <a:lnTo>
                      <a:pt x="1301" y="4071"/>
                    </a:lnTo>
                    <a:lnTo>
                      <a:pt x="1284" y="4071"/>
                    </a:lnTo>
                    <a:lnTo>
                      <a:pt x="1267" y="4071"/>
                    </a:lnTo>
                    <a:lnTo>
                      <a:pt x="1252" y="4071"/>
                    </a:lnTo>
                    <a:lnTo>
                      <a:pt x="1235" y="4071"/>
                    </a:lnTo>
                    <a:lnTo>
                      <a:pt x="1219" y="4071"/>
                    </a:lnTo>
                    <a:lnTo>
                      <a:pt x="1202" y="4071"/>
                    </a:lnTo>
                    <a:lnTo>
                      <a:pt x="1187" y="4071"/>
                    </a:lnTo>
                    <a:lnTo>
                      <a:pt x="1170" y="4071"/>
                    </a:lnTo>
                    <a:lnTo>
                      <a:pt x="1154" y="4071"/>
                    </a:lnTo>
                    <a:lnTo>
                      <a:pt x="1138" y="4071"/>
                    </a:lnTo>
                    <a:lnTo>
                      <a:pt x="1122" y="4071"/>
                    </a:lnTo>
                    <a:lnTo>
                      <a:pt x="1105" y="4071"/>
                    </a:lnTo>
                    <a:lnTo>
                      <a:pt x="1090" y="4071"/>
                    </a:lnTo>
                    <a:lnTo>
                      <a:pt x="1073" y="4071"/>
                    </a:lnTo>
                    <a:lnTo>
                      <a:pt x="1057" y="4071"/>
                    </a:lnTo>
                    <a:lnTo>
                      <a:pt x="1040" y="4071"/>
                    </a:lnTo>
                    <a:lnTo>
                      <a:pt x="1025" y="4071"/>
                    </a:lnTo>
                    <a:lnTo>
                      <a:pt x="1008" y="4071"/>
                    </a:lnTo>
                    <a:lnTo>
                      <a:pt x="992" y="4071"/>
                    </a:lnTo>
                    <a:lnTo>
                      <a:pt x="975" y="4071"/>
                    </a:lnTo>
                    <a:lnTo>
                      <a:pt x="960" y="4071"/>
                    </a:lnTo>
                    <a:lnTo>
                      <a:pt x="943" y="4071"/>
                    </a:lnTo>
                    <a:lnTo>
                      <a:pt x="927" y="4071"/>
                    </a:lnTo>
                    <a:lnTo>
                      <a:pt x="910" y="4071"/>
                    </a:lnTo>
                    <a:lnTo>
                      <a:pt x="895" y="4071"/>
                    </a:lnTo>
                    <a:lnTo>
                      <a:pt x="878" y="4071"/>
                    </a:lnTo>
                    <a:lnTo>
                      <a:pt x="862" y="4071"/>
                    </a:lnTo>
                    <a:lnTo>
                      <a:pt x="845" y="4071"/>
                    </a:lnTo>
                    <a:lnTo>
                      <a:pt x="828" y="4071"/>
                    </a:lnTo>
                    <a:lnTo>
                      <a:pt x="813" y="4071"/>
                    </a:lnTo>
                    <a:lnTo>
                      <a:pt x="796" y="4071"/>
                    </a:lnTo>
                    <a:lnTo>
                      <a:pt x="780" y="4071"/>
                    </a:lnTo>
                    <a:lnTo>
                      <a:pt x="764" y="4071"/>
                    </a:lnTo>
                    <a:lnTo>
                      <a:pt x="748" y="4071"/>
                    </a:lnTo>
                    <a:lnTo>
                      <a:pt x="731" y="4071"/>
                    </a:lnTo>
                    <a:lnTo>
                      <a:pt x="716" y="4071"/>
                    </a:lnTo>
                    <a:lnTo>
                      <a:pt x="699" y="4071"/>
                    </a:lnTo>
                    <a:lnTo>
                      <a:pt x="683" y="4071"/>
                    </a:lnTo>
                    <a:lnTo>
                      <a:pt x="666" y="4071"/>
                    </a:lnTo>
                    <a:lnTo>
                      <a:pt x="651" y="4071"/>
                    </a:lnTo>
                    <a:lnTo>
                      <a:pt x="634" y="4071"/>
                    </a:lnTo>
                    <a:lnTo>
                      <a:pt x="618" y="4071"/>
                    </a:lnTo>
                    <a:lnTo>
                      <a:pt x="601" y="4071"/>
                    </a:lnTo>
                    <a:lnTo>
                      <a:pt x="586" y="4071"/>
                    </a:lnTo>
                    <a:lnTo>
                      <a:pt x="569" y="4071"/>
                    </a:lnTo>
                    <a:lnTo>
                      <a:pt x="553" y="4071"/>
                    </a:lnTo>
                    <a:lnTo>
                      <a:pt x="536" y="4071"/>
                    </a:lnTo>
                    <a:lnTo>
                      <a:pt x="521" y="4071"/>
                    </a:lnTo>
                    <a:lnTo>
                      <a:pt x="504" y="4071"/>
                    </a:lnTo>
                    <a:lnTo>
                      <a:pt x="488" y="4071"/>
                    </a:lnTo>
                    <a:lnTo>
                      <a:pt x="471" y="4071"/>
                    </a:lnTo>
                    <a:lnTo>
                      <a:pt x="456" y="4071"/>
                    </a:lnTo>
                    <a:lnTo>
                      <a:pt x="439" y="4071"/>
                    </a:lnTo>
                    <a:lnTo>
                      <a:pt x="422" y="4071"/>
                    </a:lnTo>
                    <a:lnTo>
                      <a:pt x="406" y="4071"/>
                    </a:lnTo>
                    <a:lnTo>
                      <a:pt x="390" y="4071"/>
                    </a:lnTo>
                    <a:lnTo>
                      <a:pt x="374" y="4071"/>
                    </a:lnTo>
                    <a:lnTo>
                      <a:pt x="357" y="4071"/>
                    </a:lnTo>
                    <a:lnTo>
                      <a:pt x="342" y="4071"/>
                    </a:lnTo>
                    <a:lnTo>
                      <a:pt x="325" y="4071"/>
                    </a:lnTo>
                    <a:lnTo>
                      <a:pt x="309" y="4071"/>
                    </a:lnTo>
                    <a:lnTo>
                      <a:pt x="292" y="4071"/>
                    </a:lnTo>
                    <a:lnTo>
                      <a:pt x="277" y="4071"/>
                    </a:lnTo>
                    <a:lnTo>
                      <a:pt x="260" y="4071"/>
                    </a:lnTo>
                    <a:lnTo>
                      <a:pt x="244" y="4071"/>
                    </a:lnTo>
                    <a:lnTo>
                      <a:pt x="227" y="4071"/>
                    </a:lnTo>
                    <a:lnTo>
                      <a:pt x="212" y="4071"/>
                    </a:lnTo>
                    <a:lnTo>
                      <a:pt x="195" y="4071"/>
                    </a:lnTo>
                    <a:lnTo>
                      <a:pt x="179" y="4071"/>
                    </a:lnTo>
                    <a:lnTo>
                      <a:pt x="162" y="4071"/>
                    </a:lnTo>
                    <a:lnTo>
                      <a:pt x="147" y="4071"/>
                    </a:lnTo>
                    <a:lnTo>
                      <a:pt x="130" y="4071"/>
                    </a:lnTo>
                    <a:lnTo>
                      <a:pt x="114" y="4071"/>
                    </a:lnTo>
                    <a:lnTo>
                      <a:pt x="97" y="4071"/>
                    </a:lnTo>
                    <a:lnTo>
                      <a:pt x="82" y="4071"/>
                    </a:lnTo>
                    <a:lnTo>
                      <a:pt x="65" y="4071"/>
                    </a:lnTo>
                    <a:lnTo>
                      <a:pt x="49" y="4071"/>
                    </a:lnTo>
                    <a:lnTo>
                      <a:pt x="32" y="4071"/>
                    </a:lnTo>
                    <a:lnTo>
                      <a:pt x="17" y="4071"/>
                    </a:lnTo>
                    <a:lnTo>
                      <a:pt x="0" y="407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06360" y="362160"/>
                <a:ext cx="138960" cy="389880"/>
              </a:xfrm>
              <a:custGeom>
                <a:avLst/>
                <a:gdLst/>
                <a:ahLst/>
                <a:rect l="l" t="t" r="r" b="b"/>
                <a:pathLst>
                  <a:path w="1609" h="4071">
                    <a:moveTo>
                      <a:pt x="0" y="4071"/>
                    </a:moveTo>
                    <a:lnTo>
                      <a:pt x="0" y="4071"/>
                    </a:lnTo>
                    <a:lnTo>
                      <a:pt x="17" y="4054"/>
                    </a:lnTo>
                    <a:lnTo>
                      <a:pt x="32" y="4021"/>
                    </a:lnTo>
                    <a:lnTo>
                      <a:pt x="49" y="3979"/>
                    </a:lnTo>
                    <a:lnTo>
                      <a:pt x="65" y="3928"/>
                    </a:lnTo>
                    <a:lnTo>
                      <a:pt x="82" y="3868"/>
                    </a:lnTo>
                    <a:lnTo>
                      <a:pt x="97" y="3809"/>
                    </a:lnTo>
                    <a:lnTo>
                      <a:pt x="114" y="3751"/>
                    </a:lnTo>
                    <a:lnTo>
                      <a:pt x="130" y="3683"/>
                    </a:lnTo>
                    <a:lnTo>
                      <a:pt x="147" y="3616"/>
                    </a:lnTo>
                    <a:lnTo>
                      <a:pt x="162" y="3548"/>
                    </a:lnTo>
                    <a:lnTo>
                      <a:pt x="179" y="3472"/>
                    </a:lnTo>
                    <a:lnTo>
                      <a:pt x="195" y="3404"/>
                    </a:lnTo>
                    <a:lnTo>
                      <a:pt x="212" y="3329"/>
                    </a:lnTo>
                    <a:lnTo>
                      <a:pt x="227" y="3252"/>
                    </a:lnTo>
                    <a:lnTo>
                      <a:pt x="244" y="3176"/>
                    </a:lnTo>
                    <a:lnTo>
                      <a:pt x="260" y="3108"/>
                    </a:lnTo>
                    <a:lnTo>
                      <a:pt x="277" y="3033"/>
                    </a:lnTo>
                    <a:lnTo>
                      <a:pt x="292" y="2956"/>
                    </a:lnTo>
                    <a:lnTo>
                      <a:pt x="309" y="2881"/>
                    </a:lnTo>
                    <a:lnTo>
                      <a:pt x="325" y="2804"/>
                    </a:lnTo>
                    <a:lnTo>
                      <a:pt x="342" y="2728"/>
                    </a:lnTo>
                    <a:lnTo>
                      <a:pt x="357" y="2653"/>
                    </a:lnTo>
                    <a:lnTo>
                      <a:pt x="374" y="2576"/>
                    </a:lnTo>
                    <a:lnTo>
                      <a:pt x="390" y="2501"/>
                    </a:lnTo>
                    <a:lnTo>
                      <a:pt x="406" y="2432"/>
                    </a:lnTo>
                    <a:lnTo>
                      <a:pt x="422" y="2357"/>
                    </a:lnTo>
                    <a:lnTo>
                      <a:pt x="439" y="2289"/>
                    </a:lnTo>
                    <a:lnTo>
                      <a:pt x="456" y="2213"/>
                    </a:lnTo>
                    <a:lnTo>
                      <a:pt x="471" y="2145"/>
                    </a:lnTo>
                    <a:lnTo>
                      <a:pt x="488" y="2079"/>
                    </a:lnTo>
                    <a:lnTo>
                      <a:pt x="504" y="2010"/>
                    </a:lnTo>
                    <a:lnTo>
                      <a:pt x="521" y="1944"/>
                    </a:lnTo>
                    <a:lnTo>
                      <a:pt x="536" y="1875"/>
                    </a:lnTo>
                    <a:lnTo>
                      <a:pt x="553" y="1807"/>
                    </a:lnTo>
                    <a:lnTo>
                      <a:pt x="569" y="1749"/>
                    </a:lnTo>
                    <a:lnTo>
                      <a:pt x="586" y="1681"/>
                    </a:lnTo>
                    <a:lnTo>
                      <a:pt x="601" y="1622"/>
                    </a:lnTo>
                    <a:lnTo>
                      <a:pt x="618" y="1562"/>
                    </a:lnTo>
                    <a:lnTo>
                      <a:pt x="634" y="1504"/>
                    </a:lnTo>
                    <a:lnTo>
                      <a:pt x="651" y="1445"/>
                    </a:lnTo>
                    <a:lnTo>
                      <a:pt x="666" y="1385"/>
                    </a:lnTo>
                    <a:lnTo>
                      <a:pt x="683" y="1334"/>
                    </a:lnTo>
                    <a:lnTo>
                      <a:pt x="699" y="1275"/>
                    </a:lnTo>
                    <a:lnTo>
                      <a:pt x="716" y="1226"/>
                    </a:lnTo>
                    <a:lnTo>
                      <a:pt x="731" y="1175"/>
                    </a:lnTo>
                    <a:lnTo>
                      <a:pt x="748" y="1124"/>
                    </a:lnTo>
                    <a:lnTo>
                      <a:pt x="764" y="1073"/>
                    </a:lnTo>
                    <a:lnTo>
                      <a:pt x="780" y="1023"/>
                    </a:lnTo>
                    <a:lnTo>
                      <a:pt x="796" y="981"/>
                    </a:lnTo>
                    <a:lnTo>
                      <a:pt x="813" y="930"/>
                    </a:lnTo>
                    <a:lnTo>
                      <a:pt x="828" y="888"/>
                    </a:lnTo>
                    <a:lnTo>
                      <a:pt x="845" y="844"/>
                    </a:lnTo>
                    <a:lnTo>
                      <a:pt x="862" y="802"/>
                    </a:lnTo>
                    <a:lnTo>
                      <a:pt x="878" y="760"/>
                    </a:lnTo>
                    <a:lnTo>
                      <a:pt x="895" y="727"/>
                    </a:lnTo>
                    <a:lnTo>
                      <a:pt x="910" y="685"/>
                    </a:lnTo>
                    <a:lnTo>
                      <a:pt x="927" y="651"/>
                    </a:lnTo>
                    <a:lnTo>
                      <a:pt x="943" y="608"/>
                    </a:lnTo>
                    <a:lnTo>
                      <a:pt x="960" y="574"/>
                    </a:lnTo>
                    <a:lnTo>
                      <a:pt x="975" y="541"/>
                    </a:lnTo>
                    <a:lnTo>
                      <a:pt x="992" y="508"/>
                    </a:lnTo>
                    <a:lnTo>
                      <a:pt x="1008" y="482"/>
                    </a:lnTo>
                    <a:lnTo>
                      <a:pt x="1025" y="448"/>
                    </a:lnTo>
                    <a:lnTo>
                      <a:pt x="1040" y="422"/>
                    </a:lnTo>
                    <a:lnTo>
                      <a:pt x="1057" y="389"/>
                    </a:lnTo>
                    <a:lnTo>
                      <a:pt x="1073" y="364"/>
                    </a:lnTo>
                    <a:lnTo>
                      <a:pt x="1090" y="338"/>
                    </a:lnTo>
                    <a:lnTo>
                      <a:pt x="1105" y="313"/>
                    </a:lnTo>
                    <a:lnTo>
                      <a:pt x="1122" y="287"/>
                    </a:lnTo>
                    <a:lnTo>
                      <a:pt x="1138" y="271"/>
                    </a:lnTo>
                    <a:lnTo>
                      <a:pt x="1154" y="245"/>
                    </a:lnTo>
                    <a:lnTo>
                      <a:pt x="1170" y="228"/>
                    </a:lnTo>
                    <a:lnTo>
                      <a:pt x="1187" y="203"/>
                    </a:lnTo>
                    <a:lnTo>
                      <a:pt x="1202" y="186"/>
                    </a:lnTo>
                    <a:lnTo>
                      <a:pt x="1219" y="170"/>
                    </a:lnTo>
                    <a:lnTo>
                      <a:pt x="1235" y="152"/>
                    </a:lnTo>
                    <a:lnTo>
                      <a:pt x="1252" y="135"/>
                    </a:lnTo>
                    <a:lnTo>
                      <a:pt x="1267" y="128"/>
                    </a:lnTo>
                    <a:lnTo>
                      <a:pt x="1284" y="110"/>
                    </a:lnTo>
                    <a:lnTo>
                      <a:pt x="1301" y="93"/>
                    </a:lnTo>
                    <a:lnTo>
                      <a:pt x="1317" y="84"/>
                    </a:lnTo>
                    <a:lnTo>
                      <a:pt x="1334" y="77"/>
                    </a:lnTo>
                    <a:lnTo>
                      <a:pt x="1349" y="60"/>
                    </a:lnTo>
                    <a:lnTo>
                      <a:pt x="1366" y="51"/>
                    </a:lnTo>
                    <a:lnTo>
                      <a:pt x="1382" y="42"/>
                    </a:lnTo>
                    <a:lnTo>
                      <a:pt x="1399" y="33"/>
                    </a:lnTo>
                    <a:lnTo>
                      <a:pt x="1414" y="33"/>
                    </a:lnTo>
                    <a:lnTo>
                      <a:pt x="1431" y="26"/>
                    </a:lnTo>
                    <a:lnTo>
                      <a:pt x="1447" y="17"/>
                    </a:lnTo>
                    <a:lnTo>
                      <a:pt x="1464" y="17"/>
                    </a:lnTo>
                    <a:lnTo>
                      <a:pt x="1479" y="9"/>
                    </a:lnTo>
                    <a:lnTo>
                      <a:pt x="1496" y="9"/>
                    </a:lnTo>
                    <a:lnTo>
                      <a:pt x="1512" y="9"/>
                    </a:lnTo>
                    <a:lnTo>
                      <a:pt x="1528" y="0"/>
                    </a:lnTo>
                    <a:lnTo>
                      <a:pt x="1544" y="0"/>
                    </a:lnTo>
                    <a:lnTo>
                      <a:pt x="1561" y="0"/>
                    </a:lnTo>
                    <a:lnTo>
                      <a:pt x="1576" y="0"/>
                    </a:lnTo>
                    <a:lnTo>
                      <a:pt x="1593" y="0"/>
                    </a:lnTo>
                    <a:lnTo>
                      <a:pt x="1609" y="9"/>
                    </a:lnTo>
                    <a:lnTo>
                      <a:pt x="1609" y="4071"/>
                    </a:lnTo>
                    <a:lnTo>
                      <a:pt x="1593" y="4071"/>
                    </a:lnTo>
                    <a:lnTo>
                      <a:pt x="1576" y="4071"/>
                    </a:lnTo>
                    <a:lnTo>
                      <a:pt x="1561" y="4071"/>
                    </a:lnTo>
                    <a:lnTo>
                      <a:pt x="1544" y="4071"/>
                    </a:lnTo>
                    <a:lnTo>
                      <a:pt x="1528" y="4071"/>
                    </a:lnTo>
                    <a:lnTo>
                      <a:pt x="1512" y="4071"/>
                    </a:lnTo>
                    <a:lnTo>
                      <a:pt x="1496" y="4071"/>
                    </a:lnTo>
                    <a:lnTo>
                      <a:pt x="1479" y="4071"/>
                    </a:lnTo>
                    <a:lnTo>
                      <a:pt x="1464" y="4071"/>
                    </a:lnTo>
                    <a:lnTo>
                      <a:pt x="1447" y="4071"/>
                    </a:lnTo>
                    <a:lnTo>
                      <a:pt x="1431" y="4071"/>
                    </a:lnTo>
                    <a:lnTo>
                      <a:pt x="1414" y="4071"/>
                    </a:lnTo>
                    <a:lnTo>
                      <a:pt x="1399" y="4071"/>
                    </a:lnTo>
                    <a:lnTo>
                      <a:pt x="1382" y="4071"/>
                    </a:lnTo>
                    <a:lnTo>
                      <a:pt x="1366" y="4071"/>
                    </a:lnTo>
                    <a:lnTo>
                      <a:pt x="1349" y="4071"/>
                    </a:lnTo>
                    <a:lnTo>
                      <a:pt x="1334" y="4071"/>
                    </a:lnTo>
                    <a:lnTo>
                      <a:pt x="1317" y="4071"/>
                    </a:lnTo>
                    <a:lnTo>
                      <a:pt x="1301" y="4071"/>
                    </a:lnTo>
                    <a:lnTo>
                      <a:pt x="1284" y="4071"/>
                    </a:lnTo>
                    <a:lnTo>
                      <a:pt x="1267" y="4071"/>
                    </a:lnTo>
                    <a:lnTo>
                      <a:pt x="1252" y="4071"/>
                    </a:lnTo>
                    <a:lnTo>
                      <a:pt x="1235" y="4071"/>
                    </a:lnTo>
                    <a:lnTo>
                      <a:pt x="1219" y="4071"/>
                    </a:lnTo>
                    <a:lnTo>
                      <a:pt x="1202" y="4071"/>
                    </a:lnTo>
                    <a:lnTo>
                      <a:pt x="1187" y="4071"/>
                    </a:lnTo>
                    <a:lnTo>
                      <a:pt x="1170" y="4071"/>
                    </a:lnTo>
                    <a:lnTo>
                      <a:pt x="1154" y="4071"/>
                    </a:lnTo>
                    <a:lnTo>
                      <a:pt x="1138" y="4071"/>
                    </a:lnTo>
                    <a:lnTo>
                      <a:pt x="1122" y="4071"/>
                    </a:lnTo>
                    <a:lnTo>
                      <a:pt x="1105" y="4071"/>
                    </a:lnTo>
                    <a:lnTo>
                      <a:pt x="1090" y="4071"/>
                    </a:lnTo>
                    <a:lnTo>
                      <a:pt x="1073" y="4071"/>
                    </a:lnTo>
                    <a:lnTo>
                      <a:pt x="1057" y="4071"/>
                    </a:lnTo>
                    <a:lnTo>
                      <a:pt x="1040" y="4071"/>
                    </a:lnTo>
                    <a:lnTo>
                      <a:pt x="1025" y="4071"/>
                    </a:lnTo>
                    <a:lnTo>
                      <a:pt x="1008" y="4071"/>
                    </a:lnTo>
                    <a:lnTo>
                      <a:pt x="992" y="4071"/>
                    </a:lnTo>
                    <a:lnTo>
                      <a:pt x="975" y="4071"/>
                    </a:lnTo>
                    <a:lnTo>
                      <a:pt x="960" y="4071"/>
                    </a:lnTo>
                    <a:lnTo>
                      <a:pt x="943" y="4071"/>
                    </a:lnTo>
                    <a:lnTo>
                      <a:pt x="927" y="4071"/>
                    </a:lnTo>
                    <a:lnTo>
                      <a:pt x="910" y="4071"/>
                    </a:lnTo>
                    <a:lnTo>
                      <a:pt x="895" y="4071"/>
                    </a:lnTo>
                    <a:lnTo>
                      <a:pt x="878" y="4071"/>
                    </a:lnTo>
                    <a:lnTo>
                      <a:pt x="862" y="4071"/>
                    </a:lnTo>
                    <a:lnTo>
                      <a:pt x="845" y="4071"/>
                    </a:lnTo>
                    <a:lnTo>
                      <a:pt x="828" y="4071"/>
                    </a:lnTo>
                    <a:lnTo>
                      <a:pt x="813" y="4071"/>
                    </a:lnTo>
                    <a:lnTo>
                      <a:pt x="796" y="4071"/>
                    </a:lnTo>
                    <a:lnTo>
                      <a:pt x="780" y="4071"/>
                    </a:lnTo>
                    <a:lnTo>
                      <a:pt x="764" y="4071"/>
                    </a:lnTo>
                    <a:lnTo>
                      <a:pt x="748" y="4071"/>
                    </a:lnTo>
                    <a:lnTo>
                      <a:pt x="731" y="4071"/>
                    </a:lnTo>
                    <a:lnTo>
                      <a:pt x="716" y="4071"/>
                    </a:lnTo>
                    <a:lnTo>
                      <a:pt x="699" y="4071"/>
                    </a:lnTo>
                    <a:lnTo>
                      <a:pt x="683" y="4071"/>
                    </a:lnTo>
                    <a:lnTo>
                      <a:pt x="666" y="4071"/>
                    </a:lnTo>
                    <a:lnTo>
                      <a:pt x="651" y="4071"/>
                    </a:lnTo>
                    <a:lnTo>
                      <a:pt x="634" y="4071"/>
                    </a:lnTo>
                    <a:lnTo>
                      <a:pt x="618" y="4071"/>
                    </a:lnTo>
                    <a:lnTo>
                      <a:pt x="601" y="4071"/>
                    </a:lnTo>
                    <a:lnTo>
                      <a:pt x="586" y="4071"/>
                    </a:lnTo>
                    <a:lnTo>
                      <a:pt x="569" y="4071"/>
                    </a:lnTo>
                    <a:lnTo>
                      <a:pt x="553" y="4071"/>
                    </a:lnTo>
                    <a:lnTo>
                      <a:pt x="536" y="4071"/>
                    </a:lnTo>
                    <a:lnTo>
                      <a:pt x="521" y="4071"/>
                    </a:lnTo>
                    <a:lnTo>
                      <a:pt x="504" y="4071"/>
                    </a:lnTo>
                    <a:lnTo>
                      <a:pt x="488" y="4071"/>
                    </a:lnTo>
                    <a:lnTo>
                      <a:pt x="471" y="4071"/>
                    </a:lnTo>
                    <a:lnTo>
                      <a:pt x="456" y="4071"/>
                    </a:lnTo>
                    <a:lnTo>
                      <a:pt x="439" y="4071"/>
                    </a:lnTo>
                    <a:lnTo>
                      <a:pt x="422" y="4071"/>
                    </a:lnTo>
                    <a:lnTo>
                      <a:pt x="406" y="4071"/>
                    </a:lnTo>
                    <a:lnTo>
                      <a:pt x="390" y="4071"/>
                    </a:lnTo>
                    <a:lnTo>
                      <a:pt x="374" y="4071"/>
                    </a:lnTo>
                    <a:lnTo>
                      <a:pt x="357" y="4071"/>
                    </a:lnTo>
                    <a:lnTo>
                      <a:pt x="342" y="4071"/>
                    </a:lnTo>
                    <a:lnTo>
                      <a:pt x="325" y="4071"/>
                    </a:lnTo>
                    <a:lnTo>
                      <a:pt x="309" y="4071"/>
                    </a:lnTo>
                    <a:lnTo>
                      <a:pt x="292" y="4071"/>
                    </a:lnTo>
                    <a:lnTo>
                      <a:pt x="277" y="4071"/>
                    </a:lnTo>
                    <a:lnTo>
                      <a:pt x="260" y="4071"/>
                    </a:lnTo>
                    <a:lnTo>
                      <a:pt x="244" y="4071"/>
                    </a:lnTo>
                    <a:lnTo>
                      <a:pt x="227" y="4071"/>
                    </a:lnTo>
                    <a:lnTo>
                      <a:pt x="212" y="4071"/>
                    </a:lnTo>
                    <a:lnTo>
                      <a:pt x="195" y="4071"/>
                    </a:lnTo>
                    <a:lnTo>
                      <a:pt x="179" y="4071"/>
                    </a:lnTo>
                    <a:lnTo>
                      <a:pt x="162" y="4071"/>
                    </a:lnTo>
                    <a:lnTo>
                      <a:pt x="147" y="4071"/>
                    </a:lnTo>
                    <a:lnTo>
                      <a:pt x="130" y="4071"/>
                    </a:lnTo>
                    <a:lnTo>
                      <a:pt x="114" y="4071"/>
                    </a:lnTo>
                    <a:lnTo>
                      <a:pt x="97" y="4071"/>
                    </a:lnTo>
                    <a:lnTo>
                      <a:pt x="82" y="4071"/>
                    </a:lnTo>
                    <a:lnTo>
                      <a:pt x="65" y="4071"/>
                    </a:lnTo>
                    <a:lnTo>
                      <a:pt x="49" y="4071"/>
                    </a:lnTo>
                    <a:lnTo>
                      <a:pt x="32" y="4071"/>
                    </a:lnTo>
                    <a:lnTo>
                      <a:pt x="17" y="4071"/>
                    </a:lnTo>
                    <a:lnTo>
                      <a:pt x="0" y="4071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06360" y="362160"/>
                <a:ext cx="138960" cy="389880"/>
              </a:xfrm>
              <a:custGeom>
                <a:avLst/>
                <a:gdLst/>
                <a:ahLst/>
                <a:rect l="l" t="t" r="r" b="b"/>
                <a:pathLst>
                  <a:path w="1609" h="4071">
                    <a:moveTo>
                      <a:pt x="0" y="4071"/>
                    </a:moveTo>
                    <a:lnTo>
                      <a:pt x="0" y="4071"/>
                    </a:lnTo>
                    <a:lnTo>
                      <a:pt x="17" y="4054"/>
                    </a:lnTo>
                    <a:lnTo>
                      <a:pt x="32" y="4021"/>
                    </a:lnTo>
                    <a:lnTo>
                      <a:pt x="49" y="3979"/>
                    </a:lnTo>
                    <a:lnTo>
                      <a:pt x="65" y="3928"/>
                    </a:lnTo>
                    <a:lnTo>
                      <a:pt x="82" y="3868"/>
                    </a:lnTo>
                    <a:lnTo>
                      <a:pt x="97" y="3809"/>
                    </a:lnTo>
                    <a:lnTo>
                      <a:pt x="114" y="3751"/>
                    </a:lnTo>
                    <a:lnTo>
                      <a:pt x="130" y="3683"/>
                    </a:lnTo>
                    <a:lnTo>
                      <a:pt x="147" y="3616"/>
                    </a:lnTo>
                    <a:lnTo>
                      <a:pt x="162" y="3548"/>
                    </a:lnTo>
                    <a:lnTo>
                      <a:pt x="179" y="3472"/>
                    </a:lnTo>
                    <a:lnTo>
                      <a:pt x="195" y="3404"/>
                    </a:lnTo>
                    <a:lnTo>
                      <a:pt x="212" y="3329"/>
                    </a:lnTo>
                    <a:lnTo>
                      <a:pt x="227" y="3252"/>
                    </a:lnTo>
                    <a:lnTo>
                      <a:pt x="244" y="3176"/>
                    </a:lnTo>
                    <a:lnTo>
                      <a:pt x="260" y="3108"/>
                    </a:lnTo>
                    <a:lnTo>
                      <a:pt x="277" y="3033"/>
                    </a:lnTo>
                    <a:lnTo>
                      <a:pt x="292" y="2956"/>
                    </a:lnTo>
                    <a:lnTo>
                      <a:pt x="309" y="2881"/>
                    </a:lnTo>
                    <a:lnTo>
                      <a:pt x="325" y="2804"/>
                    </a:lnTo>
                    <a:lnTo>
                      <a:pt x="342" y="2728"/>
                    </a:lnTo>
                    <a:lnTo>
                      <a:pt x="357" y="2653"/>
                    </a:lnTo>
                    <a:lnTo>
                      <a:pt x="374" y="2576"/>
                    </a:lnTo>
                    <a:lnTo>
                      <a:pt x="390" y="2501"/>
                    </a:lnTo>
                    <a:lnTo>
                      <a:pt x="406" y="2432"/>
                    </a:lnTo>
                    <a:lnTo>
                      <a:pt x="422" y="2357"/>
                    </a:lnTo>
                    <a:lnTo>
                      <a:pt x="439" y="2289"/>
                    </a:lnTo>
                    <a:lnTo>
                      <a:pt x="456" y="2213"/>
                    </a:lnTo>
                    <a:lnTo>
                      <a:pt x="471" y="2145"/>
                    </a:lnTo>
                    <a:lnTo>
                      <a:pt x="488" y="2079"/>
                    </a:lnTo>
                    <a:lnTo>
                      <a:pt x="504" y="2010"/>
                    </a:lnTo>
                    <a:lnTo>
                      <a:pt x="521" y="1944"/>
                    </a:lnTo>
                    <a:lnTo>
                      <a:pt x="536" y="1875"/>
                    </a:lnTo>
                    <a:lnTo>
                      <a:pt x="553" y="1807"/>
                    </a:lnTo>
                    <a:lnTo>
                      <a:pt x="569" y="1749"/>
                    </a:lnTo>
                    <a:lnTo>
                      <a:pt x="586" y="1681"/>
                    </a:lnTo>
                    <a:lnTo>
                      <a:pt x="601" y="1622"/>
                    </a:lnTo>
                    <a:lnTo>
                      <a:pt x="618" y="1562"/>
                    </a:lnTo>
                    <a:lnTo>
                      <a:pt x="634" y="1504"/>
                    </a:lnTo>
                    <a:lnTo>
                      <a:pt x="651" y="1445"/>
                    </a:lnTo>
                    <a:lnTo>
                      <a:pt x="666" y="1385"/>
                    </a:lnTo>
                    <a:lnTo>
                      <a:pt x="683" y="1334"/>
                    </a:lnTo>
                    <a:lnTo>
                      <a:pt x="699" y="1275"/>
                    </a:lnTo>
                    <a:lnTo>
                      <a:pt x="716" y="1226"/>
                    </a:lnTo>
                    <a:lnTo>
                      <a:pt x="731" y="1175"/>
                    </a:lnTo>
                    <a:lnTo>
                      <a:pt x="748" y="1124"/>
                    </a:lnTo>
                    <a:lnTo>
                      <a:pt x="764" y="1073"/>
                    </a:lnTo>
                    <a:lnTo>
                      <a:pt x="780" y="1023"/>
                    </a:lnTo>
                    <a:lnTo>
                      <a:pt x="796" y="981"/>
                    </a:lnTo>
                    <a:lnTo>
                      <a:pt x="813" y="930"/>
                    </a:lnTo>
                    <a:lnTo>
                      <a:pt x="828" y="888"/>
                    </a:lnTo>
                    <a:lnTo>
                      <a:pt x="845" y="844"/>
                    </a:lnTo>
                    <a:lnTo>
                      <a:pt x="862" y="802"/>
                    </a:lnTo>
                    <a:lnTo>
                      <a:pt x="878" y="760"/>
                    </a:lnTo>
                    <a:lnTo>
                      <a:pt x="895" y="727"/>
                    </a:lnTo>
                    <a:lnTo>
                      <a:pt x="910" y="685"/>
                    </a:lnTo>
                    <a:lnTo>
                      <a:pt x="927" y="651"/>
                    </a:lnTo>
                    <a:lnTo>
                      <a:pt x="943" y="608"/>
                    </a:lnTo>
                    <a:lnTo>
                      <a:pt x="960" y="574"/>
                    </a:lnTo>
                    <a:lnTo>
                      <a:pt x="975" y="541"/>
                    </a:lnTo>
                    <a:lnTo>
                      <a:pt x="992" y="508"/>
                    </a:lnTo>
                    <a:lnTo>
                      <a:pt x="1008" y="482"/>
                    </a:lnTo>
                    <a:lnTo>
                      <a:pt x="1025" y="448"/>
                    </a:lnTo>
                    <a:lnTo>
                      <a:pt x="1040" y="422"/>
                    </a:lnTo>
                    <a:lnTo>
                      <a:pt x="1057" y="389"/>
                    </a:lnTo>
                    <a:lnTo>
                      <a:pt x="1073" y="364"/>
                    </a:lnTo>
                    <a:lnTo>
                      <a:pt x="1090" y="338"/>
                    </a:lnTo>
                    <a:lnTo>
                      <a:pt x="1105" y="313"/>
                    </a:lnTo>
                    <a:lnTo>
                      <a:pt x="1122" y="287"/>
                    </a:lnTo>
                    <a:lnTo>
                      <a:pt x="1138" y="271"/>
                    </a:lnTo>
                    <a:lnTo>
                      <a:pt x="1154" y="245"/>
                    </a:lnTo>
                    <a:lnTo>
                      <a:pt x="1170" y="228"/>
                    </a:lnTo>
                    <a:lnTo>
                      <a:pt x="1187" y="203"/>
                    </a:lnTo>
                    <a:lnTo>
                      <a:pt x="1202" y="186"/>
                    </a:lnTo>
                    <a:lnTo>
                      <a:pt x="1219" y="170"/>
                    </a:lnTo>
                    <a:lnTo>
                      <a:pt x="1235" y="152"/>
                    </a:lnTo>
                    <a:lnTo>
                      <a:pt x="1252" y="135"/>
                    </a:lnTo>
                    <a:lnTo>
                      <a:pt x="1267" y="128"/>
                    </a:lnTo>
                    <a:lnTo>
                      <a:pt x="1284" y="110"/>
                    </a:lnTo>
                    <a:lnTo>
                      <a:pt x="1301" y="93"/>
                    </a:lnTo>
                    <a:lnTo>
                      <a:pt x="1317" y="84"/>
                    </a:lnTo>
                    <a:lnTo>
                      <a:pt x="1334" y="77"/>
                    </a:lnTo>
                    <a:lnTo>
                      <a:pt x="1349" y="60"/>
                    </a:lnTo>
                    <a:lnTo>
                      <a:pt x="1366" y="51"/>
                    </a:lnTo>
                    <a:lnTo>
                      <a:pt x="1382" y="42"/>
                    </a:lnTo>
                    <a:lnTo>
                      <a:pt x="1399" y="33"/>
                    </a:lnTo>
                    <a:lnTo>
                      <a:pt x="1414" y="33"/>
                    </a:lnTo>
                    <a:lnTo>
                      <a:pt x="1431" y="26"/>
                    </a:lnTo>
                    <a:lnTo>
                      <a:pt x="1447" y="17"/>
                    </a:lnTo>
                    <a:lnTo>
                      <a:pt x="1464" y="17"/>
                    </a:lnTo>
                    <a:lnTo>
                      <a:pt x="1479" y="9"/>
                    </a:lnTo>
                    <a:lnTo>
                      <a:pt x="1496" y="9"/>
                    </a:lnTo>
                    <a:lnTo>
                      <a:pt x="1512" y="9"/>
                    </a:lnTo>
                    <a:lnTo>
                      <a:pt x="1528" y="0"/>
                    </a:lnTo>
                    <a:lnTo>
                      <a:pt x="1544" y="0"/>
                    </a:lnTo>
                    <a:lnTo>
                      <a:pt x="1561" y="0"/>
                    </a:lnTo>
                    <a:lnTo>
                      <a:pt x="1576" y="0"/>
                    </a:lnTo>
                    <a:lnTo>
                      <a:pt x="1593" y="0"/>
                    </a:lnTo>
                    <a:lnTo>
                      <a:pt x="1609" y="9"/>
                    </a:lnTo>
                    <a:lnTo>
                      <a:pt x="1609" y="4071"/>
                    </a:lnTo>
                    <a:lnTo>
                      <a:pt x="1593" y="4071"/>
                    </a:lnTo>
                    <a:lnTo>
                      <a:pt x="1576" y="4071"/>
                    </a:lnTo>
                    <a:lnTo>
                      <a:pt x="1561" y="4071"/>
                    </a:lnTo>
                    <a:lnTo>
                      <a:pt x="1544" y="4071"/>
                    </a:lnTo>
                    <a:lnTo>
                      <a:pt x="1528" y="4071"/>
                    </a:lnTo>
                    <a:lnTo>
                      <a:pt x="1512" y="4071"/>
                    </a:lnTo>
                    <a:lnTo>
                      <a:pt x="1496" y="4071"/>
                    </a:lnTo>
                    <a:lnTo>
                      <a:pt x="1479" y="4071"/>
                    </a:lnTo>
                    <a:lnTo>
                      <a:pt x="1464" y="4071"/>
                    </a:lnTo>
                    <a:lnTo>
                      <a:pt x="1447" y="4071"/>
                    </a:lnTo>
                    <a:lnTo>
                      <a:pt x="1431" y="4071"/>
                    </a:lnTo>
                    <a:lnTo>
                      <a:pt x="1414" y="4071"/>
                    </a:lnTo>
                    <a:lnTo>
                      <a:pt x="1399" y="4071"/>
                    </a:lnTo>
                    <a:lnTo>
                      <a:pt x="1382" y="4071"/>
                    </a:lnTo>
                    <a:lnTo>
                      <a:pt x="1366" y="4071"/>
                    </a:lnTo>
                    <a:lnTo>
                      <a:pt x="1349" y="4071"/>
                    </a:lnTo>
                    <a:lnTo>
                      <a:pt x="1334" y="4071"/>
                    </a:lnTo>
                    <a:lnTo>
                      <a:pt x="1317" y="4071"/>
                    </a:lnTo>
                    <a:lnTo>
                      <a:pt x="1301" y="4071"/>
                    </a:lnTo>
                    <a:lnTo>
                      <a:pt x="1284" y="4071"/>
                    </a:lnTo>
                    <a:lnTo>
                      <a:pt x="1267" y="4071"/>
                    </a:lnTo>
                    <a:lnTo>
                      <a:pt x="1252" y="4071"/>
                    </a:lnTo>
                    <a:lnTo>
                      <a:pt x="1235" y="4071"/>
                    </a:lnTo>
                    <a:lnTo>
                      <a:pt x="1219" y="4071"/>
                    </a:lnTo>
                    <a:lnTo>
                      <a:pt x="1202" y="4071"/>
                    </a:lnTo>
                    <a:lnTo>
                      <a:pt x="1187" y="4071"/>
                    </a:lnTo>
                    <a:lnTo>
                      <a:pt x="1170" y="4071"/>
                    </a:lnTo>
                    <a:lnTo>
                      <a:pt x="1154" y="4071"/>
                    </a:lnTo>
                    <a:lnTo>
                      <a:pt x="1138" y="4071"/>
                    </a:lnTo>
                    <a:lnTo>
                      <a:pt x="1122" y="4071"/>
                    </a:lnTo>
                    <a:lnTo>
                      <a:pt x="1105" y="4071"/>
                    </a:lnTo>
                    <a:lnTo>
                      <a:pt x="1090" y="4071"/>
                    </a:lnTo>
                    <a:lnTo>
                      <a:pt x="1073" y="4071"/>
                    </a:lnTo>
                    <a:lnTo>
                      <a:pt x="1057" y="4071"/>
                    </a:lnTo>
                    <a:lnTo>
                      <a:pt x="1040" y="4071"/>
                    </a:lnTo>
                    <a:lnTo>
                      <a:pt x="1025" y="4071"/>
                    </a:lnTo>
                    <a:lnTo>
                      <a:pt x="1008" y="4071"/>
                    </a:lnTo>
                    <a:lnTo>
                      <a:pt x="992" y="4071"/>
                    </a:lnTo>
                    <a:lnTo>
                      <a:pt x="975" y="4071"/>
                    </a:lnTo>
                    <a:lnTo>
                      <a:pt x="960" y="4071"/>
                    </a:lnTo>
                    <a:lnTo>
                      <a:pt x="943" y="4071"/>
                    </a:lnTo>
                    <a:lnTo>
                      <a:pt x="927" y="4071"/>
                    </a:lnTo>
                    <a:lnTo>
                      <a:pt x="910" y="4071"/>
                    </a:lnTo>
                    <a:lnTo>
                      <a:pt x="895" y="4071"/>
                    </a:lnTo>
                    <a:lnTo>
                      <a:pt x="878" y="4071"/>
                    </a:lnTo>
                    <a:lnTo>
                      <a:pt x="862" y="4071"/>
                    </a:lnTo>
                    <a:lnTo>
                      <a:pt x="845" y="4071"/>
                    </a:lnTo>
                    <a:lnTo>
                      <a:pt x="828" y="4071"/>
                    </a:lnTo>
                    <a:lnTo>
                      <a:pt x="813" y="4071"/>
                    </a:lnTo>
                    <a:lnTo>
                      <a:pt x="796" y="4071"/>
                    </a:lnTo>
                    <a:lnTo>
                      <a:pt x="780" y="4071"/>
                    </a:lnTo>
                    <a:lnTo>
                      <a:pt x="764" y="4071"/>
                    </a:lnTo>
                    <a:lnTo>
                      <a:pt x="748" y="4071"/>
                    </a:lnTo>
                    <a:lnTo>
                      <a:pt x="731" y="4071"/>
                    </a:lnTo>
                    <a:lnTo>
                      <a:pt x="716" y="4071"/>
                    </a:lnTo>
                    <a:lnTo>
                      <a:pt x="699" y="4071"/>
                    </a:lnTo>
                    <a:lnTo>
                      <a:pt x="683" y="4071"/>
                    </a:lnTo>
                    <a:lnTo>
                      <a:pt x="666" y="4071"/>
                    </a:lnTo>
                    <a:lnTo>
                      <a:pt x="651" y="4071"/>
                    </a:lnTo>
                    <a:lnTo>
                      <a:pt x="634" y="4071"/>
                    </a:lnTo>
                    <a:lnTo>
                      <a:pt x="618" y="4071"/>
                    </a:lnTo>
                    <a:lnTo>
                      <a:pt x="601" y="4071"/>
                    </a:lnTo>
                    <a:lnTo>
                      <a:pt x="586" y="4071"/>
                    </a:lnTo>
                    <a:lnTo>
                      <a:pt x="569" y="4071"/>
                    </a:lnTo>
                    <a:lnTo>
                      <a:pt x="553" y="4071"/>
                    </a:lnTo>
                    <a:lnTo>
                      <a:pt x="536" y="4071"/>
                    </a:lnTo>
                    <a:lnTo>
                      <a:pt x="521" y="4071"/>
                    </a:lnTo>
                    <a:lnTo>
                      <a:pt x="504" y="4071"/>
                    </a:lnTo>
                    <a:lnTo>
                      <a:pt x="488" y="4071"/>
                    </a:lnTo>
                    <a:lnTo>
                      <a:pt x="471" y="4071"/>
                    </a:lnTo>
                    <a:lnTo>
                      <a:pt x="456" y="4071"/>
                    </a:lnTo>
                    <a:lnTo>
                      <a:pt x="439" y="4071"/>
                    </a:lnTo>
                    <a:lnTo>
                      <a:pt x="422" y="4071"/>
                    </a:lnTo>
                    <a:lnTo>
                      <a:pt x="406" y="4071"/>
                    </a:lnTo>
                    <a:lnTo>
                      <a:pt x="390" y="4071"/>
                    </a:lnTo>
                    <a:lnTo>
                      <a:pt x="374" y="4071"/>
                    </a:lnTo>
                    <a:lnTo>
                      <a:pt x="357" y="4071"/>
                    </a:lnTo>
                    <a:lnTo>
                      <a:pt x="342" y="4071"/>
                    </a:lnTo>
                    <a:lnTo>
                      <a:pt x="325" y="4071"/>
                    </a:lnTo>
                    <a:lnTo>
                      <a:pt x="309" y="4071"/>
                    </a:lnTo>
                    <a:lnTo>
                      <a:pt x="292" y="4071"/>
                    </a:lnTo>
                    <a:lnTo>
                      <a:pt x="277" y="4071"/>
                    </a:lnTo>
                    <a:lnTo>
                      <a:pt x="260" y="4071"/>
                    </a:lnTo>
                    <a:lnTo>
                      <a:pt x="244" y="4071"/>
                    </a:lnTo>
                    <a:lnTo>
                      <a:pt x="227" y="4071"/>
                    </a:lnTo>
                    <a:lnTo>
                      <a:pt x="212" y="4071"/>
                    </a:lnTo>
                    <a:lnTo>
                      <a:pt x="195" y="4071"/>
                    </a:lnTo>
                    <a:lnTo>
                      <a:pt x="179" y="4071"/>
                    </a:lnTo>
                    <a:lnTo>
                      <a:pt x="162" y="4071"/>
                    </a:lnTo>
                    <a:lnTo>
                      <a:pt x="147" y="4071"/>
                    </a:lnTo>
                    <a:lnTo>
                      <a:pt x="130" y="4071"/>
                    </a:lnTo>
                    <a:lnTo>
                      <a:pt x="114" y="4071"/>
                    </a:lnTo>
                    <a:lnTo>
                      <a:pt x="97" y="4071"/>
                    </a:lnTo>
                    <a:lnTo>
                      <a:pt x="82" y="4071"/>
                    </a:lnTo>
                    <a:lnTo>
                      <a:pt x="65" y="4071"/>
                    </a:lnTo>
                    <a:lnTo>
                      <a:pt x="49" y="4071"/>
                    </a:lnTo>
                    <a:lnTo>
                      <a:pt x="32" y="4071"/>
                    </a:lnTo>
                    <a:lnTo>
                      <a:pt x="17" y="4071"/>
                    </a:lnTo>
                    <a:lnTo>
                      <a:pt x="0" y="407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306360" y="266760"/>
                <a:ext cx="0" cy="485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306360" y="752040"/>
                <a:ext cx="700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06360" y="75060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7"/>
                    </a:moveTo>
                    <a:lnTo>
                      <a:pt x="8" y="10"/>
                    </a:lnTo>
                    <a:lnTo>
                      <a:pt x="13" y="6"/>
                    </a:lnTo>
                    <a:lnTo>
                      <a:pt x="17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07800" y="74772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5" h="33">
                    <a:moveTo>
                      <a:pt x="0" y="33"/>
                    </a:moveTo>
                    <a:lnTo>
                      <a:pt x="4" y="26"/>
                    </a:lnTo>
                    <a:lnTo>
                      <a:pt x="7" y="18"/>
                    </a:lnTo>
                    <a:lnTo>
                      <a:pt x="15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308880" y="743760"/>
                <a:ext cx="1440" cy="3960"/>
              </a:xfrm>
              <a:custGeom>
                <a:avLst/>
                <a:gdLst/>
                <a:ahLst/>
                <a:rect l="l" t="t" r="r" b="b"/>
                <a:pathLst>
                  <a:path w="17" h="42">
                    <a:moveTo>
                      <a:pt x="0" y="42"/>
                    </a:moveTo>
                    <a:lnTo>
                      <a:pt x="9" y="21"/>
                    </a:lnTo>
                    <a:lnTo>
                      <a:pt x="17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10680" y="738720"/>
                <a:ext cx="1080" cy="4680"/>
              </a:xfrm>
              <a:custGeom>
                <a:avLst/>
                <a:gdLst/>
                <a:ahLst/>
                <a:rect l="l" t="t" r="r" b="b"/>
                <a:pathLst>
                  <a:path w="16" h="51">
                    <a:moveTo>
                      <a:pt x="0" y="51"/>
                    </a:moveTo>
                    <a:lnTo>
                      <a:pt x="7" y="26"/>
                    </a:lnTo>
                    <a:lnTo>
                      <a:pt x="16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311760" y="732960"/>
                <a:ext cx="1440" cy="5400"/>
              </a:xfrm>
              <a:custGeom>
                <a:avLst/>
                <a:gdLst/>
                <a:ahLst/>
                <a:rect l="l" t="t" r="r" b="b"/>
                <a:pathLst>
                  <a:path w="17" h="60">
                    <a:moveTo>
                      <a:pt x="0" y="60"/>
                    </a:moveTo>
                    <a:lnTo>
                      <a:pt x="4" y="45"/>
                    </a:lnTo>
                    <a:lnTo>
                      <a:pt x="8" y="31"/>
                    </a:lnTo>
                    <a:lnTo>
                      <a:pt x="17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flipV="1">
                <a:off x="313560" y="726840"/>
                <a:ext cx="108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14640" y="721800"/>
                <a:ext cx="1080" cy="5400"/>
              </a:xfrm>
              <a:custGeom>
                <a:avLst/>
                <a:gdLst/>
                <a:ahLst/>
                <a:rect l="l" t="t" r="r" b="b"/>
                <a:pathLst>
                  <a:path w="17" h="58">
                    <a:moveTo>
                      <a:pt x="0" y="58"/>
                    </a:moveTo>
                    <a:lnTo>
                      <a:pt x="9" y="29"/>
                    </a:lnTo>
                    <a:lnTo>
                      <a:pt x="13" y="14"/>
                    </a:lnTo>
                    <a:lnTo>
                      <a:pt x="17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316080" y="715320"/>
                <a:ext cx="1440" cy="6480"/>
              </a:xfrm>
              <a:custGeom>
                <a:avLst/>
                <a:gdLst/>
                <a:ahLst/>
                <a:rect l="l" t="t" r="r" b="b"/>
                <a:pathLst>
                  <a:path w="16" h="68">
                    <a:moveTo>
                      <a:pt x="0" y="68"/>
                    </a:moveTo>
                    <a:lnTo>
                      <a:pt x="5" y="52"/>
                    </a:lnTo>
                    <a:lnTo>
                      <a:pt x="7" y="34"/>
                    </a:lnTo>
                    <a:lnTo>
                      <a:pt x="16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317520" y="708840"/>
                <a:ext cx="1080" cy="6120"/>
              </a:xfrm>
              <a:custGeom>
                <a:avLst/>
                <a:gdLst/>
                <a:ahLst/>
                <a:rect l="l" t="t" r="r" b="b"/>
                <a:pathLst>
                  <a:path w="17" h="67">
                    <a:moveTo>
                      <a:pt x="0" y="67"/>
                    </a:moveTo>
                    <a:lnTo>
                      <a:pt x="8" y="33"/>
                    </a:lnTo>
                    <a:lnTo>
                      <a:pt x="17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318960" y="702360"/>
                <a:ext cx="1080" cy="6480"/>
              </a:xfrm>
              <a:custGeom>
                <a:avLst/>
                <a:gdLst/>
                <a:ahLst/>
                <a:rect l="l" t="t" r="r" b="b"/>
                <a:pathLst>
                  <a:path w="15" h="68">
                    <a:moveTo>
                      <a:pt x="0" y="68"/>
                    </a:moveTo>
                    <a:lnTo>
                      <a:pt x="7" y="35"/>
                    </a:lnTo>
                    <a:lnTo>
                      <a:pt x="15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320040" y="695160"/>
                <a:ext cx="1440" cy="6840"/>
              </a:xfrm>
              <a:custGeom>
                <a:avLst/>
                <a:gdLst/>
                <a:ahLst/>
                <a:rect l="l" t="t" r="r" b="b"/>
                <a:pathLst>
                  <a:path w="17" h="76">
                    <a:moveTo>
                      <a:pt x="0" y="76"/>
                    </a:moveTo>
                    <a:lnTo>
                      <a:pt x="5" y="57"/>
                    </a:lnTo>
                    <a:lnTo>
                      <a:pt x="9" y="38"/>
                    </a:lnTo>
                    <a:lnTo>
                      <a:pt x="13" y="19"/>
                    </a:lnTo>
                    <a:lnTo>
                      <a:pt x="17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321840" y="688320"/>
                <a:ext cx="1080" cy="6480"/>
              </a:xfrm>
              <a:custGeom>
                <a:avLst/>
                <a:gdLst/>
                <a:ahLst/>
                <a:rect l="l" t="t" r="r" b="b"/>
                <a:pathLst>
                  <a:path w="16" h="68">
                    <a:moveTo>
                      <a:pt x="0" y="68"/>
                    </a:moveTo>
                    <a:lnTo>
                      <a:pt x="4" y="51"/>
                    </a:lnTo>
                    <a:lnTo>
                      <a:pt x="7" y="34"/>
                    </a:lnTo>
                    <a:lnTo>
                      <a:pt x="12" y="18"/>
                    </a:lnTo>
                    <a:lnTo>
                      <a:pt x="16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322920" y="681120"/>
                <a:ext cx="1440" cy="6840"/>
              </a:xfrm>
              <a:custGeom>
                <a:avLst/>
                <a:gdLst/>
                <a:ahLst/>
                <a:rect l="l" t="t" r="r" b="b"/>
                <a:pathLst>
                  <a:path w="17" h="75">
                    <a:moveTo>
                      <a:pt x="0" y="75"/>
                    </a:moveTo>
                    <a:lnTo>
                      <a:pt x="8" y="37"/>
                    </a:lnTo>
                    <a:lnTo>
                      <a:pt x="17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flipV="1">
                <a:off x="324720" y="673920"/>
                <a:ext cx="1080" cy="7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325800" y="666360"/>
                <a:ext cx="1440" cy="7200"/>
              </a:xfrm>
              <a:custGeom>
                <a:avLst/>
                <a:gdLst/>
                <a:ahLst/>
                <a:rect l="l" t="t" r="r" b="b"/>
                <a:pathLst>
                  <a:path w="17" h="76">
                    <a:moveTo>
                      <a:pt x="0" y="76"/>
                    </a:moveTo>
                    <a:lnTo>
                      <a:pt x="9" y="38"/>
                    </a:lnTo>
                    <a:lnTo>
                      <a:pt x="17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327240" y="659880"/>
                <a:ext cx="1080" cy="6480"/>
              </a:xfrm>
              <a:custGeom>
                <a:avLst/>
                <a:gdLst/>
                <a:ahLst/>
                <a:rect l="l" t="t" r="r" b="b"/>
                <a:pathLst>
                  <a:path w="16" h="68">
                    <a:moveTo>
                      <a:pt x="0" y="68"/>
                    </a:moveTo>
                    <a:lnTo>
                      <a:pt x="4" y="51"/>
                    </a:lnTo>
                    <a:lnTo>
                      <a:pt x="7" y="34"/>
                    </a:lnTo>
                    <a:lnTo>
                      <a:pt x="11" y="18"/>
                    </a:lnTo>
                    <a:lnTo>
                      <a:pt x="16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328680" y="652680"/>
                <a:ext cx="1440" cy="6840"/>
              </a:xfrm>
              <a:custGeom>
                <a:avLst/>
                <a:gdLst/>
                <a:ahLst/>
                <a:rect l="l" t="t" r="r" b="b"/>
                <a:pathLst>
                  <a:path w="17" h="75">
                    <a:moveTo>
                      <a:pt x="0" y="75"/>
                    </a:moveTo>
                    <a:lnTo>
                      <a:pt x="8" y="38"/>
                    </a:lnTo>
                    <a:lnTo>
                      <a:pt x="17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flipV="1">
                <a:off x="330120" y="645480"/>
                <a:ext cx="1080" cy="7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331560" y="638280"/>
                <a:ext cx="1080" cy="6840"/>
              </a:xfrm>
              <a:custGeom>
                <a:avLst/>
                <a:gdLst/>
                <a:ahLst/>
                <a:rect l="l" t="t" r="r" b="b"/>
                <a:pathLst>
                  <a:path w="17" h="75">
                    <a:moveTo>
                      <a:pt x="0" y="75"/>
                    </a:moveTo>
                    <a:lnTo>
                      <a:pt x="9" y="37"/>
                    </a:lnTo>
                    <a:lnTo>
                      <a:pt x="17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flipV="1">
                <a:off x="333000" y="630720"/>
                <a:ext cx="1440" cy="7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334440" y="623520"/>
                <a:ext cx="1080" cy="6840"/>
              </a:xfrm>
              <a:custGeom>
                <a:avLst/>
                <a:gdLst/>
                <a:ahLst/>
                <a:rect l="l" t="t" r="r" b="b"/>
                <a:pathLst>
                  <a:path w="17" h="76">
                    <a:moveTo>
                      <a:pt x="0" y="76"/>
                    </a:moveTo>
                    <a:lnTo>
                      <a:pt x="8" y="38"/>
                    </a:lnTo>
                    <a:lnTo>
                      <a:pt x="17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flipV="1">
                <a:off x="335880" y="616320"/>
                <a:ext cx="1080" cy="6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336960" y="609120"/>
                <a:ext cx="1440" cy="7200"/>
              </a:xfrm>
              <a:custGeom>
                <a:avLst/>
                <a:gdLst/>
                <a:ahLst/>
                <a:rect l="l" t="t" r="r" b="b"/>
                <a:pathLst>
                  <a:path w="17" h="77">
                    <a:moveTo>
                      <a:pt x="0" y="77"/>
                    </a:moveTo>
                    <a:lnTo>
                      <a:pt x="9" y="38"/>
                    </a:lnTo>
                    <a:lnTo>
                      <a:pt x="17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338400" y="601920"/>
                <a:ext cx="1080" cy="6840"/>
              </a:xfrm>
              <a:custGeom>
                <a:avLst/>
                <a:gdLst/>
                <a:ahLst/>
                <a:rect l="l" t="t" r="r" b="b"/>
                <a:pathLst>
                  <a:path w="16" h="75">
                    <a:moveTo>
                      <a:pt x="0" y="75"/>
                    </a:moveTo>
                    <a:lnTo>
                      <a:pt x="7" y="37"/>
                    </a:lnTo>
                    <a:lnTo>
                      <a:pt x="16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339840" y="595080"/>
                <a:ext cx="1440" cy="6480"/>
              </a:xfrm>
              <a:custGeom>
                <a:avLst/>
                <a:gdLst/>
                <a:ahLst/>
                <a:rect l="l" t="t" r="r" b="b"/>
                <a:pathLst>
                  <a:path w="16" h="69">
                    <a:moveTo>
                      <a:pt x="0" y="69"/>
                    </a:moveTo>
                    <a:lnTo>
                      <a:pt x="4" y="51"/>
                    </a:lnTo>
                    <a:lnTo>
                      <a:pt x="8" y="34"/>
                    </a:lnTo>
                    <a:lnTo>
                      <a:pt x="12" y="18"/>
                    </a:lnTo>
                    <a:lnTo>
                      <a:pt x="16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41280" y="587880"/>
                <a:ext cx="1080" cy="7200"/>
              </a:xfrm>
              <a:custGeom>
                <a:avLst/>
                <a:gdLst/>
                <a:ahLst/>
                <a:rect l="l" t="t" r="r" b="b"/>
                <a:pathLst>
                  <a:path w="16" h="75">
                    <a:moveTo>
                      <a:pt x="0" y="75"/>
                    </a:moveTo>
                    <a:lnTo>
                      <a:pt x="5" y="57"/>
                    </a:lnTo>
                    <a:lnTo>
                      <a:pt x="8" y="38"/>
                    </a:lnTo>
                    <a:lnTo>
                      <a:pt x="12" y="19"/>
                    </a:lnTo>
                    <a:lnTo>
                      <a:pt x="16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342720" y="581400"/>
                <a:ext cx="1440" cy="6480"/>
              </a:xfrm>
              <a:custGeom>
                <a:avLst/>
                <a:gdLst/>
                <a:ahLst/>
                <a:rect l="l" t="t" r="r" b="b"/>
                <a:pathLst>
                  <a:path w="17" h="68">
                    <a:moveTo>
                      <a:pt x="0" y="68"/>
                    </a:moveTo>
                    <a:lnTo>
                      <a:pt x="4" y="51"/>
                    </a:lnTo>
                    <a:lnTo>
                      <a:pt x="8" y="33"/>
                    </a:lnTo>
                    <a:lnTo>
                      <a:pt x="13" y="17"/>
                    </a:lnTo>
                    <a:lnTo>
                      <a:pt x="17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44160" y="574200"/>
                <a:ext cx="1080" cy="6840"/>
              </a:xfrm>
              <a:custGeom>
                <a:avLst/>
                <a:gdLst/>
                <a:ahLst/>
                <a:rect l="l" t="t" r="r" b="b"/>
                <a:pathLst>
                  <a:path w="17" h="76">
                    <a:moveTo>
                      <a:pt x="0" y="76"/>
                    </a:moveTo>
                    <a:lnTo>
                      <a:pt x="4" y="57"/>
                    </a:lnTo>
                    <a:lnTo>
                      <a:pt x="8" y="38"/>
                    </a:lnTo>
                    <a:lnTo>
                      <a:pt x="13" y="19"/>
                    </a:lnTo>
                    <a:lnTo>
                      <a:pt x="17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345600" y="567720"/>
                <a:ext cx="1080" cy="6480"/>
              </a:xfrm>
              <a:custGeom>
                <a:avLst/>
                <a:gdLst/>
                <a:ahLst/>
                <a:rect l="l" t="t" r="r" b="b"/>
                <a:pathLst>
                  <a:path w="15" h="68">
                    <a:moveTo>
                      <a:pt x="0" y="68"/>
                    </a:moveTo>
                    <a:lnTo>
                      <a:pt x="7" y="34"/>
                    </a:lnTo>
                    <a:lnTo>
                      <a:pt x="15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346680" y="561240"/>
                <a:ext cx="1440" cy="6120"/>
              </a:xfrm>
              <a:custGeom>
                <a:avLst/>
                <a:gdLst/>
                <a:ahLst/>
                <a:rect l="l" t="t" r="r" b="b"/>
                <a:pathLst>
                  <a:path w="17" h="66">
                    <a:moveTo>
                      <a:pt x="0" y="66"/>
                    </a:moveTo>
                    <a:lnTo>
                      <a:pt x="9" y="33"/>
                    </a:lnTo>
                    <a:lnTo>
                      <a:pt x="17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flipV="1">
                <a:off x="348480" y="554760"/>
                <a:ext cx="108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349560" y="548280"/>
                <a:ext cx="1440" cy="6120"/>
              </a:xfrm>
              <a:custGeom>
                <a:avLst/>
                <a:gdLst/>
                <a:ahLst/>
                <a:rect l="l" t="t" r="r" b="b"/>
                <a:pathLst>
                  <a:path w="17" h="66">
                    <a:moveTo>
                      <a:pt x="0" y="66"/>
                    </a:moveTo>
                    <a:lnTo>
                      <a:pt x="8" y="33"/>
                    </a:lnTo>
                    <a:lnTo>
                      <a:pt x="17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V="1">
                <a:off x="351360" y="541800"/>
                <a:ext cx="108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52440" y="535320"/>
                <a:ext cx="1440" cy="6120"/>
              </a:xfrm>
              <a:custGeom>
                <a:avLst/>
                <a:gdLst/>
                <a:ahLst/>
                <a:rect l="l" t="t" r="r" b="b"/>
                <a:pathLst>
                  <a:path w="17" h="68">
                    <a:moveTo>
                      <a:pt x="0" y="68"/>
                    </a:moveTo>
                    <a:lnTo>
                      <a:pt x="9" y="34"/>
                    </a:lnTo>
                    <a:lnTo>
                      <a:pt x="13" y="16"/>
                    </a:lnTo>
                    <a:lnTo>
                      <a:pt x="17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54240" y="529560"/>
                <a:ext cx="1080" cy="5400"/>
              </a:xfrm>
              <a:custGeom>
                <a:avLst/>
                <a:gdLst/>
                <a:ahLst/>
                <a:rect l="l" t="t" r="r" b="b"/>
                <a:pathLst>
                  <a:path w="16" h="58">
                    <a:moveTo>
                      <a:pt x="0" y="58"/>
                    </a:moveTo>
                    <a:lnTo>
                      <a:pt x="4" y="44"/>
                    </a:lnTo>
                    <a:lnTo>
                      <a:pt x="7" y="29"/>
                    </a:lnTo>
                    <a:lnTo>
                      <a:pt x="12" y="15"/>
                    </a:lnTo>
                    <a:lnTo>
                      <a:pt x="16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55320" y="523440"/>
                <a:ext cx="1440" cy="6120"/>
              </a:xfrm>
              <a:custGeom>
                <a:avLst/>
                <a:gdLst/>
                <a:ahLst/>
                <a:rect l="l" t="t" r="r" b="b"/>
                <a:pathLst>
                  <a:path w="17" h="68">
                    <a:moveTo>
                      <a:pt x="0" y="68"/>
                    </a:moveTo>
                    <a:lnTo>
                      <a:pt x="4" y="52"/>
                    </a:lnTo>
                    <a:lnTo>
                      <a:pt x="8" y="35"/>
                    </a:lnTo>
                    <a:lnTo>
                      <a:pt x="12" y="16"/>
                    </a:lnTo>
                    <a:lnTo>
                      <a:pt x="17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57120" y="517680"/>
                <a:ext cx="1080" cy="5400"/>
              </a:xfrm>
              <a:custGeom>
                <a:avLst/>
                <a:gdLst/>
                <a:ahLst/>
                <a:rect l="l" t="t" r="r" b="b"/>
                <a:pathLst>
                  <a:path w="15" h="59">
                    <a:moveTo>
                      <a:pt x="0" y="59"/>
                    </a:moveTo>
                    <a:lnTo>
                      <a:pt x="7" y="29"/>
                    </a:lnTo>
                    <a:lnTo>
                      <a:pt x="15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58200" y="511920"/>
                <a:ext cx="1080" cy="5400"/>
              </a:xfrm>
              <a:custGeom>
                <a:avLst/>
                <a:gdLst/>
                <a:ahLst/>
                <a:rect l="l" t="t" r="r" b="b"/>
                <a:pathLst>
                  <a:path w="17" h="60">
                    <a:moveTo>
                      <a:pt x="0" y="60"/>
                    </a:moveTo>
                    <a:lnTo>
                      <a:pt x="9" y="29"/>
                    </a:lnTo>
                    <a:lnTo>
                      <a:pt x="17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V="1">
                <a:off x="359640" y="506160"/>
                <a:ext cx="144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61080" y="500760"/>
                <a:ext cx="1080" cy="5400"/>
              </a:xfrm>
              <a:custGeom>
                <a:avLst/>
                <a:gdLst/>
                <a:ahLst/>
                <a:rect l="l" t="t" r="r" b="b"/>
                <a:pathLst>
                  <a:path w="17" h="59">
                    <a:moveTo>
                      <a:pt x="0" y="59"/>
                    </a:moveTo>
                    <a:lnTo>
                      <a:pt x="8" y="30"/>
                    </a:lnTo>
                    <a:lnTo>
                      <a:pt x="17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62520" y="495000"/>
                <a:ext cx="1080" cy="5400"/>
              </a:xfrm>
              <a:custGeom>
                <a:avLst/>
                <a:gdLst/>
                <a:ahLst/>
                <a:rect l="l" t="t" r="r" b="b"/>
                <a:pathLst>
                  <a:path w="15" h="60">
                    <a:moveTo>
                      <a:pt x="0" y="60"/>
                    </a:moveTo>
                    <a:lnTo>
                      <a:pt x="7" y="29"/>
                    </a:lnTo>
                    <a:lnTo>
                      <a:pt x="11" y="15"/>
                    </a:lnTo>
                    <a:lnTo>
                      <a:pt x="15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363600" y="48996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7" h="51">
                    <a:moveTo>
                      <a:pt x="0" y="51"/>
                    </a:moveTo>
                    <a:lnTo>
                      <a:pt x="4" y="38"/>
                    </a:lnTo>
                    <a:lnTo>
                      <a:pt x="9" y="25"/>
                    </a:lnTo>
                    <a:lnTo>
                      <a:pt x="13" y="13"/>
                    </a:lnTo>
                    <a:lnTo>
                      <a:pt x="17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65400" y="484200"/>
                <a:ext cx="1080" cy="5400"/>
              </a:xfrm>
              <a:custGeom>
                <a:avLst/>
                <a:gdLst/>
                <a:ahLst/>
                <a:rect l="l" t="t" r="r" b="b"/>
                <a:pathLst>
                  <a:path w="16" h="59">
                    <a:moveTo>
                      <a:pt x="0" y="59"/>
                    </a:moveTo>
                    <a:lnTo>
                      <a:pt x="4" y="45"/>
                    </a:lnTo>
                    <a:lnTo>
                      <a:pt x="7" y="29"/>
                    </a:lnTo>
                    <a:lnTo>
                      <a:pt x="11" y="14"/>
                    </a:lnTo>
                    <a:lnTo>
                      <a:pt x="16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366480" y="479520"/>
                <a:ext cx="1440" cy="4320"/>
              </a:xfrm>
              <a:custGeom>
                <a:avLst/>
                <a:gdLst/>
                <a:ahLst/>
                <a:rect l="l" t="t" r="r" b="b"/>
                <a:pathLst>
                  <a:path w="17" h="49">
                    <a:moveTo>
                      <a:pt x="0" y="49"/>
                    </a:moveTo>
                    <a:lnTo>
                      <a:pt x="4" y="36"/>
                    </a:lnTo>
                    <a:lnTo>
                      <a:pt x="8" y="24"/>
                    </a:lnTo>
                    <a:lnTo>
                      <a:pt x="17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V="1">
                <a:off x="368280" y="474480"/>
                <a:ext cx="1080" cy="4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69360" y="46980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7" h="51">
                    <a:moveTo>
                      <a:pt x="0" y="51"/>
                    </a:moveTo>
                    <a:lnTo>
                      <a:pt x="9" y="25"/>
                    </a:lnTo>
                    <a:lnTo>
                      <a:pt x="17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V="1">
                <a:off x="370800" y="464760"/>
                <a:ext cx="1080" cy="4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72240" y="460080"/>
                <a:ext cx="1080" cy="4680"/>
              </a:xfrm>
              <a:custGeom>
                <a:avLst/>
                <a:gdLst/>
                <a:ahLst/>
                <a:rect l="l" t="t" r="r" b="b"/>
                <a:pathLst>
                  <a:path w="16" h="50">
                    <a:moveTo>
                      <a:pt x="0" y="50"/>
                    </a:moveTo>
                    <a:lnTo>
                      <a:pt x="8" y="24"/>
                    </a:lnTo>
                    <a:lnTo>
                      <a:pt x="12" y="11"/>
                    </a:lnTo>
                    <a:lnTo>
                      <a:pt x="16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73680" y="456120"/>
                <a:ext cx="1440" cy="3960"/>
              </a:xfrm>
              <a:custGeom>
                <a:avLst/>
                <a:gdLst/>
                <a:ahLst/>
                <a:rect l="l" t="t" r="r" b="b"/>
                <a:pathLst>
                  <a:path w="16" h="42">
                    <a:moveTo>
                      <a:pt x="0" y="42"/>
                    </a:moveTo>
                    <a:lnTo>
                      <a:pt x="5" y="30"/>
                    </a:lnTo>
                    <a:lnTo>
                      <a:pt x="8" y="20"/>
                    </a:lnTo>
                    <a:lnTo>
                      <a:pt x="12" y="11"/>
                    </a:lnTo>
                    <a:lnTo>
                      <a:pt x="16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375120" y="451080"/>
                <a:ext cx="1080" cy="4680"/>
              </a:xfrm>
              <a:custGeom>
                <a:avLst/>
                <a:gdLst/>
                <a:ahLst/>
                <a:rect l="l" t="t" r="r" b="b"/>
                <a:pathLst>
                  <a:path w="17" h="51">
                    <a:moveTo>
                      <a:pt x="0" y="51"/>
                    </a:moveTo>
                    <a:lnTo>
                      <a:pt x="4" y="39"/>
                    </a:lnTo>
                    <a:lnTo>
                      <a:pt x="8" y="24"/>
                    </a:lnTo>
                    <a:lnTo>
                      <a:pt x="13" y="11"/>
                    </a:lnTo>
                    <a:lnTo>
                      <a:pt x="17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76560" y="447120"/>
                <a:ext cx="1080" cy="3960"/>
              </a:xfrm>
              <a:custGeom>
                <a:avLst/>
                <a:gdLst/>
                <a:ahLst/>
                <a:rect l="l" t="t" r="r" b="b"/>
                <a:pathLst>
                  <a:path w="15" h="42">
                    <a:moveTo>
                      <a:pt x="0" y="42"/>
                    </a:moveTo>
                    <a:lnTo>
                      <a:pt x="4" y="30"/>
                    </a:lnTo>
                    <a:lnTo>
                      <a:pt x="7" y="20"/>
                    </a:lnTo>
                    <a:lnTo>
                      <a:pt x="15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77640" y="443160"/>
                <a:ext cx="1440" cy="3960"/>
              </a:xfrm>
              <a:custGeom>
                <a:avLst/>
                <a:gdLst/>
                <a:ahLst/>
                <a:rect l="l" t="t" r="r" b="b"/>
                <a:pathLst>
                  <a:path w="17" h="44">
                    <a:moveTo>
                      <a:pt x="0" y="44"/>
                    </a:moveTo>
                    <a:lnTo>
                      <a:pt x="9" y="22"/>
                    </a:lnTo>
                    <a:lnTo>
                      <a:pt x="17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V="1">
                <a:off x="379080" y="438840"/>
                <a:ext cx="1440" cy="3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80880" y="434880"/>
                <a:ext cx="1080" cy="3960"/>
              </a:xfrm>
              <a:custGeom>
                <a:avLst/>
                <a:gdLst/>
                <a:ahLst/>
                <a:rect l="l" t="t" r="r" b="b"/>
                <a:pathLst>
                  <a:path w="16" h="42">
                    <a:moveTo>
                      <a:pt x="0" y="42"/>
                    </a:moveTo>
                    <a:lnTo>
                      <a:pt x="7" y="20"/>
                    </a:lnTo>
                    <a:lnTo>
                      <a:pt x="12" y="10"/>
                    </a:lnTo>
                    <a:lnTo>
                      <a:pt x="16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81960" y="43200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7" h="33">
                    <a:moveTo>
                      <a:pt x="0" y="33"/>
                    </a:moveTo>
                    <a:lnTo>
                      <a:pt x="4" y="24"/>
                    </a:lnTo>
                    <a:lnTo>
                      <a:pt x="8" y="16"/>
                    </a:lnTo>
                    <a:lnTo>
                      <a:pt x="13" y="8"/>
                    </a:lnTo>
                    <a:lnTo>
                      <a:pt x="17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83760" y="428040"/>
                <a:ext cx="1080" cy="3960"/>
              </a:xfrm>
              <a:custGeom>
                <a:avLst/>
                <a:gdLst/>
                <a:ahLst/>
                <a:rect l="l" t="t" r="r" b="b"/>
                <a:pathLst>
                  <a:path w="15" h="42">
                    <a:moveTo>
                      <a:pt x="0" y="42"/>
                    </a:moveTo>
                    <a:lnTo>
                      <a:pt x="4" y="32"/>
                    </a:lnTo>
                    <a:lnTo>
                      <a:pt x="7" y="20"/>
                    </a:lnTo>
                    <a:lnTo>
                      <a:pt x="11" y="10"/>
                    </a:lnTo>
                    <a:lnTo>
                      <a:pt x="15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384840" y="424440"/>
                <a:ext cx="1080" cy="3240"/>
              </a:xfrm>
              <a:custGeom>
                <a:avLst/>
                <a:gdLst/>
                <a:ahLst/>
                <a:rect l="l" t="t" r="r" b="b"/>
                <a:pathLst>
                  <a:path w="17" h="34">
                    <a:moveTo>
                      <a:pt x="0" y="34"/>
                    </a:moveTo>
                    <a:lnTo>
                      <a:pt x="5" y="25"/>
                    </a:lnTo>
                    <a:lnTo>
                      <a:pt x="9" y="18"/>
                    </a:lnTo>
                    <a:lnTo>
                      <a:pt x="13" y="9"/>
                    </a:lnTo>
                    <a:lnTo>
                      <a:pt x="17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86280" y="420480"/>
                <a:ext cx="1440" cy="3960"/>
              </a:xfrm>
              <a:custGeom>
                <a:avLst/>
                <a:gdLst/>
                <a:ahLst/>
                <a:rect l="l" t="t" r="r" b="b"/>
                <a:pathLst>
                  <a:path w="16" h="43">
                    <a:moveTo>
                      <a:pt x="0" y="43"/>
                    </a:moveTo>
                    <a:lnTo>
                      <a:pt x="4" y="33"/>
                    </a:lnTo>
                    <a:lnTo>
                      <a:pt x="7" y="22"/>
                    </a:lnTo>
                    <a:lnTo>
                      <a:pt x="12" y="10"/>
                    </a:lnTo>
                    <a:lnTo>
                      <a:pt x="16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87720" y="41724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7" h="34">
                    <a:moveTo>
                      <a:pt x="0" y="34"/>
                    </a:moveTo>
                    <a:lnTo>
                      <a:pt x="4" y="25"/>
                    </a:lnTo>
                    <a:lnTo>
                      <a:pt x="8" y="16"/>
                    </a:lnTo>
                    <a:lnTo>
                      <a:pt x="17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V="1">
                <a:off x="389160" y="414000"/>
                <a:ext cx="1080" cy="2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90240" y="41076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7" h="33">
                    <a:moveTo>
                      <a:pt x="0" y="33"/>
                    </a:moveTo>
                    <a:lnTo>
                      <a:pt x="9" y="16"/>
                    </a:lnTo>
                    <a:lnTo>
                      <a:pt x="17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392040" y="40824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16" h="26">
                    <a:moveTo>
                      <a:pt x="0" y="26"/>
                    </a:moveTo>
                    <a:lnTo>
                      <a:pt x="4" y="18"/>
                    </a:lnTo>
                    <a:lnTo>
                      <a:pt x="7" y="13"/>
                    </a:lnTo>
                    <a:lnTo>
                      <a:pt x="11" y="7"/>
                    </a:lnTo>
                    <a:lnTo>
                      <a:pt x="16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393120" y="40536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7" h="34">
                    <a:moveTo>
                      <a:pt x="0" y="34"/>
                    </a:moveTo>
                    <a:lnTo>
                      <a:pt x="4" y="25"/>
                    </a:lnTo>
                    <a:lnTo>
                      <a:pt x="8" y="16"/>
                    </a:lnTo>
                    <a:lnTo>
                      <a:pt x="12" y="9"/>
                    </a:lnTo>
                    <a:lnTo>
                      <a:pt x="17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394920" y="40248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15" h="26">
                    <a:moveTo>
                      <a:pt x="0" y="26"/>
                    </a:moveTo>
                    <a:lnTo>
                      <a:pt x="4" y="19"/>
                    </a:lnTo>
                    <a:lnTo>
                      <a:pt x="7" y="13"/>
                    </a:lnTo>
                    <a:lnTo>
                      <a:pt x="11" y="7"/>
                    </a:lnTo>
                    <a:lnTo>
                      <a:pt x="15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96000" y="39960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7" h="33">
                    <a:moveTo>
                      <a:pt x="0" y="33"/>
                    </a:moveTo>
                    <a:lnTo>
                      <a:pt x="4" y="24"/>
                    </a:lnTo>
                    <a:lnTo>
                      <a:pt x="9" y="16"/>
                    </a:lnTo>
                    <a:lnTo>
                      <a:pt x="13" y="7"/>
                    </a:lnTo>
                    <a:lnTo>
                      <a:pt x="17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97440" y="397080"/>
                <a:ext cx="1080" cy="2160"/>
              </a:xfrm>
              <a:custGeom>
                <a:avLst/>
                <a:gdLst/>
                <a:ahLst/>
                <a:rect l="l" t="t" r="r" b="b"/>
                <a:pathLst>
                  <a:path w="16" h="25">
                    <a:moveTo>
                      <a:pt x="0" y="25"/>
                    </a:moveTo>
                    <a:lnTo>
                      <a:pt x="4" y="18"/>
                    </a:lnTo>
                    <a:lnTo>
                      <a:pt x="7" y="12"/>
                    </a:lnTo>
                    <a:lnTo>
                      <a:pt x="16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98880" y="394560"/>
                <a:ext cx="1440" cy="2520"/>
              </a:xfrm>
              <a:custGeom>
                <a:avLst/>
                <a:gdLst/>
                <a:ahLst/>
                <a:rect l="l" t="t" r="r" b="b"/>
                <a:pathLst>
                  <a:path w="17" h="26">
                    <a:moveTo>
                      <a:pt x="0" y="26"/>
                    </a:moveTo>
                    <a:lnTo>
                      <a:pt x="8" y="13"/>
                    </a:lnTo>
                    <a:lnTo>
                      <a:pt x="17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>
                <a:off x="400320" y="392400"/>
                <a:ext cx="1080" cy="2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01760" y="38952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17" h="26">
                    <a:moveTo>
                      <a:pt x="0" y="26"/>
                    </a:moveTo>
                    <a:lnTo>
                      <a:pt x="9" y="13"/>
                    </a:lnTo>
                    <a:lnTo>
                      <a:pt x="13" y="6"/>
                    </a:lnTo>
                    <a:lnTo>
                      <a:pt x="17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03200" y="38808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16"/>
                    </a:moveTo>
                    <a:lnTo>
                      <a:pt x="4" y="12"/>
                    </a:lnTo>
                    <a:lnTo>
                      <a:pt x="7" y="8"/>
                    </a:lnTo>
                    <a:lnTo>
                      <a:pt x="11" y="5"/>
                    </a:lnTo>
                    <a:lnTo>
                      <a:pt x="16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04640" y="38556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16" h="26">
                    <a:moveTo>
                      <a:pt x="0" y="26"/>
                    </a:moveTo>
                    <a:lnTo>
                      <a:pt x="4" y="20"/>
                    </a:lnTo>
                    <a:lnTo>
                      <a:pt x="8" y="13"/>
                    </a:lnTo>
                    <a:lnTo>
                      <a:pt x="12" y="6"/>
                    </a:lnTo>
                    <a:lnTo>
                      <a:pt x="16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06080" y="38376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6" h="17">
                    <a:moveTo>
                      <a:pt x="0" y="17"/>
                    </a:moveTo>
                    <a:lnTo>
                      <a:pt x="5" y="13"/>
                    </a:lnTo>
                    <a:lnTo>
                      <a:pt x="8" y="8"/>
                    </a:lnTo>
                    <a:lnTo>
                      <a:pt x="12" y="4"/>
                    </a:lnTo>
                    <a:lnTo>
                      <a:pt x="16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07160" y="381600"/>
                <a:ext cx="1440" cy="2160"/>
              </a:xfrm>
              <a:custGeom>
                <a:avLst/>
                <a:gdLst/>
                <a:ahLst/>
                <a:rect l="l" t="t" r="r" b="b"/>
                <a:pathLst>
                  <a:path w="17" h="25">
                    <a:moveTo>
                      <a:pt x="0" y="25"/>
                    </a:moveTo>
                    <a:lnTo>
                      <a:pt x="4" y="19"/>
                    </a:lnTo>
                    <a:lnTo>
                      <a:pt x="8" y="12"/>
                    </a:lnTo>
                    <a:lnTo>
                      <a:pt x="13" y="6"/>
                    </a:lnTo>
                    <a:lnTo>
                      <a:pt x="17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08600" y="3798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5" h="17">
                    <a:moveTo>
                      <a:pt x="0" y="17"/>
                    </a:moveTo>
                    <a:lnTo>
                      <a:pt x="7" y="8"/>
                    </a:lnTo>
                    <a:lnTo>
                      <a:pt x="15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10040" y="37836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16"/>
                    </a:moveTo>
                    <a:lnTo>
                      <a:pt x="9" y="7"/>
                    </a:lnTo>
                    <a:lnTo>
                      <a:pt x="17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V="1">
                <a:off x="411480" y="376560"/>
                <a:ext cx="10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12920" y="3751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7"/>
                    </a:moveTo>
                    <a:lnTo>
                      <a:pt x="8" y="9"/>
                    </a:lnTo>
                    <a:lnTo>
                      <a:pt x="13" y="3"/>
                    </a:lnTo>
                    <a:lnTo>
                      <a:pt x="17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14360" y="374400"/>
                <a:ext cx="1080" cy="360"/>
              </a:xfrm>
              <a:custGeom>
                <a:avLst/>
                <a:gdLst/>
                <a:ahLst/>
                <a:rect l="l" t="t" r="r" b="b"/>
                <a:pathLst>
                  <a:path w="15" h="7">
                    <a:moveTo>
                      <a:pt x="0" y="7"/>
                    </a:moveTo>
                    <a:lnTo>
                      <a:pt x="4" y="4"/>
                    </a:lnTo>
                    <a:lnTo>
                      <a:pt x="7" y="3"/>
                    </a:lnTo>
                    <a:lnTo>
                      <a:pt x="11" y="3"/>
                    </a:lnTo>
                    <a:lnTo>
                      <a:pt x="15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15800" y="3726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0" y="18"/>
                    </a:moveTo>
                    <a:lnTo>
                      <a:pt x="5" y="15"/>
                    </a:lnTo>
                    <a:lnTo>
                      <a:pt x="9" y="9"/>
                    </a:lnTo>
                    <a:lnTo>
                      <a:pt x="17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16880" y="3708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7"/>
                    </a:moveTo>
                    <a:lnTo>
                      <a:pt x="9" y="9"/>
                    </a:lnTo>
                    <a:lnTo>
                      <a:pt x="17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18680" y="37008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0" y="9"/>
                    </a:moveTo>
                    <a:lnTo>
                      <a:pt x="7" y="5"/>
                    </a:lnTo>
                    <a:lnTo>
                      <a:pt x="16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19760" y="369360"/>
                <a:ext cx="1440" cy="360"/>
              </a:xfrm>
              <a:custGeom>
                <a:avLst/>
                <a:gdLst/>
                <a:ahLst/>
                <a:rect l="l" t="t" r="r" b="b"/>
                <a:pathLst>
                  <a:path w="17" h="7">
                    <a:moveTo>
                      <a:pt x="0" y="7"/>
                    </a:moveTo>
                    <a:lnTo>
                      <a:pt x="8" y="4"/>
                    </a:lnTo>
                    <a:lnTo>
                      <a:pt x="12" y="3"/>
                    </a:lnTo>
                    <a:lnTo>
                      <a:pt x="17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21560" y="36792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5" h="17">
                    <a:moveTo>
                      <a:pt x="0" y="17"/>
                    </a:moveTo>
                    <a:lnTo>
                      <a:pt x="4" y="13"/>
                    </a:lnTo>
                    <a:lnTo>
                      <a:pt x="7" y="8"/>
                    </a:lnTo>
                    <a:lnTo>
                      <a:pt x="11" y="4"/>
                    </a:lnTo>
                    <a:lnTo>
                      <a:pt x="15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22640" y="366840"/>
                <a:ext cx="1440" cy="72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0" y="9"/>
                    </a:moveTo>
                    <a:lnTo>
                      <a:pt x="9" y="4"/>
                    </a:lnTo>
                    <a:lnTo>
                      <a:pt x="17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V="1">
                <a:off x="424440" y="366120"/>
                <a:ext cx="1080" cy="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25520" y="365400"/>
                <a:ext cx="1440" cy="72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0" y="9"/>
                    </a:moveTo>
                    <a:lnTo>
                      <a:pt x="8" y="5"/>
                    </a:lnTo>
                    <a:lnTo>
                      <a:pt x="17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27320" y="365400"/>
                <a:ext cx="1080" cy="3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  <a:lnTo>
                      <a:pt x="11" y="0"/>
                    </a:lnTo>
                    <a:lnTo>
                      <a:pt x="15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28400" y="364680"/>
                <a:ext cx="1080" cy="360"/>
              </a:xfrm>
              <a:custGeom>
                <a:avLst/>
                <a:gdLst/>
                <a:ahLst/>
                <a:rect l="l" t="t" r="r" b="b"/>
                <a:pathLst>
                  <a:path w="17" h="7">
                    <a:moveTo>
                      <a:pt x="0" y="7"/>
                    </a:moveTo>
                    <a:lnTo>
                      <a:pt x="9" y="5"/>
                    </a:lnTo>
                    <a:lnTo>
                      <a:pt x="17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29840" y="363960"/>
                <a:ext cx="1440" cy="72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0" y="9"/>
                    </a:moveTo>
                    <a:lnTo>
                      <a:pt x="7" y="5"/>
                    </a:lnTo>
                    <a:lnTo>
                      <a:pt x="11" y="2"/>
                    </a:lnTo>
                    <a:lnTo>
                      <a:pt x="16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31280" y="363960"/>
                <a:ext cx="1080" cy="3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0" y="0"/>
                    </a:moveTo>
                    <a:lnTo>
                      <a:pt x="4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7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32720" y="36288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0" y="8"/>
                    </a:moveTo>
                    <a:lnTo>
                      <a:pt x="4" y="7"/>
                    </a:lnTo>
                    <a:lnTo>
                      <a:pt x="7" y="4"/>
                    </a:lnTo>
                    <a:lnTo>
                      <a:pt x="11" y="1"/>
                    </a:lnTo>
                    <a:lnTo>
                      <a:pt x="15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33800" y="362880"/>
                <a:ext cx="1440" cy="3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0" y="0"/>
                    </a:moveTo>
                    <a:lnTo>
                      <a:pt x="9" y="0"/>
                    </a:lnTo>
                    <a:lnTo>
                      <a:pt x="17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35600" y="362880"/>
                <a:ext cx="1080" cy="360"/>
              </a:xfrm>
              <a:custGeom>
                <a:avLst/>
                <a:gdLst/>
                <a:ahLst/>
                <a:rect l="l" t="t" r="r" b="b"/>
                <a:pathLst>
                  <a:path w="16" h="0">
                    <a:moveTo>
                      <a:pt x="0" y="0"/>
                    </a:moveTo>
                    <a:lnTo>
                      <a:pt x="7" y="0"/>
                    </a:lnTo>
                    <a:lnTo>
                      <a:pt x="16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36680" y="362160"/>
                <a:ext cx="1440" cy="72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0" y="9"/>
                    </a:moveTo>
                    <a:lnTo>
                      <a:pt x="4" y="7"/>
                    </a:lnTo>
                    <a:lnTo>
                      <a:pt x="8" y="4"/>
                    </a:lnTo>
                    <a:lnTo>
                      <a:pt x="12" y="2"/>
                    </a:lnTo>
                    <a:lnTo>
                      <a:pt x="16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38480" y="362160"/>
                <a:ext cx="1080" cy="360"/>
              </a:xfrm>
              <a:custGeom>
                <a:avLst/>
                <a:gdLst/>
                <a:ahLst/>
                <a:rect l="l" t="t" r="r" b="b"/>
                <a:pathLst>
                  <a:path w="16" h="0">
                    <a:moveTo>
                      <a:pt x="0" y="0"/>
                    </a:moveTo>
                    <a:lnTo>
                      <a:pt x="8" y="0"/>
                    </a:lnTo>
                    <a:lnTo>
                      <a:pt x="16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39560" y="362160"/>
                <a:ext cx="1440" cy="3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0" y="0"/>
                    </a:moveTo>
                    <a:lnTo>
                      <a:pt x="8" y="0"/>
                    </a:lnTo>
                    <a:lnTo>
                      <a:pt x="17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41000" y="362160"/>
                <a:ext cx="10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42440" y="362160"/>
                <a:ext cx="1080" cy="3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0" y="0"/>
                    </a:moveTo>
                    <a:lnTo>
                      <a:pt x="9" y="0"/>
                    </a:lnTo>
                    <a:lnTo>
                      <a:pt x="17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43880" y="362160"/>
                <a:ext cx="1440" cy="72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0" y="0"/>
                    </a:moveTo>
                    <a:lnTo>
                      <a:pt x="5" y="2"/>
                    </a:lnTo>
                    <a:lnTo>
                      <a:pt x="7" y="4"/>
                    </a:lnTo>
                    <a:lnTo>
                      <a:pt x="12" y="7"/>
                    </a:lnTo>
                    <a:lnTo>
                      <a:pt x="16" y="9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45320" y="362880"/>
                <a:ext cx="1080" cy="3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0" y="0"/>
                    </a:moveTo>
                    <a:lnTo>
                      <a:pt x="8" y="0"/>
                    </a:lnTo>
                    <a:lnTo>
                      <a:pt x="17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46760" y="362880"/>
                <a:ext cx="1080" cy="3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0" y="0"/>
                    </a:moveTo>
                    <a:lnTo>
                      <a:pt x="7" y="0"/>
                    </a:lnTo>
                    <a:lnTo>
                      <a:pt x="15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47840" y="362880"/>
                <a:ext cx="1440" cy="72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0" y="0"/>
                    </a:moveTo>
                    <a:lnTo>
                      <a:pt x="5" y="1"/>
                    </a:lnTo>
                    <a:lnTo>
                      <a:pt x="9" y="4"/>
                    </a:lnTo>
                    <a:lnTo>
                      <a:pt x="13" y="7"/>
                    </a:lnTo>
                    <a:lnTo>
                      <a:pt x="17" y="8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49280" y="363960"/>
                <a:ext cx="1080" cy="360"/>
              </a:xfrm>
              <a:custGeom>
                <a:avLst/>
                <a:gdLst/>
                <a:ahLst/>
                <a:rect l="l" t="t" r="r" b="b"/>
                <a:pathLst>
                  <a:path w="16" h="0">
                    <a:moveTo>
                      <a:pt x="0" y="0"/>
                    </a:moveTo>
                    <a:lnTo>
                      <a:pt x="5" y="0"/>
                    </a:lnTo>
                    <a:lnTo>
                      <a:pt x="7" y="0"/>
                    </a:lnTo>
                    <a:lnTo>
                      <a:pt x="12" y="0"/>
                    </a:lnTo>
                    <a:lnTo>
                      <a:pt x="16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50720" y="363960"/>
                <a:ext cx="1440" cy="72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  <a:lnTo>
                      <a:pt x="13" y="8"/>
                    </a:lnTo>
                    <a:lnTo>
                      <a:pt x="17" y="9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52160" y="364680"/>
                <a:ext cx="1080" cy="3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  <a:lnTo>
                      <a:pt x="11" y="0"/>
                    </a:lnTo>
                    <a:lnTo>
                      <a:pt x="15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53600" y="364680"/>
                <a:ext cx="1440" cy="360"/>
              </a:xfrm>
              <a:custGeom>
                <a:avLst/>
                <a:gdLst/>
                <a:ahLst/>
                <a:rect l="l" t="t" r="r" b="b"/>
                <a:pathLst>
                  <a:path w="17" h="7">
                    <a:moveTo>
                      <a:pt x="0" y="0"/>
                    </a:moveTo>
                    <a:lnTo>
                      <a:pt x="9" y="3"/>
                    </a:lnTo>
                    <a:lnTo>
                      <a:pt x="17" y="7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55040" y="36540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0" y="0"/>
                    </a:moveTo>
                    <a:lnTo>
                      <a:pt x="9" y="5"/>
                    </a:lnTo>
                    <a:lnTo>
                      <a:pt x="13" y="8"/>
                    </a:lnTo>
                    <a:lnTo>
                      <a:pt x="17" y="9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56480" y="366120"/>
                <a:ext cx="1440" cy="360"/>
              </a:xfrm>
              <a:custGeom>
                <a:avLst/>
                <a:gdLst/>
                <a:ahLst/>
                <a:rect l="l" t="t" r="r" b="b"/>
                <a:pathLst>
                  <a:path w="16" h="0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  <a:lnTo>
                      <a:pt x="11" y="0"/>
                    </a:lnTo>
                    <a:lnTo>
                      <a:pt x="16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57920" y="36612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0" y="0"/>
                    </a:moveTo>
                    <a:lnTo>
                      <a:pt x="8" y="4"/>
                    </a:lnTo>
                    <a:lnTo>
                      <a:pt x="17" y="9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59360" y="366840"/>
                <a:ext cx="1080" cy="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0440" y="367920"/>
                <a:ext cx="1440" cy="72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0" y="0"/>
                    </a:moveTo>
                    <a:lnTo>
                      <a:pt x="9" y="4"/>
                    </a:lnTo>
                    <a:lnTo>
                      <a:pt x="17" y="8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62240" y="368640"/>
                <a:ext cx="1080" cy="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63320" y="369360"/>
                <a:ext cx="1440" cy="360"/>
              </a:xfrm>
              <a:custGeom>
                <a:avLst/>
                <a:gdLst/>
                <a:ahLst/>
                <a:rect l="l" t="t" r="r" b="b"/>
                <a:pathLst>
                  <a:path w="17" h="7">
                    <a:moveTo>
                      <a:pt x="0" y="0"/>
                    </a:moveTo>
                    <a:lnTo>
                      <a:pt x="8" y="3"/>
                    </a:lnTo>
                    <a:lnTo>
                      <a:pt x="17" y="7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65120" y="37008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0" y="0"/>
                    </a:moveTo>
                    <a:lnTo>
                      <a:pt x="7" y="5"/>
                    </a:lnTo>
                    <a:lnTo>
                      <a:pt x="15" y="9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66200" y="3708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4" y="4"/>
                    </a:lnTo>
                    <a:lnTo>
                      <a:pt x="9" y="9"/>
                    </a:lnTo>
                    <a:lnTo>
                      <a:pt x="13" y="13"/>
                    </a:lnTo>
                    <a:lnTo>
                      <a:pt x="17" y="17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67640" y="37260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0" y="0"/>
                    </a:moveTo>
                    <a:lnTo>
                      <a:pt x="7" y="5"/>
                    </a:lnTo>
                    <a:lnTo>
                      <a:pt x="16" y="9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69080" y="37368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0" y="0"/>
                    </a:moveTo>
                    <a:lnTo>
                      <a:pt x="8" y="4"/>
                    </a:lnTo>
                    <a:lnTo>
                      <a:pt x="16" y="9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70520" y="374400"/>
                <a:ext cx="1440" cy="36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0" y="0"/>
                    </a:moveTo>
                    <a:lnTo>
                      <a:pt x="8" y="3"/>
                    </a:lnTo>
                    <a:lnTo>
                      <a:pt x="12" y="4"/>
                    </a:lnTo>
                    <a:lnTo>
                      <a:pt x="16" y="7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71960" y="37512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  <a:lnTo>
                      <a:pt x="13" y="13"/>
                    </a:lnTo>
                    <a:lnTo>
                      <a:pt x="17" y="17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73400" y="37656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0" y="0"/>
                    </a:moveTo>
                    <a:lnTo>
                      <a:pt x="4" y="3"/>
                    </a:lnTo>
                    <a:lnTo>
                      <a:pt x="7" y="5"/>
                    </a:lnTo>
                    <a:lnTo>
                      <a:pt x="11" y="6"/>
                    </a:lnTo>
                    <a:lnTo>
                      <a:pt x="15" y="9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74480" y="3776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0"/>
                    </a:moveTo>
                    <a:lnTo>
                      <a:pt x="5" y="4"/>
                    </a:lnTo>
                    <a:lnTo>
                      <a:pt x="9" y="7"/>
                    </a:lnTo>
                    <a:lnTo>
                      <a:pt x="13" y="12"/>
                    </a:lnTo>
                    <a:lnTo>
                      <a:pt x="17" y="16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76280" y="37908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0" y="0"/>
                    </a:moveTo>
                    <a:lnTo>
                      <a:pt x="5" y="3"/>
                    </a:lnTo>
                    <a:lnTo>
                      <a:pt x="7" y="4"/>
                    </a:lnTo>
                    <a:lnTo>
                      <a:pt x="12" y="6"/>
                    </a:lnTo>
                    <a:lnTo>
                      <a:pt x="16" y="9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77360" y="3798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  <a:lnTo>
                      <a:pt x="13" y="13"/>
                    </a:lnTo>
                    <a:lnTo>
                      <a:pt x="17" y="17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78800" y="38160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0" y="0"/>
                    </a:moveTo>
                    <a:lnTo>
                      <a:pt x="4" y="3"/>
                    </a:lnTo>
                    <a:lnTo>
                      <a:pt x="7" y="4"/>
                    </a:lnTo>
                    <a:lnTo>
                      <a:pt x="11" y="6"/>
                    </a:lnTo>
                    <a:lnTo>
                      <a:pt x="15" y="9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80240" y="3823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0"/>
                    </a:moveTo>
                    <a:lnTo>
                      <a:pt x="9" y="7"/>
                    </a:lnTo>
                    <a:lnTo>
                      <a:pt x="17" y="16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81680" y="38376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6" h="17">
                    <a:moveTo>
                      <a:pt x="0" y="0"/>
                    </a:moveTo>
                    <a:lnTo>
                      <a:pt x="7" y="8"/>
                    </a:lnTo>
                    <a:lnTo>
                      <a:pt x="12" y="13"/>
                    </a:lnTo>
                    <a:lnTo>
                      <a:pt x="16" y="17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83120" y="385560"/>
                <a:ext cx="1440" cy="72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0" y="0"/>
                    </a:moveTo>
                    <a:lnTo>
                      <a:pt x="4" y="3"/>
                    </a:lnTo>
                    <a:lnTo>
                      <a:pt x="8" y="5"/>
                    </a:lnTo>
                    <a:lnTo>
                      <a:pt x="13" y="6"/>
                    </a:lnTo>
                    <a:lnTo>
                      <a:pt x="17" y="9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84560" y="38664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5" h="17">
                    <a:moveTo>
                      <a:pt x="0" y="0"/>
                    </a:moveTo>
                    <a:lnTo>
                      <a:pt x="4" y="4"/>
                    </a:lnTo>
                    <a:lnTo>
                      <a:pt x="7" y="9"/>
                    </a:lnTo>
                    <a:lnTo>
                      <a:pt x="15" y="17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6000" y="3880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0"/>
                    </a:moveTo>
                    <a:lnTo>
                      <a:pt x="9" y="8"/>
                    </a:lnTo>
                    <a:lnTo>
                      <a:pt x="17" y="16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87080" y="3895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7" y="9"/>
                    </a:lnTo>
                    <a:lnTo>
                      <a:pt x="12" y="13"/>
                    </a:lnTo>
                    <a:lnTo>
                      <a:pt x="16" y="18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88880" y="39132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  <a:lnTo>
                      <a:pt x="12" y="5"/>
                    </a:lnTo>
                    <a:lnTo>
                      <a:pt x="17" y="8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89960" y="39240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0"/>
                    </a:moveTo>
                    <a:lnTo>
                      <a:pt x="8" y="8"/>
                    </a:lnTo>
                    <a:lnTo>
                      <a:pt x="17" y="16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91760" y="393480"/>
                <a:ext cx="10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92840" y="3952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9" y="8"/>
                    </a:lnTo>
                    <a:lnTo>
                      <a:pt x="17" y="17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94640" y="397080"/>
                <a:ext cx="108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95720" y="3985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8" y="9"/>
                    </a:lnTo>
                    <a:lnTo>
                      <a:pt x="17" y="17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97520" y="400320"/>
                <a:ext cx="108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98600" y="40176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0" y="0"/>
                    </a:moveTo>
                    <a:lnTo>
                      <a:pt x="9" y="9"/>
                    </a:lnTo>
                    <a:lnTo>
                      <a:pt x="17" y="18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00040" y="403560"/>
                <a:ext cx="14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01480" y="40536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8" y="7"/>
                    </a:lnTo>
                    <a:lnTo>
                      <a:pt x="16" y="16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02920" y="4068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8" y="9"/>
                    </a:lnTo>
                    <a:lnTo>
                      <a:pt x="16" y="18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04000" y="408240"/>
                <a:ext cx="1440" cy="2520"/>
              </a:xfrm>
              <a:custGeom>
                <a:avLst/>
                <a:gdLst/>
                <a:ahLst/>
                <a:rect l="l" t="t" r="r" b="b"/>
                <a:pathLst>
                  <a:path w="17" h="26">
                    <a:moveTo>
                      <a:pt x="0" y="0"/>
                    </a:moveTo>
                    <a:lnTo>
                      <a:pt x="4" y="5"/>
                    </a:lnTo>
                    <a:lnTo>
                      <a:pt x="8" y="13"/>
                    </a:lnTo>
                    <a:lnTo>
                      <a:pt x="13" y="20"/>
                    </a:lnTo>
                    <a:lnTo>
                      <a:pt x="17" y="26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05800" y="41076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0" y="0"/>
                    </a:moveTo>
                    <a:lnTo>
                      <a:pt x="4" y="4"/>
                    </a:lnTo>
                    <a:lnTo>
                      <a:pt x="7" y="8"/>
                    </a:lnTo>
                    <a:lnTo>
                      <a:pt x="15" y="16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06880" y="4122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9" y="8"/>
                    </a:lnTo>
                    <a:lnTo>
                      <a:pt x="17" y="17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08680" y="414000"/>
                <a:ext cx="108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09760" y="4154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8" y="9"/>
                    </a:lnTo>
                    <a:lnTo>
                      <a:pt x="17" y="17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11200" y="41724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15" h="27">
                    <a:moveTo>
                      <a:pt x="0" y="0"/>
                    </a:moveTo>
                    <a:lnTo>
                      <a:pt x="4" y="6"/>
                    </a:lnTo>
                    <a:lnTo>
                      <a:pt x="7" y="13"/>
                    </a:lnTo>
                    <a:lnTo>
                      <a:pt x="11" y="21"/>
                    </a:lnTo>
                    <a:lnTo>
                      <a:pt x="15" y="27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12640" y="41976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0" y="0"/>
                    </a:moveTo>
                    <a:lnTo>
                      <a:pt x="5" y="4"/>
                    </a:lnTo>
                    <a:lnTo>
                      <a:pt x="9" y="8"/>
                    </a:lnTo>
                    <a:lnTo>
                      <a:pt x="17" y="1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14080" y="421200"/>
                <a:ext cx="14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15520" y="42300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8" y="9"/>
                    </a:lnTo>
                    <a:lnTo>
                      <a:pt x="17" y="17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16960" y="42444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15" h="25">
                    <a:moveTo>
                      <a:pt x="0" y="0"/>
                    </a:moveTo>
                    <a:lnTo>
                      <a:pt x="4" y="6"/>
                    </a:lnTo>
                    <a:lnTo>
                      <a:pt x="7" y="12"/>
                    </a:lnTo>
                    <a:lnTo>
                      <a:pt x="11" y="19"/>
                    </a:lnTo>
                    <a:lnTo>
                      <a:pt x="15" y="2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18040" y="42696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9" y="9"/>
                    </a:lnTo>
                    <a:lnTo>
                      <a:pt x="17" y="17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19480" y="428400"/>
                <a:ext cx="10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20920" y="4302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0" y="0"/>
                    </a:moveTo>
                    <a:lnTo>
                      <a:pt x="8" y="9"/>
                    </a:lnTo>
                    <a:lnTo>
                      <a:pt x="17" y="18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22360" y="432000"/>
                <a:ext cx="1080" cy="2160"/>
              </a:xfrm>
              <a:custGeom>
                <a:avLst/>
                <a:gdLst/>
                <a:ahLst/>
                <a:rect l="l" t="t" r="r" b="b"/>
                <a:pathLst>
                  <a:path w="15" h="24">
                    <a:moveTo>
                      <a:pt x="0" y="0"/>
                    </a:moveTo>
                    <a:lnTo>
                      <a:pt x="4" y="6"/>
                    </a:lnTo>
                    <a:lnTo>
                      <a:pt x="7" y="11"/>
                    </a:lnTo>
                    <a:lnTo>
                      <a:pt x="11" y="19"/>
                    </a:lnTo>
                    <a:lnTo>
                      <a:pt x="15" y="24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23800" y="4341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0" y="0"/>
                    </a:moveTo>
                    <a:lnTo>
                      <a:pt x="4" y="5"/>
                    </a:lnTo>
                    <a:lnTo>
                      <a:pt x="9" y="9"/>
                    </a:lnTo>
                    <a:lnTo>
                      <a:pt x="13" y="13"/>
                    </a:lnTo>
                    <a:lnTo>
                      <a:pt x="17" y="18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25240" y="435960"/>
                <a:ext cx="1080" cy="2160"/>
              </a:xfrm>
              <a:custGeom>
                <a:avLst/>
                <a:gdLst/>
                <a:ahLst/>
                <a:rect l="l" t="t" r="r" b="b"/>
                <a:pathLst>
                  <a:path w="16" h="26">
                    <a:moveTo>
                      <a:pt x="0" y="0"/>
                    </a:moveTo>
                    <a:lnTo>
                      <a:pt x="4" y="6"/>
                    </a:lnTo>
                    <a:lnTo>
                      <a:pt x="7" y="13"/>
                    </a:lnTo>
                    <a:lnTo>
                      <a:pt x="11" y="20"/>
                    </a:lnTo>
                    <a:lnTo>
                      <a:pt x="16" y="26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26680" y="4381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  <a:lnTo>
                      <a:pt x="17" y="16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28120" y="43992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8" y="9"/>
                    </a:lnTo>
                    <a:lnTo>
                      <a:pt x="17" y="17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29560" y="44136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15" h="25">
                    <a:moveTo>
                      <a:pt x="0" y="0"/>
                    </a:moveTo>
                    <a:lnTo>
                      <a:pt x="4" y="6"/>
                    </a:lnTo>
                    <a:lnTo>
                      <a:pt x="7" y="12"/>
                    </a:lnTo>
                    <a:lnTo>
                      <a:pt x="11" y="19"/>
                    </a:lnTo>
                    <a:lnTo>
                      <a:pt x="15" y="2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30640" y="44388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9" y="9"/>
                    </a:lnTo>
                    <a:lnTo>
                      <a:pt x="17" y="17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32440" y="44532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7" y="9"/>
                    </a:lnTo>
                    <a:lnTo>
                      <a:pt x="16" y="18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33520" y="447120"/>
                <a:ext cx="1440" cy="216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0" y="0"/>
                    </a:moveTo>
                    <a:lnTo>
                      <a:pt x="4" y="6"/>
                    </a:lnTo>
                    <a:lnTo>
                      <a:pt x="8" y="11"/>
                    </a:lnTo>
                    <a:lnTo>
                      <a:pt x="12" y="19"/>
                    </a:lnTo>
                    <a:lnTo>
                      <a:pt x="16" y="24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35320" y="44964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5" y="5"/>
                    </a:lnTo>
                    <a:lnTo>
                      <a:pt x="8" y="9"/>
                    </a:lnTo>
                    <a:lnTo>
                      <a:pt x="12" y="13"/>
                    </a:lnTo>
                    <a:lnTo>
                      <a:pt x="16" y="18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36400" y="451080"/>
                <a:ext cx="1440" cy="216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0" y="0"/>
                    </a:moveTo>
                    <a:lnTo>
                      <a:pt x="4" y="6"/>
                    </a:lnTo>
                    <a:lnTo>
                      <a:pt x="8" y="11"/>
                    </a:lnTo>
                    <a:lnTo>
                      <a:pt x="13" y="19"/>
                    </a:lnTo>
                    <a:lnTo>
                      <a:pt x="17" y="24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38200" y="4536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5" h="18">
                    <a:moveTo>
                      <a:pt x="0" y="0"/>
                    </a:moveTo>
                    <a:lnTo>
                      <a:pt x="7" y="9"/>
                    </a:lnTo>
                    <a:lnTo>
                      <a:pt x="15" y="18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39280" y="45504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0"/>
                    </a:moveTo>
                    <a:lnTo>
                      <a:pt x="9" y="7"/>
                    </a:lnTo>
                    <a:lnTo>
                      <a:pt x="13" y="11"/>
                    </a:lnTo>
                    <a:lnTo>
                      <a:pt x="17" y="16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40720" y="456840"/>
                <a:ext cx="1440" cy="2160"/>
              </a:xfrm>
              <a:custGeom>
                <a:avLst/>
                <a:gdLst/>
                <a:ahLst/>
                <a:rect l="l" t="t" r="r" b="b"/>
                <a:pathLst>
                  <a:path w="16" h="26">
                    <a:moveTo>
                      <a:pt x="0" y="0"/>
                    </a:moveTo>
                    <a:lnTo>
                      <a:pt x="5" y="6"/>
                    </a:lnTo>
                    <a:lnTo>
                      <a:pt x="7" y="13"/>
                    </a:lnTo>
                    <a:lnTo>
                      <a:pt x="12" y="20"/>
                    </a:lnTo>
                    <a:lnTo>
                      <a:pt x="16" y="26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42160" y="45936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  <a:lnTo>
                      <a:pt x="13" y="13"/>
                    </a:lnTo>
                    <a:lnTo>
                      <a:pt x="17" y="17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43600" y="460800"/>
                <a:ext cx="1080" cy="2160"/>
              </a:xfrm>
              <a:custGeom>
                <a:avLst/>
                <a:gdLst/>
                <a:ahLst/>
                <a:rect l="l" t="t" r="r" b="b"/>
                <a:pathLst>
                  <a:path w="15" h="25">
                    <a:moveTo>
                      <a:pt x="0" y="0"/>
                    </a:moveTo>
                    <a:lnTo>
                      <a:pt x="4" y="6"/>
                    </a:lnTo>
                    <a:lnTo>
                      <a:pt x="7" y="12"/>
                    </a:lnTo>
                    <a:lnTo>
                      <a:pt x="11" y="19"/>
                    </a:lnTo>
                    <a:lnTo>
                      <a:pt x="15" y="2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44680" y="4633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5" y="4"/>
                    </a:lnTo>
                    <a:lnTo>
                      <a:pt x="9" y="9"/>
                    </a:lnTo>
                    <a:lnTo>
                      <a:pt x="13" y="13"/>
                    </a:lnTo>
                    <a:lnTo>
                      <a:pt x="17" y="17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46480" y="465120"/>
                <a:ext cx="1080" cy="2160"/>
              </a:xfrm>
              <a:custGeom>
                <a:avLst/>
                <a:gdLst/>
                <a:ahLst/>
                <a:rect l="l" t="t" r="r" b="b"/>
                <a:pathLst>
                  <a:path w="16" h="25">
                    <a:moveTo>
                      <a:pt x="0" y="0"/>
                    </a:moveTo>
                    <a:lnTo>
                      <a:pt x="5" y="6"/>
                    </a:lnTo>
                    <a:lnTo>
                      <a:pt x="7" y="12"/>
                    </a:lnTo>
                    <a:lnTo>
                      <a:pt x="12" y="19"/>
                    </a:lnTo>
                    <a:lnTo>
                      <a:pt x="16" y="2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47560" y="4672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8" y="9"/>
                    </a:lnTo>
                    <a:lnTo>
                      <a:pt x="17" y="17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49360" y="4690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0" y="0"/>
                    </a:moveTo>
                    <a:lnTo>
                      <a:pt x="7" y="8"/>
                    </a:lnTo>
                    <a:lnTo>
                      <a:pt x="11" y="12"/>
                    </a:lnTo>
                    <a:lnTo>
                      <a:pt x="15" y="16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50440" y="470520"/>
                <a:ext cx="1440" cy="2520"/>
              </a:xfrm>
              <a:custGeom>
                <a:avLst/>
                <a:gdLst/>
                <a:ahLst/>
                <a:rect l="l" t="t" r="r" b="b"/>
                <a:pathLst>
                  <a:path w="17" h="26">
                    <a:moveTo>
                      <a:pt x="0" y="0"/>
                    </a:moveTo>
                    <a:lnTo>
                      <a:pt x="5" y="6"/>
                    </a:lnTo>
                    <a:lnTo>
                      <a:pt x="9" y="13"/>
                    </a:lnTo>
                    <a:lnTo>
                      <a:pt x="13" y="21"/>
                    </a:lnTo>
                    <a:lnTo>
                      <a:pt x="17" y="26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52240" y="47304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4" y="5"/>
                    </a:lnTo>
                    <a:lnTo>
                      <a:pt x="7" y="9"/>
                    </a:lnTo>
                    <a:lnTo>
                      <a:pt x="12" y="14"/>
                    </a:lnTo>
                    <a:lnTo>
                      <a:pt x="16" y="18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53320" y="474840"/>
                <a:ext cx="1440" cy="2160"/>
              </a:xfrm>
              <a:custGeom>
                <a:avLst/>
                <a:gdLst/>
                <a:ahLst/>
                <a:rect l="l" t="t" r="r" b="b"/>
                <a:pathLst>
                  <a:path w="17" h="25">
                    <a:moveTo>
                      <a:pt x="0" y="0"/>
                    </a:moveTo>
                    <a:lnTo>
                      <a:pt x="4" y="6"/>
                    </a:lnTo>
                    <a:lnTo>
                      <a:pt x="8" y="12"/>
                    </a:lnTo>
                    <a:lnTo>
                      <a:pt x="12" y="19"/>
                    </a:lnTo>
                    <a:lnTo>
                      <a:pt x="17" y="2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54760" y="4770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5" h="17">
                    <a:moveTo>
                      <a:pt x="0" y="0"/>
                    </a:moveTo>
                    <a:lnTo>
                      <a:pt x="4" y="4"/>
                    </a:lnTo>
                    <a:lnTo>
                      <a:pt x="7" y="8"/>
                    </a:lnTo>
                    <a:lnTo>
                      <a:pt x="11" y="13"/>
                    </a:lnTo>
                    <a:lnTo>
                      <a:pt x="15" y="17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56200" y="478800"/>
                <a:ext cx="1080" cy="2160"/>
              </a:xfrm>
              <a:custGeom>
                <a:avLst/>
                <a:gdLst/>
                <a:ahLst/>
                <a:rect l="l" t="t" r="r" b="b"/>
                <a:pathLst>
                  <a:path w="17" h="25">
                    <a:moveTo>
                      <a:pt x="0" y="0"/>
                    </a:moveTo>
                    <a:lnTo>
                      <a:pt x="4" y="6"/>
                    </a:lnTo>
                    <a:lnTo>
                      <a:pt x="9" y="12"/>
                    </a:lnTo>
                    <a:lnTo>
                      <a:pt x="13" y="19"/>
                    </a:lnTo>
                    <a:lnTo>
                      <a:pt x="17" y="2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57640" y="4809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6" h="17">
                    <a:moveTo>
                      <a:pt x="0" y="0"/>
                    </a:moveTo>
                    <a:lnTo>
                      <a:pt x="7" y="8"/>
                    </a:lnTo>
                    <a:lnTo>
                      <a:pt x="16" y="17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59080" y="48276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0"/>
                    </a:moveTo>
                    <a:lnTo>
                      <a:pt x="8" y="7"/>
                    </a:lnTo>
                    <a:lnTo>
                      <a:pt x="12" y="12"/>
                    </a:lnTo>
                    <a:lnTo>
                      <a:pt x="17" y="16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60520" y="4842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15" h="26">
                    <a:moveTo>
                      <a:pt x="0" y="0"/>
                    </a:moveTo>
                    <a:lnTo>
                      <a:pt x="4" y="6"/>
                    </a:lnTo>
                    <a:lnTo>
                      <a:pt x="7" y="13"/>
                    </a:lnTo>
                    <a:lnTo>
                      <a:pt x="11" y="20"/>
                    </a:lnTo>
                    <a:lnTo>
                      <a:pt x="15" y="26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61600" y="4867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4" y="4"/>
                    </a:lnTo>
                    <a:lnTo>
                      <a:pt x="9" y="9"/>
                    </a:lnTo>
                    <a:lnTo>
                      <a:pt x="13" y="13"/>
                    </a:lnTo>
                    <a:lnTo>
                      <a:pt x="17" y="17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63040" y="488520"/>
                <a:ext cx="1440" cy="2160"/>
              </a:xfrm>
              <a:custGeom>
                <a:avLst/>
                <a:gdLst/>
                <a:ahLst/>
                <a:rect l="l" t="t" r="r" b="b"/>
                <a:pathLst>
                  <a:path w="17" h="25">
                    <a:moveTo>
                      <a:pt x="0" y="0"/>
                    </a:moveTo>
                    <a:lnTo>
                      <a:pt x="4" y="6"/>
                    </a:lnTo>
                    <a:lnTo>
                      <a:pt x="9" y="12"/>
                    </a:lnTo>
                    <a:lnTo>
                      <a:pt x="13" y="19"/>
                    </a:lnTo>
                    <a:lnTo>
                      <a:pt x="17" y="2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64840" y="49104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4" y="4"/>
                    </a:lnTo>
                    <a:lnTo>
                      <a:pt x="7" y="9"/>
                    </a:lnTo>
                    <a:lnTo>
                      <a:pt x="11" y="13"/>
                    </a:lnTo>
                    <a:lnTo>
                      <a:pt x="16" y="18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65920" y="492480"/>
                <a:ext cx="1080" cy="216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0" y="0"/>
                    </a:moveTo>
                    <a:lnTo>
                      <a:pt x="4" y="5"/>
                    </a:lnTo>
                    <a:lnTo>
                      <a:pt x="8" y="11"/>
                    </a:lnTo>
                    <a:lnTo>
                      <a:pt x="12" y="18"/>
                    </a:lnTo>
                    <a:lnTo>
                      <a:pt x="16" y="24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67360" y="4950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8" y="9"/>
                    </a:lnTo>
                    <a:lnTo>
                      <a:pt x="16" y="18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07800" y="361800"/>
                <a:ext cx="699840" cy="388800"/>
              </a:xfrm>
              <a:custGeom>
                <a:avLst/>
                <a:gdLst/>
                <a:ahLst/>
                <a:rect l="l" t="t" r="r" b="b"/>
                <a:pathLst>
                  <a:path w="2708" h="1320">
                    <a:moveTo>
                      <a:pt x="0" y="1320"/>
                    </a:moveTo>
                    <a:lnTo>
                      <a:pt x="26" y="1264"/>
                    </a:lnTo>
                    <a:lnTo>
                      <a:pt x="42" y="1206"/>
                    </a:lnTo>
                    <a:lnTo>
                      <a:pt x="56" y="1146"/>
                    </a:lnTo>
                    <a:lnTo>
                      <a:pt x="72" y="1086"/>
                    </a:lnTo>
                    <a:lnTo>
                      <a:pt x="86" y="1020"/>
                    </a:lnTo>
                    <a:lnTo>
                      <a:pt x="106" y="922"/>
                    </a:lnTo>
                    <a:lnTo>
                      <a:pt x="128" y="832"/>
                    </a:lnTo>
                    <a:lnTo>
                      <a:pt x="148" y="736"/>
                    </a:lnTo>
                    <a:lnTo>
                      <a:pt x="172" y="626"/>
                    </a:lnTo>
                    <a:lnTo>
                      <a:pt x="198" y="524"/>
                    </a:lnTo>
                    <a:lnTo>
                      <a:pt x="222" y="440"/>
                    </a:lnTo>
                    <a:lnTo>
                      <a:pt x="250" y="354"/>
                    </a:lnTo>
                    <a:lnTo>
                      <a:pt x="282" y="272"/>
                    </a:lnTo>
                    <a:lnTo>
                      <a:pt x="320" y="190"/>
                    </a:lnTo>
                    <a:lnTo>
                      <a:pt x="364" y="106"/>
                    </a:lnTo>
                    <a:lnTo>
                      <a:pt x="400" y="62"/>
                    </a:lnTo>
                    <a:lnTo>
                      <a:pt x="436" y="26"/>
                    </a:lnTo>
                    <a:lnTo>
                      <a:pt x="472" y="6"/>
                    </a:lnTo>
                    <a:lnTo>
                      <a:pt x="504" y="0"/>
                    </a:lnTo>
                    <a:lnTo>
                      <a:pt x="544" y="2"/>
                    </a:lnTo>
                    <a:lnTo>
                      <a:pt x="600" y="22"/>
                    </a:lnTo>
                    <a:lnTo>
                      <a:pt x="656" y="52"/>
                    </a:lnTo>
                    <a:lnTo>
                      <a:pt x="702" y="90"/>
                    </a:lnTo>
                    <a:lnTo>
                      <a:pt x="752" y="138"/>
                    </a:lnTo>
                    <a:lnTo>
                      <a:pt x="792" y="186"/>
                    </a:lnTo>
                    <a:lnTo>
                      <a:pt x="852" y="256"/>
                    </a:lnTo>
                    <a:lnTo>
                      <a:pt x="916" y="338"/>
                    </a:lnTo>
                    <a:lnTo>
                      <a:pt x="988" y="426"/>
                    </a:lnTo>
                    <a:lnTo>
                      <a:pt x="1038" y="488"/>
                    </a:lnTo>
                    <a:lnTo>
                      <a:pt x="1088" y="546"/>
                    </a:lnTo>
                    <a:lnTo>
                      <a:pt x="1144" y="606"/>
                    </a:lnTo>
                    <a:lnTo>
                      <a:pt x="1200" y="670"/>
                    </a:lnTo>
                    <a:lnTo>
                      <a:pt x="1280" y="752"/>
                    </a:lnTo>
                    <a:lnTo>
                      <a:pt x="1348" y="814"/>
                    </a:lnTo>
                    <a:lnTo>
                      <a:pt x="1404" y="862"/>
                    </a:lnTo>
                    <a:lnTo>
                      <a:pt x="1480" y="922"/>
                    </a:lnTo>
                    <a:lnTo>
                      <a:pt x="1528" y="958"/>
                    </a:lnTo>
                    <a:lnTo>
                      <a:pt x="1584" y="998"/>
                    </a:lnTo>
                    <a:lnTo>
                      <a:pt x="1670" y="1048"/>
                    </a:lnTo>
                    <a:lnTo>
                      <a:pt x="1756" y="1090"/>
                    </a:lnTo>
                    <a:lnTo>
                      <a:pt x="1828" y="1122"/>
                    </a:lnTo>
                    <a:lnTo>
                      <a:pt x="1898" y="1148"/>
                    </a:lnTo>
                    <a:lnTo>
                      <a:pt x="1990" y="1176"/>
                    </a:lnTo>
                    <a:lnTo>
                      <a:pt x="2080" y="1202"/>
                    </a:lnTo>
                    <a:lnTo>
                      <a:pt x="2148" y="1218"/>
                    </a:lnTo>
                    <a:lnTo>
                      <a:pt x="2238" y="1242"/>
                    </a:lnTo>
                    <a:lnTo>
                      <a:pt x="2310" y="1252"/>
                    </a:lnTo>
                    <a:lnTo>
                      <a:pt x="2372" y="1262"/>
                    </a:lnTo>
                    <a:lnTo>
                      <a:pt x="2454" y="1272"/>
                    </a:lnTo>
                    <a:lnTo>
                      <a:pt x="2544" y="1282"/>
                    </a:lnTo>
                    <a:lnTo>
                      <a:pt x="2608" y="1288"/>
                    </a:lnTo>
                    <a:lnTo>
                      <a:pt x="2660" y="1290"/>
                    </a:lnTo>
                    <a:lnTo>
                      <a:pt x="2708" y="129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3" name=""/>
            <p:cNvSpPr/>
            <p:nvPr/>
          </p:nvSpPr>
          <p:spPr>
            <a:xfrm>
              <a:off x="335880" y="781200"/>
              <a:ext cx="483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R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07920" y="762120"/>
            <a:ext cx="8420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Gas Condensate PVT – </a:t>
            </a:r>
            <a:br>
              <a:rPr sz="3000"/>
            </a:b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What’s Really Important and Why?</a:t>
            </a:r>
            <a:br>
              <a:rPr sz="3000"/>
            </a:b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1219320" y="2819160"/>
            <a:ext cx="775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urtis H. Whitson, </a:t>
            </a:r>
            <a:r>
              <a:rPr b="1" lang="nb-NO" sz="2400" spc="-1" strike="noStrike">
                <a:solidFill>
                  <a:srgbClr val="ff0000"/>
                </a:solidFill>
                <a:latin typeface="Arial"/>
              </a:rPr>
              <a:t>Ø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vind Fevang, </a:t>
            </a:r>
            <a:r>
              <a:rPr b="1" lang="nb-NO" sz="2400" spc="-1" strike="noStrike">
                <a:solidFill>
                  <a:srgbClr val="ff0000"/>
                </a:solidFill>
                <a:latin typeface="Arial"/>
              </a:rPr>
              <a:t>Tao Yang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3333cc"/>
                </a:solidFill>
                <a:latin typeface="Arial"/>
              </a:rPr>
              <a:t>P</a:t>
            </a:r>
            <a:r>
              <a:rPr b="1" lang="nb-NO" sz="2000" spc="-1" strike="noStrike">
                <a:solidFill>
                  <a:srgbClr val="3333cc"/>
                </a:solidFill>
                <a:latin typeface="Arial"/>
              </a:rPr>
              <a:t>ERA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3333cc"/>
                </a:solidFill>
                <a:latin typeface="Arial"/>
              </a:rPr>
              <a:t>&amp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3333cc"/>
                </a:solidFill>
                <a:latin typeface="Arial"/>
              </a:rPr>
              <a:t>NTNU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3333cc"/>
                </a:solidFill>
                <a:latin typeface="Arial"/>
              </a:rPr>
              <a:t>(Norwegian U. of Science and Technology</a:t>
            </a:r>
            <a:r>
              <a:rPr b="1" lang="nb-NO" sz="24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8000"/>
                </a:solidFill>
                <a:latin typeface="Arial"/>
              </a:rPr>
              <a:t>IBC Conference, January 28-29, 1999, Londo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38400" y="380520"/>
            <a:ext cx="800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Gas Z-Factor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568520" y="1676520"/>
            <a:ext cx="75945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Z-factor is the only PVT property which always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eeds accurate determination in a gas condensate reservoir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nitial gas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and condensat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in pl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Gas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and condensat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recovery as a function of pressure during depletion dri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20480" y="419040"/>
            <a:ext cx="842004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Compositional (C7+) Variation </a:t>
            </a:r>
            <a:br>
              <a:rPr sz="4000"/>
            </a:b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During (CVD) Deple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447560" y="2438280"/>
            <a:ext cx="7924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orecast the condensate rate profil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Calculate gas and condensate recovery profiles (neglecting water influx/expansion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efining Gas Cycling Potential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38400" y="380520"/>
            <a:ext cx="800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Condensate Recoveries</a:t>
            </a:r>
            <a:br>
              <a:rPr sz="4000"/>
            </a:b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from CVD &amp; CCE Data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1447920" y="2305080"/>
                <a:ext cx="792468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D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p</m:t>
                                        </m:r>
                                      </m:num>
                                      <m:den>
                                        <m:r>
                                          <m:t xml:space="preserve">Z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p</m:t>
                                        </m:r>
                                      </m:num>
                                      <m:den>
                                        <m:r>
                                          <m:t xml:space="preserve">Z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p</m:t>
                                    </m:r>
                                  </m:num>
                                  <m:den>
                                    <m:r>
                                      <m:t xml:space="preserve">Z</m:t>
                                    </m:r>
                                  </m:den>
                                </m:f>
                              </m:e>
                            </m:d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p</m:t>
                                    </m:r>
                                  </m:num>
                                  <m:den>
                                    <m:r>
                                      <m:t xml:space="preserve">Z</m:t>
                                    </m:r>
                                  </m:den>
                                </m:f>
                              </m:e>
                            </m:d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Δn</m:t>
                                        </m:r>
                                      </m:e>
                                      <m:sub>
                                        <m:r>
                                          <m:t xml:space="preserve">p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d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⋅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i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g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k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g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4002120" y="3809880"/>
                <a:ext cx="213192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≃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6</m:t>
                            </m:r>
                            <m:r>
                              <m:t xml:space="preserve">+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6</m:t>
                            </m:r>
                            <m:r>
                              <m:t xml:space="preserve">+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g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4025880" y="5105520"/>
                <a:ext cx="215748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6</m:t>
                            </m:r>
                            <m:r>
                              <m:t xml:space="preserve">+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6</m:t>
                            </m:r>
                            <m:r>
                              <m:t xml:space="preserve">+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1371600" y="838080"/>
            <a:ext cx="8305920" cy="51818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1676520" y="685800"/>
            <a:ext cx="84582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5240" y="68544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Dewpoint Pressure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238040" y="2285640"/>
            <a:ext cx="79246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ewpoint marks the pressure where: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Reservoir gas phase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8000"/>
                </a:solidFill>
                <a:latin typeface="Arial"/>
              </a:rPr>
              <a:t>(= producing wellstream)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starts becoming leaner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Incipient condensate phase appear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5240" y="685800"/>
            <a:ext cx="875052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ompositional Variation with Depth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38040" y="2361960"/>
            <a:ext cx="79246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ffect of a gradient on IFIP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Prediction of gas-oil contact using a theoretical gradient mod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Effect of compositional gradients on depletion (and cycling) recoveri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2590920" y="4495320"/>
            <a:ext cx="57909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k</a:t>
            </a:r>
            <a:r>
              <a:rPr b="0" lang="en-US" sz="2800" spc="-1" strike="noStrike" baseline="-25000">
                <a:solidFill>
                  <a:srgbClr val="008000"/>
                </a:solidFill>
                <a:latin typeface="Arial"/>
              </a:rPr>
              <a:t>rg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/k</a:t>
            </a:r>
            <a:r>
              <a:rPr b="0" lang="en-US" sz="2800" spc="-1" strike="noStrike" baseline="-25000">
                <a:solidFill>
                  <a:srgbClr val="008000"/>
                </a:solidFill>
                <a:latin typeface="Arial"/>
              </a:rPr>
              <a:t>ro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=(1/V</a:t>
            </a:r>
            <a:r>
              <a:rPr b="0" lang="en-US" sz="2800" spc="-1" strike="noStrike" baseline="-25000">
                <a:solidFill>
                  <a:srgbClr val="008000"/>
                </a:solidFill>
                <a:latin typeface="Arial"/>
              </a:rPr>
              <a:t>ro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 – 1)(</a:t>
            </a:r>
            <a:r>
              <a:rPr b="0" lang="en-US" sz="2800" spc="-1" strike="noStrike">
                <a:solidFill>
                  <a:srgbClr val="008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 baseline="-25000">
                <a:solidFill>
                  <a:srgbClr val="008000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/</a:t>
            </a:r>
            <a:r>
              <a:rPr b="0" lang="en-US" sz="2800" spc="-1" strike="noStrike">
                <a:solidFill>
                  <a:srgbClr val="008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 baseline="-25000">
                <a:solidFill>
                  <a:srgbClr val="008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2590920"/>
            <a:ext cx="335268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rg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= f(k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rg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/k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ro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269960" y="3886200"/>
            <a:ext cx="195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8000"/>
                </a:solidFill>
                <a:uFillTx/>
                <a:latin typeface="Arial"/>
              </a:rPr>
              <a:t>“</a:t>
            </a:r>
            <a:r>
              <a:rPr b="0" i="1" lang="en-US" sz="2800" spc="-1" strike="noStrike" u="sng">
                <a:solidFill>
                  <a:srgbClr val="008000"/>
                </a:solidFill>
                <a:uFillTx/>
                <a:latin typeface="Arial"/>
              </a:rPr>
              <a:t>Pure” PV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431880" y="2057400"/>
            <a:ext cx="352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Relative Perme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1238400" y="380520"/>
            <a:ext cx="800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Condensate Blockage</a:t>
            </a:r>
            <a:br>
              <a:rPr sz="3000"/>
            </a:br>
            <a:r>
              <a:rPr b="1" i="1" lang="en-US" sz="3000" spc="-1" strike="noStrike">
                <a:solidFill>
                  <a:srgbClr val="000099"/>
                </a:solidFill>
                <a:latin typeface="Arial"/>
              </a:rPr>
              <a:t>Near-Wellbore Steady State Region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238400" y="380520"/>
            <a:ext cx="800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Condensate Blockage</a:t>
            </a:r>
            <a:br>
              <a:rPr sz="3000"/>
            </a:br>
            <a:r>
              <a:rPr b="1" i="1" lang="en-US" sz="3000" spc="-1" strike="noStrike">
                <a:solidFill>
                  <a:srgbClr val="000099"/>
                </a:solidFill>
                <a:latin typeface="Arial"/>
              </a:rPr>
              <a:t>Near-Wellbore Steady State Region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1569960" y="1282680"/>
            <a:ext cx="861084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38080" y="941400"/>
            <a:ext cx="9677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38400" y="380520"/>
            <a:ext cx="800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Goal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218960" y="1752120"/>
            <a:ext cx="79246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736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Give a review of the key PVT data dictating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recovery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and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well performance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of gas condensate resevoirs.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8736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8736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Understanding the importance of specific PVT data in the context of their importance to specific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8736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mechanisms of recovery and flow behavior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238400" y="380520"/>
            <a:ext cx="800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Gas Cycling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238040" y="167652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valuating Gas Cycling Potential using Depletion (CVD &amp; CCE) Data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Evaluating Different Components of Condensate Recovery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nitial Depletio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Gas-Gas Miscib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Vaporizatio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ost-Cycling Depletio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371600" y="838080"/>
          <a:ext cx="8534520" cy="525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838080"/>
                    <a:ext cx="8534520" cy="525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9" name=""/>
          <p:cNvGraphicFramePr/>
          <p:nvPr/>
        </p:nvGraphicFramePr>
        <p:xfrm>
          <a:off x="1295280" y="685800"/>
          <a:ext cx="8305920" cy="511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685800"/>
                    <a:ext cx="8305920" cy="51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800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Gas Cycling Ultimate Condensate Recovery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1523880" y="4038480"/>
                <a:ext cx="74678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l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D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M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V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D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03" name=""/>
          <p:cNvSpPr/>
          <p:nvPr/>
        </p:nvSpPr>
        <p:spPr>
          <a:xfrm>
            <a:off x="1676520" y="5029200"/>
            <a:ext cx="769608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008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= final sweep efficiency at the end of cyc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008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= final efficiency of vaporized retrograde condens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429720" y="2057400"/>
            <a:ext cx="37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ycling Above Dew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276000" y="3429000"/>
            <a:ext cx="372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ycling Below Dew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2133720" y="2514600"/>
                <a:ext cx="662940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l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D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M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D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7" name=""/>
          <p:cNvGraphicFramePr/>
          <p:nvPr/>
        </p:nvGraphicFramePr>
        <p:xfrm>
          <a:off x="1143000" y="1600200"/>
          <a:ext cx="8302680" cy="444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600200"/>
                    <a:ext cx="8302680" cy="44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"/>
          <p:cNvSpPr/>
          <p:nvPr/>
        </p:nvSpPr>
        <p:spPr>
          <a:xfrm>
            <a:off x="1447920" y="609480"/>
            <a:ext cx="8007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Gas Cycling Ultimate Condensate Reco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38400" y="380520"/>
            <a:ext cx="800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Representative” Sampl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38400" y="1676520"/>
            <a:ext cx="8362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servoir Representative”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3333cc"/>
                </a:solidFill>
                <a:latin typeface="Arial"/>
              </a:rPr>
              <a:t>Any uncontaminated fluid sample that produces from a reservoir is automatically representative of that reservoir.  </a:t>
            </a:r>
            <a:r>
              <a:rPr b="1" i="1" lang="en-US" sz="2200" spc="-1" strike="noStrike" u="sng">
                <a:solidFill>
                  <a:srgbClr val="3333cc"/>
                </a:solidFill>
                <a:uFillTx/>
                <a:latin typeface="Arial"/>
              </a:rPr>
              <a:t>After all, the sample is produced from the reservoir!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326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Insitu Representative”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3333cc"/>
                </a:solidFill>
                <a:latin typeface="Arial"/>
              </a:rPr>
              <a:t>A sample representative of the original fluid in place (usually of a limited volume within the reservoir)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720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Arial"/>
              </a:rPr>
              <a:t>Accuracy of PVT Data ≠ Insitu Representivity of Sample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326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26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403280" y="22860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EOS Model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403280" y="1600200"/>
            <a:ext cx="84200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olar composition and C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7+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Propert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Splitting the plus fraction (3-5 C</a:t>
            </a:r>
            <a:r>
              <a:rPr b="1" lang="en-US" sz="2800" spc="-1" strike="noStrike" baseline="-25000">
                <a:solidFill>
                  <a:srgbClr val="008000"/>
                </a:solidFill>
                <a:latin typeface="Arial"/>
              </a:rPr>
              <a:t>7+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uning EOS parame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Common” EOS model for multiple reservoir flu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ducing number of components (“pseudoizing”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2311560" y="1371600"/>
            <a:ext cx="5484600" cy="46245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2519280" y="304920"/>
            <a:ext cx="414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seudoization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147840" y="1404360"/>
            <a:ext cx="381240" cy="137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OS2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548160" y="1409040"/>
            <a:ext cx="380880" cy="137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OS1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952800" y="1409040"/>
            <a:ext cx="381240" cy="137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OS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462560" y="1404360"/>
            <a:ext cx="380880" cy="137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OS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991040" y="1404360"/>
            <a:ext cx="381240" cy="137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OS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533920" y="1404360"/>
            <a:ext cx="381240" cy="137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OS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124680" y="1409040"/>
            <a:ext cx="380880" cy="137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OS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757920" y="1409040"/>
            <a:ext cx="381240" cy="137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OS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800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EOS Modeling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218960" y="114264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enerating Black-Oil PVT Tabl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Extrapolating saturated tabl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Non-monotonic saturated oil properti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Consistency between black-oil and EOS model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Handling saturated gas/oil system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Initializing reservoirs with compositional gradien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38400" y="380520"/>
            <a:ext cx="800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Definition of </a:t>
            </a:r>
            <a:br>
              <a:rPr sz="4000"/>
            </a:b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Black-Oil PVT Properti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1905120" y="1981080"/>
                <a:ext cx="6756120" cy="426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= 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OO</m:t>
                                    </m:r>
                                  </m:sub>
                                </m:sSub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= oil formation volume factor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= 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o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o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= solution gas-oil ratio</m:t>
                        </m:r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d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= 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g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= dry gas formation volume factor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= 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g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g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= solution oil-gas ratio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38400" y="380520"/>
            <a:ext cx="800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403280" y="1980720"/>
            <a:ext cx="8121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415800">
              <a:lnSpc>
                <a:spcPct val="11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Gas condensate engineering =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as engineering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+ 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extra “magic”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4158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hich PVT properties are important …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and why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415800">
              <a:lnSpc>
                <a:spcPct val="11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Engineering task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8007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33cc"/>
                </a:solidFill>
                <a:latin typeface="Arial"/>
              </a:rPr>
              <a:t>r</a:t>
            </a:r>
            <a:r>
              <a:rPr b="1" lang="en-US" sz="3900" spc="-1" strike="noStrike" baseline="-25000">
                <a:solidFill>
                  <a:srgbClr val="3333cc"/>
                </a:solidFill>
                <a:latin typeface="Arial"/>
              </a:rPr>
              <a:t>s</a:t>
            </a:r>
            <a:r>
              <a:rPr b="1" lang="en-US" sz="3900" spc="-1" strike="noStrike">
                <a:solidFill>
                  <a:srgbClr val="3333cc"/>
                </a:solidFill>
                <a:latin typeface="Arial"/>
              </a:rPr>
              <a:t>/B</a:t>
            </a:r>
            <a:r>
              <a:rPr b="1" lang="en-US" sz="3900" spc="-1" strike="noStrike" baseline="-25000">
                <a:solidFill>
                  <a:srgbClr val="3333cc"/>
                </a:solidFill>
                <a:latin typeface="Arial"/>
              </a:rPr>
              <a:t>gd</a:t>
            </a:r>
            <a:endParaRPr b="1" lang="en-US" sz="3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urface oil in place per reservoir gas volume”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(equivalent to CVD y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Arial"/>
              </a:rPr>
              <a:t>6+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379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The term r</a:t>
            </a:r>
            <a:r>
              <a:rPr b="1" lang="en-US" sz="2400" spc="-1" strike="noStrike" baseline="-25000">
                <a:solidFill>
                  <a:srgbClr val="008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/B</a:t>
            </a:r>
            <a:r>
              <a:rPr b="1" lang="en-US" sz="2400" spc="-1" strike="noStrike" baseline="-25000">
                <a:solidFill>
                  <a:srgbClr val="008000"/>
                </a:solidFill>
                <a:latin typeface="Arial"/>
              </a:rPr>
              <a:t>gd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 is the quantity needed by “geologists” to convert reservoir gas pore volumes to surface oil – a kind of “oil FVF (B</a:t>
            </a:r>
            <a:r>
              <a:rPr b="1" lang="en-US" sz="2400" spc="-1" strike="noStrike" baseline="-25000">
                <a:solidFill>
                  <a:srgbClr val="008000"/>
                </a:solidFill>
                <a:latin typeface="Arial"/>
              </a:rPr>
              <a:t>o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)” for the reservoir gas phase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379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compositionally-grading reservoirs with a transition from gas to oil through an undersaturated (critical) state, the term 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g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1/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xactl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the gas-oil contact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38400" y="380520"/>
            <a:ext cx="800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7715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or calculation of initial gas and condensate in place the key PVT data are: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nitial Z-factor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nitial C</a:t>
            </a:r>
            <a:r>
              <a:rPr b="0" lang="en-US" sz="2800" spc="-1" strike="noStrike" baseline="-25000">
                <a:solidFill>
                  <a:srgbClr val="000099"/>
                </a:solidFill>
                <a:latin typeface="Arial"/>
              </a:rPr>
              <a:t>6+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molar conten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In terms of black-oil PVT properties, the two "equivalent" PVT quantities are: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B</a:t>
            </a:r>
            <a:r>
              <a:rPr b="0" lang="en-US" sz="2800" spc="-1" strike="noStrike" baseline="-25000">
                <a:solidFill>
                  <a:srgbClr val="000099"/>
                </a:solidFill>
                <a:latin typeface="Arial"/>
              </a:rPr>
              <a:t>gd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r</a:t>
            </a:r>
            <a:r>
              <a:rPr b="0" lang="en-US" sz="2800" spc="-1" strike="noStrike" baseline="-25000">
                <a:solidFill>
                  <a:srgbClr val="000099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/B</a:t>
            </a:r>
            <a:r>
              <a:rPr b="0" lang="en-US" sz="2800" spc="-1" strike="noStrike" baseline="-25000">
                <a:solidFill>
                  <a:srgbClr val="000099"/>
                </a:solidFill>
                <a:latin typeface="Arial"/>
              </a:rPr>
              <a:t>gd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238400" y="380520"/>
            <a:ext cx="800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599840" y="167652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68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e constant-composition and constant-volume-depletion tests provide the key data for quantifying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ecovery of produced gas and condensate during depletion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968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968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Above the dewpoint depletion recoveries of gas and condensate are equal and are given by the variation of Z-factor with pressure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238400" y="380520"/>
            <a:ext cx="800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238040" y="167652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or calculation of condensate recovery and varying yield (producing oil-gas ratio) during depletion it is critical to obtain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2826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2826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ccurate measurement of C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6+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(r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) variation in the produced gas from a constant volume depletion test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238400" y="380520"/>
            <a:ext cx="800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599840" y="5105520"/>
            <a:ext cx="7924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86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even though initial condensate in place can be significantly different for the two initialization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600200" y="3124080"/>
            <a:ext cx="79246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542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umulative condensate produced is insensitive to whether the reservoir is initialized with or without a compositional grad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523880" y="1752480"/>
            <a:ext cx="79250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18396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or near-saturated gas condensate reservoirs producing by pressure deple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396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238400" y="380520"/>
            <a:ext cx="800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238040" y="167652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91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Oil viscosity should be measured and modeled accurately to properly model condensate blockage and the resulting reduction in gas deliverability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191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191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The (CCE) oil relative volume V</a:t>
            </a:r>
            <a:r>
              <a:rPr b="0" lang="en-US" sz="2800" spc="-1" strike="noStrike" baseline="-25000">
                <a:solidFill>
                  <a:srgbClr val="008000"/>
                </a:solidFill>
                <a:latin typeface="Arial"/>
              </a:rPr>
              <a:t>ro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 has only a "secondary" effect on the modeling of condensate blockage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238400" y="380520"/>
            <a:ext cx="800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238040" y="167652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marL="1141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or gas cycling projects above the dewpoint, PVT properties have essentially no effect on condensate recovery because the displacement will always be miscible.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1141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1141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Only the definition of initial condensate in place is important. Gas viscosity has only a minor effect on gas cycling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38400" y="380520"/>
            <a:ext cx="800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238040" y="1676160"/>
            <a:ext cx="79246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36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or gas cycling below the dewpoint, the key PVT properties are: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238400" y="2971800"/>
            <a:ext cx="792468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69960" indent="-298440">
              <a:lnSpc>
                <a:spcPct val="8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Z-factor variation during depl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9960" indent="-298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9960" indent="-298440">
              <a:lnSpc>
                <a:spcPct val="8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C</a:t>
            </a:r>
            <a:r>
              <a:rPr b="0" lang="en-US" sz="2800" spc="-1" strike="noStrike" baseline="-25000">
                <a:solidFill>
                  <a:srgbClr val="008000"/>
                </a:solidFill>
                <a:latin typeface="Arial"/>
              </a:rPr>
              <a:t>6+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 content in the reservoir gas during depl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9960" indent="-298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9960" indent="-298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6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aporized from the reservoir condensate into the injection (displacement) gas.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38400" y="380520"/>
            <a:ext cx="800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Topics of Discuss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238400" y="1676520"/>
            <a:ext cx="8362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PVT Experiments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4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00"/>
                </a:solidFill>
                <a:latin typeface="Arial"/>
              </a:rPr>
              <a:t>Initial Fluids in Place and Depletion Recoveries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Condensate Blockage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4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00"/>
                </a:solidFill>
                <a:latin typeface="Arial"/>
              </a:rPr>
              <a:t>Gas Cycling Condensate Recoveries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EOS Modeling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4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Arial"/>
              </a:rPr>
              <a:t>Concluding Remarks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38400" y="380520"/>
            <a:ext cx="800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Three Exampl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238040" y="167652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xample 1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 A small offshore “satellite” reservoir with high permeability (kh=4,000 md-m), initially undersaturated by 400 bar, and with a test yield of 300 STB/MMscf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580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5800" indent="-325800" algn="just"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Example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2. A large offshore deep-water reservoir with moderate permeability (kh=1000 md-m), initially saturated or near-saturated (?), large structural relief, and a test yield of 80 STB/MMscf. A single (and very expensive) discovery well has been drilled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580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5800" indent="-325800" algn="just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Example 3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. An onshore “old” undeveloped gas cap with well-defined initial volume (by production oil wells and pressure history), uncertain initial composition (estimated initial yield of 120 STB/MMscf), partially depleted due to long-term production of underlying oil, and low permeability (kh=300 md-m)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238400" y="380520"/>
            <a:ext cx="800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PVT Priority Lists</a:t>
            </a:r>
            <a:br>
              <a:rPr sz="4000"/>
            </a:b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Vary for Each Reservoir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91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ifferent fields require different degrees of accuracy for different PVT properties --  depending on: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19152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58880" indent="-28296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field development strateg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5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(depletion vs. gas cycling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58880" indent="-282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ow or high permeabil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58880" indent="-28296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saturated or highly undersaturated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58880" indent="-282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geography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(offshore vs. onshore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58880" indent="-28296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number of wells available for delineation and developmen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191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07920" y="380880"/>
            <a:ext cx="8420400" cy="18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PVT Experiments</a:t>
            </a:r>
            <a:br>
              <a:rPr sz="3000"/>
            </a:b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onstant Composition (Mass) Expansion Test</a:t>
            </a:r>
            <a:br>
              <a:rPr sz="2400"/>
            </a:b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1682640" y="1600200"/>
          <a:ext cx="6731280" cy="482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82640" y="1600200"/>
                    <a:ext cx="6731280" cy="482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"/>
          <p:cNvSpPr/>
          <p:nvPr/>
        </p:nvSpPr>
        <p:spPr>
          <a:xfrm>
            <a:off x="8077320" y="2362320"/>
            <a:ext cx="1577880" cy="22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ro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V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/V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20480" y="419040"/>
            <a:ext cx="842004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PVT Experiments</a:t>
            </a:r>
            <a:br>
              <a:rPr sz="3000"/>
            </a:b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onstant Volume Depletion Test</a:t>
            </a:r>
            <a:br>
              <a:rPr sz="2400"/>
            </a:b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1600200" y="1752480"/>
          <a:ext cx="6629400" cy="433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752480"/>
                    <a:ext cx="6629400" cy="433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"/>
          <p:cNvSpPr/>
          <p:nvPr/>
        </p:nvSpPr>
        <p:spPr>
          <a:xfrm>
            <a:off x="1752480" y="388620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099280" y="2354400"/>
            <a:ext cx="1349640" cy="34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/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72800" y="304920"/>
            <a:ext cx="84200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Initial Fluids in Place (IFIP)</a:t>
            </a:r>
            <a:br>
              <a:rPr sz="4000"/>
            </a:b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and Depletion Recoveri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523880" y="220932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as Z-factor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mpositional 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(C</a:t>
            </a:r>
            <a:r>
              <a:rPr b="1" lang="en-US" sz="2800" spc="-1" strike="noStrike" baseline="-25000">
                <a:solidFill>
                  <a:srgbClr val="008000"/>
                </a:solidFill>
                <a:latin typeface="Arial"/>
              </a:rPr>
              <a:t>6+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)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Variation During Depletion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mpositional Variation with Depth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ewpoint Pressur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as-Oil Conta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2T19:51:08Z</dcterms:created>
  <dc:creator>Øivind Fevang</dc:creator>
  <dc:description/>
  <dc:language>en-US</dc:language>
  <cp:lastModifiedBy>Curtis</cp:lastModifiedBy>
  <cp:lastPrinted>1999-01-27T09:48:01Z</cp:lastPrinted>
  <dcterms:modified xsi:type="dcterms:W3CDTF">2008-02-26T12:40:50Z</dcterms:modified>
  <cp:revision>63</cp:revision>
  <dc:subject/>
  <dc:title>Gas Condensate PVT –  What’s Really Important and Why?   </dc:title>
</cp:coreProperties>
</file>