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D83A-3A08-471A-9252-ECEA4232B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7DC0-1835-4F20-9DB7-9E650FC5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33DA-1FF8-4A38-A445-BF5CC0AE2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C0DF-497B-49DD-AFB2-B6BBA0454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E64C-2CD6-483C-B141-A464D18D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BCD4-B31B-42C3-9559-F97DD180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2B01-7977-4E9A-A817-F41466B5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18C1-C6A4-4E82-AD26-74EF45BD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9D26-D633-4AF4-A2E8-25AC60F0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DDBB-F997-429A-B885-FFE5865D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C050-7420-43EE-978A-B956A4F0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137C-241A-48D5-8A43-17C2ABA9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F47D-FD09-4C30-B981-352BFEF0C737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AEB4-FEFE-4BFF-9930-1EB5BA4AFA97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TextBox.ppt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%5CGas-Papers/Craft&amp;Hawkins-Ch1.pdf" TargetMode="External"/><Relationship Id="rId2" Type="http://schemas.openxmlformats.org/officeDocument/2006/relationships/hyperlink" Target="file:///..%5CGas-Papers/Fetkovich-Simplified-Water-Influx.pdf" TargetMode="External"/><Relationship Id="rId3" Type="http://schemas.openxmlformats.org/officeDocument/2006/relationships/hyperlink" Target="file:///..%5CGas-Papers/Fetkovich-Simplified-Water-Influx.pdf" TargetMode="External"/><Relationship Id="rId4" Type="http://schemas.openxmlformats.org/officeDocument/2006/relationships/hyperlink" Target="file:///Havlena-Odeh.pdf" TargetMode="External"/><Relationship Id="rId5" Type="http://schemas.openxmlformats.org/officeDocument/2006/relationships/hyperlink" Target="file:///spe22921-Fetkovich-Reese-Whitson.pdf" TargetMode="External"/><Relationship Id="rId6" Type="http://schemas.openxmlformats.org/officeDocument/2006/relationships/hyperlink" Target="file:///Stewart-Multiwell-pz-analysis.pdf" TargetMode="External"/><Relationship Id="rId7" Type="http://schemas.openxmlformats.org/officeDocument/2006/relationships/hyperlink" Target="file:///Production-Forecasting.xls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/>
          </p:cNvPr>
          <p:cNvSpPr/>
          <p:nvPr/>
        </p:nvSpPr>
        <p:spPr>
          <a:xfrm>
            <a:off x="874440" y="206280"/>
            <a:ext cx="51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Material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/>
          </p:cNvPr>
          <p:cNvSpPr/>
          <p:nvPr/>
        </p:nvSpPr>
        <p:spPr>
          <a:xfrm>
            <a:off x="369720" y="4973760"/>
            <a:ext cx="6188400" cy="368568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The material balance for simple depletion defines the relation between average reservoir pressure and cumulative gas produc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The straight-line MB assumes negligible water&amp;rock expansion &amp; aquifer influx. A plot of p/Z vs Gp (cum. gas produced) is a straight line with (p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/Z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) as intercept and slope given by (p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/Z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)/G, where G is the initial gas in place (IGIP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Comic Sans MS"/>
              </a:rPr>
              <a:t>An important use of the material balance is to estimate IGIP from historical pressure and cumulative production da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When water expansion and/or aquifer encroachment are important, the material balance calculation is more complex and may require an iterative solution to find the fundamental relation between </a:t>
            </a:r>
            <a:r>
              <a:rPr b="0" i="1" lang="en-US" sz="1000" spc="-1" strike="noStrike">
                <a:solidFill>
                  <a:srgbClr val="a50021"/>
                </a:solidFill>
                <a:latin typeface="Comic Sans MS"/>
              </a:rPr>
              <a:t>cumulative production and pressure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33cc"/>
                </a:solidFill>
                <a:latin typeface="Comic Sans MS"/>
              </a:rPr>
              <a:t>Water expansion and water encroachment delay the decline in reservoir pressure due to gas production, resulting in sustained higher well deliverability (for a given G</a:t>
            </a:r>
            <a:r>
              <a:rPr b="0" lang="en-GB" sz="1000" spc="-1" strike="noStrike" baseline="-25000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GB" sz="1000" spc="-1" strike="noStrike">
                <a:solidFill>
                  <a:srgbClr val="3333cc"/>
                </a:solidFill>
                <a:latin typeface="Comic Sans MS"/>
              </a:rPr>
              <a:t>). Water breakthrough often marks the end of life for a gas well. For a number of reasons, the ultimate recovery may be lower for reservoirs with strong aquife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a50021"/>
                </a:solidFill>
                <a:latin typeface="Comic Sans MS"/>
              </a:rPr>
              <a:t>Layered no-crossflow reservoirs show an early drop in p/Z followed by a longer period of slowly-decreasing (near-constant) p/Z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325600" y="4064040"/>
                <a:ext cx="2509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5361120" y="1554120"/>
            <a:ext cx="125280" cy="647640"/>
          </a:xfrm>
          <a:custGeom>
            <a:avLst/>
            <a:gdLst>
              <a:gd name="textAreaLeft" fmla="*/ 0 w 125280"/>
              <a:gd name="textAreaRight" fmla="*/ 45360 w 1252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851040" y="4516560"/>
                <a:ext cx="54594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B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6" name="" descr=""/>
          <p:cNvPicPr/>
          <p:nvPr/>
        </p:nvPicPr>
        <p:blipFill>
          <a:blip r:embed="rId3"/>
          <a:srcRect l="12208" t="12082" r="15262" b="0"/>
          <a:stretch/>
        </p:blipFill>
        <p:spPr>
          <a:xfrm>
            <a:off x="1236600" y="824040"/>
            <a:ext cx="4330800" cy="322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FDF1-F1C1-4F41-8583-22112FCD2E4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F11DA6-AB06-47F8-8B09-274A97891C1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28600"/>
            <a:ext cx="6324480" cy="21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Craft &amp; Hawkins, Ch.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Fetkovich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, Simplified Water Influ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Havlena-Odeh Water Influx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Fetkovich-Reese-Whitson, High-Pressure Gas Material Balance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Stewart, Multiwell p/z Analysis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6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982880"/>
            <a:ext cx="6324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Field Production Forecasting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7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760" y="2840040"/>
            <a:ext cx="6324480" cy="5858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6A64-DB68-4703-BA5B-8F9A3BDF61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CF10B2-3D58-4C23-A4AB-CAF722D028B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6T09:58:29Z</dcterms:modified>
  <cp:revision>96</cp:revision>
  <dc:subject/>
  <dc:title>PowerPoint Presentation</dc:title>
</cp:coreProperties>
</file>