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0BE-CE9C-49C9-BA16-8CE3068A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F79-3B79-4360-9C31-F756C8D1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F38-01DA-4070-BEEF-3653DCA0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882-3840-450F-92F1-01D867A6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748-7E57-477E-ACFF-8249711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5DF-1E22-4059-BCDD-FE542AAB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C41-4086-43D5-9883-783307F5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021-C794-4DDD-B885-45980E60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2AA-85BF-48E7-98B6-0DA5B022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3B2-FDD8-4212-B55E-29F56E20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5B2-A287-4369-8D6C-E3F41EB0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A2F-5694-46D9-B1A1-8223B443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1B69-9DF4-47AF-B8DB-38B5C6AC6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98560" y="5243400"/>
            <a:ext cx="5216400" cy="3392640"/>
            <a:chOff x="898560" y="5243400"/>
            <a:chExt cx="5216400" cy="3392640"/>
          </a:xfrm>
        </p:grpSpPr>
        <p:grpSp>
          <p:nvGrpSpPr>
            <p:cNvPr id="42" name=""/>
            <p:cNvGrpSpPr/>
            <p:nvPr/>
          </p:nvGrpSpPr>
          <p:grpSpPr>
            <a:xfrm>
              <a:off x="2225520" y="5450040"/>
              <a:ext cx="3089160" cy="2458440"/>
              <a:chOff x="2225520" y="5450040"/>
              <a:chExt cx="3089160" cy="2458440"/>
            </a:xfrm>
          </p:grpSpPr>
          <p:sp>
            <p:nvSpPr>
              <p:cNvPr id="43" name=""/>
              <p:cNvSpPr/>
              <p:nvPr/>
            </p:nvSpPr>
            <p:spPr>
              <a:xfrm>
                <a:off x="4049280" y="5458320"/>
                <a:ext cx="603720" cy="2450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654440" y="5450040"/>
                <a:ext cx="660240" cy="24501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25520" y="5466960"/>
                <a:ext cx="1828440" cy="242820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6" name=""/>
            <p:cNvGraphicFramePr/>
            <p:nvPr/>
          </p:nvGraphicFramePr>
          <p:xfrm>
            <a:off x="898560" y="5243400"/>
            <a:ext cx="5216400" cy="3392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8560" y="5243400"/>
                      <a:ext cx="5216400" cy="33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279360"/>
            <a:ext cx="58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 to a gas condensat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6920" y="977760"/>
            <a:ext cx="5091840" cy="3697200"/>
            <a:chOff x="916920" y="977760"/>
            <a:chExt cx="5091840" cy="3697200"/>
          </a:xfrm>
        </p:grpSpPr>
        <p:grpSp>
          <p:nvGrpSpPr>
            <p:cNvPr id="51" name=""/>
            <p:cNvGrpSpPr/>
            <p:nvPr/>
          </p:nvGrpSpPr>
          <p:grpSpPr>
            <a:xfrm>
              <a:off x="932040" y="1369800"/>
              <a:ext cx="5076720" cy="3305160"/>
              <a:chOff x="932040" y="1369800"/>
              <a:chExt cx="5076720" cy="3305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059200" y="1619280"/>
                <a:ext cx="3126960" cy="2344320"/>
                <a:chOff x="2059200" y="1619280"/>
                <a:chExt cx="3126960" cy="23443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905280" y="1626840"/>
                  <a:ext cx="610920" cy="23367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18000" y="1619280"/>
                  <a:ext cx="668160" cy="233676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059200" y="1635120"/>
                  <a:ext cx="1850760" cy="2315520"/>
                </a:xfrm>
                <a:prstGeom prst="rect">
                  <a:avLst/>
                </a:prstGeom>
                <a:solidFill>
                  <a:srgbClr val="66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56" name=""/>
              <p:cNvGraphicFramePr/>
              <p:nvPr/>
            </p:nvGraphicFramePr>
            <p:xfrm>
              <a:off x="932040" y="1369800"/>
              <a:ext cx="5076720" cy="330516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32040" y="1369800"/>
                        <a:ext cx="5076720" cy="330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2075040" y="1979640"/>
                <a:ext cx="1852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16920" y="977760"/>
              <a:ext cx="2212200" cy="5457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Gas and oil are 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66280" y="977760"/>
              <a:ext cx="1509480" cy="5457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Oil is im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8120" y="977760"/>
              <a:ext cx="996120" cy="54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No 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84320" y="4611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8160" y="8559720"/>
            <a:ext cx="58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efinition of regions 1,2 &amp;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4960" y="8591400"/>
            <a:ext cx="495360" cy="324000"/>
          </a:xfrm>
          <a:prstGeom prst="rightArrow">
            <a:avLst>
              <a:gd name="adj1" fmla="val 50000"/>
              <a:gd name="adj2" fmla="val 38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60" y="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ing composition is constant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836640"/>
            <a:ext cx="645012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1760" y="5103720"/>
            <a:ext cx="64562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1T10:35:55Z</dcterms:modified>
  <cp:revision>81</cp:revision>
  <dc:subject/>
  <dc:title>PowerPoint Presentation</dc:title>
</cp:coreProperties>
</file>