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BE0-7575-4439-A274-333B1559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5DF-50B9-4247-ADA7-E6FDE2AC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C43-C7A2-4439-A189-07B260AE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15B-4507-42F6-B24F-BA1B0EB6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08E-7681-4D9E-B5CE-E1B64A2F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0DC-7C08-4B9F-85BF-2FC412B3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1AB-6B7F-4D0D-A8D6-DA6A2F02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72A-5FA6-43FD-B0E7-54663E46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725-5616-44DE-BB69-0CB1F0EA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DB6-C363-4FC3-9EC1-E86168C4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914-2FC4-499A-B339-195B375E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6B9-D0E5-493C-89CD-83887779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67C4-D1F1-4E75-8D3D-F7E196D63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5487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1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9:08:06Z</dcterms:modified>
  <cp:revision>25</cp:revision>
  <dc:subject/>
  <dc:title>PowerPoint Presentation</dc:title>
</cp:coreProperties>
</file>