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A0C1-6853-485F-8912-16FF207EA591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B723-6DB2-498C-8917-D9C6E1C2F8B2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1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57200" y="1541520"/>
                <a:ext cx="24354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962520" y="1593720"/>
                <a:ext cx="23619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00280" y="4724280"/>
            <a:ext cx="5257800" cy="373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105520" y="6172200"/>
            <a:ext cx="1422360" cy="6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06840" y="5105520"/>
            <a:ext cx="144288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448160" y="7789680"/>
            <a:ext cx="0" cy="49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10200" y="8228160"/>
            <a:ext cx="123192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05000" y="19810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141560" y="3200400"/>
                <a:ext cx="457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3429000" y="4191120"/>
            <a:ext cx="32004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657240" y="3962160"/>
            <a:ext cx="609480" cy="2286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0:47Z</dcterms:modified>
  <cp:revision>102</cp:revision>
  <dc:subject/>
  <dc:title>PowerPoint Presentation</dc:title>
</cp:coreProperties>
</file>