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CB8-18F6-4B1A-9074-42484BB2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F41-2BB2-41A8-819E-A7AF6422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524-07AD-4A7B-9A9F-2B25B098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D01-1CC4-4F8A-BAC8-CE348E62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00A-B94B-4548-81A9-C2D31BC6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C1B-8E96-4D6A-B67D-9FF4E45C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8E2-3434-49CE-AE14-C0A33D6B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90DF-E509-4AA5-978A-24F6197A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3CB-403E-4F6D-8C15-C8BBA21D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58C-A88F-428C-9388-F4420061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5D2-BBE7-4E3D-9D00-1AE5E23F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1DD-05D5-4EB3-B18E-4E892BB0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18F6-D3C9-4541-98C0-F5B01AE0D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686800" cy="6637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ccurate fluid samples are needed to define fluids in place, especially condensate volume.  Separator samples should almost always be used for gas condensate we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nstant composition expansion (CCE) and constant volume depletion (CVD) experiments provide the key data for predicting recoveries during depletion, and defining the potential for gas cycl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or calculating initial fluids in place, the key PVT data are initial gas Z-factor and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mol fra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or forecasting recoveries during depletion, the most important PVT data are the gas phase Z-factor and C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mol fraction as functions of pressure. The retrograde liquid saturation (‘liquid drop-out curve’)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has </a:t>
            </a:r>
            <a:r>
              <a:rPr b="0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no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direct impact on recoveries, and only a secondary effect on near-well condensate blockag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or gas cycling below dewpoint, the key PVT properties are gas Z-factor and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fraction, and the revaporization of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mponents into the injection gas. Special PVT experiments are needed to measure revaporization of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Gas condensate viscosities can be accurately predicted from correlations.  Oil viscosity correlations are less reliable, but reasonable oil viscosities are needed for modeling condensate blockage. 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4T07:35:33Z</dcterms:modified>
  <cp:revision>17</cp:revision>
  <dc:subject/>
  <dc:title>PowerPoint Presentation</dc:title>
</cp:coreProperties>
</file>