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CF8-4553-4CAF-9302-FE745662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73B-276F-4186-8CDA-780AFF23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C18-73A2-4820-8C17-5E367AFB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F4B-2E3E-4D79-9DB0-CEB14992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E06-66B4-4491-874D-845CBA13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FF6-78FC-4A4D-BA9C-9DCA6E9B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489-798F-4BB7-B62E-809F268E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6D1-DC21-4BB5-889A-201756DF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26A-27CB-40D3-B97D-6804C436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CA0-45F9-4DB3-B855-D47326A9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1F8-D64B-4BD6-8B2F-78B7DC3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3C9-6D78-4204-AE07-E4FEDFF0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7DF1-C21E-420A-B080-57634FF39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ock-curves.ppt" TargetMode="External"/><Relationship Id="rId2" Type="http://schemas.openxmlformats.org/officeDocument/2006/relationships/hyperlink" Target="krgkro.ppt" TargetMode="External"/><Relationship Id="rId3" Type="http://schemas.openxmlformats.org/officeDocument/2006/relationships/hyperlink" Target="Simul-results.ppt" TargetMode="External"/><Relationship Id="rId4" Type="http://schemas.openxmlformats.org/officeDocument/2006/relationships/hyperlink" Target="Near-well-rel-perms.pp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Nc-models.ppt" TargetMode="External"/><Relationship Id="rId2" Type="http://schemas.openxmlformats.org/officeDocument/2006/relationships/hyperlink" Target="GPP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14200"/>
            <a:ext cx="8763120" cy="6108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    Cost ~ $100K. Saturation measurements are not really neede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1880" y="6172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33520"/>
            <a:ext cx="8763120" cy="44758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, ECL100 works; E300 doesn’t work with Nc-beta effects included!!!). Compare results with the fine grid single well model  - they should agree, though for lean condensates it may be necessary to use smaller cells in the coarse gri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  In principle this calculation can use a black oil model with a table of IFT versus pressure, but this is not possible at present with Eclipse, so that a compositional model must be run.  A large number of components is not  needed – 5 or 6 should be suffic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7-05-11T06:04:15Z</dcterms:modified>
  <cp:revision>19</cp:revision>
  <dc:subject/>
  <dc:title>PowerPoint Presentation</dc:title>
</cp:coreProperties>
</file>