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91103-9F4B-490D-8421-F5DEEB2F6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1FDCB-9773-4160-B1DA-F042441AD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23763-812F-45A0-A314-F221B5519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C63C3-42B1-464D-8D3C-5FCCFDF1B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29405-6B51-41B1-9B3E-F6A911B16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E5D1C-1E35-4097-A20E-AC554B155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32E98-BFD7-4879-883C-3F2FD9F92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2EAD9-15B6-4403-8142-1EF1F4599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DF11A-4705-4FC5-96F4-F33204954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DB404-97B7-4C95-9839-720F8F2F5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3803-5A13-4330-93D8-BFE8043FD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76E6-F99C-4E4E-94B5-236D5CB90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7FF1-64A8-49E5-A3A5-90496DE5A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380880"/>
            <a:ext cx="8686800" cy="6316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CE &amp; CVD laboratory data provide the necessary information to define the material balance relations of a gas condensate reservoir.</a:t>
            </a:r>
            <a:endParaRPr b="0" lang="en-US" sz="1600" spc="-1" strike="noStrike">
              <a:solidFill>
                <a:srgbClr val="000000"/>
              </a:solidFill>
              <a:latin typeface="Times New Roman"/>
            </a:endParaRPr>
          </a:p>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600" spc="-1" strike="noStrike" baseline="-25000">
                <a:solidFill>
                  <a:srgbClr val="0033cc"/>
                </a:solidFill>
                <a:latin typeface="Comic Sans MS"/>
              </a:rPr>
              <a:t>gw</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gd</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o</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the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relation is independent of assumptions regarding water expansion &amp; influx.</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600" spc="-1" strike="noStrike">
                <a:solidFill>
                  <a:srgbClr val="a50021"/>
                </a:solidFill>
                <a:latin typeface="Comic Sans MS"/>
              </a:rPr>
              <a:t>cumulative production (RF) and pressure</a:t>
            </a:r>
            <a:r>
              <a:rPr b="0" lang="en-US" sz="1600" spc="-1" strike="noStrike">
                <a:solidFill>
                  <a:srgbClr val="a50021"/>
                </a:solidFill>
                <a:latin typeface="Comic Sans MS"/>
              </a:rPr>
              <a:t>.</a:t>
            </a:r>
            <a:endParaRPr b="0" lang="en-US" sz="1600" spc="-1" strike="noStrike">
              <a:solidFill>
                <a:srgbClr val="000000"/>
              </a:solidFill>
              <a:latin typeface="Times New Roman"/>
            </a:endParaRPr>
          </a:p>
          <a:p>
            <a:pPr marL="512640" indent="-457200">
              <a:lnSpc>
                <a:spcPct val="13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The “2-phase” Z-factor (Z</a:t>
            </a:r>
            <a:r>
              <a:rPr b="0" lang="en-GB" sz="1600" spc="-1" strike="noStrike" baseline="-25000">
                <a:solidFill>
                  <a:srgbClr val="3333cc"/>
                </a:solidFill>
                <a:latin typeface="Comic Sans MS"/>
              </a:rPr>
              <a:t>2</a:t>
            </a:r>
            <a:r>
              <a:rPr b="0" lang="en-GB" sz="16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600" spc="-1" strike="noStrike">
                <a:solidFill>
                  <a:srgbClr val="3333cc"/>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17T17:01:48Z</dcterms:modified>
  <cp:revision>17</cp:revision>
  <dc:subject/>
  <dc:title>PowerPoint Presentation</dc:title>
</cp:coreProperties>
</file>