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80D-8A2D-4872-AE85-AE940D7A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B5F-CB6E-46D1-8362-049DCF62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EAF-A0DD-4362-BB31-6142C4EA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408-D0B2-43D2-8025-714E38FA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9B6-D00C-4603-B34F-E1BF45BD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5B7-5344-49E0-AA72-F33908E5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CD3-46F2-4804-AF33-69C25795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2E5-F3F5-4316-AB2C-BF1C7635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AAF-78B0-4779-9E7B-B3A46C2E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A71-C797-48A1-B814-2DA75FD2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F6A-FE54-4ADE-ADE3-5287461B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072-1143-4111-BC71-17A7A7F5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355A-3B45-4F8A-8576-23775BFEF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101600" y="1044720"/>
                <a:ext cx="6423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914400" y="1806480"/>
            <a:ext cx="7197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factor evaluated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effective compressibility, accounting for rock and water volumes in the HC-bearing reservoi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surface gas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urface gas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FVF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water encroachment from aquifer (e.g. simplified Fetkovich, Hurst-van Everdingen type aqui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*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pot aquifer the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can be incorporated in the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as outlined by Fetkovich, Reese, and Whitson (SPE 22921), in which case the material balance is non-iterative in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36560" y="6073920"/>
                <a:ext cx="4849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3200" y="304920"/>
                <a:ext cx="3352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0:40:09Z</dcterms:created>
  <dc:creator>CHW</dc:creator>
  <dc:description/>
  <dc:language>en-US</dc:language>
  <cp:lastModifiedBy>curtis</cp:lastModifiedBy>
  <dcterms:modified xsi:type="dcterms:W3CDTF">2003-09-03T10:45:50Z</dcterms:modified>
  <cp:revision>10</cp:revision>
  <dc:subject/>
  <dc:title>PowerPoint Presentation</dc:title>
</cp:coreProperties>
</file>