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0E6-F010-4017-AF5D-37EBDAD1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170-0A50-4F2B-A200-B8AF1995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3A5-E93B-4FE4-A8C1-EDA3DE2F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062-3E91-48CB-AAF6-5D302578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CB2-F95E-4D23-890F-AB1D5986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67A-8E8E-4873-AEAF-2A518AB2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22A-AA33-4511-816E-F0057895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F77-2FBF-4557-A616-121A9B72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9B4-47A0-428F-A3A3-2668261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3E3-4D5C-42C8-9BB9-4C0AF53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271-1131-4786-8B79-341BCF3A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294-C0DA-4C16-A8C7-72BBBC1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49F-93AE-4DD0-809F-42B723401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alidation of coarse grid + GPP approach by comparison with fine gr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2560" y="966960"/>
            <a:ext cx="72388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02:42Z</dcterms:modified>
  <cp:revision>20</cp:revision>
  <dc:subject/>
  <dc:title>PowerPoint Presentation</dc:title>
</cp:coreProperties>
</file>