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B9B-E023-458B-AD2D-F7FFCF10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EE7-1E45-4D43-8CEE-0283F602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42A-812E-4A3F-9E37-7D987B70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8FD-F4FC-4C8C-877D-E565B326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E80-0342-4947-BD25-19FB1210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8E1-7029-4A2E-9D4C-F4FD2F30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743-FAF2-4974-81C7-F5557F22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40F-C68B-4EF8-B647-6CCBDE3A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897-2DA5-42FA-8E7A-B61641F5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966-3EFB-4338-9DB3-7414AD2D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E3B-A539-4E91-81EF-FD204B5D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D97-C6D1-4074-A194-9E717190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0D6E-DD1F-4B6F-A62D-71FE08DBE09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2B78-627E-44DA-9EC6-053659A2A88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x-1.xls" TargetMode="External"/><Relationship Id="rId2" Type="http://schemas.openxmlformats.org/officeDocument/2006/relationships/hyperlink" Target="file:///Ex-2.pdf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2390400" y="2286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441360" y="6081840"/>
            <a:ext cx="6188040" cy="2574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8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8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8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460760" y="1046160"/>
                <a:ext cx="1446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152388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32240" y="4168800"/>
                <a:ext cx="1897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33760" y="2438280"/>
                <a:ext cx="1532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8840" y="3338640"/>
                <a:ext cx="116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3"/>
          <a:srcRect l="18824" t="0" r="21434" b="0"/>
          <a:stretch/>
        </p:blipFill>
        <p:spPr>
          <a:xfrm>
            <a:off x="328680" y="838080"/>
            <a:ext cx="3633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4840" y="5226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4760" y="562932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Ga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5800" y="52261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235400" y="5079960"/>
                <a:ext cx="2090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765-42D1-402F-B098-D770977953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62A06-6B64-472C-B630-4534D31A0E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6324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295280"/>
            <a:ext cx="6324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stimate IGIP and IO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PE Phase Behavior Monograph, App.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2819520"/>
            <a:ext cx="6324480" cy="585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E3B-43AE-4FC2-AC27-61A1E4AE3C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42A7C-FC02-4641-94CF-926C07C1BAF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6160" y="1585800"/>
            <a:ext cx="5305680" cy="59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F3C-6DBD-47AE-AC07-D66FEA7F778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36358-AD26-45CB-AF1C-432556E0DB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0:04:32Z</dcterms:modified>
  <cp:revision>66</cp:revision>
  <dc:subject/>
  <dc:title>PowerPoint Presentation</dc:title>
</cp:coreProperties>
</file>