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EA4-FD19-4F06-AE55-D54B9124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71D-E588-458C-9FB7-832B340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9CD-041F-4903-AE28-20AC93FE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5AA-ADB0-41D6-9C1E-40D6F58D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237-A27D-4F15-B3B9-48420372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698-B7B3-4EC2-9A94-13BBD8A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9EC-2229-46EB-95B7-A864F82C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B28-EE70-4E7D-8D90-5F51780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FEA-5FE1-400B-9B4C-273531A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322-2E34-4912-8B9C-F4C960B8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96B-665D-4210-A9DC-DC49927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4CD-BCD8-4ADB-AC57-1C3263E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8A4F-08E2-43F1-957B-46B140311DA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7EF-D4D9-41DB-A79E-D033EB40798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A25-AE12-4932-B581-BA6B8FB81A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38357-8624-4EF4-A02E-CF8AF7635B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D0D-6E0E-4175-A9EF-0EFA07A3AA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BB7E-B82B-43B8-9099-7364ABF827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urtis</cp:lastModifiedBy>
  <dcterms:modified xsi:type="dcterms:W3CDTF">2007-02-21T11:30:46Z</dcterms:modified>
  <cp:revision>98</cp:revision>
  <dc:subject/>
  <dc:title>PowerPoint Presentation</dc:title>
</cp:coreProperties>
</file>