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D90-1E53-49E0-8893-EF64BC72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39D-6E1C-458E-BF9A-FB310AAA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3A2-D374-4436-B64F-38D27481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D19-DA80-44AD-B2A3-38B746AB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A28-9173-4D5B-BF8C-B0E7E8FB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613-F325-434D-8F85-057D9A90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C35-772C-4FAF-8D85-397853B9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872-298C-41BC-9EE6-275D37F0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408-C722-4369-B2F1-757E7D11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190-166F-4B9B-A3A0-A6FC349E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EE2-8E83-4132-B71C-2BAC65AD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228-8BC3-4456-9F93-DA5335ED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4D90-57F3-457A-B5FA-405BF9728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57480"/>
            <a:ext cx="5791320" cy="3587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0840" indent="-1050840" algn="ctr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 algn="ctr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2-phase Z-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dew point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Z factor at dewpoi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umulative wellstream (wet gas or moles) produced in CVD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518148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ff3300"/>
                </a:solidFill>
                <a:latin typeface="Comic Sans MS"/>
              </a:rPr>
              <a:t>Two-Phase Z-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62040" y="1305000"/>
                <a:ext cx="55497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32:07Z</dcterms:modified>
  <cp:revision>14</cp:revision>
  <dc:subject/>
  <dc:title>PowerPoint Presentation</dc:title>
</cp:coreProperties>
</file>