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CBE2-8E31-4CC3-8A43-818863A2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726-EE1D-4F2A-82C5-8E64C3F9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B04-B6C6-4936-B231-3D3E7A3A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601E-87E1-4E66-85AC-F5D4D992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7C90-EC2C-4F55-9533-D7B54A19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DF81-86FA-4B0B-BB36-0B0953BD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B0C-3091-4B4B-99CA-0C6A6FFD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CD0-B7DC-4E8A-B724-34C94F39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7375-B03A-4912-9311-870F597E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147E-E443-4D6A-A50A-7FDB6F94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331B-7B6C-40B8-B56C-D6A48DD8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6207-DD63-4336-BE67-9A4F6816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066A-2501-463A-9A03-CEA7F0556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6600" y="152280"/>
            <a:ext cx="7209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ducing OGR and well bottom hole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llowing rate reduction during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307440" cy="5717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70360" y="1143000"/>
            <a:ext cx="13420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Comic Sans MS"/>
              </a:rPr>
              <a:t>OGR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Comic Sans MS"/>
              </a:rPr>
              <a:t>in-situ flu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0" y="3276720"/>
            <a:ext cx="228600" cy="83808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77000" y="4114800"/>
            <a:ext cx="15235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Dew point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in-situ flu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1752480"/>
            <a:ext cx="0" cy="381240"/>
          </a:xfrm>
          <a:prstGeom prst="line">
            <a:avLst/>
          </a:prstGeom>
          <a:ln w="25560">
            <a:solidFill>
              <a:srgbClr val="ff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0040" y="4648320"/>
            <a:ext cx="657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Pw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12960" y="2514600"/>
            <a:ext cx="2100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roducing O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8T09:29:46Z</dcterms:modified>
  <cp:revision>22</cp:revision>
  <dc:subject/>
  <dc:title>PowerPoint Presentation</dc:title>
</cp:coreProperties>
</file>