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15C2-81F0-431C-BBCD-7AF0AA0E864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0FCF-BAA0-474A-9906-0E3E75D6077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Rock-curves.ppt" TargetMode="External"/><Relationship Id="rId4" Type="http://schemas.openxmlformats.org/officeDocument/2006/relationships/hyperlink" Target="file:///krgkro.ppt" TargetMode="External"/><Relationship Id="rId5" Type="http://schemas.openxmlformats.org/officeDocument/2006/relationships/hyperlink" Target="file:///Simul-results.ppt" TargetMode="External"/><Relationship Id="rId6" Type="http://schemas.openxmlformats.org/officeDocument/2006/relationships/hyperlink" Target="file:///Near-well-rel-perms.ppt" TargetMode="External"/><Relationship Id="rId7" Type="http://schemas.openxmlformats.org/officeDocument/2006/relationships/hyperlink" Target="file:///Nc-models.ppt" TargetMode="External"/><Relationship Id="rId8" Type="http://schemas.openxmlformats.org/officeDocument/2006/relationships/hyperlink" Target="file:///GPP.ppt" TargetMode="External"/><Relationship Id="rId9" Type="http://schemas.openxmlformats.org/officeDocument/2006/relationships/hyperlink" Target="file:///Simul-results.ppt" TargetMode="External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C-Blockage/EUR%20104%20Calc%20Well%20Deliverability%20Mott.pdf" TargetMode="External"/><Relationship Id="rId2" Type="http://schemas.openxmlformats.org/officeDocument/2006/relationships/hyperlink" Target="file:///..%5CGC-Blockage/GC-Blockage-Example/GC-Blockage-Example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51200" y="2016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odeling Well Performance i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297000" y="2438280"/>
            <a:ext cx="6264000" cy="5967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5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Cost ~ $100K. Saturation measurements are not really neede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6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2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7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8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89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</a:t>
            </a:r>
            <a:r>
              <a:rPr b="0" lang="en-US" sz="1100" spc="-1" strike="noStrike">
                <a:solidFill>
                  <a:srgbClr val="a50021"/>
                </a:solidFill>
                <a:latin typeface="Comic Sans MS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685800"/>
            <a:ext cx="2514600" cy="1544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429000" y="762120"/>
            <a:ext cx="3200400" cy="141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Key points to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Decline in liquid yield with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Well deliverabilit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Always include tubing tabl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lative permeabilities near wel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Gas Condensate Relative Permeability for Well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Modeling Gas Condensate Well Deliver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Calculating Well Deliverability in Gas Condensate Reservoi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imulation example – Condensate Blo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preadsheet for comparing Eclipse and Fevang-Whitson N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urtis</cp:lastModifiedBy>
  <dcterms:modified xsi:type="dcterms:W3CDTF">2007-05-11T06:04:49Z</dcterms:modified>
  <cp:revision>89</cp:revision>
  <dc:subject/>
  <dc:title>PowerPoint Presentation</dc:title>
</cp:coreProperties>
</file>