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D9B-3229-4F92-A5FE-992E1BCD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2B4-2B04-424E-9E5F-A69B65BC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8F4-5CA8-4684-8CFF-91104CC2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A80-DCC1-4AF8-88B6-2AA49C74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BC9-579C-4A29-9A47-D07E924C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5CB-95AB-4552-8AE6-17BCF27F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C55-4020-45F3-A323-38A27F49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812-E810-49B3-A9E5-EBCEC9F2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BB1-0B93-4B42-919D-F2943F1D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8E9-8227-4859-B226-427B4FB5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D8D-77FE-4266-B2EA-E780DFAC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3B1-D74A-4C9D-824D-6EA6EB4F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EFFB-6B6B-46EE-AFFC-8E468328E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ener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047600" y="1919160"/>
                <a:ext cx="43783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311120" y="990720"/>
                <a:ext cx="35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033560" y="5334120"/>
            <a:ext cx="4789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units conversion factor (see next sl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perme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total 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externa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rate-dependent skin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wellbore flowing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volumetric 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visco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Z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formation volum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143000" y="3936960"/>
                <a:ext cx="1857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790800" y="3903840"/>
                <a:ext cx="1859040" cy="13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322092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85160" y="338472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eudopressur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8610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5840" y="30492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Rate Equation in Field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57080" y="4038480"/>
                <a:ext cx="53438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12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/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76440" y="5638680"/>
            <a:ext cx="5503680" cy="34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surface gas rate, scf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permeability, 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otal thicknes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external radiu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wellbore radiu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ate-dependent skin coefficient, 1/(scf/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eservoir temperature, deg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wellbore flowing pressure, 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volumetric average reservoir pressure, 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Z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formation volume factor, res.bbl/s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47560" y="914400"/>
                <a:ext cx="5761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/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4600" y="2666880"/>
                <a:ext cx="650880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8610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457200"/>
            <a:ext cx="422928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seudopressure integ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6620040" cy="5143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95440" y="3048120"/>
            <a:ext cx="2286000" cy="3124080"/>
          </a:xfrm>
          <a:custGeom>
            <a:avLst/>
            <a:gdLst/>
            <a:ahLst/>
            <a:rect l="l" t="t" r="r" b="b"/>
            <a:pathLst>
              <a:path w="1440" h="1968">
                <a:moveTo>
                  <a:pt x="0" y="1968"/>
                </a:moveTo>
                <a:lnTo>
                  <a:pt x="0" y="672"/>
                </a:lnTo>
                <a:lnTo>
                  <a:pt x="96" y="480"/>
                </a:lnTo>
                <a:lnTo>
                  <a:pt x="240" y="288"/>
                </a:lnTo>
                <a:lnTo>
                  <a:pt x="336" y="192"/>
                </a:lnTo>
                <a:lnTo>
                  <a:pt x="384" y="144"/>
                </a:lnTo>
                <a:lnTo>
                  <a:pt x="480" y="96"/>
                </a:lnTo>
                <a:lnTo>
                  <a:pt x="576" y="48"/>
                </a:lnTo>
                <a:lnTo>
                  <a:pt x="720" y="0"/>
                </a:lnTo>
                <a:lnTo>
                  <a:pt x="816" y="0"/>
                </a:lnTo>
                <a:lnTo>
                  <a:pt x="912" y="0"/>
                </a:lnTo>
                <a:lnTo>
                  <a:pt x="1056" y="0"/>
                </a:lnTo>
                <a:lnTo>
                  <a:pt x="1200" y="0"/>
                </a:lnTo>
                <a:lnTo>
                  <a:pt x="1248" y="0"/>
                </a:lnTo>
                <a:lnTo>
                  <a:pt x="1296" y="0"/>
                </a:lnTo>
                <a:lnTo>
                  <a:pt x="1440" y="48"/>
                </a:lnTo>
                <a:lnTo>
                  <a:pt x="1440" y="1968"/>
                </a:lnTo>
                <a:lnTo>
                  <a:pt x="0" y="196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6705720"/>
            <a:ext cx="7621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6705720"/>
            <a:ext cx="76176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81080" y="6172200"/>
            <a:ext cx="45720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724280" y="6172200"/>
            <a:ext cx="53352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14360" y="7848720"/>
            <a:ext cx="4229280" cy="825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3333cc"/>
                </a:solidFill>
                <a:latin typeface="Comic Sans MS"/>
              </a:rPr>
              <a:t>Gas rate is proportional to area unde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3-02T14:46:15Z</dcterms:modified>
  <cp:revision>34</cp:revision>
  <dc:subject/>
  <dc:title>PowerPoint Presentation</dc:title>
</cp:coreProperties>
</file>