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1E6-31EB-45ED-A76D-E05B624B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E0F-327D-45CD-A213-E1B8A7A8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95E-1859-45E6-83E7-42A6AFCA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3FA-4D3C-4ACB-8C82-95D656C3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A00-F7BB-45C4-B02A-4BDB6544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D77-CF65-4D49-B223-02A22654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A35-65DF-46E0-8D6B-98B5940E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7C7-4629-411E-83FC-232A54C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17E-D5F1-4BD6-A9CB-E4E578E5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1AD-3C7A-4773-8301-D4B402BA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E6D-4A0D-4C11-9EE7-9B05A168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709-8040-47C8-A7DB-EE4F0205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DD11-AAAF-447A-AD79-DBD14D9C3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40:13Z</dcterms:modified>
  <cp:revision>20</cp:revision>
  <dc:subject/>
  <dc:title>PowerPoint Presentation</dc:title>
</cp:coreProperties>
</file>