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21E3-3792-4A36-ADA4-4FB0B5A2319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8403-15DD-4B41-BA8B-685D418ADE6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FIELD SUMMARY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Sensor Black Oil Model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44Z</dcterms:modified>
  <cp:revision>87</cp:revision>
  <dc:subject/>
  <dc:title>PowerPoint Presentation</dc:title>
</cp:coreProperties>
</file>