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0EF-C86D-4039-8EDF-6C38BD6D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8E7-C969-406A-8868-11C3C32D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DAF-0457-4115-9612-92067331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B63-C471-41E6-BA4E-EEC07469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ED9-E21E-4188-BC8C-D9BED66F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D6F-BF16-4541-8C0C-206E7400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801-732F-4020-B119-1FC4BE24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D14-92BD-4833-A27D-5A59FA4C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EC1-C642-4283-8695-94505506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73E-7D17-425D-B14C-B78EE949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2AA-B6E7-482D-A983-67D1E807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86D-DB51-47DF-BD0A-2DC4DC68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67D5-2B04-48D0-977F-1685AE8E2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271680"/>
            <a:ext cx="5981760" cy="2802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 = condensate blockage sk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outside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uter radius of blockag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52280"/>
            <a:ext cx="628632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Estimating skin due to condensate blo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87480" y="1143000"/>
                <a:ext cx="434664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8-01T08:32:21Z</dcterms:modified>
  <cp:revision>12</cp:revision>
  <dc:subject/>
  <dc:title>PowerPoint Presentation</dc:title>
</cp:coreProperties>
</file>