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DE52-6F7B-4193-9E74-4A01C9177CD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6F72-6E33-43C7-9247-2BCCDDEE271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2743200"/>
            <a:ext cx="6258240" cy="32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Reg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in Region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-gas ratio (OGR or CGR)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flowing OGR in Region 1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47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Relative Permeability Ratio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371600"/>
                <a:ext cx="3049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6019920"/>
                <a:ext cx="2293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47840" y="7238880"/>
            <a:ext cx="5962320" cy="8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)   oil relative volume from a CCE experiment on the flowing fluid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rich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00800" cy="615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21240" y="807732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8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760" y="5270400"/>
            <a:ext cx="124632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09680" y="5540400"/>
            <a:ext cx="61452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3040" y="819936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90760" y="7238880"/>
            <a:ext cx="54000" cy="9669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920" y="5951160"/>
            <a:ext cx="1195200" cy="2212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lean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521240" y="822960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9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629400" cy="623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8120" y="5340240"/>
            <a:ext cx="124596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095280" y="5610240"/>
            <a:ext cx="1160280" cy="26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793584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39880" y="7273440"/>
            <a:ext cx="193680" cy="668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87400" y="6548400"/>
            <a:ext cx="1406520" cy="13701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2:57:26Z</dcterms:modified>
  <cp:revision>93</cp:revision>
  <dc:subject/>
  <dc:title>PowerPoint Presentation</dc:title>
</cp:coreProperties>
</file>