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C748-8CD4-4CDD-A71D-E0FAEF1221DE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9D5A-2143-4742-8E03-CD30AD1E4BE8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8120" y="3421080"/>
            <a:ext cx="6191280" cy="551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flow rate, scf/d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nb-NO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units conversion factor (0.001127 in field un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permeability, m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net thickness, ft  or 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external radius of drainage area, ft or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well radius, ft or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mechanical sk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formation volume factor, RB/scf 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relative perme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formation volume factor, RB/STB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oil ratio, scf/STB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average reservoir pressure, psia or b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wf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wellbore flowing pressure, psia or ba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as Condensate Rat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”</a:t>
            </a: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seudopressure Integr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31840" y="1515960"/>
                <a:ext cx="654048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a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2278080" y="83818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Notes on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160" y="2895480"/>
            <a:ext cx="6819840" cy="418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1522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term inside the pseudopressure integral is the gas mobility</a:t>
            </a:r>
            <a:endParaRPr b="1" lang="en-US" sz="2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7315200"/>
            <a:ext cx="1905120" cy="1306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w point pressure of flowing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4419360" y="6248160"/>
            <a:ext cx="28440" cy="1066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2057400"/>
            <a:ext cx="2286000" cy="100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P &gt; Dew point No condensate blo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3124080"/>
            <a:ext cx="0" cy="6098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743200"/>
            <a:ext cx="2514600" cy="1306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 &lt; Dew point Condensate blockage reduces 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4114800"/>
            <a:ext cx="0" cy="129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gas flow rate is proportional to the area under the mobility vs pressure curve</a:t>
            </a:r>
            <a:endParaRPr b="1" lang="en-US" sz="2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467240" y="4080960"/>
            <a:ext cx="0" cy="854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7840" y="2030400"/>
            <a:ext cx="6680160" cy="412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16160" y="2031840"/>
            <a:ext cx="4948200" cy="4189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00600" y="6019920"/>
            <a:ext cx="1752480" cy="696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eservoir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5409720"/>
            <a:ext cx="0" cy="5288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6477120"/>
            <a:ext cx="1266840" cy="696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ell B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905120" y="5410080"/>
            <a:ext cx="0" cy="1054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05T14:50:09Z</dcterms:modified>
  <cp:revision>94</cp:revision>
  <dc:subject/>
  <dc:title>PowerPoint Presentation</dc:title>
</cp:coreProperties>
</file>