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C2D-54EE-4684-B960-52AE27C9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FFB-B746-485A-9C5C-69953BB5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DE8-0643-4F22-BAFA-81F4601B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A44-1DC2-450C-A3EA-A1B5742D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B0F-AE3C-45C2-8212-4B5C70B8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E1A-B7F4-4B63-9E1D-8B82FC7B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A59-6BF1-4276-B038-DC7CB03C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85A-98E5-44B4-B708-14AD52BE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A00-5558-4F1C-9DEA-EADC839F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DE4-ACFB-4145-A48C-60128A68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F13-775D-4397-A60A-DFC1AF68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649-DBE3-4ACE-B1F4-25F4F25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FEB1-B880-4C22-A13D-6FFD3BA09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4240" y="1143000"/>
                <a:ext cx="668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443320" y="6705720"/>
                <a:ext cx="1969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9680" y="8229600"/>
                <a:ext cx="1897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43080" y="36972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01920" y="4821120"/>
                <a:ext cx="2054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5840" y="4114800"/>
            <a:ext cx="6286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3333cc"/>
                </a:solidFill>
                <a:latin typeface="Comic Sans MS"/>
              </a:rPr>
              <a:t>Recovery down to dewpoint (applies to both oil and g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nb-NO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d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6019920"/>
            <a:ext cx="6286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CGR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) relation to mol-% C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840" y="7543800"/>
            <a:ext cx="62863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Surface Gas Equivalent of Cond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4320" y="2895480"/>
                <a:ext cx="539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43080" y="204624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Gas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4:43:53Z</dcterms:modified>
  <cp:revision>13</cp:revision>
  <dc:subject/>
  <dc:title>PowerPoint Presentation</dc:title>
</cp:coreProperties>
</file>