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A5D2-50EA-4F66-9E1E-CBAAEF8B88BD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AC2B-2C75-404D-BE3F-96AF59E8D735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981080"/>
            <a:ext cx="541368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Use the spreadsheet Production-Forecasting.xls to look at sensitivities to reservoir parameters and tubing siz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spreadsheet contains data for a gas reservoir with IGIP = 8 Tscf (2.3 x 10</a:t>
            </a:r>
            <a:r>
              <a:rPr b="0" lang="en-US" sz="2400" spc="-1" strike="noStrike" baseline="30000">
                <a:solidFill>
                  <a:srgbClr val="0033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m3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model assumes that additional wells are drilled to maintain the plateau production rate.  Assume a maximum of 50 w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development plan aims for a plateau period of 5 years, with 60% recovery at the end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523880"/>
            <a:ext cx="6096240" cy="75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ensitivities to study (values in red give base c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erme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100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0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ubing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5 ½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 ½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5 (dam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-5 (hydraulic fra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quifer volume ratio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ume ratio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ume ratio = 0 (no aqui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09680"/>
            <a:ext cx="609624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Sensitivities to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umber of wells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Length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Field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ressure drop in reservoir and tubing at start of production &amp; end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5562720"/>
            <a:ext cx="60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* </a:t>
            </a:r>
            <a:r>
              <a:rPr b="0" i="1" lang="en-US" sz="2400" spc="-1" strike="noStrike">
                <a:solidFill>
                  <a:srgbClr val="0033cc"/>
                </a:solidFill>
                <a:latin typeface="Comic Sans MS"/>
              </a:rPr>
              <a:t>For some cases (e.g. low permeability), it will not be possible to maintain the required plateau rate for 5 years. In these cases, find the maximum plateau rate that can be maintained for 5 years with a maximum of 50 w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CHW</cp:lastModifiedBy>
  <dcterms:modified xsi:type="dcterms:W3CDTF">2004-02-02T04:46:43Z</dcterms:modified>
  <cp:revision>91</cp:revision>
  <dc:subject/>
  <dc:title>PowerPoint Presentation</dc:title>
</cp:coreProperties>
</file>