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914-0626-4C43-ACB0-C7F25ED8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276-DE88-42A4-88CA-5D3B43F1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425-192B-4F7B-8706-53DEF901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044-43A3-4576-83CB-B2FAAD63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5A6-9C68-416B-A126-9EC18E4B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B04-919C-46FD-B108-EA7153E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90A-E88E-4076-8AE7-F73C508A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E0D-F290-407D-9232-880EBD6E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758-9F79-4D78-8EAE-C1AB674E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00A-E611-4798-9013-5DECD776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245-6856-4E89-AAFE-987B409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B83-7A5E-471F-A209-E68E17C0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0CD6-45B7-4860-9500-40540C937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457200"/>
            <a:ext cx="8850240" cy="543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698920" y="5486400"/>
                <a:ext cx="37461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327960" y="533520"/>
            <a:ext cx="891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ffman et al analysis of separator sample compo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2:10:26Z</dcterms:modified>
  <cp:revision>21</cp:revision>
  <dc:subject/>
  <dc:title>PowerPoint Presentation</dc:title>
</cp:coreProperties>
</file>