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1F8-9237-47E0-8335-0475BF06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0AD-6543-420C-9BD8-336DA4F4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B38-EFD0-4D42-8BFF-DDF5B551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4D0-D8FC-44AF-BEFC-EEA7051A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4CE-719B-45AC-95EE-58716940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5F9-620E-4337-A408-F9EF370C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70E-C359-4CE2-A713-F2D53F16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AB5-9BBA-4993-B6E0-27C6A7EE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E00-AB78-4825-A9BD-9FF6C6AF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D7D-A724-4640-A2D8-3775EAAA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EE3-2D93-4290-8442-821264F4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D2E-B476-4490-B6F4-62B53EB8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C960-3CC4-46CD-87FF-F18265CCE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219320" y="1044720"/>
                <a:ext cx="61862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52480" y="6073920"/>
                <a:ext cx="46180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HW</cp:lastModifiedBy>
  <dcterms:modified xsi:type="dcterms:W3CDTF">2003-08-21T10:54:03Z</dcterms:modified>
  <cp:revision>7</cp:revision>
  <dc:subject/>
  <dc:title>PowerPoint Presentation</dc:title>
</cp:coreProperties>
</file>