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563-43BB-4251-8F47-6BCA291F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C62-1F2E-4C76-A95B-8621B7D5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998-3832-47A6-9509-58A1DE48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C5F-3750-46F9-A16D-FB610699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00E-2AC2-4BC9-9D06-A4E002E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B5D-AACF-4DC1-9EDB-6340E6DF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38A-7E79-430E-BA5F-0F666060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E84-BD14-4F94-8008-080C876C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F74-EEEB-4CD0-8538-B49424D6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55A-DBC3-403F-AE5B-FDECA809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DB5-E0ED-4056-A257-3A996A6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AE3-7799-4D73-831D-E88F61E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84E0-8682-4749-B9AD-B2B7811DC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0:21:04Z</dcterms:modified>
  <cp:revision>19</cp:revision>
  <dc:subject/>
  <dc:title>PowerPoint Presentation</dc:title>
</cp:coreProperties>
</file>