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C43-3A61-4914-9FA0-E9A4FBFF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90D-F9E1-498E-9634-C84BD89E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5C7-741F-468A-A42A-C74833B1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BB8-0E86-4768-9C7E-12BAA6EF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601-58DE-4287-9771-B0B62599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F6E-26FF-4037-AC66-90F168D6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B83-CE5C-445B-B243-1E7C2671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6D3-2FD2-4720-9A9B-8573C4D8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439-2345-496C-8474-E8330232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602-F918-413A-B66D-C19770C0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87E-6265-4423-8EA0-BF58ADA7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DB7-E8D5-4990-AB73-CEDFB243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43B6-6CC6-4971-A069-5736649B9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g/kro from PVT data for a rich gas condens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2209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 near-well region,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1 &lt; krg/kro &lt;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4290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48:54Z</dcterms:modified>
  <cp:revision>18</cp:revision>
  <dc:subject/>
  <dc:title>PowerPoint Presentation</dc:title>
</cp:coreProperties>
</file>