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4230-15A5-4A13-9597-6AFB3B8B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AA8-6332-4443-8C3D-68BB0C92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1F97-2325-43ED-B3D3-AA9BB9CB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5120-05D3-4B81-AA2B-EB2BD16C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4174-C373-4107-B999-E0CEC281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C111-F97F-4084-ACEF-45FB62E6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105-0942-4BED-8994-0E92E396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F8B-D877-4E7B-A0B0-D2AE0A0B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5702-8251-4B7D-B2E9-50D79E09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3F76-3B94-4D2F-8BCF-0BFEB817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E11F-5A06-4FDB-9333-E4443719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FA24-3EAD-4A95-A27E-969B9D6A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EA40-8CC5-4547-8669-3F6D4EEC6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8120" y="3271680"/>
            <a:ext cx="5981760" cy="28029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 = condensate blockage ski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outside near-well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blockage)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in near-well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blockage)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uter radius of blockage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wellbore 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152280"/>
            <a:ext cx="628632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Estimating skin due to condensate blo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987480" y="1143000"/>
                <a:ext cx="434664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g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gb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3-08-01T08:32:21Z</dcterms:modified>
  <cp:revision>12</cp:revision>
  <dc:subject/>
  <dc:title>PowerPoint Presentation</dc:title>
</cp:coreProperties>
</file>