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2C5A-8463-49EC-9791-467BA656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22C7-AAB0-4652-8B34-A89F0C64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FBB0-B374-4899-BE26-961A8E106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1D32-7527-496F-9EB0-AA6BA8C4B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B59F-11EF-4432-B276-CDA51BCE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2861-4BD4-4A4A-9AA6-A8EA0A1E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B2C1-307D-4C36-9382-E1EC62FD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CD00-D6E5-4E64-943D-881A8F0E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0F94-2E2F-4555-A0A9-D6882FE5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189A-5E03-41B3-8B3A-D644C8E6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0DAF-2674-4867-9CD2-E7616A1C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3359-53CE-4D9D-965D-9867582E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C05C-A56D-412D-BC5B-2DF72EEC2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1-phase-build-up.ppt" TargetMode="External"/><Relationship Id="rId2" Type="http://schemas.openxmlformats.org/officeDocument/2006/relationships/hyperlink" Target="file:///3-region-composite.ppt" TargetMode="External"/><Relationship Id="rId3" Type="http://schemas.openxmlformats.org/officeDocument/2006/relationships/hyperlink" Target="file:///2-phase-build-up.ppt" TargetMode="External"/><Relationship Id="rId4" Type="http://schemas.openxmlformats.org/officeDocument/2006/relationships/hyperlink" Target="file:///Multi-rate-test.ppt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760" y="206280"/>
            <a:ext cx="8610480" cy="67838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ransient data during a pressure build-up can be analyzed to try and understand gas condensate well performance, by plotting the change in pseudopressure and its derivative [with respect to log(</a:t>
            </a:r>
            <a:r>
              <a:rPr b="0" lang="en-US" sz="16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)] on a log-log plo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build-up analysis is influenced by a near-well condensate bank with reduced k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.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Using a single-phase gas pseudopressure to interpret well test data usually requires a radial-composite model with 2 zones. This will give information on the gas permeability in the bank and the size of the bank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Some wells may show 3-region composite radial behavior, caused by increased gas mobility at high capillary numbers near to the well. This is an area of current research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2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Using two-phase pseudopressure to interpret well test data requires a set of relative permeability curves, krg=f(krg/kro,Nc), and uses the steady-state flow theory (e.g. Fevang-Whitson method) to calculate pseudopressure, resulting in ‘normal semi-log’ radial behavior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3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Multi-rate tests can also be used to understand condensate well performance, by history matching  single-well simulation models. This is usually the most reliable way of confirming the benefit of capillary number effects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4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34:14Z</dcterms:modified>
  <cp:revision>18</cp:revision>
  <dc:subject/>
  <dc:title>PowerPoint Presentation</dc:title>
</cp:coreProperties>
</file>