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BBA-AF18-43C9-ACA3-D5C6869B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10C-4AC9-46C1-B9C0-0E3B7EF2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8CE-FE0A-4FC0-9A12-EA842E11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F19-CAF7-4BFD-9891-C716141A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227-506A-4BC1-8581-4D18A137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AB4-563F-4079-9177-8E8ECD72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563-542F-4DD3-A5C3-42321133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9DC-AC4C-4BBC-BFF6-CE756D55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D57-2F79-4C93-A58A-65D8EED7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BCA-7416-4D5C-9162-D119A5B2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553-07E5-49D4-9543-1953253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688-44B5-47E1-87C6-CD522B1D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C369-1C5F-4D13-B0B8-6166B317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760" y="39204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fraction in equilibrium gas during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5211720"/>
            <a:ext cx="5846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7+ content of the produced wellstream gives a direct measure of the change in condensate yield as pressure dec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7+ content is very closely related to the producing Condensate-Gas ratio (CG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PVT data, it is important to match the changing C7+ amount in the gas during the CVD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8800" y="981000"/>
            <a:ext cx="6685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9T11:04:36Z</dcterms:modified>
  <cp:revision>65</cp:revision>
  <dc:subject/>
  <dc:title>PowerPoint Presentation</dc:title>
</cp:coreProperties>
</file>