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D8FB-2422-4511-B4A8-C5E6BA2A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F9C1-3813-4F5E-AA58-300BCCA7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B134-5215-4235-86E0-88ADF8F4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2796-991B-44DC-BF2F-F6DBE17C5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ECB2-C5FA-4811-9485-A57D3DD0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8E62-878D-4896-8B1B-ED363B05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427A-3468-4E50-84FC-A1278B42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6AFF-B160-47AE-A75A-A3467B22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E3B1-0E37-4F60-B170-59C66E57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E42E-9889-4B9C-85A8-E266C8B4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D39B-B4CD-4FEF-9278-E86D4053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3F21-1FAC-4131-AABF-9A16EDE6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A35C-DD8F-4ED4-9A30-B19B6C64A3F0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DBB7-0CDE-4379-B292-F5D2B6D8EF9B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%5CGas-Papers/Craft&amp;Hawkins-Ch1.pdf" TargetMode="External"/><Relationship Id="rId2" Type="http://schemas.openxmlformats.org/officeDocument/2006/relationships/hyperlink" Target="file:///Craft&amp;Hawkins-Ch1.pdf" TargetMode="External"/><Relationship Id="rId3" Type="http://schemas.openxmlformats.org/officeDocument/2006/relationships/hyperlink" Target="file:///Fetkovich-Simplified-Water-Influx.pdf" TargetMode="External"/><Relationship Id="rId4" Type="http://schemas.openxmlformats.org/officeDocument/2006/relationships/hyperlink" Target="file:///spe22921-Fetkovich-Reese-Whitson.pdf" TargetMode="External"/><Relationship Id="rId5" Type="http://schemas.openxmlformats.org/officeDocument/2006/relationships/hyperlink" Target="file:///Other-references.ppt" TargetMode="External"/><Relationship Id="rId6" Type="http://schemas.openxmlformats.org/officeDocument/2006/relationships/hyperlink" Target="file:///Production-Forecasting.xls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/>
          </p:cNvPr>
          <p:cNvSpPr/>
          <p:nvPr/>
        </p:nvSpPr>
        <p:spPr>
          <a:xfrm>
            <a:off x="1373760" y="206280"/>
            <a:ext cx="411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Water Infl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/>
          </p:cNvPr>
          <p:cNvSpPr/>
          <p:nvPr/>
        </p:nvSpPr>
        <p:spPr>
          <a:xfrm>
            <a:off x="369720" y="4973760"/>
            <a:ext cx="6188400" cy="36144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Aquifers may provide water influx (encroachment) to gas reservoirs as pressure declines from produ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amount of water influx depends primarily on </a:t>
            </a:r>
            <a:r>
              <a:rPr b="0" i="1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aquifer &amp; reservoir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r>
              <a:rPr b="0" i="1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permeability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, </a:t>
            </a:r>
            <a:r>
              <a:rPr b="0" i="1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aquifer size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, and </a:t>
            </a:r>
            <a:r>
              <a:rPr b="0" i="1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initial pressure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(i.e. maximum potential pressure decline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a50021"/>
                </a:solidFill>
                <a:latin typeface="Comic Sans MS"/>
              </a:rPr>
              <a:t>K &lt; 1 md results in neglible water influx, independent of aquifer siz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lnSpc>
                <a:spcPct val="130000"/>
              </a:lnSpc>
              <a:spcBef>
                <a:spcPts val="312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a50021"/>
                </a:solidFill>
                <a:latin typeface="Comic Sans MS"/>
              </a:rPr>
              <a:t>Aquifer sizes often range from 1 to 10 times the HCPV, and may sometimes be 100s of times the HCP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lnSpc>
                <a:spcPct val="130000"/>
              </a:lnSpc>
              <a:spcBef>
                <a:spcPts val="312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a50021"/>
                </a:solidFill>
                <a:latin typeface="Comic Sans MS"/>
              </a:rPr>
              <a:t>High-pressure reservoirs may experience significant pressure support from small aquifers and ‘internal’ water within and interbedded with the HCP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30000"/>
              </a:lnSpc>
              <a:spcBef>
                <a:spcPts val="938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mic Sans MS"/>
              </a:rPr>
              <a:t>The material balance can be used to estimate IGIP and aquifer size from historical pressure and cumulative production da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Water expansion and water encroachment delay the decline in reservoir pressure due to gas production, resulting in sustained higher well deliverability (for a given total production). Water breakthrough often marks the end of life for a gas well. Ultimate gas recovery may often be lower for reservoirs with strong aquife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325600" y="4064040"/>
                <a:ext cx="2509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5361120" y="1554120"/>
            <a:ext cx="125280" cy="647640"/>
          </a:xfrm>
          <a:custGeom>
            <a:avLst/>
            <a:gdLst>
              <a:gd name="textAreaLeft" fmla="*/ 0 w 125280"/>
              <a:gd name="textAreaRight" fmla="*/ 45360 w 125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950760" y="4516560"/>
                <a:ext cx="52578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" name="" descr=""/>
          <p:cNvPicPr/>
          <p:nvPr/>
        </p:nvPicPr>
        <p:blipFill>
          <a:blip r:embed="rId3"/>
          <a:srcRect l="12208" t="12082" r="15262" b="0"/>
          <a:stretch/>
        </p:blipFill>
        <p:spPr>
          <a:xfrm>
            <a:off x="1236600" y="824040"/>
            <a:ext cx="4330800" cy="322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96A5-E2AD-4C70-9F62-2DCD69F7267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F3392-71B0-4106-A6D7-5DD56986837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600"/>
            <a:ext cx="632448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Craft &amp; Hawkins, Ch. 1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tkovich, Simplified Water Influx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tkovich-Reese-Whitson, High-Pressure Gas Material Balance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Others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752480"/>
            <a:ext cx="63244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Field Production Forecasting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2887560"/>
            <a:ext cx="6324480" cy="6053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D33-7908-465F-B826-72B0DA0E6B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C5F02-2622-4FD4-9C79-98F683264C9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6T09:58:56Z</dcterms:modified>
  <cp:revision>96</cp:revision>
  <dc:subject/>
  <dc:title>PowerPoint Presentation</dc:title>
</cp:coreProperties>
</file>