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9D1-84D1-4C2F-ADF7-DD7F7231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50D-2AD7-44EB-B70D-FBDC9D1D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851-B42A-4806-8C52-A5163EAF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402-0938-48D5-A53D-11A2EE87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DD5-0CCB-43F9-A9C4-8EAD1819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97C-C433-4249-886D-9E864F4E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C04-B71B-44AE-A067-0A74167F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0C6-CA97-415D-8536-92BD469C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87D-72D2-4287-A4F5-D5081A31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E2C-FBB6-4149-8462-1DAD3B90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4C4-06FD-434A-9231-D7EEB52A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A26-4169-43BE-A730-0DD483D4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6459-7EAA-497A-A33B-DB9913412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23:23:49Z</dcterms:modified>
  <cp:revision>2</cp:revision>
  <dc:subject/>
  <dc:title>Other e-note links</dc:title>
</cp:coreProperties>
</file>