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317-06AA-420A-8416-B2A7027A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11D-15DE-4B0C-9B41-A9FA040B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CD7-AD78-451F-8F88-B38B9218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590-0083-493A-A7AF-39486FE2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9084-383C-4C20-A695-28891939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06E-97B0-4BE9-83CE-8EC85A40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8BC-FA64-40B9-9A64-466CFBF1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D40B-D3A0-41E2-83C6-605DC2CC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9A6-EA19-45F1-9026-8A03F4CC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2BF-F75F-4F59-BDDD-1961EC89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5BB-6BEB-4BA8-BAF2-4CDB1DDC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5033-0A2F-4876-9F28-85861AC4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C095-3275-4E26-961F-7717B27A4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Rock-curves.ppt" TargetMode="External"/><Relationship Id="rId2" Type="http://schemas.openxmlformats.org/officeDocument/2006/relationships/hyperlink" Target="krgkro.ppt" TargetMode="External"/><Relationship Id="rId3" Type="http://schemas.openxmlformats.org/officeDocument/2006/relationships/hyperlink" Target="Simul-results.ppt" TargetMode="External"/><Relationship Id="rId4" Type="http://schemas.openxmlformats.org/officeDocument/2006/relationships/hyperlink" Target="Near-well-rel-perms.ppt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Nc-models.ppt" TargetMode="External"/><Relationship Id="rId2" Type="http://schemas.openxmlformats.org/officeDocument/2006/relationships/hyperlink" Target="GPP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440" y="214200"/>
            <a:ext cx="8763120" cy="61081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Use Quality-Controlled PVT data to set up an EoS model of the reservoir.  Ensure that gas Z-factors and C7+ content of the gas are matched accurately.  Check the predicted depletion recoveries agree with CVD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Plot all gas-oil rel perm data in form krg vs krg/kro. Choose data for first estimate of ‘rock’ rel perm curves. If no data available, use Corey functions with ‘crossover’ point of about 0.1. Also plot straight-line (‘miscible’) rel perm curve. 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alculate krg/kro range for the near-well region in this reservoir.  Compare rock and straight-line values  in this range, to estimate potential benefit from Capillary Number (Nc) effect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ingle well, 1D radial, EoS simulation model on fine grid. Include tubing and use THP control. Compare rate-time performance using rock and straight-line rel perm curves to determine if condensate blockage is important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If blockage is important, get SCAL data for near-well rel perms.  Measure krg as function of krg/kro and Nc. Typically 3 rates for each of 5 values of krg/kro.      Cost ~ $100K. Saturation measurements are not really needed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1880" y="61722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533520"/>
            <a:ext cx="8763120" cy="44758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et up fine grid single well model.  Include cell-to-cell calculation of Nc effects. When using the E300 model for Nc effects, check that the behavior of krg versus Nc at fixed krg/kro matches experimental data. (If high-rate rel perm data are not available, use the Fevang-Whitson correlation with </a:t>
            </a:r>
            <a:r>
              <a:rPr b="0" lang="en-US" sz="1600" spc="-1" strike="noStrike">
                <a:solidFill>
                  <a:srgbClr val="a50021"/>
                </a:solidFill>
                <a:latin typeface="Symbol"/>
                <a:ea typeface="Symbol"/>
              </a:rPr>
              <a:t>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= 4000, n=0.7), 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et up a coarse grid, single well model using the Generalized Pseudopressure Model (GPP in Eclipse).  Include the Nc effect.  Compare results with the fine grid single well model  - they should agree, though for lean condensates it may be necessary to use smaller cells in the coarse grid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ull field model using coarse grid and GPP model with Nc effects.  In principle this calculation can use a black oil model with a table of IFT versus pressure, but this is not possible at present with Eclipse, so that a compositional model must be run.  A large number of components is not  needed – 5 or 6 should be suffic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8T16:34:20Z</dcterms:modified>
  <cp:revision>17</cp:revision>
  <dc:subject/>
  <dc:title>PowerPoint Presentation</dc:title>
</cp:coreProperties>
</file>