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07650-0134-4E7D-9AEF-01448F225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6D2FB-E3DB-4926-AE6B-83AA59E4F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3231D-5527-4867-B77F-B8893EBB9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74EC7-17EE-4C69-943A-B5314C869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BC0C8-B0EE-4A96-B81E-D7AAD8070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41C48-FFFF-4A30-B864-C6FB6E6C0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30246-BAFB-487B-80E2-170BCD01D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22BEB-9356-4B3A-A12F-C9BCD01B3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D004D-7E40-4384-9934-1B590A6B2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B47A1-816E-4BE7-9F6C-6F69ADE0F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C5A24-28D7-4A29-872D-878EF585D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7586B-53BC-4E1D-9B7C-8F40D02F6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2FB74-DBEB-4ED2-9D4E-C39A39CE20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0" t="0" r="0" b="5551"/>
          <a:stretch/>
        </p:blipFill>
        <p:spPr>
          <a:xfrm>
            <a:off x="434880" y="1600200"/>
            <a:ext cx="8272440" cy="48006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69880" y="304920"/>
            <a:ext cx="8004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Immiscible-type Data (from SPE 56476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rcRect l="0" t="0" r="0" b="5551"/>
          <a:stretch/>
        </p:blipFill>
        <p:spPr>
          <a:xfrm>
            <a:off x="434880" y="1600200"/>
            <a:ext cx="8272440" cy="48006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569880" y="304920"/>
            <a:ext cx="8004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Immiscible-type Data (from SPE 56476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474840" y="914400"/>
            <a:ext cx="819432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4T06:56:09Z</dcterms:created>
  <dc:creator>CHW</dc:creator>
  <dc:description/>
  <dc:language>en-US</dc:language>
  <cp:lastModifiedBy>Robert Mott</cp:lastModifiedBy>
  <dcterms:modified xsi:type="dcterms:W3CDTF">2004-02-09T16:39:34Z</dcterms:modified>
  <cp:revision>16</cp:revision>
  <dc:subject/>
  <dc:title>PowerPoint Presentation</dc:title>
</cp:coreProperties>
</file>