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6DF-C8A2-4266-BFC5-C89D3635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041-4FFA-4A91-AEB5-53B3D1A7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6CF-EA0E-45A2-9CDE-A2B56BA0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2FCC-980E-4C61-B773-651CBEEE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45A-D263-4B94-8FFC-FAE729A9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89E-B8DB-4CC8-84DA-C5610492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01C-A70C-4296-B47C-82E5AD20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396-BCC8-4D85-8E15-D5C329E0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F8F-0B39-413C-87B3-EEC4A018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B6E-F48C-4690-967E-A0003E64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E34-9134-41F6-B860-0ECEAFD2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DCB-53EA-455F-BB5F-E699B2F2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6ECA-E070-45E7-895F-C097EA3D9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5487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quifers may provide water influx (encroachment) to gas reservoirs as pressure declines from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amount of water influx depends primarily on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aquifer &amp; reservoir</a:t>
            </a:r>
            <a:r>
              <a:rPr b="0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permeability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aquifer siz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 and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initial pressur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i.e. maximum potential pressure declin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1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K &lt; 1 md results in neglible water influx, independent of aquifer siz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437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Aquifer sizes often range from 1 to 10 times the HCPV, and may sometimes be 100s of times the HCP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437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High-pressure reservoirs may experience significant pressure support from small aquifers and ‘internal’ water within and interbedded with the HCP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The material balance can be used to estimate IGIP and aquifer size from historical pressure and cumulative productio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total production). Water breakthrough often marks the end of life for a gas well. Ultimate gas recovery may often be lower for reservoirs with strong aquif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11T09:08:06Z</dcterms:modified>
  <cp:revision>25</cp:revision>
  <dc:subject/>
  <dc:title>PowerPoint Presentation</dc:title>
</cp:coreProperties>
</file>