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54F2-C810-41AD-9504-897B8F9EC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3982-2E7D-4AE6-A5A0-799E08FA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E377-DFB3-4168-95A0-8482DD83E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1D48-3B83-4173-A1CE-EF8380F03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5270-E86A-4DE1-BA21-E1BE5406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1C6D-8079-4193-A836-CE4CCEDF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2C63-47CA-46A2-8659-E0F74DD9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E2D4-A27A-4319-8DC7-5A7E125C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AA85-CC43-49D5-82E2-91428758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EB8F-A463-4394-8D76-D5C09FFF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42A7-875A-4F73-9D17-E3159457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B6ED-6752-4293-BC79-9B5F5973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58F9-ABB4-4C14-BBCE-0853F3C01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Ex-1a.pdf" TargetMode="External"/><Relationship Id="rId2" Type="http://schemas.openxmlformats.org/officeDocument/2006/relationships/hyperlink" Target="file:///Ex-1.pdf" TargetMode="External"/><Relationship Id="rId3" Type="http://schemas.openxmlformats.org/officeDocument/2006/relationships/hyperlink" Target="file:///Ex-1.xls" TargetMode="External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401760"/>
            <a:ext cx="6286320" cy="106956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cc"/>
                </a:solidFill>
                <a:latin typeface="Comic Sans MS"/>
              </a:rPr>
              <a:t>Golan-Whitson, Well Performanc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cc"/>
                </a:solidFill>
                <a:latin typeface="Comic Sans MS"/>
              </a:rPr>
              <a:t>Example 2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38520" y="1676520"/>
            <a:ext cx="33444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Short Problem 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75160" y="2378160"/>
            <a:ext cx="34664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Complete Problem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Comic Sans MS"/>
              </a:rPr>
              <a:t>(excerpt from boo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75160" y="3429000"/>
            <a:ext cx="34664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Complete Problem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Comic Sans MS"/>
              </a:rPr>
              <a:t>(Exc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rcRect l="17188" t="0" r="11612" b="0"/>
          <a:stretch/>
        </p:blipFill>
        <p:spPr>
          <a:xfrm>
            <a:off x="990720" y="4267080"/>
            <a:ext cx="510516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CHW</cp:lastModifiedBy>
  <dcterms:modified xsi:type="dcterms:W3CDTF">2003-08-22T10:03:58Z</dcterms:modified>
  <cp:revision>30</cp:revision>
  <dc:subject/>
  <dc:title>PowerPoint Presentation</dc:title>
</cp:coreProperties>
</file>