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5225-A042-4BB0-8DAC-2ECFB96FC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85AA-6B0F-4903-B4B3-9D6BC3D62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AEB9-BE2E-4B02-A528-0D7BE7238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DACB-8E94-43DE-AD2E-C7AFD7782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109D-6074-47AD-B476-9FCF53B49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E218-D710-41E2-9DC6-C2FE3E9C9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8197-8A47-41AE-9BCE-4E0DA642C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F0C3-0544-441E-9CF0-4427EBDC2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3DDF-4CD8-484F-A571-B4C2C0F0A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0B9D-D01D-4943-AF8F-E34943C57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253B-664F-4C7F-BAEB-E5F19F16C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DC4F-A46C-4973-BA8E-EA3F73657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240" y="8686800"/>
            <a:ext cx="142884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227D8-A0FB-4665-89F6-48C527153455}" type="datetime3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July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752480" y="8686800"/>
            <a:ext cx="426744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324480" y="8686800"/>
            <a:ext cx="40032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1EF5D-CCAC-41E0-A92F-CA6AFA142ADA}" type="slidenum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Other-links.ppt" TargetMode="External"/><Relationship Id="rId2" Type="http://schemas.openxmlformats.org/officeDocument/2006/relationships/hyperlink" Target="file:///TextBox.ppt" TargetMode="External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..%5CGas-Papers/Craft&amp;Hawkins-Ch1.pdf" TargetMode="External"/><Relationship Id="rId2" Type="http://schemas.openxmlformats.org/officeDocument/2006/relationships/hyperlink" Target="file:///..%5CGas-Papers/Fetkovich-Simplified-Water-Influx.pdf" TargetMode="External"/><Relationship Id="rId3" Type="http://schemas.openxmlformats.org/officeDocument/2006/relationships/hyperlink" Target="file:///..%5CGas-Papers/Fetkovich-Simplified-Water-Influx.pdf" TargetMode="External"/><Relationship Id="rId4" Type="http://schemas.openxmlformats.org/officeDocument/2006/relationships/hyperlink" Target="file:///Havlena-Odeh.pdf" TargetMode="External"/><Relationship Id="rId5" Type="http://schemas.openxmlformats.org/officeDocument/2006/relationships/hyperlink" Target="file:///spe22921-Fetkovich-Reese-Whitson.pdf" TargetMode="External"/><Relationship Id="rId6" Type="http://schemas.openxmlformats.org/officeDocument/2006/relationships/hyperlink" Target="file:///Stewart-Multiwell-pz-analysis.pdf" TargetMode="External"/><Relationship Id="rId7" Type="http://schemas.openxmlformats.org/officeDocument/2006/relationships/hyperlink" Target="file:///Production-Forecasting.xls" TargetMode="External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>
            <a:hlinkClick r:id="rId1"/>
          </p:cNvPr>
          <p:cNvSpPr/>
          <p:nvPr/>
        </p:nvSpPr>
        <p:spPr>
          <a:xfrm>
            <a:off x="874440" y="206280"/>
            <a:ext cx="51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7240" indent="-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Gas Material Bala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rId2"/>
          </p:cNvPr>
          <p:cNvSpPr/>
          <p:nvPr/>
        </p:nvSpPr>
        <p:spPr>
          <a:xfrm>
            <a:off x="369720" y="4973760"/>
            <a:ext cx="6188400" cy="3685680"/>
          </a:xfrm>
          <a:prstGeom prst="rect">
            <a:avLst/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514440" indent="-457200">
              <a:lnSpc>
                <a:spcPct val="120000"/>
              </a:lnSpc>
              <a:spcBef>
                <a:spcPts val="938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Comic Sans MS"/>
              </a:rPr>
              <a:t>The material balance for simple depletion defines the relation between average reservoir pressure and cumulative gas produc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457200">
              <a:lnSpc>
                <a:spcPct val="120000"/>
              </a:lnSpc>
              <a:spcBef>
                <a:spcPts val="938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The straight-line MB assumes negligible water&amp;rock expansion &amp; aquifer influx. A plot of p/Z vs Gp (cum. gas produced) is a straight line with (p</a:t>
            </a:r>
            <a:r>
              <a:rPr b="0" lang="en-US" sz="1000" spc="-1" strike="noStrike" baseline="-25000">
                <a:solidFill>
                  <a:srgbClr val="a50021"/>
                </a:solidFill>
                <a:latin typeface="Comic Sans MS"/>
              </a:rPr>
              <a:t>i</a:t>
            </a: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/Z</a:t>
            </a:r>
            <a:r>
              <a:rPr b="0" lang="en-US" sz="1000" spc="-1" strike="noStrike" baseline="-25000">
                <a:solidFill>
                  <a:srgbClr val="a50021"/>
                </a:solidFill>
                <a:latin typeface="Comic Sans MS"/>
              </a:rPr>
              <a:t>i</a:t>
            </a: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) as intercept and slope given by (p</a:t>
            </a:r>
            <a:r>
              <a:rPr b="0" lang="en-US" sz="1000" spc="-1" strike="noStrike" baseline="-25000">
                <a:solidFill>
                  <a:srgbClr val="a50021"/>
                </a:solidFill>
                <a:latin typeface="Comic Sans MS"/>
              </a:rPr>
              <a:t>i</a:t>
            </a: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/Z</a:t>
            </a:r>
            <a:r>
              <a:rPr b="0" lang="en-US" sz="1000" spc="-1" strike="noStrike" baseline="-25000">
                <a:solidFill>
                  <a:srgbClr val="a50021"/>
                </a:solidFill>
                <a:latin typeface="Comic Sans MS"/>
              </a:rPr>
              <a:t>i</a:t>
            </a: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)/G, where G is the initial gas in place (IGIP)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457200">
              <a:lnSpc>
                <a:spcPct val="120000"/>
              </a:lnSpc>
              <a:spcBef>
                <a:spcPts val="938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Comic Sans MS"/>
              </a:rPr>
              <a:t>An important use of the material balance is to estimate IGIP from historical pressure and cumulative production dat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457200">
              <a:lnSpc>
                <a:spcPct val="120000"/>
              </a:lnSpc>
              <a:spcBef>
                <a:spcPts val="938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When water expansion and/or aquifer encroachment are important, the material balance calculation is more complex and may require an iterative solution to find the fundamental relation between </a:t>
            </a:r>
            <a:r>
              <a:rPr b="0" i="1" lang="en-US" sz="1000" spc="-1" strike="noStrike">
                <a:solidFill>
                  <a:srgbClr val="a50021"/>
                </a:solidFill>
                <a:latin typeface="Comic Sans MS"/>
              </a:rPr>
              <a:t>cumulative production and pressure</a:t>
            </a: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457200">
              <a:lnSpc>
                <a:spcPct val="120000"/>
              </a:lnSpc>
              <a:spcBef>
                <a:spcPts val="938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3333cc"/>
                </a:solidFill>
                <a:latin typeface="Comic Sans MS"/>
              </a:rPr>
              <a:t>Water expansion and water encroachment delay the decline in reservoir pressure due to gas production, resulting in sustained higher well deliverability (for a given G</a:t>
            </a:r>
            <a:r>
              <a:rPr b="0" lang="en-GB" sz="1000" spc="-1" strike="noStrike" baseline="-25000">
                <a:solidFill>
                  <a:srgbClr val="3333cc"/>
                </a:solidFill>
                <a:latin typeface="Comic Sans MS"/>
              </a:rPr>
              <a:t>p</a:t>
            </a:r>
            <a:r>
              <a:rPr b="0" lang="en-GB" sz="1000" spc="-1" strike="noStrike">
                <a:solidFill>
                  <a:srgbClr val="3333cc"/>
                </a:solidFill>
                <a:latin typeface="Comic Sans MS"/>
              </a:rPr>
              <a:t>). Water breakthrough often marks the end of life for a gas well. For a number of reasons, the ultimate recovery may be lower for reservoirs with strong aquifer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457200">
              <a:lnSpc>
                <a:spcPct val="120000"/>
              </a:lnSpc>
              <a:spcBef>
                <a:spcPts val="938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a50021"/>
                </a:solidFill>
                <a:latin typeface="Comic Sans MS"/>
              </a:rPr>
              <a:t>Layered no-crossflow reservoirs show an early drop in p/Z followed by a longer period of slowly-decreasing (near-constant) p/Z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2325600" y="4064040"/>
                <a:ext cx="250992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r>
                      <m:t xml:space="preserve">=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Gp</m:t>
                        </m:r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" name=""/>
          <p:cNvSpPr/>
          <p:nvPr/>
        </p:nvSpPr>
        <p:spPr>
          <a:xfrm>
            <a:off x="5361120" y="1554120"/>
            <a:ext cx="125280" cy="647640"/>
          </a:xfrm>
          <a:custGeom>
            <a:avLst/>
            <a:gdLst>
              <a:gd name="textAreaLeft" fmla="*/ 0 w 125280"/>
              <a:gd name="textAreaRight" fmla="*/ 45360 w 12528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851040" y="4516560"/>
                <a:ext cx="545940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r>
                      <m:t xml:space="preserve">)</m:t>
                    </m:r>
                    <m:r>
                      <m:t xml:space="preserve">[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[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Gp</m:t>
                        </m:r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+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</m:den>
                    </m:f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GB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6" name="" descr=""/>
          <p:cNvPicPr/>
          <p:nvPr/>
        </p:nvPicPr>
        <p:blipFill>
          <a:blip r:embed="rId3"/>
          <a:srcRect l="12208" t="12082" r="15262" b="0"/>
          <a:stretch/>
        </p:blipFill>
        <p:spPr>
          <a:xfrm>
            <a:off x="1236600" y="824040"/>
            <a:ext cx="4330800" cy="3222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-notes (c) Curtis H. Whits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5472-C7BF-4D4C-97EE-78C2FC9B799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004A2E-8978-40A7-A201-96581A4E0009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228600"/>
            <a:ext cx="6324480" cy="21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Referen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1"/>
              </a:rPr>
              <a:t>Craft &amp; Hawkins, Ch.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2"/>
              </a:rPr>
              <a:t>Fetkovich</a:t>
            </a: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3"/>
              </a:rPr>
              <a:t>, Simplified Water Influx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33cc"/>
                </a:solidFill>
                <a:uFillTx/>
                <a:latin typeface="Comic Sans MS"/>
              </a:rPr>
              <a:t>Havlena-Odeh Water Influx</a:t>
            </a: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4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33cc"/>
                </a:solidFill>
                <a:uFillTx/>
                <a:latin typeface="Comic Sans MS"/>
              </a:rPr>
              <a:t>Fetkovich-Reese-Whitson, High-Pressure Gas Material Balance</a:t>
            </a: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5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33cc"/>
                </a:solidFill>
                <a:uFillTx/>
                <a:latin typeface="Comic Sans MS"/>
              </a:rPr>
              <a:t>Stewart, Multiwell p/z Analysis</a:t>
            </a: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6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1982880"/>
            <a:ext cx="63244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Examp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33cc"/>
                </a:solidFill>
                <a:uFillTx/>
                <a:latin typeface="Comic Sans MS"/>
              </a:rPr>
              <a:t>Gas Field Production Forecasting</a:t>
            </a: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7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66760" y="2840040"/>
            <a:ext cx="6324480" cy="58582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No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-notes (c) Curtis H. Whits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9E9E-821E-45B5-B235-24195E4A84E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CED6A4-0A10-494D-B0B2-030C4AEA272E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21:22:44Z</dcterms:created>
  <dc:creator>CHW</dc:creator>
  <dc:description/>
  <dc:language>en-US</dc:language>
  <cp:lastModifiedBy>Robert Mott</cp:lastModifiedBy>
  <dcterms:modified xsi:type="dcterms:W3CDTF">2004-02-16T09:58:29Z</dcterms:modified>
  <cp:revision>96</cp:revision>
  <dc:subject/>
  <dc:title>PowerPoint Presentation</dc:title>
</cp:coreProperties>
</file>