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10D-109B-443B-AC46-DC4F309D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2B3-9494-4B05-B5DC-89344894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A84-194C-415B-BF72-D091790C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1FD-D965-4162-9C84-BFC1214B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D1A-E518-408F-9F67-D3D658D6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266-96E8-4DAC-902F-F504461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D44-E212-46A9-93EF-2C66F7B2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F44-CDCA-4F5A-AADA-87D2CDAD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89B-A891-45E2-847A-80D2F2E5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FB7-DE33-4623-B679-A16FD80A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E9C-B23B-44C8-BD76-01D6571C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305-FFE3-4D39-935F-BD65D93F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F79-9327-4FC8-86A4-34D19D7D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74680"/>
            <a:ext cx="6172200" cy="64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GOR : 5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5 000 Sm3/S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OGR : 17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0 Sm3/(1E6 Sm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 : 0.5 – 12(-14) mol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Retrograde condensation (liquid dropout) – reduces liquid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blockage (productivity lo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revenues are an important part of the value of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CGR = condensate-gas ratio =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OGR = oil-gas ratio = C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39:21Z</dcterms:created>
  <dc:creator>CHW</dc:creator>
  <dc:description/>
  <dc:language>en-US</dc:language>
  <cp:lastModifiedBy>Robert Mott</cp:lastModifiedBy>
  <dcterms:modified xsi:type="dcterms:W3CDTF">2004-02-02T17:17:19Z</dcterms:modified>
  <cp:revision>7</cp:revision>
  <dc:subject/>
  <dc:title>PowerPoint Presentation</dc:title>
</cp:coreProperties>
</file>