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4A7-51FE-439B-B3ED-21C0F76B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33D-7852-47FB-9128-75B0E478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DBA-F72C-46FE-9895-2D4EFDEE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F901-9C3D-496F-A2E8-6252A1B9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6B7-9100-4C66-99B3-BE8F147F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C0E-76A0-4591-889C-C465F7CF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34A-F93F-4C94-9C32-5C342897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1F0-99F0-45E8-9B22-3F75B98F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B95-D33F-42FD-9738-663749B7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A9A-3A47-477C-A2CF-68F10980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8CC-BC93-456D-83B2-FBC73E8F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BBCC-5378-4044-A6A0-055833E9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9789-7BA4-4C75-A9A3-7C046D3EB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Craft&amp;Hawkins-Ch1.pdf" TargetMode="External"/><Relationship Id="rId3" Type="http://schemas.openxmlformats.org/officeDocument/2006/relationships/hyperlink" Target="file:///Fetkovich-Simplified-Water-Influx.pdf" TargetMode="External"/><Relationship Id="rId4" Type="http://schemas.openxmlformats.org/officeDocument/2006/relationships/hyperlink" Target="file:///spe22921-Fetkovich-Reese-Whitson.pdf" TargetMode="External"/><Relationship Id="rId5" Type="http://schemas.openxmlformats.org/officeDocument/2006/relationships/hyperlink" Target="file:///Havlena-Odeh.pdf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Fetkovich, Simplified Water Influx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Havlena-Odeh Water Influx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Bruns-Fetkovich, Effect of Water Influx on p/z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Robert Mott</cp:lastModifiedBy>
  <dcterms:modified xsi:type="dcterms:W3CDTF">2004-02-13T17:24:27Z</dcterms:modified>
  <cp:revision>7</cp:revision>
  <dc:subject/>
  <dc:title>Other e-note links</dc:title>
</cp:coreProperties>
</file>