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8696-D1F8-46BC-B7A4-E6395BA64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EC9E-CC95-41D5-8A86-8E290DD02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ACD9-3D6D-419D-A191-47496D5AD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B49E-A149-49E4-9538-917BA6F9C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1E7A-1AC6-452D-86A3-F172A4201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4244-A35C-40AF-9509-2F5C2312E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85D1-0A06-4FD0-AD72-279275ADE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43EE-E280-4CD4-83A1-D8B6C1CF6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5CCE-E209-4687-8086-114FD5F9E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8DD7-E6FC-44D7-A0C1-B13AC438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3F2B-8982-4C95-BD26-E8A07E98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6905-BC54-40C8-B0F4-1E28291E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7820E-31F1-4D93-9098-F748E02D87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057480"/>
            <a:ext cx="5791320" cy="35874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50840" indent="-1050840" algn="ctr">
              <a:lnSpc>
                <a:spcPct val="100000"/>
              </a:lnSpc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 u="sng">
                <a:solidFill>
                  <a:srgbClr val="000000"/>
                </a:solidFill>
                <a:uFillTx/>
                <a:latin typeface="Arial"/>
              </a:rPr>
              <a:t>CV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 algn="ctr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nb-NO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= 2-phase Z-fact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= pressure, bara or p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nb-NO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= dew point pressure, bara or p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nb-NO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= Z factor at dewpoin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g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cumulative wellstream (wet gas or moles) produced in CVD 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457200"/>
            <a:ext cx="5181480" cy="5814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ff3300"/>
                </a:solidFill>
                <a:latin typeface="Comic Sans MS"/>
              </a:rPr>
              <a:t>Two-Phase Z-fa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662040" y="1305000"/>
                <a:ext cx="5549760" cy="13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w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8:38:45Z</dcterms:created>
  <dc:creator>CHW</dc:creator>
  <dc:description/>
  <dc:language>en-US</dc:language>
  <cp:lastModifiedBy>Robert Mott</cp:lastModifiedBy>
  <dcterms:modified xsi:type="dcterms:W3CDTF">2004-01-19T17:32:07Z</dcterms:modified>
  <cp:revision>14</cp:revision>
  <dc:subject/>
  <dc:title>PowerPoint Presentation</dc:title>
</cp:coreProperties>
</file>