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8FD9-E78B-4E4F-96A4-BF83BD69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B6D-015A-4A0F-8B03-C2B7A4BE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64EC-493B-4768-99CA-EDB45C74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23A5-DC28-445E-A419-0D8807FE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E60B-E753-4AA2-A387-4EA61AEC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972-2FBD-4C34-A868-6DDC34A6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5D7-6D3F-4547-9F49-0F6BC366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025E-49D8-4628-AB5F-DCB8F5AD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054-6281-4C7A-AFC9-1AC61312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910-6068-43A0-BAA5-BBF9FB96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9D5-C60D-489B-B390-4ECB9B8A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811-E47B-4637-B022-CE799C73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57B1-B3AA-4FD4-9BBE-0864F3857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47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0000" y="30492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7-29T16:20:44Z</dcterms:modified>
  <cp:revision>4</cp:revision>
  <dc:subject/>
  <dc:title>PowerPoint Presentation</dc:title>
</cp:coreProperties>
</file>