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DB6C-61FE-4A76-AE4D-0A14E090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907F-7640-48CA-9919-3D96A434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8D5-6332-40AD-8BDD-A8683C33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7AB8-3529-4D8A-9797-FEA6160E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856E-7326-49D0-8041-71706C2F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12DB-8C37-4400-B643-AB79A303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5B31-6A9F-44EF-8807-B5F33B97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C019-F601-4869-859E-2FDDCC4B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E9CF-0A40-4483-BE49-8B8FF96E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8108-7FF4-47C9-8E7F-2B50BB48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28C1-6A4B-4A13-9BEC-D127C3FF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685D-02E4-4E78-890B-FA531F20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6C95-A569-456D-B727-07F2B0B62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imple radial simulation model results in 10 md reservoir – condensate blockage has a major impact on on well deliv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3080" y="1371600"/>
            <a:ext cx="8458200" cy="5197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29600" y="609588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imple radial simulation model results in 100 md reservoir – condensate blockage has little impact on well deliv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79250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8T15:36:41Z</dcterms:modified>
  <cp:revision>21</cp:revision>
  <dc:subject/>
  <dc:title>PowerPoint Presentation</dc:title>
</cp:coreProperties>
</file>