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BB84-EDC5-46F9-9199-2B43E34BF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ECE7-6051-43A2-934E-4495ED01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BC51-9325-4D11-A283-FA4D57EA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552A-B910-4E87-9577-120B2B900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5B31-6BD5-4A9A-884E-6F75E564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AA3C-AF29-4F77-A9AA-593DFABB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D10E-4CEB-4BF5-B720-D128BFC6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22A0-9805-4C2F-9807-5E8EE8C3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3915-99C4-4070-B120-F10B5CF4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BA4C-1B1F-4644-846F-F479EEFF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2892-F483-4143-8ED3-B06E6AAB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B18B-F010-45E9-9DE4-136FCA22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28B3-3AC5-4D78-886D-C5EF284AF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915400" cy="5477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10000" y="304920"/>
            <a:ext cx="53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Oil and gas recoveries calcu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from CCE and CV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3-07-29T16:20:44Z</dcterms:modified>
  <cp:revision>4</cp:revision>
  <dc:subject/>
  <dc:title>PowerPoint Presentation</dc:title>
</cp:coreProperties>
</file>