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9738-A6F4-4B54-A8CE-40C527146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6089-302E-411C-8893-4F7E3E17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B86C-38DB-44C6-B99D-CC3E50C60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7992-45E6-444E-9E0A-D3110E485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82B9-EB7B-4564-B969-832827EB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3DB2-20BE-4FF5-946F-72605636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38A4-950B-404D-AC7F-DF456873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0B91-97A5-45CA-8386-13D77518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E9A1-6FF2-4D15-A8BF-277A6AC3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4207-6B13-4447-ADAB-F6875DD7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8035-A6B8-4E5F-8A5F-0C07D467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1EFB-8901-40BB-85C1-CD1D4D91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B91A-4425-4794-858E-5BFFF1B63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22860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chematic of pressure and derivative composite behavior (a) two-region composite; (b) three-region composite (from SPE 629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774396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2:40:13Z</dcterms:modified>
  <cp:revision>20</cp:revision>
  <dc:subject/>
  <dc:title>PowerPoint Presentation</dc:title>
</cp:coreProperties>
</file>