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EC5A-1920-452F-B234-84E1CF3B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5490-A3C3-4491-944F-F24537E2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806-9C3D-42F1-8758-6255D7BE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7EC-2073-4497-BC0E-6870C989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A9A0-4A40-42BB-8BFE-DA78D51E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82C9-9F04-434B-96DB-2B1705AB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6B4-42E4-4A10-B613-955D8024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8C0-328D-4563-AF4B-E6438D7B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F17-3E91-4458-AE67-4CF9ABC3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DB5-E175-4E12-A9A5-F1103601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CD6-8B9A-47ED-8627-56328681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848-761B-485D-ABE0-BBE0ED58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8CA2-0EB4-42C7-B873-8A7D9A8C0CCA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A8A1-907D-4D5B-B38F-82E6F0378207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image" Target="../media/image1.wmf"/><Relationship Id="rId3" Type="http://schemas.openxmlformats.org/officeDocument/2006/relationships/hyperlink" Target="file:///TextBox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2240" y="2286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as Condensate Well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00200"/>
            <a:ext cx="3886200" cy="24969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4" name="">
            <a:hlinkClick r:id="rId3"/>
          </p:cNvPr>
          <p:cNvSpPr/>
          <p:nvPr/>
        </p:nvSpPr>
        <p:spPr>
          <a:xfrm>
            <a:off x="76320" y="5257800"/>
            <a:ext cx="6705360" cy="336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8320" y="1905120"/>
                <a:ext cx="18874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8320" y="3809880"/>
                <a:ext cx="19047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≈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317840" y="1219320"/>
            <a:ext cx="25992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1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ex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9960" y="3200400"/>
            <a:ext cx="2568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2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in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E3F-6476-4DC0-BE04-7B1D3BA25F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ABDAD-80D3-46BB-8321-328DD86F128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Practical Considerations in Gas Condensate Well Tes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Well Testing using a Single Phas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 Novel Methodology for 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06C8-C6AF-4121-B6C0-CB0571793F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FEB92-4274-4508-BC59-EB8F5B6A387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26:25Z</dcterms:modified>
  <cp:revision>76</cp:revision>
  <dc:subject/>
  <dc:title>PowerPoint Presentation</dc:title>
</cp:coreProperties>
</file>