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521-9BFE-498B-8E1C-80AA5A07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18A-C9D0-4EE2-A00E-A1599636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40A-92B7-4B44-983B-1D0B431A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34D-94AB-4ADB-B655-EE2DC0ED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B82-01D5-49BB-A431-131EA888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47C-B9DA-4814-8A12-61A0986C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BC2-4C98-451A-A5F2-F78EDABE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0B0-B807-4F21-BA71-E18696E0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B63-BD27-4BC9-88BE-74B6BAE9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449-BE6C-43C6-9638-40022FAD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4B3-C39D-4519-8E35-EE2CCABC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003-2066-4825-A025-735BD585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7351-AC50-4CB4-BD96-CDDC007A1D7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E9FB-6AB3-456C-B6CD-0E6F1758AE27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609480"/>
            <a:ext cx="52531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D coefficient can be estimated from well and rock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2209680"/>
                <a:ext cx="39038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sSub>
                          <m:e>
                            <m:r>
                              <m:t xml:space="preserve">βkγ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h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452520" y="3886200"/>
            <a:ext cx="5952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 is in 1/(Mscf/d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non-Darcy flow coefficient (in 1/f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gas gravity (air = 1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l other properties in field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3040" y="7162920"/>
            <a:ext cx="53704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400800"/>
            <a:ext cx="5790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Comic Sans MS"/>
              </a:rPr>
              <a:t>This equation assumes radial flow. It often underestimates the importance of non-Darcy flow – perhaps due to non-radial flow near the well perforatio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4C2-073A-48B2-A65D-D1FE9A5DC92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5FC16-BED7-43FE-8AB0-023DE0D6EC8F}" type="datetime3">
              <a:rPr lang="en-US"/>
              <a:t>July 30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761760"/>
            <a:ext cx="5253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Correlations for Non-Darcy flow coefficient vs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282-7B45-43D1-A9E9-5E52549C34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7073F-E328-4B69-A02E-1EA964E26D41}" type="datetime3">
              <a:rPr lang="en-US"/>
              <a:t>July 30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5:49:51Z</dcterms:modified>
  <cp:revision>81</cp:revision>
  <dc:subject/>
  <dc:title>PowerPoint Presentation</dc:title>
</cp:coreProperties>
</file>