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BE7-33F6-426E-A920-3BEAA1EB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9BB-031E-464D-B63D-5C03C48D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883-4B4B-4F5D-9F42-C66839F1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7DB-BDFA-49F4-835B-1D45D812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E42-751B-4AB3-AD37-8F877D6E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DFF-03E4-41B9-80C6-EA8B01B9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BD3-CFD5-44FA-9F08-6A198E0A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0FB-18B4-46B1-AB6C-28D4F56B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792-A95C-47C6-9D85-B3652FDE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EED-97BB-4A11-8D96-EEDBE430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FFB-4724-4CFF-B256-BE63D567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3E6-DF25-4F24-80C1-99818BCE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71E2-470D-447F-AA96-3FE18E4CD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6234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8:11:33Z</dcterms:modified>
  <cp:revision>23</cp:revision>
  <dc:subject/>
  <dc:title>PowerPoint Presentation</dc:title>
</cp:coreProperties>
</file>