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385-17A1-44D0-BBA0-528320EC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226-C6AC-4009-82CE-23650862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4F4-E7DD-4F27-8043-AA815935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5F7-9A23-4FA8-8838-D611C9F3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B60-8FBE-4708-9FF6-2742AB4A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22A-B8FA-490D-BBEE-B2B2D6A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9E8-F1C8-4AD6-B5D9-2ECC8FEF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D69-B2C8-4317-BA80-23451578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870-B120-42E2-B1DD-5B8CF415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C6D-0F3E-47F8-9F80-50660CC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0C5-59A4-441A-9F95-478D455E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275-F75B-4D22-BD60-979984D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B9D9-617E-47F0-9F8F-A3F1B31280B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8547-E37B-41D7-AB8D-D405A4156B6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GC-Papers/SPE28749-Arun.pdf" TargetMode="External"/><Relationship Id="rId3" Type="http://schemas.openxmlformats.org/officeDocument/2006/relationships/hyperlink" Target="file:///../../GC-Papers/TIPM-Whitson-Fevang-Saevareid-GC-RelPerm.pdf" TargetMode="External"/><Relationship Id="rId4" Type="http://schemas.openxmlformats.org/officeDocument/2006/relationships/hyperlink" Target="file:///../../GC-Papers/TIPM-Whitson-Fevang-Saevareid-GC-RelPerm.pdf" TargetMode="External"/><Relationship Id="rId5" Type="http://schemas.openxmlformats.org/officeDocument/2006/relationships/hyperlink" Target="file:///../../E-NOTES/GC-PAPERS/SPE56476-FEVANG-WHITSON-GC-RELPERM.PDF" TargetMode="External"/><Relationship Id="rId6" Type="http://schemas.openxmlformats.org/officeDocument/2006/relationships/hyperlink" Target="file:///../../GC-Papers/IBC1997Paper.pdf" TargetMode="External"/><Relationship Id="rId7" Type="http://schemas.openxmlformats.org/officeDocument/2006/relationships/hyperlink" Target="file:///../../GC-Papers/SPE86298-Mott.pdf" TargetMode="External"/><Relationship Id="rId8" Type="http://schemas.openxmlformats.org/officeDocument/2006/relationships/hyperlink" Target="file:///../../GC-Papers/SPE86298-Mott.pdf" TargetMode="External"/><Relationship Id="rId9" Type="http://schemas.openxmlformats.org/officeDocument/2006/relationships/hyperlink" Target="file:///../GC-RATE-EXAMPLE+RESULTS.PPT" TargetMode="External"/><Relationship Id="rId10" Type="http://schemas.openxmlformats.org/officeDocument/2006/relationships/hyperlink" Target="file:///../Calculate-krg_kro.xls" TargetMode="External"/><Relationship Id="rId11" Type="http://schemas.openxmlformats.org/officeDocument/2006/relationships/hyperlink" Target="file:///../Calculate-krg_kro.xls" TargetMode="External"/><Relationship Id="rId12" Type="http://schemas.openxmlformats.org/officeDocument/2006/relationships/hyperlink" Target="file:///../Calculate-krg_kro.xls" TargetMode="External"/><Relationship Id="rId13" Type="http://schemas.openxmlformats.org/officeDocument/2006/relationships/hyperlink" Target="file:///../Calculate-krg_kro.xls" TargetMode="External"/><Relationship Id="rId14" Type="http://schemas.openxmlformats.org/officeDocument/2006/relationships/hyperlink" Target="file:///../Calculate-krg_kro.xls" TargetMode="External"/><Relationship Id="rId15" Type="http://schemas.openxmlformats.org/officeDocument/2006/relationships/hyperlink" Target="file:///../Calculate-krg_kro.xls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88C-454C-48D9-9A5F-B948621C24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FA0CA-EBAF-47E8-BE05-27C9F262D8A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Gas Condensate R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3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4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5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ED2-DADB-4BB9-A315-D936ADF738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0ACC6-F2A5-4525-97B8-ABD3AC49C2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 </cp:lastModifiedBy>
  <dcterms:modified xsi:type="dcterms:W3CDTF">2004-09-17T11:54:21Z</dcterms:modified>
  <cp:revision>66</cp:revision>
  <dc:subject/>
  <dc:title>PowerPoint Presentation</dc:title>
</cp:coreProperties>
</file>