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F49-017B-47E4-8DD2-F3A6979E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5B0-8131-4570-AF86-BB0811EF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F46-5F9D-4300-ACBC-9B435580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A37-CF05-4599-9E9A-B5C5C034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74E-2B4D-4758-8C5F-46174507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601-3948-4023-A549-7550A0E2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076-566B-4E6C-AF90-C5D82D82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B84-BEA0-494C-AF2D-F5CB1EC3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66D-C3EC-40A2-8DD8-60E25BB2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5FC-C152-40E4-9417-30A460C9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BA6-8F6F-4E81-9376-C2523BB5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7F6-4D82-4DA9-94D8-25D383A0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CDFA-0551-4F84-B47B-FE3809F45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alidation of coarse grid + GPP approach by comparison with fine gri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2560" y="966960"/>
            <a:ext cx="72388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02:42Z</dcterms:modified>
  <cp:revision>20</cp:revision>
  <dc:subject/>
  <dc:title>PowerPoint Presentation</dc:title>
</cp:coreProperties>
</file>