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032-4D78-4A84-BA9D-A3056BDF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755-C6C5-4CCE-93C5-E747E2F1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2D2-AFFF-4252-B4E0-96D93873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474-9226-4DB3-B544-363A9218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9A6-C251-435D-BEF3-1633282B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5896-F251-4C82-A707-7AC9168A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F8F-29BF-47A8-89EF-227A5239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B34-2F9D-4F5D-AF14-D8B60CDE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50B-DAFC-4387-B535-7A14126B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D09-F863-4D98-84CE-C9BB690B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820-0C7C-4861-A1BA-6F74338A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8E1-1E30-46C4-937A-23EFF5EF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0FC2-C628-4228-9FB8-00636EBEF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4160" y="22860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39760"/>
            <a:ext cx="930744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13:53Z</dcterms:modified>
  <cp:revision>5</cp:revision>
  <dc:subject/>
  <dc:title>PowerPoint Presentation</dc:title>
</cp:coreProperties>
</file>