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C11A-786B-4DBC-BD34-7013D60B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B742-0874-458C-A766-152F94E6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819D-1DC3-4CC5-B15A-3D7A1EFF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7691-2F13-4DEB-93AF-3D595FAB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99E2-F568-4031-811F-6429AF39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F612-A32D-46E7-8B54-65616B8F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35B8-108C-44FF-8C3A-D70AD45F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7DCB-1532-4691-BEDF-5E1C86CD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14B-580A-4A70-829A-8859DF9A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58E1-3288-46CF-A66C-9653A6A7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42AA-A326-4D14-A349-484D81BE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B76D-422D-4C85-9421-83435151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1908-430C-41FC-AD7B-DC06DACBA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806400"/>
            <a:ext cx="8534160" cy="5243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2480" y="380880"/>
            <a:ext cx="8956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emilog plot of SCN mole fraction versus Carbon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0T17:15:21Z</dcterms:modified>
  <cp:revision>19</cp:revision>
  <dc:subject/>
  <dc:title>PowerPoint Presentation</dc:title>
</cp:coreProperties>
</file>