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F160-7980-4E30-914A-CB23B04D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B87D-AD32-4944-BEDC-C65B6B88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B5CC-7925-417E-92C8-2556FCBF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AFC-9B0C-4800-9E92-A738D066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F731-CF5D-4DBD-B515-63D73817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725C-2ABA-4725-B78F-0D1A2DE0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985-CEEA-47F2-A123-6B59D97D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FDD4-30F5-4B59-9BEC-254A575E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27BE-B72C-46C8-89C6-1915DEF8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56BF-9F02-41EF-B125-71C87710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9994-BF39-4931-8053-4438CFE4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A920-11F9-431B-AA5E-26531510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2EF5-77F0-4969-B2A2-91483A3E6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52480" y="1752480"/>
            <a:ext cx="24386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hange in pseudo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2514600"/>
            <a:ext cx="2286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3886200"/>
            <a:ext cx="2438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dm(P)/dlog(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476760" y="4648320"/>
            <a:ext cx="60948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53280" y="61722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19320" y="3962520"/>
            <a:ext cx="6705360" cy="0"/>
          </a:xfrm>
          <a:prstGeom prst="line">
            <a:avLst/>
          </a:prstGeom>
          <a:ln w="3492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5181480"/>
            <a:ext cx="6705360" cy="0"/>
          </a:xfrm>
          <a:prstGeom prst="line">
            <a:avLst/>
          </a:prstGeom>
          <a:ln w="349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429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nner zone (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4572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outer zone (outside 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396252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676520"/>
            <a:ext cx="3886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he difference between the two lines (about 0.2) shows the ratio between krg in the two z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2895480"/>
            <a:ext cx="175248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2:28:33Z</dcterms:modified>
  <cp:revision>20</cp:revision>
  <dc:subject/>
  <dc:title>PowerPoint Presentation</dc:title>
</cp:coreProperties>
</file>