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B71-95FF-4442-8E39-1D628587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1B8-3BF7-4D10-AA1C-40C171A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7BF-168A-4F69-9AB8-0EB746B6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C3F-014E-431E-972B-D4B34E07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E48-C125-44EE-9705-D9E52BC4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E27-5F7C-4290-B10C-BC709E87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E9A-7260-4A08-9C22-BABEC66E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FE5-D868-4D15-A5B3-81DEB216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E09-A273-4D66-82F9-31761540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2A8-5E97-4F88-ABFE-5E094F87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368-95E5-435F-AF4F-343DD14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81E-4BF2-4C64-A02E-8F77D4A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D8BC-8B54-44F6-A739-4D4686BD9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20T11:54:26Z</dcterms:modified>
  <cp:revision>21</cp:revision>
  <dc:subject/>
  <dc:title>PowerPoint Presentation</dc:title>
</cp:coreProperties>
</file>