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A32E-79A1-4111-A02F-2867C9E8AE0C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C77D-A1C5-4088-B625-BC613357C54C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..%5C..%5CE-NOTES/GC-RESERVOIRS/TEXTBOX.PPT" TargetMode="External"/><Relationship Id="rId3" Type="http://schemas.openxmlformats.org/officeDocument/2006/relationships/hyperlink" Target="file:///..%5C..%5CE-NOTES/GC-RESERVOIRS/TEXTBOX.PPT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C_res_comp.da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40560" y="2286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eservo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5800" y="2209680"/>
            <a:ext cx="60246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ecoveries of oil and gas from depletion and from gas recycling in a rich gas condensat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y gas cycling is usually uneconomic (unless there is no route for gas sales), even though it leads to higher oil recov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arison of compositional and black oil simula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319680" y="228600"/>
            <a:ext cx="41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/>
          </p:cNvPr>
          <p:cNvSpPr/>
          <p:nvPr/>
        </p:nvSpPr>
        <p:spPr>
          <a:xfrm>
            <a:off x="415800" y="1066680"/>
            <a:ext cx="6024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3D model with 9 x 9 x 4 grid – based on 3</a:t>
            </a:r>
            <a:r>
              <a:rPr b="0" lang="en-US" sz="20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ne injection well and one production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ome heterogeneity between lay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Production well not on edge of model – some of the reservoir will not be swept by injection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/>
          </p:cNvPr>
          <p:cNvSpPr/>
          <p:nvPr/>
        </p:nvSpPr>
        <p:spPr>
          <a:xfrm>
            <a:off x="415800" y="6858000"/>
            <a:ext cx="6024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ich gas condensate fluid (180 bbl/MMsc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w point pressure 6765 psi. Initial reservoir pressure 7000 ps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008080" y="3733920"/>
            <a:ext cx="2841840" cy="2746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7000" y="3938760"/>
            <a:ext cx="1540080" cy="631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je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 layers 1 and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191120"/>
            <a:ext cx="762120" cy="1522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5791320"/>
            <a:ext cx="167652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rodu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n layers 3 and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733920" y="5486040"/>
            <a:ext cx="1218960" cy="609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43280" y="3733920"/>
            <a:ext cx="2971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il saturations, layer 2, after 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92560" y="60948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velop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5600" y="1477800"/>
            <a:ext cx="629748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imiting BHP = 1500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inimum gas rate 0.5 MMscf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360" y="4267080"/>
            <a:ext cx="629748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Gas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Inject all produced gas for 5 years or 10 yea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Then shut in injection well and produce by deple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8360" y="228600"/>
            <a:ext cx="46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exerc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760" y="1143000"/>
            <a:ext cx="6324480" cy="74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un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Sensor compositional model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for three scenari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pletion </a:t>
            </a:r>
            <a:r>
              <a:rPr b="1" lang="en-US" sz="1400" spc="-1" strike="noStrike">
                <a:solidFill>
                  <a:srgbClr val="008000"/>
                </a:solidFill>
                <a:latin typeface="Wingdings"/>
                <a:ea typeface="Wingdings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5 years, then depletion </a:t>
            </a:r>
            <a:r>
              <a:rPr b="1" lang="en-US" sz="1400" spc="-1" strike="noStrike">
                <a:solidFill>
                  <a:srgbClr val="008000"/>
                </a:solidFill>
                <a:latin typeface="Wingdings"/>
                <a:ea typeface="Wingdings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10 years, then depletion </a:t>
            </a:r>
            <a:r>
              <a:rPr b="1" lang="en-US" sz="1400" spc="-1" strike="noStrike">
                <a:solidFill>
                  <a:srgbClr val="008000"/>
                </a:solidFill>
                <a:latin typeface="Wingdings"/>
                <a:ea typeface="Wingdings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ook at final recoveries of oil and gas for each scenario.  The ‘FIELD SUMMARY’ at the end of the output file gives a table of results which can be copied into an Excel spreadshe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alculate NPV of oil and gas revenues. Assume 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il price = $20 /bbl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price = $3 / MMscf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net discount rate =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epeat calculations for first two scenarios using Sensor Black Oil Model. (Sensor has a very simple way of converting a compositional model to Black Oil.)  Compare results of Black Oil and Compositional mod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2:44Z</dcterms:modified>
  <cp:revision>87</cp:revision>
  <dc:subject/>
  <dc:title>PowerPoint Presentation</dc:title>
</cp:coreProperties>
</file>