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4693-CBA5-49E6-857E-730953AFB3B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1EDC-F4F9-43A7-A350-14EFB0741394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RADIAL10.DAT" TargetMode="External"/><Relationship Id="rId2" Type="http://schemas.openxmlformats.org/officeDocument/2006/relationships/hyperlink" Target="file:///RADIAL10.DAT" TargetMode="External"/><Relationship Id="rId3" Type="http://schemas.openxmlformats.org/officeDocument/2006/relationships/hyperlink" Target="file:///RADIAL10.DAT" TargetMode="External"/><Relationship Id="rId4" Type="http://schemas.openxmlformats.org/officeDocument/2006/relationships/hyperlink" Target="file:///RADIAL_MODKR.DAT" TargetMode="External"/><Relationship Id="rId5" Type="http://schemas.openxmlformats.org/officeDocument/2006/relationships/hyperlink" Target="file:///RADIAL_MODKR.DAT" TargetMode="External"/><Relationship Id="rId6" Type="http://schemas.openxmlformats.org/officeDocument/2006/relationships/hyperlink" Target="file:///RADIAL_MODKR.DAT" TargetMode="External"/><Relationship Id="rId7" Type="http://schemas.openxmlformats.org/officeDocument/2006/relationships/hyperlink" Target="file:///radial_10md_rock.out" TargetMode="External"/><Relationship Id="rId8" Type="http://schemas.openxmlformats.org/officeDocument/2006/relationships/hyperlink" Target="file:///RADIAL_10MD_MODKR.OUT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01680" y="2286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1447920"/>
            <a:ext cx="541008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 the fundamental relative permeability relationship affecting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fundamental relationship which determines condensate blockage is krg as a function of the ratio krg/k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 the condensate bank, the ratio krg/kro (a sort of fractional flow)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an be determined from the flowing OGR (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 and the PVT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676520" y="7010280"/>
                <a:ext cx="2895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 perms for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1447920"/>
            <a:ext cx="5143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ider two different sets of gas-oil rel perm cur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The blue curves have a critical condensate saturation of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blue curves have a critical condensate saturation of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6858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/>
          </p:cNvPr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l perms for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7160" y="198108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ut both sets of rel perm curves have the same krg vs krg/kro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6858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8000" y="1447920"/>
            <a:ext cx="6100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un 1D Sensor model for 10 md reservoir with these two sets of rel perm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5800" y="2666880"/>
            <a:ext cx="598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Original (blue)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rel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Modified (red)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rel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4040" y="4572000"/>
            <a:ext cx="628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8000" y="4191120"/>
            <a:ext cx="6022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r use these output files for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Ca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8"/>
              </a:rPr>
              <a:t>Case B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mpare oil saturations at 4 years and gas production pro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il saturations after 4 years’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9200" y="2057400"/>
            <a:ext cx="561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Different rel perms give different saturations in the condensate ban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6858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production pro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2193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ut the different rel perms give almost identical gas production pro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6858000" cy="421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9040" y="647712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krg vs krg/kro is the primary relationship which determines the effect of condensate blockage. Saturations (including critical condensate saturation) are much less importa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860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odeling Gas Condensate Well Deliver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of Relative Permeability for calculating Gas Condensate Well Deliver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3T16:54:27Z</dcterms:modified>
  <cp:revision>102</cp:revision>
  <dc:subject/>
  <dc:title>PowerPoint Presentation</dc:title>
</cp:coreProperties>
</file>