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7928-27E7-4D17-95F7-DB5C06B4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8071-3D85-4CBC-BE8B-29845ADE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273D-CB51-4419-A6FA-DC55819F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E9B9-71F7-4DDA-A75D-1F301A50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3F03-F1F3-4036-ADFD-D0E712E3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ED59-276D-4E1F-8518-41A46225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612F-F4B8-4647-A5B1-23B421A8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95F0-6D88-4A22-824F-46C06D0F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B3B8-A077-4CE3-AD10-CD1B9351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1888-A8B3-418D-AC60-C70B0E67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9817-B75C-491B-9F92-729207BC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B3AE-0C22-4289-A86B-B9D72BF7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C900-73C0-4487-89D0-AED0E9421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6858000" cy="603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90920" y="1752480"/>
            <a:ext cx="1447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itical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33920" y="205740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62720" y="1600200"/>
            <a:ext cx="0" cy="4267080"/>
          </a:xfrm>
          <a:prstGeom prst="line">
            <a:avLst/>
          </a:prstGeom>
          <a:ln w="507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487692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30% 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4191120"/>
            <a:ext cx="1143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cc"/>
                </a:solidFill>
                <a:latin typeface="Arial"/>
              </a:rPr>
              <a:t>20% 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3962520"/>
            <a:ext cx="685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4800600"/>
            <a:ext cx="685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80120" y="990720"/>
            <a:ext cx="16635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nitial reservo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562360" y="1523880"/>
            <a:ext cx="5331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1905120"/>
            <a:ext cx="1828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ew point 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Reservoir tem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562360" y="24382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1280" y="152280"/>
            <a:ext cx="62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-T diagram for gas condensate reserv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1T11:33:54Z</dcterms:modified>
  <cp:revision>12</cp:revision>
  <dc:subject/>
  <dc:title>PowerPoint Presentation</dc:title>
</cp:coreProperties>
</file>