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94D-1380-476A-BAC8-C2A8BAEC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923-FA23-472B-A507-447F3C8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999-2BD8-447D-8E6F-52AA0F59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832-F787-4E09-9406-32D92D3E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9C0-E134-4B55-975C-C0757BC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75E-2AEA-4AF5-96E1-64970192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241-5AB0-4F4D-9EAC-79DE8D3A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548-7558-4A21-817D-3105F4A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119-48B7-4616-BCEB-AB3E4291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94F-BD11-4E4B-AED7-572E6696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AF6-06EC-4A60-B653-F0AAC79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829-A1B5-4FAD-8569-CE5BC3B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959E-71F0-40A4-BDE5-F01DEF726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68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3-09-09T13:54:31Z</dcterms:modified>
  <cp:revision>22</cp:revision>
  <dc:subject/>
  <dc:title>PowerPoint Presentation</dc:title>
</cp:coreProperties>
</file>