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BE9F-1E07-415D-8300-46D325A19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5C79-22DA-4E7A-A6FD-91AB58FB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71D3-4D63-4F70-909C-5D314DC46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BD45-1024-497A-B118-308B6F091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AA3D-0237-4FA0-AA84-F24B681C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05C0-F463-4062-B432-0F60D53B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19BD-03CE-4B3C-BD96-6CC8297C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2CFF-F481-41DD-BA0B-FC81EC76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8BCD-6766-4255-93E2-9F9F5372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E4E7-5827-4B76-916D-0252B4CD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2147-E388-4D49-A7D0-837B0D9B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722E-B5D5-4305-9487-0F103FA9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88C9-370A-413B-849B-30473E008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ear-well rel perm data – krg versus Nc at fixed krg/k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14680" y="1346040"/>
            <a:ext cx="57150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9T16:54:39Z</dcterms:modified>
  <cp:revision>20</cp:revision>
  <dc:subject/>
  <dc:title>PowerPoint Presentation</dc:title>
</cp:coreProperties>
</file>