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A4B0-F70B-4C46-A85E-9E0C391D6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466E-D4D3-4052-95C9-6AA9718B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179A-D175-41B1-AAB5-E0E96E26E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1EA3-D7EA-4B12-9917-6CBB5EC11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BC54-B40F-4C6A-AFF0-99FCAAD5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A208-DE02-44F8-89BA-8F9642C3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9513-07E0-4A03-B324-C40B6485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5F13-125D-44A4-8BB0-6C123B09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669B-1AEB-442D-B288-CAC41948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B0E8-52EF-4A8F-9814-6525D024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0774-26E7-4CE8-86E8-4F6191AD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DA1B-A83D-4E9B-8D86-CA719BD8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EB8F-C5C1-4B90-A48D-7D35050F9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380880"/>
            <a:ext cx="628632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General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047600" y="1919160"/>
                <a:ext cx="437832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a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311120" y="990720"/>
                <a:ext cx="35053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1033560" y="5334120"/>
            <a:ext cx="478944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surface gas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units conversion factor (see next sli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perme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total thick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external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wellbor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steady-state total s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rate-dependent skin co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w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wellbore flowing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volumetric average reservoir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gas visco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gas Z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gas formation volume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143000" y="3936960"/>
                <a:ext cx="185724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μZ</m:t>
                            </m:r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790800" y="3903840"/>
                <a:ext cx="1859040" cy="13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B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322092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60880" y="429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85160" y="3384720"/>
            <a:ext cx="38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seudopressur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72200" y="86104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5840" y="304920"/>
            <a:ext cx="628632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Gas Rate Equation in Field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757080" y="4038480"/>
                <a:ext cx="534384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1127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h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f</m:t>
                            </m:r>
                          </m:sub>
                        </m:sSub>
                      </m:sub>
                      <m:sup>
                        <m:sSub>
                          <m:e/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B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676440" y="5638680"/>
            <a:ext cx="5503680" cy="34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surface gas rate, scf/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permeability, 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total thickness, 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external radius, 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wellbore radius, 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steady-state total sk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rate-dependent skin coefficient, 1/(scf/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reservoir temperature, deg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w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wellbore flowing pressure, p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volumetric average reservoir pressure, p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gas viscosity, 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gas Z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gas formation volume factor, res.bbl/s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60880" y="429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547560" y="914400"/>
                <a:ext cx="576108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h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f</m:t>
                            </m:r>
                          </m:sub>
                        </m:sSub>
                      </m:sub>
                      <m:sup>
                        <m:sSub>
                          <m:e/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μZ</m:t>
                            </m:r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74600" y="2666880"/>
                <a:ext cx="650880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h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6172200" y="86104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3880" y="457200"/>
            <a:ext cx="422928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Pseudopressure integ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880" y="429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6620040" cy="5143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395440" y="3048120"/>
            <a:ext cx="2286000" cy="3124080"/>
          </a:xfrm>
          <a:custGeom>
            <a:avLst/>
            <a:gdLst/>
            <a:ahLst/>
            <a:rect l="l" t="t" r="r" b="b"/>
            <a:pathLst>
              <a:path w="1440" h="1968">
                <a:moveTo>
                  <a:pt x="0" y="1968"/>
                </a:moveTo>
                <a:lnTo>
                  <a:pt x="0" y="672"/>
                </a:lnTo>
                <a:lnTo>
                  <a:pt x="96" y="480"/>
                </a:lnTo>
                <a:lnTo>
                  <a:pt x="240" y="288"/>
                </a:lnTo>
                <a:lnTo>
                  <a:pt x="336" y="192"/>
                </a:lnTo>
                <a:lnTo>
                  <a:pt x="384" y="144"/>
                </a:lnTo>
                <a:lnTo>
                  <a:pt x="480" y="96"/>
                </a:lnTo>
                <a:lnTo>
                  <a:pt x="576" y="48"/>
                </a:lnTo>
                <a:lnTo>
                  <a:pt x="720" y="0"/>
                </a:lnTo>
                <a:lnTo>
                  <a:pt x="816" y="0"/>
                </a:lnTo>
                <a:lnTo>
                  <a:pt x="912" y="0"/>
                </a:lnTo>
                <a:lnTo>
                  <a:pt x="1056" y="0"/>
                </a:lnTo>
                <a:lnTo>
                  <a:pt x="1200" y="0"/>
                </a:lnTo>
                <a:lnTo>
                  <a:pt x="1248" y="0"/>
                </a:lnTo>
                <a:lnTo>
                  <a:pt x="1296" y="0"/>
                </a:lnTo>
                <a:lnTo>
                  <a:pt x="1440" y="48"/>
                </a:lnTo>
                <a:lnTo>
                  <a:pt x="1440" y="1968"/>
                </a:lnTo>
                <a:lnTo>
                  <a:pt x="0" y="196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6705720"/>
            <a:ext cx="76212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6705720"/>
            <a:ext cx="76176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Pw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981080" y="6172200"/>
            <a:ext cx="45720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4724280" y="6172200"/>
            <a:ext cx="53352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14360" y="7848720"/>
            <a:ext cx="4229280" cy="8254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3333cc"/>
                </a:solidFill>
                <a:latin typeface="Comic Sans MS"/>
              </a:rPr>
              <a:t>Gas rate is proportional to area under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4-03-02T14:46:15Z</dcterms:modified>
  <cp:revision>34</cp:revision>
  <dc:subject/>
  <dc:title>PowerPoint Presentation</dc:title>
</cp:coreProperties>
</file>