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8DB8-8B9A-4722-B069-673E429A04D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8E3-51D2-43C1-BF09-BBAEAAC09BB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8240" y="816120"/>
            <a:ext cx="6719760" cy="699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520" y="7115040"/>
            <a:ext cx="6367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P-T diagram of a reservoir fluid illustrating different types of depletion reservoirs</a:t>
            </a:r>
            <a:r>
              <a:rPr b="1" lang="en-GB" sz="1400" spc="-1" strike="noStrike">
                <a:solidFill>
                  <a:srgbClr val="231f20"/>
                </a:solidFill>
                <a:latin typeface="Helvetica-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10360" cy="868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440" y="777240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omic Sans MS"/>
              </a:rPr>
              <a:t>Spectrum of reservoir fluids in order of increasing chemical complexity from wet gas to black oil (from Cronqui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93880"/>
            <a:ext cx="6858000" cy="47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8580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Change in phase envelope during the depletion of a gas conden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55:55Z</dcterms:modified>
  <cp:revision>96</cp:revision>
  <dc:subject/>
  <dc:title>PowerPoint Presentation</dc:title>
</cp:coreProperties>
</file>