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AA8-58C5-4C27-913B-64AF1F6B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CB0-B690-4A3B-ADB4-37D3C92E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AC3-7861-4AFC-89C4-195F5125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E1E-3AB7-4D81-8FC3-6979BAA5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6EB-CCA0-4235-958F-BE18E880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7CE-28E3-4790-92D6-B9B3A6E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83C-374D-4C71-B0D8-D3625898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F82-1679-4953-980A-C7CABE2B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1AD-4EAA-4F22-8E3B-F16E834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E8F-1FE3-47A8-B353-6EC89C6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2FB-CFE9-42CA-848F-BA3F1739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CEC-A184-462F-9897-D4E9C60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E37-D910-4B3C-B816-025F4A24D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densate-blockage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961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3-05T11:18:01Z</dcterms:modified>
  <cp:revision>18</cp:revision>
  <dc:subject/>
  <dc:title>PowerPoint Presentation</dc:title>
</cp:coreProperties>
</file>