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C4B-A694-455A-BC70-F46AF637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47E-E04E-4580-8D1A-1B5C398D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F41-195E-4E51-ADD4-0C82A9DA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AF7-D55D-43DC-AFB4-3FB9ECD4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7ED-9E63-48A8-B475-B8EE446C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2E1-379C-4866-835C-7CDEC054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C96-88AB-4142-A017-24C52834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D8E-6AB1-4557-96A6-B545E546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35F-7D21-4379-A38C-4733AC12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04B-71E3-4A97-955A-C7EA3D59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4B6-B464-4086-B870-92FC7061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027-1337-4097-B1FC-4A80F967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1E81-F2E3-477C-9788-6C7CCC2FA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376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16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6T11:24:45Z</dcterms:modified>
  <cp:revision>7</cp:revision>
  <dc:subject/>
  <dc:title>PowerPoint Presentation</dc:title>
</cp:coreProperties>
</file>