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DD3D-DEAE-4CA2-888B-EFCF47737F55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B7E7-981D-4EE1-AE54-758DCE85934E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..%5C..%5CE-NOTES/GC-RESERVOIRS/TEXTBOX.PPT" TargetMode="External"/><Relationship Id="rId3" Type="http://schemas.openxmlformats.org/officeDocument/2006/relationships/hyperlink" Target="file:///..%5C..%5CE-NOTES/GC-RESERVOIRS/TEXTBOX.PPT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C_res_comp.dat" TargetMode="External"/><Relationship Id="rId2" Type="http://schemas.openxmlformats.org/officeDocument/2006/relationships/hyperlink" Target="file:///GC_res_d_comp.out" TargetMode="External"/><Relationship Id="rId3" Type="http://schemas.openxmlformats.org/officeDocument/2006/relationships/hyperlink" Target="file:///GC_res_c5_comp.out" TargetMode="External"/><Relationship Id="rId4" Type="http://schemas.openxmlformats.org/officeDocument/2006/relationships/hyperlink" Target="file:///GC_res_c10_comp.out" TargetMode="External"/><Relationship Id="rId5" Type="http://schemas.openxmlformats.org/officeDocument/2006/relationships/hyperlink" Target="file:///GC_res_d_comp_summary.out" TargetMode="External"/><Relationship Id="rId6" Type="http://schemas.openxmlformats.org/officeDocument/2006/relationships/hyperlink" Target="file:///GC_res_bo.dat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40560" y="2286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eservoi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using a simplified simulation model to demons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5800" y="2209680"/>
            <a:ext cx="60246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Recoveries of oil and gas from depletion and from gas recycling in a rich gas condensate reservo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y gas cycling is usually uneconomic (unless there is no route for gas sales), even though it leads to higher oil recove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mparison of compositional and black oil simula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080" y="228600"/>
            <a:ext cx="528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mparison of black oil and compositional model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752480"/>
            <a:ext cx="594360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lack oil and compositional models give almost identical results for depletion. Published results for full field models confirm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or gas cycling, black oil overestimates oil recovery. Final recovery is overestimated by about 6% in this c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rrors due to black oil model of gas cycling may still be small compared with uncertainties due to reservoir description or PVT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Run times are 3 - 10 times longer for compositional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228600"/>
            <a:ext cx="632448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Kenyon &amp; Behie - 3rd SPE Comparative Solution Project SPE 122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Coats - Simulation of Gas Condensate reservoir Performance SPE 105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vang Whitson – Black Oil vs Compositional Simulation Comparison SPE 6308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El Banbi et al – Black Oil vs Compositional Simulation Comparison for Full Field Gas Condensate Model SPE 58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048120"/>
            <a:ext cx="632448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319680" y="228600"/>
            <a:ext cx="41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/>
          </p:cNvPr>
          <p:cNvSpPr/>
          <p:nvPr/>
        </p:nvSpPr>
        <p:spPr>
          <a:xfrm>
            <a:off x="415800" y="1066680"/>
            <a:ext cx="6024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3D model with 9 x 9 x 4 grid – based on 3</a:t>
            </a:r>
            <a:r>
              <a:rPr b="0" lang="en-US" sz="2000" spc="-1" strike="noStrike" baseline="30000">
                <a:solidFill>
                  <a:srgbClr val="0033cc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SPE Comparative Solution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One injection well and one production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ome heterogeneity between lay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Production well not on edge of model – some of the reservoir will not be swept by injection 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/>
          </p:cNvPr>
          <p:cNvSpPr/>
          <p:nvPr/>
        </p:nvSpPr>
        <p:spPr>
          <a:xfrm>
            <a:off x="415800" y="6858000"/>
            <a:ext cx="6024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ich gas condensate fluid (180 bbl/MMsc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Dew point pressure 6765 psi. Initial reservoir pressure 7000 ps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008080" y="3733920"/>
            <a:ext cx="2841840" cy="2746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7000" y="3938760"/>
            <a:ext cx="1540080" cy="631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Comic Sans MS"/>
              </a:rPr>
              <a:t>Injection we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Comic Sans MS"/>
              </a:rPr>
              <a:t>in layers 1 and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191120"/>
            <a:ext cx="762120" cy="1522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5791320"/>
            <a:ext cx="167652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roduction we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n layers 3 and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733920" y="5486040"/>
            <a:ext cx="1218960" cy="609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43280" y="3733920"/>
            <a:ext cx="2971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il saturations, layer 2, after 5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92560" y="609480"/>
            <a:ext cx="56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velop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5600" y="1477800"/>
            <a:ext cx="629748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Maximum gas production rate is 6 MMscf/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Limiting BHP = 1500 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Minimum gas rate 0.5 MMscf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360" y="4267080"/>
            <a:ext cx="629748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Gas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Maximum gas production rate is 6 MMscf/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Inject all produced gas for 5 years or 10 yea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Then shut in injection well and produce by deple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8360" y="228600"/>
            <a:ext cx="46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exerc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760" y="1143000"/>
            <a:ext cx="6324480" cy="74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un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Sensor compositional model 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omic Sans MS"/>
              </a:rPr>
              <a:t>for three scenari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Depletion </a:t>
            </a:r>
            <a:r>
              <a:rPr b="0" lang="en-US" sz="14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recycle for 5 years, then depletion </a:t>
            </a:r>
            <a:r>
              <a:rPr b="0" lang="en-US" sz="14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recycle for 10 years, then depletion </a:t>
            </a:r>
            <a:r>
              <a:rPr b="0" lang="en-US" sz="14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Look at final recoveries of oil and gas for each scenario.  The ‘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FIELD SUMMARY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omic Sans MS"/>
              </a:rPr>
              <a:t>’ at the end of the output file gives a table of results which can be copied into an Excel spreadshe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alculate NPV of oil and gas revenues. Assume 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oil price = $20 /bbl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price = $3 / MMscf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net discount rate =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epeat calculations for first two scenarios using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Sensor Black Oil Model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omic Sans MS"/>
              </a:rPr>
              <a:t>. (Sensor has a very simple way of converting a compositional model to Black Oil.)  Compare results of Black Oil and Compositional mod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56400" y="228600"/>
            <a:ext cx="43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47640" y="1219320"/>
          <a:ext cx="5562720" cy="3352680"/>
        </p:xfrm>
        <a:graphic>
          <a:graphicData uri="http://schemas.openxmlformats.org/drawingml/2006/table">
            <a:tbl>
              <a:tblPr/>
              <a:tblGrid>
                <a:gridCol w="1981080"/>
                <a:gridCol w="1295640"/>
                <a:gridCol w="1295280"/>
                <a:gridCol w="99072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il recovery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overy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eld life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pl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ycle for 5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ycle for 10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457200" y="5181480"/>
            <a:ext cx="594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Recovery from gas cycling depends on areal and vertical sweep efficiency.  In this example, about 40% of the reservoir is swept after 5 years, and about 60% after 10 year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76040" y="22860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Value of oil and g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rodu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43000" y="3200400"/>
          <a:ext cx="4572000" cy="3290760"/>
        </p:xfrm>
        <a:graphic>
          <a:graphicData uri="http://schemas.openxmlformats.org/drawingml/2006/table">
            <a:tbl>
              <a:tblPr/>
              <a:tblGrid>
                <a:gridCol w="1981080"/>
                <a:gridCol w="1295640"/>
                <a:gridCol w="12952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 revenue $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PV $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pl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ycle for 5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ycle for 10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1447920" y="152388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oil price = $20 /bbl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gas price = $3 / MMscf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et discount rate =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6781680"/>
            <a:ext cx="5943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Value of extra revenue from gas cycling is reduced by the delay to gas sa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preadsheet with NPV 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56880" y="304920"/>
            <a:ext cx="49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Oil and gas reven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23960" y="1270080"/>
          <a:ext cx="5410080" cy="330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270080"/>
                    <a:ext cx="541008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743040" y="4572000"/>
          <a:ext cx="5371920" cy="3333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3040" y="4572000"/>
                    <a:ext cx="537192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80880"/>
            <a:ext cx="54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Benefits and drawbacks of gas cyc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2133720"/>
            <a:ext cx="67816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Gas cycling can improve recovery of liquids, but these benefits are offset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lay to gas s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xtra CAPEX – more wells, gas injection faci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nger field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Gas cycling is mainly used where no gas export facilities are available, or in a few very rich gas condensate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84080" y="228600"/>
            <a:ext cx="528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mparison of black oil and compositional model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947880" y="1295280"/>
          <a:ext cx="4962240" cy="35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7880" y="1295280"/>
                    <a:ext cx="4962240" cy="35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990720" y="4876920"/>
          <a:ext cx="4876560" cy="3538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876920"/>
                    <a:ext cx="4876560" cy="35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2:20Z</dcterms:modified>
  <cp:revision>87</cp:revision>
  <dc:subject/>
  <dc:title>PowerPoint Presentation</dc:title>
</cp:coreProperties>
</file>