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A942-3D40-49C8-AEB1-9ABCA4ABF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C31F-91AE-44D6-BEE5-EC1919310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0340-7EE5-483F-AC16-596B9CE47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788E-37C5-4D97-AC7F-53E68629D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BB64-23B2-463E-9CC3-455568F61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D023-88FE-4CBD-AEF0-C2FCACB97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F7DF-701B-48EC-9A1A-1CD1EE832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5984-9197-42DC-81D6-C36DC43CA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C241-C1C9-4928-9D62-A3BB7C5EB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86FB-B9EF-4CF2-B068-319B7E05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69B1-643E-4FD5-A4D8-FA34D215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1FB9-E1B4-4B83-AC58-3F54311F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B5F29-2AE7-4A89-956E-3354F7A315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60400" y="809640"/>
          <a:ext cx="6188040" cy="4116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0400" y="809640"/>
                    <a:ext cx="6188040" cy="41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1794240" y="363600"/>
            <a:ext cx="32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Liquid saturation in CV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2440" y="5211720"/>
            <a:ext cx="5846760" cy="35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he CVD ‘liquid dropout curve’ is perhaps the most familiar PVT property of a condensate fluid, but it has little direct impact on reservoir and well perform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When tuning an EOS model to CVD data, it is much more important to match the gas Z-factor and C7+ fraction in produced g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Net revaporization of retrograde condensate starts only at very low pressures (&lt;50 bar). It does not start when the liquid volume starts dropping (e.g. 140 bar above), as this drop is related to solution gas coming out of solution from the retrograde condensate (‘shrinkage’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CHW</cp:lastModifiedBy>
  <dcterms:modified xsi:type="dcterms:W3CDTF">2003-08-18T10:10:25Z</dcterms:modified>
  <cp:revision>64</cp:revision>
  <dc:subject/>
  <dc:title>PowerPoint Presentation</dc:title>
</cp:coreProperties>
</file>