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327-5208-4266-93B1-EA44E6D7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339-17E9-416A-BB9B-C8343BE5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84A-2EE0-4342-BC51-27150A67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69F-2E89-4776-A3C2-97A6AB38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C01-9350-4B7D-87A2-909C9D34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797-6216-43BF-89D0-39C5A5BB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F05-ECAC-4723-98D4-F91D89D9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C59-2244-4D27-8DBF-B7B5FCAE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259-DC8D-4404-BFD6-3256C75E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0D5-34E4-4434-9976-86FF9C3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12D-A73B-4727-B4BB-344ECB9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734-CAC7-4872-96D2-6A9C0BEA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6120" y="8673840"/>
            <a:ext cx="13334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A6A8-2934-4429-A2A6-C00FD2C2A029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4040" y="8673840"/>
            <a:ext cx="31910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19280" y="8636040"/>
            <a:ext cx="146700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546-91FC-4BF4-B1FB-E133E85E9CD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package" Target="../embeddings/oleObject1.xlsx"/><Relationship Id="rId4" Type="http://schemas.openxmlformats.org/officeDocument/2006/relationships/hyperlink" Target="file:///Fig1.ppt" TargetMode="External"/><Relationship Id="rId5" Type="http://schemas.openxmlformats.org/officeDocument/2006/relationships/image" Target="../media/image1.wmf"/><Relationship Id="rId6" Type="http://schemas.openxmlformats.org/officeDocument/2006/relationships/package" Target="../embeddings/oleObject2.xlsx"/><Relationship Id="rId7" Type="http://schemas.openxmlformats.org/officeDocument/2006/relationships/hyperlink" Target="file:///Fig2.ppt" TargetMode="External"/><Relationship Id="rId8" Type="http://schemas.openxmlformats.org/officeDocument/2006/relationships/image" Target="../media/image2.wmf"/><Relationship Id="rId9" Type="http://schemas.openxmlformats.org/officeDocument/2006/relationships/hyperlink" Target="file:///GC-SAMPLING.PDF" TargetMode="External"/><Relationship Id="rId10" Type="http://schemas.openxmlformats.org/officeDocument/2006/relationships/hyperlink" Target="file:///GC-PVT-Expts.ppt" TargetMode="External"/><Relationship Id="rId11" Type="http://schemas.openxmlformats.org/officeDocument/2006/relationships/hyperlink" Target="file:///../MISC/UNITS-CONVERSION.PDF" TargetMode="External"/><Relationship Id="rId12" Type="http://schemas.openxmlformats.org/officeDocument/2006/relationships/hyperlink" Target="file:///IBC1999SLIDES.PPT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C-PVT-EXAMPLE+RESULTS.PPT" TargetMode="External"/><Relationship Id="rId2" Type="http://schemas.openxmlformats.org/officeDocument/2006/relationships/hyperlink" Target="file:///gas-properties.xls" TargetMode="External"/><Relationship Id="rId3" Type="http://schemas.openxmlformats.org/officeDocument/2006/relationships/hyperlink" Target="file:///CVD-ANALYSIS%20.XL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1880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4920" y="408456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34800" y="4919760"/>
            <a:ext cx="6188400" cy="3918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 has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29000" y="1127160"/>
            <a:ext cx="3645000" cy="2932200"/>
            <a:chOff x="3429000" y="1127160"/>
            <a:chExt cx="3645000" cy="2932200"/>
          </a:xfrm>
        </p:grpSpPr>
        <p:graphicFrame>
          <p:nvGraphicFramePr>
            <p:cNvPr id="46" name=""/>
            <p:cNvGraphicFramePr/>
            <p:nvPr/>
          </p:nvGraphicFramePr>
          <p:xfrm>
            <a:off x="3429000" y="1482840"/>
            <a:ext cx="3645000" cy="2576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>
                      <a:hlinkClick r:id="rId4"/>
                    </p:cNvPr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1482840"/>
                      <a:ext cx="3645000" cy="25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3734640" y="1127160"/>
              <a:ext cx="263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Liquid satura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9880" y="1077840"/>
            <a:ext cx="3708360" cy="2982600"/>
            <a:chOff x="299880" y="1077840"/>
            <a:chExt cx="3708360" cy="2982600"/>
          </a:xfrm>
        </p:grpSpPr>
        <p:graphicFrame>
          <p:nvGraphicFramePr>
            <p:cNvPr id="50" name=""/>
            <p:cNvGraphicFramePr/>
            <p:nvPr/>
          </p:nvGraphicFramePr>
          <p:xfrm>
            <a:off x="299880" y="1439640"/>
            <a:ext cx="3708360" cy="262080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51" name="" descr="">
                      <a:hlinkClick r:id="rId7"/>
                    </p:cNvPr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9880" y="1439640"/>
                      <a:ext cx="3708360" cy="26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789840" y="1077840"/>
              <a:ext cx="201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1" lang="en-US" sz="1600" spc="-1" strike="noStrike" baseline="-25000">
                  <a:solidFill>
                    <a:srgbClr val="0033cc"/>
                  </a:solidFill>
                  <a:latin typeface="Comic Sans MS"/>
                </a:rPr>
                <a:t>7+</a:t>
              </a: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 frac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112760" y="409428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200" y="4614840"/>
            <a:ext cx="158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PVT Experi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53520" y="404496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3080" y="4614840"/>
            <a:ext cx="24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Whats Important and Wh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352-C77D-468F-8A8B-A8C3CF0F39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74499-A5E1-4498-9F8F-B6B4618BFF6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632448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valuating CV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ydro PVT Manual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193356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Worked example for estimating condensate and ga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Condensate Properties (Single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VD Analysis and Material Balanc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760" y="3108240"/>
            <a:ext cx="6324480" cy="549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4C4-4583-4ABA-B983-641851F2B5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C76D2-3160-40CA-8D98-5A6B6FC7E5F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15:35Z</dcterms:modified>
  <cp:revision>88</cp:revision>
  <dc:subject/>
  <dc:title>PowerPoint Presentation</dc:title>
</cp:coreProperties>
</file>