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4015-85C6-4751-ABD1-542142B2724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A98D-AF5B-463D-BD19-91642255D43C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5480" y="304920"/>
            <a:ext cx="59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Number of well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486400"/>
            <a:ext cx="60962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ost of the pressure drop (84 – 97% is in the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diameter is the most important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and skin have a smaller imp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47920"/>
            <a:ext cx="60962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6 (with 38 w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able pressure drops in reservoir and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is the most important parameter, but aquifer size and tubing are also 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8280" y="304920"/>
            <a:ext cx="57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94% of the pressure drop is in th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has a major impact on performance. Aquifer and tubing size have very little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1080" y="304920"/>
            <a:ext cx="55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5:21Z</dcterms:modified>
  <cp:revision>90</cp:revision>
  <dc:subject/>
  <dc:title>PowerPoint Presentation</dc:title>
</cp:coreProperties>
</file>