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CA57-BCA1-4465-85C2-77C3C35A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C241-893C-41F7-AE3A-EB2BAE89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C0F8-17F4-458E-8762-B22239C5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0DA3-C23A-473C-9965-2A30995B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57F4-2F3F-4443-BDB9-7A349F1A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29FB-5025-42FF-9080-DE439D01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7DBC-CBAE-4682-97B1-97F3C315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27A0-3F19-4279-B595-0EEA7C49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D985-5932-4F27-88B6-2E6A7BA8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7035-43B1-422C-8CFF-0DB7B40D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4191-AFCA-4691-9AA9-ACF1B657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E2CA-76BF-43E6-B4DE-7990CF77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5C58-346C-49CD-A44E-27BA9979E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"/>
            <a:ext cx="8686800" cy="66373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ccurate fluid samples are needed to define fluids in place, especially condensate volume.  Separator samples should almost always be used for gas condensate wel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Constant composition expansion (CCE) and constant volume depletion (CVD) experiments provide the key data for predicting recoveries during depletion, and defining the potential for gas cycl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For calculating initial fluids in place, the key PVT data are initial gas Z-factor and C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mol fra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For forecasting recoveries during depletion, the most important PVT data are the gas phase Z-factor and C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mol fraction as functions of pressure. The retrograde liquid saturation (‘liquid drop-out curve’)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has </a:t>
            </a:r>
            <a:r>
              <a:rPr b="0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no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direct impact on recoveries, and only a secondary effect on near-well condensate blockage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For gas cycling below dewpoint, the key PVT properties are gas Z-factor and C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fraction, and the revaporization of C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components into the injection gas. Special PVT experiments are needed to measure revaporization of C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compon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Gas condensate viscosities can be accurately predicted from correlations.  Oil viscosity correlations are less reliable, but reasonable oil viscosities are needed for modeling condensate blockage. 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4T07:35:33Z</dcterms:modified>
  <cp:revision>17</cp:revision>
  <dc:subject/>
  <dc:title>PowerPoint Presentation</dc:title>
</cp:coreProperties>
</file>