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719-A987-4095-89A9-0285E05D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5A8-B96D-4E7E-AD7A-AE9B4AA3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5FC-EE76-4352-B132-D609C652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527-DEA4-410A-B134-B58C55C6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39F-34CB-465A-9EEC-B0A5B346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757-7D29-4DE4-A23F-58AC5BBA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FF7-06D2-46F2-9082-EE105641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1A7-288C-46B8-8253-96472DD4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63E-C381-47C9-BEC9-0E431BB3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B81-9551-4924-8DF8-A424DC6A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4893-AA1B-45EB-945D-BFDB6B91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AE6-5C6F-4967-98F8-20C9097E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532E-C851-4071-B163-45AB945D6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98560" y="5243400"/>
            <a:ext cx="5216400" cy="3392640"/>
            <a:chOff x="898560" y="5243400"/>
            <a:chExt cx="5216400" cy="3392640"/>
          </a:xfrm>
        </p:grpSpPr>
        <p:grpSp>
          <p:nvGrpSpPr>
            <p:cNvPr id="42" name=""/>
            <p:cNvGrpSpPr/>
            <p:nvPr/>
          </p:nvGrpSpPr>
          <p:grpSpPr>
            <a:xfrm>
              <a:off x="2225520" y="5450040"/>
              <a:ext cx="3089160" cy="2458440"/>
              <a:chOff x="2225520" y="5450040"/>
              <a:chExt cx="3089160" cy="2458440"/>
            </a:xfrm>
          </p:grpSpPr>
          <p:sp>
            <p:nvSpPr>
              <p:cNvPr id="43" name=""/>
              <p:cNvSpPr/>
              <p:nvPr/>
            </p:nvSpPr>
            <p:spPr>
              <a:xfrm>
                <a:off x="4049280" y="5458320"/>
                <a:ext cx="603720" cy="24501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654440" y="5450040"/>
                <a:ext cx="660240" cy="24501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225520" y="5466960"/>
                <a:ext cx="1828440" cy="242820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6" name=""/>
            <p:cNvGraphicFramePr/>
            <p:nvPr/>
          </p:nvGraphicFramePr>
          <p:xfrm>
            <a:off x="898560" y="5243400"/>
            <a:ext cx="5216400" cy="3392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98560" y="5243400"/>
                      <a:ext cx="5216400" cy="339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279360"/>
            <a:ext cx="58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low to a gas condensate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16920" y="977760"/>
            <a:ext cx="5091840" cy="3697200"/>
            <a:chOff x="916920" y="977760"/>
            <a:chExt cx="5091840" cy="3697200"/>
          </a:xfrm>
        </p:grpSpPr>
        <p:grpSp>
          <p:nvGrpSpPr>
            <p:cNvPr id="51" name=""/>
            <p:cNvGrpSpPr/>
            <p:nvPr/>
          </p:nvGrpSpPr>
          <p:grpSpPr>
            <a:xfrm>
              <a:off x="932040" y="1369800"/>
              <a:ext cx="5076720" cy="3305160"/>
              <a:chOff x="932040" y="1369800"/>
              <a:chExt cx="5076720" cy="3305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2059200" y="1619280"/>
                <a:ext cx="3126960" cy="2344320"/>
                <a:chOff x="2059200" y="1619280"/>
                <a:chExt cx="3126960" cy="23443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905280" y="1626840"/>
                  <a:ext cx="610920" cy="23367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518000" y="1619280"/>
                  <a:ext cx="668160" cy="233676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059200" y="1635120"/>
                  <a:ext cx="1850760" cy="2315520"/>
                </a:xfrm>
                <a:prstGeom prst="rect">
                  <a:avLst/>
                </a:prstGeom>
                <a:solidFill>
                  <a:srgbClr val="66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56" name=""/>
              <p:cNvGraphicFramePr/>
              <p:nvPr/>
            </p:nvGraphicFramePr>
            <p:xfrm>
              <a:off x="932040" y="1369800"/>
              <a:ext cx="5076720" cy="330516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32040" y="1369800"/>
                        <a:ext cx="5076720" cy="330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" name=""/>
              <p:cNvSpPr/>
              <p:nvPr/>
            </p:nvSpPr>
            <p:spPr>
              <a:xfrm>
                <a:off x="2075040" y="1979640"/>
                <a:ext cx="1852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16920" y="977760"/>
              <a:ext cx="2212200" cy="5457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Region 1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Gas and oil are flow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66280" y="977760"/>
              <a:ext cx="1509480" cy="5457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Region 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Oil is immob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38120" y="977760"/>
              <a:ext cx="996120" cy="5457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Region 3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No o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084320" y="4611600"/>
            <a:ext cx="5121360" cy="54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ost of the pressure drawdown is in Region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Region 1 is most important for calculating productiv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8160" y="8559720"/>
            <a:ext cx="58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Definition of regions 1,2 &amp;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4960" y="8591400"/>
            <a:ext cx="495360" cy="324000"/>
          </a:xfrm>
          <a:prstGeom prst="rightArrow">
            <a:avLst>
              <a:gd name="adj1" fmla="val 50000"/>
              <a:gd name="adj2" fmla="val 38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8160" y="0"/>
            <a:ext cx="58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lowing composition is constant in Reg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07880" y="836640"/>
            <a:ext cx="6450120" cy="3962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01760" y="5103720"/>
            <a:ext cx="64562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1T10:35:55Z</dcterms:modified>
  <cp:revision>81</cp:revision>
  <dc:subject/>
  <dc:title>PowerPoint Presentation</dc:title>
</cp:coreProperties>
</file>