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7080-AE38-4E10-8D27-2C647BDD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6ACD-6D56-487B-9196-A3670B64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DAFC-64A9-45C4-97D9-941F4106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4F46-5804-426C-8B4A-57AA93E2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7EEF-9F59-4BE6-815F-BF1D80AD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3240-2B1D-44E9-AE2E-FBC88B0C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B78B-B3BC-48BA-91EF-91D6B7C2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C1E1-A217-4AE9-9E44-51713801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758D-AB29-491F-9C80-904A66A5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4CA-BBA7-49AD-8285-099D8ECA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D6BD-2275-4320-92D1-028376BD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525C-5CEA-495B-AE0C-CF9B1614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8AAD-1176-4F26-B6CA-BA6FDE825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534520" cy="5243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762120"/>
            <a:ext cx="80042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mpare E300 and Fevang-Whitson models for Nc behaviour (at krg/kro=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7:13:14Z</dcterms:modified>
  <cp:revision>20</cp:revision>
  <dc:subject/>
  <dc:title>PowerPoint Presentation</dc:title>
</cp:coreProperties>
</file>