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9EBA-08A3-4101-86B7-CF28504C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245A-1E08-45F8-9BB3-E7B09B83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BC93-EA29-418E-81B0-B3DB0E77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3054-213A-4A9D-86B9-8425E769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79EC-DF9B-470E-A171-F8A2DDFB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D1CD-3C0A-4A8D-BEC5-A20A7B5F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E940-1152-4059-B0F7-B7B186EC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F7C4-1E85-49D5-A59E-78AEFC51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6340-F2B1-406D-90E8-8475DE17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B470-5267-43A3-9C16-3D9205AB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2832-5097-49DF-A8DA-DCFCAB8C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FB86-C4ED-4D0D-B8BC-213DED5F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9A6D-F7F6-4B0B-BA30-5FDD7DF8F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63440" y="113976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and two-phase pseudopress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3886200"/>
            <a:ext cx="1981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438280"/>
            <a:ext cx="19814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45:00Z</dcterms:modified>
  <cp:revision>22</cp:revision>
  <dc:subject/>
  <dc:title>PowerPoint Presentation</dc:title>
</cp:coreProperties>
</file>