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7C9-EA24-4735-92F8-30AC5D61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D8A-84B9-4319-B67A-E9528FBC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0BA-9FD2-4578-9070-CC9938EC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D5C-DB78-4E19-843D-894ADB7F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0A4-B45C-4343-9EA7-B25206A4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03A-D430-4247-BE58-2E65073E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EB1-F577-43AC-A9B4-C04377D3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264-2E08-4D48-AD33-AFF1D845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6A8-DFA0-4365-AD21-99BA61F3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6BE-3CFA-43E1-8F07-38DE0624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0BD-2F88-454D-A91F-9348376E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B64-6636-4F26-BF34-B0EF4958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759C-E360-4329-B2E9-A9730235B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953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initial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-factor at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gas produced from depletion at pre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t gas or m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nitial gas in place (wet gas or mol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2400" y="1427040"/>
                <a:ext cx="53499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45Z</dcterms:modified>
  <cp:revision>15</cp:revision>
  <dc:subject/>
  <dc:title>PowerPoint Presentation</dc:title>
</cp:coreProperties>
</file>