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3E98-6864-4AEB-B2C9-12E8AA42A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5720-8133-4084-9CFB-520092691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01FC-7F82-49A7-A7EB-EE51DE173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A49D-6094-41F1-9B6C-DA4B0DCE1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75DC-3A67-49CC-8E84-8433EEAA7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93A5-FE49-4853-8C86-2774FCA53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E084-6074-472F-AD81-D9E3D4AAC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8A2D-6F20-49F7-A973-10B082EDE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784B-5D8A-4C38-98D5-A4F52E0BD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A8F6-AE29-42EF-83DD-C60D179A0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1A30-0C9E-4891-B270-A22234D15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6A1D-B15D-429A-A0E4-5A8801761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CC6F2-1665-4B88-9453-C8464A642AF3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F531B-3F68-4D9F-8CD1-B97211C784B5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1-phase-build-up.ppt" TargetMode="External"/><Relationship Id="rId2" Type="http://schemas.openxmlformats.org/officeDocument/2006/relationships/image" Target="../media/image1.wmf"/><Relationship Id="rId3" Type="http://schemas.openxmlformats.org/officeDocument/2006/relationships/hyperlink" Target="file:///TextBox.ppt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42240" y="228600"/>
            <a:ext cx="52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Gas Condensate Well Te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1600200"/>
            <a:ext cx="3886200" cy="249696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sp>
        <p:nvSpPr>
          <p:cNvPr id="44" name="">
            <a:hlinkClick r:id="rId3"/>
          </p:cNvPr>
          <p:cNvSpPr/>
          <p:nvPr/>
        </p:nvSpPr>
        <p:spPr>
          <a:xfrm>
            <a:off x="76320" y="5257800"/>
            <a:ext cx="6705360" cy="336492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Transient data during a pressure build-up can be analyzed to try and understand gas condensate well performance, by plotting the change in pseudopressure and its derivative [with respect to log(</a:t>
            </a:r>
            <a:r>
              <a:rPr b="0" lang="en-US" sz="1000" spc="-1" strike="noStrike">
                <a:solidFill>
                  <a:srgbClr val="0033cc"/>
                </a:solidFill>
                <a:latin typeface="Symbol"/>
                <a:ea typeface="Symbol"/>
              </a:rPr>
              <a:t></a:t>
            </a: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t)] on a log-log plo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The build-up analysis is influenced by a near-well condensate bank with reduced k</a:t>
            </a:r>
            <a:r>
              <a:rPr b="0" lang="en-US" sz="1000" spc="-1" strike="noStrike" baseline="-25000">
                <a:solidFill>
                  <a:srgbClr val="a50021"/>
                </a:solidFill>
                <a:latin typeface="Comic Sans MS"/>
              </a:rPr>
              <a:t>rg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.</a:t>
            </a: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  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Using a single-phase gas pseudopressure to interpret well test data usually requires a radial-composite model with 2 zones. This will give information on the gas permeability in the bank and the size of the bank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Some wells may show 3-region composite radial behavior, caused by increased gas mobility at high capillary numbers near to the well. This is an area of current research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Using two-phase pseudopressure to interpret well test data requires a set of relative permeability curves, krg=f(krg/kro,Nc), and uses the steady-state flow theory (e.g. Fevang-Whitson method) to calculate pseudopressure, resulting in ‘normal semi-log’ radial behavior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Multi-rate tests can also be used to understand condensate well performance, by history matching  single-well simulation models. This is usually the most reliable way of confirming the benefit of capillary number effect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4648320" y="1905120"/>
                <a:ext cx="1887480" cy="104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sub>
                      <m:sup>
                        <m:r>
                          <m:t xml:space="preserve">P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4648320" y="3809880"/>
                <a:ext cx="190476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</m:e>
                    </m:d>
                    <m:r>
                      <m:t xml:space="preserve">≈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sub>
                      <m:sup>
                        <m:r>
                          <m:t xml:space="preserve">P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g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4317840" y="1219320"/>
            <a:ext cx="25992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400" spc="-1" strike="noStrike">
                <a:solidFill>
                  <a:srgbClr val="0033cc"/>
                </a:solidFill>
                <a:latin typeface="Comic Sans MS"/>
              </a:rPr>
              <a:t>1-phase pseudopres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33cc"/>
                </a:solidFill>
                <a:latin typeface="Comic Sans MS"/>
              </a:rPr>
              <a:t>(excludes condensate blockag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59960" y="3200400"/>
            <a:ext cx="25689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400" spc="-1" strike="noStrike">
                <a:solidFill>
                  <a:srgbClr val="0033cc"/>
                </a:solidFill>
                <a:latin typeface="Comic Sans MS"/>
              </a:rPr>
              <a:t>2-phase pseudopres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33cc"/>
                </a:solidFill>
                <a:latin typeface="Comic Sans MS"/>
              </a:rPr>
              <a:t>(includes condensate blockag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, Robert E. Mot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BED3-AAAE-4D7E-9D5F-D90C4DEEC51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8EE550-84FD-4BBC-8C6F-DAB340E60DF3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228600"/>
            <a:ext cx="6324480" cy="14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Refe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Practical Considerations in Gas Condensate Well Tes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Gas Condensate Well Testing using a Single Phase Ana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Well Test Analysis in Gas Condensate Reservo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A Novel Methodology for Well Test Analysis in Gas Condensate Reservo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2830680"/>
            <a:ext cx="6324480" cy="5858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, Robert E. Mot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7940-6EA0-4581-BF29-7E810611C38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A0D5E9-F8FB-4480-A4ED-A9AA73EEA33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18T17:26:25Z</dcterms:modified>
  <cp:revision>76</cp:revision>
  <dc:subject/>
  <dc:title>PowerPoint Presentation</dc:title>
</cp:coreProperties>
</file>