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F5C-5251-4D0D-A48B-01A66603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5E0-C154-446E-897A-7E03808B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548-8BA3-497C-99BC-214A4BBB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6DC-C380-48FB-BC8F-7A016986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08D-68E0-4B3F-BE7A-A63E1C7E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E9E-2C1F-4B4B-9773-32299336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A7B-2000-4103-8E6D-975111E9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CC7-7D08-4F1A-BFD5-5E76C859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376-3070-4FC1-B1B3-F412F84F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510-07E0-47A6-88BE-2B2BD5D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E7D-9BF2-4014-B31D-122FFF6E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D58-5E49-4070-9F41-707882E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292-59FE-4951-863F-13865F65B5F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FE94-46E9-4F57-B9F7-35BD71788E2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609480"/>
            <a:ext cx="52531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D coefficient can be estimated from well and rock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2209680"/>
                <a:ext cx="39038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sSub>
                          <m:e>
                            <m:r>
                              <m:t xml:space="preserve">βkγ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52520" y="3886200"/>
            <a:ext cx="5952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 is in 1/(Mscf/d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non-Darcy flow coefficient (in 1/f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gas gravity (air = 1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l other properties in field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3040" y="7162920"/>
            <a:ext cx="537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400800"/>
            <a:ext cx="5790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This equation assumes radial flow. It often underestimates the importance of non-Darcy flow – perhaps due to non-radial flow near the well perfor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91A-2625-46D7-B7DD-4A9D93A05CA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DD474-7E7C-47AE-BCAA-60EF285C6DE3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761760"/>
            <a:ext cx="5253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rrelations for Non-Darcy flow coefficient vs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89B-A88F-4515-BEB1-7B67F90AEF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450D7-C56F-4098-A802-5B6DFD989836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5:49:51Z</dcterms:modified>
  <cp:revision>81</cp:revision>
  <dc:subject/>
  <dc:title>PowerPoint Presentation</dc:title>
</cp:coreProperties>
</file>