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407-B397-4705-8DB9-D24F625A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5DD0-63F2-4501-A11A-B37184B3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F30-6374-4569-800E-B17477B3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12E-5554-4D2D-8846-02A68EB5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028-3271-4C75-825C-1B85FF65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8CD-0441-4B68-BAAF-E61B9241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747-4A39-4139-8833-6BEB806B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860-691C-4B66-B9F4-9FA83CA5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647-3D07-49D8-A6CC-8D8FE2CC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CB3-ED0B-447F-9B53-A2D31B3B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4C1-3051-418C-AC91-0109706A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1D0-2F49-41A8-B507-CE17B9A6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5432-A800-4150-899B-3AF247EC4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Craft&amp;Hawkins-Ch1.pdf" TargetMode="External"/><Relationship Id="rId3" Type="http://schemas.openxmlformats.org/officeDocument/2006/relationships/hyperlink" Target="file:///Fetkovich-Simplified-Water-Influx.pdf" TargetMode="External"/><Relationship Id="rId4" Type="http://schemas.openxmlformats.org/officeDocument/2006/relationships/hyperlink" Target="file:///spe22921-Fetkovich-Reese-Whitson.pdf" TargetMode="External"/><Relationship Id="rId5" Type="http://schemas.openxmlformats.org/officeDocument/2006/relationships/hyperlink" Target="file:///Havlena-Odeh.pd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Fetkovich, Simplified Water Influx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Havlena-Odeh Water Influx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Bruns-Fetkovich, Effect of Water Influx on p/z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Robert Mott</cp:lastModifiedBy>
  <dcterms:modified xsi:type="dcterms:W3CDTF">2004-02-13T17:24:27Z</dcterms:modified>
  <cp:revision>7</cp:revision>
  <dc:subject/>
  <dc:title>Other e-note links</dc:title>
</cp:coreProperties>
</file>