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264-1C78-4A07-B41E-9B2B4B71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D73-52FB-4EE4-B43D-5E31B6E7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0EE-0CA5-435B-A975-94C9A817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10E-76E6-4A32-8ABC-47972B7B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626-B7C6-4980-8E5E-AA304036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EF1-DA98-4339-8EF2-ABB8EB79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1E7-16BB-418C-ACF1-0BEC9871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584-D46D-4F39-B0DD-EC2BE5E1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ED1-DAE3-4606-A544-C9AF5243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909-24E1-42CC-A976-939F5EBA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F33-E2CC-4829-876F-35315C7E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B6F-9D44-480D-B94C-13E927F1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61AD-4C20-42E6-8135-8F956CD81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x-1a.pdf" TargetMode="External"/><Relationship Id="rId2" Type="http://schemas.openxmlformats.org/officeDocument/2006/relationships/hyperlink" Target="file:///Ex-1.pdf" TargetMode="External"/><Relationship Id="rId3" Type="http://schemas.openxmlformats.org/officeDocument/2006/relationships/hyperlink" Target="file:///Ex-1.xls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401760"/>
            <a:ext cx="6286320" cy="106956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Golan-Whitson, Well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Example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8520" y="1676520"/>
            <a:ext cx="334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hort Problem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75160" y="237816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rpt from bo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5160" y="342900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rcRect l="17188" t="0" r="11612" b="0"/>
          <a:stretch/>
        </p:blipFill>
        <p:spPr>
          <a:xfrm>
            <a:off x="990720" y="4267080"/>
            <a:ext cx="5105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2T10:03:58Z</dcterms:modified>
  <cp:revision>30</cp:revision>
  <dc:subject/>
  <dc:title>PowerPoint Presentation</dc:title>
</cp:coreProperties>
</file>