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24F-9592-4F98-95BD-12504FE6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EEBA-F8B6-4081-B70B-5BC73550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8B0-18B4-41A6-AF68-7C3DA71A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B46F-7823-4593-B97B-483391DD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C8A-41F8-49C5-A1C9-FB04968A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6A64-B65D-4845-9179-2D2332C6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EAF-A181-4A4B-9D86-E8EA783D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95D-9EDA-427F-ADFA-CBD13F49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D2D-CA5F-45B7-8AB1-8258C41E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9141-D6F0-4BD2-9606-0F476A55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E3B-F3B3-4E84-84B1-225D48B1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5CE3-CBF0-4539-B8E6-5032A206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C026-354C-49F5-B0C6-E01A3914CF0C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CB37-5A2B-4362-A5F0-CE402AF06393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x-1.xls" TargetMode="External"/><Relationship Id="rId2" Type="http://schemas.openxmlformats.org/officeDocument/2006/relationships/hyperlink" Target="file:///Ex-2.pdf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2390400" y="22860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441360" y="6081840"/>
            <a:ext cx="6188040" cy="25743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The Z-factor gives accurate </a:t>
            </a:r>
            <a:r>
              <a:rPr b="0" lang="en-US" sz="800" spc="-1" strike="noStrike" u="sng">
                <a:solidFill>
                  <a:srgbClr val="0033cc"/>
                </a:solidFill>
                <a:uFillTx/>
                <a:latin typeface="Comic Sans MS"/>
              </a:rPr>
              <a:t>gas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 volumetric properties: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8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 c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1" i="1" lang="en-US" sz="800" spc="-1" strike="noStrike" baseline="-25000">
                <a:solidFill>
                  <a:srgbClr val="0033cc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Z-factor is particulary important for estimating initial gas in place (IGIP) and gas depletion recovery factors,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IGIP = HCPV/B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Z-factor is a function of pressu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temperatu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and gas composition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i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usually expressed as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Z(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), according to corresponding states theory,</a:t>
            </a:r>
            <a:r>
              <a:rPr b="1" i="1" lang="en-US" sz="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whe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=p/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 &amp;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=T/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c 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are pseudoreduced quantie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Pseudocritical properties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and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are functions of gas composition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(or gas specific gravity </a:t>
            </a:r>
            <a:r>
              <a:rPr b="0" i="1" lang="en-US" sz="8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). Special treatment for H</a:t>
            </a:r>
            <a:r>
              <a:rPr b="0" lang="en-US" sz="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S or CO</a:t>
            </a:r>
            <a:r>
              <a:rPr b="0" lang="en-US" sz="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The accuracy of Z-factors from the Standing-Katz chart should usually be 1-3%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The Hall-Yarborough BWR equation of state gives an accurate description of the Standing-Katz Z-factor chart for 1&lt;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&lt;3 and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r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&lt;2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Gas viscosities are usually accurate with 5-10%, with increasing expected errors at high pressures and for heavy gases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. Typically </a:t>
            </a:r>
            <a:r>
              <a:rPr b="0" lang="en-US" sz="8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r>
              <a:rPr b="0" lang="en-US" sz="8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=0.02-0.03 c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460760" y="1046160"/>
                <a:ext cx="14464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495680" y="1523880"/>
                <a:ext cx="1440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deal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332240" y="4168800"/>
                <a:ext cx="1897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433760" y="2438280"/>
                <a:ext cx="153216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668840" y="3338640"/>
                <a:ext cx="1163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9" name="" descr=""/>
          <p:cNvPicPr/>
          <p:nvPr/>
        </p:nvPicPr>
        <p:blipFill>
          <a:blip r:embed="rId3"/>
          <a:srcRect l="18824" t="0" r="21434" b="0"/>
          <a:stretch/>
        </p:blipFill>
        <p:spPr>
          <a:xfrm>
            <a:off x="328680" y="838080"/>
            <a:ext cx="363384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84840" y="5226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84760" y="5629320"/>
            <a:ext cx="12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Gas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5800" y="522612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235400" y="5079960"/>
                <a:ext cx="20908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408-86DD-4C42-A596-6FB4868130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6E5C6-A40E-47FF-83A5-9205D3AD3E9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28600"/>
            <a:ext cx="63244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760" y="1295280"/>
            <a:ext cx="6324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Gas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stimate IGIP and IO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SPE Phase Behavior Monograph, App.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760" y="2819520"/>
            <a:ext cx="6324480" cy="585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103-FB72-4763-BD2E-952C60C7D3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63120-6B0B-4AD8-9618-34873BB8FDE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6160" y="1585800"/>
            <a:ext cx="5305680" cy="597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FBA-27AD-4B8F-B6EC-D0C420A3FD4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40D0F-06B0-4EFB-807C-F6B32BE2D2F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2T10:04:32Z</dcterms:modified>
  <cp:revision>66</cp:revision>
  <dc:subject/>
  <dc:title>PowerPoint Presentation</dc:title>
</cp:coreProperties>
</file>