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7D1-F3CD-4788-88C0-786A2E06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ED5-43A1-443D-B7B9-910205AB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802-F018-4E0C-9157-1FC30A25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4DB-8383-4C63-BEE7-1CD7D071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AC7-2288-4A78-AC84-3FC11B7D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868-ACD1-497F-9C41-3D145BD2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68E-5EBA-44B1-9D1F-D31537AA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E8C-FA38-4165-AEAC-7E9EF1AD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451-39A6-48B9-84E3-2D6263C6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421-342D-4129-B27E-00EC562D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FB0-B52B-4D13-9842-CC7A49DA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334-80A6-4D86-A2D0-62EEF673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A045-938B-4D59-B08A-66DA3F0E3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504800" y="1933560"/>
                <a:ext cx="32259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666800" y="1309680"/>
                <a:ext cx="274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24040" y="3043080"/>
                <a:ext cx="2644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17800" y="3613320"/>
                <a:ext cx="211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33720" y="4191120"/>
                <a:ext cx="190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685800" y="4991040"/>
            <a:ext cx="586728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urface gas rate, 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BHFP at surface datum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flowing pressure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tatic pressure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tubing temperature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Z-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diameter,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rue vertical height,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pecific gravity, air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erical (unit-related) consta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ch for the units above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31.62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0375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107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Tubing VF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1:26:16Z</dcterms:created>
  <dc:creator>CHW</dc:creator>
  <dc:description/>
  <dc:language>en-US</dc:language>
  <cp:lastModifiedBy>CHW</cp:lastModifiedBy>
  <dcterms:modified xsi:type="dcterms:W3CDTF">2003-08-21T22:10:18Z</dcterms:modified>
  <cp:revision>5</cp:revision>
  <dc:subject/>
  <dc:title>PowerPoint Presentation</dc:title>
</cp:coreProperties>
</file>