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11A-DEB6-48C5-91A9-F83DC11F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FDA-F04A-4ECD-AADB-AF09C606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B9A-53B6-44C3-B85B-86B0BBB3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EA9-EF11-4782-B3C9-E26E10AD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AD3-083A-4127-9BC4-BB7A9B55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356-C774-4329-B938-3C465B19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CFC-DB2C-4734-AC4D-3C6A1706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C8B-99E5-4AD5-B9DE-2D2AB25E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E05-A456-477F-B6AD-D699793A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474-F2A6-46AA-A0B9-6EDA0038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FEE-368B-4733-8DCE-4C625E4B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1F9-523C-4CE2-97B1-82837A52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9501-B7E0-4036-8BC5-C5EC4BCB6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57480"/>
            <a:ext cx="5791320" cy="3953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0840" indent="-1050840" algn="ctr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 algn="ctr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2-phase Z-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initial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Z-factor at 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gas produced from depletion at pre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et gas or mo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nitial gas in place (wet gas or mole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518148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ff3300"/>
                </a:solidFill>
                <a:latin typeface="Comic Sans MS"/>
              </a:rPr>
              <a:t>Two-Phase Z-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752400" y="1427040"/>
                <a:ext cx="534996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32:45Z</dcterms:modified>
  <cp:revision>15</cp:revision>
  <dc:subject/>
  <dc:title>PowerPoint Presentation</dc:title>
</cp:coreProperties>
</file>