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EE32-03E8-4312-9F84-CF0736AB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DE40-11FE-4F36-B956-63A2BBEC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FE39-B079-4669-8D4D-D90AFC3C9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C95B-C823-4C94-8056-88FF7291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F10E-4B05-41B0-B57B-EE277417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7CB3-F896-4754-85CE-CD16EB01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5144-96C1-4E16-AB93-FECB2CF9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9F3F-452C-4E70-A59C-F06E2EBF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F282-F233-4948-AEA1-06649C28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1789-47E1-4BF8-BAF9-3A3ACE31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9632-17E5-4DC8-B1B6-79D8D2B6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7153-B68A-49F8-9E68-9C6F26B1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2361-9CBC-407B-83BD-087F10F47691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3231-85B1-4DBE-A07C-DB15DF3C7173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%5CGas-Papers/Craft&amp;Hawkins-Ch1.pdf" TargetMode="External"/><Relationship Id="rId2" Type="http://schemas.openxmlformats.org/officeDocument/2006/relationships/hyperlink" Target="file:///Craft&amp;Hawkins-Ch1.pdf" TargetMode="External"/><Relationship Id="rId3" Type="http://schemas.openxmlformats.org/officeDocument/2006/relationships/hyperlink" Target="file:///Fetkovich-Simplified-Water-Influx.pdf" TargetMode="External"/><Relationship Id="rId4" Type="http://schemas.openxmlformats.org/officeDocument/2006/relationships/hyperlink" Target="file:///spe22921-Fetkovich-Reese-Whitson.pdf" TargetMode="External"/><Relationship Id="rId5" Type="http://schemas.openxmlformats.org/officeDocument/2006/relationships/hyperlink" Target="file:///Other-references.ppt" TargetMode="External"/><Relationship Id="rId6" Type="http://schemas.openxmlformats.org/officeDocument/2006/relationships/hyperlink" Target="file:///Production-Forecasting.xls" TargetMode="Externa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/>
          </p:cNvPr>
          <p:cNvSpPr/>
          <p:nvPr/>
        </p:nvSpPr>
        <p:spPr>
          <a:xfrm>
            <a:off x="1373760" y="206280"/>
            <a:ext cx="411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Water Influ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/>
          </p:cNvPr>
          <p:cNvSpPr/>
          <p:nvPr/>
        </p:nvSpPr>
        <p:spPr>
          <a:xfrm>
            <a:off x="369720" y="4973760"/>
            <a:ext cx="6188400" cy="36144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444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Aquifers may provide water influx (encroachment) to gas reservoirs as pressure declines from produ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amount of water influx depends primarily on </a:t>
            </a:r>
            <a:r>
              <a:rPr b="0" i="1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aquifer &amp; reservoir</a:t>
            </a:r>
            <a:r>
              <a:rPr b="0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 </a:t>
            </a:r>
            <a:r>
              <a:rPr b="0" i="1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permeability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, </a:t>
            </a:r>
            <a:r>
              <a:rPr b="0" i="1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aquifer size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, and </a:t>
            </a:r>
            <a:r>
              <a:rPr b="0" i="1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initial pressure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(i.e. maximum potential pressure decline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a50021"/>
                </a:solidFill>
                <a:latin typeface="Comic Sans MS"/>
              </a:rPr>
              <a:t>K &lt; 1 md results in neglible water influx, independent of aquifer siz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lnSpc>
                <a:spcPct val="130000"/>
              </a:lnSpc>
              <a:spcBef>
                <a:spcPts val="312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a50021"/>
                </a:solidFill>
                <a:latin typeface="Comic Sans MS"/>
              </a:rPr>
              <a:t>Aquifer sizes often range from 1 to 10 times the HCPV, and may sometimes be 100s of times the HCPV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lnSpc>
                <a:spcPct val="130000"/>
              </a:lnSpc>
              <a:spcBef>
                <a:spcPts val="312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a50021"/>
                </a:solidFill>
                <a:latin typeface="Comic Sans MS"/>
              </a:rPr>
              <a:t>High-pressure reservoirs may experience significant pressure support from small aquifers and ‘internal’ water within and interbedded with the HCPV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30000"/>
              </a:lnSpc>
              <a:spcBef>
                <a:spcPts val="938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Comic Sans MS"/>
              </a:rPr>
              <a:t>The material balance can be used to estimate IGIP and aquifer size from historical pressure and cumulative production da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a50021"/>
                </a:solidFill>
                <a:latin typeface="Comic Sans MS"/>
              </a:rPr>
              <a:t>Water expansion and water encroachment delay the decline in reservoir pressure due to gas production, resulting in sustained higher well deliverability (for a given total production). Water breakthrough often marks the end of life for a gas well. Ultimate gas recovery may often be lower for reservoirs with strong aquife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325600" y="4064040"/>
                <a:ext cx="2509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5361120" y="1554120"/>
            <a:ext cx="125280" cy="647640"/>
          </a:xfrm>
          <a:custGeom>
            <a:avLst/>
            <a:gdLst>
              <a:gd name="textAreaLeft" fmla="*/ 0 w 125280"/>
              <a:gd name="textAreaRight" fmla="*/ 45360 w 1252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950760" y="4516560"/>
                <a:ext cx="52578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B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6" name="" descr=""/>
          <p:cNvPicPr/>
          <p:nvPr/>
        </p:nvPicPr>
        <p:blipFill>
          <a:blip r:embed="rId3"/>
          <a:srcRect l="12208" t="12082" r="15262" b="0"/>
          <a:stretch/>
        </p:blipFill>
        <p:spPr>
          <a:xfrm>
            <a:off x="1236600" y="824040"/>
            <a:ext cx="4330800" cy="322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CE2E-2B0A-47FA-AEDB-BA1FEFAE677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9BEBC4-F42D-4C65-A608-B776EF4C26E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8600"/>
            <a:ext cx="632448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Craft &amp; Hawkins, Ch. 1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Fetkovich, Simplified Water Influx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Fetkovich-Reese-Whitson, High-Pressure Gas Material Balance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Others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752480"/>
            <a:ext cx="632448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Field Production Forecasting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6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760" y="2887560"/>
            <a:ext cx="6324480" cy="6053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6A83-6B63-4206-8803-98D6890CC1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920FF2-D24E-40E2-BA5B-5582B7C1730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6T09:58:56Z</dcterms:modified>
  <cp:revision>96</cp:revision>
  <dc:subject/>
  <dc:title>PowerPoint Presentation</dc:title>
</cp:coreProperties>
</file>