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00F0-C678-4B03-9EDD-973B88D9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1A37-8DDA-41BB-A103-067540B9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AA96-D143-427B-8CC0-BE7D1B69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BC3D-3480-4D7B-B4D0-3011C555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842C-75BE-493C-8F3C-8446EE08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0593-92B2-4E2F-B3BB-7BAFB4CC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CC52-2FBC-4396-9A22-C5D42F22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EDEE-CAC3-45D0-A7F5-B7DB49E5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BFD5-18F1-48D1-A37F-23039062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1B75-3AD4-4FE8-8D7A-18B24149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5CB9-2380-4546-A48D-1E7F446B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A840-1E5F-4748-9C00-6BEA7C0A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A128-4145-4DCC-A2B5-6FCCDBB44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7760" y="392040"/>
            <a:ext cx="55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C7+ fraction in equilibrium gas during C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2440" y="5211720"/>
            <a:ext cx="58467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C7+ content of the produced wellstream gives a direct measure of the change in condensate yield as pressure decli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7+ content is very closely related to the producing Condensate-Gas ratio (CGR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en tuning an EOS model to PVT data, it is important to match the changing C7+ amount in the gas during the CVD experi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8800" y="981000"/>
            <a:ext cx="668520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1-29T11:04:36Z</dcterms:modified>
  <cp:revision>65</cp:revision>
  <dc:subject/>
  <dc:title>PowerPoint Presentation</dc:title>
</cp:coreProperties>
</file>