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1600-76A7-443A-A116-5E9AA1E3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7ED-797A-433B-B667-CE1A068E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13C6-F319-4EBC-9B0D-45701487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76C8-FF50-485D-8D25-399F5FF4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0EB2-C240-4D7E-B793-AEE18429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A805-A005-493F-A63C-A41B68C3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DF65-D1F9-49B8-A8FF-D4949EDB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177-16FD-4736-8FA5-ED777839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578-E41E-45F3-83BE-8DB3E237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A43-3195-453F-90A6-CD67498D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AEA0-087A-42ED-94C9-6C280593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903A-A068-4511-812D-CFE5814F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CBCB-1A13-4460-9B49-2AE70164F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60400" y="809640"/>
          <a:ext cx="6188040" cy="41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809640"/>
                    <a:ext cx="618804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794240" y="363600"/>
            <a:ext cx="32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Liquid saturation in C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2440" y="5211720"/>
            <a:ext cx="584676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CVD ‘liquid dropout curve’ is perhaps the most familiar PVT property of a condensate fluid, but it has little direct impact on reservoir and well perform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tuning an EOS model to CVD data, it is much more important to match the gas Z-factor and C7+ fraction in produced g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Net revaporization of retrograde condensate starts only at very low pressures (&lt;50 bar). It does not start when the liquid volume starts dropping (e.g. 140 bar above), as this drop is related to solution gas coming out of solution from the retrograde condensate (‘shrinkage’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3-08-18T10:10:25Z</dcterms:modified>
  <cp:revision>64</cp:revision>
  <dc:subject/>
  <dc:title>PowerPoint Presentation</dc:title>
</cp:coreProperties>
</file>