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238-5C09-44C1-871B-2CC6A407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923-1946-4FEC-B70F-DF1103B5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A83-EE2A-4F6F-9C81-59E3A9D2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314-5AA9-4F79-B06F-46711732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21C-56A6-4B69-A6A4-E0C36D20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FFF-520A-4588-9C61-B4363BBF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D4A-4649-4353-9240-74EC18FF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095-BCE9-410D-8252-59025185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172-C671-404F-9580-AE4D1635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1D8-97F2-4F2C-9678-188C699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3D6-B013-47A8-B562-74439755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380-C834-4345-8093-DB11B4DC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8E62-6838-485B-88D3-96580603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376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16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6T11:24:45Z</dcterms:modified>
  <cp:revision>7</cp:revision>
  <dc:subject/>
  <dc:title>PowerPoint Presentation</dc:title>
</cp:coreProperties>
</file>