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3CBC-2B9E-4858-9E97-1E99091808E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8272-0B5F-463C-A3B2-81D0E39929BF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pact of condensate blockage in a lean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y to near-well relative perme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to estimate near-well relative permeabilities, taking account of velocity-dependent eff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ec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for the single-well radial run using straight line relative permeability curves should be about that seen for the full-field model; little blockag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are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of gas production of the two single-well radial runs using rock and straight-line relative permeability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not significant, you’re done. Don’t worry about condensate blockage!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significant and the correct period is important to the economics of the project, ‘engineer’ the condensate blockage problem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8760" y="609480"/>
            <a:ext cx="600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igh permeability reservoir - similar results with rock and straight line rel perms – condensate blockage is not a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66294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8760" y="406440"/>
            <a:ext cx="600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w permeability reservo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different results with rock and straight line rel perms – condensate blockage impacts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7012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low permeability reservoi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length of the plateau is reduced by &gt;50% between the ‘best’ and ‘worst’ case scenarios for condensate blockage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worst case scenario, we would need more wells, more compression, etc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 we will end up somewhere between the two extremes because of the increase in relative permeabilities at high capillary numb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06080"/>
            <a:ext cx="60004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calculate the change in  relative permeabilities  at high velocity?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9960" y="2819520"/>
            <a:ext cx="605808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perimental data suggest that the changes can be correlated as a function of th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pillary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Capillary Number (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is a dimensionless number which measures the ratio between viscous and capillary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Definition of Capillary Number</a:t>
            </a:r>
            <a:br>
              <a:rPr sz="4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209680"/>
            <a:ext cx="6400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c = velocity * viscosity / 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  Nc 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nb-NO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P(viscous)/Pc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elocity’ is the superficial pore gas velocity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arcy velocity / porosity / (1-Sw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ta must be in consistent units – simplest is to use SI units - velocity in m/s, viscosity in Pa.s, IFT in N/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" y="4038480"/>
            <a:ext cx="6724800" cy="4132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600" y="609120"/>
            <a:ext cx="645804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Eclipse 300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358400">
            <a:off x="4114440" y="5409720"/>
            <a:ext cx="258840" cy="565200"/>
          </a:xfrm>
          <a:prstGeom prst="upArrow">
            <a:avLst>
              <a:gd name="adj1" fmla="val 50000"/>
              <a:gd name="adj2" fmla="val 545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726400">
            <a:off x="1793160" y="5217120"/>
            <a:ext cx="304920" cy="690480"/>
          </a:xfrm>
          <a:prstGeom prst="upArrow">
            <a:avLst>
              <a:gd name="adj1" fmla="val 50000"/>
              <a:gd name="adj2" fmla="val 566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791320"/>
            <a:ext cx="1562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1360" y="2133720"/>
            <a:ext cx="6458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eds at least 7 empirical parameters – suitable values not published in open literatu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5867280"/>
            <a:ext cx="1487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62294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160" y="1752480"/>
            <a:ext cx="6657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s only 2 empirical parameters – suitable values published in open lit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ased on krg as a function of krg/kro – this is the fundamental rel perm relationship which controls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6019920"/>
            <a:ext cx="1411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358400">
            <a:off x="4190760" y="6095880"/>
            <a:ext cx="258480" cy="565200"/>
          </a:xfrm>
          <a:prstGeom prst="upArrow">
            <a:avLst>
              <a:gd name="adj1" fmla="val 50000"/>
              <a:gd name="adj2" fmla="val 5466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7040" y="609480"/>
            <a:ext cx="6343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4000" y="3565440"/>
                <a:ext cx="6210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oc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i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6553080"/>
                <a:ext cx="31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4800600"/>
                <a:ext cx="28875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5720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erpolates between rock  and miscible (straight line) rel perms at fixed values of krg/k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62120" y="7315200"/>
                <a:ext cx="17524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3276720" cy="2584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a gas condensate well, FBHP dropping below the dewpoint causes a significant condensate saturation buildup near the wellbore, resulting in lowered gas relative permeability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is reduced gas permeability is called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‘condensate blockage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It can lower a well’s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reservoi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I by 50 to 200% (equivalent to a skin of 5 to 20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run a single-well simulation with the ‘correct’  relative permeabilities  for the near-well region?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080" y="2336760"/>
            <a:ext cx="6172200" cy="68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a compositional simulator (e.g. Eclipse 300) with a model for velocity 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 to know the parameters for the E300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capillary number and rel perms man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cribed in the next 2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is will give a first approximation of the importance of the Nc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stimating capillary number and 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336760"/>
            <a:ext cx="605808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a time step near or just after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the Capillary Number Nc and the interpolation parameter f (Nc) at each grid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ke an ‘average’ value of f – e.g. weighted according to pressure drop across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d the krg vs krg/kro curve for this average value of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new kr vs Sg curves which honor the krg vs krg/kro relationship for this average value of 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2394000"/>
            <a:ext cx="7086600" cy="4354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0280" y="1752480"/>
            <a:ext cx="1657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Straight line rel perm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9160" y="2362320"/>
            <a:ext cx="637920" cy="990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251460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Comic Sans MS"/>
              </a:rPr>
              <a:t>From ‘new’ kr vs Sg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05160" y="3352680"/>
            <a:ext cx="399960" cy="812880"/>
          </a:xfrm>
          <a:prstGeom prst="line">
            <a:avLst/>
          </a:prstGeom>
          <a:ln w="44280">
            <a:solidFill>
              <a:srgbClr val="ff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00560" y="495288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nterpolated krg at ‘average’ Nc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267080" y="4571640"/>
            <a:ext cx="914400" cy="762120"/>
          </a:xfrm>
          <a:prstGeom prst="line">
            <a:avLst/>
          </a:prstGeom>
          <a:ln w="4428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6477120"/>
            <a:ext cx="137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962520" y="5486400"/>
            <a:ext cx="304560" cy="99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peat simulation using ‘near well’ rel perm curve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6477120"/>
            <a:ext cx="60195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or this example, the use of velocity-dependent rel perms has a significant impact, and more detailed study is justified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28600" y="2133720"/>
            <a:ext cx="7315200" cy="4494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ondensate blockage skin from single well model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590920"/>
            <a:ext cx="165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– skin ~ 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572000"/>
            <a:ext cx="1504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ith ‘near-well’ curves, skin ~ 7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ree levels of modeling (in increasing order of complexity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condensate blockage skin from single well mode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 generalized pseudopressure (GPP) model for well inflow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1268280" indent="-53316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accounts for condensate blockage in the well inflow equation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local grid refinement around the well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with  generalized pseudopressure (GPP) model is the recommended approach in almost all case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7339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only requires a small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can include velocity-dependent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334120"/>
            <a:ext cx="6324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cluding LGRs increases run time and affects numerical stabi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GR only recommended for very lean gas condensates in models with very large grid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723888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 this case LGR does not treat blockag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er 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ut provides accurate flowing GORs to the GPP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75840" y="1447920"/>
            <a:ext cx="6100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. (optional)  Run 1D Sensor model for these cases.  (Or just use these output files.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280" y="48006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. Look at development of the condensate bank with time – radius of bank and gas rel perms in the ban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3. Plot gas production rates and look at impact of condensate banking.  Is it important for the 100 md reservoir? For the 10 md reservo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2133720"/>
            <a:ext cx="65358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4.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condensate blockage skin, and compare with results from simple spreadshe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5. Calculate capillary number for each grid cell near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6. Find a typical value of the parameter f for interpolating between ‘rock’ and straight line rel perms.  Assu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4000, n = 0.7.  Calculate the krg vs krg/kro relationship for the condensate ban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. Find rel perm curves which give similar krg/kro behaviour for the range of krg/kro values that occur in the condens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8. Repeat simulations with these new ‘interpolated near-well’ rel perm curves, and calculate condensate blockage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430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or the 10md, rock rel perms case 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resul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200" y="1523880"/>
            <a:ext cx="6535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 little difference between st line and rock curve results for 100 md reservoir, but a significant difference for 10 m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alculations of capillary number and relative permeability interpolation give an average value of f of about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rel perm calculation shows that rel perm curves with Corey exponents of 1.9 the same krg vs krg/kro relationship the interpolated curves with f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s a plateau of about 3.5 years, compared with 1.5 years using rock rel perms and 4.5 years using straight line rel p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densate blockage adds pressure drop which can be important to low- and moderate-permeability (kh) wel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gh permeability (kh) wells show little effect because most of the well’s pressure drop is in the tubing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w and moderate-permeability reservoirs ( kh &lt; about 10,000 md.ft ) may be affected by condensate block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ockage can still be important for fractured and horizontal well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Calculating Well Deliverability in Gas condensate Reservo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8447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e grid simulation studies using measured ‘rock’ rel perm curves often predict a significant loss in gas deliverability due to condensate blockag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cently, numerous authors have shown from field data that the use of rock curves in radial simulations overstates the condensate blockage  effect –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 different modeling approach is neede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 experiments show that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 perms in gas condensate systems increase at high velocity.  The rel perms in simulation models need to take account of this effect.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ollowing data will be used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VT data for the reservoir fluid – black oil or Eo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ative permeability curves from full-field simulation model (rock curves); use another field’s curves or Corey functions if no measured data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dial single-well model carefully constructed to represent an average well in the full-field model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uild a single-well radial model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cale model to represent an average well’s drainage area, OGIP, kh, et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ck gas rate as a well’s share of the total field’s plateau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r-z radial grid with 20-30 cells in r direction, with &lt;1 ft first block radius and logarithmic radial spacing. Run implicit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well tubing tables and THP contro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irst single-well radial model run should use rock curves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gas &amp; oil curves should cross at about 0.1 (0.05 - 0.12 usually); use Corey exponents 2-3 if core data are not availabl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ck curves are considered the wor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econd single-well radial model run should use straight line (‘miscible’)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traight-line miscible curves are considered the be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8760" y="507960"/>
            <a:ext cx="600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ck and straight line rel perms used to estimate possible impact of condensate blockag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934320"/>
            <a:ext cx="2171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Rock rel perms have crossover ‘value’ of ~ 0.08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200040" y="5638680"/>
            <a:ext cx="1143000" cy="144792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14Z</dcterms:modified>
  <cp:revision>103</cp:revision>
  <dc:subject/>
  <dc:title>PowerPoint Presentation</dc:title>
</cp:coreProperties>
</file>