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75B-1770-40D3-8062-FE5C7E81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97B-FDC3-4DA8-9476-949B48E3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9B6-5C2B-4938-9C49-4D8F3197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5E3-CC30-45E9-BE9D-B078016E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736-F6E1-49DD-9482-916A953F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CA8-2E69-424E-B302-8F6D891B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683-0FE1-4E9F-B79F-437F5E9F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EBD-D8CC-4CB3-9186-2C887992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C2A-554A-4320-940C-FBD94DAE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AC3-D6EA-4E63-B80E-E9A0D9A5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A6B-3CF5-4690-8707-04B207A3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058-4E71-47D4-9BA6-2B1960F3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ACB6-E48A-4FE8-A678-91E13D2C2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19000"/>
            <a:ext cx="8610480" cy="578736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Gas field development involves the optimal selection of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number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placement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tubing size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nd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pipeline characteristic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deliver a specified contract rate (DCQ - daily contract quota) and specified contractual (plateau) peri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engineering tools required are (a) reservoir material balance(s); (b) well rate equations for reservoir and tubing; and (c) pipeline rate equations. Reservoir simulation is often not necessary, but may be conven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Data acquisition is needed early to estimate key parameters in the calculations mentioned in (2). These include core data, log interpretation, geologic mapping, and well te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ield gas rate ‘swing’ considerations may be important, accounting for a seasonal variation in production rate demand (maximum in wint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mpression design may be important during the contractual period, but almost certainly during the decline period of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Uncertainty analysis should focus on the parameters which are known to be important and known to be uncertain (IGIP, kh, skin, aquifer strength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HW</cp:lastModifiedBy>
  <dcterms:modified xsi:type="dcterms:W3CDTF">2003-08-22T08:09:12Z</dcterms:modified>
  <cp:revision>9</cp:revision>
  <dc:subject/>
  <dc:title>PowerPoint Presentation</dc:title>
</cp:coreProperties>
</file>