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585-7267-4EEC-86C8-C71D7D81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1D9-E459-4769-B24A-6F1515C7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51A-36D5-480E-B039-F0E39A51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12E-1FFC-4DBF-BFBF-4A39E242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CD5-3B39-49F3-A210-7A39457A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5A3-9B37-4FD5-9157-6ECC2791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A78-38F7-4A97-8372-9E80EEE6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C1B-F37C-4017-BE5D-1CA6AB2E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562-F384-4C4A-A064-72852A3B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A67-20F2-41FE-8537-C26E25D8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652-7AF2-4BC1-988D-57393120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648-711F-4498-BA01-76005166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8A25-335E-4C55-8911-2A0F1281F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5487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1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9:08:06Z</dcterms:modified>
  <cp:revision>25</cp:revision>
  <dc:subject/>
  <dc:title>PowerPoint Presentation</dc:title>
</cp:coreProperties>
</file>