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EA75-1CD7-4E27-AF1B-CA3F55045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3238-71EE-4951-80FE-B1424E8A9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3E0F-CED7-4FFA-A681-A2B6B958E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44E7-EAEC-43E1-B8E7-AB914CFA8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7A96-5FCC-4285-8501-E8FFE6D0A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0902-8DC6-489F-9F79-739A2D2AE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BD61-0358-4F38-99AE-EABC8099C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6891-46D7-4C9F-B4BC-E6A51DDC6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5D45-E44F-4C74-945C-6CD8D8892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B8EE-B994-4457-866B-BB186A05C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D8D3-267D-41B4-B152-53FCFCB40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37F0-1451-4AA5-A7DB-15A15EBE9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549F9-D98B-4374-9E08-727C494EBD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Comic Sans MS"/>
              </a:rPr>
              <a:t>Other e-note link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GC Reservoi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GC R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GC PV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GC Block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7T11:50:24Z</dcterms:created>
  <dc:creator>CHW</dc:creator>
  <dc:description/>
  <dc:language>en-US</dc:language>
  <cp:lastModifiedBy>CHW</cp:lastModifiedBy>
  <dcterms:modified xsi:type="dcterms:W3CDTF">2003-08-17T23:23:49Z</dcterms:modified>
  <cp:revision>2</cp:revision>
  <dc:subject/>
  <dc:title>Other e-note links</dc:title>
</cp:coreProperties>
</file>