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448-13F2-4595-B1F2-4096B660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E62-5E82-4EA3-B9F1-D8918754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FE69-092A-4C94-9564-03649ED8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7C8-1738-4FBE-88F8-44F1002D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498-94C9-48CF-8BA1-3CD6C98D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B462-C75F-4636-98EF-497B5827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2C2-468B-4DD3-B72C-6A03D3B4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2D6-1609-4FCD-BDED-6B4D5A4C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EE3-F574-4A4C-AFD6-06700C2F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449-AE21-448B-966E-A40579DF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F50-74A9-4DAE-A019-9212323C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EA26-6E7E-45C9-8704-AFF48A99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F453-6D4F-429E-B87C-5160DE6CE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686800" cy="62341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material balance for simple depletion defines the relation between average reservoir pressure and cumulative gas produ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straight-line MB assumes negligible water&amp;rock expansion &amp; aquifer influx. A plot of p/Z vs Gp (cum. gas produced) is a straight line with (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 as intercept and slope given by (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/G, where G is the initial gas in place (IGIP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An important use of the material balance is to estimate IGIP from historical pressure and cumulative production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When water expansion and/or aquifer encroachment are important, the material balance calculation is more complex and may require an iterative solution to find the fundamental relation between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cumulative production and pressur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G</a:t>
            </a:r>
            <a:r>
              <a:rPr b="0" lang="en-GB" sz="16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). Water breakthrough often marks the end of life for a gas well. For a number of reasons, the ultimate recovery may be lower for reservoirs with strong aquif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Layered no-crossflow reservoirs show an early drop in p/Z followed by a longer period of slowly-decreasing (near-constant) p/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11T08:11:33Z</dcterms:modified>
  <cp:revision>23</cp:revision>
  <dc:subject/>
  <dc:title>PowerPoint Presentation</dc:title>
</cp:coreProperties>
</file>