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3B4D-7698-4B82-98CC-18056785A7F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8A0-FEF7-4647-8615-FBC887DAC24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/>
          </p:cNvPr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condensate recovery factor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981080"/>
            <a:ext cx="59436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surface condensate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418 cu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condensate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0418 / 0.229 = 3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46080" y="7391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38080" y="6934320"/>
            <a:ext cx="7632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5280" y="7696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6200000">
            <a:off x="2933640" y="5523480"/>
            <a:ext cx="533160" cy="335304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360" y="8229600"/>
            <a:ext cx="39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Spreadsheet with recovery factor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letion recoverie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68120" y="304920"/>
            <a:ext cx="66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ich PVT data affect gas and condensate recovery factors?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438280"/>
            <a:ext cx="5943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ey data for gas recovery are the relative volumes above dew point, and the ‘wellstream produced’ data from the CV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recovery depends on the gas recovery, and also on the C6+ mole fractions in the produced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liquid saturations during the CVD (liquid drop out curve) are not relevant – they are not used in the recovery calc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GR calculat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47920"/>
            <a:ext cx="609588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GR can be estimated from the equilibrium gas compositions in the C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rom 1 lb mole of equilibrium gas, the surface ga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(1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RT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urface condensate volum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(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a reservoir pressure of 3428 psi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gas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916*10.732*520/14.7 = 347.74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oil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229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7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densate Gas ratio of equilibrium ga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859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760" y="2057400"/>
            <a:ext cx="636264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/>
          </p:cNvPr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7887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above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6019560" cy="83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rst consider depletion from initial reservoir pressure (5000 psig) to dew point pressure (3428 psig), using the CCE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single phase gas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CE data shows that the relative volume at 5000 psig is 0.853 times the volume at dew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res.bbl. of reservoir fluid at 5000 psi expands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.853 = 1.17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bbl at 3428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5000 psig, the fractional recovery 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72 / 1.172 = 14.7%.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This figure applies to all components in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7869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81080"/>
            <a:ext cx="60195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w consider depletion from dew point pressure (3428 psig) to abandonment pressure (1200 psig), using the CVD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two- phase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coveries need to be calculated by summing over each step in the CV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/>
          </p:cNvPr>
          <p:cNvSpPr/>
          <p:nvPr/>
        </p:nvSpPr>
        <p:spPr>
          <a:xfrm>
            <a:off x="332280" y="457200"/>
            <a:ext cx="5790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76520"/>
            <a:ext cx="6019920" cy="9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, we can base the recovery factors on the number of lb moles, as this is proportional to the volume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-0.0181-0.0657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916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lb moles of surface gas.  (i.e. all components except C6 and C7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number of lb moles of surface gas produced during the depletion from 3428 psi to 30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9095(1-0.0143-0.04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d during the depletion from 3000 psig to 2440 psig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0.24702-0.09095)(1-0.0108-0.02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/>
          </p:cNvPr>
          <p:cNvSpPr/>
          <p:nvPr/>
        </p:nvSpPr>
        <p:spPr>
          <a:xfrm>
            <a:off x="332280" y="45720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632448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amount of surface gas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792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b m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gas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5792 / 0.9162 = 6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78487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914040" y="6553080"/>
            <a:ext cx="304920" cy="10670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5280" y="7162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6200000">
            <a:off x="3009600" y="506664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/>
          </p:cNvPr>
          <p:cNvSpPr/>
          <p:nvPr/>
        </p:nvSpPr>
        <p:spPr>
          <a:xfrm>
            <a:off x="0" y="30492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alculating condensa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276720"/>
            <a:ext cx="615312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    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81*86/(62.5*0.659)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659*140(62.5*0.774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22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u ft of surface condens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amount of surface condensate produced during the depletion from 3428 psi to 3000 psi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25 cu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760" y="1676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ed to convert CVD composition data (in lb moles) to surface volumes. This volume is given by (no of lb moles) * MW /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0:43Z</dcterms:modified>
  <cp:revision>96</cp:revision>
  <dc:subject/>
  <dc:title>PowerPoint Presentation</dc:title>
</cp:coreProperties>
</file>