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342-8D52-42F9-A456-ADE128A5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ABD-CC7D-4F37-940A-3394DCA8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EC9-C304-4850-A6FC-7E6E19FE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FBC-B1A8-43CF-B869-F93ADE46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BF8-EC76-4C5B-ABF5-A07D2A5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B6F-223C-4D18-AB20-2F73DC53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089-7F04-41EE-818A-E832C4D7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831-B74B-4B49-A63D-253FD359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EB1-3599-4C1B-855E-90C1D48F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0AD-18B8-48C5-A6A7-9BF91304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CCC-BA32-4AC4-A171-8CBB9D6B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8DA-B4E4-4BE1-A025-C3443B0D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7A77-3745-4BB1-9BA0-3B9E5BCD5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0080" y="380880"/>
            <a:ext cx="5397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ivity Index from Arun lean gas condensat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(from SPE 28749)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3400" y="6450120"/>
            <a:ext cx="471240" cy="1100160"/>
          </a:xfrm>
          <a:prstGeom prst="upArrow">
            <a:avLst>
              <a:gd name="adj1" fmla="val 50000"/>
              <a:gd name="adj2" fmla="val 58365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7280" y="1847880"/>
            <a:ext cx="5529600" cy="4575600"/>
            <a:chOff x="287280" y="1847880"/>
            <a:chExt cx="5529600" cy="4575600"/>
          </a:xfrm>
        </p:grpSpPr>
        <p:sp>
          <p:nvSpPr>
            <p:cNvPr id="45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7760" y="518004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00160" y="471492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7760" y="424800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77760" y="377964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7760" y="331452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7760" y="284796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7760" y="2382840"/>
              <a:ext cx="4627440" cy="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7760" y="191448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052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74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48160" y="19288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70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907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29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36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57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7760" y="1914480"/>
              <a:ext cx="1440" cy="37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2840" y="5646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2840" y="51800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47149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2840" y="424800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377964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2840" y="33145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2840" y="2847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42840" y="238284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42840" y="19144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77760" y="5646600"/>
              <a:ext cx="462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6052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0274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4481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870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290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129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13336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557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977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608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7360" y="24606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90440" y="2527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62080" y="2340000"/>
              <a:ext cx="6480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34800" y="219852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6440" y="22478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952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52600" y="22478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95160" y="22921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824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41320" y="243360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2960" y="243360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4240" y="2198520"/>
              <a:ext cx="6660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7320" y="248112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8600" y="257328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1680" y="2554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4760" y="25272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7840" y="261936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19120" y="2695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92200" y="269532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5280" y="280656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35120" y="3227400"/>
              <a:ext cx="666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08200" y="345888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81280" y="357192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63720" y="364644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472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28960" y="375768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1400" y="37400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93840" y="3813120"/>
              <a:ext cx="6372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6640" y="3813120"/>
              <a:ext cx="633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59080" y="38782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1520" y="388944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3960" y="388944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6760" y="391608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9200" y="39448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71640" y="3963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54440" y="397332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6880" y="40194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19320" y="4065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2120" y="4113000"/>
              <a:ext cx="6480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84560" y="407484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7000" y="4038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4002120"/>
              <a:ext cx="651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32240" y="398124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6480" y="396396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7120" y="3990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81360" y="405756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63800" y="40939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6600" y="411300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9040" y="418788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480" y="422568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94280" y="42624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1120" y="428148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6160" y="429876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00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9840" y="3973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6680" y="401940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2080" y="411300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640" y="558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7800" y="5113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880" y="4647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7800" y="4181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880" y="37144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800" y="3247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880" y="2781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7800" y="23158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880" y="1847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488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9780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784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40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1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33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055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27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5960" y="6118200"/>
              <a:ext cx="292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Reservoir pressure (ps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-662760" y="3681000"/>
              <a:ext cx="220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ductivity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93640" y="7227720"/>
            <a:ext cx="5749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Productivity Index falls by 50% when </a:t>
            </a:r>
            <a:r>
              <a:rPr b="0" lang="en-GB" sz="1800" spc="-1" strike="noStrike" u="sng">
                <a:solidFill>
                  <a:srgbClr val="0033cc"/>
                </a:solidFill>
                <a:uFillTx/>
                <a:latin typeface="Comic Sans MS"/>
              </a:rPr>
              <a:t>BHP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 falls below dew point pressure and condensate blockage occurs. Condensate blockage starts before reservoir pressure falls below dew po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8400" y="4649760"/>
            <a:ext cx="1265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Dew point 4400 p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10000" y="5303880"/>
            <a:ext cx="193680" cy="345960"/>
          </a:xfrm>
          <a:prstGeom prst="downArrow">
            <a:avLst>
              <a:gd name="adj1" fmla="val 50000"/>
              <a:gd name="adj2" fmla="val 44656"/>
            </a:avLst>
          </a:prstGeom>
          <a:solidFill>
            <a:srgbClr val="0033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3-09-09T13:51:30Z</dcterms:modified>
  <cp:revision>77</cp:revision>
  <dc:subject/>
  <dc:title>PowerPoint Presentation</dc:title>
</cp:coreProperties>
</file>