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A74-C392-4DFD-B28D-4D1D28B3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071-3964-43FE-B04B-C44B7AA0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938-4F43-42F1-BC24-ED4911AA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403-0171-4605-B0BB-ABEB3E31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D08-F331-4D5F-B1BE-EAB2D209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9B5-C5B2-45DB-A7C8-B1153B3F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80D-2F07-45CF-9135-38D37DA6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D12-0493-4CA2-B8AF-76B23C10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EDB-792A-41E9-8632-A3E2F93A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CDD-618C-4E89-BAF4-F17BDC8D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C14-00FE-44E1-B0C0-42A1FA3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B74-21BD-470C-B4B2-11B01EB8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9B37-AF3B-4B7B-A72D-B620E23DA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101600" y="1044720"/>
                <a:ext cx="6423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surfac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urface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36560" y="6073920"/>
                <a:ext cx="4849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urtis</cp:lastModifiedBy>
  <dcterms:modified xsi:type="dcterms:W3CDTF">2003-09-03T10:45:50Z</dcterms:modified>
  <cp:revision>10</cp:revision>
  <dc:subject/>
  <dc:title>PowerPoint Presentation</dc:title>
</cp:coreProperties>
</file>