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F280-3BC4-42CF-AE52-DA8629D80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2DBB-C267-459F-B404-D55F99781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E775-5604-4482-BCBA-0E0E2408E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D0F5-2885-41EE-AAD9-E08524331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5C92-BC1B-4158-B751-7A1B90B1F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C50A-35B1-4A46-B963-61F002CA6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A5AA-F501-410F-ABAB-850F9D362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6707-E7BD-44E1-B580-CC86AF8D2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28C9-4420-44B9-987E-4B35731DF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1E6C-B917-4180-94A8-CC730BCE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9339-F1FF-4433-B762-D25542E67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18DE-07B6-4D59-B3C0-57E2A112C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256BD-4D07-4D29-AAAA-869CBE70AF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Other e-note lin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GC Material Bal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GC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GC PV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GC Block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7T11:50:24Z</dcterms:created>
  <dc:creator>CHW</dc:creator>
  <dc:description/>
  <dc:language>en-US</dc:language>
  <cp:lastModifiedBy>CHW</cp:lastModifiedBy>
  <dcterms:modified xsi:type="dcterms:W3CDTF">2003-08-17T11:50:44Z</dcterms:modified>
  <cp:revision>1</cp:revision>
  <dc:subject/>
  <dc:title>Other e-note links</dc:title>
</cp:coreProperties>
</file>