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59AE-AE9E-439F-BDBE-DEFB95A54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BA77-2FF5-4D0A-991A-F449B410E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F7DC-3B57-4AE9-A532-DE0466632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32E7-E423-4C03-B4E7-D7D286953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0F18-6E42-4415-A5A1-B4683FE08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710A-0F84-4DA4-8F24-99D11AF9E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278B-10CD-40F7-90B6-977922F1C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8FA6-C21B-43FD-AA40-7D2F1B615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6BC4-F740-4FE7-835E-1CB5FA249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1763-AA26-42A1-8004-DB39B76F5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944F-0A60-4265-9D69-7FEFEFF0A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B200-66CC-4A07-9B07-408FE6959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0B3F3-24E4-465E-8B00-8A87CFC7D6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64160" y="228600"/>
            <a:ext cx="530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Oil and gas recoveries calcu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from CCE and CV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14400" y="1139760"/>
            <a:ext cx="9307440" cy="57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8:38:45Z</dcterms:created>
  <dc:creator>CHW</dc:creator>
  <dc:description/>
  <dc:language>en-US</dc:language>
  <cp:lastModifiedBy>Robert Mott</cp:lastModifiedBy>
  <dcterms:modified xsi:type="dcterms:W3CDTF">2004-01-19T17:13:53Z</dcterms:modified>
  <cp:revision>5</cp:revision>
  <dc:subject/>
  <dc:title>PowerPoint Presentation</dc:title>
</cp:coreProperties>
</file>