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0BA4-6EBF-4E2E-9F03-5AC52FA611C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130F-9445-4FE5-A233-568DDFC4098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5480" y="304920"/>
            <a:ext cx="59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umber of wel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86400"/>
            <a:ext cx="60962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ost of the pressure drop (84 – 97% is in the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diameter is the most important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and skin have a smaller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60962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6 (with 38 w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able pressure drops in reservoir and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is the most important parameter, but aquifer size and tubing are also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280" y="304920"/>
            <a:ext cx="57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94% of the pressure drop is in th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has a major impact on performance. Aquifer and tubing size have very littl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1080" y="30492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5:21Z</dcterms:modified>
  <cp:revision>90</cp:revision>
  <dc:subject/>
  <dc:title>PowerPoint Presentation</dc:title>
</cp:coreProperties>
</file>