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C45-3464-478A-AB43-C015D5D52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6FE-415F-4C78-AA85-95FDB640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196-C89B-44D2-BFB0-C2E878DB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BEF-E6C5-478E-BD51-6A141EBA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E6B0-2946-422C-B6A7-666C1E4A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3E6-7C6A-4223-B7B0-1503EDDD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63E-410B-40B9-B5A9-6AB327D5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1E37-4E4C-4804-AA4B-04BB91E0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350-143B-4122-B416-429E305D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982-E310-4DE1-BD0D-10CDD291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7FA-CE22-47B3-9840-F80D7C42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C22-8A06-4495-A9CC-D8449353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1927-E7C2-4F40-BA69-294D9B394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63440" y="113976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69880" y="0"/>
            <a:ext cx="800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essure build-up data (analysis using single-phase and two-phase pseudo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88620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95280" y="2438280"/>
            <a:ext cx="1981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06:56:09Z</dcterms:created>
  <dc:creator>CHW</dc:creator>
  <dc:description/>
  <dc:language>en-US</dc:language>
  <cp:lastModifiedBy>Robert Mott</cp:lastModifiedBy>
  <dcterms:modified xsi:type="dcterms:W3CDTF">2004-02-13T13:45:00Z</dcterms:modified>
  <cp:revision>22</cp:revision>
  <dc:subject/>
  <dc:title>PowerPoint Presentation</dc:title>
</cp:coreProperties>
</file>