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530-8C98-410A-B801-849F8537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F1D-A6EC-453A-B897-0E91BC97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717-BCD3-43FC-9024-783C644DB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601-4584-488C-81A8-241ACA9A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CF2-1929-4DAC-B149-1DA96F3C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5F9-9032-4DEF-9169-8C80CC18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60C-FA02-474E-BBA3-82DE3A58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35B-C38F-4849-ACC7-D69A64F7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520-42F4-4F43-98E8-56E54888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BF4-216D-4259-B8DD-28B3D5B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2FA-456C-4F43-95A0-ABB9D121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301-1497-402C-8909-C332D75F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B50D-04E5-4098-8262-AA1D09320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9880" y="22860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chematic of pressure and derivative composite behavior (a) two-region composite; (b) three-region composite (from SPE 629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7439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2:40:13Z</dcterms:modified>
  <cp:revision>20</cp:revision>
  <dc:subject/>
  <dc:title>PowerPoint Presentation</dc:title>
</cp:coreProperties>
</file>