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Click to edit the title text format</a:t>
            </a: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33cc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8686800"/>
            <a:ext cx="1428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33540-19EE-478F-8072-8A24885620A3}" type="datetime3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July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752480" y="8686800"/>
            <a:ext cx="42674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019920" y="8686800"/>
            <a:ext cx="7048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F688C-CB92-4412-B1F7-A1CC20E9F9A9}" type="slidenum">
              <a:rPr b="0" lang="en-US" sz="1000" spc="-1" strike="noStrike">
                <a:solidFill>
                  <a:srgbClr val="808080"/>
                </a:solidFill>
                <a:latin typeface="Comic Sans MS"/>
              </a:rPr>
              <a:t>&lt;number&gt;</a:t>
            </a:fld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3080" y="380880"/>
            <a:ext cx="628632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ff3300"/>
                </a:solidFill>
                <a:latin typeface="Comic Sans MS"/>
              </a:rPr>
              <a:t>2-phase pseudopressure for gas condensate well test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3440" y="5334120"/>
            <a:ext cx="4229280" cy="31478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572000" y="6672240"/>
            <a:ext cx="1066680" cy="566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2-phase m(p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390840" y="5749920"/>
            <a:ext cx="118116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mic Sans MS"/>
              </a:rPr>
              <a:t>1-phase m(p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267080" y="7918200"/>
            <a:ext cx="1800" cy="415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76640" y="8288280"/>
            <a:ext cx="1257480" cy="47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ew poi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304920" y="1447920"/>
                <a:ext cx="4262400" cy="17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P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f</m:t>
                            </m:r>
                          </m:sub>
                        </m:sSub>
                      </m:sub>
                      <m:sup>
                        <m:r>
                          <m:t xml:space="preserve">P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g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o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</m:nary>
                    <m:r>
                      <m:rPr>
                        <m:lit/>
                        <m:nor/>
                      </m:rPr>
                      <m:t xml:space="preserve">d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" name=""/>
          <p:cNvSpPr/>
          <p:nvPr/>
        </p:nvSpPr>
        <p:spPr>
          <a:xfrm>
            <a:off x="4648320" y="1676520"/>
            <a:ext cx="1981080" cy="131364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ff3300"/>
                </a:solidFill>
                <a:latin typeface="Comic Sans MS"/>
              </a:rPr>
              <a:t>2</a:t>
            </a:r>
            <a:r>
              <a:rPr b="1" lang="nb-NO" sz="2000" spc="-1" strike="noStrike" baseline="30000">
                <a:solidFill>
                  <a:srgbClr val="ff3300"/>
                </a:solidFill>
                <a:latin typeface="Comic Sans MS"/>
              </a:rPr>
              <a:t>nd</a:t>
            </a:r>
            <a:r>
              <a:rPr b="1" lang="nb-NO" sz="2000" spc="-1" strike="noStrike">
                <a:solidFill>
                  <a:srgbClr val="ff3300"/>
                </a:solidFill>
                <a:latin typeface="Comic Sans MS"/>
              </a:rPr>
              <a:t> term in integral is usually neglig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461880" y="3657600"/>
                <a:ext cx="41227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kh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r>
                          <m:t xml:space="preserve">S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res</m:t>
                                </m:r>
                              </m:sub>
                            </m:sSub>
                          </m:e>
                        </m:d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f</m:t>
                                </m:r>
                              </m:sub>
                            </m:sSub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0" name=""/>
          <p:cNvSpPr/>
          <p:nvPr/>
        </p:nvSpPr>
        <p:spPr>
          <a:xfrm>
            <a:off x="4648320" y="3581280"/>
            <a:ext cx="1981080" cy="14655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ff3300"/>
                </a:solidFill>
                <a:latin typeface="Comic Sans MS"/>
              </a:rPr>
              <a:t>Condensate blockage skin included in pseudopres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21:22:44Z</dcterms:created>
  <dc:creator>CHW</dc:creator>
  <dc:description/>
  <dc:language>en-US</dc:language>
  <cp:lastModifiedBy>Robert Mott</cp:lastModifiedBy>
  <dcterms:modified xsi:type="dcterms:W3CDTF">2004-02-18T15:31:19Z</dcterms:modified>
  <cp:revision>103</cp:revision>
  <dc:subject/>
  <dc:title>PowerPoint Presentation</dc:title>
</cp:coreProperties>
</file>