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7331-16B1-4300-BDFC-52AC98D5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875-62BB-432D-9876-A33976B9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6F7-1DBE-4768-BEA7-AFDEE607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64E-4C36-409B-B582-A1B72E5A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AE5-02B3-4487-AAE9-12BE11B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002-0A6F-42F5-A1E4-57A949C0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857-97B6-4D02-BA97-6853AEA2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6F1-8B0B-4043-B2DF-602A4EBE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ECB-993E-477D-A586-EE8B80C2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FF8D-7830-4790-8D57-FB6650A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81F-5292-4B2E-B44F-98D0A90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910-75F0-4DF6-BD63-CC665A9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DCC4-779D-414C-899F-315771F5F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2480" y="1752480"/>
            <a:ext cx="24386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hange in pseudo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514600"/>
            <a:ext cx="228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3886200"/>
            <a:ext cx="2438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m(P)/dlog(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476760" y="4648320"/>
            <a:ext cx="609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53280" y="6172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pseudopres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8000" y="1371600"/>
            <a:ext cx="838656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19320" y="3962520"/>
            <a:ext cx="6705360" cy="0"/>
          </a:xfrm>
          <a:prstGeom prst="line">
            <a:avLst/>
          </a:prstGeom>
          <a:ln w="3492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5181480"/>
            <a:ext cx="6705360" cy="0"/>
          </a:xfrm>
          <a:prstGeom prst="line">
            <a:avLst/>
          </a:prstGeom>
          <a:ln w="3492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3429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nner zone (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4572000"/>
            <a:ext cx="2514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outer zone (outside condensate ba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9625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1676520"/>
            <a:ext cx="38862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difference between the two lines (about 0.2) shows the ratio between krg in the two z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95480"/>
            <a:ext cx="17524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28:33Z</dcterms:modified>
  <cp:revision>20</cp:revision>
  <dc:subject/>
  <dc:title>PowerPoint Presentation</dc:title>
</cp:coreProperties>
</file>