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3653-EF15-4B94-8218-761B2056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41D-AF79-4E0F-BDC4-F5409A76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05B-7E4B-4477-8ADE-FC5B47B2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1F3-0CF4-4A1B-A588-6426F43A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231-7D84-431A-B995-9BD0B916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FF3-BB1B-4707-AE01-8F9C4D93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3D8-8567-46A0-BF08-169AF9BA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D9F-4946-4214-ADB0-4A7ABEC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9CE-9AA3-4BCD-AB9C-9A8467B9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EBC-A1FA-4C6D-933F-C5E2DE80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688-F0A1-485E-8743-15D8F070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6F8-5646-4607-8631-ADB9D3CF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078D-D88C-4C79-8162-82F554074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30492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atching flowing bottom hole pressure data from a multi-rate well test using single well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5064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57400" y="190512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imulation (including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58128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el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6019920" y="4495680"/>
            <a:ext cx="380880" cy="76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4267080"/>
            <a:ext cx="2286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mulation (no capillary no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599840" y="3429000"/>
            <a:ext cx="304920" cy="457200"/>
          </a:xfrm>
          <a:prstGeom prst="line">
            <a:avLst/>
          </a:prstGeom>
          <a:ln w="2232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828800" y="2590920"/>
            <a:ext cx="533520" cy="6094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39:06Z</dcterms:modified>
  <cp:revision>21</cp:revision>
  <dc:subject/>
  <dc:title>PowerPoint Presentation</dc:title>
</cp:coreProperties>
</file>