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35F-4EAB-43CA-A019-3701C6CE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595-4DD2-4F21-B705-8FDAC4F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F74-8694-4FAC-AEB2-6711BDD3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E66-0E18-4AC5-BF5A-8DA217F0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27E-43F5-4FA9-B8AB-58683259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E3B-9FC7-414D-9F8B-A0F16137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F42-01A8-452C-BFA5-DE6EE0A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0598-2DE8-4FF3-BCFD-5896FCDF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C8C9-43F7-4A02-B566-7CFD0FA0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14E-4CE1-48B8-9E0E-1491A529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008-E926-448A-8236-326233F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643-3C60-403E-88D2-5BD5E29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6E73-C008-41C6-8C2C-F2DB41F7CB0D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8686800"/>
            <a:ext cx="4003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21EB-22C8-47BA-B496-D5E54306ECC8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-phase-build-up.ppt" TargetMode="External"/><Relationship Id="rId2" Type="http://schemas.openxmlformats.org/officeDocument/2006/relationships/image" Target="../media/image1.wmf"/><Relationship Id="rId3" Type="http://schemas.openxmlformats.org/officeDocument/2006/relationships/hyperlink" Target="file:///TextBox.ppt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213984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2240" y="22860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Gas Condensate Well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00200"/>
            <a:ext cx="3886200" cy="24969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44" name="">
            <a:hlinkClick r:id="rId3"/>
          </p:cNvPr>
          <p:cNvSpPr/>
          <p:nvPr/>
        </p:nvSpPr>
        <p:spPr>
          <a:xfrm>
            <a:off x="76320" y="5257800"/>
            <a:ext cx="6705360" cy="33649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ransient data during a pressure build-up can be analyzed to try and understand gas condensate well performance, by plotting the change in pseudopressure and its derivative [with respect to log(</a:t>
            </a:r>
            <a:r>
              <a:rPr b="0" lang="en-US" sz="10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t)] on a log-log plo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The build-up analysis is influenced by a near-well condensate bank with reduced k</a:t>
            </a:r>
            <a:r>
              <a:rPr b="0" lang="en-US" sz="1000" spc="-1" strike="noStrike" baseline="-25000">
                <a:solidFill>
                  <a:srgbClr val="a50021"/>
                </a:solidFill>
                <a:latin typeface="Comic Sans MS"/>
              </a:rPr>
              <a:t>rg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.</a:t>
            </a: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  </a:t>
            </a: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a single-phase gas pseudopressure to interpret well test data usually requires a radial-composite model with 2 zones. This will give information on the gas permeability in the bank and the size of the bank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Some wells may show 3-region composite radial behavior, caused by increased gas mobility at high capillary numbers near to the well. This is an area of current researc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50021"/>
                </a:solidFill>
                <a:latin typeface="Comic Sans MS"/>
              </a:rPr>
              <a:t>Using two-phase pseudopressure to interpret well test data requires a set of relative permeability curves, krg=f(krg/kro,Nc), and uses the steady-state flow theory (e.g. Fevang-Whitson method) to calculate pseudopressure, resulting in ‘normal semi-log’ radial behavi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938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Comic Sans MS"/>
              </a:rPr>
              <a:t>Multi-rate tests can also be used to understand condensate well performance, by history matching  single-well simulation models. This is usually the most reliable way of confirming the benefit of capillary number effec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48320" y="1905120"/>
                <a:ext cx="188748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48320" y="3809880"/>
                <a:ext cx="19047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4317840" y="1219320"/>
            <a:ext cx="25992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1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ex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9960" y="3200400"/>
            <a:ext cx="2568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33cc"/>
                </a:solidFill>
                <a:latin typeface="Comic Sans MS"/>
              </a:rPr>
              <a:t>2-phase pseudopres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33cc"/>
                </a:solidFill>
                <a:latin typeface="Comic Sans MS"/>
              </a:rPr>
              <a:t>(includes condensate block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EF8-7CA4-4855-8F6C-9E6DF30612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1FBE-123F-4C72-B086-C82B31CF437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228600"/>
            <a:ext cx="632448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Re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Practical Considerations in Gas Condensate Well Tes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Gas Condensate Well Testing using a Single Phas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75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33cc"/>
                </a:solidFill>
                <a:uFillTx/>
                <a:latin typeface="Comic Sans MS"/>
              </a:rPr>
              <a:t>A Novel Methodology for Well Test Analysis in Gas Condensate Reservo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830680"/>
            <a:ext cx="6324480" cy="585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Comic Sans MS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5999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-notes (c) Curtis H. Whitson, Robert E. Mo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B5E-299F-49FC-9298-136D07CC2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FE0F8-57B7-49A3-AEB4-14DD0CCE2D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7:26:25Z</dcterms:modified>
  <cp:revision>76</cp:revision>
  <dc:subject/>
  <dc:title>PowerPoint Presentation</dc:title>
</cp:coreProperties>
</file>