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55DE-E391-426B-8997-0C47724FA2A8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DE26-D60F-4957-8145-526339E73591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1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57200" y="1541520"/>
                <a:ext cx="24354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962520" y="1593720"/>
                <a:ext cx="23619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00280" y="472428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05520" y="6172200"/>
            <a:ext cx="14223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06840" y="5105520"/>
            <a:ext cx="144288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448160" y="7789680"/>
            <a:ext cx="0" cy="49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10200" y="8228160"/>
            <a:ext cx="1231920" cy="38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198108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141560" y="3200400"/>
                <a:ext cx="45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3429000" y="4191120"/>
            <a:ext cx="32004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240" y="3962160"/>
            <a:ext cx="609480" cy="2286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0:47Z</dcterms:modified>
  <cp:revision>102</cp:revision>
  <dc:subject/>
  <dc:title>PowerPoint Presentation</dc:title>
</cp:coreProperties>
</file>