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CBEC-A871-4A68-9742-ED5F9E265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04C1-BE7E-4A5A-BB3D-AB2C2ECE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790A-267B-461C-8D63-57D4C1B7B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F462-51C7-4C1B-B7D5-57E8C39C8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74FF-74A9-483F-8684-C4FCEB25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9669-4311-4371-A42D-DFA287DD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A34A-1097-4875-A1A8-85873935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D7F2-DCA1-4FFA-B6D0-8493AE7F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1F3B-3B23-49B6-AAE6-FA3A6D64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57AB-7172-43B1-BE97-4727EB16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6FA1-A27E-477A-A795-1E932B15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BDBE-7A21-4CAB-9B55-2DB4AE69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C9B2-98C5-4259-A73E-06CD69AAE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1-phase-build-up.ppt" TargetMode="External"/><Relationship Id="rId2" Type="http://schemas.openxmlformats.org/officeDocument/2006/relationships/hyperlink" Target="file:///3-region-composite.ppt" TargetMode="External"/><Relationship Id="rId3" Type="http://schemas.openxmlformats.org/officeDocument/2006/relationships/hyperlink" Target="file:///2-phase-build-up.ppt" TargetMode="External"/><Relationship Id="rId4" Type="http://schemas.openxmlformats.org/officeDocument/2006/relationships/hyperlink" Target="file:///Multi-rate-test.ppt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760" y="206280"/>
            <a:ext cx="8610480" cy="6783840"/>
          </a:xfrm>
          <a:prstGeom prst="rect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1500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ransient data during a pressure build-up can be analyzed to try and understand gas condensate well performance, by plotting the change in pseudopressure and its derivative [with respect to log(</a:t>
            </a:r>
            <a:r>
              <a:rPr b="0" lang="en-US" sz="16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t)] on a log-log plo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The build-up analysis is influenced by a near-well condensate bank with reduced k</a:t>
            </a:r>
            <a:r>
              <a:rPr b="0" lang="en-US" sz="1600" spc="-1" strike="noStrike" baseline="-25000">
                <a:solidFill>
                  <a:srgbClr val="a50021"/>
                </a:solidFill>
                <a:latin typeface="Comic Sans MS"/>
              </a:rPr>
              <a:t>rg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.</a:t>
            </a: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Using a single-phase gas pseudopressure to interpret well test data usually requires a radial-composite model with 2 zones. This will give information on the gas permeability in the bank and the size of the bank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1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Some wells may show 3-region composite radial behavior, caused by increased gas mobility at high capillary numbers near to the well. This is an area of current research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2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Comic Sans MS"/>
              </a:rPr>
              <a:t>Using two-phase pseudopressure to interpret well test data requires a set of relative permeability curves, krg=f(krg/kro,Nc), and uses the steady-state flow theory (e.g. Fevang-Whitson method) to calculate pseudopressure, resulting in ‘normal semi-log’ radial behavior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3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874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Multi-rate tests can also be used to understand condensate well performance, by history matching  single-well simulation models. This is usually the most reliable way of confirming the benefit of capillary number effects. </a:t>
            </a:r>
            <a:r>
              <a:rPr b="0" lang="en-US" sz="2000" spc="-1" strike="noStrike" u="sng">
                <a:solidFill>
                  <a:srgbClr val="008000"/>
                </a:solidFill>
                <a:uFillTx/>
                <a:latin typeface="Wingdings"/>
                <a:ea typeface="Wingdings"/>
                <a:hlinkClick r:id="rId4"/>
              </a:rPr>
              <a:t>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3:34:14Z</dcterms:modified>
  <cp:revision>18</cp:revision>
  <dc:subject/>
  <dc:title>PowerPoint Presentation</dc:title>
</cp:coreProperties>
</file>