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268-FDF6-4B9F-8783-06630FF6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88F-BD50-4E26-9B25-DC3EDECC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D67-748D-4F06-ABE5-89C6507C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4A5-0E64-4DEA-86EF-A372363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8DD-54C6-4563-9364-2DA469F4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E8E-65AA-4ECD-B39D-5D725E5F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12C-8880-44A8-B973-A87B66EB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4F1-25F4-48A0-92CD-FF074E94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6F6-E11D-4884-805C-7EBC1F2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388-DD0B-4B85-890C-31E4BF8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CE5-D86D-48BA-A038-A4DD318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D75-1A3B-4B5E-BDED-3035852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0EAF-F663-4B4A-AB8A-18D75401A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ock-curves.ppt" TargetMode="External"/><Relationship Id="rId2" Type="http://schemas.openxmlformats.org/officeDocument/2006/relationships/hyperlink" Target="krgkro.ppt" TargetMode="External"/><Relationship Id="rId3" Type="http://schemas.openxmlformats.org/officeDocument/2006/relationships/hyperlink" Target="Simul-results.ppt" TargetMode="External"/><Relationship Id="rId4" Type="http://schemas.openxmlformats.org/officeDocument/2006/relationships/hyperlink" Target="Near-well-rel-perms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Nc-models.ppt" TargetMode="External"/><Relationship Id="rId2" Type="http://schemas.openxmlformats.org/officeDocument/2006/relationships/hyperlink" Target="GPP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440" y="214200"/>
            <a:ext cx="8763120" cy="6108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    Cost ~ $100K. Saturation measurements are not really neede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1880" y="6172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533520"/>
            <a:ext cx="8763120" cy="44758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  In principle this calculation can use a black oil model with a table of IFT versus pressure, but this is not possible at present with Eclipse, so that a compositional model must be run.  A large number of components is not  needed – 5 or 6 should be suffic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6:34:20Z</dcterms:modified>
  <cp:revision>17</cp:revision>
  <dc:subject/>
  <dc:title>PowerPoint Presentation</dc:title>
</cp:coreProperties>
</file>