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95D-DA4E-40FA-A114-01EA7638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701-58A0-4C8B-BDDF-860393B3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62B-AB2E-4ACB-BF60-C3D30626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1BD-BB7B-4FD5-8178-DDA4384B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5AB-664B-45AA-BF60-E3DE1FD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58F-6305-4C48-9806-B3CE825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E6F-6CA7-48B6-A6AC-A782DC72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57F-8477-4015-8622-9E2F162E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6E2-6DB9-4106-8B11-1DC4B21C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886-1D46-4953-96A7-CD93FDF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ACC-A3C2-49F5-B8BD-B4A3353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FEC-3306-44FC-9ADC-4DD42A0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FCA-694E-47D0-A357-DE04BADAB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524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7621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mpare E300 and Fevang-Whitson models for Nc behaviour (at krg/kro=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13:14Z</dcterms:modified>
  <cp:revision>20</cp:revision>
  <dc:subject/>
  <dc:title>PowerPoint Presentation</dc:title>
</cp:coreProperties>
</file>