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EAF0-979C-44EA-BEAC-D6E61B483B9E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5EEF-3861-4A9F-8CBC-6EB4C52134A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4:26Z</dcterms:modified>
  <cp:revision>99</cp:revision>
  <dc:subject/>
  <dc:title>PowerPoint Presentation</dc:title>
</cp:coreProperties>
</file>