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991-7817-45C9-8DC9-599046B9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9BE-DEAC-4905-B721-71124917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8B3-B422-4EC9-BDC3-FFEC7FFF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695-89C9-4903-824E-C3F9C06E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076-B2AE-4646-97D5-8E748209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32D-B3F6-4935-A28C-EF690A64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E03-6242-460D-8485-03535A0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A76-459F-4B3B-88D9-FE199304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C1E-1F98-40E4-9697-9D03736B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374-1744-4DE1-93DB-9D32228C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307-4821-47D7-96FC-43E8FBB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BA1-D8CA-4D8A-85EA-375A9BC1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6120" y="8673840"/>
            <a:ext cx="13334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2876-7606-4A95-9CBB-4CB5348DCC4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24040" y="8673840"/>
            <a:ext cx="31910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19280" y="8636040"/>
            <a:ext cx="146700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C063-0478-4047-86DB-ED5703D93B2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package" Target="../embeddings/oleObject1.xlsx"/><Relationship Id="rId4" Type="http://schemas.openxmlformats.org/officeDocument/2006/relationships/hyperlink" Target="file:///Fig1.ppt" TargetMode="External"/><Relationship Id="rId5" Type="http://schemas.openxmlformats.org/officeDocument/2006/relationships/image" Target="../media/image1.wmf"/><Relationship Id="rId6" Type="http://schemas.openxmlformats.org/officeDocument/2006/relationships/package" Target="../embeddings/oleObject2.xlsx"/><Relationship Id="rId7" Type="http://schemas.openxmlformats.org/officeDocument/2006/relationships/hyperlink" Target="file:///Fig2.ppt" TargetMode="External"/><Relationship Id="rId8" Type="http://schemas.openxmlformats.org/officeDocument/2006/relationships/image" Target="../media/image2.wmf"/><Relationship Id="rId9" Type="http://schemas.openxmlformats.org/officeDocument/2006/relationships/hyperlink" Target="file:///GC-SAMPLING.PDF" TargetMode="External"/><Relationship Id="rId10" Type="http://schemas.openxmlformats.org/officeDocument/2006/relationships/hyperlink" Target="file:///GC-PVT-Expts.ppt" TargetMode="External"/><Relationship Id="rId11" Type="http://schemas.openxmlformats.org/officeDocument/2006/relationships/hyperlink" Target="file:///../MISC/UNITS-CONVERSION.PDF" TargetMode="External"/><Relationship Id="rId12" Type="http://schemas.openxmlformats.org/officeDocument/2006/relationships/hyperlink" Target="file:///IBC1999SLIDES.PPT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C-PVT-EXAMPLE+RESULTS.PPT" TargetMode="External"/><Relationship Id="rId2" Type="http://schemas.openxmlformats.org/officeDocument/2006/relationships/hyperlink" Target="file:///gas-properties.xls" TargetMode="External"/><Relationship Id="rId3" Type="http://schemas.openxmlformats.org/officeDocument/2006/relationships/hyperlink" Target="file:///CVD-ANALYSIS%20.XL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1880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4920" y="408456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34800" y="4919760"/>
            <a:ext cx="6188400" cy="3918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ccurate fluid samples are needed to define fluids in place, especially condensate volume.  Separator samples should almost always be used for gas condensate we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stant composition expansion (CCE) and constant volume depletion (CVD) experiments provide the key data for predicting recoveries during depletion, and defining the potential for gas cyclin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calculating initial fluids in place, the key PVT data are initial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mol fra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For forecasting recoveries during depletion, the most important PVT data are the gas phase Z-factor and C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mol fraction as functions of pressure. The retrograde liquid saturation (‘liquid drop-out curve’) has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no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direct impact on recoveries, and only a secondary effect on near-well condensate blockag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or gas cycling below dewpoint, the key PVT properties are gas Z-factor and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fraction, and th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 into the injection gas. Special PVT experiments are needed to measure revaporization of C</a:t>
            </a:r>
            <a:r>
              <a:rPr b="0" lang="en-US" sz="1000" spc="-1" strike="noStrike" baseline="-25000">
                <a:solidFill>
                  <a:srgbClr val="0033cc"/>
                </a:solidFill>
                <a:latin typeface="Comic Sans MS"/>
              </a:rPr>
              <a:t>6+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componen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Gas condensate viscosities can be accurately predicted from correlations.  Oil viscosity correlations are less reliable, but reasonable oil viscosities are needed for modeling condensate blocka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29000" y="1127160"/>
            <a:ext cx="3645000" cy="2932200"/>
            <a:chOff x="3429000" y="1127160"/>
            <a:chExt cx="3645000" cy="2932200"/>
          </a:xfrm>
        </p:grpSpPr>
        <p:graphicFrame>
          <p:nvGraphicFramePr>
            <p:cNvPr id="46" name=""/>
            <p:cNvGraphicFramePr/>
            <p:nvPr/>
          </p:nvGraphicFramePr>
          <p:xfrm>
            <a:off x="3429000" y="1482840"/>
            <a:ext cx="3645000" cy="25765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>
                      <a:hlinkClick r:id="rId4"/>
                    </p:cNvPr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29000" y="1482840"/>
                      <a:ext cx="3645000" cy="25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3734640" y="1127160"/>
              <a:ext cx="263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Liquid satura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9880" y="1077840"/>
            <a:ext cx="3708360" cy="2982600"/>
            <a:chOff x="299880" y="1077840"/>
            <a:chExt cx="3708360" cy="2982600"/>
          </a:xfrm>
        </p:grpSpPr>
        <p:graphicFrame>
          <p:nvGraphicFramePr>
            <p:cNvPr id="50" name=""/>
            <p:cNvGraphicFramePr/>
            <p:nvPr/>
          </p:nvGraphicFramePr>
          <p:xfrm>
            <a:off x="299880" y="1439640"/>
            <a:ext cx="3708360" cy="262080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51" name="" descr="">
                      <a:hlinkClick r:id="rId7"/>
                    </p:cNvPr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9880" y="1439640"/>
                      <a:ext cx="3708360" cy="26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789840" y="1077840"/>
              <a:ext cx="2012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1" lang="en-US" sz="1600" spc="-1" strike="noStrike" baseline="-25000">
                  <a:solidFill>
                    <a:srgbClr val="0033cc"/>
                  </a:solidFill>
                  <a:latin typeface="Comic Sans MS"/>
                </a:rPr>
                <a:t>7+</a:t>
              </a:r>
              <a:r>
                <a:rPr b="1" lang="en-US" sz="1600" spc="-1" strike="noStrike">
                  <a:solidFill>
                    <a:srgbClr val="0033cc"/>
                  </a:solidFill>
                  <a:latin typeface="Comic Sans MS"/>
                </a:rPr>
                <a:t> fraction in C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12760" y="4094280"/>
            <a:ext cx="96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9"/>
              </a:rPr>
              <a:t>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200" y="4614840"/>
            <a:ext cx="158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0"/>
              </a:rPr>
              <a:t>PVT Experi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53520" y="4044960"/>
            <a:ext cx="61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1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3080" y="4614840"/>
            <a:ext cx="24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  <a:hlinkClick r:id="rId12"/>
              </a:rPr>
              <a:t>Whats Important and Wh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3A4-A642-4ACC-AF45-229B2D4496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036DA-4367-4AA8-82D2-D38FF7108B5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632448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valuating CV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ydro PVT Manual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193356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Worked example for estimating condensate and ga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Condensate Properties (Single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VD Analysis and Material Balanc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760" y="3108240"/>
            <a:ext cx="6324480" cy="549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3EB-040C-4D34-9F96-506EC08D67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C8EAC-101A-4BB2-B7A8-3D771719718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15:35Z</dcterms:modified>
  <cp:revision>88</cp:revision>
  <dc:subject/>
  <dc:title>PowerPoint Presentation</dc:title>
</cp:coreProperties>
</file>