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7DB1-F6BC-458F-ABA6-0F0C272D4C79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B032-03D9-4876-92DB-9759B7894EC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143000"/>
            <a:ext cx="54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800" y="2209680"/>
            <a:ext cx="6024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pact of condensate blockage in a lean gas condensat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y to near-well relative perme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to estimate near-well relative permeabilities, taking account of velocity-dependent eff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ec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for the single-well radial run using straight line relative permeability curves should be about that seen for the full-field model; little blockag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re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 The plateau period of gas production of the two single-well radial runs using rock and straight-line relative permeability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not significant, you’re done. Don’t worry about condensate blockage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the difference in plateau period is significant and the correct period is important to the economics of the project, ‘engineer’ the condensate blockage problem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8760" y="609480"/>
            <a:ext cx="600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igh permeability reservoir - similar results with rock and straight line rel perms – condensate blockage is not 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66294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28760" y="406440"/>
            <a:ext cx="600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w permeability reservo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- different results with rock and straight line rel perms – condensate blockage impacts well deliv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7012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low permeability reservoi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length of the plateau is reduced by &gt;50% between the ‘best’ and ‘worst’ case scenarios for condensate blockage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the worst case scenario, we would need more wells, more compression, etc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 we will end up somewhere between the two extremes because of the increase in relative permeabilities at high capillary numb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06080"/>
            <a:ext cx="60004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calculate the change in  relative permeabilities  at high velocity?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9960" y="2819520"/>
            <a:ext cx="605808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rimental data suggest that the changes can be correlated as a function of th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pillary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Capillary Number (N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is a dimensionless number which measures the ratio between viscous and capillary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Definition of Capillary Number</a:t>
            </a:r>
            <a:br>
              <a:rPr sz="4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2209680"/>
            <a:ext cx="6400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c = velocity * viscosity / 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  Nc 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nb-NO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nb-NO" sz="2800" spc="-1" strike="noStrike">
                <a:solidFill>
                  <a:srgbClr val="3333cc"/>
                </a:solidFill>
                <a:latin typeface="Comic Sans MS"/>
              </a:rPr>
              <a:t>P(viscous)/Pc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elocity’ is the superficial pore gas velocity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rcy velocity / porosity / (1-Sw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ta must be in consistent units – simplest is to use SI units - velocity in m/s, viscosity in Pa.s, IFT in N/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240" indent="-43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" y="4038480"/>
            <a:ext cx="6724800" cy="4132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609120"/>
            <a:ext cx="64580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Eclipse 300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358400">
            <a:off x="4114440" y="5409720"/>
            <a:ext cx="258840" cy="565200"/>
          </a:xfrm>
          <a:prstGeom prst="upArrow">
            <a:avLst>
              <a:gd name="adj1" fmla="val 50000"/>
              <a:gd name="adj2" fmla="val 545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726400">
            <a:off x="1793160" y="5217120"/>
            <a:ext cx="304920" cy="690480"/>
          </a:xfrm>
          <a:prstGeom prst="upArrow">
            <a:avLst>
              <a:gd name="adj1" fmla="val 50000"/>
              <a:gd name="adj2" fmla="val 566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791320"/>
            <a:ext cx="1562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1360" y="21337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s at least 7 empirical parameters – suitable values not published in open litera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867280"/>
            <a:ext cx="1487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62294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160" y="1752480"/>
            <a:ext cx="6657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s only 2 empirical parameters – suitable values published in open lit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sed on krg as a function of krg/kro – this is the fundamental rel perm relationship which controls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46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6019920"/>
            <a:ext cx="14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ncreasing N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358400">
            <a:off x="4190760" y="6095880"/>
            <a:ext cx="258480" cy="565200"/>
          </a:xfrm>
          <a:prstGeom prst="upArrow">
            <a:avLst>
              <a:gd name="adj1" fmla="val 50000"/>
              <a:gd name="adj2" fmla="val 5466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7040" y="609480"/>
            <a:ext cx="634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hange in Rel Perms with Capillary Number -  Fevang-Whitson M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4000" y="3565440"/>
                <a:ext cx="6210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c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6553080"/>
                <a:ext cx="31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4800600"/>
                <a:ext cx="28875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2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polates between rock  and miscible (straight line) rel perms at fixed values of krg/kr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2120" y="7315200"/>
                <a:ext cx="17524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5181480"/>
            <a:ext cx="3276720" cy="25844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a gas condensate well, FBHP dropping below the dewpoint causes a significant condensate saturation buildup near the wellbore, resulting in lowered gas relative permeability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is reduced gas permeability is called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‘condensate blockage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It can lower a well’s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reservoi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I by 50 to 200% (equivalent to a skin of 5 to 20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can we run a single-well simulation with the ‘correct’  relative permeabilities  for the near-well region?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080" y="2336760"/>
            <a:ext cx="6172200" cy="68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a compositional simulator (e.g. Eclipse 300) with a model for velocity dependent rel p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ed to know the parameters for the E300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stimate capillary number and rel perms man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cribed in the next 2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s will give a first approximation of the importance of the Nc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812520"/>
            <a:ext cx="60008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Estimating capillary number and 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2336760"/>
            <a:ext cx="605808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a time step near or just after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the Capillary Number Nc and the interpolation parameter f (Nc) at each grid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ke an ‘average’ value of f – e.g. weighted according to pressure drop across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the krg vs krg/kro curve for this average value of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oose new kr vs Sg curves which honor the krg vs krg/kro relationship for this average value of 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6880" indent="-523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2394000"/>
            <a:ext cx="7086600" cy="4354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hoosing near-well rel perm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0280" y="1752480"/>
            <a:ext cx="1657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Straight line rel perm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9160" y="2362320"/>
            <a:ext cx="637920" cy="990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251460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Comic Sans MS"/>
              </a:rPr>
              <a:t>From ‘new’ kr vs Sg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05160" y="3352680"/>
            <a:ext cx="399960" cy="812880"/>
          </a:xfrm>
          <a:prstGeom prst="line">
            <a:avLst/>
          </a:prstGeom>
          <a:ln w="44280">
            <a:solidFill>
              <a:srgbClr val="ff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00560" y="4952880"/>
            <a:ext cx="1657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nterpolated krg at ‘average’ Nc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267080" y="4571640"/>
            <a:ext cx="914400" cy="762120"/>
          </a:xfrm>
          <a:prstGeom prst="line">
            <a:avLst/>
          </a:prstGeom>
          <a:ln w="4428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647712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62520" y="5486400"/>
            <a:ext cx="304560" cy="990720"/>
          </a:xfrm>
          <a:prstGeom prst="line">
            <a:avLst/>
          </a:prstGeom>
          <a:ln w="442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peat simulation using ‘near well’ rel perm curves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685800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6477120"/>
            <a:ext cx="601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For this example, the use of velocity-dependent rel perms has a significant impact, and more detailed study is justified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228600" y="2133720"/>
            <a:ext cx="7315200" cy="4494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ndensate blockage skin from single well model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2590920"/>
            <a:ext cx="165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ock curves – skin ~ 2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572000"/>
            <a:ext cx="1504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ith ‘near-well’ curves, skin ~ 7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14440" y="2641680"/>
            <a:ext cx="611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ree levels of modeling (in increasing order of complexity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condensate blockage skin from single well mode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model with  generalized pseudopressure (GPP) model for well inflow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1268280" indent="-53316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accounts for condensate blockage in the well inflow equation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96720" indent="-344160"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local grid refinement around the well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arse grid with  generalized pseudopressure (GPP) model is the recommended approach in almost all case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ull field simulation where condensate blockage is an important iss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7339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only requires a small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PP model can include velocity-dependent rel p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334120"/>
            <a:ext cx="6324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cluding LGRs increases run time and affects numerical stabi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GR only recommended for very lean gas condensates in models with very large grid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723888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2934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 this case LGR does not treat blockag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er 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ut provides accurate flowing GORs to the GPP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75840" y="1447920"/>
            <a:ext cx="6100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. (optional)  Run 1D Sensor model for these cases.  (Or just use these output files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rock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876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00 md, straight line rel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280" y="48006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 Look at development of the condensate bank with time – radius of bank and gas rel perms in the ban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3. Plot gas production rates and look at impact of condensate banking.  Is it important for the 100 md reservoir? For the 10 md reservo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2133720"/>
            <a:ext cx="65358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4.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lculate condensate blockage skin, and compare with results from simple spreadsh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5. Calculate capillary number for each grid cell near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6. Find a typical value of the parameter f for interpolating between ‘rock’ and straight line rel perms.  Assume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4000, n = 0.7.  Calculate the krg vs krg/kro relationship for the condensate ban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. Find rel perm curves which give similar krg/kro behaviour for the range of krg/kro values that occur in the condens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520" indent="-38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8. Repeat simulations with these new ‘interpolated near-well’ rel perm curves, and calculate condensate blockage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30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or the 10md, rock rel perms case 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0456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exercise (resul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1523880"/>
            <a:ext cx="6535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 little difference between st line and rock curve results for 100 md reservoir, but a significant difference for 10 m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calculations of capillary number and relative permeability interpolation give an average value of f of about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rel perm calculation shows that rel perm curves with Corey exponents of 1.9 the same krg vs krg/kro relationship the interpolated curves with f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s production profiles shows a plateau of about 3.5 years, compared with 1.5 years using rock rel perms and 4.5 years using straight line rel p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densate blockage adds pressure drop which can be important to low- and moderate-permeability (kh) wells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 permeability (kh) wells show little effect because most of the well’s pressure drop is in the tubing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w and moderate-permeability reservoirs ( kh &lt; about 10,000 md.ft ) may be affected by condensate block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ockage can still be important for fractured and horizontal wells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Calculating Well Deliverability in Gas condensate Reservo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blem Descrip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8447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 grid simulation studies using measured ‘rock’ rel perm curves often predict a significant loss in gas deliverability due to condensate blockag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ntly, numerous authors have shown from field data that the use of rock curves in radial simulations overstates the condensate blockage  effect –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 different modeling approach is neede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 experiments show tha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 perms in gas condensate systems increase at high velocity.  The rel perms in simulation models need to take account of this effect.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ollowing data will be used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VT data for the reservoir fluid – black oil or EoS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lative permeability curves from full-field simulation model (rock curves); use another field’s curves or Corey functions if no measured data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dial single-well model carefully constructed to represent an average well in the full-field model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uild a single-well radial model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cale model to represent an average well’s drainage area, OGIP, kh, et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ick gas rate as a well’s share of the total field’s plateau rat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r-z radial grid with 20-30 cells in r direction, with &lt;1 ft first block radius and logarithmic radial spacing. Run implici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well tubing tables and THP contro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first single-well radial model run should use rock curves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gas &amp; oil curves should cross at about 0.1 (0.05 - 0.12 usually); use Corey exponents 2-3 if core data are not availabl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ck curves are considered the wor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as Condensate Blockage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commend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econd single-well radial model run should use straight line (‘miscible’) curves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traight-line miscible curves are considered the best case for condensate blockage.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8760" y="507960"/>
            <a:ext cx="600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ock and straight line rel perms used to estimate possible impact of condensate blockag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934320"/>
            <a:ext cx="2171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mic Sans MS"/>
              </a:rPr>
              <a:t>Rock rel perms have crossover ‘value’ of ~ 0.08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200040" y="5638680"/>
            <a:ext cx="1143000" cy="1447920"/>
          </a:xfrm>
          <a:prstGeom prst="line">
            <a:avLst/>
          </a:prstGeom>
          <a:ln w="442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23T10:03:14Z</dcterms:modified>
  <cp:revision>103</cp:revision>
  <dc:subject/>
  <dc:title>PowerPoint Presentation</dc:title>
</cp:coreProperties>
</file>