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25A-1AE7-45BB-BB05-8D5E735D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C31-8906-434E-9FFF-55B002A9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B0F-40B6-488A-A512-28FD8777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EDA-BCA3-4AB2-8011-FD122DB7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F79-EC06-40A3-8B8D-4821CBFE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659-AA09-4C20-8863-9936AC73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AE1-24F2-4F61-BDBF-988B2A5E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800-DEBE-4B64-9109-521DE624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55C-7D73-4F7A-BC4B-7FE85B56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9FA-E2D3-4F06-8949-E3959797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4B2-8BF9-4F90-B133-60EBFA9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771-6EFC-46E8-B7B3-6EA7480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4191-D7EE-4E4D-844B-8B0FFC98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504800" y="1933560"/>
                <a:ext cx="3225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666800" y="1309680"/>
                <a:ext cx="274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724040" y="3043080"/>
                <a:ext cx="264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17800" y="3613320"/>
                <a:ext cx="211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33720" y="4191120"/>
                <a:ext cx="1904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85800" y="4991040"/>
            <a:ext cx="58672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urface gas rate, Mscf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BHFP at surface datum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flowing pressure, 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tatic pressure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tubing temperature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verage Z-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ubing diameter,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rue vertical height, 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gas specific gravity, ai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erical (unit-related) consta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ch for the units above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1.62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375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107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932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Tubing VF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26:16Z</dcterms:created>
  <dc:creator>CHW</dc:creator>
  <dc:description/>
  <dc:language>en-US</dc:language>
  <cp:lastModifiedBy>CHW</cp:lastModifiedBy>
  <dcterms:modified xsi:type="dcterms:W3CDTF">2003-08-21T22:10:18Z</dcterms:modified>
  <cp:revision>5</cp:revision>
  <dc:subject/>
  <dc:title>PowerPoint Presentation</dc:title>
</cp:coreProperties>
</file>