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A401-4E4F-4011-A1FD-3F5D6B4A337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009-5C84-4F65-B76C-F2A11937D5B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09:59:58Z</dcterms:modified>
  <cp:revision>96</cp:revision>
  <dc:subject/>
  <dc:title>PowerPoint Presentation</dc:title>
</cp:coreProperties>
</file>