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FBB-25F7-4428-9785-FCB6CEB3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E94-7F17-40F0-9F8B-DAE650E6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0E6-97AD-4C75-B1E2-C708118F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99E-DD56-499E-9D06-5C8CC212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006-E740-4881-8608-8424C7DD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934-073E-42B7-B4BC-55B89246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95F-7F3C-46BD-8828-167DC7CC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DCE-A6D6-4F85-9B77-DBA24B4A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690-4459-4595-A96C-47E65138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F76-3010-4F17-8372-362E5EAB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C00-7FB5-4A4F-AA0F-151E3A0B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283-19CA-4569-B4FC-0C0722C0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1A35-8D67-4B94-BAFA-92818D1D2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806400"/>
            <a:ext cx="853416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2480" y="380880"/>
            <a:ext cx="895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emilog plot of SCN mole fraction versus Carbon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7:15:21Z</dcterms:modified>
  <cp:revision>19</cp:revision>
  <dc:subject/>
  <dc:title>PowerPoint Presentation</dc:title>
</cp:coreProperties>
</file>