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2F33-C727-4843-8044-A10221D0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3747-CEBA-4919-B778-4D98DCCC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D3B7-FC17-4167-8CA1-55C6CE2B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1CB7-EEEA-48AE-AE34-E519711D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6C5C-7ADC-4D76-8226-990559A0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4B1F-326F-49EB-9C5C-0704D9DE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76DC-9C02-4DFA-B49F-09E92744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D659-1F90-48D9-B28A-FB7EAE30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5E18-FE45-4D8F-8276-65176D9D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F25D-B059-4E96-93DD-22B0CD71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6FDB-C335-44A7-8B02-DBCD6AA1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63F1-5A3C-40C5-8DDB-9655FE85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F1F1-0EA9-47B2-BCFB-F808CA000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63440" y="113976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and two-phase pseudopress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3886200"/>
            <a:ext cx="1981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438280"/>
            <a:ext cx="19814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45:00Z</dcterms:modified>
  <cp:revision>22</cp:revision>
  <dc:subject/>
  <dc:title>PowerPoint Presentation</dc:title>
</cp:coreProperties>
</file>