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40E-F991-4E47-B7CC-2FC2A590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847-50F4-4557-A7B4-25F10C9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D1C-8CED-4098-A0A0-3B2A46D6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FD3-4855-4D8A-BDA5-3A500768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938-5205-4D59-A86D-53F7CF86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98E-C415-49C7-A65D-51C2C8DB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47D-0F4F-4340-84A5-193F17A4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778-9B4F-46FA-B426-3618D656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424-27D7-4735-8F80-BB189DF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DD4-F31B-49B0-922E-DA48AE1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018-A648-443E-932E-40C2F58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2A1-89AA-4954-B2BE-3212AC6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6825-846D-47DE-A6BB-D836DF50C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915400" cy="5477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10000" y="304920"/>
            <a:ext cx="53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il and gas recoveries calc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from CCE and CV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8:38:45Z</dcterms:created>
  <dc:creator>CHW</dc:creator>
  <dc:description/>
  <dc:language>en-US</dc:language>
  <cp:lastModifiedBy>Robert Mott</cp:lastModifiedBy>
  <dcterms:modified xsi:type="dcterms:W3CDTF">2003-07-29T16:20:44Z</dcterms:modified>
  <cp:revision>4</cp:revision>
  <dc:subject/>
  <dc:title>PowerPoint Presentation</dc:title>
</cp:coreProperties>
</file>