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39A8-6469-41E4-9A82-D68EC45B4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6B37-064A-4A3D-8B57-87F6A49C8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B848-659A-4F80-86F7-444DF3A70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BFBA-2998-442A-84F9-9DDB5269C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A59A-5D94-4DC4-9F7A-549E92E55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6A3B-B48F-4286-8890-E09A16D32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75FC-6953-43A3-88FE-A51038C20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7300-5E28-41AE-A7AF-ECA146BD8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5127-83AD-489A-9CD3-F07042E24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C2D8-A14C-4DE9-89DF-707830DA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BDA2-C5EE-4B49-BC40-34F9828F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1462-8099-4FBF-8FD7-8D287375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86686-67AE-4691-8F66-6A94A3A283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270000"/>
            <a:ext cx="8686800" cy="5946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55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low Regions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 accurate yet simple model of a gas condensate well undergoing depletion consists of three reg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Region 1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: An inner near-wellbore region where both gas and oil flow simultaneously (at different velociti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Region 2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: A region of condensate buildup where only gas is flow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Region 3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: A region containing single phase (original) reservoir g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a given producing condition, one, two, or all three regions may exist. These three regions define ‘pseudo steady-state’ flow conditions, meaning that they represent steady-state conditions at a given time but that the conditions change gradually during deple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01T12:58:46Z</dcterms:modified>
  <cp:revision>18</cp:revision>
  <dc:subject/>
  <dc:title>PowerPoint Presentation</dc:title>
</cp:coreProperties>
</file>