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C03-32C7-48A8-9049-211F464D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3CB-2D52-48A5-822F-C94BE42A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FE2-1115-408E-B2AC-3544281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A2C-1405-4FF1-88A1-8ADB6738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A7F-9C21-47AC-9FCE-B919D3C9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538-2727-44C1-985C-A221C27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75A-27DB-40BB-B3D0-ADF1DC35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547-1CCE-46BA-8EE0-2329F11D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3FA-AE6C-4E2D-B5F1-D6CAE5C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9EC-5C48-4B3B-9275-63728E7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1F4-B7E9-444C-8E61-D301803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1FE-41D6-48AF-AFFC-F03A3F4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3E7-A593-4C3A-A6EF-6B45DD14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5487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1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27160" indent="-457200">
              <a:lnSpc>
                <a:spcPct val="130000"/>
              </a:lnSpc>
              <a:spcBef>
                <a:spcPts val="437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9:08:06Z</dcterms:modified>
  <cp:revision>25</cp:revision>
  <dc:subject/>
  <dc:title>PowerPoint Presentation</dc:title>
</cp:coreProperties>
</file>