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DC7-9348-4451-A405-EBC08059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A30-6E37-445F-9038-E9AFFE19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FC3-6A17-43F6-80BB-45F324B3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941-E21B-4684-B60E-72C935D9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428-F62E-4876-B440-13E8FE89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804-7AC1-489D-AEC0-2652DFD7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9CC-0D43-4E26-8AE3-C83D4018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E92-EFDB-47E2-AEB3-555C3090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B2B-959B-4071-B7C9-DE7B99BC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7AB-C412-4ABA-804A-06CEF01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26B-BB56-419D-A54B-8A270331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6DE-132E-4E33-809E-5B63417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628-D447-4414-ACF2-52943999F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7760" y="39204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C7+ fraction in equilibrium gas during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2440" y="5211720"/>
            <a:ext cx="5846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7+ content of the produced wellstream gives a direct measure of the change in condensate yield as pressure dec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7+ content is very closely related to the producing Condensate-Gas ratio (CG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PVT data, it is important to match the changing C7+ amount in the gas during the CVD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8800" y="981000"/>
            <a:ext cx="6685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1-29T11:04:36Z</dcterms:modified>
  <cp:revision>65</cp:revision>
  <dc:subject/>
  <dc:title>PowerPoint Presentation</dc:title>
</cp:coreProperties>
</file>