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E79-57BF-421F-A91B-CD5563E1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DA1-8558-4EFB-9E70-06915A04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7F4-608B-43BC-876A-3F8986D9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C6D-70BA-4ADA-86A8-5FF50449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18E-20D5-4E2F-B8E4-7896756B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7BD-EA49-4A43-A10E-8C38DDD9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137-1CB2-441E-8F57-E9AC495B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EFE-8DD3-48A4-8DD2-52EBC50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3DB-D78B-4DF5-8231-547A3514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2DA-54F9-4B22-B36C-AFB87605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882-B446-40F0-BFB8-CA04502B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301-F497-4796-BD50-4F5B0BC2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6164-CD00-4B39-BB80-0E4C08094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219320" y="1044720"/>
                <a:ext cx="61862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52480" y="6073920"/>
                <a:ext cx="46180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HW</cp:lastModifiedBy>
  <dcterms:modified xsi:type="dcterms:W3CDTF">2003-08-21T10:54:03Z</dcterms:modified>
  <cp:revision>7</cp:revision>
  <dc:subject/>
  <dc:title>PowerPoint Presentation</dc:title>
</cp:coreProperties>
</file>