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E473-31D9-4704-8FA8-45B987B95BC7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895-BFBE-4AF7-BD74-0253CC847D7E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1981080"/>
            <a:ext cx="54136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se the spreadsheet Production-Forecasting.xls to look at sensitivities to reservoir parameters and tubing siz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preadsheet contains data for a gas reservoir with IGIP = 8 Tscf (2.3 x 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m3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model assumes that additional wells are drilled to maintain the plateau production rate.  Assume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development plan aims for a plateau period of 5 years, with 60% recovery at the end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523880"/>
            <a:ext cx="60962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ensitivities to study (values in red give base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rme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0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0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5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 ½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+5 (da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-5 (hydraulic fra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quifer volume ratio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ume ratio = 0 (no aqui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1800" y="30492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as Fiel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ass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60962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Sensitivities to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umber of wells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Length of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Fiel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essure drop in reservoir and tubing at start of production &amp; end plat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5627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 </a:t>
            </a:r>
            <a:r>
              <a:rPr b="0" i="1" lang="en-US" sz="2400" spc="-1" strike="noStrike">
                <a:solidFill>
                  <a:srgbClr val="0033cc"/>
                </a:solidFill>
                <a:latin typeface="Comic Sans MS"/>
              </a:rPr>
              <a:t>For some cases (e.g. low permeability), it will not be possible to maintain the required plateau rate for 5 years. In these cases, find the maximum plateau rate that can be maintained for 5 years with a maximum of 50 w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5480" y="304920"/>
            <a:ext cx="59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Number of wel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486400"/>
            <a:ext cx="60962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ost of the pressure drop (84 – 97% is in the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ubing diameter is the most important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size and skin have a smaller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60962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6 (with 38 w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arable pressure drops in reservoir and tu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is the most important parameter, but aquifer size and tubing are also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280" y="304920"/>
            <a:ext cx="57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0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60962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Plateau rate with 50 wells (1E6 Sm3/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Base case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7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.5 in tubing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+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= -5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No aquifer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quifer vol = 10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6096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94% of the pressure drop is in the reservo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Skin has a major impact on performance. Aquifer and tubing size have very littl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1080" y="304920"/>
            <a:ext cx="55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Results for 1 md reservoir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CHW</cp:lastModifiedBy>
  <dcterms:modified xsi:type="dcterms:W3CDTF">2004-02-02T04:45:21Z</dcterms:modified>
  <cp:revision>90</cp:revision>
  <dc:subject/>
  <dc:title>PowerPoint Presentation</dc:title>
</cp:coreProperties>
</file>