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96F-572C-467B-A400-374C0C52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C00-4D93-4393-8CC5-2D074FD1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F62-4807-4E0B-A16D-49592C20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A99C-260F-4F21-8DE6-BC31C210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63E-DE25-4806-ADFE-5600D3A8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4C4-2778-4858-8688-3C6A9C1B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004-9AF7-4A75-A0A8-B7F2CB08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5C7-E14E-4E66-AACA-32B0C566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6AF-4CF1-4353-B801-B36AA7F2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400-B52D-46FB-B35F-84BC08F7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C6F-62BD-44F7-A8A3-1753A5F9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FF91-7C1E-4600-9255-97CAAC1A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1DAC-46F4-4853-AF46-7FD4242B0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chematic of pressure and derivative composite behavior (a) two-region composite; (b) three-region composite (from SPE 629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7439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40:13Z</dcterms:modified>
  <cp:revision>20</cp:revision>
  <dc:subject/>
  <dc:title>PowerPoint Presentation</dc:title>
</cp:coreProperties>
</file>