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121-6DAB-449B-96B3-985D8AC7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C1A-25EA-4D1F-B77A-07AECFD1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07E-4C8D-4E95-914F-54193485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D2AA-9AB0-498A-A91A-BE4E3975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C27-BE47-498D-A8DC-C432D3D9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6A3-8ABA-44DF-930D-1E80EDF5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DAD-9438-4642-90B8-5C7AC884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B9B-0D54-47A0-B0C9-6B530AF3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D4C-84C6-4F3C-B80A-FA5B095A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458-B224-41FD-A563-0B07149E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C34-40CB-4EF9-9D24-B3C5BCA7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BDD-0B4B-4C33-83E8-C06B6CF3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1BD7-9028-4A46-805D-352442C8B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Havlena-Odeh.pd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6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Bruns-Fetkovich, Effect of Water Influx on p/z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Robert Mott</cp:lastModifiedBy>
  <dcterms:modified xsi:type="dcterms:W3CDTF">2004-02-13T17:24:27Z</dcterms:modified>
  <cp:revision>7</cp:revision>
  <dc:subject/>
  <dc:title>Other e-note links</dc:title>
</cp:coreProperties>
</file>