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06033-BFCC-43B5-A650-92DB120A8434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19920" y="8686800"/>
            <a:ext cx="7048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627C2-43BA-4B07-B9E9-9E56A56D8832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 of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5054760"/>
          <a:ext cx="6572160" cy="4273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054760"/>
                    <a:ext cx="6572160" cy="42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247680" y="1155600"/>
          <a:ext cx="6288120" cy="40896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7680" y="1155600"/>
                    <a:ext cx="6288120" cy="40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6676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Liquid saturation and pressure around well in low-perm lean condensate reservoi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06680" y="2195640"/>
            <a:ext cx="1852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44760" y="1560600"/>
            <a:ext cx="366048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Comic Sans MS"/>
              </a:rPr>
              <a:t>‘</a:t>
            </a:r>
            <a:r>
              <a:rPr b="0" lang="en-GB" sz="1800" spc="-1" strike="noStrike">
                <a:solidFill>
                  <a:srgbClr val="0033cc"/>
                </a:solidFill>
                <a:latin typeface="Comic Sans MS"/>
              </a:rPr>
              <a:t>Condensate blockage’ region of high liquid saturation close to the we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1150920" y="2460600"/>
            <a:ext cx="696960" cy="739800"/>
          </a:xfrm>
          <a:prstGeom prst="line">
            <a:avLst/>
          </a:prstGeom>
          <a:ln w="2844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062080" y="6167520"/>
            <a:ext cx="36608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Comic Sans MS"/>
              </a:rPr>
              <a:t>Most of the pressure drawdown occurs close to the well, so condensate blockage has a large impact on deliverabilit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1107720" y="6434280"/>
            <a:ext cx="958680" cy="15840"/>
          </a:xfrm>
          <a:prstGeom prst="line">
            <a:avLst/>
          </a:prstGeom>
          <a:ln w="2844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3408480" y="3629160"/>
            <a:ext cx="696960" cy="739800"/>
          </a:xfrm>
          <a:prstGeom prst="line">
            <a:avLst/>
          </a:prstGeom>
          <a:ln w="2844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8360" y="3208320"/>
            <a:ext cx="40086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Comic Sans MS"/>
              </a:rPr>
              <a:t>Far from the well, liquid saturation is &lt; 2% (as in CVD exp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14400" y="5083200"/>
            <a:ext cx="6608880" cy="40608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89000" y="1147680"/>
            <a:ext cx="6357960" cy="39052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26676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Liquid saturation and pressure around well in low-perm lean condensate reservoi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06680" y="2195640"/>
            <a:ext cx="1852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93760" y="2925720"/>
            <a:ext cx="27399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Comic Sans MS"/>
              </a:rPr>
              <a:t>Semilog plot shows importance of ‘condensate blockage’ reg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2544840" y="2431800"/>
            <a:ext cx="1377720" cy="507960"/>
          </a:xfrm>
          <a:prstGeom prst="line">
            <a:avLst/>
          </a:prstGeom>
          <a:ln w="2844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11400" y="5681520"/>
            <a:ext cx="581040" cy="522360"/>
          </a:xfrm>
          <a:prstGeom prst="line">
            <a:avLst/>
          </a:prstGeom>
          <a:ln w="2844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92240" y="5049720"/>
            <a:ext cx="4067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Comic Sans MS"/>
              </a:rPr>
              <a:t>With no condensate blockage, p vs log(r) is roughly linea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463840" y="7307280"/>
            <a:ext cx="303696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Comic Sans MS"/>
              </a:rPr>
              <a:t>Steeper gradient near well is due to condensate blockag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 flipV="1">
            <a:off x="2987280" y="6673680"/>
            <a:ext cx="770040" cy="655920"/>
          </a:xfrm>
          <a:prstGeom prst="line">
            <a:avLst/>
          </a:prstGeom>
          <a:ln w="2844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01T11:57:02Z</dcterms:modified>
  <cp:revision>92</cp:revision>
  <dc:subject/>
  <dc:title>PowerPoint Presentation</dc:title>
</cp:coreProperties>
</file>