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945-9997-4B86-BD0D-37A7AA3B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7B5-C518-4096-9FB9-C475AF5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550-82D1-48DE-8255-D7A0BE69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61F-9C75-47C2-B8A5-57039816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28E-532E-4FAB-9379-6CED7B74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2EB-7E26-44C3-84B1-67B2BE55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A05-4DC1-4C3A-ABAB-F3B861BC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BCB-CB75-462C-8F51-7C2A5E51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FB2-E456-4C72-BF18-8D484C5F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5C4-0FA1-4E8D-9566-81033C8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689-8D42-4BFE-80BD-A7589172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332-0640-43B5-86ED-7D75CBD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8BC7-9E58-4ABD-AC4C-DF37D4D9C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6080" y="274680"/>
            <a:ext cx="6172200" cy="64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GOR : 5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5 000 Sm3/S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OGR : 1700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– 30 Sm3/(1E6 Sm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 : 0.5 – 12(-14) mol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 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 &lt; 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Comic Sans MS"/>
              </a:rPr>
              <a:t>cricondenth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Retrograde condensation (liquid dropout) – reduces liquid recov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blockage (productivity lo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ondensate revenues are an important part of the value of the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CGR = condensate-gas ratio = O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6238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OGR = oil-gas ratio = C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39:21Z</dcterms:created>
  <dc:creator>CHW</dc:creator>
  <dc:description/>
  <dc:language>en-US</dc:language>
  <cp:lastModifiedBy>Robert Mott</cp:lastModifiedBy>
  <dcterms:modified xsi:type="dcterms:W3CDTF">2004-02-02T17:17:19Z</dcterms:modified>
  <cp:revision>7</cp:revision>
  <dc:subject/>
  <dc:title>PowerPoint Presentation</dc:title>
</cp:coreProperties>
</file>