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5222-BDD7-4806-BB1E-6116EAA80C26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6122-CE37-4539-A991-208DB74DB90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421080"/>
            <a:ext cx="6191280" cy="551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low rate, scf/d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b-NO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units conversion factor (0.001127 in field un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permeability, m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net thickness, ft  or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external radius of drainage area, ft o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 radius, ft or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mechanical 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formation volume factor, RB/scf 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relative perme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viscosity,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il formation volume factor, RB/STB or 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oil ratio, scf/STB or 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Sm</a:t>
            </a:r>
            <a:r>
              <a:rPr b="0" lang="nb-NO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average reservoir pressure, psia or 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flowing pressure, psia or ba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Condensate Rat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”</a:t>
            </a: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1840" y="1515960"/>
                <a:ext cx="654048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278080" y="83818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Notes on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160" y="2895480"/>
            <a:ext cx="6819840" cy="418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152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erm inside the pseudopressure integral is the gas mobility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7315200"/>
            <a:ext cx="1905120" cy="1306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w point pressure of flowing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419360" y="6248160"/>
            <a:ext cx="2844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2057400"/>
            <a:ext cx="2286000" cy="100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P &gt; Dew point No condensate blo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3124080"/>
            <a:ext cx="0" cy="6098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743200"/>
            <a:ext cx="2514600" cy="1306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 &lt; Dew point Condensate blockage reduces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114800"/>
            <a:ext cx="0" cy="129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gas flow rate is proportional to the area under the mobility vs pressure curve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467240" y="4080960"/>
            <a:ext cx="0" cy="854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7840" y="2030400"/>
            <a:ext cx="6680160" cy="412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16160" y="2031840"/>
            <a:ext cx="4948200" cy="4189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00600" y="6019920"/>
            <a:ext cx="1752480" cy="696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71360" indent="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eservoi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5409720"/>
            <a:ext cx="0" cy="528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6477120"/>
            <a:ext cx="1266840" cy="696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ell B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5410080"/>
            <a:ext cx="0" cy="1054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5T14:50:09Z</dcterms:modified>
  <cp:revision>94</cp:revision>
  <dc:subject/>
  <dc:title>PowerPoint Presentation</dc:title>
</cp:coreProperties>
</file>