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C89C-1FDC-4237-9F32-92EF230C3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A3A3-B969-4522-8F0D-1D83E4554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7D3D-4DF7-4A43-BD17-BEA079309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8F87-9CCF-4315-85EA-83CDF41B2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1144-10B1-4D92-8FFE-E876E73B8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1A4C-42C8-474B-861B-AECAF4A9E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12B8-A10A-4DBA-ABCA-95391CCB5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5090-9132-49BA-B71B-60004291D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DBA5-554F-47C2-ADBF-05994FB69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B902-C7F9-48B8-B4CC-FDBC4828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3662-C121-4C6B-9502-B3973BBC1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55FB-3086-42F0-AF31-1B4DE61F2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22565-C07F-4641-A2C9-1E8C26928A3F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84BFA-442F-40B3-AF77-52D6E900F4CE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extBox.ppt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GAS%20FIELD%20DEVELOPMENT%20EXAMPLE%20AND%20RESULTS.PPT" TargetMode="External"/><Relationship Id="rId2" Type="http://schemas.openxmlformats.org/officeDocument/2006/relationships/hyperlink" Target="file:///Production-Forecasting.xls" TargetMode="External"/><Relationship Id="rId3" Type="http://schemas.openxmlformats.org/officeDocument/2006/relationships/hyperlink" Target="file:///Production-Forecasting.xls" TargetMode="External"/><Relationship Id="rId4" Type="http://schemas.openxmlformats.org/officeDocument/2006/relationships/hyperlink" Target="file:///Production-Forecasting.xls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04600" y="228600"/>
            <a:ext cx="541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Field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1"/>
          </p:cNvPr>
          <p:cNvSpPr/>
          <p:nvPr/>
        </p:nvSpPr>
        <p:spPr>
          <a:xfrm>
            <a:off x="441360" y="5105520"/>
            <a:ext cx="6188040" cy="345672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Gas field development involves the optimal selection of </a:t>
            </a:r>
            <a:r>
              <a:rPr b="0" i="1" lang="en-US" sz="1000" spc="-1" strike="noStrike" u="sng">
                <a:solidFill>
                  <a:srgbClr val="0033cc"/>
                </a:solidFill>
                <a:uFillTx/>
                <a:latin typeface="Comic Sans MS"/>
              </a:rPr>
              <a:t>well number</a:t>
            </a: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, </a:t>
            </a:r>
            <a:r>
              <a:rPr b="0" i="1" lang="en-US" sz="1000" spc="-1" strike="noStrike" u="sng">
                <a:solidFill>
                  <a:srgbClr val="0033cc"/>
                </a:solidFill>
                <a:uFillTx/>
                <a:latin typeface="Comic Sans MS"/>
              </a:rPr>
              <a:t>well placement</a:t>
            </a: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, </a:t>
            </a:r>
            <a:r>
              <a:rPr b="0" i="1" lang="en-US" sz="1000" spc="-1" strike="noStrike" u="sng">
                <a:solidFill>
                  <a:srgbClr val="0033cc"/>
                </a:solidFill>
                <a:uFillTx/>
                <a:latin typeface="Comic Sans MS"/>
              </a:rPr>
              <a:t>well tubing size</a:t>
            </a:r>
            <a:r>
              <a:rPr b="0" i="1" lang="en-US" sz="1000" spc="-1" strike="noStrike">
                <a:solidFill>
                  <a:srgbClr val="0033cc"/>
                </a:solidFill>
                <a:latin typeface="Comic Sans MS"/>
              </a:rPr>
              <a:t>, </a:t>
            </a: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and </a:t>
            </a:r>
            <a:r>
              <a:rPr b="0" i="1" lang="en-US" sz="1000" spc="-1" strike="noStrike" u="sng">
                <a:solidFill>
                  <a:srgbClr val="0033cc"/>
                </a:solidFill>
                <a:uFillTx/>
                <a:latin typeface="Comic Sans MS"/>
              </a:rPr>
              <a:t>pipeline characteristics</a:t>
            </a: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 to deliver a specified contract rate (DCQ - daily contract quota) and specified contractual (plateau) perio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The engineering tools required are (a) reservoir material balance(s); (b) well rate equations for reservoir and tubing; and (c) pipeline rate equations. Reservoir simulation is often not necessary, but may be convenien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Data acquisition is needed early to estimate key parameters in the calculations mentioned in (2). These include core data, log interpretation, geologic mapping, and well testin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Field gas rate ‘swing’ considerations may be important, accounting for a seasonal variation in production rate demand (maximum in winter)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Compression design may be important during the contractual period, but almost certainly during the decline period of produ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Comic Sans MS"/>
              </a:rPr>
              <a:t>Uncertainty analysis should focus on the parameters which are known to be important and known to be uncertain (IGIP, kh, skin, aquifer strength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6320" y="304920"/>
            <a:ext cx="6858000" cy="42098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41280" y="4572000"/>
            <a:ext cx="152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 u="sng">
                <a:solidFill>
                  <a:srgbClr val="008000"/>
                </a:solidFill>
                <a:uFillTx/>
                <a:latin typeface="Comic Sans MS"/>
              </a:rPr>
              <a:t>Unit Conver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21640" y="4572000"/>
            <a:ext cx="61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 u="sng">
                <a:solidFill>
                  <a:srgbClr val="996633"/>
                </a:solidFill>
                <a:uFillTx/>
                <a:latin typeface="Comic Sans MS"/>
              </a:rPr>
              <a:t>Un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7610-7C2C-4726-8149-3E1492EC841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1D9AFB-20A6-4D90-84C9-0D9815AB59DD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228600"/>
            <a:ext cx="6324480" cy="8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Van Dam, Planning of Optimum Production from Gas Fiel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Fetkovich, Multipoint Testing of Gas Wells (backpressure analysi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752480"/>
            <a:ext cx="6324480" cy="12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Examp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1"/>
              </a:rPr>
              <a:t>Gas Field Production Forecasting Worked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2"/>
              </a:rPr>
              <a:t>Gas Field Production Forecasting (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3"/>
              </a:rPr>
              <a:t>xls</a:t>
            </a:r>
            <a:r>
              <a:rPr b="0" lang="en-US" sz="1200" spc="-1" strike="noStrike" u="sng">
                <a:solidFill>
                  <a:srgbClr val="008000"/>
                </a:solidFill>
                <a:uFillTx/>
                <a:latin typeface="Comic Sans MS"/>
                <a:hlinkClick r:id="rId4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2830680"/>
            <a:ext cx="6324480" cy="58586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30F4-D6C5-48A1-AB83-C5D8139919D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ED58E9-4BC6-4F05-8876-A7B7F24FF086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13T17:15:02Z</dcterms:modified>
  <cp:revision>69</cp:revision>
  <dc:subject/>
  <dc:title>PowerPoint Presentation</dc:title>
</cp:coreProperties>
</file>