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7E63-BCCA-450F-9E7B-9449F972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F7B-8332-47AA-B17C-29F29947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FC6-4633-4C71-B90F-84AE89B5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C2A-CD37-4830-8B6C-4A552FE1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48A-D0A3-4E87-8A6B-CEC5F994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96B-1D20-4451-AC79-1882CD2F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6BE-6CE9-4DC0-97D8-FA38D84E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6F0-BBB3-46F4-8E8B-BFB2959F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594-8D09-4BBD-BFD8-6ED5224C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F2A-AB9D-437E-A461-83281ECE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2A1-FA26-4039-8F3D-9B2A6426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1EF-E79D-49DA-8F4C-BF730275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AE00-E8EC-4287-BABC-3AF445439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57480"/>
            <a:ext cx="5791320" cy="3953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0840" indent="-1050840" algn="ctr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 algn="ctr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2-phase Z-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initial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Z-factor at 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gas produced from depletion at pre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et gas or mo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nitial gas in place (wet gas or mole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518148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ff3300"/>
                </a:solidFill>
                <a:latin typeface="Comic Sans MS"/>
              </a:rPr>
              <a:t>Two-Phase Z-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752400" y="1427040"/>
                <a:ext cx="534996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32:45Z</dcterms:modified>
  <cp:revision>15</cp:revision>
  <dc:subject/>
  <dc:title>PowerPoint Presentation</dc:title>
</cp:coreProperties>
</file>