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9AF04-4E3C-416C-8656-B163F373955C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19920" y="8686800"/>
            <a:ext cx="7048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7D6B6-6D7E-4230-847A-988F6F8E35A6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3080" y="380880"/>
            <a:ext cx="62863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1-phase pseudopressure for gas condensate well test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57200" y="1541520"/>
                <a:ext cx="2435400" cy="13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3962520" y="1593720"/>
                <a:ext cx="236196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P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r>
                                  <m:t xml:space="preserve">Z</m:t>
                                </m:r>
                              </m:den>
                            </m:f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00280" y="4724280"/>
            <a:ext cx="5257800" cy="3733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105520" y="6172200"/>
            <a:ext cx="1422360" cy="6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2-phase m(p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706840" y="5105520"/>
            <a:ext cx="1442880" cy="65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mic Sans MS"/>
              </a:rPr>
              <a:t>1-phase m(p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4448160" y="7789680"/>
            <a:ext cx="0" cy="49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210200" y="8228160"/>
            <a:ext cx="1231920" cy="38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w poi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05000" y="198108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1141560" y="3200400"/>
                <a:ext cx="45748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es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f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1" name=""/>
          <p:cNvSpPr/>
          <p:nvPr/>
        </p:nvSpPr>
        <p:spPr>
          <a:xfrm>
            <a:off x="3429000" y="4191120"/>
            <a:ext cx="320040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ff3300"/>
                </a:solidFill>
                <a:latin typeface="Comic Sans MS"/>
              </a:rPr>
              <a:t>Condensate blockage sk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3657240" y="3962160"/>
            <a:ext cx="609480" cy="22860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18T15:30:47Z</dcterms:modified>
  <cp:revision>102</cp:revision>
  <dc:subject/>
  <dc:title>PowerPoint Presentation</dc:title>
</cp:coreProperties>
</file>