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D6E-EE2E-4D43-9206-2D9B78A5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A6A-2DDC-4956-BC63-D577649D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9CE-6B00-4A5F-98B3-89B88EF7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31E-F867-4A4D-B6F8-3A5D3F05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683-D709-4A23-8121-B42F40CC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DD0-5694-40FA-A153-05220AB5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204-1F86-430F-AC04-98671EDA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404-6491-44D2-A879-4D58420C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73D-684A-4EC5-8FAE-9649E40A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8FC-2258-42E2-9698-BB2DD823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4A8-819D-4F25-9454-778A686C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41B-E076-4FE2-BF94-FA23F41A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6037-86C8-46CA-A9E4-C69A31C4FBD5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0453-0CC9-44FE-B718-54DD8ED0559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hyperlink" Target="file:///Fig-1.ppt" TargetMode="External"/><Relationship Id="rId3" Type="http://schemas.openxmlformats.org/officeDocument/2006/relationships/hyperlink" Target="file:///Fig-2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Blockage-Skin.xls" TargetMode="External"/><Relationship Id="rId2" Type="http://schemas.openxmlformats.org/officeDocument/2006/relationships/hyperlink" Target="file:///Blockage-Skin.xls" TargetMode="External"/><Relationship Id="rId3" Type="http://schemas.openxmlformats.org/officeDocument/2006/relationships/hyperlink" Target="file:///GC-BLOCKAGE-EXAMPLE/GC-BLOCKAGE-EXAMPLE-DIFFERENT-KR.PPT" TargetMode="External"/><Relationship Id="rId4" Type="http://schemas.openxmlformats.org/officeDocument/2006/relationships/hyperlink" Target="file:///GC-BLOCKAGE-EXAMPLE/GC-BLOCKAGE-EXAMPLE-DIFFERENT-KR.PPT" TargetMode="External"/><Relationship Id="rId5" Type="http://schemas.openxmlformats.org/officeDocument/2006/relationships/hyperlink" Target="file:///GC-BLOCKAGE-EXAMPLE/GC-BLOCKAGE-EXAMPLE-DIFFERENT-KR.PPT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5880" y="155520"/>
            <a:ext cx="57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Condensate Block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322200" y="5392800"/>
            <a:ext cx="6188040" cy="3345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Condensate blockage is the build-up of liquid around the wellbore, reducing the effective gas permeability and lowering well deliverabil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ndensate saturations in the near-well region can reach 50%, reducing  the gas permeability in the near-well region by a factor of 2 to 2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Condensate blockage is only important when there is a significant pressure drop between the deep reservoir and the well perforations, and when the well is on decline (tubing-pressure limit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Condensate blockage is more important at low kh.  It is likely to be a major issue when kh &lt; ~ 1,000 md-ft.  It is unlikely to be significant when kh &gt; ~10,000 md-f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The primary relative permeability relationship affecting condensate blockage is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as a function of 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g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/k</a:t>
            </a:r>
            <a:r>
              <a:rPr b="0" lang="en-GB" sz="1000" spc="-1" strike="noStrike" baseline="-25000">
                <a:solidFill>
                  <a:srgbClr val="0033cc"/>
                </a:solidFill>
                <a:latin typeface="Comic Sans MS"/>
              </a:rPr>
              <a:t>ro</a:t>
            </a:r>
            <a:r>
              <a:rPr b="0" lang="en-GB" sz="1000" spc="-1" strike="noStrike">
                <a:solidFill>
                  <a:srgbClr val="0033cc"/>
                </a:solidFill>
                <a:latin typeface="Comic Sans MS"/>
              </a:rPr>
              <a:t> in the near-well region. Saturation does not enter the calculation.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impact of condensate blockage can be reduced by an increase in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at high velocities (capillary numbers, N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in the near-well region. Considerable evidence for this effect exists from lab experiments and well tes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876240"/>
            <a:ext cx="2514600" cy="1511280"/>
            <a:chOff x="609480" y="876240"/>
            <a:chExt cx="2514600" cy="1511280"/>
          </a:xfrm>
        </p:grpSpPr>
        <p:grpSp>
          <p:nvGrpSpPr>
            <p:cNvPr id="44" name=""/>
            <p:cNvGrpSpPr/>
            <p:nvPr/>
          </p:nvGrpSpPr>
          <p:grpSpPr>
            <a:xfrm>
              <a:off x="914760" y="1013760"/>
              <a:ext cx="1918440" cy="1158120"/>
              <a:chOff x="914760" y="1013760"/>
              <a:chExt cx="1918440" cy="1158120"/>
            </a:xfrm>
          </p:grpSpPr>
          <p:sp>
            <p:nvSpPr>
              <p:cNvPr id="45" name=""/>
              <p:cNvSpPr/>
              <p:nvPr/>
            </p:nvSpPr>
            <p:spPr>
              <a:xfrm>
                <a:off x="918000" y="186012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14760" y="1488600"/>
                <a:ext cx="0" cy="52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829960" y="1488600"/>
                <a:ext cx="0" cy="52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1857960" y="1013760"/>
                <a:ext cx="41760" cy="999000"/>
                <a:chOff x="1857960" y="1013760"/>
                <a:chExt cx="41760" cy="99900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1857960" y="1084320"/>
                  <a:ext cx="41760" cy="928440"/>
                  <a:chOff x="1857960" y="1084320"/>
                  <a:chExt cx="41760" cy="92844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185904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899720" y="1096920"/>
                    <a:ext cx="0" cy="905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1857960" y="10843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57960" y="1991520"/>
                    <a:ext cx="40320" cy="21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" name=""/>
                <p:cNvSpPr/>
                <p:nvPr/>
              </p:nvSpPr>
              <p:spPr>
                <a:xfrm flipV="1">
                  <a:off x="1877400" y="1013760"/>
                  <a:ext cx="0" cy="250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1909080" y="1585080"/>
                <a:ext cx="0" cy="421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9080" y="2007000"/>
                <a:ext cx="916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892160" y="1484640"/>
                <a:ext cx="928800" cy="531000"/>
                <a:chOff x="1892160" y="1484640"/>
                <a:chExt cx="928800" cy="53100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1900800" y="1484640"/>
                  <a:ext cx="916200" cy="523800"/>
                  <a:chOff x="1900800" y="1484640"/>
                  <a:chExt cx="916200" cy="5238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1900800" y="1484640"/>
                    <a:ext cx="916200" cy="523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900800" y="1934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1900800" y="185832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1900800" y="1783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1900800" y="170928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900800" y="163476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900800" y="155880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900800" y="14846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9368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9368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9368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9368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368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9368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9368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93680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9368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9368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9368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9368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9368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9368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9368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9368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93680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9368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19368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19368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19368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19368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19368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9368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9368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93680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9368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9368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9368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9368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9368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9368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9368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9368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9368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9368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9368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9368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9368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9368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193680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9368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9368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93680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9368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9368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19368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9368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9368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93680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93680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9368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93680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19368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368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9368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93680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9368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1974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1974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974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974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974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974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974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974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1974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1974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974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974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974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974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974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974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974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974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1974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1974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974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974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974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974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974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974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974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974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974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974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974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1974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74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974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974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974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974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974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974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1974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974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1974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1974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1974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1974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74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974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974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74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974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974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974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974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1974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974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1974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74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974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0102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0102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20102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0102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0102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0102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0102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0102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0102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0102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0102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0102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0102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0102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0102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0102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0102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0102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0102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0102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20102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0102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20102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0102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0102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01024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0102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102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0102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0102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0102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0102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0102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0102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20102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0102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20102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0102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0102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0102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01024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0102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0102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01024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0102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0102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0102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0102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0102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01024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01024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0102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01024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20102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0102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0102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01024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0102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048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048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048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048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048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048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048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04804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048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048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048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048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048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048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048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048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04804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048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048400" y="1484640"/>
                  <a:ext cx="147240" cy="522360"/>
                  <a:chOff x="2048400" y="1484640"/>
                  <a:chExt cx="147240" cy="5223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0484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0484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0484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0484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0484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0484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0484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0484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0484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484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0484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0484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0484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0484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0484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0484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0484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0484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0484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0484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0484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0484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0484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0484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0484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20484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0484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0484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0484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0484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0484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0484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0484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0484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0484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0484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0484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0484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0484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0484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1200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1200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1200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1200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1200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1200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1200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1200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1200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1200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1200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1200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1200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1200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1200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1200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1200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200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1200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1200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1200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1200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1200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1200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1200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1200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1200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1200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1200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1200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1200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21200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1200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1200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1200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1200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1200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200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1200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1200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1200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1200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1200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1200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1200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1200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200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1200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1200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1200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1200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1200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1200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1200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1200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1200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1200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1200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15820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5820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15820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15820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15820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15820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15820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15820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15820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15820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15820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15820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15820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15820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15820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15820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15820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15820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15820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15820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215820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15820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15820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5820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15820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15820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15820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15820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15820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15820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15820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15820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15820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5820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15820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15820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15820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15820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5820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15820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15820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15820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15820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15820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15820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15820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15820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15820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15820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15820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15820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15820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15820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15820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15820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15820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15820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15820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19384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9384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19384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19384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19384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19384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19384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19384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19384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19384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19384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9384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19384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19384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19384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19384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19384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19384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19384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19384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19384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19384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19384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19384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19384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19384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19384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19384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19384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19384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19384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19384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19384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19384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19384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19384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19384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19384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19384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19384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19384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19384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19384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19384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2193840" y="1484640"/>
                  <a:ext cx="184680" cy="522360"/>
                  <a:chOff x="2193840" y="1484640"/>
                  <a:chExt cx="184680" cy="5223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219384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19384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19384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19384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19384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19384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19384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19384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19384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19384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19384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19384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19384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19384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23164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23164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23164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23164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23164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23164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23164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23164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23164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23164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23164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23164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23164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23164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23164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23164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23164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23164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23164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23164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23164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23164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23164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23164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23164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23164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23164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23164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23164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23164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23164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23164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23164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23164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23164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23164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23164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23164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23164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23164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23164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23164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23164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23164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23164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23164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23164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23164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23164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23164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23164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23164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23164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23164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23164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23164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23164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23164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3032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3032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3032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3032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3032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3032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3032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3032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3032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3032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3032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3032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3032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3032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3032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3032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3032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3032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3032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3032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3032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3032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3032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23032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23032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23032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3032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3032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23032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3032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3032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3032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3032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3032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3032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3032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3032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3032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3032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3032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3032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3032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3032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3032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3032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3032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3032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3032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032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3032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3032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032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3032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3032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3032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3032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3032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032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34108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34108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34108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34108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34108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34108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34108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34108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34108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34108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34108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34108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34108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34108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34108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34108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34108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34108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34108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34108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34108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34108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34108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4108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34108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34108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34108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34108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34108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4108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34108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34108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34108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34108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34108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34108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34108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34108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34108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34108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34108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34108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34108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34108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34108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34108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34108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34108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34108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34108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34108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34108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234108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234108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234108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34108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34108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34108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377080" y="1484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377080" y="1493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377080" y="1502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377080" y="1511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377080" y="15206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377080" y="1530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377080" y="15390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377080" y="1548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377080" y="1557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377080" y="15663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377080" y="1575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377080" y="1584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2377080" y="1484640"/>
                  <a:ext cx="148680" cy="522360"/>
                  <a:chOff x="2377080" y="1484640"/>
                  <a:chExt cx="148680" cy="52236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2377080" y="1593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2377080" y="16027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2377080" y="1612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2377080" y="16210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2377080" y="1630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2377080" y="1639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377080" y="16484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377080" y="1657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377080" y="1666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2377080" y="1675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377080" y="16848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377080" y="1694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377080" y="17031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377080" y="1712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377080" y="1721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377080" y="17305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377080" y="1739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377080" y="1748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377080" y="1757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377080" y="17668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377080" y="1776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2377080" y="17852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377080" y="1794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2377080" y="1803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2377080" y="1812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2377080" y="18216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377080" y="1830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2377080" y="18399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2377080" y="1849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2377080" y="1858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2377080" y="18673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377080" y="1876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2377080" y="1885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2377080" y="1894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377080" y="190368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377080" y="1913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2377080" y="192204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2377080" y="1931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377080" y="1940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2377080" y="194940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2377080" y="1958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2377080" y="1967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2377080" y="1976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2377080" y="198576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2377080" y="1995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2377080" y="2004120"/>
                    <a:ext cx="144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2414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414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2414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2414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2414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2414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2414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2414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2414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2414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2414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2414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2414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2414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2414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414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414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414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414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414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2414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2414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2414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2414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2414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414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414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414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414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414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2414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2414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2414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2414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2414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414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414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414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414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2414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2414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2414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2414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2414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2414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414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414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414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414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2414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2414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2414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2414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2414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2414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414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414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2414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4865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4865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24865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24865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24865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24865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4865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4865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4865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4865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4865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24865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24865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24865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24865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24865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24865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24865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4865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4865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4865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24865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24865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24865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24865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24865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4865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4865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4865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4865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4865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24865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24865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24865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24865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24865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24865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4865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4865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4865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4865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24865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24865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24865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24865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24865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24865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4865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4865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4865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4865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24865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24865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24865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24865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4865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24865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4865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25239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5239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25239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5239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25239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5239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5239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5239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5239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5239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5239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5239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5239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5239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5239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25239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25239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5239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5239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5239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25239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25239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5239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5239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5239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5239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25239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25239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25239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5239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25239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25239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25239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25239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5239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25239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25239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25239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2524320" y="1484640"/>
                  <a:ext cx="185040" cy="522360"/>
                  <a:chOff x="2524320" y="1484640"/>
                  <a:chExt cx="185040" cy="52236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2524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2524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2524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2524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2524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2524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2524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2524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524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2524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524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524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524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524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524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524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524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2524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2524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2524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256032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256032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256032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256032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256032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256032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25603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256032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25603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25603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25603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25603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25603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25603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25603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25603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256032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25603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25603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25603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25603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5603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5603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256032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25603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256032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25603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25603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5603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25603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25603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25603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256032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25603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256032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256032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25603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25603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25603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25603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56032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256032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25603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56032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56032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25603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5603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56032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5603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56032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56032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56032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6032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032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56032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5603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256032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25603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597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597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597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2597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2597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2597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2597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597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597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2597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2597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2597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2597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2597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2597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2597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2597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2597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2597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2597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2597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2597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597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2597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2597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97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2597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2597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597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597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597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597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2597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2597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597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2597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2597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597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2597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597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597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2597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2597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97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2597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2597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2597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2597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2597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2597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2597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597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597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2597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2597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2597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2597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2597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26697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26697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26697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26697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26697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26697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26697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2669760" y="1548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26697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26697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6697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26697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26697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6697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26697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97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669760" y="1630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26697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26697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26697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26697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26697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26697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2669760" y="1694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26697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2669760" y="1712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26697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26697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6697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26697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26697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26697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2669760" y="1776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26697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2669760" y="1794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2669760" y="1803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26697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97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6697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26697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2669760" y="1849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2669760" y="1858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26697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2669760" y="1876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669760" y="1885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6697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26697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2669760" y="1913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26697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669760" y="1931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2669760" y="1940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2669760" y="1949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669760" y="1958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669760" y="1967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669760" y="1976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26697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2669760" y="1995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6697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707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707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707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707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707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707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1892160" y="1484640"/>
                  <a:ext cx="925200" cy="531000"/>
                  <a:chOff x="1892160" y="1484640"/>
                  <a:chExt cx="925200" cy="53100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270792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70792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70792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70792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70792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70792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70792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70792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70792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270792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270792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70792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270792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270792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70792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270792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70792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70792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70792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70792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70792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70792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70792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70792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70792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70792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70792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70792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70792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70792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70792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70792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70792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70792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70792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270792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270792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270792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70792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70792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270792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270792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270792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70792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70792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270792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70792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70792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70792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70792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70792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70792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27435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7435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7435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7435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7435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7435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7435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7435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7435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7435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7435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7435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7435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7435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7435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7435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7435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7435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7435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27435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7435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7435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7435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7435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7435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7435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7435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7435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7435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7435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7435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7435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7435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7435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7435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7435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7435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7435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7435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7435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7435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7435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7435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27435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7435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7435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27435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27435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27435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27435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27435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27435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7435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7435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27435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27435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7435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7435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781360" y="1484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781360" y="1493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2781360" y="1502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781360" y="1511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781360" y="15206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2781360" y="1530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2781360" y="1539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2781360" y="15480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2781360" y="1557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2781360" y="15663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2781360" y="1575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781360" y="1584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781360" y="1593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781360" y="16027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781360" y="1612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781360" y="1621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781360" y="16300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781360" y="1639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781360" y="16484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781360" y="1657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781360" y="1666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781360" y="1675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781360" y="1684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2781360" y="16938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2781360" y="1703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2781360" y="17121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2781360" y="1721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2781360" y="17305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781360" y="1739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781360" y="1748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2781360" y="1757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781360" y="1766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2781360" y="17758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781360" y="1785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781360" y="1794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781360" y="18032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781360" y="1812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781360" y="18216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781360" y="1830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781360" y="1839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2781360" y="1848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2781360" y="18579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781360" y="1867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781360" y="1876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781360" y="18853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2781360" y="1894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2781360" y="1903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2781360" y="191268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2781360" y="1922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2781360" y="1931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2781360" y="1940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781360" y="194904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781360" y="1958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781360" y="1967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2781360" y="197640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781360" y="1985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781360" y="199476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81360" y="2004120"/>
                    <a:ext cx="1800" cy="288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0844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226764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245088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263412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281736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1900800" y="1484640"/>
                    <a:ext cx="0" cy="5238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892160" y="20084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1892160" y="193392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1892160" y="18579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1892160" y="1783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1892160" y="170928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1892160" y="163476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1892160" y="155880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1892160" y="1484640"/>
                    <a:ext cx="864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1900800" y="2008440"/>
                    <a:ext cx="916200" cy="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V="1">
                    <a:off x="19008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flipV="1">
                    <a:off x="208440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flipV="1">
                    <a:off x="226764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 flipV="1">
                    <a:off x="245088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flipV="1">
                    <a:off x="263412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 flipV="1">
                    <a:off x="2817360" y="200808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900800" y="15678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1900800" y="15724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1900800" y="1577160"/>
                    <a:ext cx="0" cy="2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1900800" y="158004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1902600" y="1584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1902600" y="158940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1902600" y="1593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1902600" y="1598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1904400" y="160272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1904400" y="1607400"/>
                    <a:ext cx="180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1906200" y="1612080"/>
                    <a:ext cx="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4" name=""/>
                <p:cNvSpPr/>
                <p:nvPr/>
              </p:nvSpPr>
              <p:spPr>
                <a:xfrm>
                  <a:off x="1906200" y="1616400"/>
                  <a:ext cx="360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1910160" y="1622520"/>
                  <a:ext cx="180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1911960" y="1627200"/>
                  <a:ext cx="3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915200" y="1633320"/>
                  <a:ext cx="3600" cy="9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918800" y="1642320"/>
                  <a:ext cx="54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924560" y="1658880"/>
                  <a:ext cx="684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931400" y="1675800"/>
                  <a:ext cx="900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1940760" y="1692720"/>
                  <a:ext cx="12240" cy="3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953000" y="1727640"/>
                  <a:ext cx="14040" cy="121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1967400" y="1848960"/>
                  <a:ext cx="1944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1987200" y="1914120"/>
                  <a:ext cx="27000" cy="36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014200" y="1950840"/>
                  <a:ext cx="33840" cy="1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048400" y="1970640"/>
                  <a:ext cx="42840" cy="13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091240" y="1983960"/>
                  <a:ext cx="57240" cy="6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148840" y="1990440"/>
                  <a:ext cx="7344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222640" y="1994760"/>
                  <a:ext cx="96840" cy="2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319840" y="1997640"/>
                  <a:ext cx="1256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445480" y="1999440"/>
                  <a:ext cx="16344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08920" y="2000880"/>
                  <a:ext cx="211680" cy="1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820960" y="2002320"/>
                  <a:ext cx="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"/>
              <p:cNvSpPr/>
              <p:nvPr/>
            </p:nvSpPr>
            <p:spPr>
              <a:xfrm>
                <a:off x="1901160" y="1577160"/>
                <a:ext cx="423720" cy="431640"/>
              </a:xfrm>
              <a:custGeom>
                <a:avLst/>
                <a:gdLst/>
                <a:ahLst/>
                <a:rect l="l" t="t" r="r" b="b"/>
                <a:pathLst>
                  <a:path w="921" h="954">
                    <a:moveTo>
                      <a:pt x="0" y="0"/>
                    </a:moveTo>
                    <a:lnTo>
                      <a:pt x="0" y="948"/>
                    </a:lnTo>
                    <a:lnTo>
                      <a:pt x="921" y="954"/>
                    </a:lnTo>
                    <a:lnTo>
                      <a:pt x="909" y="930"/>
                    </a:lnTo>
                    <a:cubicBezTo>
                      <a:pt x="780" y="924"/>
                      <a:pt x="651" y="919"/>
                      <a:pt x="522" y="912"/>
                    </a:cubicBezTo>
                    <a:cubicBezTo>
                      <a:pt x="493" y="911"/>
                      <a:pt x="435" y="906"/>
                      <a:pt x="435" y="906"/>
                    </a:cubicBezTo>
                    <a:cubicBezTo>
                      <a:pt x="432" y="907"/>
                      <a:pt x="426" y="909"/>
                      <a:pt x="426" y="909"/>
                    </a:cubicBezTo>
                    <a:lnTo>
                      <a:pt x="408" y="900"/>
                    </a:lnTo>
                    <a:lnTo>
                      <a:pt x="312" y="876"/>
                    </a:lnTo>
                    <a:lnTo>
                      <a:pt x="261" y="834"/>
                    </a:lnTo>
                    <a:lnTo>
                      <a:pt x="192" y="756"/>
                    </a:lnTo>
                    <a:lnTo>
                      <a:pt x="156" y="657"/>
                    </a:lnTo>
                    <a:lnTo>
                      <a:pt x="141" y="603"/>
                    </a:lnTo>
                    <a:lnTo>
                      <a:pt x="135" y="573"/>
                    </a:lnTo>
                    <a:lnTo>
                      <a:pt x="114" y="336"/>
                    </a:lnTo>
                    <a:lnTo>
                      <a:pt x="90" y="252"/>
                    </a:lnTo>
                    <a:lnTo>
                      <a:pt x="54" y="183"/>
                    </a:lnTo>
                    <a:lnTo>
                      <a:pt x="18" y="114"/>
                    </a:lnTo>
                    <a:lnTo>
                      <a:pt x="15" y="90"/>
                    </a:lnTo>
                    <a:lnTo>
                      <a:pt x="6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092680" y="2004840"/>
                <a:ext cx="7326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4760" y="1331640"/>
                <a:ext cx="1915200" cy="311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65160" y="1847880"/>
                <a:ext cx="2916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865160" y="1319760"/>
                <a:ext cx="30600" cy="24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26931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27374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26488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271476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27597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2759760" y="149472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262620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194004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2383560" y="17121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229500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23835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229500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233928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2383560" y="151596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2581920" y="15814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247176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25160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2405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198432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20286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213984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2228040" y="175536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2360880" y="16466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228040" y="18640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23835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2006640" y="1560240"/>
                <a:ext cx="2592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194004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200664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20955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211716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2183760" y="19292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23835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231660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256032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2604600" y="16243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264888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253764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258192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2472480" y="1734120"/>
                <a:ext cx="134640" cy="236880"/>
                <a:chOff x="2472480" y="1734120"/>
                <a:chExt cx="134640" cy="236880"/>
              </a:xfrm>
            </p:grpSpPr>
            <p:sp>
              <p:nvSpPr>
                <p:cNvPr id="1328" name=""/>
                <p:cNvSpPr/>
                <p:nvPr/>
              </p:nvSpPr>
              <p:spPr>
                <a:xfrm flipH="1">
                  <a:off x="2538720" y="18637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2560680" y="17557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247248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2472480" y="17341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2582640" y="1798920"/>
                  <a:ext cx="24480" cy="212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>
                  <a:off x="2582640" y="19069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>
                  <a:off x="2472480" y="18853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>
                  <a:off x="253872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>
                  <a:off x="2472480" y="1950120"/>
                  <a:ext cx="24480" cy="208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7" name=""/>
              <p:cNvSpPr/>
              <p:nvPr/>
            </p:nvSpPr>
            <p:spPr>
              <a:xfrm flipH="1">
                <a:off x="2295000" y="15379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2228040" y="15602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2162160" y="1668600"/>
                <a:ext cx="259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229500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2316600" y="179964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271476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273744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2648880" y="177660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2670480" y="17341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2759760" y="177660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2781360" y="1907280"/>
                <a:ext cx="2484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2648880" y="18860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273744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2648880" y="195048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2714760" y="168984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69316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2516040" y="18205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2471760" y="166860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2427840" y="1604520"/>
                <a:ext cx="24840" cy="19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2493360" y="1494720"/>
                <a:ext cx="24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2759760" y="1841760"/>
                <a:ext cx="2592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8" name="">
              <a:hlinkClick r:id="rId2"/>
            </p:cNvPr>
            <p:cNvSpPr/>
            <p:nvPr/>
          </p:nvSpPr>
          <p:spPr>
            <a:xfrm>
              <a:off x="609480" y="876240"/>
              <a:ext cx="251460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225360" y="2529000"/>
            <a:ext cx="3191040" cy="2486160"/>
            <a:chOff x="225360" y="2529000"/>
            <a:chExt cx="3191040" cy="2486160"/>
          </a:xfrm>
        </p:grpSpPr>
        <p:grpSp>
          <p:nvGrpSpPr>
            <p:cNvPr id="1360" name=""/>
            <p:cNvGrpSpPr/>
            <p:nvPr/>
          </p:nvGrpSpPr>
          <p:grpSpPr>
            <a:xfrm>
              <a:off x="225360" y="2600280"/>
              <a:ext cx="3054240" cy="2414880"/>
              <a:chOff x="225360" y="2600280"/>
              <a:chExt cx="3054240" cy="2414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4120" y="435276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4120" y="41083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4120" y="386064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54120" y="361476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4120" y="336852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4120" y="312264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54120" y="2876400"/>
                <a:ext cx="24368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54120" y="2630520"/>
                <a:ext cx="24368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09096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7874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48112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1780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8730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568520" y="2630520"/>
                <a:ext cx="144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26360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958680" y="2630520"/>
                <a:ext cx="1800" cy="19699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4120" y="2630520"/>
                <a:ext cx="2436840" cy="196992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54120" y="2630520"/>
                <a:ext cx="1440" cy="1969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6480" y="46004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6480" y="435276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6480" y="41083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6480" y="386064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6480" y="36147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36480" y="336852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36480" y="312264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36480" y="2876400"/>
                <a:ext cx="1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6480" y="263052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4120" y="4600440"/>
                <a:ext cx="2436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309096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27874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248112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21780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18730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15685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126360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958680" y="4600440"/>
                <a:ext cx="1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654120" y="4600440"/>
                <a:ext cx="144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64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74640" y="291780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280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5096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8912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2692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6508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903240" y="28051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4140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979560" y="28288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017720" y="2854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05552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093680" y="29034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31840" y="27795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170000" y="292716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208160" y="2977920"/>
                <a:ext cx="349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246320" y="29671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284120" y="29527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322280" y="30020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36044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398600" y="30416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436760" y="310032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474920" y="33224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12720" y="344484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550880" y="350532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593720" y="354312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638360" y="35924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81200" y="3603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725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768320" y="3632040"/>
                <a:ext cx="349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811160" y="3632040"/>
                <a:ext cx="352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855800" y="366696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898640" y="36720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943280" y="36720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986120" y="3686040"/>
                <a:ext cx="3312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030400" y="37018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07324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116080" y="371628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160720" y="374184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203560" y="37656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247840" y="37908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290680" y="3770280"/>
                <a:ext cx="349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333520" y="37512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378160" y="3730680"/>
                <a:ext cx="3312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21000" y="372096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465280" y="371160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508120" y="3725640"/>
                <a:ext cx="3348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552760" y="3760560"/>
                <a:ext cx="33120" cy="4320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595600" y="37796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638440" y="379080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682720" y="38289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725560" y="3849480"/>
                <a:ext cx="352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770200" y="386856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820960" y="3878280"/>
                <a:ext cx="33480" cy="4428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871720" y="388944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922480" y="3592440"/>
                <a:ext cx="33480" cy="446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973240" y="3716280"/>
                <a:ext cx="3348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022560" y="3741840"/>
                <a:ext cx="349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075120" y="3790800"/>
                <a:ext cx="33120" cy="42840"/>
              </a:xfrm>
              <a:prstGeom prst="rect">
                <a:avLst/>
              </a:prstGeom>
              <a:solidFill>
                <a:srgbClr val="ff0000"/>
              </a:solidFill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8" name=""/>
              <p:cNvGrpSpPr/>
              <p:nvPr/>
            </p:nvGrpSpPr>
            <p:grpSpPr>
              <a:xfrm>
                <a:off x="430560" y="2600280"/>
                <a:ext cx="198720" cy="2087280"/>
                <a:chOff x="430560" y="2600280"/>
                <a:chExt cx="198720" cy="20872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540720" y="4565520"/>
                  <a:ext cx="745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430560" y="431856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0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474480" y="40744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30560" y="382752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1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74480" y="358200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30560" y="333648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2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474480" y="309096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430560" y="2845440"/>
                  <a:ext cx="1987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3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474480" y="2600280"/>
                  <a:ext cx="1425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0.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586080" y="4684680"/>
                <a:ext cx="2693520" cy="137520"/>
                <a:chOff x="586080" y="4684680"/>
                <a:chExt cx="2693520" cy="13752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3022920" y="46846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Arial"/>
                    </a:rPr>
                    <a:t>370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0" name=""/>
                <p:cNvGrpSpPr/>
                <p:nvPr/>
              </p:nvGrpSpPr>
              <p:grpSpPr>
                <a:xfrm>
                  <a:off x="586080" y="4684680"/>
                  <a:ext cx="2388600" cy="137520"/>
                  <a:chOff x="586080" y="4684680"/>
                  <a:chExt cx="2388600" cy="13752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>
                    <a:off x="2718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3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241344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21099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18054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5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15004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7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119556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49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89100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1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586080" y="4684680"/>
                    <a:ext cx="25668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Arial"/>
                      </a:rPr>
                      <a:t>5300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79" name=""/>
              <p:cNvSpPr/>
              <p:nvPr/>
            </p:nvSpPr>
            <p:spPr>
              <a:xfrm>
                <a:off x="1021680" y="4832280"/>
                <a:ext cx="170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Reservoir pressure, p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16200000">
                <a:off x="-345600" y="3540960"/>
                <a:ext cx="132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roductivity 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1" name="">
              <a:hlinkClick r:id="rId3"/>
            </p:cNvPr>
            <p:cNvSpPr/>
            <p:nvPr/>
          </p:nvSpPr>
          <p:spPr>
            <a:xfrm>
              <a:off x="254160" y="2529000"/>
              <a:ext cx="3162240" cy="247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676680" y="1287360"/>
                <a:ext cx="29163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83" name=""/>
          <p:cNvGrpSpPr/>
          <p:nvPr/>
        </p:nvGrpSpPr>
        <p:grpSpPr>
          <a:xfrm>
            <a:off x="3633840" y="2592360"/>
            <a:ext cx="3044520" cy="2541960"/>
            <a:chOff x="3633840" y="2592360"/>
            <a:chExt cx="3044520" cy="2541960"/>
          </a:xfrm>
        </p:grpSpPr>
        <p:sp>
          <p:nvSpPr>
            <p:cNvPr id="1484" name=""/>
            <p:cNvSpPr/>
            <p:nvPr/>
          </p:nvSpPr>
          <p:spPr>
            <a:xfrm>
              <a:off x="3633840" y="2592360"/>
              <a:ext cx="3044520" cy="25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r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)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50 - 500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K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rgb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CGR,rock,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337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	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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0" i="1" lang="en-US" sz="1800" spc="-1" strike="noStrike">
                  <a:solidFill>
                    <a:srgbClr val="008000"/>
                  </a:solidFill>
                  <a:latin typeface="Comic Sans MS"/>
                </a:rPr>
                <a:t>0.05 - 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N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c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 = f(q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g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,p</a:t>
              </a:r>
              <a:r>
                <a:rPr b="0" i="1" lang="en-US" sz="1800" spc="-1" strike="noStrike" baseline="-25000">
                  <a:solidFill>
                    <a:srgbClr val="0033cc"/>
                  </a:solidFill>
                  <a:latin typeface="Comic Sans MS"/>
                </a:rPr>
                <a:t>wf</a:t>
              </a:r>
              <a:r>
                <a:rPr b="0" i="1" lang="en-US" sz="1800" spc="-1" strike="noStrike">
                  <a:solidFill>
                    <a:srgbClr val="0033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77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s</a:t>
              </a:r>
              <a:r>
                <a:rPr b="1" i="1" lang="en-US" sz="1800" spc="-1" strike="noStrike" baseline="-25000">
                  <a:solidFill>
                    <a:srgbClr val="ff3300"/>
                  </a:solidFill>
                  <a:latin typeface="Comic Sans MS"/>
                </a:rPr>
                <a:t>b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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 5 - 20 (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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Comic Sans MS"/>
                </a:rPr>
                <a:t>1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51080" y="4940280"/>
              <a:ext cx="228600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5B8-CCA6-449B-944C-4CAED25BBD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A658A-BDEA-4EBF-9A00-B33BA6577EE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run SPE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Relative Permeability for Well Calc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Measurement and Correlation of Gas Condensate Relativ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33cc"/>
                </a:solidFill>
                <a:uFillTx/>
                <a:latin typeface="Comic Sans MS"/>
              </a:rPr>
              <a:t>Engineering Calculations of Gas Condensate Well 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54160" y="1638360"/>
            <a:ext cx="6324480" cy="17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ondensate blockage skin estimation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 – a simple spread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Condensate blockage – single well simulation calculations an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Single well simulations to demonstrate the fundamental 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rel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 perm relationship for condensate blockage</a:t>
            </a: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35080" y="3052800"/>
            <a:ext cx="6362640" cy="5693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E61-AD82-4B90-8976-5813634934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CC687-9D66-4600-B481-D9814AEBA69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5T12:08:22Z</dcterms:modified>
  <cp:revision>98</cp:revision>
  <dc:subject/>
  <dc:title>PowerPoint Presentation</dc:title>
</cp:coreProperties>
</file>