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F28-6EAE-48F9-B106-D3F4734A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B66-7E2A-427D-BCFD-85C63FA8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5EC-658A-4B09-B0E7-05B88082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E31-2B8D-43D0-AEFF-EFC59617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781-786E-4CA2-8017-53C27BBB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C86-79A3-47F8-AAFE-F96EA65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219-58D5-495C-B29E-8D8704A6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614-8EE7-48E8-8796-A45ADA2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4CA-6AE8-4153-9EE8-62EC71D9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947-A5F2-4F28-BBA9-384734A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ACE-9DFE-4D1B-88C8-7A4E17B7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CA8-C2B9-4B13-A9E1-AF9F0991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A53A-4B89-472E-8ECA-DDB8C56E8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98560" y="5243400"/>
            <a:ext cx="5216400" cy="3392640"/>
            <a:chOff x="898560" y="5243400"/>
            <a:chExt cx="5216400" cy="3392640"/>
          </a:xfrm>
        </p:grpSpPr>
        <p:grpSp>
          <p:nvGrpSpPr>
            <p:cNvPr id="42" name=""/>
            <p:cNvGrpSpPr/>
            <p:nvPr/>
          </p:nvGrpSpPr>
          <p:grpSpPr>
            <a:xfrm>
              <a:off x="2225520" y="5450040"/>
              <a:ext cx="3089160" cy="2458440"/>
              <a:chOff x="2225520" y="5450040"/>
              <a:chExt cx="3089160" cy="2458440"/>
            </a:xfrm>
          </p:grpSpPr>
          <p:sp>
            <p:nvSpPr>
              <p:cNvPr id="43" name=""/>
              <p:cNvSpPr/>
              <p:nvPr/>
            </p:nvSpPr>
            <p:spPr>
              <a:xfrm>
                <a:off x="4049280" y="5458320"/>
                <a:ext cx="603720" cy="24501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654440" y="5450040"/>
                <a:ext cx="660240" cy="24501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225520" y="5466960"/>
                <a:ext cx="1828440" cy="242820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6" name=""/>
            <p:cNvGraphicFramePr/>
            <p:nvPr/>
          </p:nvGraphicFramePr>
          <p:xfrm>
            <a:off x="898560" y="5243400"/>
            <a:ext cx="5216400" cy="3392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8560" y="5243400"/>
                      <a:ext cx="5216400" cy="33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279360"/>
            <a:ext cx="58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 to a gas condensa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6920" y="977760"/>
            <a:ext cx="5091840" cy="3697200"/>
            <a:chOff x="916920" y="977760"/>
            <a:chExt cx="5091840" cy="3697200"/>
          </a:xfrm>
        </p:grpSpPr>
        <p:grpSp>
          <p:nvGrpSpPr>
            <p:cNvPr id="51" name=""/>
            <p:cNvGrpSpPr/>
            <p:nvPr/>
          </p:nvGrpSpPr>
          <p:grpSpPr>
            <a:xfrm>
              <a:off x="932040" y="1369800"/>
              <a:ext cx="5076720" cy="3305160"/>
              <a:chOff x="932040" y="1369800"/>
              <a:chExt cx="5076720" cy="3305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059200" y="1619280"/>
                <a:ext cx="3126960" cy="2344320"/>
                <a:chOff x="2059200" y="1619280"/>
                <a:chExt cx="3126960" cy="2344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905280" y="1626840"/>
                  <a:ext cx="610920" cy="23367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18000" y="1619280"/>
                  <a:ext cx="668160" cy="233676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059200" y="1635120"/>
                  <a:ext cx="1850760" cy="2315520"/>
                </a:xfrm>
                <a:prstGeom prst="rect">
                  <a:avLst/>
                </a:prstGeom>
                <a:solidFill>
                  <a:srgbClr val="66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56" name=""/>
              <p:cNvGraphicFramePr/>
              <p:nvPr/>
            </p:nvGraphicFramePr>
            <p:xfrm>
              <a:off x="932040" y="1369800"/>
              <a:ext cx="5076720" cy="33051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32040" y="1369800"/>
                        <a:ext cx="5076720" cy="330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2075040" y="1979640"/>
                <a:ext cx="1852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16920" y="977760"/>
              <a:ext cx="2212200" cy="5457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1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Gas and oil are flow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66280" y="977760"/>
              <a:ext cx="1509480" cy="5457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Oil is immob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120" y="977760"/>
              <a:ext cx="996120" cy="54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Region 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mic Sans MS"/>
                </a:rPr>
                <a:t>No o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084320" y="4611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8160" y="8559720"/>
            <a:ext cx="58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finition of regions 1,2 &amp;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4960" y="8591400"/>
            <a:ext cx="495360" cy="324000"/>
          </a:xfrm>
          <a:prstGeom prst="rightArrow">
            <a:avLst>
              <a:gd name="adj1" fmla="val 50000"/>
              <a:gd name="adj2" fmla="val 38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60" y="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lowing composition is constant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07880" y="836640"/>
            <a:ext cx="645012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1760" y="5103720"/>
            <a:ext cx="64562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1T10:35:55Z</dcterms:modified>
  <cp:revision>81</cp:revision>
  <dc:subject/>
  <dc:title>PowerPoint Presentation</dc:title>
</cp:coreProperties>
</file>