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085-06AC-4351-BF1F-83ED8E1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E77-AE7B-49ED-8126-1BA447E4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A2C-726F-4AA3-99D0-9E411E7E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B24-A46F-4A3D-8C0D-C97BE83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359-890D-49F4-9ACC-CE0E92A7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25C-E5EC-465F-821B-EC89F5F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3D6-D68A-482D-961F-99A712C1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49C-4D6F-4717-99F0-9321EAE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E49-F9E0-422E-BC94-CBEBCE4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E35-1B77-4B84-B893-66496955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744-8C6D-46D7-B069-19C4078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633-F980-402A-8A8A-4D883F3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AF6-BCF3-42F8-98A0-E7CED0EE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 md reservoir – condensate blockage has a major impact on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080" y="1371600"/>
            <a:ext cx="84582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609588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mple radial simulation model results in 100 md reservoir – condensate blockage has little impact on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7925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8T15:36:41Z</dcterms:modified>
  <cp:revision>21</cp:revision>
  <dc:subject/>
  <dc:title>PowerPoint Presentation</dc:title>
</cp:coreProperties>
</file>