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E57-34FA-40A7-B0D2-FE7A1B5E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768-E85C-4A25-9C8B-90D3A385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B31-B03D-44CA-973A-E584ACD8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286-5DB2-4F4A-AB65-FCBA5B17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F3D-C6EA-4E02-B0B2-03D19DEA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A50-2AAF-483D-98B4-F3DAFADB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3C0-77EF-4980-9E53-81AFDC92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330-2300-47C8-A4A4-98F03450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BFE-99C1-45F7-BD74-3F551A3B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24C-2B49-4EF9-837A-61DDD6D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9DD-F1D6-45F9-BDBC-EDF769A0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11D-44DB-4606-9F1B-A23710F2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CE9A-494A-4687-A2CD-9716F6383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819000"/>
            <a:ext cx="8610480" cy="578736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6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6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CHW</cp:lastModifiedBy>
  <dcterms:modified xsi:type="dcterms:W3CDTF">2003-08-22T08:09:12Z</dcterms:modified>
  <cp:revision>9</cp:revision>
  <dc:subject/>
  <dc:title>PowerPoint Presentation</dc:title>
</cp:coreProperties>
</file>