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A070-6C5C-4066-BFF6-CF4FED28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107-210B-4139-B56E-C46E6E13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485-C524-4EC9-B6F2-F8522F4C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BBBA-BC58-41D2-8F59-D6500B60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41BF-3475-42E1-B921-B3923C80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DC26-6F2C-4DF3-9AB5-8A2D5399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24E-E3CD-449E-9877-B04F9505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96A6-A93F-415F-8A83-79B736CA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B7F-1724-4177-8BC5-3E141EB0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2B3E-CF62-47CD-9D1B-98B1FAE0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985E-9A08-4F23-B2E3-1D6EBEDB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FE8B-F6C6-44DA-A5ED-81A3666B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E15F-0B9C-4A86-A05F-6350BE015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743960" cy="5229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chematic of pressure and derivative composite behavior (a) two-region composite; (b) three-region composite (from SPE 629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20T11:54:26Z</dcterms:modified>
  <cp:revision>21</cp:revision>
  <dc:subject/>
  <dc:title>PowerPoint Presentation</dc:title>
</cp:coreProperties>
</file>