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C2BA-5A07-496B-8D1B-B294BD4D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BEF3-C118-4219-849B-BEFF65FA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AA0-1AF9-4D1D-B20E-15F54CAB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4FE-CE4E-4B22-BC63-9BE65DDD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4C31-CA14-4B4E-AE90-E7804EDF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28D8-7653-4378-859F-92197DB7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0F6E-F319-4A45-A086-C0DACA2A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FEE-57E5-451F-8521-4BB77827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6A3-96E2-4821-A141-5995F344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6FDB-3CC7-4142-B166-28D9D3FA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EE22-71C9-4127-B1F9-B09ED528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771-9D09-4E3F-8038-C96F5D3B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0A4D-9BA9-44D2-A86E-68AF9F1B5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60400" y="809640"/>
          <a:ext cx="6188040" cy="411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809640"/>
                    <a:ext cx="618804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794240" y="363600"/>
            <a:ext cx="32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Liquid saturation in CV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2440" y="5211720"/>
            <a:ext cx="584676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CVD ‘liquid dropout curve’ is perhaps the most familiar PVT property of a condensate fluid, but it has little direct impact on reservoir and well perform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n tuning an EOS model to CVD data, it is much more important to match the gas Z-factor and C7+ fraction in produced g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Net revaporization of retrograde condensate starts only at very low pressures (&lt;50 bar). It does not start when the liquid volume starts dropping (e.g. 140 bar above), as this drop is related to solution gas coming out of solution from the retrograde condensate (‘shrinkage’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3-08-18T10:10:25Z</dcterms:modified>
  <cp:revision>64</cp:revision>
  <dc:subject/>
  <dc:title>PowerPoint Presentation</dc:title>
</cp:coreProperties>
</file>