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B93-5D54-44E7-9853-CCC76677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E66-DE96-42B5-8BB9-B432ACE4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48F-CB0C-436D-BEC4-8DA1F2FD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FA5-12D1-4BFE-911C-7014A0C8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D63-B657-4FC9-A1D2-D9F37263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5E6-DA53-4E68-A529-51405D1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F04-21FB-4E1A-BF18-27E4394F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D5B-CF59-4584-AC87-0E83A710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BB5-A2F1-41BD-A84C-C5D8AB1A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C12-9368-402A-A00D-53CB4DE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6BC-C352-4CC2-A897-A22C76D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9D8-8AD4-439A-A261-2D8969C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00BB-6820-47A7-8C13-82A3A46BB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rg/kro from PVT data for a rich gas condens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2209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 near-well region,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1 &lt; krg/kro &lt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34290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434880" y="1600200"/>
            <a:ext cx="8272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mmiscible-type Data (from SPE 564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40" y="914400"/>
            <a:ext cx="8194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6:48:54Z</dcterms:modified>
  <cp:revision>18</cp:revision>
  <dc:subject/>
  <dc:title>PowerPoint Presentation</dc:title>
</cp:coreProperties>
</file>