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8DD-481A-42B7-AC38-EE146A09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0E4-BE77-4BBD-BFBD-F6756F5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A15-575B-482D-A55F-D254BE64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54B-B347-46C5-B064-A41A4CA0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9B5-8032-4C9A-A973-100B3BFB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D42-B0DB-4364-B433-6D89F8A5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D93-0E5A-4FEC-9B09-0550940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1BB-8E32-44B1-85B8-C1962DA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57F-1259-4E9C-B017-E2614816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774-44AC-4E7E-8701-7D19345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C03-CAA8-46AC-B0A2-5AD49CD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13B-2ECD-45CB-95C2-D40BB1C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D75C-7C37-464E-B293-17C408B26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8120" y="3271680"/>
            <a:ext cx="5981760" cy="2802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 = condensate blockage sk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outside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gas relative permeability in near-well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blockage)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outer radius of blockage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nb-NO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152280"/>
            <a:ext cx="628632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Estimating skin due to condensate bl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87480" y="1143000"/>
                <a:ext cx="43466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gb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8-01T08:32:21Z</dcterms:modified>
  <cp:revision>12</cp:revision>
  <dc:subject/>
  <dc:title>PowerPoint Presentation</dc:title>
</cp:coreProperties>
</file>