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A5F-BA04-448C-8A11-594ADA90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22C-35A2-4B61-A519-7832C181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16F-07A9-4697-916F-C1ADA79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A00-F6B9-4F6A-9A87-FCE0C8B8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E3E-6487-4F52-8CF0-FB11B34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3A7-2812-425D-BA8A-AE7483E1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2A2-1622-48AB-B895-30F24EEA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1A9-DE45-4AD4-8244-92D06E93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59F-971F-4A4D-9535-F213461A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D16-7823-406C-8804-673E254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FF0-AF06-4C23-89AA-6A9DEB1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934-0287-44E1-8FEC-EB4FB78A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40D7-AF02-442D-81A6-C9891E78C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600" y="152280"/>
            <a:ext cx="7209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ing OGR and well bottom hol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llowing rate reduction during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307440" cy="57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70360" y="1143000"/>
            <a:ext cx="13420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OG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0" y="3276720"/>
            <a:ext cx="228600" cy="83808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77000" y="4114800"/>
            <a:ext cx="1523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ew point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in-situ flu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0" cy="381240"/>
          </a:xfrm>
          <a:prstGeom prst="line">
            <a:avLst/>
          </a:prstGeom>
          <a:ln w="25560">
            <a:solidFill>
              <a:srgbClr val="ff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0040" y="4648320"/>
            <a:ext cx="657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w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12960" y="2514600"/>
            <a:ext cx="2100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ducing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09:29:46Z</dcterms:modified>
  <cp:revision>22</cp:revision>
  <dc:subject/>
  <dc:title>PowerPoint Presentation</dc:title>
</cp:coreProperties>
</file>