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C0CE-E91D-499B-A806-BF8BBD09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D557-ACB3-40E9-A00E-038E8940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97D-7BD7-4FF7-8E79-9E8593DD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5ACC-6031-4648-AD63-6BFB33AE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2F6-E95C-4FC8-8833-6313C140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F14-B3DB-4EC4-8356-4FB9815C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F618-EA0E-43C7-BDB0-5BF15934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7FD8-A7D5-403D-9061-DD85F151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B6E6-AC2A-4284-ACE1-FFDC5239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DB1B-41C2-4964-88B3-DC40D806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B8DB-9904-429F-A3B3-933BB395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235-556C-42CB-9669-290EBF9B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AC6C-7B99-4A91-ADC2-FC43C6E37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64160" y="228600"/>
            <a:ext cx="53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il and gas recoveries 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rom CCE and 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139760"/>
            <a:ext cx="930744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7:13:53Z</dcterms:modified>
  <cp:revision>5</cp:revision>
  <dc:subject/>
  <dc:title>PowerPoint Presentation</dc:title>
</cp:coreProperties>
</file>