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DBA-582E-4A84-9A0D-A51D16C0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66B-9500-4753-A126-C820AE7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FBB-4AA0-4226-8A3F-F72BC4DD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6C5-CFC6-413A-A391-26BE3C3B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4B9-4940-4258-8CE6-FC0C88A4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BF3-087A-4A18-9BEB-3392BCF3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963-D23D-4C55-A1AE-E3549BD6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BE4-E6D6-41E9-938E-7976038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71F-B04E-478B-A258-43D91C64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FA6-4025-486E-80AB-52AB68C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796-8AE5-45ED-B207-FBF41FD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06C-1018-4CDB-84AD-F97F4C40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EA24-5441-445A-B19A-EC21218C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4240" y="1143000"/>
                <a:ext cx="66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VDn</m:t>
                                        </m:r>
                                        <m:r>
                                          <m:t xml:space="preserve">+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443320" y="6705720"/>
                <a:ext cx="1969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VD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9680" y="8229600"/>
                <a:ext cx="1897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43080" y="36972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01920" y="4821120"/>
                <a:ext cx="2054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5840" y="4114800"/>
            <a:ext cx="62863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3333cc"/>
                </a:solidFill>
                <a:latin typeface="Comic Sans MS"/>
              </a:rPr>
              <a:t>Recovery down to dewpoint (applies to both oil and g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nb-NO" sz="1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p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d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6019920"/>
            <a:ext cx="6286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CGR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s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) relation to mol-% C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5840" y="7543800"/>
            <a:ext cx="628632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3333cc"/>
                </a:solidFill>
                <a:latin typeface="Comic Sans MS"/>
              </a:rPr>
              <a:t>Surface Gas Equivalent of Cond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(idealized ’perfect’ separation into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-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 and C</a:t>
            </a:r>
            <a:r>
              <a:rPr b="0" i="1" lang="nb-NO" sz="1600" spc="-1" strike="noStrike" baseline="-25000">
                <a:solidFill>
                  <a:srgbClr val="3333cc"/>
                </a:solidFill>
                <a:latin typeface="Comic Sans MS"/>
              </a:rPr>
              <a:t>n+</a:t>
            </a:r>
            <a:r>
              <a:rPr b="0" i="1" lang="nb-NO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4320" y="2895480"/>
                <a:ext cx="539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Δ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VDn</m:t>
                                    </m:r>
                                    <m:r>
                                      <m:t xml:space="preserve">+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43080" y="2046240"/>
            <a:ext cx="6286320" cy="6116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Gas Depletion Recovery Fac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ff3300"/>
                </a:solidFill>
                <a:latin typeface="Comic Sans MS"/>
              </a:rPr>
              <a:t>(assumes no water in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4:43:53Z</dcterms:modified>
  <cp:revision>13</cp:revision>
  <dc:subject/>
  <dc:title>PowerPoint Presentation</dc:title>
</cp:coreProperties>
</file>