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381-1CF2-4FAF-A497-4185BB1A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B28-52C5-4FEF-BE88-BFE9F64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11B-B95C-4B1E-AFE0-404C51B3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2A1-31E0-4A22-ADF7-F185D68E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C83-E225-446F-8A59-C77D758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6CE-A761-491E-A226-D8F8633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220-36DB-4A29-8320-E85AC91C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35C-1A07-429C-AB22-351E89B0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1A3-8CBF-4D9C-A4BD-949BDFF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F10-8EBA-4754-B4B1-02F2BF3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8EE-0CF1-4760-8F19-FC86C56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D6B-FFB5-4720-A58B-5B2CBCF5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E6C-6542-4982-B562-AFFD3B27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376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16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16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16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16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16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6T11:24:45Z</dcterms:modified>
  <cp:revision>7</cp:revision>
  <dc:subject/>
  <dc:title>PowerPoint Presentation</dc:title>
</cp:coreProperties>
</file>