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AAD-3D71-4521-A869-DC784B5C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879-7BC3-4173-9F1B-90446C48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4FA-9529-4E44-BE5B-802396D4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FC2-664A-4469-87F7-1536C32F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B81-1B2B-412B-8F67-D13B0FC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6B5-73F7-4B6B-88D5-8C298907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FAD-AE39-4AA3-8771-99B5F3B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30B-AED3-477D-9216-82A4657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206-D10F-4AB4-ACAF-CC746A77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301-8A57-40DA-9600-2F64312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2AD-202D-471F-B056-0F7568B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94E-4080-4951-9AA8-0AF94D02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1D60-1225-4B2C-8740-A200FA577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ackpressur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4013280"/>
            <a:ext cx="5333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constan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equatio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stant contains all of the terms as for the general equation, but also includes (empirically) the n and rate-dependent skin term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8840" y="1752480"/>
                <a:ext cx="36766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27040" y="2728800"/>
                <a:ext cx="3144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3080" y="88884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71640" y="2413080"/>
                <a:ext cx="4530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11120" y="149868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295280" y="5460840"/>
            <a:ext cx="426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rate-dependent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31840" y="3835440"/>
                <a:ext cx="18576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80000" y="3801960"/>
                <a:ext cx="18586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2209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1T12:27:04Z</dcterms:modified>
  <cp:revision>27</cp:revision>
  <dc:subject/>
  <dc:title>PowerPoint Presentation</dc:title>
</cp:coreProperties>
</file>