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5E3-0C8A-4344-8245-57A86AA1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51B-7B13-49EB-87DB-73868F27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8DB-562A-46CF-8D4D-B1595A98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A72-0AF5-46A9-A943-80E5DEF9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D84-403E-489B-8B46-1DC80E72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30DF-B9D9-41DB-9379-D397030C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FA91-FE02-4562-9CDB-BF518A63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FDA-C8D1-4468-AE0C-AF139867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9D3-6AB0-4A44-B966-8E157BDA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2A1-221E-44D6-BBBA-4ACF095E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02E-763A-4B00-B007-E1B3490F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BE4-FA7E-4289-AA99-97CD8245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BAFD-8254-4E74-8C4E-DF9E3E510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7960" y="279360"/>
            <a:ext cx="58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Generalized krg/kro plot based on Corey rel per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50920" y="5016600"/>
            <a:ext cx="5121360" cy="54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ost of the pressure drawdown is in Region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Region 1 is most important for calculating productiv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520" y="1231920"/>
            <a:ext cx="6810480" cy="5210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13160" y="7424640"/>
            <a:ext cx="233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Comic Sans MS"/>
              </a:rPr>
              <a:t>Fig 17 from SPE 307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1-22T09:26:22Z</dcterms:modified>
  <cp:revision>78</cp:revision>
  <dc:subject/>
  <dc:title>PowerPoint Presentation</dc:title>
</cp:coreProperties>
</file>