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CCE-98D7-4BBB-8FBD-FA3ACD7E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8EC-DDEC-4F9B-9D41-807AFA3F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27D-6CCB-4669-9BFD-4EBE0F43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9F5-FA9F-400F-8AA5-CDCFAC43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99C-732E-4DE9-8262-BD904880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949-3765-4D35-86CB-F51BAAC9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607-C9E3-4E05-808B-925387F1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9E8-5BD0-4C74-92A9-B953C6DB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60A-9BD9-44D5-ADFC-B242C38C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AAA-B0BC-44B4-ABA5-71D76936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048-0271-45A7-B61D-1D945684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0CA-DEB2-49A7-A332-3E1B3124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C6DE-0FDE-40A1-B7E0-341D474E0CE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E291-BBA0-45CD-9A01-DA48969B853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GC-Papers/SPE28749-Arun.pdf" TargetMode="External"/><Relationship Id="rId3" Type="http://schemas.openxmlformats.org/officeDocument/2006/relationships/hyperlink" Target="file:///../../GC-Papers/TIPM-Whitson-Fevang-Saevareid-GC-RelPerm.pdf" TargetMode="External"/><Relationship Id="rId4" Type="http://schemas.openxmlformats.org/officeDocument/2006/relationships/hyperlink" Target="file:///../../GC-Papers/TIPM-Whitson-Fevang-Saevareid-GC-RelPerm.pdf" TargetMode="External"/><Relationship Id="rId5" Type="http://schemas.openxmlformats.org/officeDocument/2006/relationships/hyperlink" Target="file:///../../E-NOTES/GC-PAPERS/SPE56476-FEVANG-WHITSON-GC-RELPERM.PDF" TargetMode="External"/><Relationship Id="rId6" Type="http://schemas.openxmlformats.org/officeDocument/2006/relationships/hyperlink" Target="file:///../../GC-Papers/IBC1997Paper.pdf" TargetMode="External"/><Relationship Id="rId7" Type="http://schemas.openxmlformats.org/officeDocument/2006/relationships/hyperlink" Target="file:///../../GC-Papers/SPE86298-Mott.pdf" TargetMode="External"/><Relationship Id="rId8" Type="http://schemas.openxmlformats.org/officeDocument/2006/relationships/hyperlink" Target="file:///../../GC-Papers/SPE86298-Mott.pdf" TargetMode="External"/><Relationship Id="rId9" Type="http://schemas.openxmlformats.org/officeDocument/2006/relationships/hyperlink" Target="file:///../GC-RATE-EXAMPLE+RESULTS.PPT" TargetMode="External"/><Relationship Id="rId10" Type="http://schemas.openxmlformats.org/officeDocument/2006/relationships/hyperlink" Target="file:///../Calculate-krg_kro.xls" TargetMode="External"/><Relationship Id="rId11" Type="http://schemas.openxmlformats.org/officeDocument/2006/relationships/hyperlink" Target="file:///../Calculate-krg_kro.xls" TargetMode="External"/><Relationship Id="rId12" Type="http://schemas.openxmlformats.org/officeDocument/2006/relationships/hyperlink" Target="file:///../Calculate-krg_kro.xls" TargetMode="External"/><Relationship Id="rId13" Type="http://schemas.openxmlformats.org/officeDocument/2006/relationships/hyperlink" Target="file:///../Calculate-krg_kro.xls" TargetMode="External"/><Relationship Id="rId14" Type="http://schemas.openxmlformats.org/officeDocument/2006/relationships/hyperlink" Target="file:///../Calculate-krg_kro.xls" TargetMode="External"/><Relationship Id="rId15" Type="http://schemas.openxmlformats.org/officeDocument/2006/relationships/hyperlink" Target="file:///../Calculate-krg_kro.xls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480" y="155520"/>
            <a:ext cx="57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ate Equ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800" y="5410080"/>
            <a:ext cx="6188400" cy="33588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volumetric rate equation for a gas condensate well can be expressed in terms of a 2-phase pseudopressure integral.  The pseudopressure accounts for ‘condensate blockage’ by including relative permeability k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inside the pressure integr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low 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t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 gas condensate well can be modeled by three regions around the well.  Region 1 – the area closest to the well where both oil and gas phases are flowing – dictates productivity loss o</a:t>
            </a:r>
            <a:r>
              <a:rPr b="0" lang="nb-NO" sz="1000" spc="-1" strike="noStrike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‘condensate blockage’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flowing composition is constant in Region 1.  The single phase gas entering Region 1 has the same composition as the producing wellbore mixture; this observation leads to the the equation for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(p)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Region 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The pseudopressure integral can be used to model condensate blockage in coarse grid reservoir simulation models; or it can be combined with material balance models to provide a simple model of condensate well perform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pseudopressure integral can be extended to include high-velocity and IFT effects on relative permeability -- improvement from high capillary numbers and reduction from ‘inertial’ non-Darcy flow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9240" y="1295280"/>
                <a:ext cx="515952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76560" y="4672080"/>
                <a:ext cx="230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440" y="2846520"/>
                <a:ext cx="2119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32360" y="3862440"/>
                <a:ext cx="2163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228600" y="2895480"/>
            <a:ext cx="3479760" cy="2387880"/>
            <a:chOff x="228600" y="2895480"/>
            <a:chExt cx="3479760" cy="2387880"/>
          </a:xfrm>
        </p:grpSpPr>
        <p:grpSp>
          <p:nvGrpSpPr>
            <p:cNvPr id="49" name=""/>
            <p:cNvGrpSpPr/>
            <p:nvPr/>
          </p:nvGrpSpPr>
          <p:grpSpPr>
            <a:xfrm>
              <a:off x="350640" y="2959200"/>
              <a:ext cx="3294720" cy="2262240"/>
              <a:chOff x="350640" y="2959200"/>
              <a:chExt cx="3294720" cy="226224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01400" y="3198960"/>
                <a:ext cx="3078360" cy="2022480"/>
                <a:chOff x="401400" y="3198960"/>
                <a:chExt cx="3078360" cy="202248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1084680" y="3351600"/>
                  <a:ext cx="1895760" cy="1434240"/>
                  <a:chOff x="1084680" y="3351600"/>
                  <a:chExt cx="1895760" cy="143424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>
                    <a:off x="2203920" y="3356280"/>
                    <a:ext cx="370440" cy="14295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2575440" y="3351600"/>
                    <a:ext cx="405000" cy="1429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084680" y="3361320"/>
                    <a:ext cx="1122120" cy="1416600"/>
                  </a:xfrm>
                  <a:prstGeom prst="rect">
                    <a:avLst/>
                  </a:prstGeom>
                  <a:solidFill>
                    <a:srgbClr val="66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55" name=""/>
                <p:cNvGraphicFramePr/>
                <p:nvPr/>
              </p:nvGraphicFramePr>
              <p:xfrm>
                <a:off x="401400" y="3198960"/>
                <a:ext cx="3078360" cy="20224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5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01400" y="3198960"/>
                          <a:ext cx="3078360" cy="2022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7" name=""/>
                <p:cNvSpPr/>
                <p:nvPr/>
              </p:nvSpPr>
              <p:spPr>
                <a:xfrm>
                  <a:off x="1093320" y="3571920"/>
                  <a:ext cx="11239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350640" y="2959200"/>
                <a:ext cx="996120" cy="26424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1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68160" y="2972160"/>
                <a:ext cx="996120" cy="2642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2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49240" y="2972160"/>
                <a:ext cx="996120" cy="264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Comic Sans MS"/>
                  </a:rPr>
                  <a:t>Region 3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28600" y="2895480"/>
              <a:ext cx="3479760" cy="2387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58D-9134-4B7F-BAAE-46DC7618D8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E388E-0F4F-443E-B075-BBC8B9AE2BC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1240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Modeling Gas Condensate Well Deliver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Gas Condensate R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Generalized Pseudopressure Well Treatment In Reservoir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Engineering Calculations of Gas Condensate Well Productivity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160" y="2120760"/>
            <a:ext cx="6324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Worked example for estimating gas production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Spreadsheet for c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alculating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krg/kro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3"/>
              </a:rPr>
              <a:t> and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4"/>
              </a:rPr>
              <a:t>kr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5"/>
              </a:rPr>
              <a:t> in Reg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665-207A-422B-8361-90D2EBA8D4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8D028-E395-48CC-8EA2-2FF185DEB46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 </cp:lastModifiedBy>
  <dcterms:modified xsi:type="dcterms:W3CDTF">2004-09-17T11:54:21Z</dcterms:modified>
  <cp:revision>66</cp:revision>
  <dc:subject/>
  <dc:title>PowerPoint Presentation</dc:title>
</cp:coreProperties>
</file>