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C92-937D-4A2E-8057-53BD595A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86B4-6C7E-4EFE-83E1-FA252726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A94-DCCC-4ADD-9D05-346C6632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0F52-FDEB-40AB-B46A-94932B62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129-70D9-4A74-AEB8-D5B43D71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EA8-59BF-4D82-868E-049718A2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98A-0D19-4D13-B68E-D23B2B77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832-C8A8-4C72-83C7-25C176BD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AAB2-8BAA-46C6-B082-83FE888F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DE3-4B4B-40D9-884B-A94DC1A5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08CE-C00C-4C0F-A05D-E2CAAD0F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FB0-2FD3-4496-A77F-CEFBA264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AB66-4A83-4C3C-BA72-A14F081D0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ear-well rel perm data – krg versus Nc at fixed krg/k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14680" y="1346040"/>
            <a:ext cx="57150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6:54:39Z</dcterms:modified>
  <cp:revision>20</cp:revision>
  <dc:subject/>
  <dc:title>PowerPoint Presentation</dc:title>
</cp:coreProperties>
</file>