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8B1-4931-41CE-BED8-CA98BB4C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5BF-FFAD-41E6-93B6-6C40A1E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22A-C57E-4C0C-BCBF-A20BE057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F48-8B55-4B9F-A168-84E93291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D1C-23B7-47BC-AD87-58BD3923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291-7777-4086-A6C6-B2FAE356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CF0-2FB8-4C52-8944-65271F4D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766-9214-40BC-A484-C2006E13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8E2-1900-4F18-83EE-C982E99C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2F0-B874-4572-849B-5298CE3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563-ABF6-4C16-BB06-993D2DB8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CBC-3DE1-4F1D-BBE9-3CB609D2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DE35-6939-4D37-BA96-8311F738E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0080" y="380880"/>
            <a:ext cx="53978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ivity Index from Arun lean gas condensat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(from SPE 28749)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3400" y="6450120"/>
            <a:ext cx="471240" cy="1100160"/>
          </a:xfrm>
          <a:prstGeom prst="upArrow">
            <a:avLst>
              <a:gd name="adj1" fmla="val 50000"/>
              <a:gd name="adj2" fmla="val 58365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87280" y="1847880"/>
            <a:ext cx="5529600" cy="4575600"/>
            <a:chOff x="287280" y="1847880"/>
            <a:chExt cx="5529600" cy="4575600"/>
          </a:xfrm>
        </p:grpSpPr>
        <p:sp>
          <p:nvSpPr>
            <p:cNvPr id="45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7760" y="518004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00160" y="471492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77760" y="424800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7760" y="377964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7760" y="3314520"/>
              <a:ext cx="4627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7760" y="284796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7760" y="2382840"/>
              <a:ext cx="46274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7760" y="1914480"/>
              <a:ext cx="4627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52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740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48160" y="19288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0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07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129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360" y="1914480"/>
              <a:ext cx="180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7360" y="1914480"/>
              <a:ext cx="1440" cy="3732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77760" y="1914480"/>
              <a:ext cx="4627440" cy="37321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77760" y="1914480"/>
              <a:ext cx="1440" cy="37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5646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51800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47149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42480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77964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3145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47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382840"/>
              <a:ext cx="3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19144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77760" y="5646600"/>
              <a:ext cx="462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6052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02740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4481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870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90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7129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133360" y="56466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5573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77760" y="564660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608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7360" y="24606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0440" y="2527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2080" y="2340000"/>
              <a:ext cx="6480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34800" y="219852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06440" y="22478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9520" y="23400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52600" y="22478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2388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95160" y="22921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8240" y="23400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1320" y="243360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2960" y="243360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4240" y="2198520"/>
              <a:ext cx="6660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7320" y="248112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257328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1680" y="25542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4760" y="25272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7840" y="261936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19120" y="2695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2200" y="269532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5280" y="280656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35120" y="3227400"/>
              <a:ext cx="666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08200" y="345888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81280" y="357192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3720" y="364644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472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28960" y="3757680"/>
              <a:ext cx="63360" cy="8388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1400" y="374004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93840" y="3813120"/>
              <a:ext cx="6372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640" y="3813120"/>
              <a:ext cx="633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59080" y="38782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1520" y="388944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3960" y="388944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6760" y="391608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9200" y="39448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71640" y="3963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54440" y="3973320"/>
              <a:ext cx="6480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36880" y="401940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19320" y="4065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2120" y="4113000"/>
              <a:ext cx="6480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84560" y="407484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7000" y="4038480"/>
              <a:ext cx="651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4002120"/>
              <a:ext cx="651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32240" y="3981240"/>
              <a:ext cx="65160" cy="842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6480" y="396396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7120" y="399096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81360" y="405756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3800" y="409392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6600" y="4113000"/>
              <a:ext cx="633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9040" y="4187880"/>
              <a:ext cx="63360" cy="806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1480" y="4225680"/>
              <a:ext cx="6372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94280" y="4262400"/>
              <a:ext cx="6336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1120" y="4281480"/>
              <a:ext cx="633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6160" y="429876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000" y="374004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79840" y="3973320"/>
              <a:ext cx="65160" cy="810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6680" y="4019400"/>
              <a:ext cx="63720" cy="8244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72080" y="4113000"/>
              <a:ext cx="65160" cy="82800"/>
            </a:xfrm>
            <a:prstGeom prst="rect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7640" y="558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7800" y="5113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880" y="4647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7800" y="4181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880" y="3714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800" y="3247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2781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7800" y="23158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880" y="1847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488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9780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1784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40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1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833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055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277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160" y="58086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5960" y="6118200"/>
              <a:ext cx="292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Reservoir pressure (p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-662760" y="3681000"/>
              <a:ext cx="22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oductivity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93640" y="7227720"/>
            <a:ext cx="5749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Productivity Index falls by 50% when </a:t>
            </a:r>
            <a:r>
              <a:rPr b="0" lang="en-GB" sz="1800" spc="-1" strike="noStrike" u="sng">
                <a:solidFill>
                  <a:srgbClr val="0033cc"/>
                </a:solidFill>
                <a:uFillTx/>
                <a:latin typeface="Comic Sans MS"/>
              </a:rPr>
              <a:t>BHP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 falls below dew point pressure and condensate blockage occurs. Condensate blockage starts before reservoir pressure falls below dew po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38400" y="4649760"/>
            <a:ext cx="1265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Dew point 4400 p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10000" y="5303880"/>
            <a:ext cx="193680" cy="345960"/>
          </a:xfrm>
          <a:prstGeom prst="downArrow">
            <a:avLst>
              <a:gd name="adj1" fmla="val 50000"/>
              <a:gd name="adj2" fmla="val 44656"/>
            </a:avLst>
          </a:prstGeom>
          <a:solidFill>
            <a:srgbClr val="00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3-09-09T13:51:30Z</dcterms:modified>
  <cp:revision>77</cp:revision>
  <dc:subject/>
  <dc:title>PowerPoint Presentation</dc:title>
</cp:coreProperties>
</file>