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9D6-D240-4F82-91DE-985B7210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248-1A61-4D59-8CF7-244640FF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5EF-8020-4390-B4B6-BFAF395B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A88-9999-4E92-9BD6-3A8EA928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0E5-6254-48F3-8935-3C9692AB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BEE-0753-4A20-9AF3-8D9E5B92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56E-4989-4441-9769-E238D98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4D8-E63E-4BEF-8831-DC861FEE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1FA-EFA2-4859-92C3-402DBFE7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0E6-A9AE-41E9-A984-42E2D0C5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243-0CAD-45C9-BA4D-119E3CEB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2ED-E7E3-4DB0-A9B8-6EF1EB4F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1956-29AC-4208-932E-EB889E6F4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e-note 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P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GC Blo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11:50:24Z</dcterms:created>
  <dc:creator>CHW</dc:creator>
  <dc:description/>
  <dc:language>en-US</dc:language>
  <cp:lastModifiedBy>CHW</cp:lastModifiedBy>
  <dcterms:modified xsi:type="dcterms:W3CDTF">2003-08-17T23:23:49Z</dcterms:modified>
  <cp:revision>2</cp:revision>
  <dc:subject/>
  <dc:title>Other e-note links</dc:title>
</cp:coreProperties>
</file>