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F4D5-1B69-498D-AB0B-CECE5D9E2AA2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5DA9-CCBC-4AA4-A9A7-FD52D8294E80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2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5334120"/>
            <a:ext cx="4229280" cy="31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672240"/>
            <a:ext cx="106668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90840" y="5749920"/>
            <a:ext cx="1181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67080" y="7918200"/>
            <a:ext cx="1800" cy="41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6640" y="8288280"/>
            <a:ext cx="12574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4920" y="1447920"/>
                <a:ext cx="42624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48320" y="1676520"/>
            <a:ext cx="19810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nb-NO" sz="20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 term in integral is usually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1880" y="3657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48320" y="3581280"/>
            <a:ext cx="198108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 included in pseudo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1:19Z</dcterms:modified>
  <cp:revision>103</cp:revision>
  <dc:subject/>
  <dc:title>PowerPoint Presentation</dc:title>
</cp:coreProperties>
</file>