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443-6260-437E-BD22-EF1AE280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E40-97AC-4EE6-A5F0-433D81BD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C8F-55B0-4799-9EB9-4F9A0B2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0D5-5A2E-488C-B5E7-08A42212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809-EE0D-4776-9E8C-4CD8DBEA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2FD-6372-4FA9-B661-661E10F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B49-5DFD-4D2B-9CC9-5A9DC628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BE7-9DAC-4A71-9DC4-4C2E94D5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DF4-AC4C-4451-841D-BB56CD94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550-02A3-4622-8522-A0AF62E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508-A90C-460C-9D44-A1E6BDD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FDD-F11E-4B0C-A2B4-6C43EC9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9ACE-DD08-4EB8-90A9-AD43036C6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101600" y="1044720"/>
                <a:ext cx="64231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B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914400" y="1806480"/>
            <a:ext cx="7197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reservoir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-factor evaluated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effective compressibility, accounting for rock and water volumes in the HC-bearing reservoi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surface gas pro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urface gas in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FVF a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water encroachment from aquifer (e.g. simplified Fetkovich, Hurst-van Everdingen type aqui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*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pot aquifer the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can be incorporated in the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rm as outlined by Fetkovich, Reese, and Whitson (SPE 22921), in which case the material balance is non-iterative in 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36560" y="6073920"/>
                <a:ext cx="4849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3200" y="304920"/>
                <a:ext cx="3352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0:40:09Z</dcterms:created>
  <dc:creator>CHW</dc:creator>
  <dc:description/>
  <dc:language>en-US</dc:language>
  <cp:lastModifiedBy>curtis</cp:lastModifiedBy>
  <dcterms:modified xsi:type="dcterms:W3CDTF">2003-09-03T10:45:50Z</dcterms:modified>
  <cp:revision>10</cp:revision>
  <dc:subject/>
  <dc:title>PowerPoint Presentation</dc:title>
</cp:coreProperties>
</file>