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FB27-071F-44B7-946C-E5CA516A8621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65B5-3002-4630-9D1A-053F6F5DACCD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..%5C..%5CE-NOTES/GC-RESERVOIRS/TEXTBOX.PPT" TargetMode="External"/><Relationship Id="rId3" Type="http://schemas.openxmlformats.org/officeDocument/2006/relationships/hyperlink" Target="file:///..%5C..%5CE-NOTES/GC-RESERVOIRS/TEXTBOX.PPT" TargetMode="External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GC_res_comp.da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340560" y="22860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Reservoi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2160" y="1143000"/>
            <a:ext cx="541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using a simplified simulation model to demonst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5800" y="2209680"/>
            <a:ext cx="602460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Recoveries of oil and gas from depletion and from gas recycling in a rich gas condensate reservo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Why gas cycling is usually uneconomic (unless there is no route for gas sales), even though it leads to higher oil recove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omparison of compositional and black oil simulation mod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"/>
          </p:cNvPr>
          <p:cNvSpPr/>
          <p:nvPr/>
        </p:nvSpPr>
        <p:spPr>
          <a:xfrm>
            <a:off x="319680" y="228600"/>
            <a:ext cx="419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imulation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2"/>
          </p:cNvPr>
          <p:cNvSpPr/>
          <p:nvPr/>
        </p:nvSpPr>
        <p:spPr>
          <a:xfrm>
            <a:off x="415800" y="1066680"/>
            <a:ext cx="60246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3D model with 9 x 9 x 4 grid – based on 3</a:t>
            </a:r>
            <a:r>
              <a:rPr b="0" lang="en-US" sz="2000" spc="-1" strike="noStrike" baseline="30000">
                <a:solidFill>
                  <a:srgbClr val="0033cc"/>
                </a:solidFill>
                <a:latin typeface="Comic Sans MS"/>
              </a:rPr>
              <a:t>rd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SPE Comparative Solution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One injection well and one production we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Some heterogeneity between lay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Production well not on edge of model – some of the reservoir will not be swept by injection g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3"/>
          </p:cNvPr>
          <p:cNvSpPr/>
          <p:nvPr/>
        </p:nvSpPr>
        <p:spPr>
          <a:xfrm>
            <a:off x="415800" y="6858000"/>
            <a:ext cx="60246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Rich gas condensate fluid (180 bbl/MMsc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Dew point pressure 6765 psi. Initial reservoir pressure 7000 ps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008080" y="3733920"/>
            <a:ext cx="2841840" cy="2746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97000" y="3938760"/>
            <a:ext cx="1540080" cy="6314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Comic Sans MS"/>
              </a:rPr>
              <a:t>Injection we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Comic Sans MS"/>
              </a:rPr>
              <a:t>in layers 1 and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4191120"/>
            <a:ext cx="762120" cy="15228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5791320"/>
            <a:ext cx="1676520" cy="63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roduction we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n layers 3 and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3733920" y="5486040"/>
            <a:ext cx="1218960" cy="6094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43280" y="3733920"/>
            <a:ext cx="29718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Oil saturations, layer 2, after 5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92560" y="609480"/>
            <a:ext cx="56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velopment strate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5600" y="1477800"/>
            <a:ext cx="6297480" cy="21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Dep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Maximum gas production rate is 6 MMscf/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Limiting BHP = 1500 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Minimum gas rate 0.5 MMscf/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9360" y="4267080"/>
            <a:ext cx="629748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Gas cyc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Maximum gas production rate is 6 MMscf/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Inject all produced gas for 5 years or 10 yea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Then shut in injection well and produce by deple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8360" y="228600"/>
            <a:ext cx="46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imulation exerc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760" y="1143000"/>
            <a:ext cx="6324480" cy="74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Run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Sensor compositional model </a:t>
            </a:r>
            <a:r>
              <a:rPr b="0" lang="en-US" sz="2000" spc="-1" strike="noStrike" u="sng">
                <a:solidFill>
                  <a:srgbClr val="0033cc"/>
                </a:solidFill>
                <a:uFillTx/>
                <a:latin typeface="Comic Sans MS"/>
              </a:rPr>
              <a:t>for three scenari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Depletion </a:t>
            </a:r>
            <a:r>
              <a:rPr b="1" lang="en-US" sz="1400" spc="-1" strike="noStrike">
                <a:solidFill>
                  <a:srgbClr val="008000"/>
                </a:solidFill>
                <a:latin typeface="Wingdings"/>
                <a:ea typeface="Wingdings"/>
              </a:rPr>
              <a:t>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gas recycle for 5 years, then depletion </a:t>
            </a:r>
            <a:r>
              <a:rPr b="1" lang="en-US" sz="1400" spc="-1" strike="noStrike">
                <a:solidFill>
                  <a:srgbClr val="008000"/>
                </a:solidFill>
                <a:latin typeface="Wingdings"/>
                <a:ea typeface="Wingdings"/>
              </a:rPr>
              <a:t>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gas recycle for 10 years, then depletion </a:t>
            </a:r>
            <a:r>
              <a:rPr b="1" lang="en-US" sz="1400" spc="-1" strike="noStrike">
                <a:solidFill>
                  <a:srgbClr val="008000"/>
                </a:solidFill>
                <a:latin typeface="Wingdings"/>
                <a:ea typeface="Wingdings"/>
              </a:rPr>
              <a:t>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Look at final recoveries of oil and gas for each scenario.  The ‘FIELD SUMMARY’ at the end of the output file gives a table of results which can be copied into an Excel spreadshee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Calculate NPV of oil and gas revenues. Assume 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oil price = $20 /bbl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gas price = $3 / MMscf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net discount rate = 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Repeat calculations for first two scenarios using Sensor Black Oil Model. (Sensor has a very simple way of converting a compositional model to Black Oil.)  Compare results of Black Oil and Compositional mode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23T10:02:44Z</dcterms:modified>
  <cp:revision>87</cp:revision>
  <dc:subject/>
  <dc:title>PowerPoint Presentation</dc:title>
</cp:coreProperties>
</file>