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F9D9-B165-4051-A950-FCFA9FED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0BAC-2093-4B68-83D6-9A621F76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4A77-469A-4EF0-BFCA-4A37AA95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FC9F-53D5-43EF-B8EA-E252F04F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7D47-1409-4095-8D00-78C5B3F0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2864-EE96-4F17-9142-3C57BA94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F1C3-8B49-4127-9347-BC2BA642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E32A-100D-4114-97C4-6D3D3836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F588-10D8-4C44-8690-F19E78A9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2707-20A1-441B-9F1F-5819C21F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0CD-AE44-4F28-8116-72E70C6F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F8B2-19A6-4FED-8AC4-C9AE5360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2B2F-CA8C-4B7B-AD79-0746F8EBF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858000" cy="603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90920" y="1752480"/>
            <a:ext cx="1447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itical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20574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1600200"/>
            <a:ext cx="0" cy="4267080"/>
          </a:xfrm>
          <a:prstGeom prst="line">
            <a:avLst/>
          </a:prstGeom>
          <a:ln w="507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48769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30% 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4191120"/>
            <a:ext cx="1143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cc"/>
                </a:solidFill>
                <a:latin typeface="Arial"/>
              </a:rPr>
              <a:t>20% 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962520"/>
            <a:ext cx="685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480060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80120" y="990720"/>
            <a:ext cx="1663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nitial reservo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562360" y="1523880"/>
            <a:ext cx="5331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1905120"/>
            <a:ext cx="1828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ew point 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eservoir tem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562360" y="24382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1280" y="152280"/>
            <a:ext cx="62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-T diagram for gas condensate reserv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1T11:33:54Z</dcterms:modified>
  <cp:revision>12</cp:revision>
  <dc:subject/>
  <dc:title>PowerPoint Presentation</dc:title>
</cp:coreProperties>
</file>