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EF4F-CFEF-4CDA-B435-4D7D3C0E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91D7-6BC0-4F8A-8A96-435C0722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8D3F-2D5E-48E4-A09C-8A8EEFF0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E87B-E164-4787-BA5D-A1CEBB96A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1EB5-FECC-4B5E-8BC9-7740469D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6F48-9C8A-4478-96FD-7BA0E077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1C05-209F-46F4-B9C5-B6CF708A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AA4B-5D18-4735-96E3-ACEED338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1F1F-2668-40E2-BC2C-E638222D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3AF2-F5C0-4512-B081-EF563670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870E-6CE8-4D71-830C-B27D8922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0F88-E111-4402-8446-62E00290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BE0B-4869-4FDE-AA6C-2B665F550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Ex-1a.pdf" TargetMode="External"/><Relationship Id="rId2" Type="http://schemas.openxmlformats.org/officeDocument/2006/relationships/hyperlink" Target="file:///Ex-1.pdf" TargetMode="External"/><Relationship Id="rId3" Type="http://schemas.openxmlformats.org/officeDocument/2006/relationships/hyperlink" Target="file:///Ex-1.xls" TargetMode="External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401760"/>
            <a:ext cx="6286320" cy="106956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cc"/>
                </a:solidFill>
                <a:latin typeface="Comic Sans MS"/>
              </a:rPr>
              <a:t>Golan-Whitson, Well Performanc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cc"/>
                </a:solidFill>
                <a:latin typeface="Comic Sans MS"/>
              </a:rPr>
              <a:t>Example 2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38520" y="1676520"/>
            <a:ext cx="3344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Short Problem 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75160" y="2378160"/>
            <a:ext cx="34664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Complete Problem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Comic Sans MS"/>
              </a:rPr>
              <a:t>(excerpt from boo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75160" y="3429000"/>
            <a:ext cx="34664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Complete Problem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Comic Sans MS"/>
              </a:rPr>
              <a:t>(Exc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rcRect l="17188" t="0" r="11612" b="0"/>
          <a:stretch/>
        </p:blipFill>
        <p:spPr>
          <a:xfrm>
            <a:off x="990720" y="4267080"/>
            <a:ext cx="51051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CHW</cp:lastModifiedBy>
  <dcterms:modified xsi:type="dcterms:W3CDTF">2003-08-22T10:03:58Z</dcterms:modified>
  <cp:revision>30</cp:revision>
  <dc:subject/>
  <dc:title>PowerPoint Presentation</dc:title>
</cp:coreProperties>
</file>