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8AEA-6459-4A1B-8447-CA6BF19CE1E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9254-BF3D-444C-91FA-6FD8BD34B683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GC-Reservoirs/other-links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025280" y="228600"/>
            <a:ext cx="48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to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and gas recovery from a gas condensate reservoir produced by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as a function of reservoir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4038480"/>
            <a:ext cx="541368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calculations use results from CCE and CVD experi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 results assume no aquifer influx and ignore the effect of rock and water compressi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They also assume that the condensate phase is immobile in the reservoir. This is a reasonable assumption for almost all gas condensate fluids (except in the near-well region, and this does not affect ultimate recove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/>
          </p:cNvPr>
          <p:cNvSpPr/>
          <p:nvPr/>
        </p:nvSpPr>
        <p:spPr>
          <a:xfrm>
            <a:off x="168120" y="30492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condensate recovery factor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981080"/>
            <a:ext cx="59436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tarting with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,  the surface condensate produced during the depletion from 3428 psi to 12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60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418 cu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fractional recovery of surface condensate by depletion from 5000 psig to 1200 psig is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47 + 0.853 * 0.0418 / 0.229 = 30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46080" y="7391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38080" y="6934320"/>
            <a:ext cx="7632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55280" y="769608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elow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 rot="16200000">
            <a:off x="2933640" y="5523480"/>
            <a:ext cx="533160" cy="335304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0360" y="8229600"/>
            <a:ext cx="39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33cc"/>
                </a:solidFill>
                <a:uFillTx/>
                <a:latin typeface="Comic Sans MS"/>
              </a:rPr>
              <a:t>Spreadsheet with recovery factor calc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8120" y="3049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letion recoverie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6858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168120" y="304920"/>
            <a:ext cx="668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ich PVT data affect gas and condensate recovery factors?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438280"/>
            <a:ext cx="59436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Key data for gas recovery are the relative volumes above dew point, and the ‘wellstream produced’ data from the CV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ndensate recovery depends on the gas recovery, and also on the C6+ mole fractions in the produced 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liquid saturations during the CVD (liquid drop out curve) are not relevant – they are not used in the recovery calcul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/>
          </p:cNvPr>
          <p:cNvSpPr/>
          <p:nvPr/>
        </p:nvSpPr>
        <p:spPr>
          <a:xfrm>
            <a:off x="168120" y="30492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GR calculation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447920"/>
            <a:ext cx="609588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CGR can be estimated from the equilibrium gas compositions in the CV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From 1 lb mole of equilibrium gas, the surface gas volum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(1-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RT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st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std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urface condensate volum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(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t a reservoir pressure of 3428 psi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rface gas volume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916*10.732*520/14.7 = 347.74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urface oil volume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229 cu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GR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7 stb/MMs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8120" y="30492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densate Gas ratio of equilibrium gas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4382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68594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8600"/>
            <a:ext cx="63244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PVT – What’s Really Important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760" y="2057400"/>
            <a:ext cx="636264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819720" y="30492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atement of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066680"/>
            <a:ext cx="60246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itial reservoir pressure = 500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fractional recovery of oil and condensate, assuming that the reservoir pressure at abandonment =  1200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fine recoveries in terms of volumes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34452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ssume that the ‘condensate’ is the C6+ fraction of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ich data have the most impact on liquid recovery and gas recover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Estimate the producing CGR as a function of reservoi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VT data for this problem are taken from the 3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SPE Comparative Soluti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/>
          </p:cNvPr>
          <p:cNvSpPr/>
          <p:nvPr/>
        </p:nvSpPr>
        <p:spPr>
          <a:xfrm>
            <a:off x="1698840" y="53352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0760" y="16002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Dew point pressure = 3428 psig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616120"/>
          <a:ext cx="5867280" cy="442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616120"/>
                    <a:ext cx="5867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65880" y="74674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preadsheet with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/>
          </p:cNvPr>
          <p:cNvSpPr/>
          <p:nvPr/>
        </p:nvSpPr>
        <p:spPr>
          <a:xfrm>
            <a:off x="1689480" y="533520"/>
            <a:ext cx="35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VT Data - C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400" y="7696080"/>
            <a:ext cx="57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C6 MW = 86, and C6 SG = 0.65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480" y="1447920"/>
          <a:ext cx="6629400" cy="5736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1447920"/>
                    <a:ext cx="6629400" cy="57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/>
          </p:cNvPr>
          <p:cNvSpPr/>
          <p:nvPr/>
        </p:nvSpPr>
        <p:spPr>
          <a:xfrm>
            <a:off x="788760" y="457200"/>
            <a:ext cx="487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– above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981080"/>
            <a:ext cx="6019560" cy="83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irst consider depletion from initial reservoir pressure (5000 psig) to dew point pressure (3428 psig), using the CCE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servoir fluid will be single phase gas during this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CCE data shows that the relative volume at 5000 psig is 0.853 times the volume at dew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res.bbl. of reservoir fluid at 5000 psi expands t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.853 = 1.172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bbl at 3428 ps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t 5000 psig, the fractional recovery 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72 / 1.172 = 14.7%.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 This figure applies to all components in the reservoir fl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/>
          </p:cNvPr>
          <p:cNvSpPr/>
          <p:nvPr/>
        </p:nvSpPr>
        <p:spPr>
          <a:xfrm>
            <a:off x="786960" y="457200"/>
            <a:ext cx="4879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– below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981080"/>
            <a:ext cx="60195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w consider depletion from dew point pressure (3428 psig) to abandonment pressure (1200 psig), using the CVD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servoir fluid will be two- phase during this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recoveries need to be calculated by summing over each step in the CVD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/>
          </p:cNvPr>
          <p:cNvSpPr/>
          <p:nvPr/>
        </p:nvSpPr>
        <p:spPr>
          <a:xfrm>
            <a:off x="332280" y="457200"/>
            <a:ext cx="5790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ga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below P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040" y="1676520"/>
            <a:ext cx="6019920" cy="9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or gas, we can base the recovery factors on the number of lb moles, as this is proportional to the volume at standard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VD data are based on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   This contains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-0.0181-0.0657)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.9162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lb moles of surface gas.  (i.e. all components except C6 and C7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number of lb moles of surface gas produced during the depletion from 3428 psi to 30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1-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9095(1-0.0143-0.04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d during the depletion from 3000 psig to 2440 psig 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0.24702-0.09095)(1-0.0108-0.02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"/>
          </p:cNvPr>
          <p:cNvSpPr/>
          <p:nvPr/>
        </p:nvSpPr>
        <p:spPr>
          <a:xfrm>
            <a:off x="332280" y="457200"/>
            <a:ext cx="57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alculating gas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acto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981080"/>
            <a:ext cx="632448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tarting with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,  the amount of surface gas produced during the depletion from 3428 psi to 1200 psi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SzPct val="160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1-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792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b m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fractional recovery of surface gas by depletion from 5000 psig to 1200 psig is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147 + 0.853 * 0.5792 / 0.9162 = 68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78487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bove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914040" y="6553080"/>
            <a:ext cx="304920" cy="106704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55280" y="7162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elow Pdew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 rot="16200000">
            <a:off x="3009600" y="5066640"/>
            <a:ext cx="533160" cy="3352680"/>
          </a:xfrm>
          <a:custGeom>
            <a:avLst/>
            <a:gdLst>
              <a:gd name="textAreaLeft" fmla="*/ 340560 w 533160"/>
              <a:gd name="textAreaRight" fmla="*/ 533520 w 53316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/>
          </p:cNvPr>
          <p:cNvSpPr/>
          <p:nvPr/>
        </p:nvSpPr>
        <p:spPr>
          <a:xfrm>
            <a:off x="0" y="304920"/>
            <a:ext cx="6858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alculating condensat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actors below P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Comic Sans MS"/>
              </a:rPr>
              <a:t>dew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2440" y="3276720"/>
            <a:ext cx="615312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VD data are based on 1 lb mole of reservoir fluid at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dew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   This contains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=      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81*86/(62.5*0.659) 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659*140(62.5*0.774)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0.229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u ft of surface condens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amount of surface condensate produced during the depletion from 3428 psi to 3000 psi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{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6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 y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W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C7+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125 cu 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760" y="1676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eed to convert CVD composition data (in lb moles) to surface volumes. This volume is given by (no of lb moles) * MW / den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0:43Z</dcterms:modified>
  <cp:revision>96</cp:revision>
  <dc:subject/>
  <dc:title>PowerPoint Presentation</dc:title>
</cp:coreProperties>
</file>