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DAB0-7AAC-4B3F-9E04-D5B63202E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5F2E-7B50-442D-B482-6B514674E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B974-0252-4325-9C1B-FEA870B2D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CDF9-224D-44AB-9BF4-EAA1EF40E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71B5-2C08-4CF8-990A-D84643E97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2FDF-84BA-4A03-BE76-8CF053D11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65AE-EB0F-4357-8052-BB33BB098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3EC7-85BA-4702-9900-1012325FB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E136-541D-49F4-BB28-8451ACB39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C2BC-D79E-4CF1-ADBC-4B181287E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8BE8-6495-42DD-93BE-73FB427DF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F73D-5E93-46D6-A854-680F90C9A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240" y="8686800"/>
            <a:ext cx="142884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56B27-EF74-43C0-B695-D5771AAB6B20}" type="datetime3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752480" y="8686800"/>
            <a:ext cx="426744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324480" y="8686800"/>
            <a:ext cx="40032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8890C-78BF-48EC-BC04-A160BD7A8112}" type="slidenum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01720" y="609480"/>
            <a:ext cx="5253120" cy="1524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The D coefficient can be estimated from well and rock proper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1295280" y="2209680"/>
                <a:ext cx="3903840" cy="15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sup>
                        </m:sSup>
                        <m:sSub>
                          <m:e>
                            <m:r>
                              <m:t xml:space="preserve">βkγ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sSub>
                          <m:e>
                            <m:r>
                              <m:t xml:space="preserve">hμ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3" name=""/>
          <p:cNvSpPr/>
          <p:nvPr/>
        </p:nvSpPr>
        <p:spPr>
          <a:xfrm>
            <a:off x="452520" y="3886200"/>
            <a:ext cx="5952960" cy="213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760" rIns="104760" tIns="52560" bIns="5256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D is in 1/(Mscf/d)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 is the non-Darcy flow coefficient (in 1/ft)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 is the gas gravity (air = 1)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All other properties in field uni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43040" y="7162920"/>
            <a:ext cx="5370480" cy="12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760" rIns="104760" tIns="52560" bIns="52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6400800"/>
            <a:ext cx="5790960" cy="213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760" rIns="104760" tIns="52560" bIns="5256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400" spc="-1" strike="noStrike">
                <a:solidFill>
                  <a:srgbClr val="0033cc"/>
                </a:solidFill>
                <a:latin typeface="Comic Sans MS"/>
              </a:rPr>
              <a:t>This equation assumes radial flow. It often underestimates the importance of non-Darcy flow – perhaps due to non-radial flow near the well perforations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-notes (c) Curtis H. Whit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268D-1CF3-4D0E-AD7E-5E067431F85A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FA6E4C-6C69-4A50-8D57-004FD6794F08}" type="datetime3">
              <a:rPr lang="en-US"/>
              <a:t>July 29, 202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01720" y="761760"/>
            <a:ext cx="5253120" cy="152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3600" spc="-1" strike="noStrike">
                <a:solidFill>
                  <a:srgbClr val="ff3300"/>
                </a:solidFill>
                <a:latin typeface="Comic Sans MS"/>
              </a:rPr>
              <a:t>Correlations for Non-Darcy flow coefficient vs permeabil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2743200"/>
            <a:ext cx="6858000" cy="403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-notes (c) Curtis H. Whit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D0DE-825A-4ED7-BA14-E179C7D7208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45A0D8-9518-4255-9AC8-3C03614BDCD5}" type="datetime3">
              <a:rPr lang="en-US"/>
              <a:t>July 29, 20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21:22:44Z</dcterms:created>
  <dc:creator>CHW</dc:creator>
  <dc:description/>
  <dc:language>en-US</dc:language>
  <cp:lastModifiedBy>Robert Mott</cp:lastModifiedBy>
  <dcterms:modified xsi:type="dcterms:W3CDTF">2004-03-02T15:49:51Z</dcterms:modified>
  <cp:revision>81</cp:revision>
  <dc:subject/>
  <dc:title>PowerPoint Presentation</dc:title>
</cp:coreProperties>
</file>