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444-8B0C-4E6C-B82F-4AB1DD2D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F06-0E32-40BF-A3F2-D8AF6C36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6D5-7377-4383-B05B-9B8FBAE9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358-7019-4289-9CD2-BBB1CD6D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45C-A2FE-45CC-ACFE-9D2A06EA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A3F-1C85-47FC-BFCC-39197DF9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201-4750-4E58-A45E-404CAB04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DE1-CB2B-4B66-AC8C-4988C814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7A7-6AF4-43B2-A4ED-57CF597A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53D-D51A-4378-BEAB-54AB7C68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217-AEBE-4C46-A073-F5F710CC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913-2907-407D-99F6-53A1BDB7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09B5-733E-4C20-B620-D4BDC31FC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514600" y="685800"/>
                <a:ext cx="19242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431720" y="1523880"/>
            <a:ext cx="4266360" cy="22885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pressure, b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= volume, m</a:t>
            </a:r>
            <a:r>
              <a:rPr b="0" lang="nb-NO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oles, k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bsolute temperature,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universal gas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083143 b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km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CHW</cp:lastModifiedBy>
  <dcterms:modified xsi:type="dcterms:W3CDTF">2003-08-26T09:57:07Z</dcterms:modified>
  <cp:revision>3</cp:revision>
  <dc:subject/>
  <dc:title>PowerPoint Presentation</dc:title>
</cp:coreProperties>
</file>