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174B-1211-4F10-83B3-AA347B78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29FF-A04C-404D-8E62-B29D2336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7E7-E7EC-4AD0-AF2B-43856969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1CAD-75B2-4176-8838-EF25E6BE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231D-7F10-461D-9DB4-38C6A409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2C65-8109-4070-AF9A-38E6304F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5BF6-D3C8-44E9-8BAD-3834A1F3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BD7F-F1A0-41AA-94B1-2107D1C7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C9E7-0B7D-494D-94CE-4621DB3C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7173-2774-440C-81BE-012C78AF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47F3-28D4-4F19-9B2F-29F0E3BA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0634-EB6E-4F31-8104-002FB8A9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1E09-C039-4CC7-BE37-FBE7F7D72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3760" y="457200"/>
            <a:ext cx="8850240" cy="543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698920" y="5486400"/>
                <a:ext cx="37461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327960" y="533520"/>
            <a:ext cx="891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ffman et al analysis of separator sample composi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0T12:10:26Z</dcterms:modified>
  <cp:revision>21</cp:revision>
  <dc:subject/>
  <dc:title>PowerPoint Presentation</dc:title>
</cp:coreProperties>
</file>