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44F-66ED-4543-8683-1867EACB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EA1-78AF-4DC6-9EE3-1071BBE0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1C7-1754-4D7E-8F11-2655861E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61A-C422-420A-B938-A9DF2FAD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D8E-6F1D-423B-8F74-E952D62E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44F-9B1C-4F4C-BD5C-0B7B586B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8DE-DDA4-4BF2-B00F-229468EE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31B-AFB6-48FC-B14F-0DC51762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0E6-6F90-43C8-946E-EA9D8525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B61-0689-46C4-8166-A084351A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E0F-A09E-48C5-BF55-E703D349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04F-08AE-4F47-ADEE-A67D8544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04F0-EA81-47CA-A928-30279322C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62341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6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6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6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URTIS</cp:lastModifiedBy>
  <dcterms:modified xsi:type="dcterms:W3CDTF">2003-09-11T08:11:33Z</dcterms:modified>
  <cp:revision>23</cp:revision>
  <dc:subject/>
  <dc:title>PowerPoint Presentation</dc:title>
</cp:coreProperties>
</file>