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DB5C-F16D-48A2-8E70-B04D92923522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1AE4-F940-4C3A-8252-B7FF2155BE80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hyperlink" Target="file:///Rock-curves.ppt" TargetMode="External"/><Relationship Id="rId4" Type="http://schemas.openxmlformats.org/officeDocument/2006/relationships/hyperlink" Target="file:///krgkro.ppt" TargetMode="External"/><Relationship Id="rId5" Type="http://schemas.openxmlformats.org/officeDocument/2006/relationships/hyperlink" Target="file:///Simul-results.ppt" TargetMode="External"/><Relationship Id="rId6" Type="http://schemas.openxmlformats.org/officeDocument/2006/relationships/hyperlink" Target="file:///Near-well-rel-perms.ppt" TargetMode="External"/><Relationship Id="rId7" Type="http://schemas.openxmlformats.org/officeDocument/2006/relationships/hyperlink" Target="file:///Nc-models.ppt" TargetMode="External"/><Relationship Id="rId8" Type="http://schemas.openxmlformats.org/officeDocument/2006/relationships/hyperlink" Target="file:///GPP.ppt" TargetMode="External"/><Relationship Id="rId9" Type="http://schemas.openxmlformats.org/officeDocument/2006/relationships/hyperlink" Target="file:///Simul-results.ppt" TargetMode="External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%5CGC-Blockage/EUR%20104%20Calc%20Well%20Deliverability%20Mott.pdf" TargetMode="External"/><Relationship Id="rId2" Type="http://schemas.openxmlformats.org/officeDocument/2006/relationships/hyperlink" Target="file:///..%5CGC-Blockage/GC-Blockage-Example/GC-Blockage-Example.ppt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51200" y="20160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Modeling Well Performance in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297000" y="2438280"/>
            <a:ext cx="6264000" cy="59673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Use Quality-Controlled PVT data to set up an EoS model of the reservoir.  Ensure that gas Z-factors and C7+ content of the gas are matched accurately.  Check the predicted depletion recoveries agree with CVD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Plot all gas-oil rel perm data in form krg vs krg/kro. Choose data for first estimate of ‘rock’ rel perm curves. If no data available, use Corey functions with ‘crossover’ point of about 0.1. Also plot straight-line (‘miscible’) rel perm curve. 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Calculate krg/kro range for the near-well region in this reservoir.  Compare rock and straight-line values  in this range, to estimate potential benefit from Capillary Number (Nc) effect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Single well, 1D radial, EoS simulation model on fine grid. Include tubing and use THP control. Compare rate-time performance using rock and straight-line rel perm curves to determine if condensate blockage is important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5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If blockage is important, get SCAL data for near-well rel perms.  Measure krg as function of krg/kro and Nc. Typically 3 rates for each of 5 values of krg/kro.  Cost ~ $100K. Saturation measurements are not really needed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6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Set up fine grid single well model.  Include cell-to-cell calculation of Nc effects. When using the E300 model for Nc effects, check that the behavior of krg versus Nc at fixed krg/kro matches experimental data. (If high-rate rel perm data are not available, use the Fevang-Whitson correlation with </a:t>
            </a:r>
            <a:r>
              <a:rPr b="0" lang="en-US" sz="1200" spc="-1" strike="noStrike">
                <a:solidFill>
                  <a:srgbClr val="a50021"/>
                </a:solidFill>
                <a:latin typeface="Symbol"/>
                <a:ea typeface="Symbol"/>
              </a:rPr>
              <a:t></a:t>
            </a: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= 4000, n=0.7), 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7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Comic Sans MS"/>
              </a:rPr>
              <a:t>Set up a coarse grid, single well model using the Generalized Pseudopressure Model (GPP in Eclipse).  Include the Nc effect.  Compare results with the fine grid single well model  - they should agree, though for lean condensates it may be necessary to use smaller cells in the coarse grid.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8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89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4064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Comic Sans MS"/>
              </a:rPr>
              <a:t>Full field model using coarse grid and GPP model with Nc effects.</a:t>
            </a:r>
            <a:r>
              <a:rPr b="0" lang="en-US" sz="1100" spc="-1" strike="noStrike">
                <a:solidFill>
                  <a:srgbClr val="a50021"/>
                </a:solidFill>
                <a:latin typeface="Comic Sans MS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" y="685800"/>
            <a:ext cx="2514600" cy="15447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429000" y="762120"/>
            <a:ext cx="3200400" cy="1411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Key points to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Decline in liquid yield with tim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Well deliverability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Always include tubing table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>
              <a:lnSpc>
                <a:spcPct val="110000"/>
              </a:lnSpc>
              <a:spcBef>
                <a:spcPts val="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cc"/>
                </a:solidFill>
                <a:latin typeface="Comic Sans MS"/>
              </a:rPr>
              <a:t>Relative permeabilities near wel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8600"/>
            <a:ext cx="632448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Gas Condensate Relative Permeability for Well Calc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Modeling Gas Condensate Well Deliverabil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Calculating Well Deliverability in Gas Condensate Reservoir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981080"/>
            <a:ext cx="632448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Simulation example – Condensate Blo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</a:rPr>
              <a:t>Spreadsheet for comparing Eclipse and Fevang-Whitson Nc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760" y="3048120"/>
            <a:ext cx="6324480" cy="5673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04:26Z</dcterms:modified>
  <cp:revision>89</cp:revision>
  <dc:subject/>
  <dc:title>PowerPoint Presentation</dc:title>
</cp:coreProperties>
</file>