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54EC-DF17-4BA8-9265-08DCE958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C858-7DAA-491A-920B-A0AB4AB0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BC6D-8AD9-42B4-92EB-A936FC64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6E6F-ECCA-43C7-A99F-2093C2F2B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B04B-4F2F-49F5-B940-FB8722EA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B425-70E1-4898-9CEC-D577BFD4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E519-89E6-4C07-824C-9C0A6045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5089-A546-408C-892B-D0BD4A32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45B1-6721-4B54-9AEB-0E47B6F4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3047-8B45-4008-A8E8-7A2D01F7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F2E4-BA18-44AB-B3A7-1ECD2DDB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057B-03BA-461F-8939-1D6CBAEA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C388-FB98-4AF8-99DE-2766D090A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08040" y="0"/>
            <a:ext cx="612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0T10:21:04Z</dcterms:modified>
  <cp:revision>19</cp:revision>
  <dc:subject/>
  <dc:title>PowerPoint Presentation</dc:title>
</cp:coreProperties>
</file>