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299-05BB-4125-B8F4-DD1BAA1A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189-0C31-4F3B-A506-C21B4464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770-796D-476C-9F90-20619ACF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761-2E45-414B-9D92-D6C6386A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475-476C-4542-AB0E-865696FF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E94-264A-4C8A-A6F1-6DA8F227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2AE-6F55-44D1-8EEB-4611AA71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A071-E4B2-4CFB-B7C3-46299383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189-37A8-47B9-BC46-46AFD4ED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973-9E84-4F5E-BA5C-218751D6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57F-4906-4956-A738-A2AAAEAD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858-3E3A-414E-9D4A-425FB5E5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8462-D6D5-49A9-9827-440853946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57480"/>
            <a:ext cx="5791320" cy="3587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50840" indent="-1050840" algn="ctr">
              <a:lnSpc>
                <a:spcPct val="100000"/>
              </a:lnSpc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 u="sng">
                <a:solidFill>
                  <a:srgbClr val="000000"/>
                </a:solidFill>
                <a:uFillTx/>
                <a:latin typeface="Arial"/>
              </a:rPr>
              <a:t>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 algn="ctr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nb-NO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2-phase Z-f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dew point pressure, bara or p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nb-NO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Z factor at dewpoi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50840" indent="-1050840">
              <a:tabLst>
                <a:tab algn="l" pos="0"/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umulative wellstream (wet gas or moles) produced in CVD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5181480" cy="581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ff3300"/>
                </a:solidFill>
                <a:latin typeface="Comic Sans MS"/>
              </a:rPr>
              <a:t>Two-Phase Z-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662040" y="1305000"/>
                <a:ext cx="55497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1-19T17:32:07Z</dcterms:modified>
  <cp:revision>14</cp:revision>
  <dc:subject/>
  <dc:title>PowerPoint Presentation</dc:title>
</cp:coreProperties>
</file>