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2993-FBB4-4A10-9C16-380B86C29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7637-8A45-409B-8BBB-2DFAE819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2AA6-193C-41EE-BBE4-C5A7C3B7C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96C7-4D93-4DE6-8D5F-2B597B8C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8113-8C8D-4414-B0D4-93952D7A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28F2-A6E6-4622-A74C-AE1E566E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632E-55F5-4656-BBE4-B8FCB488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A2AF-7880-4E5C-B324-B3BD230E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4947-FB57-4C55-85E8-DFFFD4E6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B9BD-C3B0-4108-AF7D-73443117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194B-7757-40BD-976A-7AD83A8E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439D-86D6-43D9-BD01-DB430204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67CB-6564-410F-830F-10DAFC5A3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e-note lin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Material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P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Blo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1:50:24Z</dcterms:created>
  <dc:creator>CHW</dc:creator>
  <dc:description/>
  <dc:language>en-US</dc:language>
  <cp:lastModifiedBy>CHW</cp:lastModifiedBy>
  <dcterms:modified xsi:type="dcterms:W3CDTF">2003-08-17T11:50:44Z</dcterms:modified>
  <cp:revision>1</cp:revision>
  <dc:subject/>
  <dc:title>Other e-note links</dc:title>
</cp:coreProperties>
</file>