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1F53-4F76-4961-8D05-957FCD44D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1726-112F-421F-9CCC-D82171AE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ADB2-943E-40F4-A8BF-C84C9975B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844A-43E1-4175-BA71-CBD58413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455C-C435-4D30-B442-29449943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F2AD-33EC-437C-9D8E-5EDD2462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5A88-BE5C-4841-8CFE-6AC791A8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14A8-82BD-46AD-A959-05CE9695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E08A-C605-4076-9DE0-F147729F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7963-5402-4E78-959A-DA55CE29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AFC2-7F48-4A0D-808E-3AEACE8B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B227-43E3-4411-938A-7F71B686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A506-40AB-41D1-A5A7-CA20D421D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915400" cy="5477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10000" y="304920"/>
            <a:ext cx="530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Oil and gas recoveries calcu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from CCE and CV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3-07-29T16:20:44Z</dcterms:modified>
  <cp:revision>4</cp:revision>
  <dc:subject/>
  <dc:title>PowerPoint Presentation</dc:title>
</cp:coreProperties>
</file>