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5C79-67FC-4466-899E-2AC7003E4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ED7D-87BA-46CF-B7BE-B0E1AD57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018A-8E3B-4340-84F2-4C8612097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6221-863B-43D4-AADB-B41E8FF4D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6FD0-D9C0-43BA-83F8-DB4520C3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ABE2-9DDC-4CC7-BCF9-F81F07F1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2D6D-A6EB-4DA1-977D-D144C4F1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3767-6573-4302-AAE9-09E75691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96AC-3EB1-49AB-A76F-F44EAF63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8E58-108D-4322-A291-A82F8426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85E1-AD34-4830-9D12-C9E55555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F752-831C-4648-B938-800B2FD3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9CFE-5BED-48A4-BC02-9E249E8B7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Other e-note lin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Reservo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PV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Block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11:50:24Z</dcterms:created>
  <dc:creator>CHW</dc:creator>
  <dc:description/>
  <dc:language>en-US</dc:language>
  <cp:lastModifiedBy>CHW</cp:lastModifiedBy>
  <dcterms:modified xsi:type="dcterms:W3CDTF">2003-08-17T23:23:49Z</dcterms:modified>
  <cp:revision>2</cp:revision>
  <dc:subject/>
  <dc:title>Other e-note links</dc:title>
</cp:coreProperties>
</file>