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8A2-B407-4E3D-81D3-B4FBD68B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138-11C1-4412-8DD3-5F42C5F4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5EB-A77A-448E-8C30-CFE7695E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0E5-088C-414A-B07E-86CB64E4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D59-CE1D-4BFE-85E3-9551D8FC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226-5E26-45C9-98AE-3090C85B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7F3-DE84-414C-BE99-B19B8BD1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52C-87FC-49FA-8F8D-334CB819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91F-2717-4E6A-B47D-C10B9693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F89-B65F-4A92-81CF-FD37A9BD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FCB-8F13-40F0-B8CB-EC57C926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03E-E912-42C2-AF2F-5980C2E9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DAF5-6620-4D69-A4A7-1605B2CC0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Fig1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763120" cy="61034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 Dry Gas engineering 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except</a:t>
            </a: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Retrograde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ndensation impacts condensate recovery and well deliverability (i.e. economics)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09T09:09:51Z</dcterms:modified>
  <cp:revision>12</cp:revision>
  <dc:subject/>
  <dc:title>PowerPoint Presentation</dc:title>
</cp:coreProperties>
</file>