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F7C-5698-439E-81D7-F6F21A0E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B9B-656B-46E5-A28C-B202C21D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1B1-6A41-48AB-88C0-B480E937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BC1-2F29-4CE9-AEDD-FDAB1F21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BCF-CFDC-4783-AE5F-0E33BDC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E07-7E76-41FA-90D1-0281195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F9F-6798-434A-8E08-F05BC8C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F35-C98F-43CC-8A87-A05AF0C9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FF9-410F-40B0-831D-F397EEC9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C78-0A85-452E-9C3A-3F884282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1BB-EAE3-44E5-9F4A-431DF3E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744-D517-46EE-8A04-E09F3DB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D80-AA9F-4F15-B806-81451D9900B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C2A-6BEF-47DF-9B46-0D57499A85C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Craft&amp;Hawkins-Ch1.pdf" TargetMode="External"/><Relationship Id="rId3" Type="http://schemas.openxmlformats.org/officeDocument/2006/relationships/hyperlink" Target="file:///Fetkovich-Simplified-Water-Influx.pdf" TargetMode="External"/><Relationship Id="rId4" Type="http://schemas.openxmlformats.org/officeDocument/2006/relationships/hyperlink" Target="file:///spe22921-Fetkovich-Reese-Whitson.pdf" TargetMode="External"/><Relationship Id="rId5" Type="http://schemas.openxmlformats.org/officeDocument/2006/relationships/hyperlink" Target="file:///Other-references.ppt" TargetMode="External"/><Relationship Id="rId6" Type="http://schemas.openxmlformats.org/officeDocument/2006/relationships/hyperlink" Target="file:///Production-Forecasting.xls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1373760" y="20628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Water In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14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quifers may provide water influx (encroachment) to gas reservoirs as pressure declines from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amount of water influx depends primarily on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&amp; reservoi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permeability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aquifer siz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, and </a:t>
            </a:r>
            <a:r>
              <a:rPr b="0" i="1" lang="en-US" sz="1000" spc="-1" strike="noStrike" u="sng">
                <a:solidFill>
                  <a:srgbClr val="a50021"/>
                </a:solidFill>
                <a:uFillTx/>
                <a:latin typeface="Comic Sans MS"/>
              </a:rPr>
              <a:t>initial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 (i.e. maximum potential pressure decli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K &lt; 1 md results in neglible water influx, independent of aquifer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Aquifer sizes often range from 1 to 10 times the HCPV, and may sometimes be 100s of times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457200">
              <a:lnSpc>
                <a:spcPct val="130000"/>
              </a:lnSpc>
              <a:spcBef>
                <a:spcPts val="312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High-pressure reservoirs may experience significant pressure support from small aquifers and ‘internal’ water within and interbedded with the HCP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The material balance can be used to estimate IGIP and aquifer size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total production). Water breakthrough often marks the end of life for a gas well. Ultimate gas recovery may often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50760" y="4516560"/>
                <a:ext cx="52578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B56-8D5F-4891-83DF-842267F628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F22E3-5849-4D4D-88E5-61AD653AC42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Simplified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Other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87560"/>
            <a:ext cx="6324480" cy="6053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4E8-47DF-4600-8426-F9D6187A3F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155E2-B08F-4E05-A20F-1B6E0897721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56Z</dcterms:modified>
  <cp:revision>96</cp:revision>
  <dc:subject/>
  <dc:title>PowerPoint Presentation</dc:title>
</cp:coreProperties>
</file>