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444-95CB-4786-8CC3-748164B9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595C-BF04-4461-8052-29404C3A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825-C12C-407D-9861-3E252E99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6E3-6D18-47B2-BC4A-FEBC6FFA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1C53-E372-4198-8D68-A67B7BEB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D3E-D2C0-4DD1-969D-5963C84C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4C0-E828-4212-A13D-902C5E43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979-F83E-4448-9522-CEB3A504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D4CF-5D9C-4D5F-B5C6-DCBFA868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749-80DC-499C-BAB5-9460F7A6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33AC-5483-4ADB-AFC7-3FCC5A93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839E-97A0-448A-9E35-A2605679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3500-AD23-4427-9E8B-FACEDED4F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ondensate-blockage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533520"/>
            <a:ext cx="8686800" cy="59616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Condensate blockage is the build-up of liquid around the wellbore, reducing the effective gas permeability and lowering well deliverability. 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ndensate saturations in the near-well region can reach 50%, reducing  the gas permeability in the near-well region by a factor of 2 to 2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Condensate blockage is only important when there is a significant pressure drop between the deep reservoir and the well perforations, and when the well is on decline (tubing-pressure limite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Condensate blockage is more important at low kh.  It is likely to be a major issue when kh &lt; ~ 1,000 md-ft.  It is unlikely to be significant when kh &gt; ~10,000 md-f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The primary relative permeability relationship affecting condensate blockage is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as a function of 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6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GB" sz="1600" spc="-1" strike="noStrike">
                <a:solidFill>
                  <a:srgbClr val="0033cc"/>
                </a:solidFill>
                <a:latin typeface="Comic Sans MS"/>
              </a:rPr>
              <a:t> in the near-well region. Saturation does not enter the calculation.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impact of condensate blockage can be reduced by an increase in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t high velocities (capillary numbers, N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 in the near-well region. Considerable evidence for this effect exists from lab experiments and well te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3-05T11:18:01Z</dcterms:modified>
  <cp:revision>18</cp:revision>
  <dc:subject/>
  <dc:title>PowerPoint Presentation</dc:title>
</cp:coreProperties>
</file>