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7C5-7835-41D4-B218-D532AA62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24B-AA5B-461C-ADB8-D471FBE2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A27-0C44-4957-952A-F096866D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E8C-D9D1-40AC-9404-DB9C1B96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30B-AB34-46A5-9E7A-F1208CD2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7B2-2453-42F7-AC59-A1B26F97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226-26C2-4ACA-A52D-A83DD4D2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EA2-A64C-4454-A1E9-64BBBF4F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308-DC4A-4E19-A836-C4AA6F87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825-77EF-4829-AD32-047E68D4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8D3-8234-4C67-8719-E5EE374D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631-5743-4D6D-AD37-60F080D1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4BAF-CD91-462E-8FC6-0A2111D94DFD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EF96-FC24-4A14-A130-ADA54836ED7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x-1.xls" TargetMode="External"/><Relationship Id="rId2" Type="http://schemas.openxmlformats.org/officeDocument/2006/relationships/hyperlink" Target="file:///Ex-2.pdf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2390400" y="2286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PV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/>
          </p:cNvPr>
          <p:cNvSpPr/>
          <p:nvPr/>
        </p:nvSpPr>
        <p:spPr>
          <a:xfrm>
            <a:off x="441360" y="6081840"/>
            <a:ext cx="6188040" cy="257436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Z-factor gives accurate </a:t>
            </a:r>
            <a:r>
              <a:rPr b="0" lang="en-US" sz="800" spc="-1" strike="noStrike" u="sng">
                <a:solidFill>
                  <a:srgbClr val="0033cc"/>
                </a:solidFill>
                <a:uFillTx/>
                <a:latin typeface="Comic Sans MS"/>
              </a:rPr>
              <a:t>ga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volumetric properties: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B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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 c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1" i="1" lang="en-US" sz="800" spc="-1" strike="noStrike" baseline="-25000">
                <a:solidFill>
                  <a:srgbClr val="0033cc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Z-factor is particulary important for estimating initial gas in place (IGIP) and gas depletion recovery factors,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IGIP = HCPV/B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Z-factor is a function of press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temperatu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and gas composition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, usually expressed as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Z(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,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), according to corresponding states theory,</a:t>
            </a:r>
            <a:r>
              <a:rPr b="1" i="1" lang="en-US" sz="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where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p/p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 &amp; 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r</a:t>
            </a: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=T/T</a:t>
            </a:r>
            <a:r>
              <a:rPr b="0" i="1" lang="en-US" sz="800" spc="-1" strike="noStrike" baseline="-25000">
                <a:solidFill>
                  <a:srgbClr val="0033cc"/>
                </a:solidFill>
                <a:latin typeface="Comic Sans MS"/>
              </a:rPr>
              <a:t>pc 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are pseudoreduced quanti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Pseudocritical properties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c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are functions of gas composition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 (or gas specific gravity </a:t>
            </a:r>
            <a:r>
              <a:rPr b="0" i="1" lang="en-US" sz="800" spc="-1" strike="noStrike">
                <a:solidFill>
                  <a:srgbClr val="a50021"/>
                </a:solidFill>
                <a:latin typeface="Symbol"/>
                <a:ea typeface="Symbol"/>
              </a:rPr>
              <a:t>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). Special treatment for H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S or CO</a:t>
            </a:r>
            <a:r>
              <a:rPr b="0" lang="en-US" sz="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The accuracy of Z-factors from the Standing-Katz chart should usually be 1-3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The Hall-Yarborough BWR equation of state gives an accurate description of the Standing-Katz Z-factor chart for 1&lt;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T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3 and </a:t>
            </a:r>
            <a:r>
              <a:rPr b="0" i="1" lang="en-US" sz="800" spc="-1" strike="noStrike">
                <a:solidFill>
                  <a:srgbClr val="a50021"/>
                </a:solidFill>
                <a:latin typeface="Comic Sans MS"/>
              </a:rPr>
              <a:t>p</a:t>
            </a:r>
            <a:r>
              <a:rPr b="0" i="1" lang="en-US" sz="800" spc="-1" strike="noStrike" baseline="-25000">
                <a:solidFill>
                  <a:srgbClr val="a50021"/>
                </a:solidFill>
                <a:latin typeface="Comic Sans MS"/>
              </a:rPr>
              <a:t>pr</a:t>
            </a:r>
            <a:r>
              <a:rPr b="0" lang="en-US" sz="800" spc="-1" strike="noStrike">
                <a:solidFill>
                  <a:srgbClr val="a50021"/>
                </a:solidFill>
                <a:latin typeface="Comic Sans MS"/>
              </a:rPr>
              <a:t>&lt;2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33cc"/>
                </a:solidFill>
                <a:latin typeface="Comic Sans MS"/>
              </a:rPr>
              <a:t>Gas viscosities are usually accurate with 5-10%, with increasing expected errors at high pressures and for heavy gases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. Typically </a:t>
            </a:r>
            <a:r>
              <a:rPr b="0" lang="en-US" sz="8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0" lang="en-US" sz="800" spc="-1" strike="noStrike" baseline="-25000">
                <a:solidFill>
                  <a:srgbClr val="0033cc"/>
                </a:solidFill>
                <a:latin typeface="Comic Sans MS"/>
              </a:rPr>
              <a:t>g</a:t>
            </a:r>
            <a:r>
              <a:rPr b="0" lang="en-US" sz="800" spc="-1" strike="noStrike">
                <a:solidFill>
                  <a:srgbClr val="0033cc"/>
                </a:solidFill>
                <a:latin typeface="Comic Sans MS"/>
              </a:rPr>
              <a:t>=0.02-0.03 c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460760" y="1046160"/>
                <a:ext cx="1446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95680" y="152388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332240" y="4168800"/>
                <a:ext cx="1897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433760" y="2438280"/>
                <a:ext cx="15321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68840" y="3338640"/>
                <a:ext cx="1163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9" name="" descr=""/>
          <p:cNvPicPr/>
          <p:nvPr/>
        </p:nvPicPr>
        <p:blipFill>
          <a:blip r:embed="rId3"/>
          <a:srcRect l="18824" t="0" r="21434" b="0"/>
          <a:stretch/>
        </p:blipFill>
        <p:spPr>
          <a:xfrm>
            <a:off x="328680" y="838080"/>
            <a:ext cx="363384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84840" y="522612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4760" y="562932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Gas Con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5800" y="522612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235400" y="5079960"/>
                <a:ext cx="20908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A52-64B3-42FF-8025-88E7347FD0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A107F-5D3A-4B6A-BEE8-F956E4BA447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228600"/>
            <a:ext cx="63244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PE Phase Behavior Monograph, Ch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760" y="1295280"/>
            <a:ext cx="6324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Estimate IGIP and IO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SPE Phase Behavior Monograph, App.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2819520"/>
            <a:ext cx="6324480" cy="585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D0D-60ED-4B45-BBC7-5206F6113B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520D5-99F8-4D85-8BFD-392ADB7C425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6160" y="1585800"/>
            <a:ext cx="5305680" cy="59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A8B-44C3-4F6E-8101-E4538AA29DB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7DEEF-60ED-40F5-A606-BF16E91BDF0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3-02T10:04:32Z</dcterms:modified>
  <cp:revision>66</cp:revision>
  <dc:subject/>
  <dc:title>PowerPoint Presentation</dc:title>
</cp:coreProperties>
</file>