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BA9-B47F-4A25-8E39-C804B373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7C3-E23F-4A27-8BD6-DCBC3FA5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89B-1181-4924-A64F-E43FE7CA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72A-EA1D-411C-BD27-60A9FE1D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226-43BE-43A5-9941-E0D449BB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C6F-C8AD-4A1D-9189-91246F66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F27-98E7-481B-8CBE-355D71C2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8F3-BA79-4340-A96B-C066DC1E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08C-27F2-44CC-986B-092E12DF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1B3-8BB2-4A25-9D0D-56BF0921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87F-A5B1-465A-AE16-283603A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D25-B2C2-40B7-B933-C5008533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FD3C-3F68-47CD-833D-409CE0B7D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686800" cy="6637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has 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 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04T07:35:33Z</dcterms:modified>
  <cp:revision>17</cp:revision>
  <dc:subject/>
  <dc:title>PowerPoint Presentation</dc:title>
</cp:coreProperties>
</file>