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F89-A5D1-42CF-A2D4-FFE26BED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324-6D6C-4BD0-8DED-F5CB738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A63-9C56-4DCC-8B5F-3B1DE072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828-B66B-4B5E-96FA-0A8CB1F7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E00-6EF6-418E-9D08-B6A52CA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489-5A89-474A-90E5-E8DC68EB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474-BEB2-4103-AE8D-619E4AED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C36-52A1-42EB-8756-EDBBD6E2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CE1-4648-4D57-ABB4-E63CE2A2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324-66EA-4F90-B4A7-1BF7C13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BCC-DEFC-4601-82C7-9FC1B91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C39-AAC8-4EA4-AD6A-0EF24C9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040-1DB5-4BB3-B4F2-6F0E8332B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eneral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47600" y="1919160"/>
                <a:ext cx="437832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311120" y="990720"/>
                <a:ext cx="35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033560" y="5334120"/>
            <a:ext cx="4789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urface gas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units conversion factor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erme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otal 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externa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rate-dependent skin co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wellbore flowing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olumetric 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visco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as formation volum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43000" y="3936960"/>
                <a:ext cx="1857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790800" y="3903840"/>
                <a:ext cx="1859040" cy="13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22092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85160" y="338472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eudopressur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5840" y="304920"/>
            <a:ext cx="62863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Gas Rate Equation in 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7080" y="4038480"/>
                <a:ext cx="534384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1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6440" y="5638680"/>
            <a:ext cx="550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urface gas rate, scf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permeabilit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otal thicknes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external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radius, 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steady-state total sk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ate-dependent skin coefficient, 1/(scf/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reservoir temperature, deg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w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wellbore flowing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volumetric average reservoir pressure, p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viscosity, 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Z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gas formation volume factor, res.bbl/s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7560" y="914400"/>
                <a:ext cx="5761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f</m:t>
                            </m:r>
                          </m:sub>
                        </m:sSub>
                      </m:sub>
                      <m:sup>
                        <m:sSub>
                          <m:e/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μZ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4600" y="2666880"/>
                <a:ext cx="6508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8610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3880" y="457200"/>
            <a:ext cx="422928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seudopressure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6620040" cy="514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95440" y="3048120"/>
            <a:ext cx="2286000" cy="312408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0" y="1968"/>
                </a:moveTo>
                <a:lnTo>
                  <a:pt x="0" y="672"/>
                </a:lnTo>
                <a:lnTo>
                  <a:pt x="96" y="480"/>
                </a:lnTo>
                <a:lnTo>
                  <a:pt x="240" y="288"/>
                </a:lnTo>
                <a:lnTo>
                  <a:pt x="336" y="192"/>
                </a:lnTo>
                <a:lnTo>
                  <a:pt x="384" y="144"/>
                </a:lnTo>
                <a:lnTo>
                  <a:pt x="480" y="96"/>
                </a:lnTo>
                <a:lnTo>
                  <a:pt x="576" y="48"/>
                </a:lnTo>
                <a:lnTo>
                  <a:pt x="720" y="0"/>
                </a:lnTo>
                <a:lnTo>
                  <a:pt x="816" y="0"/>
                </a:lnTo>
                <a:lnTo>
                  <a:pt x="912" y="0"/>
                </a:lnTo>
                <a:lnTo>
                  <a:pt x="1056" y="0"/>
                </a:lnTo>
                <a:lnTo>
                  <a:pt x="1200" y="0"/>
                </a:lnTo>
                <a:lnTo>
                  <a:pt x="1248" y="0"/>
                </a:lnTo>
                <a:lnTo>
                  <a:pt x="1296" y="0"/>
                </a:lnTo>
                <a:lnTo>
                  <a:pt x="1440" y="48"/>
                </a:lnTo>
                <a:lnTo>
                  <a:pt x="1440" y="1968"/>
                </a:lnTo>
                <a:lnTo>
                  <a:pt x="0" y="196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705720"/>
            <a:ext cx="76212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705720"/>
            <a:ext cx="761760" cy="4597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P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81080" y="6172200"/>
            <a:ext cx="45720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724280" y="6172200"/>
            <a:ext cx="5335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4360" y="7848720"/>
            <a:ext cx="4229280" cy="8254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3333cc"/>
                </a:solidFill>
                <a:latin typeface="Comic Sans MS"/>
              </a:rPr>
              <a:t>Gas rate is proportional to area under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4-03-02T14:46:15Z</dcterms:modified>
  <cp:revision>34</cp:revision>
  <dc:subject/>
  <dc:title>PowerPoint Presentation</dc:title>
</cp:coreProperties>
</file>