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3D4-43DE-4381-B7FC-2C50650F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776-0A69-4F28-AFF5-A02070F6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DF16-EB57-48CF-8984-A2456A15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5FE-8ED6-414D-ABA4-BB445CD7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6FC-DA60-44F8-8F7B-2F500638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172F-B04B-4D4C-ABA0-1775760B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B98-2DEF-4AF1-B5F9-BC2972D2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B7D-4334-4BBB-A738-584ADCA1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92B7-E88D-4529-870C-349D8D0B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EB31-8C92-43C2-AC6F-850F2685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E77D-5B01-4695-95FD-79BA5872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C1D3-3D91-487F-8E24-58E3DFC6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F052-1C09-4BBF-9134-7CA733612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434880" y="1600200"/>
            <a:ext cx="827244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mmiscible-type Data (from SPE 564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434880" y="1600200"/>
            <a:ext cx="8272440" cy="480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mmiscible-type Data (from SPE 564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4840" y="914400"/>
            <a:ext cx="8194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6:39:34Z</dcterms:modified>
  <cp:revision>16</cp:revision>
  <dc:subject/>
  <dc:title>PowerPoint Presentation</dc:title>
</cp:coreProperties>
</file>