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D93-F0BB-4099-B6DC-2353CD4C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1C3-8667-4379-AB35-D77D99BA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2A5-1411-486B-8938-1E83E5A5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91D-91D7-4FFA-B92E-D05FF41B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705-45E1-4B3C-AC34-7BFBEB9D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E6E-EA0D-426E-A4CD-EC653DBA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ABF-20F4-4310-8100-4013E953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D49-D2B5-4C4A-9981-1DE480A9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102-FA43-429B-A977-CD5338D2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84A-AFAF-4D5A-B034-FA05FB73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5AB-7F15-4E9D-AB8B-3C4FBA5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C84-2346-4D72-BAA9-FC0BD021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F016-8965-4F9D-B816-9B9CEB86659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0F94-3D13-43F1-8C87-C15C377CD09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-links.ppt" TargetMode="External"/><Relationship Id="rId2" Type="http://schemas.openxmlformats.org/officeDocument/2006/relationships/hyperlink" Target="file:///TextBox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%5CGas-Papers/Craft&amp;Hawkins-Ch1.pdf" TargetMode="External"/><Relationship Id="rId2" Type="http://schemas.openxmlformats.org/officeDocument/2006/relationships/hyperlink" Target="file:///..%5CGas-Papers/Fetkovich-Simplified-Water-Influx.pdf" TargetMode="External"/><Relationship Id="rId3" Type="http://schemas.openxmlformats.org/officeDocument/2006/relationships/hyperlink" Target="file:///..%5CGas-Papers/Fetkovich-Simplified-Water-Influx.pdf" TargetMode="External"/><Relationship Id="rId4" Type="http://schemas.openxmlformats.org/officeDocument/2006/relationships/hyperlink" Target="file:///Havlena-Odeh.pdf" TargetMode="External"/><Relationship Id="rId5" Type="http://schemas.openxmlformats.org/officeDocument/2006/relationships/hyperlink" Target="file:///spe22921-Fetkovich-Reese-Whitson.pdf" TargetMode="External"/><Relationship Id="rId6" Type="http://schemas.openxmlformats.org/officeDocument/2006/relationships/hyperlink" Target="file:///Stewart-Multiwell-pz-analysis.pdf" TargetMode="External"/><Relationship Id="rId7" Type="http://schemas.openxmlformats.org/officeDocument/2006/relationships/hyperlink" Target="file:///Production-Forecasting.xls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874440" y="20628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Material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69720" y="4973760"/>
            <a:ext cx="6188400" cy="36856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he material balance for simple depletion defines the relation between average reservoir pressure and cumulative gas produc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straight-line MB assumes negligible water&amp;rock expansion &amp; aquifer influx. A plot of p/Z vs Gp (cum. gas produced) is a straight line with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 as intercept and slope given by (p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/Z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)/G, where G is the initial gas in place (IGIP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An important use of the material balance is to estimate IGIP from historical pressure and cumulative production d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When water expansion and/or aquifer encroachment are important, the material balance calculation is more complex and may require an iterative solution to find the fundamental relation between </a:t>
            </a:r>
            <a:r>
              <a:rPr b="0" i="1" lang="en-US" sz="1000" spc="-1" strike="noStrike">
                <a:solidFill>
                  <a:srgbClr val="a50021"/>
                </a:solidFill>
                <a:latin typeface="Comic Sans MS"/>
              </a:rPr>
              <a:t>cumulative production and pressure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Water expansion and water encroachment delay the decline in reservoir pressure due to gas production, resulting in sustained higher well deliverability (for a given G</a:t>
            </a:r>
            <a:r>
              <a:rPr b="0" lang="en-GB" sz="1000" spc="-1" strike="noStrike" baseline="-25000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GB" sz="1000" spc="-1" strike="noStrike">
                <a:solidFill>
                  <a:srgbClr val="3333cc"/>
                </a:solidFill>
                <a:latin typeface="Comic Sans MS"/>
              </a:rPr>
              <a:t>). Water breakthrough often marks the end of life for a gas well. For a number of reasons, the ultimate recovery may be lower for reservoirs with strong aquif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lnSpc>
                <a:spcPct val="12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a50021"/>
                </a:solidFill>
                <a:latin typeface="Comic Sans MS"/>
              </a:rPr>
              <a:t>Layered no-crossflow reservoirs show an early drop in p/Z followed by a longer period of slowly-decreasing (near-constant) p/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325600" y="4064040"/>
                <a:ext cx="2509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361120" y="1554120"/>
            <a:ext cx="125280" cy="647640"/>
          </a:xfrm>
          <a:custGeom>
            <a:avLst/>
            <a:gdLst>
              <a:gd name="textAreaLeft" fmla="*/ 0 w 125280"/>
              <a:gd name="textAreaRight" fmla="*/ 45360 w 125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51040" y="4516560"/>
                <a:ext cx="54594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" name="" descr=""/>
          <p:cNvPicPr/>
          <p:nvPr/>
        </p:nvPicPr>
        <p:blipFill>
          <a:blip r:embed="rId3"/>
          <a:srcRect l="12208" t="12082" r="15262" b="0"/>
          <a:stretch/>
        </p:blipFill>
        <p:spPr>
          <a:xfrm>
            <a:off x="1236600" y="824040"/>
            <a:ext cx="4330800" cy="32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8F7-F039-4D99-A904-AF2C089D23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20F36-CDA9-47C4-A243-5D39CA87763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Craft &amp; Hawkins, Ch.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Fetkovich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, Simplified Water In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Havlena-Odeh Water Influx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-Reese-Whitson, High-Pressure Gas Material Balance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5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Stewart, Multiwell p/z Analysi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828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Field Production Forecasting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7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2840040"/>
            <a:ext cx="6324480" cy="585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149-4DD9-475E-9451-B1EBE337A5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CA528-D9BF-44AE-972A-D1D54AB52D1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6T09:58:29Z</dcterms:modified>
  <cp:revision>96</cp:revision>
  <dc:subject/>
  <dc:title>PowerPoint Presentation</dc:title>
</cp:coreProperties>
</file>