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ACC-B38C-48B2-BCF6-39DBD2EB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B83-BBCF-426D-A27B-349A1070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C6B-171D-466D-A299-EFBC111D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946-2DD8-4E9A-AF9F-CCFAB077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3E3-FD42-4532-A916-162665F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F3C-5FE3-4FF0-820F-E1CD7EF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DFC-2C33-4327-9D61-50846B25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972-C691-4DA3-A78C-8678F608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466-6F93-41FF-954B-4193DD94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14B-3687-478C-8FDF-C638D45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5FC-23C6-4346-AE6A-D6FC061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E27-FF22-46A8-BD6C-930BFF4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512-A0A1-4235-A7DE-914E7CD0E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alidation of coarse grid + GPP approach by comparison with fine gri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2560" y="966960"/>
            <a:ext cx="72388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9T17:02:42Z</dcterms:modified>
  <cp:revision>20</cp:revision>
  <dc:subject/>
  <dc:title>PowerPoint Presentation</dc:title>
</cp:coreProperties>
</file>