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865-4397-448D-ACFC-A2C30E3B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292-C7A5-4534-9ACF-9CC26936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24F-5BB4-462C-B9BB-B445F2F9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147-A7D9-43B9-B170-D38903C1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681-CCC8-4A4E-8D18-41F7ADD2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3DB-C813-4689-B1A6-6ECA1999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7B0-0D4B-4FDC-91FC-54F30E3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BFD-4302-4B1C-AD01-82F30899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B76-DA6C-4A86-90B6-5FD09490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057-DC0C-4C7D-9916-79F5260B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912-4E13-45B9-B97F-E13265E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5C6-16C2-4524-8415-8AD5EE45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801D-4344-484D-AC81-C234F6DDA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6840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6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3-09-09T13:54:31Z</dcterms:modified>
  <cp:revision>22</cp:revision>
  <dc:subject/>
  <dc:title>PowerPoint Presentation</dc:title>
</cp:coreProperties>
</file>