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5C1E-BA67-41C8-B3CC-1B5AA7973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010F-38EC-4F2D-B38E-572BB441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C4BB-2514-433B-82C8-31698F8FC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2E0E-8D0D-4EED-9A08-6A5047DDB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B036-941C-4CF4-9AD7-B5B757D9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B251-05F5-40AB-8B66-A7A4AD39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0776-7A90-401A-AF7A-C05BDBCE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075D-FA71-49C9-84E5-17BD9B31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6D88-C6CD-4B46-8F27-5F5ACA54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9D72-6415-407E-BFBB-F55A8232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ECE1-ADC8-4CD8-B417-4106EEC7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9DF0-534A-44E7-A308-BE10BEDF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10B6-38E8-4307-8BEA-9F2F466038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condensate-blockage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533520"/>
            <a:ext cx="8686800" cy="596160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Condensate blockage is the build-up of liquid around the wellbore, reducing the effective gas permeability and lowering well deliverability. </a:t>
            </a:r>
            <a:r>
              <a:rPr b="0" lang="en-US" sz="16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1"/>
              </a:rPr>
              <a:t>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Condensate saturations in the near-well region can reach 50%, reducing  the gas permeability in the near-well region by a factor of 2 to 2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Comic Sans MS"/>
              </a:rPr>
              <a:t>Condensate blockage is only important when there is a significant pressure drop between the deep reservoir and the well perforations, and when the well is on decline (tubing-pressure limited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50021"/>
                </a:solidFill>
                <a:latin typeface="Comic Sans MS"/>
              </a:rPr>
              <a:t>Condensate blockage is more important at low kh.  It is likely to be a major issue when kh &lt; ~ 1,000 md-ft.  It is unlikely to be significant when kh &gt; ~10,000 md-f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Comic Sans MS"/>
              </a:rPr>
              <a:t>The primary relative permeability relationship affecting condensate blockage is k</a:t>
            </a:r>
            <a:r>
              <a:rPr b="0" lang="en-GB" sz="1600" spc="-1" strike="noStrike" baseline="-25000">
                <a:solidFill>
                  <a:srgbClr val="0033cc"/>
                </a:solidFill>
                <a:latin typeface="Comic Sans MS"/>
              </a:rPr>
              <a:t>rg</a:t>
            </a:r>
            <a:r>
              <a:rPr b="0" lang="en-GB" sz="1600" spc="-1" strike="noStrike">
                <a:solidFill>
                  <a:srgbClr val="0033cc"/>
                </a:solidFill>
                <a:latin typeface="Comic Sans MS"/>
              </a:rPr>
              <a:t> as a function of k</a:t>
            </a:r>
            <a:r>
              <a:rPr b="0" lang="en-GB" sz="1600" spc="-1" strike="noStrike" baseline="-25000">
                <a:solidFill>
                  <a:srgbClr val="0033cc"/>
                </a:solidFill>
                <a:latin typeface="Comic Sans MS"/>
              </a:rPr>
              <a:t>rg</a:t>
            </a:r>
            <a:r>
              <a:rPr b="0" lang="en-GB" sz="1600" spc="-1" strike="noStrike">
                <a:solidFill>
                  <a:srgbClr val="0033cc"/>
                </a:solidFill>
                <a:latin typeface="Comic Sans MS"/>
              </a:rPr>
              <a:t>/k</a:t>
            </a:r>
            <a:r>
              <a:rPr b="0" lang="en-GB" sz="1600" spc="-1" strike="noStrike" baseline="-25000">
                <a:solidFill>
                  <a:srgbClr val="0033cc"/>
                </a:solidFill>
                <a:latin typeface="Comic Sans MS"/>
              </a:rPr>
              <a:t>ro</a:t>
            </a:r>
            <a:r>
              <a:rPr b="0" lang="en-GB" sz="1600" spc="-1" strike="noStrike">
                <a:solidFill>
                  <a:srgbClr val="0033cc"/>
                </a:solidFill>
                <a:latin typeface="Comic Sans MS"/>
              </a:rPr>
              <a:t> in the near-well region. Saturation does not enter the calculation.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The impact of condensate blockage can be reduced by an increase in k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rg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at high velocities (capillary numbers, N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c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) in the near-well region. Considerable evidence for this effect exists from lab experiments and well tes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3-05T11:18:01Z</dcterms:modified>
  <cp:revision>18</cp:revision>
  <dc:subject/>
  <dc:title>PowerPoint Presentation</dc:title>
</cp:coreProperties>
</file>