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493-8FC2-45A2-B3B4-9A073139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C8B9-FE77-4BD7-9A46-305FE214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64F0-795E-49B1-A1D8-2F300368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D311-CD8A-41EB-B570-680D7F5F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4865-DFBA-41A4-BE08-1B93F2D6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DE5-D570-4029-ABB3-4DFBF550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CABD-1E79-4CB4-B7E8-0FD64BC0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C6CF-13CA-4CEA-B85D-4A7C7A39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63AF-9DB7-4DAF-9FE6-62F2EF29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9598-D010-45A3-BF1D-7F09757D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E213-8038-44C5-B6DA-B47248A5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04B4-195D-4125-9F54-9BF5A699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1837-EFDA-45CD-A896-D4D44FFF3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5551"/>
          <a:stretch/>
        </p:blipFill>
        <p:spPr>
          <a:xfrm>
            <a:off x="434880" y="1600200"/>
            <a:ext cx="8272440" cy="4800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mmiscible-type Data (from SPE 5647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5551"/>
          <a:stretch/>
        </p:blipFill>
        <p:spPr>
          <a:xfrm>
            <a:off x="434880" y="1600200"/>
            <a:ext cx="8272440" cy="4800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mmiscible-type Data (from SPE 5647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74840" y="914400"/>
            <a:ext cx="8194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6:39:34Z</dcterms:modified>
  <cp:revision>16</cp:revision>
  <dc:subject/>
  <dc:title>PowerPoint Presentation</dc:title>
</cp:coreProperties>
</file>