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50F-D559-476C-9F5C-D0BA8CAA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89F-16A4-49CB-83DD-E9FA559B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0AC-D537-4CC2-9716-CA3B8983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265-64A4-4577-A11B-179288F0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970-DF8B-456B-A4E3-3560D901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391-8F18-490C-BB02-558621F8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255-2B13-4C50-9750-B8423696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F0A-36C7-416E-8F95-68EC562F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FB4-76FC-4927-BF88-794C5A94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06E-4F0F-4953-9FCA-E689C3F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FE0-C639-4E27-A3E2-6588763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805-2036-4FA3-B103-21630F7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B39A-753D-498E-81EC-29E554125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Fig1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763120" cy="61034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 Dry Gas engineering 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except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Retrograde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ndensation impacts condensate recovery and well deliverability (i.e. economics)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09T09:09:51Z</dcterms:modified>
  <cp:revision>12</cp:revision>
  <dc:subject/>
  <dc:title>PowerPoint Presentation</dc:title>
</cp:coreProperties>
</file>