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4BF5-2C08-4A73-B766-72AC62725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7BB5-BCE4-4333-83C5-9D38F3C74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7266-974D-479A-8C32-3D7AC2FF6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7407-FF0A-4F88-BFC6-C3609CC51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07BC-34D0-4DA1-8FB1-6BC0B8979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38CA-0B3B-48B6-86C6-DF11BEFF4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E835-12C9-4A34-BD5D-3D49E4B68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8410-44B0-4FD4-9CD5-EB78848F5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87AE-85D3-405A-B536-5FC00CB87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1797-4DB8-40C9-B19A-E663833F7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2E60-50B2-4EA4-83BB-5BAE36335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9837-CB13-4F49-8856-9AB88F94B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5F902-0D2B-4562-A44A-C6BCE1219C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7743960" cy="5229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69880" y="228600"/>
            <a:ext cx="800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chematic of pressure and derivative composite behavior (a) two-region composite; (b) three-region composite (from SPE 6292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20T11:54:26Z</dcterms:modified>
  <cp:revision>21</cp:revision>
  <dc:subject/>
  <dc:title>PowerPoint Presentation</dc:title>
</cp:coreProperties>
</file>