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65A4-5BFC-45C8-8553-F130DC8D2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0C6AB-6021-43B9-8598-309247418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52C17-6937-4580-B0D3-2E6842687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27F4-A978-45B8-8F16-4245B0D4E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3C573-5D12-4A97-97E1-1D427F729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2BCC8-0A2E-4104-8220-E2BDB130D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8EB66-CF17-4867-9E65-FAC678A0A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52750-93BE-423C-8D2D-4D93CBECC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82CBC-B9A5-4828-B246-426C4A279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3183-EF10-4636-9DE0-5B675C49B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28361-F131-4E9D-83E6-B963CD394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28083-05D1-43E9-A401-1E6B8DA43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A5C7B-026D-4230-BB18-605B66DA3C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219320" y="685800"/>
            <a:ext cx="6858000" cy="60310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590920" y="1752480"/>
            <a:ext cx="1447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ritical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733920" y="2057400"/>
            <a:ext cx="5331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562720" y="1600200"/>
            <a:ext cx="0" cy="4267080"/>
          </a:xfrm>
          <a:prstGeom prst="line">
            <a:avLst/>
          </a:prstGeom>
          <a:ln w="5076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438280" y="4876920"/>
            <a:ext cx="1219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30% liqu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38480" y="4191120"/>
            <a:ext cx="11430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33cc"/>
                </a:solidFill>
                <a:latin typeface="Arial"/>
              </a:rPr>
              <a:t>20% liqu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3600" y="3962520"/>
            <a:ext cx="68580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50021"/>
                </a:solidFill>
                <a:latin typeface="Arial"/>
              </a:rPr>
              <a:t>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a50021"/>
                </a:solidFill>
                <a:latin typeface="Arial"/>
              </a:rPr>
              <a:t>liqu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952880" y="4800600"/>
            <a:ext cx="6858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8000"/>
                </a:solidFill>
                <a:latin typeface="Arial"/>
              </a:rPr>
              <a:t>1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8000"/>
                </a:solidFill>
                <a:latin typeface="Arial"/>
              </a:rPr>
              <a:t>liqu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180120" y="990720"/>
            <a:ext cx="166356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Initial reservoi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condi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5562360" y="1523880"/>
            <a:ext cx="53316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172200" y="1905120"/>
            <a:ext cx="182880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Dew point 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Reservoir temp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5562360" y="2438280"/>
            <a:ext cx="609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01280" y="152280"/>
            <a:ext cx="621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-T diagram for gas condensate reservo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4T06:56:09Z</dcterms:created>
  <dc:creator>CHW</dc:creator>
  <dc:description/>
  <dc:language>en-US</dc:language>
  <cp:lastModifiedBy>Robert Mott</cp:lastModifiedBy>
  <dcterms:modified xsi:type="dcterms:W3CDTF">2004-02-01T11:33:54Z</dcterms:modified>
  <cp:revision>12</cp:revision>
  <dc:subject/>
  <dc:title>PowerPoint Presentation</dc:title>
</cp:coreProperties>
</file>