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A4E0-9F71-4505-A6E9-FCFA18B7D69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DA3D-C6D5-44BC-B77B-68B335E4522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054760"/>
          <a:ext cx="657216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54760"/>
                    <a:ext cx="6572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47680" y="1155600"/>
          <a:ext cx="6288120" cy="408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1155600"/>
                    <a:ext cx="628812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1560600"/>
            <a:ext cx="366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Condensate blockage’ region of high liquid saturation close to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50920" y="246060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62080" y="6167520"/>
            <a:ext cx="366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Most of the pressure drawdown occurs close to the well, so condensate blockage has a large impact on deliv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07720" y="6434280"/>
            <a:ext cx="958680" cy="15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08480" y="362916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8360" y="3208320"/>
            <a:ext cx="4008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Far from the well, liquid saturation is &lt; 2% (as in CVD ex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" y="5083200"/>
            <a:ext cx="6608880" cy="40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1147680"/>
            <a:ext cx="6357960" cy="390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3760" y="2925720"/>
            <a:ext cx="2739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emilog plot shows importance of ‘condensate blockage’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544840" y="2431800"/>
            <a:ext cx="1377720" cy="507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1400" y="5681520"/>
            <a:ext cx="581040" cy="52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2240" y="5049720"/>
            <a:ext cx="40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With no condensate blockage, p vs log(r) is roughly 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63840" y="7307280"/>
            <a:ext cx="3036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teeper gradient near well is due to condensate blo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87280" y="6673680"/>
            <a:ext cx="770040" cy="655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1:57:02Z</dcterms:modified>
  <cp:revision>92</cp:revision>
  <dc:subject/>
  <dc:title>PowerPoint Presentation</dc:title>
</cp:coreProperties>
</file>