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47B-49E8-47F2-AA9B-C357E9AF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928-6AEF-4D07-B1BA-60E2B16B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807-3301-4553-9D09-6234F31C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8ED-A039-4A91-8F99-640EB077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819-11B8-45AA-82EB-EFB82240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A66-8452-41E8-9296-FCF88C65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47E-B5D7-437B-9FE4-CB05A139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CC0-76AD-4699-949C-E71D1E66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FF0-8313-4A77-AC2C-38F2263C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270-8AB8-472C-951F-9346D976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2FC-4C91-438A-ABD6-A497D230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D9F-BF99-41C6-B1FD-18A8BEBF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CA4B-F473-4A83-B38D-3CD969026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6080" y="274680"/>
            <a:ext cx="6172200" cy="64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GOR : 500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– 35 000 Sm3/S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OGR : 1700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– 30 Sm3/(1E6 Sm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 : 0.5 – 12(-14) mol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c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&lt; 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R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criconden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Retrograde condensation (liquid dropout) – reduces liquid recov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ondensate blockage (productivity lo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ondensate revenues are an important part of the value of the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CGR = condensate-gas ratio = O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OGR = oil-gas ratio = C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39:21Z</dcterms:created>
  <dc:creator>CHW</dc:creator>
  <dc:description/>
  <dc:language>en-US</dc:language>
  <cp:lastModifiedBy>Robert Mott</cp:lastModifiedBy>
  <dcterms:modified xsi:type="dcterms:W3CDTF">2004-02-02T17:17:19Z</dcterms:modified>
  <cp:revision>7</cp:revision>
  <dc:subject/>
  <dc:title>PowerPoint Presentation</dc:title>
</cp:coreProperties>
</file>