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740-7488-4131-BBAB-246ABBB8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459-1C2D-4C2F-A37E-89B43120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9AB7-95D4-4E97-B222-127321E7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7C6-8818-4EE1-A970-7A0E4056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B5B-8436-4F8F-8099-494D082E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9777-5D53-4E83-9763-C642F6B6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09E-25E2-4F21-8B8C-D85EC8EC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8AAA-BBBB-4791-BCCB-BF585D20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0084-E3AD-4FCE-8B1C-87092D66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DF0-727C-4CDD-967E-94FA5A51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1284-6870-49D5-9ED2-BF9AC09E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EA3-891E-40FB-9A18-8F2FCB92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8053-97E7-4A35-9C71-30BA247E2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rg/kro from PVT data for a rich gas condens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2209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 near-well region,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1 &lt; krg/kro &lt;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34290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434880" y="1600200"/>
            <a:ext cx="827244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mmiscible-type Data (from SPE 564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4840" y="914400"/>
            <a:ext cx="8194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6:48:54Z</dcterms:modified>
  <cp:revision>18</cp:revision>
  <dc:subject/>
  <dc:title>PowerPoint Presentation</dc:title>
</cp:coreProperties>
</file>