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3554-70E8-468B-B958-D223CB48A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6BAD-3486-4DFF-81B0-CBC8BFD9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81F5-FF47-4FD5-BDE7-0FFCF3BAE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344E-7569-4810-B8CF-E3E3CB5D5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C706-968D-4AA3-8212-A899660DA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75A5-8A16-4D3D-9061-26D9E79E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EC5C-D32D-46C0-A74D-9ECE2EE42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CF28-C885-4B3F-8456-3B2E64F25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77E7-B392-4D43-BE6A-1F49C600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5639-F7E1-4F50-A2C8-07E07B49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6884-AE35-47E1-944E-AC3C006D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510D-75EE-40F6-A136-97B36B2F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6056C-DB99-4D1C-B727-369020B31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1504800" y="1933560"/>
                <a:ext cx="322596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S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rad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666800" y="1309680"/>
                <a:ext cx="2749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[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w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724040" y="3043080"/>
                <a:ext cx="26449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f>
                      <m:fPr>
                        <m:type m:val="lin"/>
                      </m:fPr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(</m:t>
                        </m:r>
                      </m:den>
                    </m:f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2017800" y="3613320"/>
                <a:ext cx="2114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1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2133720" y="4191120"/>
                <a:ext cx="1904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w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S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685800" y="4991040"/>
            <a:ext cx="5867280" cy="51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surface gas rate, Mscf/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BHFP at surface datum, p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tubing flowing pressure, p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gas static pressure t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average tubing temperature,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average Z-fa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tubing diameter,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true vertical height, 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gas specific gravity, air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numerical (unit-related) constant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hich for the units above a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31.62 ,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0375 ,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1079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3080" y="380880"/>
            <a:ext cx="6286320" cy="4597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Gas Tubing VFP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1T21:26:16Z</dcterms:created>
  <dc:creator>CHW</dc:creator>
  <dc:description/>
  <dc:language>en-US</dc:language>
  <cp:lastModifiedBy>CHW</cp:lastModifiedBy>
  <dcterms:modified xsi:type="dcterms:W3CDTF">2003-08-21T22:10:18Z</dcterms:modified>
  <cp:revision>5</cp:revision>
  <dc:subject/>
  <dc:title>PowerPoint Presentation</dc:title>
</cp:coreProperties>
</file>