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0544-5AF8-4D4C-8227-976F8AB46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0068-F7F4-439D-80E6-59FA8915B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B4C2-8993-4B93-AF14-8F53453BF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1B25-34DD-4973-97AC-838ABFB86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CFF3-BCA3-4A29-B6D1-DF28F4206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6E92-AB4F-4DFD-ADF5-4A642FA05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E748-A58A-4C90-987E-31DC0A4A0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BF82-5880-49FC-9FE0-D2B9EA91E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FF8B-80B6-4BB0-AD5E-58E2A1C31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0439-F833-4CFD-8D76-E790E55A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3C66-EC4E-46CD-8A66-065ED0ECD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9DAE-009A-47B7-8AB7-483D14959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69AFC-1053-4A24-B391-925134FFFB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9880" y="304920"/>
            <a:ext cx="800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imple radial simulation model results in 10 md reservoir – condensate blockage has a major impact on on well deliver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43080" y="1371600"/>
            <a:ext cx="8458200" cy="51973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229600" y="6095880"/>
            <a:ext cx="685800" cy="533520"/>
          </a:xfrm>
          <a:prstGeom prst="rightArrow">
            <a:avLst>
              <a:gd name="adj1" fmla="val 50000"/>
              <a:gd name="adj2" fmla="val 321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69880" y="304920"/>
            <a:ext cx="800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imple radial simulation model results in 100 md reservoir – condensate blockage has little impact on well deliver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792504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18T15:36:41Z</dcterms:modified>
  <cp:revision>21</cp:revision>
  <dc:subject/>
  <dc:title>PowerPoint Presentation</dc:title>
</cp:coreProperties>
</file>