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EBB4-083B-40C7-AC4E-D5603BD9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A021-FF88-4171-AD77-2B258C5E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3139-3F47-49CB-894A-99CB002A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7C0B-553E-40F7-8D5B-BD8F3DC7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7760-B380-4654-AE79-BB3A823D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83EE-6B86-44C5-9B5A-F72CE6DA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C8FB-248B-46B0-820F-6DF83762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5967-EBE7-4974-9A1E-1E7FC7B0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B43C-89FC-46BD-B9CA-2508568A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DBE9-AD95-4798-9406-ACC7D43A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B32B-C8AD-45D5-BA75-EF5A7829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7A55-DBEB-4436-8E42-96EAD26B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4224-9925-4F66-A93F-3B2DE806A01C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1CB7-1462-45DF-804A-76C93D6FFD5E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extBox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GAS%20FIELD%20DEVELOPMENT%20EXAMPLE%20AND%20RESULTS.PPT" TargetMode="External"/><Relationship Id="rId2" Type="http://schemas.openxmlformats.org/officeDocument/2006/relationships/hyperlink" Target="file:///Production-Forecasting.xls" TargetMode="External"/><Relationship Id="rId3" Type="http://schemas.openxmlformats.org/officeDocument/2006/relationships/hyperlink" Target="file:///Production-Forecasting.xls" TargetMode="External"/><Relationship Id="rId4" Type="http://schemas.openxmlformats.org/officeDocument/2006/relationships/hyperlink" Target="file:///Production-Forecasting.xls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4600" y="228600"/>
            <a:ext cx="54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1"/>
          </p:cNvPr>
          <p:cNvSpPr/>
          <p:nvPr/>
        </p:nvSpPr>
        <p:spPr>
          <a:xfrm>
            <a:off x="441360" y="5105520"/>
            <a:ext cx="6188040" cy="3456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Gas field development involves the optimal selection of </a:t>
            </a:r>
            <a:r>
              <a:rPr b="0" i="1" lang="en-US" sz="1000" spc="-1" strike="noStrike" u="sng">
                <a:solidFill>
                  <a:srgbClr val="0033cc"/>
                </a:solidFill>
                <a:uFillTx/>
                <a:latin typeface="Comic Sans MS"/>
              </a:rPr>
              <a:t>well number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000" spc="-1" strike="noStrike" u="sng">
                <a:solidFill>
                  <a:srgbClr val="0033cc"/>
                </a:solidFill>
                <a:uFillTx/>
                <a:latin typeface="Comic Sans MS"/>
              </a:rPr>
              <a:t>well placement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000" spc="-1" strike="noStrike" u="sng">
                <a:solidFill>
                  <a:srgbClr val="0033cc"/>
                </a:solidFill>
                <a:uFillTx/>
                <a:latin typeface="Comic Sans MS"/>
              </a:rPr>
              <a:t>well tubing size</a:t>
            </a:r>
            <a:r>
              <a:rPr b="0" i="1" lang="en-US" sz="10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and </a:t>
            </a:r>
            <a:r>
              <a:rPr b="0" i="1" lang="en-US" sz="1000" spc="-1" strike="noStrike" u="sng">
                <a:solidFill>
                  <a:srgbClr val="0033cc"/>
                </a:solidFill>
                <a:uFillTx/>
                <a:latin typeface="Comic Sans MS"/>
              </a:rPr>
              <a:t>pipeline characteristics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to deliver a specified contract rate (DCQ - daily contract quota) and specified contractual (plateau) peri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engineering tools required are (a) reservoir material balance(s); (b) well rate equations for reservoir and tubing; and (c) pipeline rate equations. Reservoir simulation is often not necessary, but may be conveni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Data acquisition is needed early to estimate key parameters in the calculations mentioned in (2). These include core data, log interpretation, geologic mapping, and well test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Field gas rate ‘swing’ considerations may be important, accounting for a seasonal variation in production rate demand (maximum in winter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Compression design may be important during the contractual period, but almost certainly during the decline period of produ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mic Sans MS"/>
              </a:rPr>
              <a:t>Uncertainty analysis should focus on the parameters which are known to be important and known to be uncertain (IGIP, kh, skin, aquifer strength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320" y="304920"/>
            <a:ext cx="6858000" cy="4209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41280" y="457200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</a:rPr>
              <a:t>Unit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21640" y="457200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996633"/>
                </a:solidFill>
                <a:uFillTx/>
                <a:latin typeface="Comic Sans MS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792A-A799-49F4-99DE-87F4D6BD93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3C790-2B32-4D52-B81A-7FE6D894410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600"/>
            <a:ext cx="632448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Van Dam, Planning of Optimum Production from Gas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tkovich, Multipoint Testing of Gas Wells (backpressure analysi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752480"/>
            <a:ext cx="63244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Gas Field Production Forecasting Worked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Gas Field Production Forecasting (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xls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30680"/>
            <a:ext cx="6324480" cy="5858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C387-39BE-480C-B4E8-75DFD7F6B3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D1C5E-07C9-4AC2-9882-1C048941AEE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3T17:15:02Z</dcterms:modified>
  <cp:revision>69</cp:revision>
  <dc:subject/>
  <dc:title>PowerPoint Presentation</dc:title>
</cp:coreProperties>
</file>