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10B-1B30-4088-9E54-98985BBB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696-7982-4FA5-A93A-C857C897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088-353B-48FD-B15C-7AF49FB4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613-8D2A-4FF7-9CE8-AE6E1B1F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A43-5402-48FB-B2FC-9FD676F5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CF4-4140-4766-A8B4-CB03FF16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4FC-7859-478F-ABE2-AC3FCE19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F42-1E0B-41C4-8BF6-FF0D39A2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222-5C8C-4423-BB72-69939022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378-58BA-42C6-8737-4E130A42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116-7422-4398-9DD8-37414774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68E-3601-40DB-9FD9-53A6FF9C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11D4-AF7D-4D53-B118-4D16857CC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hematic of pressure and derivative composite behavior (a) two-region composite; (b) three-region composite (from SPE 62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7439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40:13Z</dcterms:modified>
  <cp:revision>20</cp:revision>
  <dc:subject/>
  <dc:title>PowerPoint Presentation</dc:title>
</cp:coreProperties>
</file>