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0B2-5401-484F-BABE-B8A80A3C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FFF-9B1E-4B67-B4C1-76863D5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560-94C7-45AD-A7D7-F74FC570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8FC-7714-417D-B44F-1BA3CF39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BEA-6181-49DE-93C6-81A15B56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C9D-9D07-495C-B115-5EEF89FF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22E-4508-4883-95F5-E20E0D3A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DD1-9BC1-4229-BD9D-402373DF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489-E020-4385-84EA-C6636BD6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A8E-6260-4E33-9B8B-48BB50B5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C40-C40D-4A7B-8685-557F48F8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3BF-605F-45D3-A93E-8C64C8A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827F-CB20-4EAE-ABEC-2D36BB2C4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Havlena-Odeh.pd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runs-Fetkovich, Effect of Water Influx on p/z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Robert Mott</cp:lastModifiedBy>
  <dcterms:modified xsi:type="dcterms:W3CDTF">2004-02-13T17:24:27Z</dcterms:modified>
  <cp:revision>7</cp:revision>
  <dc:subject/>
  <dc:title>Other e-note links</dc:title>
</cp:coreProperties>
</file>