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C802-4E4F-4B12-ABD5-D57993ED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ACD-576C-4DDE-8417-329612AD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0F2-92AE-4AB5-B4A2-8F715094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D2A-84D2-4D9C-91E6-67675800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DF3-7232-41D4-9030-965FF6B1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3405-CAFE-445B-A78C-38F3E87C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186E-4428-46B5-8560-7BE8B8AA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A58C-48CF-4AD3-A8B3-D2510349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F72-C6B9-4306-854A-9427B94D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5BF8-8DDB-4BE2-B5B9-7C4618E8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D20-D9CF-4B64-84C5-31B5A18D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A7E-29AA-4CF8-8766-391023FA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71C7-5733-4299-AB21-3A9F3C286154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2969-E563-4969-99AB-C49DD69DBA8D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image" Target="../media/image1.wmf"/><Relationship Id="rId3" Type="http://schemas.openxmlformats.org/officeDocument/2006/relationships/hyperlink" Target="file:///TextBox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2240" y="2286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Gas Condensate Well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00200"/>
            <a:ext cx="3886200" cy="24969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4" name="">
            <a:hlinkClick r:id="rId3"/>
          </p:cNvPr>
          <p:cNvSpPr/>
          <p:nvPr/>
        </p:nvSpPr>
        <p:spPr>
          <a:xfrm>
            <a:off x="76320" y="5257800"/>
            <a:ext cx="6705360" cy="336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0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48320" y="1905120"/>
                <a:ext cx="18874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648320" y="3809880"/>
                <a:ext cx="19047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≈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317840" y="1219320"/>
            <a:ext cx="25992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1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ex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9960" y="3200400"/>
            <a:ext cx="2568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2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in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9A6-4AF7-46EF-A32A-F0A367FE72F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ED531-8F21-4D33-AD20-7E3A6B52693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Practical Considerations in Gas Condensate Well Tes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Well Testing using a Single Phas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 Novel Methodology for 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030-A4E0-42B4-977E-3CAD6CE26F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11F02-77CC-4AC5-99C1-F40617C001C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26:25Z</dcterms:modified>
  <cp:revision>76</cp:revision>
  <dc:subject/>
  <dc:title>PowerPoint Presentation</dc:title>
</cp:coreProperties>
</file>