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2F8-0331-4DD9-9289-5827DB1B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3CB-46D4-4DED-B2B7-6CAEE078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2E7-9D18-4480-B5B7-1699C3DF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D35-F232-4A54-8A6A-FCB141A8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A20-829E-4DFD-8C44-918F7BEB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A05-3D42-4054-89A3-06254849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CD3-FD08-4DEA-BA9B-916D4CF5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E8B-4562-4915-912C-6280ACDF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6AF-16E6-49C3-96C2-E131DE40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F13-3D7D-4BC1-9A59-75E21870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662-A9C9-425D-937F-8061FE73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240-29C7-48A3-AA62-1F183E4A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D2CD-0BC4-4265-AA48-8BFC1AAB9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60400" y="809640"/>
          <a:ext cx="618804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809640"/>
                    <a:ext cx="618804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794240" y="36360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Liquid saturation in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2440" y="5211720"/>
            <a:ext cx="584676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VD ‘liquid dropout curve’ is perhaps the most familiar PVT property of a condensate fluid, but it has little direct impact on reservoir and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CVD data, it is much more important to match the gas Z-factor and C7+ fraction in produced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Net revaporization of retrograde condensate starts only at very low pressures (&lt;50 bar). It does not start when the liquid volume starts dropping (e.g. 140 bar above), as this drop is related to solution gas coming out of solution from the retrograde condensate (‘shrinkage’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3-08-18T10:10:25Z</dcterms:modified>
  <cp:revision>64</cp:revision>
  <dc:subject/>
  <dc:title>PowerPoint Presentation</dc:title>
</cp:coreProperties>
</file>