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2CA-B8FA-424A-8357-C3F4D30E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B1C-63F4-4F8D-B5A5-102CE1F6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DFF-0D74-4018-9131-C9D8FA5B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E9C-FB73-4820-8806-B0A552AF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032-7C6F-44A8-B9D5-2FFB7669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1A5-9D5E-4A6A-9A0B-4EE4BF36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277-2CD1-4E20-9BC8-33CAD593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3E1-6C43-4D4C-81FD-2E80EF3D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26A-A4A8-454D-9DA6-BD7F2C86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446-9949-44A8-88CD-3094A8DC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B7A-405E-430E-A6BD-04BEA584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150-E718-4B3A-B6B3-BB1BA05C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28FB-2673-4064-AF73-46D8ED955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8736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2T08:09:12Z</dcterms:modified>
  <cp:revision>9</cp:revision>
  <dc:subject/>
  <dc:title>PowerPoint Presentation</dc:title>
</cp:coreProperties>
</file>