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E2A-FD89-4423-B14D-8068FCA5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03F-23D5-4896-BEF7-6CF6253E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7E5-1241-49F3-BF61-29668608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936-B77A-47D4-9ADB-E4302541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375-5FC7-4955-AE0A-0451570B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216-CEB0-495C-895E-EB284BFE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C86-FB25-40A5-9E6C-214EBF9F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4BD-B41F-4F7E-AE7B-063328EB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F27-AF7A-432E-B905-D2DE6DCF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D12-B79F-4BD8-999B-3C5E4163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09F-8798-4441-AAB1-BE594358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57F-C455-4E01-BCB5-6C728AA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726A-1000-4FF9-A9F0-6617B177D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6600" y="152280"/>
            <a:ext cx="7209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ducing OGR and well bottom hol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llowing rate reduction during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307440" cy="57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70360" y="1143000"/>
            <a:ext cx="13420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OGR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0" y="3276720"/>
            <a:ext cx="228600" cy="838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77000" y="4114800"/>
            <a:ext cx="1523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ew poin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752480"/>
            <a:ext cx="0" cy="381240"/>
          </a:xfrm>
          <a:prstGeom prst="line">
            <a:avLst/>
          </a:prstGeom>
          <a:ln w="25560">
            <a:solidFill>
              <a:srgbClr val="ff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4648320"/>
            <a:ext cx="657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12960" y="2514600"/>
            <a:ext cx="2100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ducing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09:29:46Z</dcterms:modified>
  <cp:revision>22</cp:revision>
  <dc:subject/>
  <dc:title>PowerPoint Presentation</dc:title>
</cp:coreProperties>
</file>