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311-F685-4219-B44E-6DBD54E7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7B8-E07A-4B6C-834A-C82330D1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5E6-2067-4A81-BEBC-373CF33F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7C0-3774-4313-A307-16D4AB9E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73F-479C-4546-966F-4D1E3B96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063-0F03-4783-9F68-B5CCE297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E5B-73E0-40F9-B932-034FF5E6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CEF-88CE-4F70-90F3-9380ED2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7F9-DB4B-45FA-8982-3831623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CC3-07C3-43A1-BC3A-947111C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7BF-450E-4F8E-B4C2-4950BC4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019-C2FB-4881-ABA5-3AF7C02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4381-201C-4559-B9EE-79B61537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86800" cy="6637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has 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 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4T07:35:33Z</dcterms:modified>
  <cp:revision>17</cp:revision>
  <dc:subject/>
  <dc:title>PowerPoint Presentation</dc:title>
</cp:coreProperties>
</file>