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11A-420F-4197-BE1A-DFE83398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B56-CC39-4F92-8FD4-90A25F06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A89-73F8-4654-B963-4EF1E7ED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924-B336-4BEC-95BE-973DA2FB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AC9-D0B6-47A6-984F-1A9D3AA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6B8-6A0D-4CD6-89C7-E9D0E624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121-0C9B-4886-86E8-4B6027E4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750-91A1-4D97-A7DC-432FD21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43C-A34F-43C8-AB74-58470BA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643-04D3-45A8-AC3F-E3060D2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383-2086-4F4B-9726-03F7022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2AB-13DD-4619-A199-5FC7EC8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8673840"/>
            <a:ext cx="13334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04E1-742A-4B04-90C8-08038BB6DDA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4040" y="8673840"/>
            <a:ext cx="31910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9280" y="8636040"/>
            <a:ext cx="14670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26A7-8357-4FC6-B99A-DEA0BA67C4F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package" Target="../embeddings/oleObject1.xlsx"/><Relationship Id="rId4" Type="http://schemas.openxmlformats.org/officeDocument/2006/relationships/hyperlink" Target="file:///Fig1.ppt" TargetMode="Externa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hyperlink" Target="file:///Fig2.ppt" TargetMode="External"/><Relationship Id="rId8" Type="http://schemas.openxmlformats.org/officeDocument/2006/relationships/image" Target="../media/image2.wmf"/><Relationship Id="rId9" Type="http://schemas.openxmlformats.org/officeDocument/2006/relationships/hyperlink" Target="file:///GC-SAMPLING.PDF" TargetMode="External"/><Relationship Id="rId10" Type="http://schemas.openxmlformats.org/officeDocument/2006/relationships/hyperlink" Target="file:///GC-PVT-Expts.ppt" TargetMode="External"/><Relationship Id="rId11" Type="http://schemas.openxmlformats.org/officeDocument/2006/relationships/hyperlink" Target="file:///../MISC/UNITS-CONVERSION.PDF" TargetMode="External"/><Relationship Id="rId12" Type="http://schemas.openxmlformats.org/officeDocument/2006/relationships/hyperlink" Target="file:///IBC1999SLIDES.PPT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C-PVT-EXAMPLE+RESULTS.PPT" TargetMode="External"/><Relationship Id="rId2" Type="http://schemas.openxmlformats.org/officeDocument/2006/relationships/hyperlink" Target="file:///gas-properties.xls" TargetMode="External"/><Relationship Id="rId3" Type="http://schemas.openxmlformats.org/officeDocument/2006/relationships/hyperlink" Target="file:///CVD-ANALYSIS%20.XL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1880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4920" y="40845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4800" y="4919760"/>
            <a:ext cx="6188400" cy="3918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 has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127160"/>
            <a:ext cx="3645000" cy="2932200"/>
            <a:chOff x="3429000" y="1127160"/>
            <a:chExt cx="3645000" cy="2932200"/>
          </a:xfrm>
        </p:grpSpPr>
        <p:graphicFrame>
          <p:nvGraphicFramePr>
            <p:cNvPr id="46" name=""/>
            <p:cNvGraphicFramePr/>
            <p:nvPr/>
          </p:nvGraphicFramePr>
          <p:xfrm>
            <a:off x="3429000" y="1482840"/>
            <a:ext cx="3645000" cy="2576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>
                      <a:hlinkClick r:id="rId4"/>
                    </p:cNvPr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1482840"/>
                      <a:ext cx="3645000" cy="25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3734640" y="112716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Liquid satura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9880" y="1077840"/>
            <a:ext cx="3708360" cy="2982600"/>
            <a:chOff x="299880" y="1077840"/>
            <a:chExt cx="3708360" cy="2982600"/>
          </a:xfrm>
        </p:grpSpPr>
        <p:graphicFrame>
          <p:nvGraphicFramePr>
            <p:cNvPr id="50" name=""/>
            <p:cNvGraphicFramePr/>
            <p:nvPr/>
          </p:nvGraphicFramePr>
          <p:xfrm>
            <a:off x="299880" y="1439640"/>
            <a:ext cx="3708360" cy="262080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51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" y="1439640"/>
                      <a:ext cx="3708360" cy="26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789840" y="1077840"/>
              <a:ext cx="201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Comic Sans MS"/>
                </a:rPr>
                <a:t>7+</a:t>
              </a: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 frac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12760" y="409428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200" y="4614840"/>
            <a:ext cx="158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PVT Exper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53520" y="404496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3080" y="461484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Whats Important and 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CA7-05A7-4FB4-8C30-A148004431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4151F-EF61-4B44-B031-3424D853362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632448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valuating CV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ydro PVT Manual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93356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Worked example for estimating condensate and ga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Condensate Properties (Single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VD Analysis and Material Balanc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3108240"/>
            <a:ext cx="6324480" cy="549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0DE-D29A-47BC-82D5-AB942A7E9A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6BA6A-879E-4210-877A-0B9978F5C3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15:35Z</dcterms:modified>
  <cp:revision>88</cp:revision>
  <dc:subject/>
  <dc:title>PowerPoint Presentation</dc:title>
</cp:coreProperties>
</file>