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0AEF-BA37-44A8-A4B0-2F82E5CA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BE83-1BFD-464C-B94B-015E128A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B6E-5AA5-4F58-8B1F-9E156DF8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786-1451-449A-A83F-A9E0C8B5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212-FB5C-427A-8D96-77096106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901-BF91-464D-A3AC-2D57868B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196E-CB99-4D6B-9188-A575E0E0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C44D-5ED4-4345-BD50-4774B71C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95F9-0625-4222-ACC6-C1FE4D6F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925-D070-46D5-B5BA-94D3860E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713-3C9A-4B25-97BA-E18F6572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DE5-5983-4E24-A671-0031B75F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034D-5B6F-44DF-B367-C01EBCACD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534520" cy="524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762120"/>
            <a:ext cx="80042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mpare E300 and Fevang-Whitson models for Nc behaviour (at krg/kro=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7:13:14Z</dcterms:modified>
  <cp:revision>20</cp:revision>
  <dc:subject/>
  <dc:title>PowerPoint Presentation</dc:title>
</cp:coreProperties>
</file>