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CB65-2CC7-46CB-AE38-C80ED0F8F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15B7-47AD-4D93-AE84-EDD7C0FB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785E-2787-4D19-91A9-3B7E18E3F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D415-EAFA-4927-90DD-A850B6A7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4845-82C3-4E6C-98E2-3B40DFA8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A1B8-7F96-4ECD-B6DF-45CC0D12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9F8C-2F2D-4719-9DAF-5000206D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CB0C-A7CC-4AB6-8943-F890395E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BDA8-5978-4961-9BCB-9303450A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CC4B-D86E-4E0E-87A2-E0AA2F3C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B0CF-3B60-48EC-A014-B4CF932E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6C93-49B9-4C04-A3EA-ECAB2E93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BEF9-B2A7-495B-B99F-490DA89E9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07960" y="279360"/>
            <a:ext cx="58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Generalized krg/kro plot based on Corey rel perm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50920" y="5016600"/>
            <a:ext cx="5121360" cy="545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ost of the pressure drawdown is in Region 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Region 1 is most important for calculating productivit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7520" y="1231920"/>
            <a:ext cx="6810480" cy="5210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313160" y="7424640"/>
            <a:ext cx="233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Comic Sans MS"/>
              </a:rPr>
              <a:t>Fig 17 from SPE 307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1-22T09:26:22Z</dcterms:modified>
  <cp:revision>78</cp:revision>
  <dc:subject/>
  <dc:title>PowerPoint Presentation</dc:title>
</cp:coreProperties>
</file>