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95E-EFC0-4A70-92C5-88336075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E54-97C7-4E15-BE06-6017EF67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923-9948-43AC-818F-9B305E80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1B2-D4A4-40B8-B2F0-65877BD4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38C-A4F8-4365-B887-165A0A32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3C0-7665-434C-9D86-0CD5BC2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129-7D21-4A6F-8A0D-1BE5394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9CE-4D9C-4D3E-91EE-291D4265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A2F-BAD0-4C14-B1BD-AAC046C2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B7D-EF48-44BF-98D1-920087C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90C-1461-456A-939B-DC131D9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2C8-3B1C-4717-8BB3-5AB06E29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332-15FA-4499-8C37-0F3A3483C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271680"/>
            <a:ext cx="5981760" cy="2802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 = condensate blockage sk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outside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uter radius of blockag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52280"/>
            <a:ext cx="628632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Estimating skin due to condensate bl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87480" y="1143000"/>
                <a:ext cx="43466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8-01T08:32:21Z</dcterms:modified>
  <cp:revision>12</cp:revision>
  <dc:subject/>
  <dc:title>PowerPoint Presentation</dc:title>
</cp:coreProperties>
</file>