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EEF3-3683-46D2-B7C4-5B3C4BF117A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A2E2-D251-4CAD-A677-9B10A628FAB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Characteristics.ppt" TargetMode="External"/><Relationship Id="rId4" Type="http://schemas.openxmlformats.org/officeDocument/2006/relationships/hyperlink" Target="file:///../MISC/UNITS-CONVERSION.PDF" TargetMode="External"/><Relationship Id="rId5" Type="http://schemas.openxmlformats.org/officeDocument/2006/relationships/hyperlink" Target="file:///Fig1.ppt" TargetMode="External"/><Relationship Id="rId6" Type="http://schemas.openxmlformats.org/officeDocument/2006/relationships/image" Target="../media/image1.wmf"/><Relationship Id="rId7" Type="http://schemas.openxmlformats.org/officeDocument/2006/relationships/hyperlink" Target="file:///Fluid%20types.ppt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ndensate-Value.xls" TargetMode="External"/><Relationship Id="rId2" Type="http://schemas.openxmlformats.org/officeDocument/2006/relationships/hyperlink" Target="file:///Condensate-Value.xls" TargetMode="External"/><Relationship Id="rId3" Type="http://schemas.openxmlformats.org/officeDocument/2006/relationships/hyperlink" Target="file:///Condensate-Value.xls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04920" y="5715000"/>
            <a:ext cx="6264000" cy="2469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4040" indent="-2840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 Dry Gas engineering except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Retrograde condensation impacts condensate recovery and well deliverability 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(i.e. economics)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/>
          </p:cNvPr>
          <p:cNvSpPr/>
          <p:nvPr/>
        </p:nvSpPr>
        <p:spPr>
          <a:xfrm>
            <a:off x="3962520" y="1197000"/>
            <a:ext cx="2819160" cy="33930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GOR : 3000 – 200 000 scf/ST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OGR : 300 – 5 STB/MMs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7+  : 0.5 – 12 mol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trograde condens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liquid dropout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blocka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productivity los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revenu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02720" y="502920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0280" y="50292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222200"/>
            <a:ext cx="3809880" cy="334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9687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00"/>
                </a:solidFill>
                <a:uFillTx/>
                <a:latin typeface="Comic Sans MS"/>
              </a:rPr>
              <a:t>What’s special about gas condensate reservoi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2750040" y="502920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Fluid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632448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Craft and Hawkins, Petroleum Reservoir Engineering, Ch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Muskat, Gas Condensate Ch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SPE Phase Behavior Monograph Chapter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Value of Gas and Liquids:  CGR -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+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imulation example – Depletion and Gas 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6:04Z</dcterms:modified>
  <cp:revision>81</cp:revision>
  <dc:subject/>
  <dc:title>PowerPoint Presentation</dc:title>
</cp:coreProperties>
</file>