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822-5A9E-4CD3-BD1B-414660C1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6B4-6796-403F-A481-42BFF5E2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A3C-40C7-40C3-A019-97B4F22B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285B-AE07-49C0-9B2A-BBD7F129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EF5-C4D5-49E0-894B-5DA3960F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E7B-9767-467A-A39D-50A81635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245-D6A5-4982-A5FD-F9AA145E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8014-F61E-4B80-B4F0-C92381FF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503-635B-4806-9BAA-3E37FF04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A14-02B1-41C3-BA45-CBCBC39E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DA2-18DF-47D4-8D8E-20C5FC9A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2F2-7149-4E59-9AAF-65AFAE7D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0970-FF15-4C02-BAE6-351D1B24E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Ex-1a.pdf" TargetMode="External"/><Relationship Id="rId2" Type="http://schemas.openxmlformats.org/officeDocument/2006/relationships/hyperlink" Target="file:///Ex-1.pdf" TargetMode="External"/><Relationship Id="rId3" Type="http://schemas.openxmlformats.org/officeDocument/2006/relationships/hyperlink" Target="file:///Ex-1.xls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401760"/>
            <a:ext cx="6286320" cy="106956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cc"/>
                </a:solidFill>
                <a:latin typeface="Comic Sans MS"/>
              </a:rPr>
              <a:t>Golan-Whitson, Well Perform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cc"/>
                </a:solidFill>
                <a:latin typeface="Comic Sans MS"/>
              </a:rPr>
              <a:t>Example 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38520" y="1676520"/>
            <a:ext cx="3344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hort Problem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75160" y="2378160"/>
            <a:ext cx="3466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Complete Proble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Comic Sans MS"/>
              </a:rPr>
              <a:t>(excerpt from bo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5160" y="3429000"/>
            <a:ext cx="3466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Complete Proble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Comic Sans MS"/>
              </a:rPr>
              <a:t>(Exc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rcRect l="17188" t="0" r="11612" b="0"/>
          <a:stretch/>
        </p:blipFill>
        <p:spPr>
          <a:xfrm>
            <a:off x="990720" y="4267080"/>
            <a:ext cx="51051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2T10:03:58Z</dcterms:modified>
  <cp:revision>30</cp:revision>
  <dc:subject/>
  <dc:title>PowerPoint Presentation</dc:title>
</cp:coreProperties>
</file>