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4A430-E680-4355-AABC-1D4988B3E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7D0AA-5DF5-4EA2-9F9A-FA27078E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A74F5-0863-42E4-B421-EC0A42562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996C8-4AC6-434C-897B-6ACD40C16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00602-1BCB-490F-92EF-EF5AD25E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F5E94-6C9C-47C5-96FE-0AE5777CC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DFE63-D493-482C-9948-7E2EF60B6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F88D-E6F5-48CA-8852-319A564D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7E302-2046-4F60-AAC7-DE84DF1F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067F-DE00-4593-A0A5-A8EDF334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4FED-30DE-400E-914F-F1D92814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E4F8-C0E4-472A-A22E-E4280499A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991B-6E07-4FB3-8182-B2CAFB672D9D}"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C5A8-969A-40A9-B0CC-D9EC12F8E674}"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5A847A30-9510-4409-B4B4-49FC5BB43541}" type="slidenum">
              <a:t>1</a:t>
            </a:fld>
          </a:p>
        </p:txBody>
      </p:sp>
      <p:sp>
        <p:nvSpPr>
          <p:cNvPr id="4" name="PlaceHolder 3"/>
          <p:cNvSpPr>
            <a:spLocks noGrp="1"/>
          </p:cNvSpPr>
          <p:nvPr>
            <p:ph type="dt" idx="1"/>
          </p:nvPr>
        </p:nvSpPr>
        <p:spPr/>
        <p:txBody>
          <a:bodyPr/>
          <a:p>
            <a:fld id="{DE1F7C7B-041C-4909-A963-F99261BAE283}"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928B5FDA-A958-40BF-AF95-BCC974D3DBD7}" type="slidenum">
              <a:t>2</a:t>
            </a:fld>
          </a:p>
        </p:txBody>
      </p:sp>
      <p:sp>
        <p:nvSpPr>
          <p:cNvPr id="4" name="PlaceHolder 3"/>
          <p:cNvSpPr>
            <a:spLocks noGrp="1"/>
          </p:cNvSpPr>
          <p:nvPr>
            <p:ph type="dt" idx="1"/>
          </p:nvPr>
        </p:nvSpPr>
        <p:spPr/>
        <p:txBody>
          <a:bodyPr/>
          <a:p>
            <a:fld id="{2E45D8DD-426F-4BAF-83A1-F8B98FA95D92}"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