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770-4534-450D-ABED-CC32329E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BC0-62F4-41B4-96E8-C3145021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0B4-62EB-4F42-99B0-C40F4CB6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E24-D25A-4F01-9D01-D882A2B6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812-FC08-4422-825D-B8E77F85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AFB-6BD4-408C-A781-28340385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170-D7DE-449E-9B75-A43A40BA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7A1-AB35-4D38-8AF1-8B868592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36A-3B75-4C44-8697-82293A44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01E-DC0A-46F2-92C7-E16C2034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B7B-1163-44B9-88DA-78BDF2E8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521-179C-4D01-8D1B-5A505E14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73A8-418F-4437-9CA6-8A5B2E705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587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dew point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 factor at dewpoi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umulative wellstream (wet gas or moles) produced in CVD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62040" y="1305000"/>
                <a:ext cx="55497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07Z</dcterms:modified>
  <cp:revision>14</cp:revision>
  <dc:subject/>
  <dc:title>PowerPoint Presentation</dc:title>
</cp:coreProperties>
</file>