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B0CA-FB1F-495C-81ED-85B2CDAFE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0799-3FFF-40C2-B8D5-CEA6CDDC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6CAE-CED6-4FB2-AA9D-5AD00D981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D080-EC16-470C-930C-87B3606A9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0172-FF2A-4403-B353-D93BE5F7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94B4-0A4E-4458-944F-62A22492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0EC4-5D7A-492C-B7E8-FD499A79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8178-76FC-4A55-9D50-5A5D9E05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64ED-AB82-48F5-AE68-5AA8AC04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4D63-320B-487F-80FC-58563369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A5E9-0BAD-4774-A299-21844C4D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0A4B-F3C3-42CE-B69B-7DA054C1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4E44-88ED-4D0D-B7D6-C84FE7CE9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533520"/>
            <a:ext cx="8686800" cy="56840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volumetric rate equation for a gas condensate well can be expressed in terms of a 2-phase pseudopressure integral.  The pseudopressure accounts for ‘condensate blockage’ by including relative permeability k</a:t>
            </a:r>
            <a:r>
              <a:rPr b="0" lang="en-US" sz="16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inside the pressure integra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Flow </a:t>
            </a:r>
            <a:r>
              <a:rPr b="0" lang="nb-NO" sz="1600" spc="-1" strike="noStrike">
                <a:solidFill>
                  <a:srgbClr val="a50021"/>
                </a:solidFill>
                <a:latin typeface="Comic Sans MS"/>
              </a:rPr>
              <a:t>to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a gas condensate well can be modeled by three regions around the well.  Region 1 – the area closest to the well where both oil and gas phases are flowing – dictates productivity loss o</a:t>
            </a:r>
            <a:r>
              <a:rPr b="0" lang="nb-NO" sz="1600" spc="-1" strike="noStrike">
                <a:solidFill>
                  <a:srgbClr val="a50021"/>
                </a:solidFill>
                <a:latin typeface="Comic Sans MS"/>
              </a:rPr>
              <a:t>r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‘condensate blockage’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The flowing composition is constant in Region 1.  The single phase gas entering Region 1 has the same composition as the producing wellbore mixture; this observation leads to the the equation for k</a:t>
            </a:r>
            <a:r>
              <a:rPr b="0" lang="en-GB" sz="16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/k</a:t>
            </a:r>
            <a:r>
              <a:rPr b="0" lang="en-GB" sz="1600" spc="-1" strike="noStrike" baseline="-25000">
                <a:solidFill>
                  <a:srgbClr val="0033cc"/>
                </a:solidFill>
                <a:latin typeface="Comic Sans MS"/>
              </a:rPr>
              <a:t>ro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(p)</a:t>
            </a: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 in Region 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50021"/>
                </a:solidFill>
                <a:latin typeface="Comic Sans MS"/>
              </a:rPr>
              <a:t>The pseudopressure integral can be used to model condensate blockage in coarse grid reservoir simulation models; or it can be combined with material balance models to provide a simple model of condensate well perform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The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pseudopressure integral can be extended to include high-velocity and IFT effects on relative permeability -- improvement from high capillary numbers and reduction from ‘inertial’ non-Darcy flow.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3-09-09T13:54:31Z</dcterms:modified>
  <cp:revision>22</cp:revision>
  <dc:subject/>
  <dc:title>PowerPoint Presentation</dc:title>
</cp:coreProperties>
</file>