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AA8-0114-4509-9D69-764B79B1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283-F8C8-46F8-A1F1-16683353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E7A-DC50-4657-B5C9-2754E35B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AA1-E477-4098-8CAD-B841EA5F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B5F-ED85-4F09-A2A9-D1050E49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94D-5DB2-4584-9886-89FD15E9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C87-0099-4B45-997D-E4371911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351-A4A9-4C82-B246-8C193932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355-4ACE-41C6-B291-3C0D8E85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063-407E-44EF-83BE-92B38CA2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07D-9800-4722-A425-B51DF7B4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014-8ACB-4C73-9620-3F1FB8BA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DF68-5F7B-4CB1-9330-1192441D4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47600" y="1919160"/>
                <a:ext cx="43783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311120" y="99072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033560" y="5334120"/>
            <a:ext cx="4789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units conversion factor (see next sl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rate-dependent skin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flowing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volumetric 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visco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formation volum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143000" y="3936960"/>
                <a:ext cx="1857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790800" y="3903840"/>
                <a:ext cx="1859040" cy="13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322092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85160" y="338472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eudopressur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5840" y="30492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Rate Equation in Field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57080" y="4038480"/>
                <a:ext cx="53438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12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76440" y="5638680"/>
            <a:ext cx="550368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urface gas rate, scf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permeability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otal thicknes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external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ate-dependent skin coefficient, 1/(scf/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eservoir temperature, deg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flowing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volumetric average reservoir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formation volume factor, res.bbl/s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47560" y="914400"/>
                <a:ext cx="5761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4600" y="2666880"/>
                <a:ext cx="65088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457200"/>
            <a:ext cx="422928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662004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95440" y="3048120"/>
            <a:ext cx="2286000" cy="3124080"/>
          </a:xfrm>
          <a:custGeom>
            <a:avLst/>
            <a:gdLst/>
            <a:ahLst/>
            <a:rect l="l" t="t" r="r" b="b"/>
            <a:pathLst>
              <a:path w="1440" h="1968">
                <a:moveTo>
                  <a:pt x="0" y="1968"/>
                </a:moveTo>
                <a:lnTo>
                  <a:pt x="0" y="672"/>
                </a:lnTo>
                <a:lnTo>
                  <a:pt x="96" y="480"/>
                </a:lnTo>
                <a:lnTo>
                  <a:pt x="240" y="288"/>
                </a:lnTo>
                <a:lnTo>
                  <a:pt x="336" y="192"/>
                </a:lnTo>
                <a:lnTo>
                  <a:pt x="384" y="144"/>
                </a:lnTo>
                <a:lnTo>
                  <a:pt x="480" y="96"/>
                </a:lnTo>
                <a:lnTo>
                  <a:pt x="576" y="48"/>
                </a:lnTo>
                <a:lnTo>
                  <a:pt x="720" y="0"/>
                </a:lnTo>
                <a:lnTo>
                  <a:pt x="816" y="0"/>
                </a:lnTo>
                <a:lnTo>
                  <a:pt x="912" y="0"/>
                </a:lnTo>
                <a:lnTo>
                  <a:pt x="1056" y="0"/>
                </a:lnTo>
                <a:lnTo>
                  <a:pt x="1200" y="0"/>
                </a:lnTo>
                <a:lnTo>
                  <a:pt x="1248" y="0"/>
                </a:lnTo>
                <a:lnTo>
                  <a:pt x="1296" y="0"/>
                </a:lnTo>
                <a:lnTo>
                  <a:pt x="1440" y="48"/>
                </a:lnTo>
                <a:lnTo>
                  <a:pt x="1440" y="1968"/>
                </a:lnTo>
                <a:lnTo>
                  <a:pt x="0" y="196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6705720"/>
            <a:ext cx="7621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6705720"/>
            <a:ext cx="76176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81080" y="6172200"/>
            <a:ext cx="45720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724280" y="6172200"/>
            <a:ext cx="53352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14360" y="7848720"/>
            <a:ext cx="4229280" cy="825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cc"/>
                </a:solidFill>
                <a:latin typeface="Comic Sans MS"/>
              </a:rPr>
              <a:t>Gas rate is proportional to area und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3-02T14:46:15Z</dcterms:modified>
  <cp:revision>34</cp:revision>
  <dc:subject/>
  <dc:title>PowerPoint Presentation</dc:title>
</cp:coreProperties>
</file>