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D32E-3DA2-437D-97C8-A0D18FF9269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77EE-55AC-4E46-A152-4AD3B72C737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FIELD SUMMARY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Sensor Black Oil Model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44Z</dcterms:modified>
  <cp:revision>87</cp:revision>
  <dc:subject/>
  <dc:title>PowerPoint Presentation</dc:title>
</cp:coreProperties>
</file>