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447-C7B9-4E83-B841-4A6B8E04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014-8944-4FA5-AB02-96A9F09B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126-D7D5-4DBC-B445-F384F044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4A6-3DA3-4188-B846-75DD13FE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9AE-3328-4F7C-8FF3-F7EEF454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ADF-1A5F-4BB1-9313-1D35B687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C29-042C-422D-B583-2DA9E9EC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E7F-B9E3-4CFB-9770-A9F66382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632-0741-46F5-964A-5EFEE969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834-9DA1-4CF9-B264-96DA0CB1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A4F-405C-4D2D-B08C-070B7430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3B8-235A-4085-8319-99ACD204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AABD-DD16-4CA1-80C7-01603C6ED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84240" y="1143000"/>
                <a:ext cx="6689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443320" y="6705720"/>
                <a:ext cx="1969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79680" y="8229600"/>
                <a:ext cx="1897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343080" y="36972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401920" y="4821120"/>
                <a:ext cx="2054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85840" y="4114800"/>
            <a:ext cx="6286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3333cc"/>
                </a:solidFill>
                <a:latin typeface="Comic Sans MS"/>
              </a:rPr>
              <a:t>Recovery down to dewpoint (applies to both oil and g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nb-NO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d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840" y="6019920"/>
            <a:ext cx="62863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CGR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) relation to mol-% C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5840" y="7543800"/>
            <a:ext cx="628632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Surface Gas Equivalent of Conden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14320" y="2895480"/>
                <a:ext cx="539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43080" y="204624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Gas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4:43:53Z</dcterms:modified>
  <cp:revision>13</cp:revision>
  <dc:subject/>
  <dc:title>PowerPoint Presentation</dc:title>
</cp:coreProperties>
</file>