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624-2319-46A6-983E-F40CD73C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BCD-70E8-441F-BBA9-6A19A0FE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E3A-F132-4A75-8897-C0A288A1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CE9-B669-4EBF-B5B3-6D18ADCC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260-CE40-4E2E-931F-09410722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D7D-2051-471E-8B14-894EFE69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A57-D164-4D7A-87F3-B816B324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825-B127-45D9-B77C-F3CD42F0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8B1-F5B7-4D45-9B8B-636C7259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054-3ACF-4894-B5C6-7F31A9A6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D97-58C8-4DF2-9C07-83765B44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BEC2-188C-4837-98E6-AC39DC59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BF22-9CAB-4C05-8415-018E9C9C1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tching flowing bottom hole pressure data from a multi-rate well test using single wel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6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19051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imulation (including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58128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019920" y="4495680"/>
            <a:ext cx="38088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426708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 (no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599840" y="3429000"/>
            <a:ext cx="304920" cy="457200"/>
          </a:xfrm>
          <a:prstGeom prst="line">
            <a:avLst/>
          </a:prstGeom>
          <a:ln w="223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2590920"/>
            <a:ext cx="53352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9:06Z</dcterms:modified>
  <cp:revision>21</cp:revision>
  <dc:subject/>
  <dc:title>PowerPoint Presentation</dc:title>
</cp:coreProperties>
</file>