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EA1F-8FC1-46B7-8AD4-2AB30A10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B322-75BF-4826-9E71-AEF77FC0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E94B-DB7D-4913-B648-3C1DC7BD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5F22-AAC4-4A31-97A4-6C989BEA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00E9-0D0B-4BA2-9CC3-21EAE106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921A-1155-4FA1-A1CF-294F514F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FC7B-FE3B-4AAC-A151-FA913B85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E16F-54D4-4AFA-B8B3-63349BB5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5827-4359-4409-8BD4-999A3CE4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06F4-04D8-4DEF-BF05-B83AB81F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DB02-76E1-4831-8D54-BEF7E91C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8DEE-FF69-4FAC-97D9-5288FC31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231D-50C1-4E8B-901D-DDF6B8721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63440" y="113976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and two-phase pseudopress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3886200"/>
            <a:ext cx="1981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438280"/>
            <a:ext cx="19814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45:00Z</dcterms:modified>
  <cp:revision>22</cp:revision>
  <dc:subject/>
  <dc:title>PowerPoint Presentation</dc:title>
</cp:coreProperties>
</file>