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CC7-B954-456F-9E08-E8212205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DA6-8891-4C8B-BDA5-EC344789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AE9-CB5A-4FA7-B193-1A16B73F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ACA-4998-4925-AAC3-DA8E2884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9F6-8812-41C7-9852-91913F63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562-AFFF-4ED3-A48F-5972C045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B25-12A7-441A-B861-4CCB2137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4C9-BCC1-4A4E-9133-08ED0FFF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1BA-EA26-4EC1-9D38-3FA815D1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807-7985-46E9-A4B4-836E21A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749-3193-4FB9-A252-99E99394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4BC-6AFB-4E2E-AD58-42C4E44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7FB8-EC60-45A0-A000-9CD71CF7716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29A2-5FF9-4595-AE99-83CACDAED63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../GC-Papers/SPE28749-Arun.pdf" TargetMode="External"/><Relationship Id="rId3" Type="http://schemas.openxmlformats.org/officeDocument/2006/relationships/hyperlink" Target="file:///../../GC-Papers/TIPM-Whitson-Fevang-Saevareid-GC-RelPerm.pdf" TargetMode="External"/><Relationship Id="rId4" Type="http://schemas.openxmlformats.org/officeDocument/2006/relationships/hyperlink" Target="file:///../../GC-Papers/TIPM-Whitson-Fevang-Saevareid-GC-RelPerm.pdf" TargetMode="External"/><Relationship Id="rId5" Type="http://schemas.openxmlformats.org/officeDocument/2006/relationships/hyperlink" Target="file:///../../E-NOTES/GC-PAPERS/SPE56476-FEVANG-WHITSON-GC-RELPERM.PDF" TargetMode="External"/><Relationship Id="rId6" Type="http://schemas.openxmlformats.org/officeDocument/2006/relationships/hyperlink" Target="file:///../../GC-Papers/IBC1997Paper.pdf" TargetMode="External"/><Relationship Id="rId7" Type="http://schemas.openxmlformats.org/officeDocument/2006/relationships/hyperlink" Target="file:///../../GC-Papers/SPE86298-Mott.pdf" TargetMode="External"/><Relationship Id="rId8" Type="http://schemas.openxmlformats.org/officeDocument/2006/relationships/hyperlink" Target="file:///../../GC-Papers/SPE86298-Mott.pdf" TargetMode="External"/><Relationship Id="rId9" Type="http://schemas.openxmlformats.org/officeDocument/2006/relationships/hyperlink" Target="file:///../GC-RATE-EXAMPLE+RESULTS.PPT" TargetMode="External"/><Relationship Id="rId10" Type="http://schemas.openxmlformats.org/officeDocument/2006/relationships/hyperlink" Target="file:///../Calculate-krg_kro.xls" TargetMode="External"/><Relationship Id="rId11" Type="http://schemas.openxmlformats.org/officeDocument/2006/relationships/hyperlink" Target="file:///../Calculate-krg_kro.xls" TargetMode="External"/><Relationship Id="rId12" Type="http://schemas.openxmlformats.org/officeDocument/2006/relationships/hyperlink" Target="file:///../Calculate-krg_kro.xls" TargetMode="External"/><Relationship Id="rId13" Type="http://schemas.openxmlformats.org/officeDocument/2006/relationships/hyperlink" Target="file:///../Calculate-krg_kro.xls" TargetMode="External"/><Relationship Id="rId14" Type="http://schemas.openxmlformats.org/officeDocument/2006/relationships/hyperlink" Target="file:///../Calculate-krg_kro.xls" TargetMode="External"/><Relationship Id="rId15" Type="http://schemas.openxmlformats.org/officeDocument/2006/relationships/hyperlink" Target="file:///../Calculate-krg_kro.xls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8480" y="155520"/>
            <a:ext cx="57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ate Eq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0" y="5410080"/>
            <a:ext cx="6188400" cy="33588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49240" y="1295280"/>
                <a:ext cx="515952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76560" y="4672080"/>
                <a:ext cx="230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8440" y="2846520"/>
                <a:ext cx="2119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32360" y="3862440"/>
                <a:ext cx="2163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228600" y="2895480"/>
            <a:ext cx="3479760" cy="2387880"/>
            <a:chOff x="228600" y="2895480"/>
            <a:chExt cx="3479760" cy="2387880"/>
          </a:xfrm>
        </p:grpSpPr>
        <p:grpSp>
          <p:nvGrpSpPr>
            <p:cNvPr id="49" name=""/>
            <p:cNvGrpSpPr/>
            <p:nvPr/>
          </p:nvGrpSpPr>
          <p:grpSpPr>
            <a:xfrm>
              <a:off x="350640" y="2959200"/>
              <a:ext cx="3294720" cy="2262240"/>
              <a:chOff x="350640" y="2959200"/>
              <a:chExt cx="3294720" cy="2262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401400" y="3198960"/>
                <a:ext cx="3078360" cy="2022480"/>
                <a:chOff x="401400" y="3198960"/>
                <a:chExt cx="3078360" cy="202248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1084680" y="3351600"/>
                  <a:ext cx="1895760" cy="1434240"/>
                  <a:chOff x="1084680" y="3351600"/>
                  <a:chExt cx="1895760" cy="14342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03920" y="3356280"/>
                    <a:ext cx="370440" cy="14295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575440" y="3351600"/>
                    <a:ext cx="405000" cy="14295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084680" y="3361320"/>
                    <a:ext cx="1122120" cy="1416600"/>
                  </a:xfrm>
                  <a:prstGeom prst="rect">
                    <a:avLst/>
                  </a:prstGeom>
                  <a:solidFill>
                    <a:srgbClr val="66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55" name=""/>
                <p:cNvGraphicFramePr/>
                <p:nvPr/>
              </p:nvGraphicFramePr>
              <p:xfrm>
                <a:off x="401400" y="3198960"/>
                <a:ext cx="3078360" cy="20224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5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01400" y="3198960"/>
                          <a:ext cx="3078360" cy="2022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7" name=""/>
                <p:cNvSpPr/>
                <p:nvPr/>
              </p:nvSpPr>
              <p:spPr>
                <a:xfrm>
                  <a:off x="1093320" y="3571920"/>
                  <a:ext cx="1123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350640" y="2959200"/>
                <a:ext cx="996120" cy="2642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1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68160" y="2972160"/>
                <a:ext cx="996120" cy="2642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2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49240" y="2972160"/>
                <a:ext cx="996120" cy="26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3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28600" y="2895480"/>
              <a:ext cx="3479760" cy="23878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F73-7EBD-4F91-A498-21EE3A8F0A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55EEE-0783-4CF1-9E65-0E90446500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1240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Modeling Gas Condensate Well Deliv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Gas Condensate R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Generalized Pseudopressure Well Treatment In Reservoir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Engineering Calculations of Gas Condensate Well Productivity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160" y="2120760"/>
            <a:ext cx="632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Worked example for estimating gas produc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Spreadsheet for c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alculating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krg/kro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3"/>
              </a:rPr>
              <a:t> and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4"/>
              </a:rPr>
              <a:t>kr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5"/>
              </a:rPr>
              <a:t> in Reg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003-FAA2-4F5B-B2BA-DEC63D0103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5EA4E-E544-4540-89D5-9AE05D0CA51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 </cp:lastModifiedBy>
  <dcterms:modified xsi:type="dcterms:W3CDTF">2004-09-17T11:54:21Z</dcterms:modified>
  <cp:revision>66</cp:revision>
  <dc:subject/>
  <dc:title>PowerPoint Presentation</dc:title>
</cp:coreProperties>
</file>