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B8D-E34C-442E-A445-4DD9462B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C8D-3AA8-45E3-AFC7-0466F250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A4B-04EC-46C9-A50C-E1E31D6E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EF7-25FA-4C55-B53B-ABDFBFD5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5A9-4ADD-4CAF-984E-F64A8F5C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6D0-9284-4FE5-94C2-F1BA5F57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B3B-38B6-4086-AC93-551E4F0E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131-E0E1-40FA-98D4-E3F64052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1BB-FE19-45D4-A27A-07E22936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BFA-8A7B-494F-A71E-6F027114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CC0-27CA-4E61-8C0B-E96ADD51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E25-31A2-44C1-B7AC-B9723565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B907-570C-433E-8DA0-A6EEA407D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953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initial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-factor at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gas produced from depletion at pre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t gas or m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nitial gas in place (wet gas or mol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2400" y="1427040"/>
                <a:ext cx="53499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45Z</dcterms:modified>
  <cp:revision>15</cp:revision>
  <dc:subject/>
  <dc:title>PowerPoint Presentation</dc:title>
</cp:coreProperties>
</file>