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D2B-9803-4358-BA4F-CE20E975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BD5-85D8-448E-9AFD-09CDD21C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1DC-EA4F-4FE5-A39F-EB3933A5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137-1789-4D01-A9C1-AFE6EF6D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B82-EBDB-4E3D-BF67-751CE664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188-9D6E-4582-B14B-3A081C5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2F7-E56D-475C-953E-70D202B4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FEA-D63D-4E55-8688-1976FCF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5B6-DB08-4B4C-979C-E3292745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451-74A5-4747-91BD-3C792A74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916-C020-4195-9632-5305CCE2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B78-CBED-45AF-A384-5A55960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CEA1-5299-418B-B153-3A821D5DE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5487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1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9:08:06Z</dcterms:modified>
  <cp:revision>25</cp:revision>
  <dc:subject/>
  <dc:title>PowerPoint Presentation</dc:title>
</cp:coreProperties>
</file>