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602-1AB8-4BD7-93CA-CCD211CF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B3F-4B1D-4855-B13A-CC8EF319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EA0-983F-419A-A2A8-08801C78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0BD-2C9F-4E03-BA08-04D3E25B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55E-4D3C-41BC-B4B5-8B4EC222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01B-1A35-41E6-A4FC-0D9CF4F2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ABB-879B-4F8B-868C-C05C6FBD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71B-1CD5-457F-8C2F-4661CBBE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18E-A1D4-4C83-B40A-6A765DD5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D9B-107B-4339-B514-1827C315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420-4EB9-4E13-8234-836F4CF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2A5-F8A1-45C2-803A-BFAB5155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FDF5-91F5-4D44-BA47-15EE983EB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Materi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11:50:44Z</dcterms:modified>
  <cp:revision>1</cp:revision>
  <dc:subject/>
  <dc:title>Other e-note links</dc:title>
</cp:coreProperties>
</file>