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E06C-618D-4F22-AE0F-F28C4D918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9BF4-3546-4039-8518-21341F1E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1181-8222-40B3-9941-D8A6BCD7F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A7C8-6DA9-4EAC-9A7B-A43804196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297E-E0AB-43EE-A30A-7E71C8A0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5025-2608-43CF-A472-5EA43797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F3BA-34AD-4CA8-88D0-0BF1286C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03C2-0A81-4758-865F-06FF70ED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C48D-AB5B-4678-A213-F577945B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CC76-D5CB-4438-98CF-138C2358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94E9-13EE-44F4-9672-634ACBF9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D094-8033-4AD8-993F-9CAE1FDD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3111-B316-441C-9A17-272A7C00C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08040" y="0"/>
            <a:ext cx="612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0T10:21:04Z</dcterms:modified>
  <cp:revision>19</cp:revision>
  <dc:subject/>
  <dc:title>PowerPoint Presentation</dc:title>
</cp:coreProperties>
</file>