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7346-476C-46B4-93FF-499646D4A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7ABD-2C52-4D68-AB03-86009D1F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BF12-5A78-4A19-98C4-3107F7240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A619-2031-427B-90AC-F044E10E4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F94D-ADE9-4942-A13E-DB86173A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830D-291B-475A-A7AC-47A041C4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1383-1CFE-49A4-B806-46E70838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1A94-7E05-45AE-A9C4-C65449B9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5AE6-9E5B-40FA-8BB1-E95BB3E2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9F42-96EC-47DF-956E-8802E3BC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3A4E-ECC6-414C-B19B-9FDBE33B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A902-C9AD-4504-AC8A-95F4FB53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5155-15A2-4CCA-8FB0-49177C01F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Other e-note lin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Reservo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PV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Block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1:50:24Z</dcterms:created>
  <dc:creator>CHW</dc:creator>
  <dc:description/>
  <dc:language>en-US</dc:language>
  <cp:lastModifiedBy>CHW</cp:lastModifiedBy>
  <dcterms:modified xsi:type="dcterms:W3CDTF">2003-08-17T23:23:49Z</dcterms:modified>
  <cp:revision>2</cp:revision>
  <dc:subject/>
  <dc:title>Other e-note links</dc:title>
</cp:coreProperties>
</file>