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D5E4-81EE-48BF-B0C4-7FC67E3B8A60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2252-7565-4AE0-9F07-C9D55AEA87E0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880" y="2743200"/>
            <a:ext cx="6258240" cy="321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in Reg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relative permeability in Region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formation volume factor, RB/scf 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formation volume factor, RB/STB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oil ratio, scf/STB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-gas ratio (OGR or CGR), STB/scf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vf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flowing OGR in Region 1, STB/scf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44784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Relative Permeability Ratio in Reg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76520" y="1371600"/>
                <a:ext cx="30495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57400" y="6019920"/>
                <a:ext cx="22939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o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47840" y="7238880"/>
            <a:ext cx="5962320" cy="80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)   oil relative volume from a CCE experiment on the flowing fluid com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Variation of krg/kro and Vro with pressure during depletion of a rich gas condensate fluid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6400800" cy="6159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21240" y="8077320"/>
            <a:ext cx="233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Fig 18 from SPE 307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76760" y="5270400"/>
            <a:ext cx="1246320" cy="580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CVD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009680" y="5540400"/>
            <a:ext cx="614520" cy="3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3040" y="8199360"/>
            <a:ext cx="1246320" cy="580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CCE volu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390760" y="7238880"/>
            <a:ext cx="54000" cy="96696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509920" y="5951160"/>
            <a:ext cx="1195200" cy="221292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Variation of krg/kro and Vro with pressure during depletion of a lean gas condensate fluid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4521240" y="8229600"/>
            <a:ext cx="233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Fig 19 from SPE 307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6629400" cy="6238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218120" y="5340240"/>
            <a:ext cx="1245960" cy="580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CVD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095280" y="5610240"/>
            <a:ext cx="1160280" cy="26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41400" y="7935840"/>
            <a:ext cx="1246320" cy="580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CCE volu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739880" y="7273440"/>
            <a:ext cx="193680" cy="66852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87400" y="6548400"/>
            <a:ext cx="1406520" cy="137016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01T12:57:26Z</dcterms:modified>
  <cp:revision>93</cp:revision>
  <dc:subject/>
  <dc:title>PowerPoint Presentation</dc:title>
</cp:coreProperties>
</file>