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E235-68C6-4E00-B270-E4F9ED338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17E6-E0E9-4A00-AE94-D56858A4A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F671-48A9-49E0-8511-1270688D0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47E4-A353-4058-AB38-55CC2EC1F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1B8A-EA80-4E8B-854F-5D2B64F6E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14B5-B989-4308-9177-C9B89B8B0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4C62-FEB0-42CC-9C83-D4CAE9692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6CEF-07E9-4917-AEF0-6A8263085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40AC-E345-401C-9384-8A7571765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0581-4F2A-4ABD-9A09-DF829248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56A0-AA5E-42AA-BC40-FB7F1144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12BE-B59E-4C43-8F7F-FA976538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E9B1D-1E7D-47E0-832F-EFB6520F43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9880" y="30492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Near-well rel perm data – krg versus Nc at fixed krg/k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14680" y="1346040"/>
            <a:ext cx="57150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09T16:54:39Z</dcterms:modified>
  <cp:revision>20</cp:revision>
  <dc:subject/>
  <dc:title>PowerPoint Presentation</dc:title>
</cp:coreProperties>
</file>