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D6AA-44D6-4052-AF76-D20B6020A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DE83-739A-423A-B383-AE7F6802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4FE3-5CDD-4BB1-9C90-93461F65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530F-52B8-4A2F-83C6-D815FF5FC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8FA6-1EA5-4B57-8ADC-6582DF9B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1331-0C09-4606-9A49-696C14DD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C20A-F08D-4B84-A48B-CC0362AB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32BE-5922-4500-B5EE-86AF8BB7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D075-2A33-401B-BA3F-CF04D859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3EA8-0612-4826-9C30-6B27DA24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4B07-B974-4716-8377-7F512DF0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9D35-EBC1-4892-B776-9855B621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C8DD-C5ED-4B7D-BE9D-BB26A897E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1219320" y="1044720"/>
                <a:ext cx="61862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B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914400" y="1806480"/>
            <a:ext cx="719784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reservoir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-factor evaluated at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ive effective compressibility, accounting for rock and water volumes in the HC-bearing reservoir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ive gas produc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gas in 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 FVF at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ive water encroachment from aquifer (e.g. simplified Fetkovich, Hurst-van Everdingen type aquifer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*No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r a pot aquifer the W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erm can be incorporated in the 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erm as outlined by Fetkovich, Reese, and Whitson (SPE 22921), in which case the material balance is non-iterative in solu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752480" y="6073920"/>
                <a:ext cx="461808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743200" y="304920"/>
                <a:ext cx="33526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10:40:09Z</dcterms:created>
  <dc:creator>CHW</dc:creator>
  <dc:description/>
  <dc:language>en-US</dc:language>
  <cp:lastModifiedBy>CHW</cp:lastModifiedBy>
  <dcterms:modified xsi:type="dcterms:W3CDTF">2003-08-21T10:54:03Z</dcterms:modified>
  <cp:revision>7</cp:revision>
  <dc:subject/>
  <dc:title>PowerPoint Presentation</dc:title>
</cp:coreProperties>
</file>