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B451-F8EA-4D79-9BF1-B52CF387ABC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8DBF-8EAA-4486-A8AA-B85FAB1D284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4:26Z</dcterms:modified>
  <cp:revision>99</cp:revision>
  <dc:subject/>
  <dc:title>PowerPoint Presentation</dc:title>
</cp:coreProperties>
</file>