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488E-8C4A-4CA0-B096-C5E2883B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12FB-F144-411D-8980-7B5FE9FC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F8CF-A6EC-4D19-A173-09BF63BEF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8991-FEDE-45A7-86B0-26C0035EB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7345-2814-4A06-95EC-4E718405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6E3E-004B-4400-9731-3AFAB25C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28BF-8F4B-4416-9EF7-D9A24642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47AE-2D12-4D13-8593-D5C873E5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C6AF-CB71-41D9-9E5D-C37ED76E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070A-6E06-423B-B359-82FD071A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1266-A5BC-4A77-BF5F-D303E084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29D8-AC14-4DEF-902B-72BE663E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BE1F-08E3-48F8-8443-60A884B4C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Rock-curves.ppt" TargetMode="External"/><Relationship Id="rId2" Type="http://schemas.openxmlformats.org/officeDocument/2006/relationships/hyperlink" Target="krgkro.ppt" TargetMode="External"/><Relationship Id="rId3" Type="http://schemas.openxmlformats.org/officeDocument/2006/relationships/hyperlink" Target="Simul-results.ppt" TargetMode="External"/><Relationship Id="rId4" Type="http://schemas.openxmlformats.org/officeDocument/2006/relationships/hyperlink" Target="Near-well-rel-perms.ppt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Nc-models.ppt" TargetMode="External"/><Relationship Id="rId2" Type="http://schemas.openxmlformats.org/officeDocument/2006/relationships/hyperlink" Target="GPP.pp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440" y="214200"/>
            <a:ext cx="8763120" cy="61081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Use Quality-Controlled PVT data to set up an EoS model of the reservoir.  Ensure that gas Z-factors and C7+ content of the gas are matched accurately.  Check the predicted depletion recoveries agree with CVD resul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Plot all gas-oil rel perm data in form krg vs krg/kro. Choose data for first estimate of ‘rock’ rel perm curves. If no data available, use Corey functions with ‘crossover’ point of about 0.1. Also plot straight-line (‘miscible’) rel perm curve. 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1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Calculate krg/kro range for the near-well region in this reservoir.  Compare rock and straight-line values  in this range, to estimate potential benefit from Capillary Number (Nc) effect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2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Single well, 1D radial, EoS simulation model on fine grid. Include tubing and use THP control. Compare rate-time performance using rock and straight-line rel perm curves to determine if condensate blockage is important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3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If blockage is important, get SCAL data for near-well rel perms.  Measure krg as function of krg/kro and Nc. Typically 3 rates for each of 5 values of krg/kro.      Cost ~ $100K. Saturation measurements are not really needed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4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1880" y="617220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533520"/>
            <a:ext cx="8763120" cy="447588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Set up fine grid single well model.  Include cell-to-cell calculation of Nc effects. When using the E300 model for Nc effects, check that the behavior of krg versus Nc at fixed krg/kro matches experimental data. (If high-rate rel perm data are not available, use the Fevang-Whitson correlation with </a:t>
            </a:r>
            <a:r>
              <a:rPr b="0" lang="en-US" sz="1600" spc="-1" strike="noStrike">
                <a:solidFill>
                  <a:srgbClr val="a50021"/>
                </a:solidFill>
                <a:latin typeface="Symbol"/>
                <a:ea typeface="Symbol"/>
              </a:rPr>
              <a:t>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= 4000, n=0.7), 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1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Set up a coarse grid, single well model using the Generalized Pseudopressure Model (GPP in Eclipse).  Include the Nc effect.  Compare results with the fine grid single well model  - they should agree, though for lean condensates it may be necessary to use smaller cells in the coarse grid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2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Full field model using coarse grid and GPP model with Nc effects.  In principle this calculation can use a black oil model with a table of IFT versus pressure, but this is not possible at present with Eclipse, so that a compositional model must be run.  A large number of components is not  needed – 5 or 6 should be suffici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8T16:34:20Z</dcterms:modified>
  <cp:revision>17</cp:revision>
  <dc:subject/>
  <dc:title>PowerPoint Presentation</dc:title>
</cp:coreProperties>
</file>