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570-9AFC-482D-BAC2-5F8E1276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A50-B950-4A2C-A637-3742A325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726-7CC0-4373-B5F9-176E4964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B4A-5242-4E3D-910A-70CFDEEE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6B3-F982-4154-98A1-A9DD9F2C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B37-EECA-497F-802F-731BB3A3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AD2-7F5C-460B-A708-345C23C4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6FB-125B-43B4-8073-2DD187E3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A58-D625-4ADE-91D0-36AD6602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637-C43C-4614-A0FD-59843CA7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F2D-6F79-49D7-B7BA-8EF0A1CE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1DA-17CC-4CED-B973-298C17E4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0859-D9A4-4D70-BB24-86F6AD74B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219320" y="1044720"/>
                <a:ext cx="61862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914400" y="1806480"/>
            <a:ext cx="7197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factor evaluated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effective compressibility, accounting for rock and water volumes in the HC-bearing reservoi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gas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gas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FVF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water encroachment from aquifer (e.g. simplified Fetkovich, Hurst-van Everdingen type aqui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*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pot aquifer the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can be incorporated in the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as outlined by Fetkovich, Reese, and Whitson (SPE 22921), in which case the material balance is non-iterative in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752480" y="6073920"/>
                <a:ext cx="46180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3200" y="304920"/>
                <a:ext cx="3352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0:40:09Z</dcterms:created>
  <dc:creator>CHW</dc:creator>
  <dc:description/>
  <dc:language>en-US</dc:language>
  <cp:lastModifiedBy>CHW</cp:lastModifiedBy>
  <dcterms:modified xsi:type="dcterms:W3CDTF">2003-08-21T10:54:03Z</dcterms:modified>
  <cp:revision>7</cp:revision>
  <dc:subject/>
  <dc:title>PowerPoint Presentation</dc:title>
</cp:coreProperties>
</file>