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A456-5FAF-439F-96DF-E5AC7BA2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BCE1-7237-4A59-8383-3C36E430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01E6-9120-4F49-B0FE-742C4C34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9184-D46C-496A-9B48-8236376A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F26F-C23D-49C0-ABE4-58ED7035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F476-89EC-4587-A6A2-363DBB07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4B6-D460-40C6-B952-DDCD7037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3AEF-B4D1-4DAE-B41E-27454CE0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251-60B1-47B7-8665-D37C6DC1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E413-13A4-46AE-9085-7538B9AD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4B19-BFD3-4FB6-8794-09275931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DCA3-B380-438D-98E5-0274DB1A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354C-F843-4E1E-9614-9EA25F12EC94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BA24-4DFE-46BD-94C8-E5A9D9D8C1CA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image" Target="../media/image1.wmf"/><Relationship Id="rId3" Type="http://schemas.openxmlformats.org/officeDocument/2006/relationships/hyperlink" Target="file:///TextBox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2240" y="2286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Gas Condensate Well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00200"/>
            <a:ext cx="3886200" cy="24969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4" name="">
            <a:hlinkClick r:id="rId3"/>
          </p:cNvPr>
          <p:cNvSpPr/>
          <p:nvPr/>
        </p:nvSpPr>
        <p:spPr>
          <a:xfrm>
            <a:off x="76320" y="5257800"/>
            <a:ext cx="6705360" cy="336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0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648320" y="1905120"/>
                <a:ext cx="188748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648320" y="3809880"/>
                <a:ext cx="19047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≈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317840" y="1219320"/>
            <a:ext cx="25992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1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ex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9960" y="3200400"/>
            <a:ext cx="2568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2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in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7452-AF2D-4F85-9A6F-7CB37C03FC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EFAEE-CD39-49AB-8FDB-8F90E50D639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600"/>
            <a:ext cx="63244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Practical Considerations in Gas Condensate Well Tes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Well Testing using a Single Phas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A Novel Methodology for 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830680"/>
            <a:ext cx="6324480" cy="585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F2F-1FF7-42BF-8E01-9EE23A542A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EC937-FE0F-4316-82C1-D4631C2D271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26:25Z</dcterms:modified>
  <cp:revision>76</cp:revision>
  <dc:subject/>
  <dc:title>PowerPoint Presentation</dc:title>
</cp:coreProperties>
</file>