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421F-3DCE-4662-9E21-53989C9C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094-FFBC-4847-8960-8B988C56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1490-85C6-488B-9399-854ED889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8FA6-C586-431C-8FDE-39D531BE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9E95-7960-4E6E-9831-D9D995F4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2222-85FA-4F40-A232-1BC19BEC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076A-5307-4AF5-BF70-F34C9180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A159-C24C-4C1A-AE23-10FBA928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E2B1-925C-47FF-AE70-ABA0C7FD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64F-62C1-4EC4-9131-FD4CE900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4C7E-4EB2-41B2-AD89-4B0B1156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ED5-74CA-4A53-A7BA-78B5D647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79EE-4B3C-470B-A44B-5D0B75A0C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e-note 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P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Blo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CHW</cp:lastModifiedBy>
  <dcterms:modified xsi:type="dcterms:W3CDTF">2003-08-17T23:23:49Z</dcterms:modified>
  <cp:revision>2</cp:revision>
  <dc:subject/>
  <dc:title>Other e-note links</dc:title>
</cp:coreProperties>
</file>