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0F48-DEAB-44BD-86FC-5C12904530A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E1C5-E69E-4F2A-A4EB-A7ACD551A66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hyperlink" Target="file:///GC_res_d_comp.out" TargetMode="External"/><Relationship Id="rId3" Type="http://schemas.openxmlformats.org/officeDocument/2006/relationships/hyperlink" Target="file:///GC_res_c5_comp.out" TargetMode="External"/><Relationship Id="rId4" Type="http://schemas.openxmlformats.org/officeDocument/2006/relationships/hyperlink" Target="file:///GC_res_c10_comp.out" TargetMode="External"/><Relationship Id="rId5" Type="http://schemas.openxmlformats.org/officeDocument/2006/relationships/hyperlink" Target="file:///GC_res_d_comp_summary.out" TargetMode="External"/><Relationship Id="rId6" Type="http://schemas.openxmlformats.org/officeDocument/2006/relationships/hyperlink" Target="file:///GC_res_bo.dat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752480"/>
            <a:ext cx="59436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lack oil and compositional models give almost identical results for depletion. Published results for full field models confirm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 cycling, black oil overestimates oil recovery. Final recovery is overestimated by about 6% in this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rrors due to black oil model of gas cycling may still be small compared with uncertainties due to reservoir description or PVT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un times are 3 - 10 times longer for composition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63244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Kenyon &amp; Behie - 3rd SPE Comparative Solution Project SPE 122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ats - Simulation of Gas Condensate reservoir Performance SPE 10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vang Whitson – Black Oil vs Compositional Simulation Comparison SPE 6308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l Banbi et al – Black Oil vs Compositional Simulation Comparison for Full Field Gas Condensate Model SPE 58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FIELD SUMMARY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Sensor Black Oil Model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56400" y="228600"/>
            <a:ext cx="43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47640" y="1219320"/>
          <a:ext cx="5562720" cy="335268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  <a:gridCol w="9907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il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eld life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7200" y="518148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y from gas cycling depends on areal and vertical sweep efficiency.  In this example, about 40% of the reservoir is swept after 5 years, and about 60% after 10 year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76040" y="22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Value of oil and g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d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3200400"/>
          <a:ext cx="4572000" cy="329076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 revenue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PV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447920" y="152388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781680"/>
            <a:ext cx="5943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Value of extra revenue from gas cycling is reduced by the delay to gas s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NPV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56880" y="304920"/>
            <a:ext cx="49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and gas reven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23960" y="1270080"/>
          <a:ext cx="5410080" cy="330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270080"/>
                    <a:ext cx="541008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43040" y="4572000"/>
          <a:ext cx="5371920" cy="333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040" y="4572000"/>
                    <a:ext cx="53719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8088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enefits and drawbacks of gas cyc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2133720"/>
            <a:ext cx="67816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can improve recovery of liquids, but these benefits are offset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lay to gas s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tra CAPEX – more wells, gas injection fac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nger 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is mainly used where no gas export facilities are available, or in a few very rich gas condensate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47880" y="1295280"/>
          <a:ext cx="4962240" cy="35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295280"/>
                    <a:ext cx="496224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990720" y="4876920"/>
          <a:ext cx="4876560" cy="3538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876920"/>
                    <a:ext cx="487656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20Z</dcterms:modified>
  <cp:revision>87</cp:revision>
  <dc:subject/>
  <dc:title>PowerPoint Presentation</dc:title>
</cp:coreProperties>
</file>