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4D7F-0DA0-42D2-86B5-07DC06B8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F8C5-D01E-40B7-A87B-DD5A9911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6700-1A86-4BC1-839E-29993E10C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60E0-0260-4CD8-8131-02723494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EFF4-1C66-4DD3-8DE5-C91A324F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E578-4786-4614-AF0F-063A7DBC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FE08-00A6-4BAD-8A9F-D9640364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3ED9-7075-45ED-8AA7-9F491215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24AD-D359-4B30-A221-23403D7F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2313-0784-48D0-AFFF-91E73BA6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E1E1-0455-45A6-96B5-91CBCC02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C3D8-3A1F-422C-8C6E-7EEC5473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91DE-A55C-4626-ACB3-75F38F03A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Ex-1a.pdf" TargetMode="External"/><Relationship Id="rId2" Type="http://schemas.openxmlformats.org/officeDocument/2006/relationships/hyperlink" Target="file:///Ex-1.pdf" TargetMode="External"/><Relationship Id="rId3" Type="http://schemas.openxmlformats.org/officeDocument/2006/relationships/hyperlink" Target="file:///Ex-1.xls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401760"/>
            <a:ext cx="6286320" cy="106956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cc"/>
                </a:solidFill>
                <a:latin typeface="Comic Sans MS"/>
              </a:rPr>
              <a:t>Golan-Whitson, Well Performa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cc"/>
                </a:solidFill>
                <a:latin typeface="Comic Sans MS"/>
              </a:rPr>
              <a:t>Example 2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38520" y="1676520"/>
            <a:ext cx="3344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Short Problem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75160" y="2378160"/>
            <a:ext cx="34664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Complete Problem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Comic Sans MS"/>
              </a:rPr>
              <a:t>(excerpt from boo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75160" y="3429000"/>
            <a:ext cx="34664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Complete Problem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Comic Sans MS"/>
              </a:rPr>
              <a:t>(Exc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rcRect l="17188" t="0" r="11612" b="0"/>
          <a:stretch/>
        </p:blipFill>
        <p:spPr>
          <a:xfrm>
            <a:off x="990720" y="4267080"/>
            <a:ext cx="51051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CHW</cp:lastModifiedBy>
  <dcterms:modified xsi:type="dcterms:W3CDTF">2003-08-22T10:03:58Z</dcterms:modified>
  <cp:revision>30</cp:revision>
  <dc:subject/>
  <dc:title>PowerPoint Presentation</dc:title>
</cp:coreProperties>
</file>