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504-BD1A-4AB7-8CBD-E7A33B43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419-9336-4E47-A87E-92FE9788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C1E-3FF0-4360-8C72-F2BD1420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760-0BC9-49EC-8F8B-0FE66501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9AD-2704-4856-B878-9C94C2FA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EED-9B25-4C44-BE3C-010EEBAB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DDD-E4B9-4EC1-8EAB-F87C109E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EAC-3849-49DA-8B6C-68BC4928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E37-4341-411E-9BD1-FB430C14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E9A-D669-47D4-A426-8721258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286-3295-4D7E-AACC-99643D4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6AD-C26E-4BB7-9558-D90E0CB1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BEBD-7C43-471E-A916-03E23C4F98F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8D8B-FD3B-427D-AA34-AF034185E36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x-1.xls" TargetMode="External"/><Relationship Id="rId2" Type="http://schemas.openxmlformats.org/officeDocument/2006/relationships/hyperlink" Target="file:///Ex-2.pdf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2390400" y="2286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41360" y="6081840"/>
            <a:ext cx="6188040" cy="2574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8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8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8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60760" y="1046160"/>
                <a:ext cx="1446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152388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32240" y="4168800"/>
                <a:ext cx="1897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33760" y="2438280"/>
                <a:ext cx="1532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8840" y="3338640"/>
                <a:ext cx="116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3"/>
          <a:srcRect l="18824" t="0" r="21434" b="0"/>
          <a:stretch/>
        </p:blipFill>
        <p:spPr>
          <a:xfrm>
            <a:off x="328680" y="838080"/>
            <a:ext cx="3633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4840" y="5226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4760" y="5629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Ga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5800" y="52261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35400" y="5079960"/>
                <a:ext cx="2090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1EC-75D7-433B-B29B-4D567C21A8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00C92-0880-40C6-8711-3E25F228BC3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6324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295280"/>
            <a:ext cx="6324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stimate IGIP and IO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App.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2819520"/>
            <a:ext cx="6324480" cy="585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93C-84C5-4680-8176-4C140E09A8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D6C79-28E5-4107-8089-36B262ABB33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1585800"/>
            <a:ext cx="5305680" cy="59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E18-0675-4D82-9833-EFB400DD9F9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28071-B0E8-4E91-87F1-E7332DF7F4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0:04:32Z</dcterms:modified>
  <cp:revision>66</cp:revision>
  <dc:subject/>
  <dc:title>PowerPoint Presentation</dc:title>
</cp:coreProperties>
</file>