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28FB-6FB8-4C15-86B8-2F5A0C87F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874A-7895-45FC-B2CF-7D0E4704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36F1-5289-4BAB-8EF8-651AF64B9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F33F-4EEE-4774-A4C6-F4B0AD9A9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DB1B-3FC5-4854-BEAF-F68DB740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AD59-12D7-43DD-BFDE-ECC60ED3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AA50-0BAA-4FC1-8759-1996D0F9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4D45-DC78-4820-9540-599DD13C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1CB4-48A9-409A-B1D9-4D4918FA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A7DE-D80E-4D99-BECB-DE990830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AE9C-C3EE-4B19-AFA1-8B2EA9F8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A4FF-C830-4D74-A354-FC62DFD2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2746-566E-4101-BD82-1FFFE86AE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f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898560" y="5243400"/>
            <a:ext cx="5216400" cy="3392640"/>
            <a:chOff x="898560" y="5243400"/>
            <a:chExt cx="5216400" cy="3392640"/>
          </a:xfrm>
        </p:grpSpPr>
        <p:grpSp>
          <p:nvGrpSpPr>
            <p:cNvPr id="42" name=""/>
            <p:cNvGrpSpPr/>
            <p:nvPr/>
          </p:nvGrpSpPr>
          <p:grpSpPr>
            <a:xfrm>
              <a:off x="2225520" y="5450040"/>
              <a:ext cx="3089160" cy="2458440"/>
              <a:chOff x="2225520" y="5450040"/>
              <a:chExt cx="3089160" cy="2458440"/>
            </a:xfrm>
          </p:grpSpPr>
          <p:sp>
            <p:nvSpPr>
              <p:cNvPr id="43" name=""/>
              <p:cNvSpPr/>
              <p:nvPr/>
            </p:nvSpPr>
            <p:spPr>
              <a:xfrm>
                <a:off x="4049280" y="5458320"/>
                <a:ext cx="603720" cy="24501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654440" y="5450040"/>
                <a:ext cx="660240" cy="245016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225520" y="5466960"/>
                <a:ext cx="1828440" cy="242820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6" name=""/>
            <p:cNvGraphicFramePr/>
            <p:nvPr/>
          </p:nvGraphicFramePr>
          <p:xfrm>
            <a:off x="898560" y="5243400"/>
            <a:ext cx="5216400" cy="33926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98560" y="5243400"/>
                      <a:ext cx="5216400" cy="339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07960" y="279360"/>
            <a:ext cx="582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Flow to a gas condensate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916920" y="977760"/>
            <a:ext cx="5091840" cy="3697200"/>
            <a:chOff x="916920" y="977760"/>
            <a:chExt cx="5091840" cy="3697200"/>
          </a:xfrm>
        </p:grpSpPr>
        <p:grpSp>
          <p:nvGrpSpPr>
            <p:cNvPr id="51" name=""/>
            <p:cNvGrpSpPr/>
            <p:nvPr/>
          </p:nvGrpSpPr>
          <p:grpSpPr>
            <a:xfrm>
              <a:off x="932040" y="1369800"/>
              <a:ext cx="5076720" cy="3305160"/>
              <a:chOff x="932040" y="1369800"/>
              <a:chExt cx="5076720" cy="330516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2059200" y="1619280"/>
                <a:ext cx="3126960" cy="2344320"/>
                <a:chOff x="2059200" y="1619280"/>
                <a:chExt cx="3126960" cy="23443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3905280" y="1626840"/>
                  <a:ext cx="610920" cy="233676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4518000" y="1619280"/>
                  <a:ext cx="668160" cy="233676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2059200" y="1635120"/>
                  <a:ext cx="1850760" cy="2315520"/>
                </a:xfrm>
                <a:prstGeom prst="rect">
                  <a:avLst/>
                </a:prstGeom>
                <a:solidFill>
                  <a:srgbClr val="66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56" name=""/>
              <p:cNvGraphicFramePr/>
              <p:nvPr/>
            </p:nvGraphicFramePr>
            <p:xfrm>
              <a:off x="932040" y="1369800"/>
              <a:ext cx="5076720" cy="3305160"/>
            </p:xfrm>
            <a:graphic>
              <a:graphicData uri="http://schemas.openxmlformats.org/presentationml/2006/ole">
                <p:oleObj progId="Excel.Sheet.12" r:id="rId3" spid="">
                  <p:embed/>
                  <p:pic>
                    <p:nvPicPr>
                      <p:cNvPr id="5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32040" y="1369800"/>
                        <a:ext cx="5076720" cy="3305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8" name=""/>
              <p:cNvSpPr/>
              <p:nvPr/>
            </p:nvSpPr>
            <p:spPr>
              <a:xfrm>
                <a:off x="2075040" y="1979640"/>
                <a:ext cx="18525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916920" y="977760"/>
              <a:ext cx="2212200" cy="54576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mic Sans MS"/>
                </a:rPr>
                <a:t>Region 1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mic Sans MS"/>
                </a:rPr>
                <a:t>Gas and oil are flow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66280" y="977760"/>
              <a:ext cx="1509480" cy="5457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mic Sans MS"/>
                </a:rPr>
                <a:t>Region 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mic Sans MS"/>
                </a:rPr>
                <a:t>Oil is immob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938120" y="977760"/>
              <a:ext cx="996120" cy="5457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mic Sans MS"/>
                </a:rPr>
                <a:t>Region 3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mic Sans MS"/>
                </a:rPr>
                <a:t>No oi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1084320" y="4611600"/>
            <a:ext cx="5121360" cy="545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Most of the pressure drawdown is in Region 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Region 1 is most important for calculating productivit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8160" y="8559720"/>
            <a:ext cx="582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Definition of regions 1,2 &amp;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14960" y="8591400"/>
            <a:ext cx="495360" cy="324000"/>
          </a:xfrm>
          <a:prstGeom prst="rightArrow">
            <a:avLst>
              <a:gd name="adj1" fmla="val 50000"/>
              <a:gd name="adj2" fmla="val 38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68160" y="0"/>
            <a:ext cx="582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Flowing composition is constant in Regi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07880" y="836640"/>
            <a:ext cx="6450120" cy="3962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01760" y="5103720"/>
            <a:ext cx="645624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1T10:35:55Z</dcterms:modified>
  <cp:revision>81</cp:revision>
  <dc:subject/>
  <dc:title>PowerPoint Presentation</dc:title>
</cp:coreProperties>
</file>