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7B5-5B3D-4F8C-B871-9BBD696E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BCC-6DE5-4808-BF14-64077C4B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124-AE13-42C5-8F84-44FFDE5C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253-187E-4DE6-8C93-30B91240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C5D-E43F-4EB0-8610-AD2F0EE8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7AB-3990-4C17-8F37-5AD5CC78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DA7-3267-4537-9771-78A382BA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B11-F973-46C2-9F71-EB450E33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C38-755F-49DB-8E46-D0989DDD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B1A-CAB7-48AB-A8AB-780FB30C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63F-7039-49CB-86D0-C5511281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3EC-60B8-48CE-915D-CCFDD8C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2A2D-B89F-4495-B6B0-7F147D6A1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587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dew point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 factor at dewpoi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umulative wellstream (wet gas or moles) produced in CVD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62040" y="1305000"/>
                <a:ext cx="55497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07Z</dcterms:modified>
  <cp:revision>14</cp:revision>
  <dc:subject/>
  <dc:title>PowerPoint Presentation</dc:title>
</cp:coreProperties>
</file>