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DF1-2822-4BCA-B3F0-E2AA7B4F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52C-E8B1-4D04-906C-7B5794F4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2458-D0DF-4A9C-A38D-AEC68ADD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9F8-BC74-4478-8CC7-1CCA35E8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C49-28B1-4192-B8A6-50D8C1F5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6FD-65FA-426F-B5AB-A30370A8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7A5C-3C57-44A3-AB28-93FC4841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7AAF-8D74-4AC0-9A6D-CA103F98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75D8-4FD4-4055-A530-EF6A8EAC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053-230C-4A3B-815A-ACB0A67C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5B62-EEC4-4D61-9C05-64AA5424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9AC-63A0-492C-8AFC-48B6A2A3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DC64-D920-48D1-A7A0-E90A9624B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8120" y="3271680"/>
            <a:ext cx="5981760" cy="2802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 = condensate blockage sk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outside near-well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blockage)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in near-well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blockage)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uter radius of blockage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52280"/>
            <a:ext cx="628632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Estimating skin due to condensate blo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87480" y="1143000"/>
                <a:ext cx="434664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b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8-01T08:32:21Z</dcterms:modified>
  <cp:revision>12</cp:revision>
  <dc:subject/>
  <dc:title>PowerPoint Presentation</dc:title>
</cp:coreProperties>
</file>