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1D5-548E-41F7-8FA4-0BC5B4C2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DB6-92AE-44A3-8694-1B9352C2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EBF-7213-4F74-9B16-92297BB1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D5A8-E168-416F-8D54-DF448710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FF8-77B4-4E8E-BD0C-27162CB4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0B4-6080-452F-B633-AD1E2342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DC7-A2E2-451F-B11A-F260D742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543-943E-4EEB-A1C1-288D6561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5FA-E488-4A89-AC64-D01E9D99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F26C-F2D4-4259-AD05-12CA7473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9A2-B815-4801-AFA5-F93630E4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136-A349-4F85-80C5-17995EB4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176D-5219-4D48-B078-22233BFFA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chematic of pressure and derivative composite behavior (a) two-region composite; (b) three-region composite (from SPE 62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7439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40:13Z</dcterms:modified>
  <cp:revision>20</cp:revision>
  <dc:subject/>
  <dc:title>PowerPoint Presentation</dc:title>
</cp:coreProperties>
</file>