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3554-B1E7-46AE-93A2-E1B17E2B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2A18-F790-447C-B89E-3D61A2E1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9ABC-764D-46AE-BC64-D4C850D9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5317-6215-4431-A217-5A9D735E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9F9-8FAF-41BF-AC7C-15C900A7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CE3-1170-488B-9D57-5D97EE62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CA2D-EEE1-4811-97BE-0F97ED03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39F-68B0-4902-923F-5C5777CB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C6B-C4CA-4500-8A6F-1EF7DE71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61E7-2F58-49A0-9FFA-C5F8B7BA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3506-76B6-4F63-BDDD-587F38B9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41E-81E4-4D02-B66E-C2634BF0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CE27-DAA4-44A3-A0A0-174784281AC6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EE20-84E9-4B79-B35C-F3A651CC4746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609480"/>
            <a:ext cx="525312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D coefficient can be estimated from well and rock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295280" y="2209680"/>
                <a:ext cx="390384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sSub>
                          <m:e>
                            <m:r>
                              <m:t xml:space="preserve">βkγ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b>
                          <m:e>
                            <m:r>
                              <m:t xml:space="preserve">h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452520" y="3886200"/>
            <a:ext cx="595296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 is in 1/(Mscf/d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is the non-Darcy flow coefficient (in 1/f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is the gas gravity (air = 1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ll other properties in field un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3040" y="7162920"/>
            <a:ext cx="537048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400800"/>
            <a:ext cx="579096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Comic Sans MS"/>
              </a:rPr>
              <a:t>This equation assumes radial flow. It often underestimates the importance of non-Darcy flow – perhaps due to non-radial flow near the well perforation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8D47-F9BF-4628-B7D6-FD5570FDF3B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F974F-717F-42F9-AFC6-65D366F33939}" type="datetime3">
              <a:rPr lang="en-US"/>
              <a:t>July 29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761760"/>
            <a:ext cx="5253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Correlations for Non-Darcy flow coefficient vs perm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685800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C3B-B8C8-4445-83F3-BC4912ED37F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42825-24FD-48D5-B216-8CE6A176EA02}" type="datetime3">
              <a:rPr lang="en-US"/>
              <a:t>July 29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3-02T15:49:51Z</dcterms:modified>
  <cp:revision>81</cp:revision>
  <dc:subject/>
  <dc:title>PowerPoint Presentation</dc:title>
</cp:coreProperties>
</file>