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B18-EBBF-4EAD-A8A4-544AA998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CC1-561C-425A-930B-20AECB30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FCB-DC17-4174-BBB5-87AF8FFC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B5F-B79C-486B-A1BA-95626AF5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BC9-E93A-4276-A190-0060F1E5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E38-D068-4D77-9DA6-803AD2C0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E75-D99E-4C8E-9899-A77D5F81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C3A-E3AD-42DE-A688-FF8EED3E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DA3-42EC-44CE-85AD-780D6FD9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164-0512-4DEE-8163-48B77E7A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3D3-E2FD-49CA-9BC7-D73A7D9C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E3E-9D5C-40EE-9CAF-49F4F608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A01D-38AC-4FEF-984C-42BE16740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ener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047600" y="1919160"/>
                <a:ext cx="43783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311120" y="990720"/>
                <a:ext cx="35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033560" y="5334120"/>
            <a:ext cx="4789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units conversion factor (see next sl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perme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total 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externa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rate-dependent skin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wellbore flowing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volumetric 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visco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Z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formation volum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143000" y="3936960"/>
                <a:ext cx="1857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790800" y="3903840"/>
                <a:ext cx="1859040" cy="13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322092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85160" y="338472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eudopressur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8610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5840" y="30492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Rate Equation in Field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57080" y="4038480"/>
                <a:ext cx="53438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12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/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76440" y="5638680"/>
            <a:ext cx="5503680" cy="34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surface gas rate, scf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permeability, 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otal thicknes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external radiu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wellbore radiu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ate-dependent skin coefficient, 1/(scf/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eservoir temperature, deg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wellbore flowing pressure, 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volumetric average reservoir pressure, 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Z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formation volume factor, res.bbl/s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47560" y="914400"/>
                <a:ext cx="5761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/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4600" y="2666880"/>
                <a:ext cx="650880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8610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457200"/>
            <a:ext cx="422928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seudopressure integ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6620040" cy="5143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95440" y="3048120"/>
            <a:ext cx="2286000" cy="3124080"/>
          </a:xfrm>
          <a:custGeom>
            <a:avLst/>
            <a:gdLst/>
            <a:ahLst/>
            <a:rect l="l" t="t" r="r" b="b"/>
            <a:pathLst>
              <a:path w="1440" h="1968">
                <a:moveTo>
                  <a:pt x="0" y="1968"/>
                </a:moveTo>
                <a:lnTo>
                  <a:pt x="0" y="672"/>
                </a:lnTo>
                <a:lnTo>
                  <a:pt x="96" y="480"/>
                </a:lnTo>
                <a:lnTo>
                  <a:pt x="240" y="288"/>
                </a:lnTo>
                <a:lnTo>
                  <a:pt x="336" y="192"/>
                </a:lnTo>
                <a:lnTo>
                  <a:pt x="384" y="144"/>
                </a:lnTo>
                <a:lnTo>
                  <a:pt x="480" y="96"/>
                </a:lnTo>
                <a:lnTo>
                  <a:pt x="576" y="48"/>
                </a:lnTo>
                <a:lnTo>
                  <a:pt x="720" y="0"/>
                </a:lnTo>
                <a:lnTo>
                  <a:pt x="816" y="0"/>
                </a:lnTo>
                <a:lnTo>
                  <a:pt x="912" y="0"/>
                </a:lnTo>
                <a:lnTo>
                  <a:pt x="1056" y="0"/>
                </a:lnTo>
                <a:lnTo>
                  <a:pt x="1200" y="0"/>
                </a:lnTo>
                <a:lnTo>
                  <a:pt x="1248" y="0"/>
                </a:lnTo>
                <a:lnTo>
                  <a:pt x="1296" y="0"/>
                </a:lnTo>
                <a:lnTo>
                  <a:pt x="1440" y="48"/>
                </a:lnTo>
                <a:lnTo>
                  <a:pt x="1440" y="1968"/>
                </a:lnTo>
                <a:lnTo>
                  <a:pt x="0" y="196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6705720"/>
            <a:ext cx="7621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6705720"/>
            <a:ext cx="76176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81080" y="6172200"/>
            <a:ext cx="45720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724280" y="6172200"/>
            <a:ext cx="53352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14360" y="7848720"/>
            <a:ext cx="4229280" cy="825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3333cc"/>
                </a:solidFill>
                <a:latin typeface="Comic Sans MS"/>
              </a:rPr>
              <a:t>Gas rate is proportional to area unde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3-02T14:46:15Z</dcterms:modified>
  <cp:revision>34</cp:revision>
  <dc:subject/>
  <dc:title>PowerPoint Presentation</dc:title>
</cp:coreProperties>
</file>