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7E0-97D5-45CD-8748-55B36EF4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84B-784E-41C1-8D7C-ABBA04D5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315-AB5B-4F43-B0E0-E08E489D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E07-A827-4706-AB9B-E1BA0CDE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BB9-CDCC-4C49-9A13-4F92C5CD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4D8-000F-4FE0-A56A-E6C52FEE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655-14A6-480B-8F49-5E8729B3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007-61E7-48B0-B44A-5AAE79F0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D08-D9D8-40BB-8C26-BB9788BC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E4C-9BBD-4D55-BDB3-242DFF24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766-C366-4844-912D-9F63A557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A57-DE78-415D-9CCE-E08F122E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12BE-6AA4-4E5D-A8F4-DEA299F485DA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4A22-D58D-42A4-B8E3-B73265D33CB3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../../GC-Papers/SPE28749-Arun.pdf" TargetMode="External"/><Relationship Id="rId3" Type="http://schemas.openxmlformats.org/officeDocument/2006/relationships/hyperlink" Target="file:///../../GC-Papers/TIPM-Whitson-Fevang-Saevareid-GC-RelPerm.pdf" TargetMode="External"/><Relationship Id="rId4" Type="http://schemas.openxmlformats.org/officeDocument/2006/relationships/hyperlink" Target="file:///../../GC-Papers/TIPM-Whitson-Fevang-Saevareid-GC-RelPerm.pdf" TargetMode="External"/><Relationship Id="rId5" Type="http://schemas.openxmlformats.org/officeDocument/2006/relationships/hyperlink" Target="file:///../../E-NOTES/GC-PAPERS/SPE56476-FEVANG-WHITSON-GC-RELPERM.PDF" TargetMode="External"/><Relationship Id="rId6" Type="http://schemas.openxmlformats.org/officeDocument/2006/relationships/hyperlink" Target="file:///../../GC-Papers/IBC1997Paper.pdf" TargetMode="External"/><Relationship Id="rId7" Type="http://schemas.openxmlformats.org/officeDocument/2006/relationships/hyperlink" Target="file:///../../GC-Papers/SPE86298-Mott.pdf" TargetMode="External"/><Relationship Id="rId8" Type="http://schemas.openxmlformats.org/officeDocument/2006/relationships/hyperlink" Target="file:///../../GC-Papers/SPE86298-Mott.pdf" TargetMode="External"/><Relationship Id="rId9" Type="http://schemas.openxmlformats.org/officeDocument/2006/relationships/hyperlink" Target="file:///../GC-RATE-EXAMPLE+RESULTS.PPT" TargetMode="External"/><Relationship Id="rId10" Type="http://schemas.openxmlformats.org/officeDocument/2006/relationships/hyperlink" Target="file:///../Calculate-krg_kro.xls" TargetMode="External"/><Relationship Id="rId11" Type="http://schemas.openxmlformats.org/officeDocument/2006/relationships/hyperlink" Target="file:///../Calculate-krg_kro.xls" TargetMode="External"/><Relationship Id="rId12" Type="http://schemas.openxmlformats.org/officeDocument/2006/relationships/hyperlink" Target="file:///../Calculate-krg_kro.xls" TargetMode="External"/><Relationship Id="rId13" Type="http://schemas.openxmlformats.org/officeDocument/2006/relationships/hyperlink" Target="file:///../Calculate-krg_kro.xls" TargetMode="External"/><Relationship Id="rId14" Type="http://schemas.openxmlformats.org/officeDocument/2006/relationships/hyperlink" Target="file:///../Calculate-krg_kro.xls" TargetMode="External"/><Relationship Id="rId15" Type="http://schemas.openxmlformats.org/officeDocument/2006/relationships/hyperlink" Target="file:///../Calculate-krg_kro.xls" TargetMode="Externa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8480" y="155520"/>
            <a:ext cx="57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ate Equ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0" y="5410080"/>
            <a:ext cx="6188400" cy="33588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he volumetric rate equation for a gas condensate well can be expressed in terms of a 2-phase pseudopressure integral.  The pseudopressure accounts for ‘condensate blockage’ by including relative permeability k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inside the pressure integr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Flow </a:t>
            </a:r>
            <a:r>
              <a:rPr b="0" lang="nb-NO" sz="1000" spc="-1" strike="noStrike">
                <a:solidFill>
                  <a:srgbClr val="a50021"/>
                </a:solidFill>
                <a:latin typeface="Comic Sans MS"/>
              </a:rPr>
              <a:t>to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a gas condensate well can be modeled by three regions around the well.  Region 1 – the area closest to the well where both oil and gas phases are flowing – dictates productivity loss o</a:t>
            </a:r>
            <a:r>
              <a:rPr b="0" lang="nb-NO" sz="1000" spc="-1" strike="noStrike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‘condensate blockage’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flowing composition is constant in Region 1.  The single phase gas entering Region 1 has the same composition as the producing wellbore mixture; this observation leads to the the equation for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(p)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in Region 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The pseudopressure integral can be used to model condensate blockage in coarse grid reservoir simulation models; or it can be combined with material balance models to provide a simple model of condensate well perform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pseudopressure integral can be extended to include high-velocity and IFT effects on relative permeability -- improvement from high capillary numbers and reduction from ‘inertial’ non-Darcy flow.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49240" y="1295280"/>
                <a:ext cx="5159520" cy="14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976560" y="4672080"/>
                <a:ext cx="2306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808440" y="2846520"/>
                <a:ext cx="2119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032360" y="3862440"/>
                <a:ext cx="2163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228600" y="2895480"/>
            <a:ext cx="3479760" cy="2387880"/>
            <a:chOff x="228600" y="2895480"/>
            <a:chExt cx="3479760" cy="2387880"/>
          </a:xfrm>
        </p:grpSpPr>
        <p:grpSp>
          <p:nvGrpSpPr>
            <p:cNvPr id="49" name=""/>
            <p:cNvGrpSpPr/>
            <p:nvPr/>
          </p:nvGrpSpPr>
          <p:grpSpPr>
            <a:xfrm>
              <a:off x="350640" y="2959200"/>
              <a:ext cx="3294720" cy="2262240"/>
              <a:chOff x="350640" y="2959200"/>
              <a:chExt cx="3294720" cy="22622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401400" y="3198960"/>
                <a:ext cx="3078360" cy="2022480"/>
                <a:chOff x="401400" y="3198960"/>
                <a:chExt cx="3078360" cy="202248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1084680" y="3351600"/>
                  <a:ext cx="1895760" cy="1434240"/>
                  <a:chOff x="1084680" y="3351600"/>
                  <a:chExt cx="1895760" cy="143424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>
                    <a:off x="2203920" y="3356280"/>
                    <a:ext cx="370440" cy="142956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2575440" y="3351600"/>
                    <a:ext cx="405000" cy="142956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084680" y="3361320"/>
                    <a:ext cx="1122120" cy="1416600"/>
                  </a:xfrm>
                  <a:prstGeom prst="rect">
                    <a:avLst/>
                  </a:prstGeom>
                  <a:solidFill>
                    <a:srgbClr val="66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aphicFrame>
              <p:nvGraphicFramePr>
                <p:cNvPr id="55" name=""/>
                <p:cNvGraphicFramePr/>
                <p:nvPr/>
              </p:nvGraphicFramePr>
              <p:xfrm>
                <a:off x="401400" y="3198960"/>
                <a:ext cx="3078360" cy="20224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56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01400" y="3198960"/>
                          <a:ext cx="3078360" cy="2022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7" name=""/>
                <p:cNvSpPr/>
                <p:nvPr/>
              </p:nvSpPr>
              <p:spPr>
                <a:xfrm>
                  <a:off x="1093320" y="3571920"/>
                  <a:ext cx="11239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350640" y="2959200"/>
                <a:ext cx="996120" cy="2642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1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68160" y="2972160"/>
                <a:ext cx="996120" cy="2642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2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49240" y="2972160"/>
                <a:ext cx="996120" cy="264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3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28600" y="2895480"/>
              <a:ext cx="3479760" cy="238788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B23-582E-46A4-8F60-F1EFF0C7A7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01B84-F06C-4962-892F-F6E09E288CF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1240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28600"/>
            <a:ext cx="63244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Modeling Gas Condensate Well Deliver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Gas Condensate R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elative Permeability for Well Calc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Measurement and Correlation of Gas Condensate Relativ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Generalized Pseudopressure Well Treatment In Reservoir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Engineering Calculations of Gas Condensate Well Productivity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8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160" y="2120760"/>
            <a:ext cx="6324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9"/>
              </a:rPr>
              <a:t>Worked example for estimating gas production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0"/>
              </a:rPr>
              <a:t>Spreadsheet for c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1"/>
              </a:rPr>
              <a:t>alculating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2"/>
              </a:rPr>
              <a:t>krg/kro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3"/>
              </a:rPr>
              <a:t> and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4"/>
              </a:rPr>
              <a:t>kr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5"/>
              </a:rPr>
              <a:t> in Reg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6AE2-2CBD-44CF-A05A-AF83DBF48E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60CD1-6D23-456D-BC17-AD1903827E7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 </cp:lastModifiedBy>
  <dcterms:modified xsi:type="dcterms:W3CDTF">2004-09-17T11:54:21Z</dcterms:modified>
  <cp:revision>66</cp:revision>
  <dc:subject/>
  <dc:title>PowerPoint Presentation</dc:title>
</cp:coreProperties>
</file>