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58F2-EDB3-4FC2-AA22-34FE04DF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197F-D452-4712-A79B-1D39494F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642-ACBF-49B5-81CB-04663239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8856-25C4-443A-B481-9270F4C7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1103-DDAA-408C-9040-9A7E74DC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7722-AEC2-4F86-BFAD-9D14095D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4681-2BA2-4987-BC2F-9CE20173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91CC-A8EF-4343-B8AA-3748F132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A980-48AE-47EE-9224-2BD42F7C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133C-747D-4A83-A0A9-D4442235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18EE-9F5F-402C-AD9B-1590FF0E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2D16-6EA9-4FCF-AF11-734525D4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6678-6E43-4B92-84D2-ACB5D7E10972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783C-41A6-4277-BA13-60372E519B98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image" Target="../media/image1.wmf"/><Relationship Id="rId3" Type="http://schemas.openxmlformats.org/officeDocument/2006/relationships/hyperlink" Target="file:///TextBox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2240" y="22860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Gas Condensate Well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600200"/>
            <a:ext cx="3886200" cy="24969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44" name="">
            <a:hlinkClick r:id="rId3"/>
          </p:cNvPr>
          <p:cNvSpPr/>
          <p:nvPr/>
        </p:nvSpPr>
        <p:spPr>
          <a:xfrm>
            <a:off x="76320" y="5257800"/>
            <a:ext cx="6705360" cy="3364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0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648320" y="1905120"/>
                <a:ext cx="188748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648320" y="3809880"/>
                <a:ext cx="19047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≈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317840" y="1219320"/>
            <a:ext cx="25992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1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ex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9960" y="3200400"/>
            <a:ext cx="25689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2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in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1957-7DA7-4456-8B1F-4D7D92FA55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5719F-9BD0-4A0F-9756-D8C59C4E445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600"/>
            <a:ext cx="63244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Practical Considerations in Gas Condensate Well Tes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Well Testing using a Single Phas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A Novel Methodology for 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830680"/>
            <a:ext cx="6324480" cy="585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8801-D2FD-472D-A89F-F90D0FA604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20464-B9C6-4C53-B32B-920E00897B1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7:26:25Z</dcterms:modified>
  <cp:revision>76</cp:revision>
  <dc:subject/>
  <dc:title>PowerPoint Presentation</dc:title>
</cp:coreProperties>
</file>