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746875" cy="99139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C77DD-34DB-49EB-8F77-95DC2963C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D72A6-4C81-4EA2-AFB7-BD00C26EF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253F5-32CF-4808-9217-61FE8739D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429E1-B288-4899-8251-35983BF57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12DE3-F83F-4854-AFF2-73C36DBC8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B353B-D3F6-4457-976C-D0318D6EF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44AB8-22FB-49C7-95AD-E6579B5B6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F57AB-A3A8-4897-A52F-6E7D83BF8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F85FE-C2CB-493C-8761-AB04C7318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5F8E3-A97E-4F10-BE21-5BCC5B7FB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761C1-3DF9-4A56-8302-E76527172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37F42-CE60-4D1E-9B80-F94167FB1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A9618-1A3E-4C57-BC34-95756C6239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90720" y="914400"/>
            <a:ext cx="2139840" cy="31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30080" y="380880"/>
            <a:ext cx="539784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240" indent="-572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Comic Sans MS"/>
              </a:rPr>
              <a:t>Productivity Index from Arun lean gas condensate fiel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240" indent="-572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Comic Sans MS"/>
              </a:rPr>
              <a:t>(from SPE 28749)</a:t>
            </a: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73400" y="6450120"/>
            <a:ext cx="471240" cy="1100160"/>
          </a:xfrm>
          <a:prstGeom prst="upArrow">
            <a:avLst>
              <a:gd name="adj1" fmla="val 50000"/>
              <a:gd name="adj2" fmla="val 58365"/>
            </a:avLst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287280" y="1847880"/>
            <a:ext cx="5529600" cy="4575600"/>
            <a:chOff x="287280" y="1847880"/>
            <a:chExt cx="5529600" cy="4575600"/>
          </a:xfrm>
        </p:grpSpPr>
        <p:sp>
          <p:nvSpPr>
            <p:cNvPr id="45" name=""/>
            <p:cNvSpPr/>
            <p:nvPr/>
          </p:nvSpPr>
          <p:spPr>
            <a:xfrm>
              <a:off x="977760" y="1914480"/>
              <a:ext cx="4627440" cy="373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977760" y="5180040"/>
              <a:ext cx="462744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100160" y="4714920"/>
              <a:ext cx="462744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977760" y="4248000"/>
              <a:ext cx="4627440" cy="180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977760" y="3779640"/>
              <a:ext cx="4627440" cy="180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977760" y="3314520"/>
              <a:ext cx="4627440" cy="180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977760" y="2847960"/>
              <a:ext cx="462744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977760" y="2382840"/>
              <a:ext cx="4627440" cy="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977760" y="1914480"/>
              <a:ext cx="462744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605200" y="1914480"/>
              <a:ext cx="1800" cy="373212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027400" y="1914480"/>
              <a:ext cx="1800" cy="373212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448160" y="1928880"/>
              <a:ext cx="1440" cy="373212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870360" y="1914480"/>
              <a:ext cx="1440" cy="373212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290760" y="1914480"/>
              <a:ext cx="1440" cy="373212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712960" y="1914480"/>
              <a:ext cx="1440" cy="373212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133360" y="1914480"/>
              <a:ext cx="1800" cy="373212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557360" y="1914480"/>
              <a:ext cx="1440" cy="373212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977760" y="1914480"/>
              <a:ext cx="4627440" cy="3732120"/>
            </a:xfrm>
            <a:prstGeom prst="rect">
              <a:avLst/>
            </a:prstGeom>
            <a:noFill/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977760" y="1914480"/>
              <a:ext cx="1440" cy="3732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942840" y="5646600"/>
              <a:ext cx="349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942840" y="5180040"/>
              <a:ext cx="349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942840" y="4714920"/>
              <a:ext cx="349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942840" y="4248000"/>
              <a:ext cx="349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42840" y="3779640"/>
              <a:ext cx="349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942840" y="3314520"/>
              <a:ext cx="349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942840" y="2847960"/>
              <a:ext cx="349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942840" y="2382840"/>
              <a:ext cx="3492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942840" y="1914480"/>
              <a:ext cx="349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977760" y="5646600"/>
              <a:ext cx="46274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V="1">
              <a:off x="5605200" y="5646600"/>
              <a:ext cx="1800" cy="44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V="1">
              <a:off x="5027400" y="5646600"/>
              <a:ext cx="1800" cy="44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V="1">
              <a:off x="4448160" y="5646600"/>
              <a:ext cx="1440" cy="44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V="1">
              <a:off x="3870360" y="5646600"/>
              <a:ext cx="1440" cy="44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V="1">
              <a:off x="3290760" y="5646600"/>
              <a:ext cx="1440" cy="44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V="1">
              <a:off x="2712960" y="5646600"/>
              <a:ext cx="1440" cy="44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flipV="1">
              <a:off x="2133360" y="5646600"/>
              <a:ext cx="1800" cy="44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 flipV="1">
              <a:off x="1557360" y="5646600"/>
              <a:ext cx="1440" cy="44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 flipV="1">
              <a:off x="977760" y="5646600"/>
              <a:ext cx="1440" cy="44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946080" y="2340000"/>
              <a:ext cx="63360" cy="82440"/>
            </a:xfrm>
            <a:prstGeom prst="rect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017360" y="2460600"/>
              <a:ext cx="65160" cy="82440"/>
            </a:xfrm>
            <a:prstGeom prst="rect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090440" y="2527200"/>
              <a:ext cx="65160" cy="82440"/>
            </a:xfrm>
            <a:prstGeom prst="rect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162080" y="2340000"/>
              <a:ext cx="64800" cy="82440"/>
            </a:xfrm>
            <a:prstGeom prst="rect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234800" y="2198520"/>
              <a:ext cx="65160" cy="84240"/>
            </a:xfrm>
            <a:prstGeom prst="rect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306440" y="2247840"/>
              <a:ext cx="65160" cy="81000"/>
            </a:xfrm>
            <a:prstGeom prst="rect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379520" y="2340000"/>
              <a:ext cx="63360" cy="82440"/>
            </a:xfrm>
            <a:prstGeom prst="rect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452600" y="2247840"/>
              <a:ext cx="63360" cy="81000"/>
            </a:xfrm>
            <a:prstGeom prst="rect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523880" y="2340000"/>
              <a:ext cx="65160" cy="82440"/>
            </a:xfrm>
            <a:prstGeom prst="rect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595160" y="2292120"/>
              <a:ext cx="65160" cy="82800"/>
            </a:xfrm>
            <a:prstGeom prst="rect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668240" y="2340000"/>
              <a:ext cx="65160" cy="82440"/>
            </a:xfrm>
            <a:prstGeom prst="rect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741320" y="2433600"/>
              <a:ext cx="63720" cy="81000"/>
            </a:xfrm>
            <a:prstGeom prst="rect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812960" y="2433600"/>
              <a:ext cx="64800" cy="81000"/>
            </a:xfrm>
            <a:prstGeom prst="rect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884240" y="2198520"/>
              <a:ext cx="66600" cy="84240"/>
            </a:xfrm>
            <a:prstGeom prst="rect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957320" y="2481120"/>
              <a:ext cx="63360" cy="81000"/>
            </a:xfrm>
            <a:prstGeom prst="rect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028600" y="2573280"/>
              <a:ext cx="65160" cy="81000"/>
            </a:xfrm>
            <a:prstGeom prst="rect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01680" y="2554200"/>
              <a:ext cx="65160" cy="82440"/>
            </a:xfrm>
            <a:prstGeom prst="rect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174760" y="2527200"/>
              <a:ext cx="63360" cy="82440"/>
            </a:xfrm>
            <a:prstGeom prst="rect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247840" y="2619360"/>
              <a:ext cx="63360" cy="83880"/>
            </a:xfrm>
            <a:prstGeom prst="rect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319120" y="2695320"/>
              <a:ext cx="65160" cy="81000"/>
            </a:xfrm>
            <a:prstGeom prst="rect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392200" y="2695320"/>
              <a:ext cx="63720" cy="81000"/>
            </a:xfrm>
            <a:prstGeom prst="rect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465280" y="2806560"/>
              <a:ext cx="63360" cy="82440"/>
            </a:xfrm>
            <a:prstGeom prst="rect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535120" y="3227400"/>
              <a:ext cx="66600" cy="81000"/>
            </a:xfrm>
            <a:prstGeom prst="rect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608200" y="3458880"/>
              <a:ext cx="65160" cy="82800"/>
            </a:xfrm>
            <a:prstGeom prst="rect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681280" y="3571920"/>
              <a:ext cx="63360" cy="80640"/>
            </a:xfrm>
            <a:prstGeom prst="rect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763720" y="3646440"/>
              <a:ext cx="63360" cy="82440"/>
            </a:xfrm>
            <a:prstGeom prst="rect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844720" y="3740040"/>
              <a:ext cx="65160" cy="81000"/>
            </a:xfrm>
            <a:prstGeom prst="rect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928960" y="3757680"/>
              <a:ext cx="63360" cy="83880"/>
            </a:xfrm>
            <a:prstGeom prst="rect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011400" y="3740040"/>
              <a:ext cx="63360" cy="81000"/>
            </a:xfrm>
            <a:prstGeom prst="rect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093840" y="3813120"/>
              <a:ext cx="63720" cy="84240"/>
            </a:xfrm>
            <a:prstGeom prst="rect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176640" y="3813120"/>
              <a:ext cx="63360" cy="84240"/>
            </a:xfrm>
            <a:prstGeom prst="rect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259080" y="3878280"/>
              <a:ext cx="65160" cy="82440"/>
            </a:xfrm>
            <a:prstGeom prst="rect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41520" y="3889440"/>
              <a:ext cx="63720" cy="82440"/>
            </a:xfrm>
            <a:prstGeom prst="rect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423960" y="3889440"/>
              <a:ext cx="65160" cy="82440"/>
            </a:xfrm>
            <a:prstGeom prst="rect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506760" y="3916080"/>
              <a:ext cx="63360" cy="82800"/>
            </a:xfrm>
            <a:prstGeom prst="rect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589200" y="3944880"/>
              <a:ext cx="65160" cy="82440"/>
            </a:xfrm>
            <a:prstGeom prst="rect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671640" y="3963960"/>
              <a:ext cx="65160" cy="81000"/>
            </a:xfrm>
            <a:prstGeom prst="rect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754440" y="3973320"/>
              <a:ext cx="64800" cy="81000"/>
            </a:xfrm>
            <a:prstGeom prst="rect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836880" y="4019400"/>
              <a:ext cx="65160" cy="82440"/>
            </a:xfrm>
            <a:prstGeom prst="rect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919320" y="4065480"/>
              <a:ext cx="65160" cy="82440"/>
            </a:xfrm>
            <a:prstGeom prst="rect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002120" y="4113000"/>
              <a:ext cx="64800" cy="82800"/>
            </a:xfrm>
            <a:prstGeom prst="rect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084560" y="4074840"/>
              <a:ext cx="65160" cy="82800"/>
            </a:xfrm>
            <a:prstGeom prst="rect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167000" y="4038480"/>
              <a:ext cx="65160" cy="82440"/>
            </a:xfrm>
            <a:prstGeom prst="rect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4002120"/>
              <a:ext cx="65160" cy="80640"/>
            </a:xfrm>
            <a:prstGeom prst="rect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332240" y="3981240"/>
              <a:ext cx="65160" cy="84240"/>
            </a:xfrm>
            <a:prstGeom prst="rect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416480" y="3963960"/>
              <a:ext cx="63360" cy="81000"/>
            </a:xfrm>
            <a:prstGeom prst="rect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497120" y="3990960"/>
              <a:ext cx="65160" cy="81000"/>
            </a:xfrm>
            <a:prstGeom prst="rect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581360" y="4057560"/>
              <a:ext cx="63720" cy="81000"/>
            </a:xfrm>
            <a:prstGeom prst="rect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663800" y="4093920"/>
              <a:ext cx="65160" cy="82800"/>
            </a:xfrm>
            <a:prstGeom prst="rect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746600" y="4113000"/>
              <a:ext cx="63360" cy="82800"/>
            </a:xfrm>
            <a:prstGeom prst="rect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829040" y="4187880"/>
              <a:ext cx="63360" cy="80640"/>
            </a:xfrm>
            <a:prstGeom prst="rect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911480" y="4225680"/>
              <a:ext cx="63720" cy="81000"/>
            </a:xfrm>
            <a:prstGeom prst="rect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994280" y="4262400"/>
              <a:ext cx="63360" cy="82440"/>
            </a:xfrm>
            <a:prstGeom prst="rect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091120" y="4281480"/>
              <a:ext cx="63360" cy="81000"/>
            </a:xfrm>
            <a:prstGeom prst="rect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186160" y="4298760"/>
              <a:ext cx="65160" cy="82800"/>
            </a:xfrm>
            <a:prstGeom prst="rect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283000" y="3740040"/>
              <a:ext cx="65160" cy="81000"/>
            </a:xfrm>
            <a:prstGeom prst="rect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379840" y="3973320"/>
              <a:ext cx="65160" cy="81000"/>
            </a:xfrm>
            <a:prstGeom prst="rect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476680" y="4019400"/>
              <a:ext cx="63720" cy="82440"/>
            </a:xfrm>
            <a:prstGeom prst="rect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572080" y="4113000"/>
              <a:ext cx="65160" cy="82800"/>
            </a:xfrm>
            <a:prstGeom prst="rect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827640" y="55814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67800" y="511308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0.0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1880" y="4647960"/>
              <a:ext cx="21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0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67800" y="418140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0.1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1880" y="3714480"/>
              <a:ext cx="21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0.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67800" y="324792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0.2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1880" y="2781360"/>
              <a:ext cx="21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67800" y="231588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0.3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31880" y="1847880"/>
              <a:ext cx="21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0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474880" y="5808600"/>
              <a:ext cx="342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37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897800" y="5808600"/>
              <a:ext cx="342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39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317840" y="5808600"/>
              <a:ext cx="342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41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740760" y="5808600"/>
              <a:ext cx="342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43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161160" y="5808600"/>
              <a:ext cx="342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45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583360" y="5808600"/>
              <a:ext cx="342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47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005560" y="5808600"/>
              <a:ext cx="342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49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427760" y="5808600"/>
              <a:ext cx="342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51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48160" y="5808600"/>
              <a:ext cx="342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53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875960" y="6118200"/>
              <a:ext cx="29296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Reservoir pressure (psi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rot="16200000">
              <a:off x="-662760" y="3681000"/>
              <a:ext cx="22060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Productivity Inde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2" name=""/>
          <p:cNvSpPr/>
          <p:nvPr/>
        </p:nvSpPr>
        <p:spPr>
          <a:xfrm>
            <a:off x="593640" y="7227720"/>
            <a:ext cx="574992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Comic Sans MS"/>
              </a:rPr>
              <a:t>Productivity Index falls by 50% when </a:t>
            </a:r>
            <a:r>
              <a:rPr b="0" lang="en-GB" sz="1800" spc="-1" strike="noStrike" u="sng">
                <a:solidFill>
                  <a:srgbClr val="0033cc"/>
                </a:solidFill>
                <a:uFillTx/>
                <a:latin typeface="Comic Sans MS"/>
              </a:rPr>
              <a:t>BHP</a:t>
            </a:r>
            <a:r>
              <a:rPr b="0" lang="en-GB" sz="1800" spc="-1" strike="noStrike">
                <a:solidFill>
                  <a:srgbClr val="0033cc"/>
                </a:solidFill>
                <a:latin typeface="Comic Sans MS"/>
              </a:rPr>
              <a:t> falls below dew point pressure and condensate blockage occurs. Condensate blockage starts before reservoir pressure falls below dew poin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038400" y="4649760"/>
            <a:ext cx="1265400" cy="916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99"/>
                </a:solidFill>
                <a:latin typeface="Comic Sans MS"/>
              </a:rPr>
              <a:t>Dew point 4400 psi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510000" y="5303880"/>
            <a:ext cx="193680" cy="345960"/>
          </a:xfrm>
          <a:prstGeom prst="downArrow">
            <a:avLst>
              <a:gd name="adj1" fmla="val 50000"/>
              <a:gd name="adj2" fmla="val 44656"/>
            </a:avLst>
          </a:prstGeom>
          <a:solidFill>
            <a:srgbClr val="0033cc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9T21:22:44Z</dcterms:created>
  <dc:creator>CHW</dc:creator>
  <dc:description/>
  <dc:language>en-US</dc:language>
  <cp:lastModifiedBy>Robert Mott</cp:lastModifiedBy>
  <dcterms:modified xsi:type="dcterms:W3CDTF">2003-09-09T13:51:30Z</dcterms:modified>
  <cp:revision>77</cp:revision>
  <dc:subject/>
  <dc:title>PowerPoint Presentation</dc:title>
</cp:coreProperties>
</file>