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2B5F-14E0-4527-85FD-9A09D2402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4666-7633-48FF-B466-B330F44B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3252-AD7C-4112-B0BF-3EC4F9564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8A09-D3B3-48E6-A8CE-9A5DF220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D6D6-6671-465B-B565-77CC3865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AEEB-F63D-47E8-AF04-7831F314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DC47-2209-4674-82E7-2111CCBB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B2FF-78F3-4F8A-BC56-BB01EFF2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C6DD-C977-4717-A7B3-24297FF8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DE41-3DDD-4730-9DE2-CD70E73B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E759-D334-4C11-BB27-0870B0A2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DF7F-B626-4844-8FA8-191C6B2C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86FB-E9A8-41C5-9C75-CDDCD48D5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7760" y="392040"/>
            <a:ext cx="55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C7+ fraction in equilibrium gas during CV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2440" y="5211720"/>
            <a:ext cx="58467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C7+ content of the produced wellstream gives a direct measure of the change in condensate yield as pressure decli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C7+ content is very closely related to the producing Condensate-Gas ratio (CGR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When tuning an EOS model to PVT data, it is important to match the changing C7+ amount in the gas during the CVD experi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8800" y="981000"/>
            <a:ext cx="668520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1-29T11:04:36Z</dcterms:modified>
  <cp:revision>65</cp:revision>
  <dc:subject/>
  <dc:title>PowerPoint Presentation</dc:title>
</cp:coreProperties>
</file>