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422-3282-4F38-A318-E4CA9D75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723-7731-421D-B3C4-3859D842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A13-BCC2-4BD9-9CAB-FFABFC32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CE7-656F-4239-80FB-88C3B38D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AAE-54F5-43FA-A77A-46792848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B9C-AB51-4CD0-83EB-5C74098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9D3-A4FE-4A85-B62B-9D60A30B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712-4142-434C-9D2A-76D2B081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348-77C8-4BD4-BB4C-369F238E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112-BD97-4358-AA14-7A049643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578-DC8B-43A6-A44B-15F44E1C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6D0-5F5B-4CFC-8B71-82BC2AC4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5EE1-43F4-4315-83F5-4B185E034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587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dew point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 factor at dew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mulative wellstream (wet gas or moles) produced in CV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62040" y="1305000"/>
                <a:ext cx="55497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07Z</dcterms:modified>
  <cp:revision>14</cp:revision>
  <dc:subject/>
  <dc:title>PowerPoint Presentation</dc:title>
</cp:coreProperties>
</file>