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EF4E-D113-45C1-9676-BCD66DC21B89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48AD-59FE-4E09-8E24-190FA2C5C42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ADIAL10.DAT" TargetMode="External"/><Relationship Id="rId2" Type="http://schemas.openxmlformats.org/officeDocument/2006/relationships/hyperlink" Target="file:///RADIAL10.DAT" TargetMode="External"/><Relationship Id="rId3" Type="http://schemas.openxmlformats.org/officeDocument/2006/relationships/hyperlink" Target="file:///RADIAL10.DAT" TargetMode="External"/><Relationship Id="rId4" Type="http://schemas.openxmlformats.org/officeDocument/2006/relationships/hyperlink" Target="file:///RADIAL_MODKR.DAT" TargetMode="External"/><Relationship Id="rId5" Type="http://schemas.openxmlformats.org/officeDocument/2006/relationships/hyperlink" Target="file:///RADIAL_MODKR.DAT" TargetMode="External"/><Relationship Id="rId6" Type="http://schemas.openxmlformats.org/officeDocument/2006/relationships/hyperlink" Target="file:///RADIAL_MODKR.DAT" TargetMode="External"/><Relationship Id="rId7" Type="http://schemas.openxmlformats.org/officeDocument/2006/relationships/hyperlink" Target="file:///radial_10md_rock.out" TargetMode="External"/><Relationship Id="rId8" Type="http://schemas.openxmlformats.org/officeDocument/2006/relationships/hyperlink" Target="file:///RADIAL_10MD_MODKR.OUT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1447920"/>
            <a:ext cx="541008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 the fundamental relative permeability relationship affecting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fundamental relationship which determines condensate blockage is krg as a function of the ratio krg/k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 the condensate bank, the ratio krg/kro (a sort of fractional flow)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an be determined from the flowing OGR (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and the PV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76520" y="7010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1447920"/>
            <a:ext cx="5143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ider two different sets of gas-oil rel perm cur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The blue curves have a critical condensate saturation of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blue curves have a critical condensate saturation of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7160" y="198108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both sets of rel perm curves have the same krg vs krg/kro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8000" y="1447920"/>
            <a:ext cx="6100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un 1D Sensor model for 10 md reservoir with these two sets of rel perm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Original (blue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Modified (red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4040" y="45720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000" y="4191120"/>
            <a:ext cx="602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 use these output files for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Ca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Case B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are oil saturations at 4 years and gas production pro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saturations after 4 years’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9200" y="2057400"/>
            <a:ext cx="56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fferent rel perms give different saturations in the condensate ban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roduction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2193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the different rel perms give almost identical gas production pro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9040" y="647712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krg vs krg/kro is the primary relationship which determines the effect of condensate blockage. Saturations (including critical condensate saturation) are much less import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6:54:27Z</dcterms:modified>
  <cp:revision>102</cp:revision>
  <dc:subject/>
  <dc:title>PowerPoint Presentation</dc:title>
</cp:coreProperties>
</file>