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652-7A7E-4D19-8C7B-A889CA88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04C7-B1C9-4E8E-8B85-FB82B112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4405-9911-4071-8C95-169C3BA1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FE3-AAFF-4633-813E-EC67AE19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06B-7D23-45AC-A0D2-FB2B3254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9FE-A37E-4687-A2B4-47E4765A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D393-5BF4-43EF-9528-87C36BF6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E0F-3260-46FA-969E-34799187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790-D0DE-4D6D-BAE6-E68B08F3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56B-E478-4142-BBB5-B6335856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AB4-6D83-4CED-9617-53647B4E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5F9-A9D9-4EB9-9D6D-1ACFF09A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25AD-4697-4B7A-9A89-4342ADA55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4840" y="914400"/>
            <a:ext cx="8194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39:34Z</dcterms:modified>
  <cp:revision>16</cp:revision>
  <dc:subject/>
  <dc:title>PowerPoint Presentation</dc:title>
</cp:coreProperties>
</file>