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381C-0EA3-4B65-BA29-99086C85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DC14-6184-4D02-AB26-15B61A4D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8D28-822C-490D-9456-64FD92CF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23FE-422F-4E59-861E-585391F5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7C19-DCD1-46D2-96DA-1A577CE6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33CB-15C9-4A31-8295-91D74CF0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4F45-4A78-4894-B1E0-F56502BE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6BC9-BC75-4770-8C81-5C64EE80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8A51-ECE3-4FFC-B2FE-0CF756FA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1D33-0388-4D34-8CBD-55C7347D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7FC2-CD86-4107-A5D7-E807F81C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698C-0C09-493D-A107-117B10CE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B961-B789-419C-BF44-9AF3D7502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534520" cy="5243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762120"/>
            <a:ext cx="80042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mpare E300 and Fevang-Whitson models for Nc behaviour (at krg/kro=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7:13:14Z</dcterms:modified>
  <cp:revision>20</cp:revision>
  <dc:subject/>
  <dc:title>PowerPoint Presentation</dc:title>
</cp:coreProperties>
</file>