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A2A-F941-47E4-AAFF-087E54A6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4F0-AB7F-4B2B-A467-FE48C20A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DA7-7BC1-4864-A03E-676E228A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4C9-5683-4849-AFF1-244EDCF8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8A4-E492-4357-B44D-A5601DD9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1A2-75AB-4DE6-A41E-074F3FDB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B45-3723-4DC2-BB47-88C992FD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EDE-B51B-438C-B344-CD4BAD97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EA1-84F6-47EF-8FF9-E13567A1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116-0866-4473-9EAD-750D5A9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165-564C-4F0A-9FC9-BBCDA442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6CE-9692-42A0-AC25-C5FF0328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ECB3-59BA-4A78-9ED8-69E2D55BD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6600" y="152280"/>
            <a:ext cx="7209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ducing OGR and well bottom hol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llowing rate reduction during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307440" cy="571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70360" y="1143000"/>
            <a:ext cx="13420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Comic Sans MS"/>
              </a:rPr>
              <a:t>OGR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Comic Sans MS"/>
              </a:rPr>
              <a:t>in-situ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0" y="3276720"/>
            <a:ext cx="228600" cy="83808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77000" y="4114800"/>
            <a:ext cx="1523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ew poin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in-situ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752480"/>
            <a:ext cx="0" cy="381240"/>
          </a:xfrm>
          <a:prstGeom prst="line">
            <a:avLst/>
          </a:prstGeom>
          <a:ln w="25560">
            <a:solidFill>
              <a:srgbClr val="ff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0040" y="4648320"/>
            <a:ext cx="657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P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12960" y="2514600"/>
            <a:ext cx="2100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oducing O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09:29:46Z</dcterms:modified>
  <cp:revision>22</cp:revision>
  <dc:subject/>
  <dc:title>PowerPoint Presentation</dc:title>
</cp:coreProperties>
</file>