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C0E6C-0028-46FE-B937-09937745A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EE631-FD26-4DE6-8EA0-D4E6C871C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93AD5-2805-4440-87FE-A42FCDC29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43240-CAD5-4D36-9956-D31F0D4EF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2B384-3F5F-4CEF-96A1-EE1712F1A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09DFA-B638-44C7-B6D3-D4DDA5DDF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B5EAE-FA42-496C-8195-AB9833CAD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07796-EC8F-49D9-8890-3A8A7873A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5316F-38EF-4F8F-887F-5FD0450D5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9E42A-87FF-4846-9FA3-196E7B34D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EB633-2D4C-40EB-8663-A3182595D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6716A-A45A-461E-87EA-51A17517D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0B33E-7652-4763-ACF6-2AE3BA1B9E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1295280"/>
            <a:ext cx="8915400" cy="5477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810000" y="304920"/>
            <a:ext cx="5301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7240" indent="-57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omic Sans MS"/>
              </a:rPr>
              <a:t>Oil and gas recoveries calcul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40" indent="-57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Comic Sans MS"/>
              </a:rPr>
              <a:t>from CCE and CVD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4T08:38:45Z</dcterms:created>
  <dc:creator>CHW</dc:creator>
  <dc:description/>
  <dc:language>en-US</dc:language>
  <cp:lastModifiedBy>Robert Mott</cp:lastModifiedBy>
  <dcterms:modified xsi:type="dcterms:W3CDTF">2003-07-29T16:20:44Z</dcterms:modified>
  <cp:revision>4</cp:revision>
  <dc:subject/>
  <dc:title>PowerPoint Presentation</dc:title>
</cp:coreProperties>
</file>