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DAF-4019-4073-93C8-444B7CFA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C4E-4EC1-484F-93C5-C4A93C5D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B34-89E9-4A98-B883-13A6107C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3A8-9AFE-48C4-9A4C-94D1EA1D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43C-E1BB-4EB3-A0DB-B3807D0E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5EE-963D-4C53-9278-591E430F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737-DD6F-4D90-A810-70AA05D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F0E-52F2-4F33-8969-C8306CC2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83A-1C56-4E16-9466-E54B50F5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710-E11D-4D91-916D-B8DE2757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BED-1BF8-47AC-B683-1A54AFC4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F35-A495-4EA5-A8EB-C2D064F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73E4-237C-4E24-BC69-DE2B8D30C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457200"/>
            <a:ext cx="8850240" cy="543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698920" y="5486400"/>
                <a:ext cx="37461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27960" y="533520"/>
            <a:ext cx="891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ffman et al analysis of separator sample com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2:10:26Z</dcterms:modified>
  <cp:revision>21</cp:revision>
  <dc:subject/>
  <dc:title>PowerPoint Presentation</dc:title>
</cp:coreProperties>
</file>