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6EE-AFB5-487F-8D57-605B389C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349-941F-4348-B012-654D0D95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7BC0-587E-48F8-B1A2-AF2F59D0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EC0-4AFB-45E5-9840-322AAB20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4CD-DA05-4E8B-97A9-DFC2960C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18C-5FF6-4498-AB51-1AB69296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B73-A91A-4B01-A70F-532A1A6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E2F-532D-4828-9C14-008D8974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F6F-3AAB-411B-A447-08B05911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8E0-40B4-445B-97D1-4B94C7B4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A04-AC99-47A3-A36F-2BA909E2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F2F-4EB3-4179-8437-AFA5C810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7DC0-D9CB-4507-9E2B-56FF9C40A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84240" y="1143000"/>
                <a:ext cx="6689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443320" y="6705720"/>
                <a:ext cx="1969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479680" y="8229600"/>
                <a:ext cx="1897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343080" y="36972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401920" y="4821120"/>
                <a:ext cx="20541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85840" y="4114800"/>
            <a:ext cx="6286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3333cc"/>
                </a:solidFill>
                <a:latin typeface="Comic Sans MS"/>
              </a:rPr>
              <a:t>Recovery down to dewpoint (applies to both oil and g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nb-NO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d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840" y="6019920"/>
            <a:ext cx="62863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CGR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) relation to mol-% C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5840" y="7543800"/>
            <a:ext cx="628632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Surface Gas Equivalent of Conden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14320" y="2895480"/>
                <a:ext cx="539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43080" y="204624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Gas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4:43:53Z</dcterms:modified>
  <cp:revision>13</cp:revision>
  <dc:subject/>
  <dc:title>PowerPoint Presentation</dc:title>
</cp:coreProperties>
</file>