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D6A-6E6E-4F15-A3DB-AFE5BC5D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7DA-208F-4545-880D-EF92292C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D8E-A757-4FD4-BF83-87CC8DE0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4571-4DA5-48C5-BBB0-4733DACB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410-953F-4D52-A7C4-B41F88AF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0A8-8521-45B1-AEF3-9C5997CC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B56-3125-409B-98DD-0B5DB458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8E0-6829-4909-901A-BBE8B635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71A-C411-4C94-AC0F-132EB151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86EB-DA55-49B3-818A-E77FC493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FDF-BC59-4D6F-85D8-7421A796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FC2-CDB6-4F95-91FB-99F06209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B630-25FA-462F-B5C9-8C86801E9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686800" cy="62341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material balance for simple depletion defines the relation between average reservoir pressure and cumulative gas produ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straight-line MB assumes negligible water&amp;rock expansion &amp; aquifer influx. A plot of p/Z vs Gp (cum. gas produced) is a straight line with (p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 as intercept and slope given by (p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/G, where G is the initial gas in place (IGIP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An important use of the material balance is to estimate IGIP from historical pressure and cumulative production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When water expansion and/or aquifer encroachment are important, the material balance calculation is more complex and may require an iterative solution to find the fundamental relation between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cumulative production and pressur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G</a:t>
            </a:r>
            <a:r>
              <a:rPr b="0" lang="en-GB" sz="1600" spc="-1" strike="noStrike" baseline="-25000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GB" sz="1600" spc="-1" strike="noStrike">
                <a:solidFill>
                  <a:srgbClr val="3333cc"/>
                </a:solidFill>
                <a:latin typeface="Comic Sans MS"/>
              </a:rPr>
              <a:t>). Water breakthrough often marks the end of life for a gas well. For a number of reasons, the ultimate recovery may be lower for reservoirs with strong aquif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Layered no-crossflow reservoirs show an early drop in p/Z followed by a longer period of slowly-decreasing (near-constant) p/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11T08:11:33Z</dcterms:modified>
  <cp:revision>23</cp:revision>
  <dc:subject/>
  <dc:title>PowerPoint Presentation</dc:title>
</cp:coreProperties>
</file>