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1A26-83D1-4382-8868-7FD8D0D704C4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1483-D42D-4BC8-9A88-D18AE97A4B0F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of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8240" y="816120"/>
            <a:ext cx="6719760" cy="6997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4520" y="7115040"/>
            <a:ext cx="63673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Comic Sans MS"/>
              </a:rPr>
              <a:t>P-T diagram of a reservoir fluid illustrating different types of depletion reservoirs</a:t>
            </a:r>
            <a:r>
              <a:rPr b="1" lang="en-GB" sz="1400" spc="-1" strike="noStrike">
                <a:solidFill>
                  <a:srgbClr val="231f20"/>
                </a:solidFill>
                <a:latin typeface="Helvetica-Bold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6210360" cy="8686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0440" y="7772400"/>
            <a:ext cx="64771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Comic Sans MS"/>
              </a:rPr>
              <a:t>Spectrum of reservoir fluids in order of increasing chemical complexity from wet gas to black oil (from Cronquist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793880"/>
            <a:ext cx="6858000" cy="4762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685800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Comic Sans MS"/>
              </a:rPr>
              <a:t>Change in phase envelope during the depletion of a gas condens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CHW</cp:lastModifiedBy>
  <dcterms:modified xsi:type="dcterms:W3CDTF">2004-02-02T04:55:55Z</dcterms:modified>
  <cp:revision>96</cp:revision>
  <dc:subject/>
  <dc:title>PowerPoint Presentation</dc:title>
</cp:coreProperties>
</file>