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143-4192-4E93-BA4C-108E2673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0D9-8E73-4B22-915C-B1EE6917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B18-8101-4A94-8CC2-F951F549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AD6-CC68-402D-BCE8-EB795D97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A1E-96D5-4CD4-A686-A2EE6731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FDC-6A60-4EA1-BF3B-E708CEF2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39A-8F02-4C6F-8CC7-BB95E5EC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785-396D-48A6-AE9C-92A6303E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F64-D721-4437-A533-CE948BC8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70F-6D8B-46A9-8F59-E4432444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F73-B4E4-496D-BB37-543071FF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5D0-5B08-4BB4-82D1-F74517C4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23AA-88B9-493B-9AB3-570A1BC83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101600" y="1044720"/>
                <a:ext cx="642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surfac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rface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36560" y="6073920"/>
                <a:ext cx="4849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urtis</cp:lastModifiedBy>
  <dcterms:modified xsi:type="dcterms:W3CDTF">2003-09-03T10:45:50Z</dcterms:modified>
  <cp:revision>10</cp:revision>
  <dc:subject/>
  <dc:title>PowerPoint Presentation</dc:title>
</cp:coreProperties>
</file>