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0F51-64CD-4A69-A55B-1E357F8C61A8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CE0E-45A4-4351-B6A2-5F3C11D83638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9040" y="3049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Rat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905120"/>
            <a:ext cx="54133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to demonstrate the use of the gas condensate rate equation to estimate well productivity, taking account of condensate blo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data will be taken from a Sensor simulation  model to allow comparison with simulation resul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0360" y="2590920"/>
            <a:ext cx="6192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kh = 1,000 md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w = 0.33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e = 30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echanical skin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verage reservoir pressure = 3965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Wellbore flowing BHP = 1545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ean gas condensate (PVT properties on next slide), flowing OGR = 26 stb/MMs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‘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ock’ rel perms, with Corey exponent of 3 (data on slide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sume oil saturation = 1% outside near-well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atement of problem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7162920"/>
            <a:ext cx="5811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2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se conditions correspond to this Sensor simulation case after 3 years (1095 days) 10 md, rock rel p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1120" y="1600200"/>
            <a:ext cx="6411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91440" indent="-4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well in a lean gas condensate reservoir has with these proper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-4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atement of problem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8440" y="2514600"/>
            <a:ext cx="6259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583920" indent="-487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the maximum gas production rate for the wel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920" indent="-487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the condensate blockage sk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as-Oil Relative perme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09680" y="1676520"/>
          <a:ext cx="3019320" cy="6804000"/>
        </p:xfrm>
        <a:graphic>
          <a:graphicData uri="http://schemas.openxmlformats.org/drawingml/2006/table">
            <a:tbl>
              <a:tblPr/>
              <a:tblGrid>
                <a:gridCol w="966600"/>
                <a:gridCol w="1025640"/>
                <a:gridCol w="1027080"/>
              </a:tblGrid>
              <a:tr h="491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9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9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9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7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1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5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429000" y="2666880"/>
          <a:ext cx="3429000" cy="268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666880"/>
                    <a:ext cx="3429000" cy="26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PVT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14440" y="1854360"/>
          <a:ext cx="5829120" cy="5435280"/>
        </p:xfrm>
        <a:graphic>
          <a:graphicData uri="http://schemas.openxmlformats.org/drawingml/2006/table">
            <a:tbl>
              <a:tblPr/>
              <a:tblGrid>
                <a:gridCol w="779400"/>
                <a:gridCol w="828720"/>
                <a:gridCol w="828720"/>
                <a:gridCol w="779400"/>
                <a:gridCol w="955800"/>
                <a:gridCol w="828360"/>
                <a:gridCol w="828720"/>
              </a:tblGrid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/s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f/s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b/mmc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/sc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6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3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9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7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74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2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9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4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7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5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8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533520" y="762012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Dew point pressure of fluid with OGR = 26 stb/Mmscf = 3734 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4:26Z</dcterms:modified>
  <cp:revision>99</cp:revision>
  <dc:subject/>
  <dc:title>PowerPoint Presentation</dc:title>
</cp:coreProperties>
</file>