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2C5-0FFB-409B-BC52-04A0424B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4A7-0968-430F-9219-91901730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F9E-23B1-4965-B189-2048AB25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061-97FF-48F6-9928-02D78567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00F-5F7B-4108-A74D-84C2B065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A66-A2B8-489D-A75C-C2E5F90C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4B5-705A-44FF-B9BA-934D75F7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A80-0C43-4106-97DF-D497BE56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C20-ABE3-4878-B2F6-D5F01BCE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7F9-70B0-4FCA-94DC-669B94C7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237-7D90-4C36-A9F4-A3D5B313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A4C-C9E4-4680-A354-EEBC8A5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6F49-8A22-4A3A-A27B-8FC792EC3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ackpressur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4013280"/>
            <a:ext cx="53337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constan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stant contains all of the terms as for the general equation, but also includes (empirically) the n and rate-dependent skin term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28840" y="1752480"/>
                <a:ext cx="3676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27040" y="2728800"/>
                <a:ext cx="3144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71640" y="2413080"/>
                <a:ext cx="45306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11120" y="149868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295280" y="5460840"/>
            <a:ext cx="4267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dependent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31840" y="3835440"/>
                <a:ext cx="18576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780000" y="3801960"/>
                <a:ext cx="18586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22092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1T12:27:04Z</dcterms:modified>
  <cp:revision>27</cp:revision>
  <dc:subject/>
  <dc:title>PowerPoint Presentation</dc:title>
</cp:coreProperties>
</file>