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523-162F-4065-8F22-F14EF8AE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85F-482B-4353-BD5F-C1907D14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5D2-20A0-4D6F-8F62-A882C8C8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EB7-EAE2-485E-86FC-AFFCFF0C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FB3-36FC-4858-B459-77C91F8B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B80-5418-4340-A3E5-9BE8BD07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693-DB3F-4F1D-B638-D55208AE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BB3-38A3-4F38-9D12-8D29382D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C9B-E7F9-48F8-9393-CE27BE79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9CC-D2A4-4B68-97EC-AA7E818E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208-836C-48F0-9693-F010267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CF5-5F74-4CB7-BF1A-68933BB1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57A1-26EF-4BA9-8CBC-1C5B0C9A5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ar-well rel perm data – krg versus Nc at fixed krg/k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1346040"/>
            <a:ext cx="57150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54:39Z</dcterms:modified>
  <cp:revision>20</cp:revision>
  <dc:subject/>
  <dc:title>PowerPoint Presentation</dc:title>
</cp:coreProperties>
</file>