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A50-E3D6-4A69-B22D-EDFE2CEA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370-0B22-4E73-AB47-8E00DC15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31A-41C9-4462-8325-00BCEEE9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C3D-24A8-4274-BA41-3048264F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59B-925B-4136-A75D-2049F774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4C9-5A6D-4540-92A9-89A62585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159-F1E1-40E1-B370-658BD543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EFA-8B84-4042-9FBB-8194E2EA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7AD-7B17-481C-8561-1F6DB2D6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447-04D6-44F3-92C3-9B901010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D83-E855-47C8-A11A-BD573E1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5EA-65DB-4AF0-BE1A-6132B98B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B0B5-028E-41D0-8FF8-766EB3386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27936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eneralized krg/kro plot based on Corey rel per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5016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231920"/>
            <a:ext cx="6810480" cy="5210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13160" y="742464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7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2T09:26:22Z</dcterms:modified>
  <cp:revision>78</cp:revision>
  <dc:subject/>
  <dc:title>PowerPoint Presentation</dc:title>
</cp:coreProperties>
</file>