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F22-2689-4FBE-89AD-580A8345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AFA-D4E3-4325-A302-1DF07E76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4B5-1C57-495C-B0D0-8C647872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A5A-6A5D-4F2E-876E-3D411AF2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2D1-B4A4-45AB-8E04-5A50CD49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603-2C62-4E3E-8887-D5C804A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B32-62F1-4B87-BF7D-298332F7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970-B227-4CA6-80A5-CE1B85D8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BFB-AB5A-4EE4-9890-CFD241F5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B3B-8FF7-4FFE-9758-EAF5FF2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B53-2DC3-4434-89C7-D9AD60D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36A-6709-41CB-8CC3-03A0B27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B0E5-F0DF-48B8-A14A-24F09077D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20T11:54:26Z</dcterms:modified>
  <cp:revision>21</cp:revision>
  <dc:subject/>
  <dc:title>PowerPoint Presentation</dc:title>
</cp:coreProperties>
</file>