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A06-706C-4342-B397-4A3F857B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79E-F878-4B25-AC2C-9AB4BF7B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7FF-2E25-4734-AC44-C0A7A954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2FB-17E3-4C29-B898-5B634E21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D83-856A-4431-A94D-0E35B346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292-49A6-4EA1-A55D-F03D2EC2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20A-6AD4-47E7-9D74-A57D90ED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CFC-B75B-431E-87FB-A3DD167E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D6B-625F-493B-9AA0-E7EDC803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16E-158A-479F-873A-6D3AC01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CDC-E0B9-4BC9-9EF0-630CC67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9B0-533E-4B75-A29F-25D23CF1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9489-9B0E-41D7-B724-5F52A8A0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86800" cy="6637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has 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 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4T07:35:33Z</dcterms:modified>
  <cp:revision>17</cp:revision>
  <dc:subject/>
  <dc:title>PowerPoint Presentation</dc:title>
</cp:coreProperties>
</file>