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F904-689B-4B67-B708-77AA2453BAA5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CEC4-3E36-4E5B-84EF-2EC2FA0A6B7A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981080"/>
            <a:ext cx="54136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se the spreadsheet Production-Forecasting.xls to look at sensitivities to reservoir parameters and tubing si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preadsheet contains data for a gas reservoir with IGIP = 8 Tscf (2.3 x 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m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model assumes that additional wells are drilled to maintain the plateau production rate.  Assume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evelopment plan aims for a plateau period of 5 years, with 60% recovery at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23880"/>
            <a:ext cx="60962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ies to study (values in red give base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rme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0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5 (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-5 (hydraulic fra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quifer volume ratio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0 (no aqui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60962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ensitivities to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umber of well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ength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essure drop in reservoir and tubing at start of production &amp; end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562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</a:rPr>
              <a:t>For some cases (e.g. low permeability), it will not be possible to maintain the required plateau rate for 5 years. In these cases, find the maximum plateau rate that can be maintained for 5 years with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46:43Z</dcterms:modified>
  <cp:revision>91</cp:revision>
  <dc:subject/>
  <dc:title>PowerPoint Presentation</dc:title>
</cp:coreProperties>
</file>