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7BE-85D0-4BE3-A747-8757A8A6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445-C6EF-4F26-B0EF-3F10098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1A7-C4E9-44DC-92C8-C881F46F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DA0-81CC-497D-8F76-8846E1D5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767-5B49-4E79-88AD-42F3A6AD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303-442A-4B81-BD60-5EB1B6A5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C0F-62CB-4271-9F44-D25B4CF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82D-A9E4-4568-BD2B-70B47460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6AE-CCB2-4DB4-A364-349E5537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82B-540C-435B-A969-BB6DBDE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C85-2560-417A-B717-409958F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576-3253-4F47-A559-7F4B964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CF5-A1C7-45D1-81BD-C1288F82DA6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F050-D8A4-4857-81F4-CE048BBCD80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609480"/>
            <a:ext cx="52531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D coefficient can be estimated from well and rock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2209680"/>
                <a:ext cx="3903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sSub>
                          <m:e>
                            <m:r>
                              <m:t xml:space="preserve">βk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52520" y="3886200"/>
            <a:ext cx="5952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 is in 1/(Mscf/d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non-Darcy flow coefficient (in 1/f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gas gravity (air = 1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l other properties in field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7162920"/>
            <a:ext cx="537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400800"/>
            <a:ext cx="5790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This equation assumes radial flow. It often underestimates the importance of non-Darcy flow – perhaps due to non-radial flow near the well perfor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24E-0205-4360-8937-E27924BCC31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5A0EC-F441-4993-8701-B0828610FE34}" type="datetime3">
              <a:rPr lang="en-US"/>
              <a:t>July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761760"/>
            <a:ext cx="5253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rrelations for Non-Darcy flow coefficient vs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C8D-09DC-4FF4-AF67-62A7386BD0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0F2DB-1037-4D53-887E-695E0782F1D1}" type="datetime3">
              <a:rPr lang="en-US"/>
              <a:t>July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5:49:51Z</dcterms:modified>
  <cp:revision>81</cp:revision>
  <dc:subject/>
  <dc:title>PowerPoint Presentation</dc:title>
</cp:coreProperties>
</file>