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DA1-CF7F-4FEE-B1A2-0A1F1DD4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530-078F-446F-9E3B-7BC092D0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DAF-A1CC-4675-A69C-21DE78B7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EBA-BD6B-4362-A75C-369536AA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554-E6EF-48BA-934C-B85C2A90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8DB-5DD6-4F25-A629-CFC8A1D5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428-2EA0-4947-A006-5B9AFDD0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EC0-5402-449C-B132-40D0DEAB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03F-A24D-4FA0-8A4B-05C5FBBE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4FF-3F6C-48DB-A328-46DA64D7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00C-1909-4A5D-9FB5-42402FBA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802-C390-4284-8220-03D1C1B4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94A1-B4FC-43FD-805D-637EFC50D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953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initial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-factor at 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gas produced from depletion at pre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et gas or mo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nitial gas in place (wet gas or mole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52400" y="1427040"/>
                <a:ext cx="534996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45Z</dcterms:modified>
  <cp:revision>15</cp:revision>
  <dc:subject/>
  <dc:title>PowerPoint Presentation</dc:title>
</cp:coreProperties>
</file>