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C573-9E30-4BBC-B9F4-1AC78AE5826D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5495-3690-447F-877A-286AB8B85356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1680" y="228600"/>
            <a:ext cx="604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Bloc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143000"/>
            <a:ext cx="541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using a simplified simulation model to demons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5800" y="2209680"/>
            <a:ext cx="6024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mpact of condensate blockage in a lean gas condensate reservo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ensitivity to near-well relative permeabil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How to estimate near-well relative permeabilities, taking account of velocity-dependent eff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heck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- The plateau period for the single-well radial run using straight line relative permeability curves should be about that seen for the full-field model; little blockage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ompare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- The plateau period of gas production of the two single-well radial runs using rock and straight-line relative permeability curves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f the difference in plateau period is not significant, you’re done. Don’t worry about condensate blockage!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f the difference in plateau period is significant and the correct period is important to the economics of the project, ‘engineer’ the condensate blockage problem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28760" y="609480"/>
            <a:ext cx="6000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igh permeability reservoir - similar results with rock and straight line rel perms – condensate blockage is not a 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662940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28760" y="406440"/>
            <a:ext cx="600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Low permeability reservoi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- different results with rock and straight line rel perms – condensate blockage impacts well deliv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701208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14440" y="2641680"/>
            <a:ext cx="6114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the low permeability reservoir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he length of the plateau is reduced by &gt;50% between the ‘best’ and ‘worst’ case scenarios for condensate blockage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the worst case scenario, we would need more wells, more compression, etc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practice,  we will end up somewhere between the two extremes because of the increase in relative permeabilities at high capillary number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406080"/>
            <a:ext cx="600048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can we calculate the change in  relative permeabilities  at high velocity?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9960" y="2819520"/>
            <a:ext cx="6058080" cy="44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0320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perimental data suggest that the changes can be correlated as a function of the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apillary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he Capillary Number (N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is a dimensionless number which measures the ratio between viscous and capillary for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Definition of Capillary Number</a:t>
            </a:r>
            <a:br>
              <a:rPr sz="4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2209680"/>
            <a:ext cx="6400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c = velocity * viscosity / I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  Nc </a:t>
            </a:r>
            <a:r>
              <a:rPr b="0" lang="nb-NO" sz="2800" spc="-1" strike="noStrike">
                <a:solidFill>
                  <a:srgbClr val="3333cc"/>
                </a:solidFill>
                <a:latin typeface="Comic Sans MS"/>
              </a:rPr>
              <a:t>= </a:t>
            </a:r>
            <a:r>
              <a:rPr b="0" lang="nb-NO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nb-NO" sz="2800" spc="-1" strike="noStrike">
                <a:solidFill>
                  <a:srgbClr val="3333cc"/>
                </a:solidFill>
                <a:latin typeface="Comic Sans MS"/>
              </a:rPr>
              <a:t>P(viscous)/Pc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‘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velocity’ is the superficial pore gas velocity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arcy velocity / porosity / (1-Sw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ata must be in consistent units – simplest is to use SI units - velocity in m/s, viscosity in Pa.s, IFT in N/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3200" y="4038480"/>
            <a:ext cx="6724800" cy="4132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9600" y="609120"/>
            <a:ext cx="6458040" cy="10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Change in Rel Perms with Capillary Number -  Eclipse 300 m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9358400">
            <a:off x="4114440" y="5409720"/>
            <a:ext cx="258840" cy="565200"/>
          </a:xfrm>
          <a:prstGeom prst="upArrow">
            <a:avLst>
              <a:gd name="adj1" fmla="val 50000"/>
              <a:gd name="adj2" fmla="val 545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2726400">
            <a:off x="1793160" y="5217120"/>
            <a:ext cx="304920" cy="690480"/>
          </a:xfrm>
          <a:prstGeom prst="upArrow">
            <a:avLst>
              <a:gd name="adj1" fmla="val 50000"/>
              <a:gd name="adj2" fmla="val 566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5791320"/>
            <a:ext cx="15620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Increasing Nc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1360" y="2133720"/>
            <a:ext cx="6458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244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eds at least 7 empirical parameters – suitable values not published in open literatu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5867280"/>
            <a:ext cx="1487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Increasing Nc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4572000"/>
            <a:ext cx="6858000" cy="4213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622944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Change in Rel Perms with Capillary Number -  Fevang-Whitson M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0160" y="1752480"/>
            <a:ext cx="66578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2440" indent="-4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eeds only 2 empirical parameters – suitable values published in open lit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ased on krg as a function of krg/kro – this is the fundamental rel perm relationship which controls condensate block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6019920"/>
            <a:ext cx="1411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Increasing Nc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358400">
            <a:off x="4190760" y="6095880"/>
            <a:ext cx="258480" cy="565200"/>
          </a:xfrm>
          <a:prstGeom prst="upArrow">
            <a:avLst>
              <a:gd name="adj1" fmla="val 50000"/>
              <a:gd name="adj2" fmla="val 5466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7040" y="609480"/>
            <a:ext cx="63439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Change in Rel Perms with Capillary Number -  Fevang-Whitson M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24000" y="3565440"/>
                <a:ext cx="621000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roc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i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0" y="6553080"/>
                <a:ext cx="3124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04920" y="4800600"/>
                <a:ext cx="288756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αN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457200" y="21337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terpolates between rock  and miscible (straight line) rel perms at fixed values of krg/kr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762120" y="7315200"/>
                <a:ext cx="175248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429000" y="5181480"/>
            <a:ext cx="3276720" cy="258444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Problem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a gas condensate well, FBHP dropping below the dewpoint causes a significant condensate saturation buildup near the wellbore, resulting in lowered gas relative permeability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his reduced gas permeability is called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‘condensate blockage’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 It can lower a well’s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reservoir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PI by 50 to 200% (equivalent to a skin of 5 to 20)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080" y="812520"/>
            <a:ext cx="60008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can we run a single-well simulation with the ‘correct’  relative permeabilities  for the near-well region?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080" y="2336760"/>
            <a:ext cx="6172200" cy="68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se a compositional simulator (e.g. Eclipse 300) with a model for velocity dependent rel p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eed to know the parameters for the E300 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stimate capillary number and rel perms manu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scribed in the next 2 sl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is will give a first approximation of the importance of the Nc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4080" y="812520"/>
            <a:ext cx="60008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Estimating capillary number and choosing near-well rel perms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2336760"/>
            <a:ext cx="605808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oose a time step near or just after the end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lculate the Capillary Number Nc and the interpolation parameter f (Nc) at each grid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ake an ‘average’ value of f – e.g. weighted according to pressure drop across the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nd the krg vs krg/kro curve for this average value of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oose new kr vs Sg curves which honor the krg vs krg/kro relationship for this average value of 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76320" y="2394000"/>
            <a:ext cx="7086600" cy="43545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Choosing near-well rel perms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00280" y="1752480"/>
            <a:ext cx="1657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Straight line rel perm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29160" y="2362320"/>
            <a:ext cx="637920" cy="990360"/>
          </a:xfrm>
          <a:prstGeom prst="line">
            <a:avLst/>
          </a:prstGeom>
          <a:ln w="4428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00560" y="2514600"/>
            <a:ext cx="16574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Comic Sans MS"/>
              </a:rPr>
              <a:t>From ‘new’ kr vs Sg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105160" y="3352680"/>
            <a:ext cx="399960" cy="812880"/>
          </a:xfrm>
          <a:prstGeom prst="line">
            <a:avLst/>
          </a:prstGeom>
          <a:ln w="44280">
            <a:solidFill>
              <a:srgbClr val="ff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00560" y="4952880"/>
            <a:ext cx="16574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Interpolated krg at ‘average’ Nc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4267080" y="4571640"/>
            <a:ext cx="914400" cy="762120"/>
          </a:xfrm>
          <a:prstGeom prst="line">
            <a:avLst/>
          </a:prstGeom>
          <a:ln w="4428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6477120"/>
            <a:ext cx="13716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ock curves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3962520" y="5486400"/>
            <a:ext cx="304560" cy="99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Repeat simulation using ‘near well’ rel perm curves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6858000" cy="4213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3520" y="6477120"/>
            <a:ext cx="601956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For this example, the use of velocity-dependent rel perms has a significant impact, and more detailed study is justified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228600" y="2133720"/>
            <a:ext cx="7315200" cy="44942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Condensate blockage skin from single well model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2590920"/>
            <a:ext cx="1657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ock curves – skin ~ 20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572000"/>
            <a:ext cx="1504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With ‘near-well’ curves, skin ~ 7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14440" y="2641680"/>
            <a:ext cx="6114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hree levels of modeling (in increasing order of complexity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96720" indent="-34416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arse grid model with condensate blockage skin from single well models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96720" indent="-34416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arse grid model with  generalized pseudopressure (GPP) model for well inflow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1268280" indent="-533160">
              <a:lnSpc>
                <a:spcPct val="8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PP model accounts for condensate blockage in the well inflow equation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96720" indent="-34416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se local grid refinement around the well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ull field simulation where condensate blockage is an important issue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28600" y="2285640"/>
            <a:ext cx="6324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arse grid with  generalized pseudopressure (GPP) model is the recommended approach in almost all cases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ull field simulation where condensate blockage is an important issu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3733920"/>
            <a:ext cx="6324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2934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PP model only requires a small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2934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PP model can include velocity-dependent rel p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5334120"/>
            <a:ext cx="6324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2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cluding LGRs increases run time and affects numerical stabilit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GR only recommended for very lean gas condensates in models with very large grid ce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7238880"/>
            <a:ext cx="6324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2934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 this case LGR does not treat blockage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per s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 but provides accurate flowing GORs to the GPP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75840" y="1447920"/>
            <a:ext cx="6100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. (optional)  Run 1D Sensor model for these cases.  (Or just use these output files.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mulation exer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5800" y="2666880"/>
            <a:ext cx="5985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608760" indent="-560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0 md, rock rel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8760" indent="-560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0 md, straight line rel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8760" indent="-560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00 md, rock rel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8760" indent="-560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00 md, straight line rel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1280" y="4800600"/>
            <a:ext cx="62881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6760" indent="-356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2. Look at development of the condensate bank with time – radius of bank and gas rel perms in the ban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6760" indent="-356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3. Plot gas production rates and look at impact of condensate banking.  Is it important for the 100 md reservoir? For the 10 md reservo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6760" indent="-356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840" y="30456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mulation exercise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200" y="2133720"/>
            <a:ext cx="65358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80520" indent="-38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4.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lculate condensate blockage skin, and compare with results from simple spreadshe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520" indent="-38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5. Calculate capillary number for each grid cell near end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520" indent="-38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6. Find a typical value of the parameter f for interpolating between ‘rock’ and straight line rel perms.  Assu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= 4000, n = 0.7.  Calculate the krg vs krg/kro relationship for the condensate bank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520" indent="-38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7. Find rel perm curves which give similar krg/kro behaviour for the range of krg/kro values that occur in the condens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520" indent="-38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8. Repeat simulations with these new ‘interpolated near-well’ rel perm curves, and calculate condensate blockage sk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4302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For the 10md, rock rel perms case </a:t>
            </a: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30456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mulation exercise (resul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200" y="1523880"/>
            <a:ext cx="65358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as production profiles show little difference between st line and rock curve results for 100 md reservoir, but a significant difference for 10 m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calculations of capillary number and relative permeability interpolation give an average value of f of about 0.7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rel perm calculation shows that rel perm curves with Corey exponents of 1.9 the same krg vs krg/kro relationship the interpolated curves with f = 0.7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as production profiles shows a plateau of about 3.5 years, compared with 1.5 years using rock rel perms and 4.5 years using straight line rel p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Problem Description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ndensate blockage adds pressure drop which can be important to low- and moderate-permeability (kh) wells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igh permeability (kh) wells show little effect because most of the well’s pressure drop is in the tubing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ow and moderate-permeability reservoirs ( kh &lt; about 10,000 md.ft ) may be affected by condensate blockag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ockage can still be important for fractured and horizontal well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4920" y="228600"/>
            <a:ext cx="6324480" cy="18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Relative Permeability for Well Calcul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Measurement of Relative Permeability for calculating Gas Condensate Well Deliverabil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Calculating Well Deliverability in Gas condensate Reservoi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3048120"/>
            <a:ext cx="6324480" cy="567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Problem Description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440" y="284472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ne grid simulation studies using measured ‘rock’ rel perm curves often predict a significant loss in gas deliverability due to condensate blockag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cently, numerous authors have shown from field data that the use of rock curves in radial simulations overstates the condensate blockage  effect –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a different modeling approach is needed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ab experiments show that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l perms in gas condensate systems increase at high velocity.  The rel perms in simulation models need to take account of this effect.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4440" y="294624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following data will be used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VT data for the reservoir fluid – black oil or EoS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lative permeability curves from full-field simulation model (rock curves); use another field’s curves or Corey functions if no measured data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adial single-well model carefully constructed to represent an average well in the full-field model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uild a single-well radial model 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cale model to represent an average well’s drainage area, OGIP, kh, etc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ick gas rate as a well’s share of the total field’s plateau rat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se r-z radial grid with 20-30 cells in r direction, with &lt;1 ft first block radius and logarithmic radial spacing. Run implicit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se well tubing tables and THP control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first single-well radial model run should use rock curves.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gas &amp; oil curves should cross at about 0.1 (0.05 - 0.12 usually); use Corey exponents 2-3 if core data are not available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ock curves are considered the worst case for condensate blockage.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second single-well radial model run should use straight line (‘miscible’) curves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straight-line miscible curves are considered the best case for condensate blockage.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465280"/>
            <a:ext cx="6858000" cy="4213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28760" y="507960"/>
            <a:ext cx="6000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ock and straight line rel perms used to estimate possible impact of condensate blockag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6934320"/>
            <a:ext cx="21718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Rock rel perms have crossover ‘value’ of ~ 0.08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3200040" y="5638680"/>
            <a:ext cx="1143000" cy="1447920"/>
          </a:xfrm>
          <a:prstGeom prst="line">
            <a:avLst/>
          </a:prstGeom>
          <a:ln w="4428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3:14Z</dcterms:modified>
  <cp:revision>103</cp:revision>
  <dc:subject/>
  <dc:title>PowerPoint Presentation</dc:title>
</cp:coreProperties>
</file>