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5021-925B-4EEB-9804-036A1274E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BFA7-C871-4796-AFEF-E332FBD26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DC2C-B1AF-48BD-885E-6C17CE5E1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5E0E-79BE-4EBD-886E-48C41A530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44CF-7FD2-4D1A-946D-593C9ECEB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E4EA-703F-4E2C-9805-0E85883FA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0C2F-2F9B-4784-8B8E-F327762F6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84D5-DE29-4F2F-BFD9-7943A311D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5095-E9B4-4FAE-905C-B2C331809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F4C0-9F76-4B96-B702-CE8F39EE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96D6-C9F0-4F27-A710-51B01A27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C399-83DF-46B9-91D7-F70ADDA9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590FA-033F-4A46-B4A7-C90DB6152E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2514600" y="685800"/>
                <a:ext cx="19242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RT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" name=""/>
          <p:cNvSpPr/>
          <p:nvPr/>
        </p:nvSpPr>
        <p:spPr>
          <a:xfrm>
            <a:off x="1431720" y="1523880"/>
            <a:ext cx="4266360" cy="228852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= pressure, b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= volume, m</a:t>
            </a:r>
            <a:r>
              <a:rPr b="0" lang="nb-NO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moles, km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absolute temperature,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universal gas const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0.083143 ba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 kmo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8:38:45Z</dcterms:created>
  <dc:creator>CHW</dc:creator>
  <dc:description/>
  <dc:language>en-US</dc:language>
  <cp:lastModifiedBy>CHW</cp:lastModifiedBy>
  <dcterms:modified xsi:type="dcterms:W3CDTF">2003-08-26T09:57:07Z</dcterms:modified>
  <cp:revision>3</cp:revision>
  <dc:subject/>
  <dc:title>PowerPoint Presentation</dc:title>
</cp:coreProperties>
</file>