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9521-9B74-4F6D-A003-0CE3EF49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049D-AA0D-4B13-9B60-3DDBDC1A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E4D-7321-422A-A576-73BBB589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403-6EB8-4E26-BAFA-0589219B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DA9E-B420-40B6-85F2-5CA2FB52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A48-05C6-442B-B3FF-24CB225C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6E5-8922-418B-86FF-F28FF314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072-D262-4D27-A0A2-31C9381F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A43-CD33-43C0-AD38-42242715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58F-7976-47B4-885F-789C37B5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7C5-6F12-49C2-80AC-ED6FE2F1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C53-5043-4F85-BF81-835015CE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F704-E09E-4B1B-AC4E-7806E1708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08040" y="0"/>
            <a:ext cx="612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0:21:04Z</dcterms:modified>
  <cp:revision>19</cp:revision>
  <dc:subject/>
  <dc:title>PowerPoint Presentation</dc:title>
</cp:coreProperties>
</file>