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D12A-E2EB-49D7-B848-54989019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24E-5B1C-470A-8459-65F90977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43B3-D164-4A09-8EB0-C7DC77CA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EC0-455E-4586-BEC9-0D58B44C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BC66-9B23-40C2-B035-CBC80581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C76-F9C2-43B6-B705-3C555EE6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6604-9158-4AB7-AFFF-382F4FFF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6CB9-DE83-4C69-AFB2-945280B7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103B-DAEE-4EEF-8CBC-6A396761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4D51-C6E6-4E18-96BE-5D582A5D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674C-7B4A-413B-980A-0954B945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498-77BA-46E4-A1D0-92062F25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44D5-B3EB-461A-8C34-27A737B74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86080" y="274680"/>
            <a:ext cx="6172200" cy="64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GOR : 500 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– 35 000 Sm3/S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OGR : 1700 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– 30 Sm3/(1E6 Sm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7+  : 0.5 – 12(-14) mol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Comic Sans MS"/>
              </a:rPr>
              <a:t>c 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&lt; 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Comic Sans MS"/>
              </a:rPr>
              <a:t>R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 &lt; 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Comic Sans MS"/>
              </a:rPr>
              <a:t>cricondenth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Retrograde condensation (liquid dropout) – reduces liquid recov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ondensate blockage (productivity los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ondensate revenues are an important part of the value of the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CGR = condensate-gas ratio = O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OGR = oil-gas ratio = C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39:21Z</dcterms:created>
  <dc:creator>CHW</dc:creator>
  <dc:description/>
  <dc:language>en-US</dc:language>
  <cp:lastModifiedBy>Robert Mott</cp:lastModifiedBy>
  <dcterms:modified xsi:type="dcterms:W3CDTF">2004-02-02T17:17:19Z</dcterms:modified>
  <cp:revision>7</cp:revision>
  <dc:subject/>
  <dc:title>PowerPoint Presentation</dc:title>
</cp:coreProperties>
</file>