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ADFC-0770-4A10-A445-F096D47D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5DBE-BECE-4EF7-8A6B-C07DEF4F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B3A1-60CA-444C-9787-0D4913A5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D29A-5091-4EB1-8CF6-9AA04CC2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42FD-ABC4-4A50-A6AE-4E8F80F4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1E80-5060-49C4-919B-277F3AE2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22B2-97C6-49C6-A76B-CD424E34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4BBC-1BC8-4227-987F-E4DDA5FB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A5F-470C-494B-8F6F-885F207B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3652-2048-489B-A7A8-A46EDEED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9F52-B8D1-4D79-9CBA-508C6949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21E7-85E7-4E94-B198-F9E48D35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6120" y="8673840"/>
            <a:ext cx="133344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D81B-F173-480E-B078-89B8BD9D30F7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24040" y="8673840"/>
            <a:ext cx="31910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19280" y="8636040"/>
            <a:ext cx="146700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06A2-36C3-49EB-B069-25668971C01E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package" Target="../embeddings/oleObject1.xlsx"/><Relationship Id="rId4" Type="http://schemas.openxmlformats.org/officeDocument/2006/relationships/hyperlink" Target="file:///Fig1.ppt" TargetMode="External"/><Relationship Id="rId5" Type="http://schemas.openxmlformats.org/officeDocument/2006/relationships/image" Target="../media/image1.wmf"/><Relationship Id="rId6" Type="http://schemas.openxmlformats.org/officeDocument/2006/relationships/package" Target="../embeddings/oleObject2.xlsx"/><Relationship Id="rId7" Type="http://schemas.openxmlformats.org/officeDocument/2006/relationships/hyperlink" Target="file:///Fig2.ppt" TargetMode="External"/><Relationship Id="rId8" Type="http://schemas.openxmlformats.org/officeDocument/2006/relationships/image" Target="../media/image2.wmf"/><Relationship Id="rId9" Type="http://schemas.openxmlformats.org/officeDocument/2006/relationships/hyperlink" Target="file:///GC-SAMPLING.PDF" TargetMode="External"/><Relationship Id="rId10" Type="http://schemas.openxmlformats.org/officeDocument/2006/relationships/hyperlink" Target="file:///GC-PVT-Expts.ppt" TargetMode="External"/><Relationship Id="rId11" Type="http://schemas.openxmlformats.org/officeDocument/2006/relationships/hyperlink" Target="file:///../MISC/UNITS-CONVERSION.PDF" TargetMode="External"/><Relationship Id="rId12" Type="http://schemas.openxmlformats.org/officeDocument/2006/relationships/hyperlink" Target="file:///IBC1999SLIDES.PPT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GC-PVT-EXAMPLE+RESULTS.PPT" TargetMode="External"/><Relationship Id="rId2" Type="http://schemas.openxmlformats.org/officeDocument/2006/relationships/hyperlink" Target="file:///gas-properties.xls" TargetMode="External"/><Relationship Id="rId3" Type="http://schemas.openxmlformats.org/officeDocument/2006/relationships/hyperlink" Target="file:///CVD-ANALYSIS%20.XLS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018800" y="228600"/>
            <a:ext cx="48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34920" y="408456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</a:rPr>
              <a:t>Unit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2"/>
          </p:cNvPr>
          <p:cNvSpPr/>
          <p:nvPr/>
        </p:nvSpPr>
        <p:spPr>
          <a:xfrm>
            <a:off x="334800" y="4919760"/>
            <a:ext cx="6188400" cy="39186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Accurate fluid samples are needed to define fluids in place, especially condensate volume.  Separator samples should almost always be used for gas condensate wel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Constant composition expansion (CCE) and constant volume depletion (CVD) experiments provide the key data for predicting recoveries during depletion, and defining the potential for gas cyclin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For calculating initial fluids in place, the key PVT data are initial gas Z-factor and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mol fra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For forecasting recoveries during depletion, the most important PVT data are the gas phase Z-factor and C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mol fraction as functions of pressure. The retrograde liquid saturation (‘liquid drop-out curve’) has 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no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direct impact on recoveries, and only a secondary effect on near-well condensate blockage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For gas cycling below dewpoint, the key PVT properties are gas Z-factor and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fraction, and the revaporization of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components into the injection gas. Special PVT experiments are needed to measure revaporization of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compon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Gas condensate viscosities can be accurately predicted from correlations.  Oil viscosity correlations are less reliable, but reasonable oil viscosities are needed for modeling condensate blockag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429000" y="1127160"/>
            <a:ext cx="3645000" cy="2932200"/>
            <a:chOff x="3429000" y="1127160"/>
            <a:chExt cx="3645000" cy="2932200"/>
          </a:xfrm>
        </p:grpSpPr>
        <p:graphicFrame>
          <p:nvGraphicFramePr>
            <p:cNvPr id="46" name=""/>
            <p:cNvGraphicFramePr/>
            <p:nvPr/>
          </p:nvGraphicFramePr>
          <p:xfrm>
            <a:off x="3429000" y="1482840"/>
            <a:ext cx="3645000" cy="25765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7" name="" descr="">
                      <a:hlinkClick r:id="rId4"/>
                    </p:cNvPr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429000" y="1482840"/>
                      <a:ext cx="3645000" cy="25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3734640" y="1127160"/>
              <a:ext cx="263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Comic Sans MS"/>
                </a:rPr>
                <a:t>Liquid saturation in CV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99880" y="1077840"/>
            <a:ext cx="3708360" cy="2982600"/>
            <a:chOff x="299880" y="1077840"/>
            <a:chExt cx="3708360" cy="2982600"/>
          </a:xfrm>
        </p:grpSpPr>
        <p:graphicFrame>
          <p:nvGraphicFramePr>
            <p:cNvPr id="50" name=""/>
            <p:cNvGraphicFramePr/>
            <p:nvPr/>
          </p:nvGraphicFramePr>
          <p:xfrm>
            <a:off x="299880" y="1439640"/>
            <a:ext cx="3708360" cy="262080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51" name="" descr="">
                      <a:hlinkClick r:id="rId7"/>
                    </p:cNvPr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99880" y="1439640"/>
                      <a:ext cx="3708360" cy="26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789840" y="1077840"/>
              <a:ext cx="2012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Comic Sans MS"/>
                </a:rPr>
                <a:t>C</a:t>
              </a:r>
              <a:r>
                <a:rPr b="1" lang="en-US" sz="1600" spc="-1" strike="noStrike" baseline="-25000">
                  <a:solidFill>
                    <a:srgbClr val="0033cc"/>
                  </a:solidFill>
                  <a:latin typeface="Comic Sans MS"/>
                </a:rPr>
                <a:t>7+</a:t>
              </a:r>
              <a:r>
                <a:rPr b="1" lang="en-US" sz="1600" spc="-1" strike="noStrike">
                  <a:solidFill>
                    <a:srgbClr val="0033cc"/>
                  </a:solidFill>
                  <a:latin typeface="Comic Sans MS"/>
                </a:rPr>
                <a:t> fraction in CV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112760" y="4094280"/>
            <a:ext cx="965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9"/>
              </a:rPr>
              <a:t>Samp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98200" y="4614840"/>
            <a:ext cx="158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10"/>
              </a:rPr>
              <a:t>PVT Experi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53520" y="4044960"/>
            <a:ext cx="61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11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63080" y="4614840"/>
            <a:ext cx="2465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12"/>
              </a:rPr>
              <a:t>Whats Important and Why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4ED3-5A4C-4F7E-A0FF-EEF641C186B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84EBB-45BA-445C-AFEE-16D3C23F883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228600"/>
            <a:ext cx="6324480" cy="16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PVT – What’s Really Important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SPE Phase Behavior Monograph, Ch.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SPE Phase Behavior Monograph, Ch.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Evaluating CV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Hydro PVT Manual, Ch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760" y="1933560"/>
            <a:ext cx="63244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Worked example for estimating condensate and gas reco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Gas Condensate Properties (Single Ph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CVD Analysis and Material Balance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760" y="3108240"/>
            <a:ext cx="6324480" cy="5497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FFF0-1B23-44B9-8252-C3B3EDDDE5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B7AC3-769C-418D-A240-71DC8F3D3B4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7:15:35Z</dcterms:modified>
  <cp:revision>88</cp:revision>
  <dc:subject/>
  <dc:title>PowerPoint Presentation</dc:title>
</cp:coreProperties>
</file>