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C27-538E-4E9F-9ED2-9576722C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975-A1B4-4B40-8CE1-459CC055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086-F1D2-4DEA-BD23-CA4E90AD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B6A-411A-48D4-B146-40F92E7D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650-EB6B-449A-B0CD-C58814E7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3F8-79D1-45E5-966E-DE17DA3C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1569-4E68-4EE4-A278-901BFF95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023-5736-4DA8-9069-078594C6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A8C-2A77-42E0-AE96-AB2E8244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66FA-8304-4E63-A52C-BC9F7B20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92DE-8907-4BA9-A3BC-E845250B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69D4-2076-422E-9802-862B1153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847E-641B-4537-9AE2-01C9E5CC6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57480"/>
            <a:ext cx="5791320" cy="3953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0840" indent="-1050840" algn="ctr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 u="sng">
                <a:solidFill>
                  <a:srgbClr val="000000"/>
                </a:solidFill>
                <a:uFillTx/>
                <a:latin typeface="Arial"/>
              </a:rPr>
              <a:t>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 algn="ctr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nb-NO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2-phase Z-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initial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Z-factor at 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gas produced from depletion at pre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et gas or mo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nitial gas in place (wet gas or moles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5181480" cy="581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ff3300"/>
                </a:solidFill>
                <a:latin typeface="Comic Sans MS"/>
              </a:rPr>
              <a:t>Two-Phase Z-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752400" y="1427040"/>
                <a:ext cx="534996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32:45Z</dcterms:modified>
  <cp:revision>15</cp:revision>
  <dc:subject/>
  <dc:title>PowerPoint Presentation</dc:title>
</cp:coreProperties>
</file>