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E900-A0C1-45C3-831E-DFB11B5E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C92-ECE8-47FE-B867-5C68443F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ABED-C4D2-4534-A7DA-D7B962DC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72AB-5573-4E86-9D61-77F1BEFF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BB52-9BDE-4B8F-8AE5-E61A15D6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56C-2D11-459C-AC58-9A666713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6CED-53BA-46B1-B57D-81974AC4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B42-07DB-4384-AF1B-2DDFA433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7D1B-B545-41BB-BE79-16786527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B59-42E0-4FF8-ACF2-203A6CF6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A78-59C5-478B-8D5E-6A45B7A6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A73-CD6A-4BFE-8448-3A17C146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169F-D111-413E-874D-BDA38F4BD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819000"/>
            <a:ext cx="8610480" cy="57376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Z-factor gives accurate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ga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volumetric properties: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B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c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1" i="1" lang="en-US" sz="1600" spc="-1" strike="noStrike" baseline="-25000">
                <a:solidFill>
                  <a:srgbClr val="0033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Z-factor is particulary important for estimating initial gas in place (IGIP) and gas depletion recovery factors,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IGIP = HCPV/B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Z-factor is a function of pressu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temperatu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and gas composition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usually expressed as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Z(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), according to corresponding states theory,</a:t>
            </a: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=p/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&amp;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=T/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c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re pseudoreduced quant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Pseudocritical properties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nd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re functions of gas composition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(or gas specific gravity </a:t>
            </a:r>
            <a:r>
              <a:rPr b="0" i="1" lang="en-US" sz="1600" spc="-1" strike="noStrike">
                <a:solidFill>
                  <a:srgbClr val="a50021"/>
                </a:solidFill>
                <a:latin typeface="Symbol"/>
                <a:ea typeface="Symbol"/>
              </a:rPr>
              <a:t>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. Special treatment for H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 or CO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accuracy of Z-factors from the Standing-Katz chart should usually be 1-3%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Hall-Yarborough BWR equation of state gives an accurate description of the Standing-Katz Z-factor chart for 1&lt;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&lt;3 and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&lt;2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Gas viscosities are usually accurate with 5-10%, with increasing expected errors at high pressures and for heavy gase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. Typically 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=0.02-0.03 c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HW</cp:lastModifiedBy>
  <dcterms:modified xsi:type="dcterms:W3CDTF">2003-08-26T11:24:45Z</dcterms:modified>
  <cp:revision>7</cp:revision>
  <dc:subject/>
  <dc:title>PowerPoint Presentation</dc:title>
</cp:coreProperties>
</file>