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8CBAC-179D-44A8-8DFD-607F4232A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763D-7A52-4230-87D2-DB1E9494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15F6F-2D94-4AB9-9D10-9DA217686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872D9-B964-4690-82CB-1A4A4B743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1BCC-8EF3-4D25-B8E7-19348BBF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CE66-8D3D-40B5-87B6-B15BC16B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31F8E-F71E-44CC-B9D5-6930D85C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0932-6C14-460E-80FC-E7EC18FB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405E-2ECE-43E4-B682-BB6BEE99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80BF8-0A46-4767-AC03-E212F30E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5347-7739-4732-8BC2-8C273362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BFE2-5151-4DC6-BBC2-7C339B467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E004-C236-4E20-98A5-3701A811321F}"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116A-0DB8-4FFB-B53F-8212E36AE421}"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4ABF44CD-CAEC-4089-A9F4-6CBFB87B3AED}" type="slidenum">
              <a:t>1</a:t>
            </a:fld>
          </a:p>
        </p:txBody>
      </p:sp>
      <p:sp>
        <p:nvSpPr>
          <p:cNvPr id="4" name="PlaceHolder 3"/>
          <p:cNvSpPr>
            <a:spLocks noGrp="1"/>
          </p:cNvSpPr>
          <p:nvPr>
            <p:ph type="dt" idx="1"/>
          </p:nvPr>
        </p:nvSpPr>
        <p:spPr/>
        <p:txBody>
          <a:bodyPr/>
          <a:p>
            <a:fld id="{E8CD3ABB-03E2-4001-8593-528ECC59B160}"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D15CBC62-886D-4319-B678-99158D1C26FE}" type="slidenum">
              <a:t>2</a:t>
            </a:fld>
          </a:p>
        </p:txBody>
      </p:sp>
      <p:sp>
        <p:nvSpPr>
          <p:cNvPr id="4" name="PlaceHolder 3"/>
          <p:cNvSpPr>
            <a:spLocks noGrp="1"/>
          </p:cNvSpPr>
          <p:nvPr>
            <p:ph type="dt" idx="1"/>
          </p:nvPr>
        </p:nvSpPr>
        <p:spPr/>
        <p:txBody>
          <a:bodyPr/>
          <a:p>
            <a:fld id="{AAEB7747-781D-42B9-95BB-C94DB0BE8081}"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