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5C69-778F-42FC-BF69-25B93925D63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FF0D-26F6-469E-BF43-B71CAE9C8963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..%5C..%5CE-NOTES/GC-RESERVOIRS/TEXTBOX.PPT" TargetMode="External"/><Relationship Id="rId3" Type="http://schemas.openxmlformats.org/officeDocument/2006/relationships/hyperlink" Target="file:///..%5C..%5CE-NOTES/GC-RESERVOIRS/TEXTBOX.PPT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C_res_comp.dat" TargetMode="External"/><Relationship Id="rId2" Type="http://schemas.openxmlformats.org/officeDocument/2006/relationships/hyperlink" Target="file:///GC_res_d_comp.out" TargetMode="External"/><Relationship Id="rId3" Type="http://schemas.openxmlformats.org/officeDocument/2006/relationships/hyperlink" Target="file:///GC_res_c5_comp.out" TargetMode="External"/><Relationship Id="rId4" Type="http://schemas.openxmlformats.org/officeDocument/2006/relationships/hyperlink" Target="file:///GC_res_c10_comp.out" TargetMode="External"/><Relationship Id="rId5" Type="http://schemas.openxmlformats.org/officeDocument/2006/relationships/hyperlink" Target="file:///GC_res_d_comp_summary.out" TargetMode="External"/><Relationship Id="rId6" Type="http://schemas.openxmlformats.org/officeDocument/2006/relationships/hyperlink" Target="file:///GC_res_bo.dat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ies of oil and gas from depletion and from gas recycling in a rich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y gas cycling is usually uneconomic (unless there is no route for gas sales), even though it leads to higher oil recov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ison of compositional and black oil simula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080" y="228600"/>
            <a:ext cx="52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arison of black oil and compositional mode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752480"/>
            <a:ext cx="59436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lack oil and compositional models give almost identical results for depletion. Published results for full field models confirm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or gas cycling, black oil overestimates oil recovery. Final recovery is overestimated by about 6% in this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rrors due to black oil model of gas cycling may still be small compared with uncertainties due to reservoir description or PVT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un times are 3 - 10 times longer for composition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228600"/>
            <a:ext cx="63244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Kenyon &amp; Behie - 3rd SPE Comparative Solution Project SPE 122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Coats - Simulation of Gas Condensate reservoir Performance SPE 10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vang Whitson – Black Oil vs Compositional Simulation Comparison SPE 6308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l Banbi et al – Black Oil vs Compositional Simulation Comparison for Full Field Gas Condensate Model SPE 58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319680" y="22860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415800" y="1066680"/>
            <a:ext cx="6024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3D model with 9 x 9 x 4 grid – based on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ne injection well and one production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ome heterogeneity between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Production well not on edge of model – some of the reservoir will not be swept by injection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415800" y="6858000"/>
            <a:ext cx="6024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ich gas condensate fluid (180 bbl/MMs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w point pressure 6765 psi. Initial reservoir pressure 7000 p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08080" y="3733920"/>
            <a:ext cx="2841840" cy="274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000" y="3938760"/>
            <a:ext cx="1540080" cy="63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je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 layers 1 a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762120" cy="152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791320"/>
            <a:ext cx="16765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odu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 layers 3 and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920" y="5486040"/>
            <a:ext cx="121896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3733920"/>
            <a:ext cx="2971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il saturations, layer 2, after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2560" y="6094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1477800"/>
            <a:ext cx="62974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imiting BHP = 1500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inimum gas rate 0.5 M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360" y="4267080"/>
            <a:ext cx="62974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Gas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Inject all produced gas for 5 years or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n shut in injection well and produce by deple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exerc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143000"/>
            <a:ext cx="6324480" cy="74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un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ensor compositional model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for three scen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5 years, then 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10 years, then 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ook at final recoveries of oil and gas for each scenario.  The ‘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FIELD SUMMARY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’ at the end of the output file gives a table of results which can be copied into an Excel spreadshe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alculate NPV of oil and gas revenues. Assume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eat calculations for first two scenarios using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Sensor Black Oil Model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. (Sensor has a very simple way of converting a compositional model to Black Oil.)  Compare results of Black Oil and Compositional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56400" y="228600"/>
            <a:ext cx="43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47640" y="1219320"/>
          <a:ext cx="5562720" cy="3352680"/>
        </p:xfrm>
        <a:graphic>
          <a:graphicData uri="http://schemas.openxmlformats.org/drawingml/2006/table">
            <a:tbl>
              <a:tblPr/>
              <a:tblGrid>
                <a:gridCol w="1981080"/>
                <a:gridCol w="1295640"/>
                <a:gridCol w="1295280"/>
                <a:gridCol w="99072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il recovery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overy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eld life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p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57200" y="518148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y from gas cycling depends on areal and vertical sweep efficiency.  In this example, about 40% of the reservoir is swept after 5 years, and about 60% after 10 year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76040" y="22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Value of oil and g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d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3200400"/>
          <a:ext cx="4572000" cy="3290760"/>
        </p:xfrm>
        <a:graphic>
          <a:graphicData uri="http://schemas.openxmlformats.org/drawingml/2006/table">
            <a:tbl>
              <a:tblPr/>
              <a:tblGrid>
                <a:gridCol w="1981080"/>
                <a:gridCol w="1295640"/>
                <a:gridCol w="1295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 revenue $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PV $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p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1447920" y="152388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781680"/>
            <a:ext cx="5943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Value of extra revenue from gas cycling is reduced by the delay to gas s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NPV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56880" y="304920"/>
            <a:ext cx="49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il and gas reven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23960" y="1270080"/>
          <a:ext cx="5410080" cy="330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270080"/>
                    <a:ext cx="541008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43040" y="4572000"/>
          <a:ext cx="5371920" cy="3333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040" y="4572000"/>
                    <a:ext cx="537192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8088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enefits and drawbacks of gas cyc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2133720"/>
            <a:ext cx="67816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cycling can improve recovery of liquids, but these benefits are offset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lay to gas s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tra CAPEX – more wells, gas injection fac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nger 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cycling is mainly used where no gas export facilities are available, or in a few very rich gas condensate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4080" y="228600"/>
            <a:ext cx="52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arison of black oil and compositional mode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47880" y="1295280"/>
          <a:ext cx="4962240" cy="35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7880" y="1295280"/>
                    <a:ext cx="496224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990720" y="4876920"/>
          <a:ext cx="4876560" cy="3538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876920"/>
                    <a:ext cx="487656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2:20Z</dcterms:modified>
  <cp:revision>87</cp:revision>
  <dc:subject/>
  <dc:title>PowerPoint Presentation</dc:title>
</cp:coreProperties>
</file>