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8B4-00FE-42B8-B3F6-5AFBF800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003-F9B8-4BE3-A35A-E4AD0B4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170-C20D-4CBA-B29B-E2BA2B27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135-373B-4585-BBBF-75863C2B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25D-BC00-4BA1-B81A-6DDDB97C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22E-0D90-48E5-B07A-2FAA019C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1FC-48DC-4066-90DC-F5B2DA7C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349-93CB-43EB-92BB-1E1261A2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D0D-E59C-47C0-B5F0-5B002FCA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CAF-2C2B-46E0-8758-CBF0CFD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4A2-0BD4-4D41-8FD6-ECEFFE32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AD6-701E-46A2-B266-1302286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233B-8B1B-4A40-858D-AE7A7202A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alidation of coarse grid + GPP approach by comparison with fine gr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2560" y="966960"/>
            <a:ext cx="72388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02:42Z</dcterms:modified>
  <cp:revision>20</cp:revision>
  <dc:subject/>
  <dc:title>PowerPoint Presentation</dc:title>
</cp:coreProperties>
</file>