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F3023-819A-4FBB-A408-7F700D2DE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7BE3-033D-4A5E-95E1-D604D265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9A43B-3BE2-4616-ABC0-5F8C5FD05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F282C-9A8E-442D-85CA-8B8613705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5EAE-C038-4456-8CF1-2CA1A103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6A33-3C89-4633-A63D-3EA7E2DB0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F29E-6A2C-46D2-AB3C-545CBFA11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E71A-ECA5-4552-A6AD-C0CB1FCA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0AB4-9A15-4528-A26A-700C0DFC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51FB-7EC9-4D94-A0C1-F41249506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C8073-1B1D-4EFD-BF42-A07F3578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7C76-D222-4FE1-9C34-5CA869410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39BB-3B5F-42E1-B660-8AFF481F806D}"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664F-5724-4D6A-88B8-32EBCE2A45D6}"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26DA8D95-8580-488C-83DD-2CB69F01C10E}" type="slidenum">
              <a:t>1</a:t>
            </a:fld>
          </a:p>
        </p:txBody>
      </p:sp>
      <p:sp>
        <p:nvSpPr>
          <p:cNvPr id="4" name="PlaceHolder 3"/>
          <p:cNvSpPr>
            <a:spLocks noGrp="1"/>
          </p:cNvSpPr>
          <p:nvPr>
            <p:ph type="dt" idx="1"/>
          </p:nvPr>
        </p:nvSpPr>
        <p:spPr/>
        <p:txBody>
          <a:bodyPr/>
          <a:p>
            <a:fld id="{98A9B615-8F05-4FEB-BE66-0A93EC340601}"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12481D86-B9DC-4D4C-B38D-4F8084935538}" type="slidenum">
              <a:t>2</a:t>
            </a:fld>
          </a:p>
        </p:txBody>
      </p:sp>
      <p:sp>
        <p:nvSpPr>
          <p:cNvPr id="4" name="PlaceHolder 3"/>
          <p:cNvSpPr>
            <a:spLocks noGrp="1"/>
          </p:cNvSpPr>
          <p:nvPr>
            <p:ph type="dt" idx="1"/>
          </p:nvPr>
        </p:nvSpPr>
        <p:spPr/>
        <p:txBody>
          <a:bodyPr/>
          <a:p>
            <a:fld id="{60C78FAA-F47C-49E4-95C5-0FACF96D24AD}"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