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E678-1186-497E-BF59-C4245A02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470A-BB12-427E-894A-3A0ACBFE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E662-AE26-4B9B-BB59-6EAFAE58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4915-3D15-4826-B9ED-40B6CBAE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0401-F243-473D-8486-3F7A3C19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3F01-565C-4161-A97C-F62D5643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B187-5104-4C4D-BC10-0CA310E9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290A-04AF-4395-923D-4F684322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0D94-3D01-4ED9-90DE-C24333FF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A327-2D56-43D5-9C4D-422B1848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F588-DF68-4895-BF75-69FBB98F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5196-BF15-466E-94C7-44BDE8A1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E588-54FA-4C82-850C-569B9E8ED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08040" y="0"/>
            <a:ext cx="612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0T10:21:04Z</dcterms:modified>
  <cp:revision>19</cp:revision>
  <dc:subject/>
  <dc:title>PowerPoint Presentation</dc:title>
</cp:coreProperties>
</file>