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A46-0CEA-4D25-A040-1E7A537B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0A3-6489-4345-82B7-C1A3899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CE7-EFB2-49B4-BE00-679D4530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7AE-B647-41E9-A813-B0002F93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8E4-74AE-487E-BC5F-647205A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9D5-80C1-4475-9072-5B22748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C1C-BFE4-4E4F-A56E-B553F188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93D-E1F4-4227-BFB7-4BD2ECEC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408-FFC6-44F7-B85B-6609A447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8FD-DDD2-40B4-9B4F-F46CAC5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B68-DD72-4FB8-9269-6D859BF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A9A-949C-4EB9-A561-BC7BA903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59F8-1D32-4AEE-8DD1-21E8447EC96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9047-2B14-4DBB-88BE-3F94FDD0C5C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SAMPLING.PDF" TargetMode="External"/><Relationship Id="rId10" Type="http://schemas.openxmlformats.org/officeDocument/2006/relationships/hyperlink" Target="file:///GC-PVT-Expts.ppt" TargetMode="External"/><Relationship Id="rId11" Type="http://schemas.openxmlformats.org/officeDocument/2006/relationships/hyperlink" Target="file:///../MISC/UNITS-CONVERSION.PDF" TargetMode="External"/><Relationship Id="rId12" Type="http://schemas.openxmlformats.org/officeDocument/2006/relationships/hyperlink" Target="file:///IBC1999SLIDES.PPT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C-PVT-EXAMPLE+RESULTS.PPT" TargetMode="External"/><Relationship Id="rId2" Type="http://schemas.openxmlformats.org/officeDocument/2006/relationships/hyperlink" Target="file:///gas-properties.xls" TargetMode="External"/><Relationship Id="rId3" Type="http://schemas.openxmlformats.org/officeDocument/2006/relationships/hyperlink" Target="file:///CVD-ANALYSIS%20.XL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316-00D7-407E-A2A3-58C95DE7D5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93EE2-16F2-491E-8ED9-7F1673905BA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5AF-2955-4919-80C7-3ACECFDC70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67B23-AE8F-4BC4-901B-7395387BF8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15:35Z</dcterms:modified>
  <cp:revision>88</cp:revision>
  <dc:subject/>
  <dc:title>PowerPoint Presentation</dc:title>
</cp:coreProperties>
</file>