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6B97-F8F0-466C-82CB-FD481C6C8C2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895A-470E-47E1-82CF-7E3DAB3C628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FIELD SUMMARY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Sensor Black Oil Model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44Z</dcterms:modified>
  <cp:revision>87</cp:revision>
  <dc:subject/>
  <dc:title>PowerPoint Presentation</dc:title>
</cp:coreProperties>
</file>