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07D3-F159-4EE7-AF27-7EB64BE533B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3B85-35BF-4792-BB79-EA19AEBF60DB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ADIAL10.DAT" TargetMode="External"/><Relationship Id="rId2" Type="http://schemas.openxmlformats.org/officeDocument/2006/relationships/hyperlink" Target="file:///RADIAL10.DAT" TargetMode="External"/><Relationship Id="rId3" Type="http://schemas.openxmlformats.org/officeDocument/2006/relationships/hyperlink" Target="file:///RADIAL10.DAT" TargetMode="External"/><Relationship Id="rId4" Type="http://schemas.openxmlformats.org/officeDocument/2006/relationships/hyperlink" Target="file:///RADIAL_MODKR.DAT" TargetMode="External"/><Relationship Id="rId5" Type="http://schemas.openxmlformats.org/officeDocument/2006/relationships/hyperlink" Target="file:///RADIAL_MODKR.DAT" TargetMode="External"/><Relationship Id="rId6" Type="http://schemas.openxmlformats.org/officeDocument/2006/relationships/hyperlink" Target="file:///RADIAL_MODKR.DAT" TargetMode="External"/><Relationship Id="rId7" Type="http://schemas.openxmlformats.org/officeDocument/2006/relationships/hyperlink" Target="file:///radial_10md_rock.out" TargetMode="External"/><Relationship Id="rId8" Type="http://schemas.openxmlformats.org/officeDocument/2006/relationships/hyperlink" Target="file:///RADIAL_10MD_MODKR.OUT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1447920"/>
            <a:ext cx="54100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 the fundamental relative permeability relationship affecting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fundamental relationship which determines condensate blockage is krg as a function of the ratio krg/k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the condensate bank, the ratio krg/kro (a sort of fractional flow)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n be determined from the flowing OGR (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and the PV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76520" y="7010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5143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der two different sets of gas-oil rel perm cu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The blue curves have a critical condensate saturation o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blue curves have a critical condensate saturation of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981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both sets of rel perm curves have the same krg vs krg/kro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8000" y="1447920"/>
            <a:ext cx="610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un 1D Sensor model for 10 md reservoir with these two sets of rel per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Original (blue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Modified (red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040" y="45720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" y="4191120"/>
            <a:ext cx="602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 use these output files for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Ca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Case B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e oil saturations at 4 years and gas production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saturations after 4 years’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9200" y="20574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erent rel perms give different saturations in the condensate ban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roduction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2193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the different rel perms give almost identical gas produc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64771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krg vs krg/kro is the primary relationship which determines the effect of condensate blockage. Saturations (including critical condensate saturation) are much less impor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6:54:27Z</dcterms:modified>
  <cp:revision>102</cp:revision>
  <dc:subject/>
  <dc:title>PowerPoint Presentation</dc:title>
</cp:coreProperties>
</file>