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769-4AF5-4A31-B4C9-61656DE6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4A2-A0CC-4311-9BC2-7A16BD0C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200-8642-4C58-B616-55A8B9C1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504-008D-4810-BDCE-8A20290A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300-6CFA-4503-8C9D-C172C820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9C6-978D-4D1F-B12E-07052FAB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F3C-0BC4-40E4-A23E-F8E308B8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DD5-BD67-4EE0-BCFC-1303118B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472-179D-41E4-941F-421B5AB4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85C-639E-43ED-8C17-E6D4BD72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DDC-1F8C-4EF5-B8E6-DF69B962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4CF-9C2F-475A-88DE-E86BEF3F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8DD3-6180-49F4-B48A-9AA7072F2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39:34Z</dcterms:modified>
  <cp:revision>16</cp:revision>
  <dc:subject/>
  <dc:title>PowerPoint Presentation</dc:title>
</cp:coreProperties>
</file>