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A750-F4AF-4B18-9A0E-9BE9C142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17B9-A1A6-4C07-B5A5-BC2A354E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4FDA-1775-4A04-9C70-507018D6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D8EF-861D-463C-869F-AA9852E1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DCC0-AE2B-4181-ABA6-B5CF980E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2D00-E98B-4221-B03C-5785E802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6E78-F8F8-485F-B4E7-30F3A7DC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1634-F507-410B-A0EC-67985D5F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4710-C1AB-4458-B2FB-EFA163F1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90C3-863F-4827-9307-86E93C1A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8F31-1EE4-4906-8B95-DFFE9ADB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0C5D-F8AC-4474-AF60-E19810FE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3E3E-3549-47FC-904E-91A9E661C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64160" y="228600"/>
            <a:ext cx="53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Oil and gas recoveries calc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rom CCE and 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139760"/>
            <a:ext cx="930744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1-19T17:13:53Z</dcterms:modified>
  <cp:revision>5</cp:revision>
  <dc:subject/>
  <dc:title>PowerPoint Presentation</dc:title>
</cp:coreProperties>
</file>