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2E7-A398-4204-A585-035D3C91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A2E-5232-4BDB-83E1-154F8B55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240-621E-40FD-AB34-56DE3A21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7BF-FC3F-4A3E-A259-B36F1748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B12-2964-4379-9477-DFD46EF7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EDE-802D-4C11-A17C-9EF281FF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567-D9BA-4507-8E3E-24469C27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AAA-D9A5-40FA-B8F5-62C96F23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BDE-66C2-46C3-923C-A5957719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D28-C60F-43C0-BF00-B83B31C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6A5-7F2F-4A6E-A5C3-AFCA295D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7D2-0186-40C8-AD1B-31526DE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041-DD62-43F0-9D9F-4E66D25A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ig1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763120" cy="61034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 Dry Gas engineering 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except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Retrograde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ndensation impacts condensate recovery and well deliverability (i.e. economics)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09T09:09:51Z</dcterms:modified>
  <cp:revision>12</cp:revision>
  <dc:subject/>
  <dc:title>PowerPoint Presentation</dc:title>
</cp:coreProperties>
</file>