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018-4130-4BC5-BBD3-61DE8807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327-410B-4BAD-9336-15CA1293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DD3-49CB-4801-AF0D-BE35337F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6D5-65CB-4427-9140-74408DAA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9F6-200B-40D4-A311-11D4E17F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6B9-52D0-49EC-8287-45E4AA9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F83-5666-47C9-AADB-79C7FC9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2D6-0AF5-4EC4-91DD-1082C93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AA5-BE95-4CB1-9462-6E097C6D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080-D775-49DB-9EEB-05931B8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523-D7A5-4F4F-9E38-ED67E2D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209-2590-4A18-9CBD-632095A2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52DB-C471-41FC-85E5-93275031F4B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1E8B-EBFB-4413-B4BC-2C87449796D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GC-Papers/SPE28749-Arun.pdf" TargetMode="External"/><Relationship Id="rId3" Type="http://schemas.openxmlformats.org/officeDocument/2006/relationships/hyperlink" Target="file:///../../GC-Papers/TIPM-Whitson-Fevang-Saevareid-GC-RelPerm.pdf" TargetMode="External"/><Relationship Id="rId4" Type="http://schemas.openxmlformats.org/officeDocument/2006/relationships/hyperlink" Target="file:///../../GC-Papers/TIPM-Whitson-Fevang-Saevareid-GC-RelPerm.pdf" TargetMode="External"/><Relationship Id="rId5" Type="http://schemas.openxmlformats.org/officeDocument/2006/relationships/hyperlink" Target="file:///../../E-NOTES/GC-PAPERS/SPE56476-FEVANG-WHITSON-GC-RELPERM.PDF" TargetMode="External"/><Relationship Id="rId6" Type="http://schemas.openxmlformats.org/officeDocument/2006/relationships/hyperlink" Target="file:///../../GC-Papers/IBC1997Paper.pdf" TargetMode="External"/><Relationship Id="rId7" Type="http://schemas.openxmlformats.org/officeDocument/2006/relationships/hyperlink" Target="file:///../../GC-Papers/SPE86298-Mott.pdf" TargetMode="External"/><Relationship Id="rId8" Type="http://schemas.openxmlformats.org/officeDocument/2006/relationships/hyperlink" Target="file:///../../GC-Papers/SPE86298-Mott.pdf" TargetMode="External"/><Relationship Id="rId9" Type="http://schemas.openxmlformats.org/officeDocument/2006/relationships/hyperlink" Target="file:///../GC-RATE-EXAMPLE+RESULTS.PPT" TargetMode="External"/><Relationship Id="rId10" Type="http://schemas.openxmlformats.org/officeDocument/2006/relationships/hyperlink" Target="file:///../Calculate-krg_kro.xls" TargetMode="External"/><Relationship Id="rId11" Type="http://schemas.openxmlformats.org/officeDocument/2006/relationships/hyperlink" Target="file:///../Calculate-krg_kro.xls" TargetMode="External"/><Relationship Id="rId12" Type="http://schemas.openxmlformats.org/officeDocument/2006/relationships/hyperlink" Target="file:///../Calculate-krg_kro.xls" TargetMode="External"/><Relationship Id="rId13" Type="http://schemas.openxmlformats.org/officeDocument/2006/relationships/hyperlink" Target="file:///../Calculate-krg_kro.xls" TargetMode="External"/><Relationship Id="rId14" Type="http://schemas.openxmlformats.org/officeDocument/2006/relationships/hyperlink" Target="file:///../Calculate-krg_kro.xls" TargetMode="External"/><Relationship Id="rId15" Type="http://schemas.openxmlformats.org/officeDocument/2006/relationships/hyperlink" Target="file:///../Calculate-krg_kro.xls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480" y="155520"/>
            <a:ext cx="57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at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0" y="5410080"/>
            <a:ext cx="6188400" cy="33588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9240" y="1295280"/>
                <a:ext cx="51595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76560" y="4672080"/>
                <a:ext cx="230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440" y="2846520"/>
                <a:ext cx="2119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2360" y="3862440"/>
                <a:ext cx="2163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228600" y="2895480"/>
            <a:ext cx="3479760" cy="2387880"/>
            <a:chOff x="228600" y="2895480"/>
            <a:chExt cx="3479760" cy="2387880"/>
          </a:xfrm>
        </p:grpSpPr>
        <p:grpSp>
          <p:nvGrpSpPr>
            <p:cNvPr id="49" name=""/>
            <p:cNvGrpSpPr/>
            <p:nvPr/>
          </p:nvGrpSpPr>
          <p:grpSpPr>
            <a:xfrm>
              <a:off x="350640" y="2959200"/>
              <a:ext cx="3294720" cy="2262240"/>
              <a:chOff x="350640" y="2959200"/>
              <a:chExt cx="3294720" cy="2262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01400" y="3198960"/>
                <a:ext cx="3078360" cy="2022480"/>
                <a:chOff x="401400" y="3198960"/>
                <a:chExt cx="3078360" cy="202248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084680" y="3351600"/>
                  <a:ext cx="1895760" cy="1434240"/>
                  <a:chOff x="1084680" y="3351600"/>
                  <a:chExt cx="1895760" cy="14342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3920" y="3356280"/>
                    <a:ext cx="370440" cy="14295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75440" y="3351600"/>
                    <a:ext cx="405000" cy="1429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084680" y="3361320"/>
                    <a:ext cx="1122120" cy="1416600"/>
                  </a:xfrm>
                  <a:prstGeom prst="rect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55" name=""/>
                <p:cNvGraphicFramePr/>
                <p:nvPr/>
              </p:nvGraphicFramePr>
              <p:xfrm>
                <a:off x="401400" y="3198960"/>
                <a:ext cx="3078360" cy="20224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5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01400" y="3198960"/>
                          <a:ext cx="3078360" cy="2022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7" name=""/>
                <p:cNvSpPr/>
                <p:nvPr/>
              </p:nvSpPr>
              <p:spPr>
                <a:xfrm>
                  <a:off x="1093320" y="3571920"/>
                  <a:ext cx="1123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350640" y="2959200"/>
                <a:ext cx="996120" cy="2642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68160" y="2972160"/>
                <a:ext cx="996120" cy="2642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2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9240" y="2972160"/>
                <a:ext cx="996120" cy="26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3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28600" y="2895480"/>
              <a:ext cx="3479760" cy="2387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394-3DF4-4ADD-88DF-25DBD7DA5C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769B0-A22D-4F1A-A445-CEBABA355BD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1240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Modeling Gas Condensate Well Deliv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Gas Condensate R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Generalized Pseudopressure Well Treatment In Reservoi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Engineering Calculations of Gas Condensate Well Productivity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2120760"/>
            <a:ext cx="632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Worked example for estimating gas produc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Spreadsheet for c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alculating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krg/kro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3"/>
              </a:rPr>
              <a:t> and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4"/>
              </a:rPr>
              <a:t>kr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5"/>
              </a:rPr>
              <a:t> in Reg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646-7F3F-4D66-B921-DF9CD17B27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A53E3-43E7-46D0-A62F-95976C0D128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 </cp:lastModifiedBy>
  <dcterms:modified xsi:type="dcterms:W3CDTF">2004-09-17T11:54:21Z</dcterms:modified>
  <cp:revision>66</cp:revision>
  <dc:subject/>
  <dc:title>PowerPoint Presentation</dc:title>
</cp:coreProperties>
</file>