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27C2-7FC1-457B-8010-E01A04198C87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C185-64F1-4D06-ADA3-D50E138221C1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of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9880" y="2743200"/>
            <a:ext cx="6258240" cy="321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relative permeability in Reg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o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il relative permeability in Region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viscosity, 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formation volume factor, RB/scf  or 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il viscosity, 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il formation volume factor, RB/STB or 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oil ratio, scf/STB or 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il-gas ratio (OGR or CGR), STB/scf or 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vf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flowing OGR in Region 1, STB/scf or 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447840"/>
            <a:ext cx="62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Relative Permeability Ratio in Reg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676520" y="1371600"/>
                <a:ext cx="30495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057400" y="6019920"/>
                <a:ext cx="229392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o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447840" y="7238880"/>
            <a:ext cx="5962320" cy="80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o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)   oil relative volume from a CCE experiment on the flowing fluid compos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440" y="45684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Variation of krg/kro and Vro with pressure during depletion of a rich gas condensate fluid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ff3300"/>
              </a:solidFill>
              <a:latin typeface="Comic Sans MS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6400800" cy="6159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21240" y="8077320"/>
            <a:ext cx="233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Comic Sans MS"/>
              </a:rPr>
              <a:t>Fig 18 from SPE 307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76760" y="5270400"/>
            <a:ext cx="1246320" cy="5806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CVD volu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009680" y="5540400"/>
            <a:ext cx="614520" cy="34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43040" y="8199360"/>
            <a:ext cx="1246320" cy="5806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mic Sans MS"/>
              </a:rPr>
              <a:t>CCE volu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390760" y="7238880"/>
            <a:ext cx="54000" cy="966960"/>
          </a:xfrm>
          <a:prstGeom prst="line">
            <a:avLst/>
          </a:prstGeom>
          <a:ln w="25560">
            <a:solidFill>
              <a:srgbClr val="00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509920" y="5951160"/>
            <a:ext cx="1195200" cy="2212920"/>
          </a:xfrm>
          <a:prstGeom prst="line">
            <a:avLst/>
          </a:prstGeom>
          <a:ln w="25560">
            <a:solidFill>
              <a:srgbClr val="00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45684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Variation of krg/kro and Vro with pressure during depletion of a lean gas condensate fluid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4521240" y="8229600"/>
            <a:ext cx="233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Comic Sans MS"/>
              </a:rPr>
              <a:t>Fig 19 from SPE 307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6629400" cy="6238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218120" y="5340240"/>
            <a:ext cx="1245960" cy="5806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CVD volu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095280" y="5610240"/>
            <a:ext cx="1160280" cy="26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41400" y="7935840"/>
            <a:ext cx="1246320" cy="5806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mic Sans MS"/>
              </a:rPr>
              <a:t>CCE volu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739880" y="7273440"/>
            <a:ext cx="193680" cy="668520"/>
          </a:xfrm>
          <a:prstGeom prst="line">
            <a:avLst/>
          </a:prstGeom>
          <a:ln w="25560">
            <a:solidFill>
              <a:srgbClr val="00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787400" y="6548400"/>
            <a:ext cx="1406520" cy="1370160"/>
          </a:xfrm>
          <a:prstGeom prst="line">
            <a:avLst/>
          </a:prstGeom>
          <a:ln w="25560">
            <a:solidFill>
              <a:srgbClr val="00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01T12:57:26Z</dcterms:modified>
  <cp:revision>93</cp:revision>
  <dc:subject/>
  <dc:title>PowerPoint Presentation</dc:title>
</cp:coreProperties>
</file>