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943-F2CD-4ED2-AD5E-FFA20D28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55E-F25F-4A25-AE9A-8A72FEDB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CD4-71EB-4061-A746-0C57059A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168-0EF2-4688-9B35-04A1DAA2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FCC-E1F4-4D4E-8391-23E6254F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0CE-8C9D-4F21-822D-BF96CA9C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F6F-12CF-467D-9C34-C1916109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450-7E3B-4CEC-BB8A-E0214380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CAC-C554-47C5-9D1A-F249C99F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B11-6329-4980-9778-C6CBDA8B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238-2AE4-4CCA-8467-64C61FE1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36C-1DE8-4A49-A0BD-0EDA80A7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EC87-9D4E-402B-B5A2-47711C704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alidation of coarse grid + GPP approach by comparison with fine gri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2560" y="966960"/>
            <a:ext cx="723888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02:42Z</dcterms:modified>
  <cp:revision>20</cp:revision>
  <dc:subject/>
  <dc:title>PowerPoint Presentation</dc:title>
</cp:coreProperties>
</file>