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647C-FAA0-44E3-9825-8A4A564A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FF66-C72E-48F5-A8C8-E508A426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FF5C-7C16-47A9-8400-A0A00916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C5FA-C88F-4DF1-B3FE-00796B8D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69B9-0BDC-4973-A2D9-AC38FF2B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2D62-527D-4A75-92C3-BB7CE143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E4F0-EEE2-4FCA-8E2C-ADAA985F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3DD0-194F-4F93-8B4A-AB62EB7F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9BA-F68D-4D6B-BEC3-3ADA3E9C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CF1E-705E-4042-813F-8EE6C98F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1F08-BE8F-45DA-9DFF-918CA372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E946-356D-4D2F-A528-34E1EDC7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2E4F-B8B9-4884-8FDD-F7A51FA23D5F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C4AC-6E69-4D42-96D2-F3E5CD36573D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extBox.ppt" TargetMode="External"/><Relationship Id="rId2" Type="http://schemas.openxmlformats.org/officeDocument/2006/relationships/hyperlink" Target="file:///Fig-1.ppt" TargetMode="External"/><Relationship Id="rId3" Type="http://schemas.openxmlformats.org/officeDocument/2006/relationships/hyperlink" Target="file:///Fig-2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Blockage-Skin.xls" TargetMode="External"/><Relationship Id="rId2" Type="http://schemas.openxmlformats.org/officeDocument/2006/relationships/hyperlink" Target="file:///Blockage-Skin.xls" TargetMode="External"/><Relationship Id="rId3" Type="http://schemas.openxmlformats.org/officeDocument/2006/relationships/hyperlink" Target="file:///GC-BLOCKAGE-EXAMPLE/GC-BLOCKAGE-EXAMPLE-DIFFERENT-KR.PPT" TargetMode="External"/><Relationship Id="rId4" Type="http://schemas.openxmlformats.org/officeDocument/2006/relationships/hyperlink" Target="file:///GC-BLOCKAGE-EXAMPLE/GC-BLOCKAGE-EXAMPLE-DIFFERENT-KR.PPT" TargetMode="External"/><Relationship Id="rId5" Type="http://schemas.openxmlformats.org/officeDocument/2006/relationships/hyperlink" Target="file:///GC-BLOCKAGE-EXAMPLE/GC-BLOCKAGE-EXAMPLE-DIFFERENT-KR.PPT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5880" y="155520"/>
            <a:ext cx="57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Blocka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22200" y="5392800"/>
            <a:ext cx="6188040" cy="3345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Condensate blockage is the build-up of liquid around the wellbore, reducing the effective gas permeability and lowering well deliverabil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Condensate saturations in the near-well region can reach 50%, reducing  the gas permeability in the near-well region by a factor of 2 to 20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Condensate blockage is only important when there is a significant pressure drop between the deep reservoir and the well perforations, and when the well is on decline (tubing-pressure limited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Condensate blockage is more important at low kh.  It is likely to be a major issue when kh &lt; ~ 1,000 md-ft.  It is unlikely to be significant when kh &gt; ~10,000 md-f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The primary relative permeability relationship affecting condensate blockage is 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 as a function of 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/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o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 in the near-well region. Saturation does not enter the calculation.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impact of condensate blockage can be reduced by an increase in k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at high velocities (capillary numbers, N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) in the near-well region. Considerable evidence for this effect exists from lab experiments and well tes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09480" y="876240"/>
            <a:ext cx="2514600" cy="1511280"/>
            <a:chOff x="609480" y="876240"/>
            <a:chExt cx="2514600" cy="1511280"/>
          </a:xfrm>
        </p:grpSpPr>
        <p:grpSp>
          <p:nvGrpSpPr>
            <p:cNvPr id="44" name=""/>
            <p:cNvGrpSpPr/>
            <p:nvPr/>
          </p:nvGrpSpPr>
          <p:grpSpPr>
            <a:xfrm>
              <a:off x="914760" y="1013760"/>
              <a:ext cx="1918440" cy="1158120"/>
              <a:chOff x="914760" y="1013760"/>
              <a:chExt cx="1918440" cy="1158120"/>
            </a:xfrm>
          </p:grpSpPr>
          <p:sp>
            <p:nvSpPr>
              <p:cNvPr id="45" name=""/>
              <p:cNvSpPr/>
              <p:nvPr/>
            </p:nvSpPr>
            <p:spPr>
              <a:xfrm>
                <a:off x="918000" y="1860120"/>
                <a:ext cx="1915200" cy="311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914760" y="1488600"/>
                <a:ext cx="0" cy="52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829960" y="1488600"/>
                <a:ext cx="0" cy="52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" name=""/>
              <p:cNvGrpSpPr/>
              <p:nvPr/>
            </p:nvGrpSpPr>
            <p:grpSpPr>
              <a:xfrm>
                <a:off x="1857960" y="1013760"/>
                <a:ext cx="41760" cy="999000"/>
                <a:chOff x="1857960" y="1013760"/>
                <a:chExt cx="41760" cy="999000"/>
              </a:xfrm>
            </p:grpSpPr>
            <p:grpSp>
              <p:nvGrpSpPr>
                <p:cNvPr id="49" name=""/>
                <p:cNvGrpSpPr/>
                <p:nvPr/>
              </p:nvGrpSpPr>
              <p:grpSpPr>
                <a:xfrm>
                  <a:off x="1857960" y="1084320"/>
                  <a:ext cx="41760" cy="928440"/>
                  <a:chOff x="1857960" y="1084320"/>
                  <a:chExt cx="41760" cy="92844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>
                    <a:off x="1859040" y="1096920"/>
                    <a:ext cx="0" cy="905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1899720" y="1096920"/>
                    <a:ext cx="0" cy="905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1857960" y="1084320"/>
                    <a:ext cx="40320" cy="212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57960" y="1991520"/>
                    <a:ext cx="40320" cy="212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" name=""/>
                <p:cNvSpPr/>
                <p:nvPr/>
              </p:nvSpPr>
              <p:spPr>
                <a:xfrm flipV="1">
                  <a:off x="1877400" y="1013760"/>
                  <a:ext cx="0" cy="250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>
                <a:off x="1909080" y="1585080"/>
                <a:ext cx="0" cy="4215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09080" y="2007000"/>
                <a:ext cx="9162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892160" y="1484640"/>
                <a:ext cx="928800" cy="531000"/>
                <a:chOff x="1892160" y="1484640"/>
                <a:chExt cx="928800" cy="531000"/>
              </a:xfrm>
            </p:grpSpPr>
            <p:grpSp>
              <p:nvGrpSpPr>
                <p:cNvPr id="58" name=""/>
                <p:cNvGrpSpPr/>
                <p:nvPr/>
              </p:nvGrpSpPr>
              <p:grpSpPr>
                <a:xfrm>
                  <a:off x="1900800" y="1484640"/>
                  <a:ext cx="916200" cy="523800"/>
                  <a:chOff x="1900800" y="1484640"/>
                  <a:chExt cx="916200" cy="52380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1900800" y="1484640"/>
                    <a:ext cx="916200" cy="523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1900800" y="193428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1900800" y="185832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1900800" y="178380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1900800" y="170928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1900800" y="163476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1900800" y="155880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1900800" y="148464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193680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193680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193680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193680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93680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193680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193680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193680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193680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193680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193680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193680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193680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193680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93680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193680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193680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193680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193680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193680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193680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193680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193680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193680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193680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193680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193680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193680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193680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93680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193680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193680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193680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193680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193680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193680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193680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193680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193680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193680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193680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193680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193680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193680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193680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193680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193680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193680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193680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193680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193680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193680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193680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193680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193680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193680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193680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193680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19742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19742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19742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19742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19742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19742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19742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197424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19742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19742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19742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19742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19742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19742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9742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19742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197424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19742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19742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19742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9742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19742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19742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19742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19742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197424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19742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9742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19742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19742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19742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19742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9742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9742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9742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19742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9742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19742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19742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19742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197424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19742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19742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197424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19742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19742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9742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9742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742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197424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197424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19742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97424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19742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19742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19742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7424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19742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20102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20102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20102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20102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20102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0102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20102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201024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20102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20102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20102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20102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20102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0102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0102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0102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201024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0102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20102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20102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20102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20102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20102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20102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20102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201024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20102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102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0102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0102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20102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20102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20102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20102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20102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20102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20102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20102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20102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0102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201024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20102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0102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201024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20102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20102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20102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0102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20102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201024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201024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20102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201024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20102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20102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20102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201024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0102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0480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0480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0480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0480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20480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20480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20480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204804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20480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0480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0480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0480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0480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0480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0480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0480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04804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20480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2048400" y="1484640"/>
                  <a:ext cx="147240" cy="522360"/>
                  <a:chOff x="2048400" y="1484640"/>
                  <a:chExt cx="147240" cy="52236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204840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04840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204840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204840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204840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204840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204840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204840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204840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04840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204840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204840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04840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04840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04840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204840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04840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04840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04840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04840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204840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204840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204840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204840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204840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204840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204840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204840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204840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204840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204840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204840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04840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04840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204840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204840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204840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204840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204840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04840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21200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21200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21200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21200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21200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21200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21200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212004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21200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21200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1200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1200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1200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21200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21200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21200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12004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1200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1200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21200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1200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21200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21200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21200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21200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212004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21200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21200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21200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21200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21200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21200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21200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21200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1200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21200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21200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21200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21200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21200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212004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21200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21200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212004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21200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1200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1200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1200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1200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212004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212004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1200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212004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21200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21200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21200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212004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21200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15820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15820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215820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215820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215820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215820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215820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215820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215820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215820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215820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215820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15820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215820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215820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215820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215820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215820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215820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215820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215820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215820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15820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215820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215820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215820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215820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215820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215820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215820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215820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215820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15820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5820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15820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215820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15820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215820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15820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215820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215820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215820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215820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215820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215820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215820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215820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215820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215820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215820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215820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215820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215820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215820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15820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215820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215820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215820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21938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21938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21938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1938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21938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21938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21938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219384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21938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1938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1938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1938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21938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21938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21938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21938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219384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1938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1938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21938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21938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21938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21938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21938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1938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219384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21938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1938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1938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1938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21938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21938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21938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21938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21938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21938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21938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21938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21938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21938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19384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21938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21938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219384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0" name=""/>
                <p:cNvGrpSpPr/>
                <p:nvPr/>
              </p:nvGrpSpPr>
              <p:grpSpPr>
                <a:xfrm>
                  <a:off x="2193840" y="1484640"/>
                  <a:ext cx="184680" cy="522360"/>
                  <a:chOff x="2193840" y="1484640"/>
                  <a:chExt cx="184680" cy="52236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21938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21938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21938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21938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21938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19384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219384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21938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219384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21938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21938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21938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219384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21938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2231640" y="1484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2231640" y="1493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2231640" y="1502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2231640" y="1511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2231640" y="1520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2231640" y="1530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2231640" y="1539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2231640" y="1548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2231640" y="1557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2231640" y="1566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2231640" y="1575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2231640" y="1584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2231640" y="1593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2231640" y="1602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2231640" y="1612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2231640" y="1621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2231640" y="1630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2231640" y="1639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2231640" y="1648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2231640" y="1657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231640" y="1666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2231640" y="1675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2231640" y="1684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2231640" y="1694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2231640" y="1703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2231640" y="1712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2231640" y="1721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2231640" y="1730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2231640" y="1739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2231640" y="1748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2231640" y="1757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2231640" y="1766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2231640" y="1776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2231640" y="1785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2231640" y="1794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2231640" y="1803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2231640" y="1812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2231640" y="1821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2231640" y="1830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2231640" y="1839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2231640" y="1849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2231640" y="1858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2231640" y="1867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2231640" y="1876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2231640" y="1885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2231640" y="1894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2231640" y="1903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2231640" y="1913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231640" y="1922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231640" y="1931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2231640" y="1940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2231640" y="1949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2231640" y="1958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2231640" y="1967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2231640" y="1976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231640" y="1985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2231640" y="1995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2231640" y="2004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230328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230328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230328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230328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230328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230328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230328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230328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230328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230328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230328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230328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230328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230328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230328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230328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230328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230328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230328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230328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230328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230328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230328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230328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230328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230328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230328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230328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230328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230328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230328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230328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230328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230328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230328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230328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230328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30328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230328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30328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30328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230328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230328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230328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230328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30328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30328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230328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230328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230328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230328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230328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230328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230328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230328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230328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230328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230328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234108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234108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234108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234108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234108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234108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234108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234108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234108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234108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234108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234108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234108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234108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234108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234108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234108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234108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234108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234108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234108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234108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234108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234108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234108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234108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234108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234108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234108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234108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34108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234108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234108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234108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34108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234108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234108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234108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234108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234108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234108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234108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234108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234108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234108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234108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234108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234108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234108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234108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234108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234108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234108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234108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234108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234108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234108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234108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2377080" y="1484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2377080" y="1493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2377080" y="1502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2377080" y="1511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2377080" y="1520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2377080" y="1530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2377080" y="1539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2377080" y="1548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2377080" y="1557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2377080" y="1566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2377080" y="1575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2377080" y="1584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1" name=""/>
                <p:cNvGrpSpPr/>
                <p:nvPr/>
              </p:nvGrpSpPr>
              <p:grpSpPr>
                <a:xfrm>
                  <a:off x="2377080" y="1484640"/>
                  <a:ext cx="148680" cy="522360"/>
                  <a:chOff x="2377080" y="1484640"/>
                  <a:chExt cx="148680" cy="52236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2377080" y="1593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2377080" y="1602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2377080" y="1612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2377080" y="1621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2377080" y="1630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2377080" y="1639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2377080" y="1648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2377080" y="1657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2377080" y="1666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2377080" y="1675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2377080" y="1684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2377080" y="1694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2377080" y="1703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2377080" y="1712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2377080" y="1721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2377080" y="1730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2377080" y="1739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2377080" y="1748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2377080" y="1757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2377080" y="1766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2377080" y="1776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2377080" y="1785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2377080" y="1794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2377080" y="1803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2377080" y="1812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2377080" y="1821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2377080" y="1830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2377080" y="1839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2377080" y="1849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2377080" y="1858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2377080" y="1867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2377080" y="1876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2377080" y="1885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2377080" y="1894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377080" y="1903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2377080" y="1913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2377080" y="1922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2377080" y="1931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2377080" y="1940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2377080" y="1949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2377080" y="1958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2377080" y="1967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2377080" y="1976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2377080" y="1985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2377080" y="1995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2377080" y="2004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241452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241452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241452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241452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241452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241452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24145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241452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24145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24145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24145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24145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24145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24145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24145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24145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241452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24145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24145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24145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24145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24145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24145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241452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24145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241452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24145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24145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24145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24145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24145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24145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241452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24145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241452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241452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24145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24145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24145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24145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24145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24145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24145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24145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24145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24145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24145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24145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24145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24145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24145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24145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24145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24145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24145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24145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24145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24145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248652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248652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248652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248652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248652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248652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24865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248652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24865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24865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24865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24865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24865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24865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24865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24865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248652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24865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24865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24865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24865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24865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24865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248652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24865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248652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24865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24865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24865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24865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24865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24865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248652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24865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248652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248652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24865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24865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24865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24865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24865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24865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24865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24865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24865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24865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24865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24865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24865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24865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24865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24865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24865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24865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24865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24865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24865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24865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25239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25239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25239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25239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25239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25239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25239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252396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25239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25239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25239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25239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25239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25239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25239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25239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252396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25239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25239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25239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25239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25239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25239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252396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25239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252396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25239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25239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25239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25239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25239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25239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252396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25239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252396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252396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25239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25239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2" name=""/>
                <p:cNvGrpSpPr/>
                <p:nvPr/>
              </p:nvGrpSpPr>
              <p:grpSpPr>
                <a:xfrm>
                  <a:off x="2524320" y="1484640"/>
                  <a:ext cx="185040" cy="522360"/>
                  <a:chOff x="2524320" y="1484640"/>
                  <a:chExt cx="185040" cy="522360"/>
                </a:xfrm>
              </p:grpSpPr>
              <p:sp>
                <p:nvSpPr>
                  <p:cNvPr id="863" name=""/>
                  <p:cNvSpPr/>
                  <p:nvPr/>
                </p:nvSpPr>
                <p:spPr>
                  <a:xfrm>
                    <a:off x="25243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25243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25243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25243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25243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25243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25243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25243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25243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25243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25243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25243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25243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25243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25243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25243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25243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25243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25243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25243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256032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256032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256032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256032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256032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256032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25603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256032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25603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25603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25603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25603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25603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25603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25603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25603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256032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25603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25603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25603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25603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25603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25603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256032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25603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256032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25603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25603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25603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25603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25603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25603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256032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25603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256032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256032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25603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25603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25603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25603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25603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25603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25603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5603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5603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25603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25603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25603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25603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25603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25603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25603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25603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25603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25603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25603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25603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25603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25977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25977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25977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25977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25977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25977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25977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59776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5977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25977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25977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25977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25977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25977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25977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25977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259776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25977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25977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25977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25977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25977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25977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259776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25977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259776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25977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25977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25977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5977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5977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25977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259776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25977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259776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259776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25977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25977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25977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25977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259776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259776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25977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259776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259776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25977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25977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259776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25977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259776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259776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259776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59776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259776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259776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25977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259776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25977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26697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26697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26697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26697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26697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26697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26697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266976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26697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26697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26697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26697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26697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26697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26697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26697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266976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26697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26697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26697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26697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26697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26697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266976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26697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266976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26697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26697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26697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26697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26697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26697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266976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26697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266976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266976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26697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26697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26697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26697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266976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266976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26697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266976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266976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26697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26697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266976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26697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266976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266976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266976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266976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266976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266976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26697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266976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26697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27075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7075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7075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27075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27075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7075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3" name=""/>
                <p:cNvGrpSpPr/>
                <p:nvPr/>
              </p:nvGrpSpPr>
              <p:grpSpPr>
                <a:xfrm>
                  <a:off x="1892160" y="1484640"/>
                  <a:ext cx="925200" cy="531000"/>
                  <a:chOff x="1892160" y="1484640"/>
                  <a:chExt cx="925200" cy="531000"/>
                </a:xfrm>
              </p:grpSpPr>
              <p:sp>
                <p:nvSpPr>
                  <p:cNvPr id="1064" name=""/>
                  <p:cNvSpPr/>
                  <p:nvPr/>
                </p:nvSpPr>
                <p:spPr>
                  <a:xfrm>
                    <a:off x="27079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270792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27079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27079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27079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27079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27079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27079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27079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27079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270792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27079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27079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27079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27079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27079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7079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707920" y="1693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27079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270792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27079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27079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27079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27079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27079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27079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2707920" y="1775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27079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2707920" y="1794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2707920" y="1803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27079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27079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27079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27079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270792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2707920" y="1857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27079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270792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2707920" y="1885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27079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27079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2707920" y="1912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27079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270792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270792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2707920" y="1949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270792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2707920" y="1967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2707920" y="1976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27079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270792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27079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27435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27435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27435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27435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27435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27435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27435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274356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7435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7435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27435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27435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27435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27435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27435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27435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274356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27435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27435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27435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27435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27435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27435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2743560" y="1693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27435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274356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27435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27435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27435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27435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7435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27435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2743560" y="1775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27435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2743560" y="1794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2743560" y="1803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27435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27435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27435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27435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274356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2743560" y="1857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27435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274356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2743560" y="1885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27435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27435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2743560" y="1912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27435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274356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274356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2743560" y="1949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274356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743560" y="1967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2743560" y="1976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27435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274356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27435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27813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27813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27813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27813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27813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27813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27813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278136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27813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27813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27813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27813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27813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27813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7813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7813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78136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7813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7813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7813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27813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27813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27813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2781360" y="1693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27813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278136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27813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27813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27813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27813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27813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27813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2781360" y="1775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27813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2781360" y="1794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2781360" y="1803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27813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27813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27813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27813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278136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2781360" y="1857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27813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278136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2781360" y="1885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27813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27813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2781360" y="1912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27813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278136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278136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2781360" y="1949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278136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2781360" y="1967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2781360" y="1976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27813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278136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27813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208440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226764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245088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263412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281736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190080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1892160" y="200844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1892160" y="193392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1892160" y="185796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1892160" y="178380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1892160" y="170928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1892160" y="163476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1892160" y="155880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1892160" y="148464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1900800" y="200844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 flipV="1">
                    <a:off x="190080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 flipV="1">
                    <a:off x="208440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 flipV="1">
                    <a:off x="226764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 flipV="1">
                    <a:off x="245088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 flipV="1">
                    <a:off x="263412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 flipV="1">
                    <a:off x="281736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1900800" y="156780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1900800" y="157248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1900800" y="1577160"/>
                    <a:ext cx="0" cy="28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1900800" y="1580040"/>
                    <a:ext cx="180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1902600" y="158472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1902600" y="158940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1902600" y="159372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1902600" y="1598400"/>
                    <a:ext cx="180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1904400" y="160272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>
                    <a:off x="1904400" y="1607400"/>
                    <a:ext cx="180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1906200" y="161208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4" name=""/>
                <p:cNvSpPr/>
                <p:nvPr/>
              </p:nvSpPr>
              <p:spPr>
                <a:xfrm>
                  <a:off x="1906200" y="1616400"/>
                  <a:ext cx="3600" cy="6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1910160" y="1622520"/>
                  <a:ext cx="1800" cy="4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1911960" y="1627200"/>
                  <a:ext cx="3240" cy="6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1915200" y="1633320"/>
                  <a:ext cx="3600" cy="9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1918800" y="1642320"/>
                  <a:ext cx="5400" cy="1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1924560" y="1658880"/>
                  <a:ext cx="6840" cy="1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1931400" y="1675800"/>
                  <a:ext cx="9000" cy="1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1940760" y="1692720"/>
                  <a:ext cx="12240" cy="34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1953000" y="1727640"/>
                  <a:ext cx="14040" cy="121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1967400" y="1848960"/>
                  <a:ext cx="19440" cy="65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1987200" y="1914120"/>
                  <a:ext cx="27000" cy="36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014200" y="1950840"/>
                  <a:ext cx="33840" cy="19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048400" y="1970640"/>
                  <a:ext cx="42840" cy="13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091240" y="1983960"/>
                  <a:ext cx="57240" cy="6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2148840" y="1990440"/>
                  <a:ext cx="73440" cy="4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222640" y="1994760"/>
                  <a:ext cx="96840" cy="2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319840" y="1997640"/>
                  <a:ext cx="125640" cy="1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2445480" y="1999440"/>
                  <a:ext cx="163440" cy="1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2608920" y="2000880"/>
                  <a:ext cx="211680" cy="1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2820960" y="2002320"/>
                  <a:ext cx="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4" name=""/>
              <p:cNvSpPr/>
              <p:nvPr/>
            </p:nvSpPr>
            <p:spPr>
              <a:xfrm>
                <a:off x="1901160" y="1577160"/>
                <a:ext cx="423720" cy="431640"/>
              </a:xfrm>
              <a:custGeom>
                <a:avLst/>
                <a:gdLst/>
                <a:ahLst/>
                <a:rect l="l" t="t" r="r" b="b"/>
                <a:pathLst>
                  <a:path w="921" h="954">
                    <a:moveTo>
                      <a:pt x="0" y="0"/>
                    </a:moveTo>
                    <a:lnTo>
                      <a:pt x="0" y="948"/>
                    </a:lnTo>
                    <a:lnTo>
                      <a:pt x="921" y="954"/>
                    </a:lnTo>
                    <a:lnTo>
                      <a:pt x="909" y="930"/>
                    </a:lnTo>
                    <a:cubicBezTo>
                      <a:pt x="780" y="924"/>
                      <a:pt x="651" y="919"/>
                      <a:pt x="522" y="912"/>
                    </a:cubicBezTo>
                    <a:cubicBezTo>
                      <a:pt x="493" y="911"/>
                      <a:pt x="435" y="906"/>
                      <a:pt x="435" y="906"/>
                    </a:cubicBezTo>
                    <a:cubicBezTo>
                      <a:pt x="432" y="907"/>
                      <a:pt x="426" y="909"/>
                      <a:pt x="426" y="909"/>
                    </a:cubicBezTo>
                    <a:lnTo>
                      <a:pt x="408" y="900"/>
                    </a:lnTo>
                    <a:lnTo>
                      <a:pt x="312" y="876"/>
                    </a:lnTo>
                    <a:lnTo>
                      <a:pt x="261" y="834"/>
                    </a:lnTo>
                    <a:lnTo>
                      <a:pt x="192" y="756"/>
                    </a:lnTo>
                    <a:lnTo>
                      <a:pt x="156" y="657"/>
                    </a:lnTo>
                    <a:lnTo>
                      <a:pt x="141" y="603"/>
                    </a:lnTo>
                    <a:lnTo>
                      <a:pt x="135" y="573"/>
                    </a:lnTo>
                    <a:lnTo>
                      <a:pt x="114" y="336"/>
                    </a:lnTo>
                    <a:lnTo>
                      <a:pt x="90" y="252"/>
                    </a:lnTo>
                    <a:lnTo>
                      <a:pt x="54" y="183"/>
                    </a:lnTo>
                    <a:lnTo>
                      <a:pt x="18" y="114"/>
                    </a:lnTo>
                    <a:lnTo>
                      <a:pt x="15" y="90"/>
                    </a:lnTo>
                    <a:lnTo>
                      <a:pt x="6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092680" y="2004840"/>
                <a:ext cx="73260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4760" y="1331640"/>
                <a:ext cx="1915200" cy="311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865160" y="1847880"/>
                <a:ext cx="29160" cy="24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865160" y="1319760"/>
                <a:ext cx="30600" cy="24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H="1">
                <a:off x="2693160" y="151596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H="1">
                <a:off x="2737440" y="156024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H="1">
                <a:off x="2648880" y="15814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>
                <a:off x="2714760" y="16243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H="1">
                <a:off x="2759760" y="1668600"/>
                <a:ext cx="2592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H="1">
                <a:off x="2759760" y="1494720"/>
                <a:ext cx="2592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H="1">
                <a:off x="2626200" y="14947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1940040" y="151596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>
                <a:off x="2383560" y="171216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>
                <a:off x="2295000" y="17341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>
                <a:off x="2383560" y="18205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>
                <a:off x="2295000" y="19504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H="1">
                <a:off x="2339280" y="15814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H="1">
                <a:off x="2383560" y="151596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H="1">
                <a:off x="2581920" y="15814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>
                <a:off x="247176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H="1">
                <a:off x="2516040" y="160452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>
                <a:off x="2405160" y="177660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H="1">
                <a:off x="1984320" y="175536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H="1">
                <a:off x="202860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>
                <a:off x="213984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H="1">
                <a:off x="2228040" y="175536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>
                <a:off x="2360880" y="16466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2228040" y="18640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2383560" y="19292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2006640" y="1560240"/>
                <a:ext cx="2592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>
                <a:off x="1940040" y="16243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>
                <a:off x="2006640" y="1841760"/>
                <a:ext cx="2592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>
                <a:off x="2095560" y="19072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>
                <a:off x="2117160" y="177660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H="1">
                <a:off x="2183760" y="19292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>
                <a:off x="238356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H="1">
                <a:off x="231660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256032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2604600" y="16243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264888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>
                <a:off x="253764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>
                <a:off x="2581920" y="16898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7" name=""/>
              <p:cNvGrpSpPr/>
              <p:nvPr/>
            </p:nvGrpSpPr>
            <p:grpSpPr>
              <a:xfrm>
                <a:off x="2472480" y="1734120"/>
                <a:ext cx="134640" cy="236880"/>
                <a:chOff x="2472480" y="1734120"/>
                <a:chExt cx="134640" cy="236880"/>
              </a:xfrm>
            </p:grpSpPr>
            <p:sp>
              <p:nvSpPr>
                <p:cNvPr id="1328" name=""/>
                <p:cNvSpPr/>
                <p:nvPr/>
              </p:nvSpPr>
              <p:spPr>
                <a:xfrm flipH="1">
                  <a:off x="2538720" y="18637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flipH="1">
                  <a:off x="2560680" y="17557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 flipH="1">
                  <a:off x="2472480" y="17989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 flipH="1">
                  <a:off x="2472480" y="17341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2582640" y="17989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 flipH="1">
                  <a:off x="2582640" y="19069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 flipH="1">
                  <a:off x="2472480" y="18853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 flipH="1">
                  <a:off x="2538720" y="19501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 flipH="1">
                  <a:off x="2472480" y="19501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7" name=""/>
              <p:cNvSpPr/>
              <p:nvPr/>
            </p:nvSpPr>
            <p:spPr>
              <a:xfrm flipH="1">
                <a:off x="229500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2228040" y="156024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>
                <a:off x="2162160" y="1668600"/>
                <a:ext cx="2592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>
                <a:off x="229500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H="1">
                <a:off x="2316600" y="179964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271476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>
                <a:off x="2737440" y="17341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2648880" y="177660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H="1">
                <a:off x="2670480" y="17341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>
                <a:off x="2759760" y="1776600"/>
                <a:ext cx="2592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H="1">
                <a:off x="2781360" y="19072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H="1">
                <a:off x="264888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H="1">
                <a:off x="2737440" y="19504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>
                <a:off x="2648880" y="19504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2714760" y="16898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>
                <a:off x="2693160" y="18205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2516040" y="18205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>
                <a:off x="247176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>
                <a:off x="2427840" y="160452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H="1">
                <a:off x="2493360" y="14947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H="1">
                <a:off x="2759760" y="1841760"/>
                <a:ext cx="2592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8" name="">
              <a:hlinkClick r:id="rId2"/>
            </p:cNvPr>
            <p:cNvSpPr/>
            <p:nvPr/>
          </p:nvSpPr>
          <p:spPr>
            <a:xfrm>
              <a:off x="609480" y="876240"/>
              <a:ext cx="2514600" cy="151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225360" y="2529000"/>
            <a:ext cx="3191040" cy="2486160"/>
            <a:chOff x="225360" y="2529000"/>
            <a:chExt cx="3191040" cy="2486160"/>
          </a:xfrm>
        </p:grpSpPr>
        <p:grpSp>
          <p:nvGrpSpPr>
            <p:cNvPr id="1360" name=""/>
            <p:cNvGrpSpPr/>
            <p:nvPr/>
          </p:nvGrpSpPr>
          <p:grpSpPr>
            <a:xfrm>
              <a:off x="225360" y="2600280"/>
              <a:ext cx="3054240" cy="2414880"/>
              <a:chOff x="225360" y="2600280"/>
              <a:chExt cx="3054240" cy="2414880"/>
            </a:xfrm>
          </p:grpSpPr>
          <p:sp>
            <p:nvSpPr>
              <p:cNvPr id="1361" name=""/>
              <p:cNvSpPr/>
              <p:nvPr/>
            </p:nvSpPr>
            <p:spPr>
              <a:xfrm>
                <a:off x="654120" y="2630520"/>
                <a:ext cx="2436840" cy="19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4120" y="435276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4120" y="410832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4120" y="386064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54120" y="3614760"/>
                <a:ext cx="24368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54120" y="336852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54120" y="3122640"/>
                <a:ext cx="24368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54120" y="287640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54120" y="2630520"/>
                <a:ext cx="24368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3090960" y="2630520"/>
                <a:ext cx="144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78748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48112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17800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87308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1568520" y="2630520"/>
                <a:ext cx="144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126360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95868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54120" y="2630520"/>
                <a:ext cx="2436840" cy="196992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54120" y="2630520"/>
                <a:ext cx="1440" cy="1969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36480" y="460044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36480" y="435276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36480" y="410832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36480" y="386064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36480" y="361476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36480" y="336852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36480" y="312264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36480" y="287640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36480" y="263052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54120" y="4600440"/>
                <a:ext cx="2436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3090960" y="460044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V="1">
                <a:off x="278748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248112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217800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187308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V="1">
                <a:off x="1568520" y="460044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V="1">
                <a:off x="126360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>
                <a:off x="95868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654120" y="460044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648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74640" y="291780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12800" y="29527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5096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89120" y="277956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826920" y="280512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86508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903240" y="280512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94140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979560" y="282888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101772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055520" y="29034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1093680" y="29034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131840" y="277956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170000" y="292716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208160" y="2977920"/>
                <a:ext cx="34920" cy="4320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246320" y="29671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284120" y="29527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322280" y="300204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360440" y="30416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398600" y="30416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436760" y="31003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474920" y="3322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512720" y="344484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550880" y="350532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593720" y="354312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638360" y="3592440"/>
                <a:ext cx="331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81200" y="36036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725480" y="359244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768320" y="363204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811160" y="3632040"/>
                <a:ext cx="352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855800" y="366696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898640" y="36720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943280" y="3672000"/>
                <a:ext cx="331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986120" y="3686040"/>
                <a:ext cx="331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030400" y="370188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2073240" y="371160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2116080" y="371628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2160720" y="3741840"/>
                <a:ext cx="331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2203560" y="37656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2247840" y="379080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290680" y="377028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2333520" y="37512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378160" y="3730680"/>
                <a:ext cx="331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421000" y="372096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2465280" y="371160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2508120" y="3725640"/>
                <a:ext cx="33480" cy="4320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552760" y="3760560"/>
                <a:ext cx="33120" cy="4320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595600" y="377964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2638440" y="37908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2682720" y="382896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725560" y="3849480"/>
                <a:ext cx="352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770200" y="386856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820960" y="3878280"/>
                <a:ext cx="3348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871720" y="388944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922480" y="359244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973240" y="371628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022560" y="37418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3075120" y="3790800"/>
                <a:ext cx="331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8" name=""/>
              <p:cNvGrpSpPr/>
              <p:nvPr/>
            </p:nvGrpSpPr>
            <p:grpSpPr>
              <a:xfrm>
                <a:off x="430560" y="2600280"/>
                <a:ext cx="198720" cy="2087280"/>
                <a:chOff x="430560" y="2600280"/>
                <a:chExt cx="198720" cy="2087280"/>
              </a:xfrm>
            </p:grpSpPr>
            <p:sp>
              <p:nvSpPr>
                <p:cNvPr id="1459" name=""/>
                <p:cNvSpPr/>
                <p:nvPr/>
              </p:nvSpPr>
              <p:spPr>
                <a:xfrm>
                  <a:off x="540720" y="4565520"/>
                  <a:ext cx="745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430560" y="431856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0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474480" y="407448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430560" y="382752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1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474480" y="358200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430560" y="333648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2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474480" y="309096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430560" y="284544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3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474480" y="260028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8" name=""/>
              <p:cNvGrpSpPr/>
              <p:nvPr/>
            </p:nvGrpSpPr>
            <p:grpSpPr>
              <a:xfrm>
                <a:off x="586080" y="4684680"/>
                <a:ext cx="2693520" cy="137520"/>
                <a:chOff x="586080" y="4684680"/>
                <a:chExt cx="2693520" cy="137520"/>
              </a:xfrm>
            </p:grpSpPr>
            <p:sp>
              <p:nvSpPr>
                <p:cNvPr id="1469" name=""/>
                <p:cNvSpPr/>
                <p:nvPr/>
              </p:nvSpPr>
              <p:spPr>
                <a:xfrm>
                  <a:off x="3022920" y="4684680"/>
                  <a:ext cx="256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900" spc="-1" strike="noStrike">
                      <a:solidFill>
                        <a:srgbClr val="000000"/>
                      </a:solidFill>
                      <a:latin typeface="Arial"/>
                    </a:rPr>
                    <a:t>370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0" name=""/>
                <p:cNvGrpSpPr/>
                <p:nvPr/>
              </p:nvGrpSpPr>
              <p:grpSpPr>
                <a:xfrm>
                  <a:off x="586080" y="4684680"/>
                  <a:ext cx="2388600" cy="137520"/>
                  <a:chOff x="586080" y="4684680"/>
                  <a:chExt cx="2388600" cy="137520"/>
                </a:xfrm>
              </p:grpSpPr>
              <p:sp>
                <p:nvSpPr>
                  <p:cNvPr id="1471" name=""/>
                  <p:cNvSpPr/>
                  <p:nvPr/>
                </p:nvSpPr>
                <p:spPr>
                  <a:xfrm>
                    <a:off x="271800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39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241344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1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210996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3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180540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5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150048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7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119556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9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>
                    <a:off x="89100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51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>
                    <a:off x="58608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53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79" name=""/>
              <p:cNvSpPr/>
              <p:nvPr/>
            </p:nvSpPr>
            <p:spPr>
              <a:xfrm>
                <a:off x="1021680" y="4832280"/>
                <a:ext cx="170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Reservoir pressure, ps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rot="16200000">
                <a:off x="-345600" y="3540960"/>
                <a:ext cx="1325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Productivity 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1" name="">
              <a:hlinkClick r:id="rId3"/>
            </p:cNvPr>
            <p:cNvSpPr/>
            <p:nvPr/>
          </p:nvSpPr>
          <p:spPr>
            <a:xfrm>
              <a:off x="254160" y="2529000"/>
              <a:ext cx="3162240" cy="247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676680" y="1287360"/>
                <a:ext cx="291636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gb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83" name=""/>
          <p:cNvGrpSpPr/>
          <p:nvPr/>
        </p:nvGrpSpPr>
        <p:grpSpPr>
          <a:xfrm>
            <a:off x="3633840" y="2592360"/>
            <a:ext cx="3044520" cy="2541960"/>
            <a:chOff x="3633840" y="2592360"/>
            <a:chExt cx="3044520" cy="2541960"/>
          </a:xfrm>
        </p:grpSpPr>
        <p:sp>
          <p:nvSpPr>
            <p:cNvPr id="1484" name=""/>
            <p:cNvSpPr/>
            <p:nvPr/>
          </p:nvSpPr>
          <p:spPr>
            <a:xfrm>
              <a:off x="3633840" y="2592360"/>
              <a:ext cx="3044520" cy="25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r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b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 = f(CGR) 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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Comic Sans MS"/>
                </a:rPr>
                <a:t> 50 - 500 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K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rgb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 = f(CGR,rock,N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c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spcBef>
                  <a:spcPts val="337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	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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Comic Sans MS"/>
                </a:rPr>
                <a:t> 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Comic Sans MS"/>
                </a:rPr>
                <a:t>0.05 - 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N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c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 = f(q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g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,p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wf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s</a:t>
              </a:r>
              <a:r>
                <a:rPr b="1" i="1" lang="en-US" sz="1800" spc="-1" strike="noStrike" baseline="-25000">
                  <a:solidFill>
                    <a:srgbClr val="ff3300"/>
                  </a:solidFill>
                  <a:latin typeface="Comic Sans MS"/>
                </a:rPr>
                <a:t>b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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 5 - 20 (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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1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051080" y="4940280"/>
              <a:ext cx="228600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67BA-1619-4031-8C51-4AB89C53F4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7F39A-8DDF-4C6A-9D7A-F1E6A7544E8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304920" y="228600"/>
            <a:ext cx="63244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Arun SPE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Measurement and Correlation of Gas Condensate Relative Perm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33cc"/>
                </a:solidFill>
                <a:uFillTx/>
                <a:latin typeface="Comic Sans MS"/>
              </a:rPr>
              <a:t>Engineering Calculations of Gas Condensate Well 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54160" y="1638360"/>
            <a:ext cx="6324480" cy="17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ondensate blockage skin estimation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 – a simple spread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Condensate blockage – single well simulation calculations and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Single well simulations to demonstrate the fundamental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rel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 perm relationship for condensate blockage</a:t>
            </a: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35080" y="3052800"/>
            <a:ext cx="6362640" cy="56930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812B-0C8A-459D-BE6A-5C1906DAFA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3E052-5060-4014-B6C3-B1D7551335B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3-05T12:08:22Z</dcterms:modified>
  <cp:revision>98</cp:revision>
  <dc:subject/>
  <dc:title>PowerPoint Presentation</dc:title>
</cp:coreProperties>
</file>