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8BA4-2969-48DB-8AC0-FC3CBF47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640-A259-4596-B332-FDC48EDF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72C-6207-48AC-81B9-D9F9EF41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2C2C-F24A-469A-9B35-12124F92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9A5-0282-4C26-8372-2DA8D1BE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42CE-D410-4CB4-B3E1-3B44EFBE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481-B978-4166-BC69-047EF55C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78C-FDF2-4B80-B776-E8CD92CF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90C-6A85-437C-8AAE-75DE5CFC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1C2-8F97-488E-A657-720FD68F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E28D-C735-4BE5-A426-E310A145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81A-C1E1-48A9-8172-1E409AB1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5AAB-DCFF-45AA-B053-F3C069F28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ondensate-blockage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686800" cy="5961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ondensate blockage is the build-up of liquid around the wellbore, reducing the effective gas permeability and lowering well deliverability. 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ndensate saturations in the near-well region can reach 50%, reducing  the gas permeability in the near-well region by a factor of 2 to 2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Condensate blockage is only important when there is a significant pressure drop between the deep reservoir and the well perforations, and when the well is on decline (tubing-pressure limite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Condensate blockage is more important at low kh.  It is likely to be a major issue when kh &lt; ~ 1,000 md-ft.  It is unlikely to be significant when kh &gt; ~10,000 md-f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primary relative permeability relationship affecting condensate blockage is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as a function of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in the near-well region. Saturation does not enter the calculation.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impact of condensate blockage can be reduced by an increase in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t high velocities (capillary numbers, N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 in the near-well region. Considerable evidence for this effect exists from lab experiments and well te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3-05T11:18:01Z</dcterms:modified>
  <cp:revision>18</cp:revision>
  <dc:subject/>
  <dc:title>PowerPoint Presentation</dc:title>
</cp:coreProperties>
</file>