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A134-A720-41C2-8FF8-AAB4F9EF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4F92-A59E-43C2-BF52-2ED1A767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7E1A-E7B9-4CA2-840F-B6B6DC07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18E-25A5-4B00-92D5-3C78E7D0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5E3F-52DD-4A0A-9915-29F44D5A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B7C2-21A5-4854-A304-A3E76684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C7F-0AC5-4384-8064-21E694B9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F73A-7651-49BB-A4AD-9161504C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8D8-6E7B-4E39-A412-EC53EDA1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A94-1C8A-4A72-8D59-A497F006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689-7DE4-4FCB-872A-391B8C26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3F37-7E71-4B01-BAF9-A341C1C0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3A70-F9BB-4F24-980B-2D1876FAB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atching flowing bottom hole pressure data from a multi-rate well test using single well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506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7400" y="190512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imulation (including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58128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el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6019920" y="4495680"/>
            <a:ext cx="380880" cy="76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426708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mulation (no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599840" y="3429000"/>
            <a:ext cx="304920" cy="457200"/>
          </a:xfrm>
          <a:prstGeom prst="line">
            <a:avLst/>
          </a:prstGeom>
          <a:ln w="2232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828800" y="2590920"/>
            <a:ext cx="533520" cy="60948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9:06Z</dcterms:modified>
  <cp:revision>21</cp:revision>
  <dc:subject/>
  <dc:title>PowerPoint Presentation</dc:title>
</cp:coreProperties>
</file>