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7E6C-7E4E-42F8-AAF5-1DBCBB9EE7F1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45A3-36E7-4725-B8BB-189E12FDFCCF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2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3440" y="5334120"/>
            <a:ext cx="4229280" cy="314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6672240"/>
            <a:ext cx="1066680" cy="5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90840" y="5749920"/>
            <a:ext cx="11811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67080" y="7918200"/>
            <a:ext cx="1800" cy="41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76640" y="8288280"/>
            <a:ext cx="125748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04920" y="1447920"/>
                <a:ext cx="42624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648320" y="1676520"/>
            <a:ext cx="198108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nb-NO" sz="20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 term in integral is usually neg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61880" y="3657600"/>
                <a:ext cx="4122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648320" y="3581280"/>
            <a:ext cx="1981080" cy="146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 included in pseudo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1:19Z</dcterms:modified>
  <cp:revision>103</cp:revision>
  <dc:subject/>
  <dc:title>PowerPoint Presentation</dc:title>
</cp:coreProperties>
</file>