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D9F-61C4-45FB-8C1D-2013D471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5E6-AF6A-48C4-A689-C4023390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975-B478-4031-83E0-4A280A3C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D48-80DB-4479-9F82-99251D8F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FE4-EBD0-4385-B6B2-711C0A0B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8EC-226C-4B08-85E0-D82AA96A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938-2BAA-48D4-B075-9E0E0F64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D9B-2933-4E7A-A846-02A2EBF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409-1CF4-4406-BDC5-D2B726F4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C27-8E37-47A6-934A-350D4EB6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BFB-4219-4377-9D0D-61728784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D6D-42FD-410B-B283-DE8C26D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69B-34BF-4B0B-B04C-6DB6C3B57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60400" y="809640"/>
          <a:ext cx="618804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809640"/>
                    <a:ext cx="618804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794240" y="36360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Liquid saturation in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2440" y="5211720"/>
            <a:ext cx="584676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VD ‘liquid dropout curve’ is perhaps the most familiar PVT property of a condensate fluid, but it has little direct impact on reservoir and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CVD data, it is much more important to match the gas Z-factor and C7+ fraction in produced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Net revaporization of retrograde condensate starts only at very low pressures (&lt;50 bar). It does not start when the liquid volume starts dropping (e.g. 140 bar above), as this drop is related to solution gas coming out of solution from the retrograde condensate (‘shrinkage’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3-08-18T10:10:25Z</dcterms:modified>
  <cp:revision>64</cp:revision>
  <dc:subject/>
  <dc:title>PowerPoint Presentation</dc:title>
</cp:coreProperties>
</file>