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3019-CB7F-4D88-B6A2-176619B38FE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3732-2EF9-43E5-AECF-EC15FFC4C0C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25760" y="5486400"/>
          <a:ext cx="3605040" cy="2819520"/>
        </p:xfrm>
        <a:graphic>
          <a:graphicData uri="http://schemas.openxmlformats.org/drawingml/2006/table">
            <a:tbl>
              <a:tblPr/>
              <a:tblGrid>
                <a:gridCol w="1471320"/>
                <a:gridCol w="213372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(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(Mscf/stb/c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38360" y="251460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038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lean gas condensate, the second term is very small and can be neglected (&lt; 1% in this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629400" cy="4398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ep 4. Calculate the pseudopressure integral – the area under the Gas mobility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v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Pressur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11480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his point estimated by extra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3360" y="4799160"/>
            <a:ext cx="1296720" cy="458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162920"/>
            <a:ext cx="6324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mobility vs pressure curve has a discontinuity at dew point pressure – need to allow for this when evaluating th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819520"/>
            <a:ext cx="37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as mobility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. Calculate the pseudopressure integ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2666520"/>
            <a:ext cx="5429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valuating the integral by the trapezoid rule giv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" y="3886200"/>
                <a:ext cx="1523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54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965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057400" y="411480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 25,117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psi.Mscf/rb/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48640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is gives a gas flow rate of 21.3 MMscf/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as flow rate from Sensor = 21.5 MMscf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5. Estimate the condensate blockage sk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calculate the gas mobility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(P) assuming krg=0.96, kro =0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pseudopressure integral is now 90,100 psi.Mscf/rb/cp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alculate the skin fro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4572000"/>
                <a:ext cx="4519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23880" y="58672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condensate blockage skin = 21.6. In practice, this is almost certainly too high as it ignores the effect of velocity-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Spreadsheet wi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w can we include the effect of velocity dependent rel pe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uess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his is needed to calculate veloc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or each pressure in the pseudopressure integral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radius by assuming P~ln(radiu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Darcy velocity at this radiu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capillary number (will also need IFT as a function of pressure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Adjust the krg vs krg/kro relationship using the Fevang-Whitson correlation (Ref 2)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alculate the pseudopressure integral and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epeat if gas production rate is very different from original gues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23880" y="65530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0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3800" y="457200"/>
            <a:ext cx="5810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seudopressure integral with velocity dependent rel p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55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403848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 vel-dep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7760" y="4495680"/>
            <a:ext cx="7596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00800"/>
            <a:ext cx="19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ith rock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05120" y="5714640"/>
            <a:ext cx="60948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73152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as production rate with velocity dependent rel perms is about 31 MMscf/d – a blockage skin of about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2438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52280" y="3505320"/>
            <a:ext cx="6553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r</a:t>
            </a:r>
            <a:r>
              <a:rPr b="0" i="1" lang="en-US" sz="28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= flowing OGR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ll other properties from PVT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4120"/>
            <a:ext cx="5943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fluid with rp = 26 stb/MMscf, dew point pressure = 3734 psi (estimated from PVT table).  This is the pressure at the outer edge of Region 1 (P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he equation only applies below the dew point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the dew point pressure, kro = 0 and krg/kro = infi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280" y="5334120"/>
            <a:ext cx="525780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71880" y="1905120"/>
          <a:ext cx="2514240" cy="3123720"/>
        </p:xfrm>
        <a:graphic>
          <a:graphicData uri="http://schemas.openxmlformats.org/drawingml/2006/table">
            <a:tbl>
              <a:tblPr/>
              <a:tblGrid>
                <a:gridCol w="1271160"/>
                <a:gridCol w="1243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. Estimate krg(P) from krg/kro and rel perm cur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62520" y="2057400"/>
          <a:ext cx="2895480" cy="274320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</a:tblGrid>
              <a:tr h="52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30240" y="5257800"/>
            <a:ext cx="4995720" cy="33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1828800"/>
          <a:ext cx="403848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03848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23760" y="2666880"/>
                <a:ext cx="5010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c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38360" y="601992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57200" y="41911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For field units, the conversion factor c is 0.001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53Z</dcterms:modified>
  <cp:revision>102</cp:revision>
  <dc:subject/>
  <dc:title>PowerPoint Presentation</dc:title>
</cp:coreProperties>
</file>