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D1B-3FE6-4118-A1D4-B2F05D56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17E-F7DF-42D0-A9F7-5F76D951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781-309A-48F4-9366-444E7DC0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251-58FC-4FC7-BFCA-E48BE382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DD1-91DD-47D2-BDFA-8918707A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B84-4170-4EED-8F0E-BA7EDE57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CB9-1EC5-4E8A-BCBC-A9AFE9B2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9EA-F014-425C-BE27-A82B5DC1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354-F164-4BFB-B9A6-1A467712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118-C9A2-465F-9671-455C488C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2C4-B800-4D6F-821E-86709783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9B7-63B4-4F42-9629-F16BFEA3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0ECD-D5EC-48B5-9FD4-986154B5933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002E-7C27-475B-B7C3-74F84CA3FDA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..%5CGas-Papers/Fetkovich-Simplified-Water-Influx.pdf" TargetMode="External"/><Relationship Id="rId3" Type="http://schemas.openxmlformats.org/officeDocument/2006/relationships/hyperlink" Target="file:///..%5CGas-Papers/Fetkovich-Simplified-Water-Influx.pdf" TargetMode="External"/><Relationship Id="rId4" Type="http://schemas.openxmlformats.org/officeDocument/2006/relationships/hyperlink" Target="file:///Havlena-Odeh.pdf" TargetMode="External"/><Relationship Id="rId5" Type="http://schemas.openxmlformats.org/officeDocument/2006/relationships/hyperlink" Target="file:///spe22921-Fetkovich-Reese-Whitson.pdf" TargetMode="External"/><Relationship Id="rId6" Type="http://schemas.openxmlformats.org/officeDocument/2006/relationships/hyperlink" Target="file:///Stewart-Multiwell-pz-analysis.pdf" TargetMode="External"/><Relationship Id="rId7" Type="http://schemas.openxmlformats.org/officeDocument/2006/relationships/hyperlink" Target="file:///Production-Forecasting.xls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874440" y="20628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Material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856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0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51040" y="4516560"/>
                <a:ext cx="5459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8B8-D9CD-4FC4-8843-6FF728416D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D1976-776F-40C2-BE5A-F0B9F8EAC32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Fetkovich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, Simplified Water In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tewart, Multiwell p/z Analysi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828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40040"/>
            <a:ext cx="6324480" cy="585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597-F7D6-48CD-96D0-FEF1808A0B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9E803-FAAE-4F6F-92B7-FF467DF99A8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29Z</dcterms:modified>
  <cp:revision>96</cp:revision>
  <dc:subject/>
  <dc:title>PowerPoint Presentation</dc:title>
</cp:coreProperties>
</file>