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AA1-4EBC-4880-B296-5D2BBF11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849-08D7-42CF-A34D-C02E2036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F22-AE6D-435C-9E3F-85CF2D75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850-2DDA-4315-A02B-03DA2193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4E6-BA68-44EF-91B8-8A0E72C4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B27-60E1-4EF2-B08D-733F1336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01B-2FB4-4713-9338-839A220C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207-0B17-4FF5-B7A6-679AB7DF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0E1-5B48-410E-B169-C5985378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F88-2581-42EA-A241-A9DE64DE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470-E6E4-430F-88A3-01E8C27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5DB-33DF-4823-8751-84EDED8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D312-61B5-4F97-A2C5-3178B1D97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Havlena-Odeh.pd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runs-Fetkovich, Effect of Water Influx on p/z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Robert Mott</cp:lastModifiedBy>
  <dcterms:modified xsi:type="dcterms:W3CDTF">2004-02-13T17:24:27Z</dcterms:modified>
  <cp:revision>7</cp:revision>
  <dc:subject/>
  <dc:title>Other e-note links</dc:title>
</cp:coreProperties>
</file>