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BFC8-4A59-46B6-B9BB-1CEEC8D0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D88F-5030-4AD0-89BD-AB806FD2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77E8-39C2-4D76-AF0E-0DBDE2EA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A186-49E2-4A50-86C3-821D08DF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EDAC-08DA-4158-BBEF-1023DB93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16DD-9F13-49D5-822A-6C8C436E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9CA3-DAD1-4541-8A21-4A31A611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1070-8FE5-49BE-AD91-F8ECE29F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4715-825E-4253-9115-082FB805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93CB-62FC-4254-B252-0FB842DC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F7B7-2AFB-4227-82A1-0992D90C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1F8E-385A-4E42-9DB7-119780C9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7D46-5E42-4744-84D6-48174BE8E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80880"/>
            <a:ext cx="8686800" cy="62341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material balance for simple depletion defines the relation between average reservoir pressure and cumulative gas produc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straight-line MB assumes negligible water&amp;rock expansion &amp; aquifer influx. A plot of p/Z vs Gp (cum. gas produced) is a straight line with (p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/Z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) as intercept and slope given by (p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/Z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)/G, where G is the initial gas in place (IGIP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An important use of the material balance is to estimate IGIP from historical pressure and cumulative production da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When water expansion and/or aquifer encroachment are important, the material balance calculation is more complex and may require an iterative solution to find the fundamental relation between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cumulative production and pressure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Comic Sans MS"/>
              </a:rPr>
              <a:t>Water expansion and water encroachment delay the decline in reservoir pressure due to gas production, resulting in sustained higher well deliverability (for a given G</a:t>
            </a:r>
            <a:r>
              <a:rPr b="0" lang="en-GB" sz="1600" spc="-1" strike="noStrike" baseline="-25000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GB" sz="1600" spc="-1" strike="noStrike">
                <a:solidFill>
                  <a:srgbClr val="3333cc"/>
                </a:solidFill>
                <a:latin typeface="Comic Sans MS"/>
              </a:rPr>
              <a:t>). Water breakthrough often marks the end of life for a gas well. For a number of reasons, the ultimate recovery may be lower for reservoirs with strong aquif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50021"/>
                </a:solidFill>
                <a:latin typeface="Comic Sans MS"/>
              </a:rPr>
              <a:t>Layered no-crossflow reservoirs show an early drop in p/Z followed by a longer period of slowly-decreasing (near-constant) p/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URTIS</cp:lastModifiedBy>
  <dcterms:modified xsi:type="dcterms:W3CDTF">2003-09-11T08:11:33Z</dcterms:modified>
  <cp:revision>23</cp:revision>
  <dc:subject/>
  <dc:title>PowerPoint Presentation</dc:title>
</cp:coreProperties>
</file>