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F19B-2282-47F5-B721-8809C8B8E1E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F7E1-0AE5-4D4D-A1DF-1F85A3602BA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5480" y="304920"/>
            <a:ext cx="59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umber of wel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86400"/>
            <a:ext cx="60962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ost of the pressure drop (84 – 97% is in the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diameter is the most important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and skin have a smaller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60962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6 (with 38 w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able pressure drops in reservoir and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is the most important parameter, but aquifer size and tubing are also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280" y="30492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94% of the pressure drop is in th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has a major impact on performance. Aquifer and tubing size have very littl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1080" y="30492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5:21Z</dcterms:modified>
  <cp:revision>90</cp:revision>
  <dc:subject/>
  <dc:title>PowerPoint Presentation</dc:title>
</cp:coreProperties>
</file>