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C1A1-E701-410F-8C3C-C2819B4FFC2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4A1B-584B-4DBD-B7D6-60E532E5360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04:26Z</dcterms:modified>
  <cp:revision>89</cp:revision>
  <dc:subject/>
  <dc:title>PowerPoint Presentation</dc:title>
</cp:coreProperties>
</file>