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032-9A74-4932-984B-F0034BE4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365-4839-486E-9858-DEC53334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DC9-BD33-4967-8646-BD24D54D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364-7401-4A21-BED7-40087917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E27-8D0A-4FA4-A0AB-0311E101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2EF-980B-4291-80D7-9F950F88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4CF-CC21-4BB6-9E4D-6336BA89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B13-1AB7-41E4-9B6F-340004B7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7E1-7E26-447E-8497-F2015DA1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C5E-8922-4110-AABD-C9B63CFF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D1F-247B-489D-B87C-CD2D6A1B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2C9-5C24-476A-BF1E-DF7FB761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A22A-454C-4B47-893F-4AD7BA9E4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40:13Z</dcterms:modified>
  <cp:revision>20</cp:revision>
  <dc:subject/>
  <dc:title>PowerPoint Presentation</dc:title>
</cp:coreProperties>
</file>