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703-A3A3-443D-83A7-F7CB2B20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032-4E64-48AF-A31E-6E5910A3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694-C9AE-44AE-9C00-9C91DFB6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F50-B174-4E83-B7F3-3DB895C5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1F6-E33C-4F6A-8052-C618A91D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84B-6E70-4600-8E9D-2B23C046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381-BAFD-46D3-9B2A-8886DE60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4F9-934A-44B6-9D3A-D25257FA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05B-0D80-4667-9EA4-1D1CD2A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05C-A763-402C-B482-F976A44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BB9-3C65-411E-9540-B4370B15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FC6-A2F0-4BD1-805E-ECAA93FB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D3C1-4798-40C9-85F2-BF1FB92B5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0000"/>
            <a:ext cx="8686800" cy="594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 Region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ccurate yet simple model of a gas condensate well undergoing depletion consists of thre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n inner near-wellbore region where both gas and oil flow simultaneously (at different velocit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of condensate buildup where only gas is f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3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containing single phase (original) reservoir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given producing condition, one, two, or all three regions may exist. These three regions define ‘pseudo steady-state’ flow conditions, meaning that they represent steady-state conditions at a given time but that the conditions change gradually during de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2:58:46Z</dcterms:modified>
  <cp:revision>18</cp:revision>
  <dc:subject/>
  <dc:title>PowerPoint Presentation</dc:title>
</cp:coreProperties>
</file>