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3F6-3260-4B45-8FB7-EC7DBF64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A46-2EAD-4741-B035-965DF34F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BC6-4752-4D04-8EB2-9BF696F9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BD7-174E-4D13-9683-538443F9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5F6-AA46-4585-9F58-1BA067EC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3CE-2FAA-46CB-9F6B-8BFEAA1D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719-B2DA-422F-ACF7-6D8F2078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D93-9BE0-4900-BAB7-A1C14582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DCA-07A9-4791-8324-A05277F6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126-80B2-41E3-87F6-AAF8D7D5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7AD-62C9-438B-85B5-62B3453E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923-CE7D-4751-9E21-E5143019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479E-2B32-40A3-8FA0-8FAB05B12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080" y="380880"/>
            <a:ext cx="5397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ivity Index from Arun lean gas condensat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(from SPE 28749)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3400" y="6450120"/>
            <a:ext cx="471240" cy="1100160"/>
          </a:xfrm>
          <a:prstGeom prst="upArrow">
            <a:avLst>
              <a:gd name="adj1" fmla="val 50000"/>
              <a:gd name="adj2" fmla="val 58365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7280" y="1847880"/>
            <a:ext cx="5529600" cy="4575600"/>
            <a:chOff x="287280" y="1847880"/>
            <a:chExt cx="5529600" cy="4575600"/>
          </a:xfrm>
        </p:grpSpPr>
        <p:sp>
          <p:nvSpPr>
            <p:cNvPr id="45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7760" y="518004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00160" y="471492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7760" y="424800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77760" y="377964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7760" y="331452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7760" y="284796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7760" y="2382840"/>
              <a:ext cx="462744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7760" y="191448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052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74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48160" y="19288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70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907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9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36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57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7760" y="1914480"/>
              <a:ext cx="1440" cy="37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2840" y="5646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2840" y="51800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47149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2840" y="424800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377964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2840" y="33145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2840" y="2847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238284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19144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7760" y="5646600"/>
              <a:ext cx="462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6052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0274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4481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870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290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129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13336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557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77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608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7360" y="24606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90440" y="2527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62080" y="2340000"/>
              <a:ext cx="6480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34800" y="219852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6440" y="22478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952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52600" y="22478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95160" y="22921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824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1320" y="243360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2960" y="243360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4240" y="2198520"/>
              <a:ext cx="6660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7320" y="248112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600" y="257328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1680" y="2554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4760" y="25272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7840" y="261936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19120" y="2695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92200" y="269532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5280" y="280656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35120" y="3227400"/>
              <a:ext cx="666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08200" y="345888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81280" y="357192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63720" y="364644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472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28960" y="375768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1400" y="37400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93840" y="3813120"/>
              <a:ext cx="6372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6640" y="3813120"/>
              <a:ext cx="633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59080" y="38782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1520" y="388944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3960" y="388944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6760" y="391608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9200" y="39448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71640" y="3963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4440" y="397332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6880" y="40194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19320" y="4065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2120" y="4113000"/>
              <a:ext cx="6480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84560" y="407484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7000" y="4038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4002120"/>
              <a:ext cx="651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32240" y="398124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6480" y="396396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7120" y="3990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81360" y="405756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3800" y="40939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6600" y="411300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9040" y="418788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480" y="422568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94280" y="42624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1120" y="428148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6160" y="429876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00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9840" y="3973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6680" y="401940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2080" y="411300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640" y="558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7800" y="5113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880" y="4647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7800" y="4181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880" y="3714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800" y="3247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880" y="2781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800" y="23158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880" y="1847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488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9780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784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40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1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33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55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7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5960" y="6118200"/>
              <a:ext cx="292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Reservoir pressure (p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-662760" y="3681000"/>
              <a:ext cx="22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ductivity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93640" y="7227720"/>
            <a:ext cx="5749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Productivity Index falls by 50% when </a:t>
            </a:r>
            <a:r>
              <a:rPr b="0" lang="en-GB" sz="1800" spc="-1" strike="noStrike" u="sng">
                <a:solidFill>
                  <a:srgbClr val="0033cc"/>
                </a:solidFill>
                <a:uFillTx/>
                <a:latin typeface="Comic Sans MS"/>
              </a:rPr>
              <a:t>BHP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 falls below dew point pressure and condensate blockage occurs. Condensate blockage starts before reservoir pressure falls below dew po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4649760"/>
            <a:ext cx="1265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Dew point 4400 p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0000" y="5303880"/>
            <a:ext cx="193680" cy="345960"/>
          </a:xfrm>
          <a:prstGeom prst="downArrow">
            <a:avLst>
              <a:gd name="adj1" fmla="val 50000"/>
              <a:gd name="adj2" fmla="val 44656"/>
            </a:avLst>
          </a:prstGeom>
          <a:solidFill>
            <a:srgbClr val="0033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3-09-09T13:51:30Z</dcterms:modified>
  <cp:revision>77</cp:revision>
  <dc:subject/>
  <dc:title>PowerPoint Presentation</dc:title>
</cp:coreProperties>
</file>