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BB1B-47C9-485B-9FF2-AD6D1E63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0D97-AD61-4EFA-BF28-37881872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3DC4-A6A3-45C6-8247-FB2F935D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5325-BE45-4E48-9B28-0AB3F3C1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2904-AE25-4800-A2E5-7EB047F0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CEB9-8CDC-4AB9-BEE1-12A9C382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8C47-7065-4E2A-A8B8-C6F89793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D3C0-28F6-4035-A6EB-6333EBFF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60BD-37A1-417F-87C4-187E91CB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EF86-5392-4ED6-B001-54F99481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7470-3B65-486D-8330-A7F9C02F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8B81-1E96-4BE5-B4D4-568C5056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7AF1-8AC2-4940-B1B1-9ABABF198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8120" y="3271680"/>
            <a:ext cx="5981760" cy="28029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 = condensate blockage ski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relative permeability outside near-well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(blockage)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gb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relative permeability in near-well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(blockage)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uter radius of blockage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wellbore rad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152280"/>
            <a:ext cx="628632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Estimating skin due to condensate blo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987480" y="1143000"/>
                <a:ext cx="434664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g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gb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3-08-01T08:32:21Z</dcterms:modified>
  <cp:revision>12</cp:revision>
  <dc:subject/>
  <dc:title>PowerPoint Presentation</dc:title>
</cp:coreProperties>
</file>