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CC5B-5D36-4435-82BD-582722A9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494B-40AB-43AD-8B6A-9B117509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2551-3B3E-49CE-BCB5-FD835D35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FFFD-522D-46D2-A766-DC8DF235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2FF6-214E-426F-901F-C474EF5B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8D04-B2AC-4191-BDCF-1EE27E9F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09EE-A842-4F42-8267-EA782125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A76F-8B53-46E1-B7FD-0ACE6491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2366-AE19-4869-9C2F-7589CEB3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BFEC-FCB8-4E0E-8C04-8E7CB500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7B98-F3B2-41F4-A939-F1712E7F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2214-79F1-45AE-81F4-8261B3FE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F956-1BAC-439F-8367-058B13D99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krg/kro from PVT data for a rich gas condens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657600"/>
            <a:ext cx="2209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 near-well region,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1 &lt; krg/kro &lt;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34290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5551"/>
          <a:stretch/>
        </p:blipFill>
        <p:spPr>
          <a:xfrm>
            <a:off x="434880" y="1600200"/>
            <a:ext cx="8272440" cy="4800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mmiscible-type Data (from SPE 5647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4840" y="914400"/>
            <a:ext cx="8194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6:48:54Z</dcterms:modified>
  <cp:revision>18</cp:revision>
  <dc:subject/>
  <dc:title>PowerPoint Presentation</dc:title>
</cp:coreProperties>
</file>