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1F9B-96B8-4712-A430-1DF0CED2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1DA-54F9-4382-8D74-487D1C2C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12A-0767-42D7-A743-54180F40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539B-1FCA-4375-B099-520ABD01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CAD-6BB8-4CE7-9480-D1FBB0C5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2AB-B6E9-4A10-BD8C-9C7B30EA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079B-382B-4346-90E2-483FF986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F42-A6B8-41FC-9515-CC491BD9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34B-CD33-4B9D-B2EF-9A227679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13F5-DC9D-4193-876A-79C1A797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7DD-0AA9-4125-B26C-EC29AE69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7A0C-4D56-404E-8F51-69C23E1D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F0A5-8F22-4CDF-9C8D-D2D6D482D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rg/kro from PVT data for a rich gas condens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2209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 near-well region,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1 &lt; krg/kro &lt;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34290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434880" y="1600200"/>
            <a:ext cx="8272440" cy="4800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mmiscible-type Data (from SPE 564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4840" y="914400"/>
            <a:ext cx="8194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6:48:54Z</dcterms:modified>
  <cp:revision>18</cp:revision>
  <dc:subject/>
  <dc:title>PowerPoint Presentation</dc:title>
</cp:coreProperties>
</file>