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8253-843A-4B7E-8B00-CAEEED647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31BA-3BCC-4560-83FC-ED388985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0EE5-06AB-40F9-9CB2-5A4809B9D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8291-F218-45E0-B83E-FCF25499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3DE9-6DB3-4924-91AA-9635DC35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EC3C-DACD-4558-99E9-2A6BDD84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23E1-CCCA-43A4-B49B-124644FB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03DD-7C2F-4E25-9F5E-F0679899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62BD-E9A5-4B10-AE5F-C2767ACE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44FC-9C5A-420E-B3D5-F10EE823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7CA7-D8A7-42C5-934A-C9BD1502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6E92-53C3-4389-9EB9-9AB632A4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E29B-7623-4AD7-BA68-386B671C9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atching flowing bottom hole pressure data from a multi-rate well test using single well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382240" cy="5064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057400" y="1905120"/>
            <a:ext cx="2286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Simulation (including capillary no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358128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iel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6019920" y="4495680"/>
            <a:ext cx="380880" cy="7632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4267080"/>
            <a:ext cx="2286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imulation (no capillary no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1599840" y="3429000"/>
            <a:ext cx="304920" cy="457200"/>
          </a:xfrm>
          <a:prstGeom prst="line">
            <a:avLst/>
          </a:prstGeom>
          <a:ln w="2232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828800" y="2590920"/>
            <a:ext cx="533520" cy="60948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39:06Z</dcterms:modified>
  <cp:revision>21</cp:revision>
  <dc:subject/>
  <dc:title>PowerPoint Presentation</dc:title>
</cp:coreProperties>
</file>