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C79E-270A-4C0E-A836-5A4605E3C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FDFD-D898-4195-AEEE-AB8303F88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824F-5CC2-4810-A92D-103329DCE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3A3F-E8D5-49CE-81C6-DC009172E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52E2-2C86-4DDF-88E6-B6F4A2C06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8ECC-8E12-4D6D-AE5C-94703DEDF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8D98-6CEB-488F-B3DF-E9AD5AC5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551E-8115-4489-A4D9-B7D8B3FBB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8C14-171F-430E-897F-C411B291D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E465-FEFC-459A-83B4-EC7DFB77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B903-127C-45E3-B71C-ABBE79D0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61CA-070A-4EAD-9767-19C23ABE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A4F16-4AE4-4AD9-AC92-38A4E76F8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9880" y="30492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atching flowing bottom hole pressure data from a multi-rate well test using single well s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382240" cy="5064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057400" y="1905120"/>
            <a:ext cx="2286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Simulation (including capillary no effec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05120" y="358128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Fiel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 flipV="1">
            <a:off x="6019920" y="4495680"/>
            <a:ext cx="380880" cy="7632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24480" y="4267080"/>
            <a:ext cx="2286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imulation (no capillary no effec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1599840" y="3429000"/>
            <a:ext cx="304920" cy="457200"/>
          </a:xfrm>
          <a:prstGeom prst="line">
            <a:avLst/>
          </a:prstGeom>
          <a:ln w="2232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1828800" y="2590920"/>
            <a:ext cx="533520" cy="609480"/>
          </a:xfrm>
          <a:prstGeom prst="line">
            <a:avLst/>
          </a:prstGeom>
          <a:ln w="2232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3T13:39:06Z</dcterms:modified>
  <cp:revision>21</cp:revision>
  <dc:subject/>
  <dc:title>PowerPoint Presentation</dc:title>
</cp:coreProperties>
</file>