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9E87-6F10-4A53-84F2-7AF4AEAE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B15-CB4C-49D1-8DBE-AA3C4148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5EFC-E49C-4EA3-89D2-AEE7ED56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24D7-0D8C-44FD-8FE5-DC398FAB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3BD3-1826-4751-A044-13DD08D2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2261-E08C-48B2-AA77-0CDADBF4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AA1-8AAC-4FE8-B562-7CF5C12F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3B6D-4DDC-453B-A682-81D22297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0FCC-D720-47AB-887F-19752219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5BBD-36A0-43AE-95EF-6A681E92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083E-FDA5-4959-A80E-45AA1352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B800-E0E1-4277-9EAA-B4432D45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09F7-440D-48B4-B212-45167D2EC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e-note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Material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Blo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CHW</cp:lastModifiedBy>
  <dcterms:modified xsi:type="dcterms:W3CDTF">2003-08-17T11:50:44Z</dcterms:modified>
  <cp:revision>1</cp:revision>
  <dc:subject/>
  <dc:title>Other e-note links</dc:title>
</cp:coreProperties>
</file>