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259CF-91AD-4268-ABB0-E14350D1E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4F8B9-E8DA-409D-9F07-EA760E511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F6E17-5C51-4D93-AB9C-421B53C45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B59EC-59C2-4D9B-ADA5-250A9CD17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8AED4-8880-4B8B-A635-EE3B5D2C1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1B559-861C-455F-976B-8B0C3AC14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1D4D8-DBC5-4CC3-8817-24BBEA134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B8016-11C8-445C-95BD-98CD91CA2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2A0D2-FAB9-4776-9738-86722FEB6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42986-CAB2-4E1F-9EE6-6C79A9D33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A5DD2-72A3-4BC7-B829-77965598E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44DDF-49A0-4C8C-BD94-9BD4B205A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E846-5DE1-479F-81A8-CB17CD914D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380880"/>
            <a:ext cx="8686800" cy="6316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CE &amp; CVD laboratory data provide the necessary information to define the material balance relations of a gas condensate reservoir.</a:t>
            </a:r>
            <a:endParaRPr b="0" lang="en-US" sz="1600" spc="-1" strike="noStrike">
              <a:solidFill>
                <a:srgbClr val="000000"/>
              </a:solidFill>
              <a:latin typeface="Times New Roman"/>
            </a:endParaRPr>
          </a:p>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600" spc="-1" strike="noStrike" baseline="-25000">
                <a:solidFill>
                  <a:srgbClr val="0033cc"/>
                </a:solidFill>
                <a:latin typeface="Comic Sans MS"/>
              </a:rPr>
              <a:t>gw</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gd</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o</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the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relation is independent of assumptions regarding water expansion &amp; influx.</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600" spc="-1" strike="noStrike">
                <a:solidFill>
                  <a:srgbClr val="a50021"/>
                </a:solidFill>
                <a:latin typeface="Comic Sans MS"/>
              </a:rPr>
              <a:t>cumulative production (RF) and pressure</a:t>
            </a:r>
            <a:r>
              <a:rPr b="0" lang="en-US" sz="1600" spc="-1" strike="noStrike">
                <a:solidFill>
                  <a:srgbClr val="a50021"/>
                </a:solidFill>
                <a:latin typeface="Comic Sans MS"/>
              </a:rPr>
              <a:t>.</a:t>
            </a:r>
            <a:endParaRPr b="0" lang="en-US" sz="1600" spc="-1" strike="noStrike">
              <a:solidFill>
                <a:srgbClr val="000000"/>
              </a:solidFill>
              <a:latin typeface="Times New Roman"/>
            </a:endParaRPr>
          </a:p>
          <a:p>
            <a:pPr marL="512640" indent="-457200">
              <a:lnSpc>
                <a:spcPct val="13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rPr>
              <a:t>The “2-phase” Z-factor (Z</a:t>
            </a:r>
            <a:r>
              <a:rPr b="0" lang="en-GB" sz="1600" spc="-1" strike="noStrike" baseline="-25000">
                <a:solidFill>
                  <a:srgbClr val="3333cc"/>
                </a:solidFill>
                <a:latin typeface="Comic Sans MS"/>
              </a:rPr>
              <a:t>2</a:t>
            </a:r>
            <a:r>
              <a:rPr b="0" lang="en-GB" sz="16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600" spc="-1" strike="noStrike">
                <a:solidFill>
                  <a:srgbClr val="3333cc"/>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17T17:01:48Z</dcterms:modified>
  <cp:revision>17</cp:revision>
  <dc:subject/>
  <dc:title>PowerPoint Presentation</dc:title>
</cp:coreProperties>
</file>