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5BE-C00C-49FA-9DBF-147E208B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71E-8612-42A5-9236-FE35E02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FA6-EB5B-44D2-90FE-48C81B61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F6A-BA98-44AE-9341-CC4869AE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51C-EC99-46F0-B5D7-AC5238A9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855-35BA-4703-B722-5EE03A8E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132-871F-4444-9C40-97A8FF57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AC8-7E4C-4970-832D-A51D3545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451-AE13-407C-8EE6-79A11830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A67-B9C7-44E6-9DE0-B1526CD1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D54-B7EA-4AD5-B5ED-C11C920F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10E-993C-4DAC-BDA2-1AA0B32C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F6E6-647B-4837-B86C-A0F73947A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27936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eneralized krg/kro plot based on Corey rel per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5016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231920"/>
            <a:ext cx="6810480" cy="521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13160" y="742464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7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2T09:26:22Z</dcterms:modified>
  <cp:revision>78</cp:revision>
  <dc:subject/>
  <dc:title>PowerPoint Presentation</dc:title>
</cp:coreProperties>
</file>