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C375-9BA9-4D5C-94D2-90002AA3562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4946-7063-4102-A3FD-4B53858290B5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2528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and gas recovery from a gas condensate reservoir produced by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as a function of reservoir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4038480"/>
            <a:ext cx="5413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calculations use results from CCE and CVD exp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results assume no aquifer influx and ignore the effect of rock and water compres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y also assume that the condensate phase is immobile in the reservoir. This is a reasonable assumption for almost all gas condensate fluids (except in the near-well region, and this does not affect ultimate recove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9720" y="30492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atement of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066680"/>
            <a:ext cx="60246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itial reservoir pressure = 500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fractional recovery of oil and condensate, assuming that the reservoir pressure at abandonment =  1200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fine recoveries in terms of volumes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ssume that the ‘condensate’ is the C6+ fraction of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ich data have the most impact on liquid recovery and gas recover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producing CGR as a function of reservoi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VT data for this problem are taken from the 3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98840" y="53352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0760" y="16002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w point pressure = 3428 psig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616120"/>
          <a:ext cx="5867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16120"/>
                    <a:ext cx="5867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5880" y="74674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89480" y="53352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400" y="769608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C6 MW = 86, and C6 SG = 0.65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480" y="1447920"/>
          <a:ext cx="6629400" cy="57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447920"/>
                    <a:ext cx="6629400" cy="57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09:59:58Z</dcterms:modified>
  <cp:revision>96</cp:revision>
  <dc:subject/>
  <dc:title>PowerPoint Presentation</dc:title>
</cp:coreProperties>
</file>