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272B-0D5E-4546-97AD-46B7CDDD0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80FA-D50F-4F3E-B67F-8D28EA4CD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E859-AE32-4EE9-8F89-AF0C7B5DA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10E1-4EBB-4368-A150-4E2E35BFE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8287-2347-4EE7-AC0B-8C818EE58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AD07-5FD4-4353-B7D6-8677CE2A1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60FC-30C8-4DCA-B269-749D7C22E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DCD2-0D96-45F2-AD24-65068AFA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A6B9-FCA6-4D35-B940-0B1DB3393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8F97-9854-4DC5-A117-18E12C2D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BCC0-45C1-4A66-AD0A-BFEB6A93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CB66-B47F-4555-981A-3BF55479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F0DC5-4B1B-4152-815C-18F8A59AA7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806400"/>
            <a:ext cx="8534160" cy="5243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2480" y="380880"/>
            <a:ext cx="8956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Semilog plot of SCN mole fraction versus Carbon Nu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0T17:15:21Z</dcterms:modified>
  <cp:revision>19</cp:revision>
  <dc:subject/>
  <dc:title>PowerPoint Presentation</dc:title>
</cp:coreProperties>
</file>