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370-05EA-44F7-985D-EA636C17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F73-6599-4F58-B85B-C7F7689E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0FE-BD21-4617-BF14-7F63F2EB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33E-F8D6-4753-BC38-1F53CFE1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906-61D2-499F-BBBC-1D50FF2F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660-82E4-4D11-9053-812F9FA2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DE9-B019-43DC-A10D-7500D741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EFA-9ADC-4772-8016-3A9620EA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15C-43F2-463F-B55E-16AA1945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F0A8-1556-459E-9C21-FC4ACB7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96B-0FBC-465F-9C81-1C1FC62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D7D-BF73-48EB-BF4A-5C7DBFF5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96E1-D2E5-4AAE-8CD9-683B25703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Fig1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763120" cy="61034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 Dry Gas engineering 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except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Retrograde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ndensation impacts condensate recovery and well deliverability (i.e. economics)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09T09:09:51Z</dcterms:modified>
  <cp:revision>12</cp:revision>
  <dc:subject/>
  <dc:title>PowerPoint Presentation</dc:title>
</cp:coreProperties>
</file>