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14F-C7AA-4293-BEC6-D1B7A540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7DB-CB9E-4121-B382-A4ADD38C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83D-0162-4677-B56B-7A892742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4C2-71D2-4E12-81F8-50194868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EFD-6813-4FF3-8DE5-571DCCBB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470-7E01-4BB3-9292-2D8C329F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ABD-C86A-4C2B-863B-198703C4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7FA-EBA9-43A3-A725-48A0CCDC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87F-7551-4CB4-B885-C23C7A6C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ED2-D66D-4A4A-BF31-CD067CE1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5C6-764E-46F1-868C-56D28B53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001-413C-4CF0-9525-0840D396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0EB7-76B4-454F-8B83-A622E6BA1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mple radial simulation model results in 10 md reservoir – condensate blockage has a major impact on on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3080" y="1371600"/>
            <a:ext cx="8458200" cy="519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29600" y="60958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mple radial simulation model results in 100 md reservoir – condensate blockage has little impact on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79250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15:36:41Z</dcterms:modified>
  <cp:revision>21</cp:revision>
  <dc:subject/>
  <dc:title>PowerPoint Presentation</dc:title>
</cp:coreProperties>
</file>