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B3A5-7BD5-48A2-89E0-047479649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F60D-D7AD-4A62-9747-5E1D42CF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DCEB-DE50-43FA-B4D9-0A67F7B03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0387-CDBA-49A5-9436-E25668380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DF50-3556-45A5-A496-96F3AE9B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AA4A-83DB-4590-8235-70FE34C8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D4E6-E715-4673-AD69-CE9C0BA9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3FCB-E72B-4C56-98BD-449E1120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7D02-1586-4B54-8930-2A4C6520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8723-9D62-4B4A-8D37-914DCF37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1AD4-06C5-4F02-AEBD-46657A07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1903-0BAE-49D3-A1E3-BCAF8EF5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98CF-4FCF-4A23-8A45-DC6087EE8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64160" y="228600"/>
            <a:ext cx="53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Oil and gas recoveries calcu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from CCE and CV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139760"/>
            <a:ext cx="930744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4-01-19T17:13:53Z</dcterms:modified>
  <cp:revision>5</cp:revision>
  <dc:subject/>
  <dc:title>PowerPoint Presentation</dc:title>
</cp:coreProperties>
</file>