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7F9A-E53F-4380-B8E4-1F0344D89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332B-CD01-4321-92F8-C8C94812E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8D68-4D3B-4711-A4FC-D90F148F5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53D4-18B7-49AE-A742-5AE8373C8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46ED-AAC4-4467-8DA6-A21049A3F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E68D-60AE-4013-A142-05D7160C2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B31F-4D0D-4D85-907D-932B0317D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517A-5F4D-4E47-B079-651938665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DB05-DF59-489E-8D92-B1DB50CF1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E4AF-B965-47E0-B253-BE7275F6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7973-C2AC-4DBD-9AB9-998C8F43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26B8-8BD6-40AB-A72F-EAE02244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E5FF2-1FD6-4D3D-A38B-D69295DC7F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819000"/>
            <a:ext cx="8610480" cy="578736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Gas field development involves the optimal selection of </a:t>
            </a:r>
            <a:r>
              <a:rPr b="0" i="1" lang="en-US" sz="1600" spc="-1" strike="noStrike" u="sng">
                <a:solidFill>
                  <a:srgbClr val="0033cc"/>
                </a:solidFill>
                <a:uFillTx/>
                <a:latin typeface="Comic Sans MS"/>
              </a:rPr>
              <a:t>well number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, </a:t>
            </a:r>
            <a:r>
              <a:rPr b="0" i="1" lang="en-US" sz="1600" spc="-1" strike="noStrike" u="sng">
                <a:solidFill>
                  <a:srgbClr val="0033cc"/>
                </a:solidFill>
                <a:uFillTx/>
                <a:latin typeface="Comic Sans MS"/>
              </a:rPr>
              <a:t>well placement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, </a:t>
            </a:r>
            <a:r>
              <a:rPr b="0" i="1" lang="en-US" sz="1600" spc="-1" strike="noStrike" u="sng">
                <a:solidFill>
                  <a:srgbClr val="0033cc"/>
                </a:solidFill>
                <a:uFillTx/>
                <a:latin typeface="Comic Sans MS"/>
              </a:rPr>
              <a:t>well tubing size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, 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and </a:t>
            </a:r>
            <a:r>
              <a:rPr b="0" i="1" lang="en-US" sz="1600" spc="-1" strike="noStrike" u="sng">
                <a:solidFill>
                  <a:srgbClr val="0033cc"/>
                </a:solidFill>
                <a:uFillTx/>
                <a:latin typeface="Comic Sans MS"/>
              </a:rPr>
              <a:t>pipeline characteristics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to deliver a specified contract rate (DCQ - daily contract quota) and specified contractual (plateau) perio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The engineering tools required are (a) reservoir material balance(s); (b) well rate equations for reservoir and tubing; and (c) pipeline rate equations. Reservoir simulation is often not necessary, but may be conveni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Data acquisition is needed early to estimate key parameters in the calculations mentioned in (2). These include core data, log interpretation, geologic mapping, and well tes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Field gas rate ‘swing’ considerations may be important, accounting for a seasonal variation in production rate demand (maximum in winter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Compression design may be important during the contractual period, but almost certainly during the decline period of produc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Uncertainty analysis should focus on the parameters which are known to be important and known to be uncertain (IGIP, kh, skin, aquifer strength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CHW</cp:lastModifiedBy>
  <dcterms:modified xsi:type="dcterms:W3CDTF">2003-08-22T08:09:12Z</dcterms:modified>
  <cp:revision>9</cp:revision>
  <dc:subject/>
  <dc:title>PowerPoint Presentation</dc:title>
</cp:coreProperties>
</file>