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587-627A-4889-8A3A-9B473119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385-EEA6-463B-8308-D58B59FC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EF2-DE43-462B-8D5A-BA122165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075-AE78-40B7-9BC3-A42FDDE2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B4B-7D42-4EA0-8792-F0420C1C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A36-4178-4426-80AD-28024434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D05-31AA-4937-9E0A-13AADB16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56E-8EC9-4AB6-A599-DDF5F5A4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488-BDB3-4C84-A26A-64273BEA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2E0-4C29-4222-BB1E-488346E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3A6-F1A5-47AC-A77A-14BFF552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304-A680-437E-B4A7-95D43BC4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ADF1-3708-46A9-B14A-673C7C478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5487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1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9:08:06Z</dcterms:modified>
  <cp:revision>25</cp:revision>
  <dc:subject/>
  <dc:title>PowerPoint Presentation</dc:title>
</cp:coreProperties>
</file>