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4ED-567D-40B1-9E17-F96F2F10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062-C30C-4E4A-88BC-0EC53FA9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34B-30AC-4AF9-AF1F-E5DC514B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C51-E540-47F6-B1D8-7E1D6AC0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803-FF2A-4323-9EFF-5B8E1940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10B-ED6F-4B07-8E04-6732A680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7BF-E12F-4DAC-A6A2-82155476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412-E30A-488E-843B-544044C3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40D-11B0-4E9A-8DD8-3822DB0F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AFA-9703-4599-B77B-03EC8D7A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5922-90E2-4811-9A53-2E1438BB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F19-9FD3-4EBF-91CD-C2154823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F7A5-FB0D-4DE6-B10B-508F5344B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23:23:49Z</dcterms:modified>
  <cp:revision>2</cp:revision>
  <dc:subject/>
  <dc:title>Other e-note links</dc:title>
</cp:coreProperties>
</file>