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08D-F682-4384-A182-97C76BA6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42A-964B-4863-BD3A-563B435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2C6-E3D3-4768-885D-77255CC9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097-AD3D-423E-94AC-DAA46B7D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069-2D67-4549-BA5C-9AF2009F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160-CB38-4577-8C4D-85E84C24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95B-7CB9-4A71-B635-543BBF89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477-76B1-4418-B013-EB6D8335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954-1FCB-4499-95AF-F3925E21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8E6-35F0-43FE-9FC0-8B5EFC5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8EF-DE33-438B-9A3F-2814959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600-D637-4371-B46A-CC89183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2CE3-38B1-4F80-B02A-8C51705D8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504800" y="1933560"/>
                <a:ext cx="3225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666800" y="1309680"/>
                <a:ext cx="274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24040" y="3043080"/>
                <a:ext cx="264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17800" y="3613320"/>
                <a:ext cx="211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33720" y="4191120"/>
                <a:ext cx="190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85800" y="4991040"/>
            <a:ext cx="58672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rface gas rate, 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BHFP at surface datum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flowing pressure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tatic pressur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tubing temperature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Z-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diameter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rue vertical height,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pecific gravity, ai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erical (unit-related) consta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ch for the units above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1.62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375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107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Tubing VF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26:16Z</dcterms:created>
  <dc:creator>CHW</dc:creator>
  <dc:description/>
  <dc:language>en-US</dc:language>
  <cp:lastModifiedBy>CHW</cp:lastModifiedBy>
  <dcterms:modified xsi:type="dcterms:W3CDTF">2003-08-21T22:10:18Z</dcterms:modified>
  <cp:revision>5</cp:revision>
  <dc:subject/>
  <dc:title>PowerPoint Presentation</dc:title>
</cp:coreProperties>
</file>