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FD65-4BCC-4102-8190-DF47D3E38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3B16-B135-4E25-84B2-37F1BC49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418F-C943-458F-B567-41775B169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9325-963A-484F-BADE-9C0791C5B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16B7-4545-49A9-BBD3-4E61E56F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0158-4CF5-4A1F-9D87-024C5CE5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5EDB-3A7B-4A87-8144-332EEF81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F978-8198-48D8-B859-D2B5F306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D6DC-4CF9-4D4A-BDFA-3A31DDDD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3577-19A6-4894-9FBE-B97FEB71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B152-6A06-4664-A416-1E870BE7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EFC6-1CD1-4729-919F-C434B0F9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16E0-FA7D-4492-808A-270FA455D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Ex-1a.pdf" TargetMode="External"/><Relationship Id="rId2" Type="http://schemas.openxmlformats.org/officeDocument/2006/relationships/hyperlink" Target="file:///Ex-1.pdf" TargetMode="External"/><Relationship Id="rId3" Type="http://schemas.openxmlformats.org/officeDocument/2006/relationships/hyperlink" Target="file:///Ex-1.xls" TargetMode="External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401760"/>
            <a:ext cx="6286320" cy="106956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cc"/>
                </a:solidFill>
                <a:latin typeface="Comic Sans MS"/>
              </a:rPr>
              <a:t>Golan-Whitson, Well Performanc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cc"/>
                </a:solidFill>
                <a:latin typeface="Comic Sans MS"/>
              </a:rPr>
              <a:t>Example 2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38520" y="1676520"/>
            <a:ext cx="33444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Short Problem 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75160" y="2378160"/>
            <a:ext cx="34664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Complete Problem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Comic Sans MS"/>
              </a:rPr>
              <a:t>(excerpt from boo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75160" y="3429000"/>
            <a:ext cx="34664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Complete Problem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Comic Sans MS"/>
              </a:rPr>
              <a:t>(Exc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rcRect l="17188" t="0" r="11612" b="0"/>
          <a:stretch/>
        </p:blipFill>
        <p:spPr>
          <a:xfrm>
            <a:off x="990720" y="4267080"/>
            <a:ext cx="51051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CHW</cp:lastModifiedBy>
  <dcterms:modified xsi:type="dcterms:W3CDTF">2003-08-22T10:03:58Z</dcterms:modified>
  <cp:revision>30</cp:revision>
  <dc:subject/>
  <dc:title>PowerPoint Presentation</dc:title>
</cp:coreProperties>
</file>