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DB4D-3FBE-4DC7-8EBA-8D2A7F3533F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6561-F7EE-4FB7-8D6C-C6E1F43B799B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625760" y="5486400"/>
          <a:ext cx="3605040" cy="2819520"/>
        </p:xfrm>
        <a:graphic>
          <a:graphicData uri="http://schemas.openxmlformats.org/drawingml/2006/table">
            <a:tbl>
              <a:tblPr/>
              <a:tblGrid>
                <a:gridCol w="1471320"/>
                <a:gridCol w="2133720"/>
              </a:tblGrid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 (ps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(Mscf/stb/c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38360" y="251460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57200" y="4038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lean gas condensate, the second term is very small and can be neglected (&lt; 1% in this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629400" cy="4398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ep 4. Calculate the pseudopressure integral – the area under the Gas mobility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v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Pressur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114800"/>
            <a:ext cx="2743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his point estimated by extra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3360" y="4799160"/>
            <a:ext cx="1296720" cy="458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7162920"/>
            <a:ext cx="63244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mobility vs pressure curve has a discontinuity at dew point pressure – need to allow for this when evaluating the integ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819520"/>
            <a:ext cx="3733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as mobility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. Calculate the pseudopressure integ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4240" y="2666520"/>
            <a:ext cx="54295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valuating the integral by the trapezoid rule giv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7200" y="3886200"/>
                <a:ext cx="15238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154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965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057400" y="4114800"/>
            <a:ext cx="50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 25,117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psi.Mscf/rb/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48640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is gives a gas flow rate of 21.3 MMscf/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gas flow rate from Sensor = 21.5 MMscf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5. Estimate the condensate blockage sk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calculate the gas mobility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(P) assuming krg=0.96, kro =0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pseudopressure integral is now 90,100 psi.Mscf/rb/cp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alculate the skin from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14400" y="4572000"/>
                <a:ext cx="4519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23880" y="58672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condensate blockage skin = 21.6. In practice, this is almost certainly too high as it ignores the effect of velocity-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Spreadsheet with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ow can we include the effect of velocity dependent rel pe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uess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this is needed to calculate veloc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For each pressure in the pseudopressure integral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radius by assuming P~ln(radius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Darcy velocity at this radius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capillary number (will also need IFT as a function of pressure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Adjust the krg vs krg/kro relationship using the Fevang-Whitson correlation (Ref 2)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alculate the pseudopressure integral and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Repeat if gas production rate is very different from original gues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23880" y="65530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0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3800" y="457200"/>
            <a:ext cx="58104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seudopressure integral with velocity dependent rel p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55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4038480"/>
            <a:ext cx="2438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With vel-dep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47760" y="4495680"/>
            <a:ext cx="7596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6400800"/>
            <a:ext cx="198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With rock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905120" y="5714640"/>
            <a:ext cx="609480" cy="685800"/>
          </a:xfrm>
          <a:prstGeom prst="line">
            <a:avLst/>
          </a:prstGeom>
          <a:ln w="2844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760" y="73152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as production rate with velocity dependent rel perms is about 31 MMscf/d – a blockage skin of about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00200" y="2438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52280" y="3505320"/>
            <a:ext cx="6553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r</a:t>
            </a:r>
            <a:r>
              <a:rPr b="0" i="1" lang="en-US" sz="28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= flowing OGR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ll other properties from PVT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4120"/>
            <a:ext cx="59436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fluid with rp = 26 stb/MMscf, dew point pressure = 3734 psi (estimated from PVT table).  This is the pressure at the outer edge of Region 1 (P*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he equation only applies below the dew point pres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the dew point pressure, kro = 0 and krg/kro = infin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00280" y="5334120"/>
            <a:ext cx="5257800" cy="34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171880" y="1905120"/>
          <a:ext cx="2514240" cy="3123720"/>
        </p:xfrm>
        <a:graphic>
          <a:graphicData uri="http://schemas.openxmlformats.org/drawingml/2006/table">
            <a:tbl>
              <a:tblPr/>
              <a:tblGrid>
                <a:gridCol w="1271160"/>
                <a:gridCol w="12430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. Estimate krg(P) from krg/kro and rel perm cur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62520" y="2057400"/>
          <a:ext cx="2895480" cy="274320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  <a:gridCol w="965160"/>
              </a:tblGrid>
              <a:tr h="52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30240" y="5257800"/>
            <a:ext cx="4995720" cy="33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1828800"/>
          <a:ext cx="4038480" cy="334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03848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23760" y="2666880"/>
                <a:ext cx="50104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c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38360" y="601992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57200" y="41911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For field units, the conversion factor c is 0.001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53Z</dcterms:modified>
  <cp:revision>102</cp:revision>
  <dc:subject/>
  <dc:title>PowerPoint Presentation</dc:title>
</cp:coreProperties>
</file>