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F8C-24B2-4590-987E-8EBB6855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FE8-3341-4FDF-94A9-25CF6B32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365-8C72-4949-998E-1D9878F0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E3F-A28A-4F13-8778-0DE983F7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F3C-18BA-4D90-B7C0-0354FB4A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EB0-910B-44FA-BD2B-12732B36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B0C-AED5-44E5-B4E4-B2231674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3BC-6EF6-4EF7-81E6-3752175D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C44-A76D-4E2E-B1B5-F29AB80D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706-DA00-4AFF-A410-26DF48EC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000-06D7-48DC-B2F4-CE7C2698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047B-EB84-4120-9419-29427DFA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F2C4-91C6-4B6C-8074-FA3BBDD65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686800" cy="5487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quifers may provide water influx (encroachment) to gas reservoirs as pressure declines from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amount of water influx depends primarily on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aquifer &amp; reservoir</a:t>
            </a:r>
            <a:r>
              <a:rPr b="0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permeability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aquifer siz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, and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initial pressur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(i.e. maximum potential pressure declin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1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K &lt; 1 md results in neglible water influx, independent of aquifer siz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437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Aquifer sizes often range from 1 to 10 times the HCPV, and may sometimes be 100s of times the HCP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437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High-pressure reservoirs may experience significant pressure support from small aquifers and ‘internal’ water within and interbedded with the HCP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The material balance can be used to estimate IGIP and aquifer size from historical pressure and cumulative production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total production). Water breakthrough often marks the end of life for a gas well. Ultimate gas recovery may often be lower for reservoirs with strong aquif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11T09:08:06Z</dcterms:modified>
  <cp:revision>25</cp:revision>
  <dc:subject/>
  <dc:title>PowerPoint Presentation</dc:title>
</cp:coreProperties>
</file>