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105-D317-4AAD-8D4E-56EBD051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0A7-717D-4B2D-AC6F-C980B25A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923-0594-480E-AA40-2E22696B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5AF-7F22-429F-9E76-2BDC7B88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112-1C68-4637-A5BC-5A6E1D4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ADF-592A-473A-91D0-BAB2EAC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DD2-65DE-4C5A-8BC3-943EAE2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5FD-7ECD-4252-BFE3-08506709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837-CC94-4CDE-A7FD-AA23130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CA1-E7D9-436A-A2D7-1CD15AF1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44A-AA04-4196-A0D5-7D3B24A1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678-47DA-43B6-A32A-845442DC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F02-463C-4C37-B6D1-3A294B40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06400"/>
            <a:ext cx="853416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480" y="380880"/>
            <a:ext cx="89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emilog plot of SCN mole fraction versus Carbon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7:15:21Z</dcterms:modified>
  <cp:revision>19</cp:revision>
  <dc:subject/>
  <dc:title>PowerPoint Presentation</dc:title>
</cp:coreProperties>
</file>