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86FD-D136-46FD-904A-AD657537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A9E5-A2B7-404E-AA38-7097C84B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F42-B66A-42F1-BD9A-C6E217E5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2081-972F-4E01-9D60-16FF19D3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1CDF-D18F-4C3E-BE52-095959AC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BB6B-1506-48DD-BF69-92CC2BEC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1887-4E3B-4F51-BACB-3B807FDC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F026-6B25-431A-8E28-533A51F2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BA8-9C45-437A-B59E-570DB401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DED7-FCC9-494E-A747-E29E487B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2FAC-472A-4DFC-B218-56FF33CF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EAF1-8131-4438-BADE-2FE756CD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B40D-D8C9-4FBD-AA10-DE213B798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63440" y="113976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and two-phase pseudopress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88620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38280"/>
            <a:ext cx="1981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45:00Z</dcterms:modified>
  <cp:revision>22</cp:revision>
  <dc:subject/>
  <dc:title>PowerPoint Presentation</dc:title>
</cp:coreProperties>
</file>