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557D-7F29-4E8C-A4EA-30EC881283F4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426D-AF3B-4EC0-B197-3CD64885AB88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of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8120" y="3421080"/>
            <a:ext cx="6191280" cy="551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flow rate, scf/d or 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nb-NO" sz="2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units conversion factor (0.001127 in field uni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permeability, m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net thickness, ft  or 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external radius of drainage area, ft or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well radius, ft or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mechanical sk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relative permeabil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viscosity, 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formation volume factor, RB/scf  or 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 relative permeabil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 viscosity, 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 formation volume factor, RB/STB or 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oil ratio, scf/STB or 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average reservoir pressure, psia or b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wf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wellbore flowing pressure, psia or bar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380880"/>
            <a:ext cx="6286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Gas Condensate Rat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”</a:t>
            </a: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Pseudopressure Integr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31840" y="1515960"/>
                <a:ext cx="654048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a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f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2278080" y="838188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</a:rPr>
              <a:t>Notes on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160" y="2895480"/>
            <a:ext cx="6819840" cy="4189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440" y="1522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The term inside the pseudopressure integral is the gas mobility</a:t>
            </a:r>
            <a:endParaRPr b="1" lang="en-US" sz="28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7315200"/>
            <a:ext cx="1905120" cy="1306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71360" indent="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ew point pressure of flowing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4419360" y="6248160"/>
            <a:ext cx="28440" cy="10666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14800" y="2057400"/>
            <a:ext cx="2286000" cy="100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71360" indent="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P &gt; Dew point No condensate blo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3124080"/>
            <a:ext cx="0" cy="6098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2743200"/>
            <a:ext cx="2514600" cy="1306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71360" indent="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 &lt; Dew point Condensate blockage reduces mo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4114800"/>
            <a:ext cx="0" cy="1295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3808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The gas flow rate is proportional to the area under the mobility vs pressure curve</a:t>
            </a:r>
            <a:endParaRPr b="1" lang="en-US" sz="28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467240" y="4080960"/>
            <a:ext cx="0" cy="854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7840" y="2030400"/>
            <a:ext cx="6680160" cy="4127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316160" y="2031840"/>
            <a:ext cx="4948200" cy="4189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00600" y="6019920"/>
            <a:ext cx="1752480" cy="6966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71360" indent="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Reservoir 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715000" y="5409720"/>
            <a:ext cx="0" cy="5288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6477120"/>
            <a:ext cx="1266840" cy="6966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Well B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905120" y="5410080"/>
            <a:ext cx="0" cy="10540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05T14:50:09Z</dcterms:modified>
  <cp:revision>94</cp:revision>
  <dc:subject/>
  <dc:title>PowerPoint Presentation</dc:title>
</cp:coreProperties>
</file>