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4F90-6345-4534-80A2-7A0A1E6A7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7B6D-997B-494C-8F1F-EC0D6A28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54C8-89B0-4DAD-99A0-64B848073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CCD9-3EB9-4031-AFFA-0BB7EFF04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9B2F-16C2-403E-A28E-1D397671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9CF4-E15D-4BD0-AF5F-CD018E72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86BA-A475-43BF-BB96-EADC769E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CE92-539B-4E3B-810F-BB965622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DE95-13A2-41D4-90DB-3CC3FD98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DD27-1DE8-47C8-AE63-8016F7FE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FAA8-4B4A-4D56-953A-2AFABA10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550C-32CA-42DC-B634-2FCE4AF1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734A-EB5C-49A3-A18C-141184B50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7743960" cy="5229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9880" y="22860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chematic of pressure and derivative composite behavior (a) two-region composite; (b) three-region composite (from SPE 629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20T11:54:26Z</dcterms:modified>
  <cp:revision>21</cp:revision>
  <dc:subject/>
  <dc:title>PowerPoint Presentation</dc:title>
</cp:coreProperties>
</file>