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B734-8474-4E2E-B7DF-4709F84DA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6A03-4356-4279-8E0F-14EDB6CC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0C4E-9982-41CD-9B87-B11B773AB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7A0C-EC83-4386-904F-7CA949960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28EA-3D34-4E92-9EC0-CC20880B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99DE-310C-4BDB-8553-475D537F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50E3-98B1-485E-BFDF-CC939A08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A5E3-341E-4656-8FC5-60519BFC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EFB3-F9B3-4F8E-8E60-F9640B92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065E-1595-4919-8972-26983CE8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F591-85C3-494E-8CCE-D8AFC0B9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CA40-8BD1-46F2-BCCF-D770FF82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3B18-3DA7-4F4E-AF13-3326697C0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819000"/>
            <a:ext cx="8610480" cy="578736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Gas field development involves the optimal selection of </a:t>
            </a:r>
            <a:r>
              <a:rPr b="0" i="1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well number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, </a:t>
            </a:r>
            <a:r>
              <a:rPr b="0" i="1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well placement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, </a:t>
            </a:r>
            <a:r>
              <a:rPr b="0" i="1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well tubing size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, 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and </a:t>
            </a:r>
            <a:r>
              <a:rPr b="0" i="1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pipeline characteristics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to deliver a specified contract rate (DCQ - daily contract quota) and specified contractual (plateau) perio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The engineering tools required are (a) reservoir material balance(s); (b) well rate equations for reservoir and tubing; and (c) pipeline rate equations. Reservoir simulation is often not necessary, but may be conveni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Data acquisition is needed early to estimate key parameters in the calculations mentioned in (2). These include core data, log interpretation, geologic mapping, and well tes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Field gas rate ‘swing’ considerations may be important, accounting for a seasonal variation in production rate demand (maximum in winter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Compression design may be important during the contractual period, but almost certainly during the decline period of produ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Uncertainty analysis should focus on the parameters which are known to be important and known to be uncertain (IGIP, kh, skin, aquifer strength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CHW</cp:lastModifiedBy>
  <dcterms:modified xsi:type="dcterms:W3CDTF">2003-08-22T08:09:12Z</dcterms:modified>
  <cp:revision>9</cp:revision>
  <dc:subject/>
  <dc:title>PowerPoint Presentation</dc:title>
</cp:coreProperties>
</file>