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6E2D3-FDEC-48C5-B606-514701E74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C3083-A0FF-484F-A038-7DFA74AE3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627AE-7AE4-42A4-B185-BBE1D71E0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32930-197D-4674-BFED-3410FF927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251B-F5B5-43F6-9E93-D156066E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63268-EB59-40F0-9DD8-AB1CD1A56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5ABFB-0F70-4F63-8B93-A180801B0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15F93-61A8-4189-A8B3-A62955B1A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F93CC-84C7-404C-9393-3BB6DD084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B0C1-140F-4BB6-88CC-F4DA10747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79DF0-37EF-4254-B04A-8A42728E6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2A391-8C14-4825-AB8C-ED2855D03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2650-9B0C-4576-AB7C-CAD7B1AB7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ampling-tes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6633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Fluid samples from gas condensate wells are needed for two main reason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PVT data for developing a fluid model such as an EOS and/or black-oil tables (</a:t>
            </a:r>
            <a:r>
              <a:rPr b="0" i="1" lang="en-US" sz="1400" spc="-1" strike="noStrike">
                <a:solidFill>
                  <a:srgbClr val="0033cc"/>
                </a:solidFill>
                <a:latin typeface="Comic Sans MS"/>
              </a:rPr>
              <a:t>“reservoir representative”</a:t>
            </a:r>
            <a:r>
              <a:rPr b="0" lang="en-US" sz="1400" spc="-1" strike="noStrike">
                <a:solidFill>
                  <a:srgbClr val="0033cc"/>
                </a:solidFill>
                <a:latin typeface="Comic Sans MS"/>
              </a:rPr>
              <a:t> sample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compositional data to define fluids in place, especially surface condensate volume (</a:t>
            </a:r>
            <a:r>
              <a:rPr b="0" i="1" lang="en-US" sz="1400" spc="-1" strike="noStrike">
                <a:solidFill>
                  <a:srgbClr val="0033cc"/>
                </a:solidFill>
                <a:latin typeface="Comic Sans MS"/>
              </a:rPr>
              <a:t>“in-situ reservoir representative”</a:t>
            </a:r>
            <a:r>
              <a:rPr b="0" lang="en-US" sz="1400" spc="-1" strike="noStrike">
                <a:solidFill>
                  <a:srgbClr val="0033cc"/>
                </a:solidFill>
                <a:latin typeface="Comic Sans MS"/>
              </a:rPr>
              <a:t> sampl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 should almost always be the primary source of samples for gas condensate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Openhole samples (such as MDT) can also be used without complication for wells drilled with water-based mud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deally, samples should be taken while the bottom hole flowing pressure (P</a:t>
            </a:r>
            <a:r>
              <a:rPr b="0" lang="en-US" sz="1400" spc="-1" strike="noStrike" baseline="-25000">
                <a:solidFill>
                  <a:srgbClr val="0033cc"/>
                </a:solidFill>
                <a:latin typeface="Comic Sans MS"/>
              </a:rPr>
              <a:t>wf</a:t>
            </a:r>
            <a:r>
              <a:rPr b="0" lang="en-US" sz="1400" spc="-1" strike="noStrike">
                <a:solidFill>
                  <a:srgbClr val="0033cc"/>
                </a:solidFill>
                <a:latin typeface="Comic Sans MS"/>
              </a:rPr>
              <a:t>) is above the dew point, but this may not be possible in saturated and/or low-permeability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It is still possible to obtain representative samples when (P</a:t>
            </a:r>
            <a:r>
              <a:rPr b="0" lang="en-US" sz="1400" spc="-1" strike="noStrike" baseline="-25000">
                <a:solidFill>
                  <a:srgbClr val="a50021"/>
                </a:solidFill>
                <a:latin typeface="Comic Sans MS"/>
              </a:rPr>
              <a:t>wf</a:t>
            </a:r>
            <a:r>
              <a:rPr b="0" lang="en-US" sz="14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hen the flow rate is reduced prior to sampling, the condensate bank ‘unloads’ and gives a sample where the OGR is too high.  </a:t>
            </a:r>
            <a:r>
              <a:rPr b="0" lang="en-US" sz="1400" spc="-1" strike="noStrike" u="sng">
                <a:solidFill>
                  <a:srgbClr val="008000"/>
                </a:solidFill>
                <a:uFillTx/>
                <a:latin typeface="Wingdings"/>
                <a:ea typeface="Wingdings"/>
                <a:hlinkClick r:id="rId1"/>
              </a:rPr>
              <a:t></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2-18T16:58:07Z</dcterms:modified>
  <cp:revision>22</cp:revision>
  <dc:subject/>
  <dc:title>PowerPoint Presentation</dc:title>
</cp:coreProperties>
</file>