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6858000" cy="9144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8686800"/>
            <a:ext cx="142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C0E60-ED0F-4AF0-BF59-B3F1D47E9FC0}" type="datetime3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July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752480" y="8686800"/>
            <a:ext cx="42674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324480" y="8686800"/>
            <a:ext cx="4003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0D596-6A85-4963-B44A-C4C56C4A1B4C}" type="slidenum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../GC-Reservoirs/other-links.ppt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../GC-Reservoirs/other-links.ppt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../GC-Reservoirs/other-links.ppt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../GC-Reservoirs/other-links.ppt" TargetMode="Externa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../GC-Reservoirs/other-links.ppt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../GC-Reservoirs/other-links.ppt" TargetMode="External"/><Relationship Id="rId2" Type="http://schemas.openxmlformats.org/officeDocument/2006/relationships/package" Target="../embeddings/oleObject1.xlsx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../GC-Reservoirs/other-links.ppt" TargetMode="External"/><Relationship Id="rId2" Type="http://schemas.openxmlformats.org/officeDocument/2006/relationships/package" Target="../embeddings/oleObject1.xls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../GC-Reservoirs/other-links.ppt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../GC-Reservoirs/other-links.ppt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../GC-Reservoirs/other-links.ppt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../GC-Reservoirs/other-links.ppt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../GC-Reservoirs/other-links.ppt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rId1"/>
          </p:cNvPr>
          <p:cNvSpPr/>
          <p:nvPr/>
        </p:nvSpPr>
        <p:spPr>
          <a:xfrm>
            <a:off x="1025280" y="228600"/>
            <a:ext cx="480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Gas Condensate PV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22160" y="1143000"/>
            <a:ext cx="541368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A worked example to estima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Condensate and gas recovery from a gas condensate reservoir produced by deple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CGR as a function of reservoir pressu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22160" y="4038480"/>
            <a:ext cx="5413680" cy="37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The calculations use results from CCE and CVD experi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The results assume no aquifer influx and ignore the effect of rock and water compressibili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They also assume that the condensate phase is immobile in the reservoir. This is a reasonable assumption for almost all gas condensate fluids (except in the near-well region, and this does not affect ultimate recovery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>
            <a:hlinkClick r:id="rId1"/>
          </p:cNvPr>
          <p:cNvSpPr/>
          <p:nvPr/>
        </p:nvSpPr>
        <p:spPr>
          <a:xfrm>
            <a:off x="168120" y="304920"/>
            <a:ext cx="668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Calculating condensate recovery factors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920" y="1981080"/>
            <a:ext cx="5943600" cy="51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Starting with 1 lb mole of reservoir fluid at P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dew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,  the surface condensate produced during the depletion from 3428 psi to 1200 psi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SzPct val="160000"/>
              <a:buFont typeface="Symbol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n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p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{y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C6 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MW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C6 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/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C6 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+ y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C7+ 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MW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C7+ 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C7+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.0418 cu f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The fractional recovery of surface condensate by depletion from 5000 psig to 1200 psig is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.147 + 0.853 * 0.0418 / 0.229 = 30.3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46080" y="7391520"/>
            <a:ext cx="177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Above Pdew</a:t>
            </a:r>
            <a:r>
              <a:rPr b="0" lang="en-US" sz="1400" spc="-1" strike="noStrike" u="sng">
                <a:solidFill>
                  <a:srgbClr val="0033cc"/>
                </a:solidFill>
                <a:uFillTx/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838080" y="6934320"/>
            <a:ext cx="76320" cy="457200"/>
          </a:xfrm>
          <a:prstGeom prst="line">
            <a:avLst/>
          </a:prstGeom>
          <a:ln w="3168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55280" y="7696080"/>
            <a:ext cx="174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below Pdew</a:t>
            </a:r>
            <a:r>
              <a:rPr b="0" lang="en-US" sz="1400" spc="-1" strike="noStrike" u="sng">
                <a:solidFill>
                  <a:srgbClr val="0033cc"/>
                </a:solidFill>
                <a:uFillTx/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 rot="16200000">
            <a:off x="2933640" y="5523480"/>
            <a:ext cx="533160" cy="3353040"/>
          </a:xfrm>
          <a:custGeom>
            <a:avLst/>
            <a:gdLst>
              <a:gd name="textAreaLeft" fmla="*/ 340560 w 533160"/>
              <a:gd name="textAreaRight" fmla="*/ 533520 w 533160"/>
              <a:gd name="textAreaTop" fmla="*/ 87120 h 3353040"/>
              <a:gd name="textAreaBottom" fmla="*/ 3265920 h 3353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440360" y="8229600"/>
            <a:ext cx="397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33cc"/>
                </a:solidFill>
                <a:uFillTx/>
                <a:latin typeface="Comic Sans MS"/>
              </a:rPr>
              <a:t>Spreadsheet with recovery factor calcul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68120" y="304920"/>
            <a:ext cx="668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Depletion recoveries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438280"/>
            <a:ext cx="5943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2362320"/>
            <a:ext cx="6858000" cy="42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>
            <a:hlinkClick r:id="rId1"/>
          </p:cNvPr>
          <p:cNvSpPr/>
          <p:nvPr/>
        </p:nvSpPr>
        <p:spPr>
          <a:xfrm>
            <a:off x="168120" y="304920"/>
            <a:ext cx="6689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Which PVT data affect gas and condensate recovery factors?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7200" y="2438280"/>
            <a:ext cx="594360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Key data for gas recovery are the relative volumes above dew point, and the ‘wellstream produced’ data from the CV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Condensate recovery depends on the gas recovery, and also on the C6+ mole fractions in the produced ga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The liquid saturations during the CVD (liquid drop out curve) are not relevant – they are not used in the recovery calcula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>
            <a:hlinkClick r:id="rId1"/>
          </p:cNvPr>
          <p:cNvSpPr/>
          <p:nvPr/>
        </p:nvSpPr>
        <p:spPr>
          <a:xfrm>
            <a:off x="168120" y="304920"/>
            <a:ext cx="668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CGR calculation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57200" y="2438280"/>
            <a:ext cx="5943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57200" y="1447920"/>
            <a:ext cx="6095880" cy="66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The CGR can be estimated from the equilibrium gas compositions in the CV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From 1 lb mole of equilibrium gas, the surface gas volume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(1-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y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C6 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y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C7+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)RT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std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/P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std 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cu 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The surface condensate volume 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(y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C6 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MW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C6 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/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C6 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+ y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C7+ 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MW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C7+ 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C7+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) cu 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At a reservoir pressure of 3428 psi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Surface gas volume =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.916*10.732*520/14.7 = 347.74 cu 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Surface oil volume =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.229 cu 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CGR =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17 stb/MMsc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68120" y="304920"/>
            <a:ext cx="668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Condensate Gas ratio of equilibrium gas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2438280"/>
            <a:ext cx="5943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1981080"/>
            <a:ext cx="685944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04920" y="228600"/>
            <a:ext cx="6324480" cy="11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Referen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33cc"/>
                </a:solidFill>
                <a:uFillTx/>
                <a:latin typeface="Comic Sans MS"/>
              </a:rPr>
              <a:t>Gas Condensate PVT – What’s Really Important and Wh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33cc"/>
                </a:solidFill>
                <a:uFillTx/>
                <a:latin typeface="Comic Sans MS"/>
              </a:rPr>
              <a:t>SPE Phase Behavior Monograph, Ch.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66760" y="2057400"/>
            <a:ext cx="6362640" cy="5673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No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1"/>
          </p:cNvPr>
          <p:cNvSpPr/>
          <p:nvPr/>
        </p:nvSpPr>
        <p:spPr>
          <a:xfrm>
            <a:off x="819720" y="304920"/>
            <a:ext cx="521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Statement of prob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15800" y="1066680"/>
            <a:ext cx="6024600" cy="74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Initial reservoir pressure = 5000 psi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Estimate the fractional recovery of oil and condensate, assuming that the reservoir pressure at abandonment =  1200 psi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344520"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Define recoveries in terms of volumes at standard condi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344520"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Assume that the ‘condensate’ is the C6+ fraction of the reservoir flui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Which data have the most impact on liquid recovery and gas recovery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Estimate the producing CGR as a function of reservoir press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PVT data for this problem are taken from the 3</a:t>
            </a:r>
            <a:r>
              <a:rPr b="0" lang="en-US" sz="2400" spc="-1" strike="noStrike" baseline="30000">
                <a:solidFill>
                  <a:srgbClr val="0033cc"/>
                </a:solidFill>
                <a:latin typeface="Comic Sans MS"/>
              </a:rPr>
              <a:t>rd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 SPE Comparative Solution Pro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1"/>
          </p:cNvPr>
          <p:cNvSpPr/>
          <p:nvPr/>
        </p:nvSpPr>
        <p:spPr>
          <a:xfrm>
            <a:off x="1698840" y="533520"/>
            <a:ext cx="346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PVT Data - C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40760" y="160020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Dew point pressure = 3428 psig</a:t>
            </a:r>
            <a:r>
              <a:rPr b="0" lang="en-US" sz="2400" spc="-1" strike="noStrike" u="sng">
                <a:solidFill>
                  <a:srgbClr val="0033cc"/>
                </a:solidFill>
                <a:uFillTx/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533520" y="2616120"/>
          <a:ext cx="5867280" cy="44290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2616120"/>
                    <a:ext cx="5867280" cy="44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965880" y="7467480"/>
            <a:ext cx="492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Spreadsheet with measure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1"/>
          </p:cNvPr>
          <p:cNvSpPr/>
          <p:nvPr/>
        </p:nvSpPr>
        <p:spPr>
          <a:xfrm>
            <a:off x="1689480" y="533520"/>
            <a:ext cx="354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PVT Data - CV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72400" y="7696080"/>
            <a:ext cx="571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ume that C6 MW = 86, and C6 SG = 0.659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en-US" sz="2400" spc="-1" strike="noStrike" u="sng">
                <a:solidFill>
                  <a:srgbClr val="0033cc"/>
                </a:solidFill>
                <a:uFillTx/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114480" y="1447920"/>
          <a:ext cx="6629400" cy="57369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480" y="1447920"/>
                    <a:ext cx="6629400" cy="573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rId1"/>
          </p:cNvPr>
          <p:cNvSpPr/>
          <p:nvPr/>
        </p:nvSpPr>
        <p:spPr>
          <a:xfrm>
            <a:off x="788760" y="457200"/>
            <a:ext cx="487908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Calculating recove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factors – above P</a:t>
            </a:r>
            <a:r>
              <a:rPr b="1" lang="en-US" sz="3600" spc="-1" strike="noStrike" baseline="-25000">
                <a:solidFill>
                  <a:srgbClr val="ff3300"/>
                </a:solidFill>
                <a:latin typeface="Comic Sans MS"/>
              </a:rPr>
              <a:t>de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04920" y="1981080"/>
            <a:ext cx="6019560" cy="83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First consider depletion from initial reservoir pressure (5000 psig) to dew point pressure (3428 psig), using the CCE dat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The reservoir fluid will be single phase gas during this perio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The CCE data shows that the relative volume at 5000 psig is 0.853 times the volume at dew poi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1 res.bbl. of reservoir fluid at 5000 psi expands to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0.853 = 1.172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 bbl at 3428 psi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At 5000 psig, the fractional recovery is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.172 / 1.172 = 14.7%.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  This figure applies to all components in the reservoir flui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1"/>
          </p:cNvPr>
          <p:cNvSpPr/>
          <p:nvPr/>
        </p:nvSpPr>
        <p:spPr>
          <a:xfrm>
            <a:off x="786960" y="457200"/>
            <a:ext cx="487908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Calculating recove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factors – below P</a:t>
            </a:r>
            <a:r>
              <a:rPr b="1" lang="en-US" sz="3600" spc="-1" strike="noStrike" baseline="-25000">
                <a:solidFill>
                  <a:srgbClr val="ff3300"/>
                </a:solidFill>
                <a:latin typeface="Comic Sans MS"/>
              </a:rPr>
              <a:t>de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1981080"/>
            <a:ext cx="6019560" cy="54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Now consider depletion from dew point pressure (3428 psig) to abandonment pressure (1200 psig), using the CVD dat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The reservoir fluid will be two- phase during this perio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The recoveries need to be calculated by summing over each step in the CVD analys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>
            <a:hlinkClick r:id="rId1"/>
          </p:cNvPr>
          <p:cNvSpPr/>
          <p:nvPr/>
        </p:nvSpPr>
        <p:spPr>
          <a:xfrm>
            <a:off x="332280" y="457200"/>
            <a:ext cx="579060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Calculating gas recove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factors below P</a:t>
            </a:r>
            <a:r>
              <a:rPr b="1" lang="en-US" sz="3600" spc="-1" strike="noStrike" baseline="-25000">
                <a:solidFill>
                  <a:srgbClr val="ff3300"/>
                </a:solidFill>
                <a:latin typeface="Comic Sans MS"/>
              </a:rPr>
              <a:t>dew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19040" y="1676520"/>
            <a:ext cx="6019920" cy="9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For gas, we can base the recovery factors on the number of lb moles, as this is proportional to the volume at standard condi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CVD data are based on 1 lb mole of reservoir fluid at P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dew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.   This contains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1-0.0181-0.0657)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0.9162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 lb moles of surface gas.  (i.e. all components except C6 and C7+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The number of lb moles of surface gas produced during the depletion from 3428 psi to 3000 psi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n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p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{1-y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C6+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}=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.09095(1-0.0143-0.04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And during the depletion from 3000 psig to 2440 psig it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0.24702-0.09095)(1-0.0108-0.022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>
            <a:hlinkClick r:id="rId1"/>
          </p:cNvPr>
          <p:cNvSpPr/>
          <p:nvPr/>
        </p:nvSpPr>
        <p:spPr>
          <a:xfrm>
            <a:off x="332280" y="457200"/>
            <a:ext cx="579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Calculating gas recove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factor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1981080"/>
            <a:ext cx="6324480" cy="46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Starting with 1 lb mole of reservoir fluid at P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dew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,  the amount of surface gas produced during the depletion from 3428 psi to 1200 psi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SzPct val="160000"/>
              <a:buFont typeface="Symbol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n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p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{1-y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C6+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}=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.5792 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lb mol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Font typeface="Symbol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The fractional recovery of surface gas by depletion from 5000 psig to 1200 psig is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.147 + 0.853 * 0.5792 / 0.9162 = 68.6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58840" y="7848720"/>
            <a:ext cx="177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Above Pdew</a:t>
            </a:r>
            <a:r>
              <a:rPr b="0" lang="en-US" sz="1400" spc="-1" strike="noStrike" u="sng">
                <a:solidFill>
                  <a:srgbClr val="0033cc"/>
                </a:solidFill>
                <a:uFillTx/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 flipV="1">
            <a:off x="914040" y="6553080"/>
            <a:ext cx="304920" cy="1067040"/>
          </a:xfrm>
          <a:prstGeom prst="line">
            <a:avLst/>
          </a:prstGeom>
          <a:ln w="3168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555280" y="7162920"/>
            <a:ext cx="174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below Pdew</a:t>
            </a:r>
            <a:r>
              <a:rPr b="0" lang="en-US" sz="1400" spc="-1" strike="noStrike" u="sng">
                <a:solidFill>
                  <a:srgbClr val="0033cc"/>
                </a:solidFill>
                <a:uFillTx/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 rot="16200000">
            <a:off x="3009600" y="5066640"/>
            <a:ext cx="533160" cy="3352680"/>
          </a:xfrm>
          <a:custGeom>
            <a:avLst/>
            <a:gdLst>
              <a:gd name="textAreaLeft" fmla="*/ 340560 w 533160"/>
              <a:gd name="textAreaRight" fmla="*/ 533520 w 533160"/>
              <a:gd name="textAreaTop" fmla="*/ 87120 h 3352680"/>
              <a:gd name="textAreaBottom" fmla="*/ 3265560 h 3352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>
            <a:hlinkClick r:id="rId1"/>
          </p:cNvPr>
          <p:cNvSpPr/>
          <p:nvPr/>
        </p:nvSpPr>
        <p:spPr>
          <a:xfrm>
            <a:off x="0" y="304920"/>
            <a:ext cx="685800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Calculating condensate reco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factors below P</a:t>
            </a:r>
            <a:r>
              <a:rPr b="1" lang="en-US" sz="3200" spc="-1" strike="noStrike" baseline="-25000">
                <a:solidFill>
                  <a:srgbClr val="ff3300"/>
                </a:solidFill>
                <a:latin typeface="Comic Sans MS"/>
              </a:rPr>
              <a:t>dew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52440" y="3276720"/>
            <a:ext cx="6153120" cy="541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CVD data are based on 1 lb mole of reservoir fluid at P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dew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.   This contains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n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p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{y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C6 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MW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C6 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/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C6 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+ y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C7+ 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MW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C7+ 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C7+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}=       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.0181*86/(62.5*0.659) +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.0659*140(62.5*0.774)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0.229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 cu ft of surface condens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The amount of surface condensate produced during the depletion from 3428 psi to 3000 psi 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n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p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{y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C6 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MW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C6 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/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C6 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+ y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C7+ 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MW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C7+ 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C7+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.0125 cu f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66760" y="167652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Need to convert CVD composition data (in lb moles) to surface volumes. This volume is given by (no of lb moles) * MW / dens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21:22:44Z</dcterms:created>
  <dc:creator>CHW</dc:creator>
  <dc:description/>
  <dc:language>en-US</dc:language>
  <cp:lastModifiedBy>Robert Mott</cp:lastModifiedBy>
  <dcterms:modified xsi:type="dcterms:W3CDTF">2004-02-23T10:00:43Z</dcterms:modified>
  <cp:revision>96</cp:revision>
  <dc:subject/>
  <dc:title>PowerPoint Presentation</dc:title>
</cp:coreProperties>
</file>