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21D-1447-4D62-8F45-A5062267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1AE-402A-4A90-AA86-EACDACF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222-1188-44E9-BF99-C1F66CBF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1CC-7136-417F-AC3C-D097F560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437-155E-48D4-B260-5FBB8BD9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AAF-F2C8-44B6-84B5-B67A84C5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F74-D6CE-4291-BB52-B6407117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4B3-CC97-47FA-B362-1C7B0CC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B70-8D1B-4C13-96D8-214F0CE0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17C-F10A-42F2-BBD0-686CCBDF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858-21CF-4041-BF73-C97962F4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743-83E9-4A66-B0B8-1804699F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0CD5-F785-489D-B75E-440C0AA232E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64F9-2313-4A06-9131-5BF107341B8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x-1.xls" TargetMode="External"/><Relationship Id="rId2" Type="http://schemas.openxmlformats.org/officeDocument/2006/relationships/hyperlink" Target="file:///Ex-2.pdf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2390400" y="2286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441360" y="6081840"/>
            <a:ext cx="6188040" cy="2574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8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8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8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460760" y="1046160"/>
                <a:ext cx="1446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152388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32240" y="4168800"/>
                <a:ext cx="1897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33760" y="2438280"/>
                <a:ext cx="1532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8840" y="3338640"/>
                <a:ext cx="116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3"/>
          <a:srcRect l="18824" t="0" r="21434" b="0"/>
          <a:stretch/>
        </p:blipFill>
        <p:spPr>
          <a:xfrm>
            <a:off x="328680" y="838080"/>
            <a:ext cx="3633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4840" y="5226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4760" y="562932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Ga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5800" y="52261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235400" y="5079960"/>
                <a:ext cx="2090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C4E-E4EB-44FF-B3E2-8438BA4ED4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D8161-4FE4-445C-8DCF-3747C59A09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6324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295280"/>
            <a:ext cx="6324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stimate IGIP and IO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PE Phase Behavior Monograph, App.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2819520"/>
            <a:ext cx="6324480" cy="585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A93-502A-40BE-B114-052EC84FEC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DBBC9-588B-4CE4-A9C4-0D28DF1A0F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6160" y="1585800"/>
            <a:ext cx="5305680" cy="59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503-5A38-4CAD-9F8D-16B96C7DDAC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739F2-5696-495A-8365-A0EFB26A64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0:04:32Z</dcterms:modified>
  <cp:revision>66</cp:revision>
  <dc:subject/>
  <dc:title>PowerPoint Presentation</dc:title>
</cp:coreProperties>
</file>