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FCAF-B7D8-4D42-8087-3A9DFA329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A6FC-F925-4C7B-934D-AB7246FAD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207F-2024-47D2-8ECA-6FA926316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F117-11CF-4AB2-8D26-8457660DA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0DE5-F9D7-4807-A31A-1DFF2DE88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FA9C-5DBA-4BFB-9F93-84A553086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785F-C649-4D92-9439-EEB594D5F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9029-0AE8-4796-BC98-B81692A7F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DE38-D1DD-4D17-B9F9-82C997D1E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D41A-8BDA-4B37-BDEE-F0E16107D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872D-8201-4DF2-A30B-3145BAFEA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B5A4-893B-4BDB-A6A2-DE85A3829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51B04-882D-48BF-B851-1E676EAA72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19320" y="685800"/>
            <a:ext cx="6858000" cy="6031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590920" y="1752480"/>
            <a:ext cx="1447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ritical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33920" y="205740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562720" y="1600200"/>
            <a:ext cx="0" cy="4267080"/>
          </a:xfrm>
          <a:prstGeom prst="line">
            <a:avLst/>
          </a:prstGeom>
          <a:ln w="507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38280" y="4876920"/>
            <a:ext cx="1219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30% liqu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38480" y="4191120"/>
            <a:ext cx="11430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cc"/>
                </a:solidFill>
                <a:latin typeface="Arial"/>
              </a:rPr>
              <a:t>20% liqu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3600" y="3962520"/>
            <a:ext cx="6858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50021"/>
                </a:solidFill>
                <a:latin typeface="Arial"/>
              </a:rPr>
              <a:t>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a50021"/>
                </a:solidFill>
                <a:latin typeface="Arial"/>
              </a:rPr>
              <a:t>liqu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4800600"/>
            <a:ext cx="6858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Arial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8000"/>
                </a:solidFill>
                <a:latin typeface="Arial"/>
              </a:rPr>
              <a:t>liqu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180120" y="990720"/>
            <a:ext cx="166356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Initial reservo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cond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5562360" y="1523880"/>
            <a:ext cx="53316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172200" y="1905120"/>
            <a:ext cx="18288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Dew point 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Reservoir tem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5562360" y="243828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01280" y="152280"/>
            <a:ext cx="621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-T diagram for gas condensate reservo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01T11:33:54Z</dcterms:modified>
  <cp:revision>12</cp:revision>
  <dc:subject/>
  <dc:title>PowerPoint Presentation</dc:title>
</cp:coreProperties>
</file>