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6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64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8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6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64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9160" y="-36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Click to edit the title text format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1" marL="69228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2" marL="11872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3" marL="1606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" name=""/>
          <p:cNvSpPr/>
          <p:nvPr/>
        </p:nvSpPr>
        <p:spPr>
          <a:xfrm>
            <a:off x="6585120" y="6494400"/>
            <a:ext cx="200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Slide no </a:t>
            </a:r>
            <a:fld id="{DD72116D-C153-43F5-B167-743ACEFBEC8B}" type="slidenum"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800" y="0"/>
            <a:ext cx="25200" cy="6845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drawdown to a gas condensate well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40240" y="1298160"/>
            <a:ext cx="144360" cy="3502440"/>
            <a:chOff x="4440240" y="1298160"/>
            <a:chExt cx="144360" cy="3502440"/>
          </a:xfrm>
        </p:grpSpPr>
        <p:grpSp>
          <p:nvGrpSpPr>
            <p:cNvPr id="45" name=""/>
            <p:cNvGrpSpPr/>
            <p:nvPr/>
          </p:nvGrpSpPr>
          <p:grpSpPr>
            <a:xfrm>
              <a:off x="4440240" y="1544760"/>
              <a:ext cx="144360" cy="3255840"/>
              <a:chOff x="4440240" y="1544760"/>
              <a:chExt cx="144360" cy="3255840"/>
            </a:xfrm>
          </p:grpSpPr>
          <p:sp>
            <p:nvSpPr>
              <p:cNvPr id="46" name=""/>
              <p:cNvSpPr/>
              <p:nvPr/>
            </p:nvSpPr>
            <p:spPr>
              <a:xfrm>
                <a:off x="444492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8460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40240" y="15447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440240" y="47260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4506840" y="12981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843200" y="5608800"/>
            <a:ext cx="5040360" cy="818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01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Most of the drawdown occurs very close to the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411800" y="4970160"/>
            <a:ext cx="122040" cy="646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18160" y="2954160"/>
            <a:ext cx="638280" cy="1828800"/>
            <a:chOff x="5618160" y="2954160"/>
            <a:chExt cx="638280" cy="1828800"/>
          </a:xfrm>
        </p:grpSpPr>
        <p:sp>
          <p:nvSpPr>
            <p:cNvPr id="54" name=""/>
            <p:cNvSpPr/>
            <p:nvPr/>
          </p:nvSpPr>
          <p:spPr>
            <a:xfrm>
              <a:off x="561816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1816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1816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1816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1816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1816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1816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1816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1816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1816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1816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1816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1816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1816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42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2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42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42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2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2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42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42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42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42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2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42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42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42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42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2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42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2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2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2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2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42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42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2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2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2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2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2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42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42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42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2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2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2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2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2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2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2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2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42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2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42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42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2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42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2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42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2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42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2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42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42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2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42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2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2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93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3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93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3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3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93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32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932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932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32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32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32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32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932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32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932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32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32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32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32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932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932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32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932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932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932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32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32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932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932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932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32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32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932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932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32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32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32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32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32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932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32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32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932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32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932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32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932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932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32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932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32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932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932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32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32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32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932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78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78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78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78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78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78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178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178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78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178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178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78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78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178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78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178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78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78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78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78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78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78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78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178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78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178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78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178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78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178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78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78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178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78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78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178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78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78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78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78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78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178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78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78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78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78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178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178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78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178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78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78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178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78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78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78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78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78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4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4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248520" y="2954160"/>
            <a:ext cx="506160" cy="1828800"/>
            <a:chOff x="6248520" y="2954160"/>
            <a:chExt cx="506160" cy="1828800"/>
          </a:xfrm>
        </p:grpSpPr>
        <p:sp>
          <p:nvSpPr>
            <p:cNvPr id="255" name=""/>
            <p:cNvSpPr/>
            <p:nvPr/>
          </p:nvSpPr>
          <p:spPr>
            <a:xfrm>
              <a:off x="62485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85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85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485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485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85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485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485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485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485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485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85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85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485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485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85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485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485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85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485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85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85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272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7272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7272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272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7272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7272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7272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7272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7272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7272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7272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7272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27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27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727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27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27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7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27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27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727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727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27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727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27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727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27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727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727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727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727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27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727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727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27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27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727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27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727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27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727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727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27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727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727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727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727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727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27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727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27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727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727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727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727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27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727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727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36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36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36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36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236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36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236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36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36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236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236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36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236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36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36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236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236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36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36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236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36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236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36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36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36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236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236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36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236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236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36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36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36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36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36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36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36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36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236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36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236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36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36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36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36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236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36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36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236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36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236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36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36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36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36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236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236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36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4820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4820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4820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4820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4820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4820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4820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4820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4820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4820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4820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820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4820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4820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4820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4820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4820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820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4820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820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4820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4820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20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820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4820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4820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4820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4820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4820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4820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4820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4820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4820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4820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820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4820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4820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4820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748560" y="2954160"/>
            <a:ext cx="636480" cy="1828800"/>
            <a:chOff x="6748560" y="2954160"/>
            <a:chExt cx="636480" cy="1828800"/>
          </a:xfrm>
        </p:grpSpPr>
        <p:sp>
          <p:nvSpPr>
            <p:cNvPr id="456" name=""/>
            <p:cNvSpPr/>
            <p:nvPr/>
          </p:nvSpPr>
          <p:spPr>
            <a:xfrm>
              <a:off x="67485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485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485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485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485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485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485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485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485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485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485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485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485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485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485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485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85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485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485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485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7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7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7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7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7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7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7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7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7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7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7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7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799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799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799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799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799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799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799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799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799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799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799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99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799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799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799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799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799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99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799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799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799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799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799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799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799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99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799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799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799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799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799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799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799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99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99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99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799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799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799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799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799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799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799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799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799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799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048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048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048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048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048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048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048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048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048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048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48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48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048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048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048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048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48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048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048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48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48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048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048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048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048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048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048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048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48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48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048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048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048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48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048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048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48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48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048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048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48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048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048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048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048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048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048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48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048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048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048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048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48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048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48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48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48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48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54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54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54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54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54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4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54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54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54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4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54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54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54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4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54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54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4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54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54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54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54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54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54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54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4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54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4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54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54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54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54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54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54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54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54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54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54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54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54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54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54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54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54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54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54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54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54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54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54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54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54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54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4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54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54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54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54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4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79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9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9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79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79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9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 flipV="1">
            <a:off x="4651200" y="3463560"/>
            <a:ext cx="12960" cy="4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60760" y="421164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614840" y="2922480"/>
            <a:ext cx="3135240" cy="1830600"/>
            <a:chOff x="4614840" y="2922480"/>
            <a:chExt cx="3135240" cy="1830600"/>
          </a:xfrm>
        </p:grpSpPr>
        <p:sp>
          <p:nvSpPr>
            <p:cNvPr id="660" name=""/>
            <p:cNvSpPr/>
            <p:nvPr/>
          </p:nvSpPr>
          <p:spPr>
            <a:xfrm>
              <a:off x="4614840" y="2922480"/>
              <a:ext cx="3135240" cy="1830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14840" y="44928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14840" y="422784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14840" y="396756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14840" y="3708000"/>
              <a:ext cx="3135240" cy="7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14840" y="344772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14840" y="31824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14840" y="292248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38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38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38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383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38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38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38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38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38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38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3832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3832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3832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3832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38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38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38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38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38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38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383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383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383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383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383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383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383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383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83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383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383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383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383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383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383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3832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383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32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3832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3832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383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3832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383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3832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32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383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3832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3832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3832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3832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3832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3832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3832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3832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3832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3832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3832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3832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62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62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62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62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62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62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62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62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62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62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6288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6288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6288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88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62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2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62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2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62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62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62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2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62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62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62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62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2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62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62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62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2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2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2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2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2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6288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62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6288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6288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6288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62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6288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62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6288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88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62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288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6288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6288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6288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6288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6288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6288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6288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6288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288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6288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6288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928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928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28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928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928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928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928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928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928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928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9284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9284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9284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9284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928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928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928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28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928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928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9928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928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928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928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928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928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28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928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928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928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928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928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928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928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928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9284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928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9284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9284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9284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928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9284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928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9284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9284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928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9284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9284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9284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9284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9284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9284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9284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9284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9284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9284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284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9284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1740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1740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1740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1740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1740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1740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1740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1740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1740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1740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1740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1740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740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1740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1740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1740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1740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1740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116680" y="2922480"/>
            <a:ext cx="509400" cy="1825560"/>
            <a:chOff x="5116680" y="2922480"/>
            <a:chExt cx="509400" cy="1825560"/>
          </a:xfrm>
        </p:grpSpPr>
        <p:sp>
          <p:nvSpPr>
            <p:cNvPr id="861" name=""/>
            <p:cNvSpPr/>
            <p:nvPr/>
          </p:nvSpPr>
          <p:spPr>
            <a:xfrm>
              <a:off x="51166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166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166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66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166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166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166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166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166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66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166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166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166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166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166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166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166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166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166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66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166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166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1166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166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166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166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66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166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66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166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166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166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166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166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166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166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66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166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66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1166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647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647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647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647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647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647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647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647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647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647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647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647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647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3647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647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3647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647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647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3647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3647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647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647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647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647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647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647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647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647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647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47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647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647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647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647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47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647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647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647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647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647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647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647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647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647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647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647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647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647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647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647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647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647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647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647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647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647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647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647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4892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892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92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892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92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4892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92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92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892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92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92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92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92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92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892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892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892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892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92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92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892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92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892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892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892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892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892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892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892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892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892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92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892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892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892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892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92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892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92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92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892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892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892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892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92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892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892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892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92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892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892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92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892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92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892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892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92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892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6203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203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203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203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203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203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203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203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203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203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203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203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203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03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203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203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203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203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203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203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203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203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6203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6203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203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203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203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6203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203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203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6203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203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203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203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203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203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203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203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6203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203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203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203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203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203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621400" y="2922480"/>
            <a:ext cx="633240" cy="1825560"/>
            <a:chOff x="5621400" y="2922480"/>
            <a:chExt cx="633240" cy="1825560"/>
          </a:xfrm>
        </p:grpSpPr>
        <p:sp>
          <p:nvSpPr>
            <p:cNvPr id="1062" name=""/>
            <p:cNvSpPr/>
            <p:nvPr/>
          </p:nvSpPr>
          <p:spPr>
            <a:xfrm>
              <a:off x="562140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2140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2140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2140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62140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2140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2140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2140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140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2140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2140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2140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2140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62140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44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4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44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44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44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44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44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44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44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44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448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448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448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448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44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4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44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44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44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744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44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44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744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44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44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44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44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44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44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744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44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44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44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4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44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448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44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448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744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44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44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44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44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44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44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44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44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44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44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44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44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44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44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44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4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44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44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44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9364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9364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9364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9364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364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9364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9364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9364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9364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9364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364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9364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9364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9364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9364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9364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9364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9364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9364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9364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9364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9364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9364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9364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9364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9364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99364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99364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99364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9364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9364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9364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9364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9364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9364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9364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9364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364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9364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99364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9364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364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9364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9364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9364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9364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9364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364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9364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9364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99364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9364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9364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9364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364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9364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9364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364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171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171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171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71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171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171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171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1171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171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171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171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1171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171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1171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171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1171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1171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171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171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171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171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171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71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171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1171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171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171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1171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1171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171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171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171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171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171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1171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171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171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171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171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171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171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171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171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171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171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171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171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171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71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171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171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171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171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1171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171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1171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71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171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48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48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48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48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48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48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48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48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48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48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6248520" y="2922480"/>
            <a:ext cx="501480" cy="1825560"/>
            <a:chOff x="6248520" y="2922480"/>
            <a:chExt cx="501480" cy="1825560"/>
          </a:xfrm>
        </p:grpSpPr>
        <p:sp>
          <p:nvSpPr>
            <p:cNvPr id="1263" name=""/>
            <p:cNvSpPr/>
            <p:nvPr/>
          </p:nvSpPr>
          <p:spPr>
            <a:xfrm>
              <a:off x="6248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48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48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48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48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48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48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48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48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48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48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48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48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48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48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8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48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48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48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48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48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48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48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48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48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8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48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485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48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485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485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485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485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485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485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485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485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485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485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485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485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485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2485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485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485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716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716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716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716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716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716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716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716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716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716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716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716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716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716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716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716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716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716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16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716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716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716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16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16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716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716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716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716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16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716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716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716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716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716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716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716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716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16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716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716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716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716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716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716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716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716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716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716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716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716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716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716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716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716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716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16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16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16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200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200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200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200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200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200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200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200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200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200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200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00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200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200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200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6200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200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200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200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200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200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200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200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200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0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200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00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200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200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00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200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200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200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200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200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200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200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200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200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200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200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200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200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200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200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200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200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200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200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200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6200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200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200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00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200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00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200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200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43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43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43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7435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43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43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743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43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743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743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743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743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743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43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43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743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43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43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43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743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743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743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743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743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43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743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43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43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43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43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43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743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43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743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43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43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43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43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6743880" y="2922480"/>
            <a:ext cx="633240" cy="1825560"/>
            <a:chOff x="6743880" y="2922480"/>
            <a:chExt cx="633240" cy="1825560"/>
          </a:xfrm>
        </p:grpSpPr>
        <p:sp>
          <p:nvSpPr>
            <p:cNvPr id="1464" name=""/>
            <p:cNvSpPr/>
            <p:nvPr/>
          </p:nvSpPr>
          <p:spPr>
            <a:xfrm>
              <a:off x="6743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43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43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743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743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743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43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743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743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743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743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743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743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743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43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43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43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743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743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43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749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8749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749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749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749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749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49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749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749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749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8749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8749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749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749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749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749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749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749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749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749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749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8749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749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749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749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749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749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749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749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8749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8749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749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8749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749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749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749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8749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8749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749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749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749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749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749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749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749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749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8749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749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8749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749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749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749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8749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749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8749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749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749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749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9991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991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9991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9991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991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9991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9991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9991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991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991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9991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991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9991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991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991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991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991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991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991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9991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9991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991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9991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9991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9991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9991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991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991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991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991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9991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991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91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991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9991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991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991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991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991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9991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9991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9991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991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9991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9912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912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99912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99912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99912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9912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9912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99912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9912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99912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9912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9912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9912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99912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47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47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247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247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47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247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247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47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47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247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247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47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24716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4716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4716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4716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4716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4716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4716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4716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4716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4716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24716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4716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4716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4716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4716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4716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4716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24716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24716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24716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24716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4716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4716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716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4716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24716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4716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24716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4716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4716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24716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24716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4716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24716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4716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4716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24716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24716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24716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4716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4716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4716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24716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24716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24716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4716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37136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7136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7136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7136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37136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37136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581360" y="2922480"/>
            <a:ext cx="3168360" cy="1857240"/>
            <a:chOff x="4581360" y="2922480"/>
            <a:chExt cx="3168360" cy="1857240"/>
          </a:xfrm>
        </p:grpSpPr>
        <p:sp>
          <p:nvSpPr>
            <p:cNvPr id="1665" name=""/>
            <p:cNvSpPr/>
            <p:nvPr/>
          </p:nvSpPr>
          <p:spPr>
            <a:xfrm>
              <a:off x="737100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37100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7100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37100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7100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37100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37100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7100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37100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37100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100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7100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7100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7100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71000" y="3559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71000" y="3591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371000" y="3623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371000" y="3655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371000" y="3686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71000" y="3718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71000" y="3750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71000" y="3782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71000" y="3814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71000" y="38458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71000" y="3877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71000" y="39099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71000" y="3941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71000" y="39733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371000" y="4005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37100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371000" y="4069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37100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7100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37100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71000" y="4195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7100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71000" y="4259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71000" y="42919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371000" y="43236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371000" y="43556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371000" y="4387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71000" y="4419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71000" y="4451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371000" y="4482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71000" y="45151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371000" y="4546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371000" y="4578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371000" y="461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71000" y="4641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71000" y="46742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71000" y="4705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371000" y="4737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01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01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501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013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501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01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501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501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01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01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013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013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013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013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01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501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01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501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01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501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013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013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013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5013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5013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5013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013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013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013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5013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013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5013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5013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5013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013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5013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013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5013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5013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013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013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013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5013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5013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5013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5013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5013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5013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5013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5013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013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013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5013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5013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5013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5013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5013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5013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625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625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25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255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625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25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25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25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25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25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25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25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25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625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625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625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625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25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625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625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6255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6255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6255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255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255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255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255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255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255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6255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6255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6255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6255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6255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6255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625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255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25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25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5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255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25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6255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6255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6255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6255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6255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6255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6255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6255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6255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255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255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255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255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6255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6255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6255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241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6836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9548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122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74900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614120" y="2922480"/>
              <a:ext cx="720" cy="1831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581360" y="47538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581360" y="44935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81360" y="422820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81360" y="39679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581360" y="37080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81360" y="34477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581360" y="318276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81360" y="292248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14120" y="4753800"/>
              <a:ext cx="313452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461412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5241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86836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49548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7122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774900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614120" y="4594680"/>
              <a:ext cx="720" cy="5220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614120" y="4530600"/>
              <a:ext cx="720" cy="64080"/>
            </a:xfrm>
            <a:custGeom>
              <a:avLst/>
              <a:gdLst/>
              <a:ahLst/>
              <a:rect l="l" t="t" r="r" b="b"/>
              <a:pathLst>
                <a:path w="0" h="95">
                  <a:moveTo>
                    <a:pt x="0" y="95"/>
                  </a:move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614120" y="4478040"/>
              <a:ext cx="720" cy="5256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614120" y="4440240"/>
              <a:ext cx="720" cy="37440"/>
            </a:xfrm>
            <a:custGeom>
              <a:avLst/>
              <a:gdLst/>
              <a:ahLst/>
              <a:rect l="l" t="t" r="r" b="b"/>
              <a:pathLst>
                <a:path w="0" h="56">
                  <a:moveTo>
                    <a:pt x="0" y="56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614120" y="4387680"/>
              <a:ext cx="5760" cy="52560"/>
            </a:xfrm>
            <a:custGeom>
              <a:avLst/>
              <a:gdLst/>
              <a:ahLst/>
              <a:rect l="l" t="t" r="r" b="b"/>
              <a:pathLst>
                <a:path w="7" h="78">
                  <a:moveTo>
                    <a:pt x="0" y="78"/>
                  </a:moveTo>
                  <a:lnTo>
                    <a:pt x="0" y="39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620240" y="433404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620240" y="4297320"/>
              <a:ext cx="720" cy="367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20240" y="424368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20240" y="4206600"/>
              <a:ext cx="6480" cy="3672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0" y="55"/>
                  </a:moveTo>
                  <a:lnTo>
                    <a:pt x="0" y="24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4626720" y="4164120"/>
              <a:ext cx="720" cy="42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26720" y="4111560"/>
              <a:ext cx="6480" cy="52560"/>
            </a:xfrm>
            <a:custGeom>
              <a:avLst/>
              <a:gdLst/>
              <a:ahLst/>
              <a:rect l="l" t="t" r="r" b="b"/>
              <a:pathLst>
                <a:path w="8" h="78">
                  <a:moveTo>
                    <a:pt x="0" y="78"/>
                  </a:moveTo>
                  <a:lnTo>
                    <a:pt x="0" y="39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4633920" y="4073400"/>
            <a:ext cx="6480" cy="38160"/>
          </a:xfrm>
          <a:custGeom>
            <a:avLst/>
            <a:gdLst/>
            <a:ahLst/>
            <a:rect l="l" t="t" r="r" b="b"/>
            <a:pathLst>
              <a:path w="8" h="56">
                <a:moveTo>
                  <a:pt x="0" y="56"/>
                </a:moveTo>
                <a:lnTo>
                  <a:pt x="0" y="24"/>
                </a:lnTo>
                <a:lnTo>
                  <a:pt x="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4640400" y="4032360"/>
            <a:ext cx="12600" cy="410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4653000" y="3994200"/>
            <a:ext cx="7920" cy="38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4660920" y="3957480"/>
            <a:ext cx="11160" cy="3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672080" y="3914640"/>
            <a:ext cx="20520" cy="42840"/>
          </a:xfrm>
          <a:custGeom>
            <a:avLst/>
            <a:gdLst/>
            <a:ahLst/>
            <a:rect l="l" t="t" r="r" b="b"/>
            <a:pathLst>
              <a:path w="24" h="63">
                <a:moveTo>
                  <a:pt x="0" y="63"/>
                </a:moveTo>
                <a:lnTo>
                  <a:pt x="8" y="32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2600" y="3887640"/>
            <a:ext cx="27000" cy="2700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9"/>
                </a:moveTo>
                <a:lnTo>
                  <a:pt x="16" y="16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19600" y="3851280"/>
            <a:ext cx="31680" cy="36360"/>
          </a:xfrm>
          <a:custGeom>
            <a:avLst/>
            <a:gdLst/>
            <a:ahLst/>
            <a:rect l="l" t="t" r="r" b="b"/>
            <a:pathLst>
              <a:path w="39" h="55">
                <a:moveTo>
                  <a:pt x="0" y="55"/>
                </a:moveTo>
                <a:lnTo>
                  <a:pt x="15" y="24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751280" y="3824280"/>
            <a:ext cx="39960" cy="27000"/>
          </a:xfrm>
          <a:custGeom>
            <a:avLst/>
            <a:gdLst/>
            <a:ahLst/>
            <a:rect l="l" t="t" r="r" b="b"/>
            <a:pathLst>
              <a:path w="47" h="39">
                <a:moveTo>
                  <a:pt x="0" y="39"/>
                </a:moveTo>
                <a:lnTo>
                  <a:pt x="24" y="15"/>
                </a:lnTo>
                <a:lnTo>
                  <a:pt x="4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4791240" y="3796920"/>
            <a:ext cx="52200" cy="27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843440" y="3772080"/>
            <a:ext cx="65160" cy="2520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39"/>
                </a:moveTo>
                <a:lnTo>
                  <a:pt x="40" y="16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908600" y="3760920"/>
            <a:ext cx="90360" cy="11160"/>
          </a:xfrm>
          <a:custGeom>
            <a:avLst/>
            <a:gdLst/>
            <a:ahLst/>
            <a:rect l="l" t="t" r="r" b="b"/>
            <a:pathLst>
              <a:path w="110" h="16">
                <a:moveTo>
                  <a:pt x="0" y="16"/>
                </a:moveTo>
                <a:lnTo>
                  <a:pt x="55" y="8"/>
                </a:lnTo>
                <a:lnTo>
                  <a:pt x="11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998960" y="3735360"/>
            <a:ext cx="117720" cy="25560"/>
          </a:xfrm>
          <a:custGeom>
            <a:avLst/>
            <a:gdLst/>
            <a:ahLst/>
            <a:rect l="l" t="t" r="r" b="b"/>
            <a:pathLst>
              <a:path w="142" h="39">
                <a:moveTo>
                  <a:pt x="0" y="39"/>
                </a:moveTo>
                <a:lnTo>
                  <a:pt x="63" y="23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116680" y="3718080"/>
            <a:ext cx="150480" cy="17280"/>
          </a:xfrm>
          <a:custGeom>
            <a:avLst/>
            <a:gdLst/>
            <a:ahLst/>
            <a:rect l="l" t="t" r="r" b="b"/>
            <a:pathLst>
              <a:path w="181" h="24">
                <a:moveTo>
                  <a:pt x="0" y="24"/>
                </a:moveTo>
                <a:lnTo>
                  <a:pt x="87" y="8"/>
                </a:lnTo>
                <a:lnTo>
                  <a:pt x="181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67160" y="3692520"/>
            <a:ext cx="196920" cy="25560"/>
          </a:xfrm>
          <a:custGeom>
            <a:avLst/>
            <a:gdLst/>
            <a:ahLst/>
            <a:rect l="l" t="t" r="r" b="b"/>
            <a:pathLst>
              <a:path w="237" h="39">
                <a:moveTo>
                  <a:pt x="0" y="39"/>
                </a:moveTo>
                <a:lnTo>
                  <a:pt x="111" y="16"/>
                </a:lnTo>
                <a:lnTo>
                  <a:pt x="23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464080" y="3681360"/>
            <a:ext cx="254160" cy="11160"/>
          </a:xfrm>
          <a:custGeom>
            <a:avLst/>
            <a:gdLst/>
            <a:ahLst/>
            <a:rect l="l" t="t" r="r" b="b"/>
            <a:pathLst>
              <a:path w="307" h="16">
                <a:moveTo>
                  <a:pt x="0" y="16"/>
                </a:moveTo>
                <a:lnTo>
                  <a:pt x="141" y="8"/>
                </a:lnTo>
                <a:lnTo>
                  <a:pt x="220" y="8"/>
                </a:lnTo>
                <a:lnTo>
                  <a:pt x="30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718240" y="3654360"/>
            <a:ext cx="326880" cy="27000"/>
          </a:xfrm>
          <a:custGeom>
            <a:avLst/>
            <a:gdLst/>
            <a:ahLst/>
            <a:rect l="l" t="t" r="r" b="b"/>
            <a:pathLst>
              <a:path w="394" h="39">
                <a:moveTo>
                  <a:pt x="0" y="39"/>
                </a:moveTo>
                <a:lnTo>
                  <a:pt x="86" y="31"/>
                </a:lnTo>
                <a:lnTo>
                  <a:pt x="181" y="16"/>
                </a:lnTo>
                <a:lnTo>
                  <a:pt x="283" y="8"/>
                </a:lnTo>
                <a:lnTo>
                  <a:pt x="39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045120" y="3645000"/>
            <a:ext cx="430200" cy="9360"/>
          </a:xfrm>
          <a:custGeom>
            <a:avLst/>
            <a:gdLst/>
            <a:ahLst/>
            <a:rect l="l" t="t" r="r" b="b"/>
            <a:pathLst>
              <a:path w="519" h="16">
                <a:moveTo>
                  <a:pt x="0" y="16"/>
                </a:moveTo>
                <a:lnTo>
                  <a:pt x="118" y="8"/>
                </a:lnTo>
                <a:lnTo>
                  <a:pt x="244" y="8"/>
                </a:lnTo>
                <a:lnTo>
                  <a:pt x="378" y="8"/>
                </a:lnTo>
                <a:lnTo>
                  <a:pt x="51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475320" y="3618000"/>
            <a:ext cx="561960" cy="27000"/>
          </a:xfrm>
          <a:custGeom>
            <a:avLst/>
            <a:gdLst/>
            <a:ahLst/>
            <a:rect l="l" t="t" r="r" b="b"/>
            <a:pathLst>
              <a:path w="678" h="39">
                <a:moveTo>
                  <a:pt x="0" y="39"/>
                </a:moveTo>
                <a:lnTo>
                  <a:pt x="158" y="31"/>
                </a:lnTo>
                <a:lnTo>
                  <a:pt x="315" y="23"/>
                </a:lnTo>
                <a:lnTo>
                  <a:pt x="489" y="8"/>
                </a:lnTo>
                <a:lnTo>
                  <a:pt x="67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037280" y="3602160"/>
            <a:ext cx="725760" cy="15840"/>
          </a:xfrm>
          <a:custGeom>
            <a:avLst/>
            <a:gdLst/>
            <a:ahLst/>
            <a:rect l="l" t="t" r="r" b="b"/>
            <a:pathLst>
              <a:path w="874" h="24">
                <a:moveTo>
                  <a:pt x="0" y="24"/>
                </a:moveTo>
                <a:lnTo>
                  <a:pt x="197" y="16"/>
                </a:lnTo>
                <a:lnTo>
                  <a:pt x="409" y="8"/>
                </a:lnTo>
                <a:lnTo>
                  <a:pt x="630" y="8"/>
                </a:lnTo>
                <a:lnTo>
                  <a:pt x="87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Frutiger 55 Roman"/>
              </a:rPr>
              <a:t>Oil-Gas Ratio is the most important parameter for characterising condensate fluids</a:t>
            </a:r>
            <a:endParaRPr b="1" lang="en-US" sz="2800" spc="-1" strike="noStrike">
              <a:solidFill>
                <a:srgbClr val="000080"/>
              </a:solidFill>
              <a:latin typeface="Frutiger 55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8902800" cy="5473800"/>
          </a:xfrm>
          <a:prstGeom prst="rect">
            <a:avLst/>
          </a:prstGeom>
          <a:ln w="0">
            <a:noFill/>
          </a:ln>
        </p:spPr>
      </p:pic>
      <p:sp>
        <p:nvSpPr>
          <p:cNvPr id="1887" name=""/>
          <p:cNvSpPr/>
          <p:nvPr/>
        </p:nvSpPr>
        <p:spPr>
          <a:xfrm>
            <a:off x="3375360" y="4227480"/>
            <a:ext cx="6055920" cy="9554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mbo"/>
              </a:rPr>
              <a:t>OGR falls as pressure dec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emb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mbo"/>
              </a:rPr>
              <a:t>liquid condenses near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 flipV="1">
            <a:off x="4520880" y="3162240"/>
            <a:ext cx="1181160" cy="990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Liquid build-up in lean gas condensate reservoir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4440240" y="1285560"/>
            <a:ext cx="144360" cy="3502440"/>
            <a:chOff x="4440240" y="1285560"/>
            <a:chExt cx="144360" cy="3502440"/>
          </a:xfrm>
        </p:grpSpPr>
        <p:grpSp>
          <p:nvGrpSpPr>
            <p:cNvPr id="1894" name=""/>
            <p:cNvGrpSpPr/>
            <p:nvPr/>
          </p:nvGrpSpPr>
          <p:grpSpPr>
            <a:xfrm>
              <a:off x="4440240" y="1532160"/>
              <a:ext cx="144360" cy="3255840"/>
              <a:chOff x="4440240" y="1532160"/>
              <a:chExt cx="144360" cy="3255840"/>
            </a:xfrm>
          </p:grpSpPr>
          <p:sp>
            <p:nvSpPr>
              <p:cNvPr id="1895" name=""/>
              <p:cNvSpPr/>
              <p:nvPr/>
            </p:nvSpPr>
            <p:spPr>
              <a:xfrm>
                <a:off x="444492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58460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440240" y="15321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440240" y="47134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 flipV="1">
              <a:off x="4506840" y="1285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4614840" y="3290760"/>
            <a:ext cx="0" cy="1478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614840" y="4768920"/>
            <a:ext cx="3154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4556160" y="2938320"/>
            <a:ext cx="3196800" cy="1860120"/>
            <a:chOff x="4556160" y="2938320"/>
            <a:chExt cx="3196800" cy="1860120"/>
          </a:xfrm>
        </p:grpSpPr>
        <p:grpSp>
          <p:nvGrpSpPr>
            <p:cNvPr id="1903" name=""/>
            <p:cNvGrpSpPr/>
            <p:nvPr/>
          </p:nvGrpSpPr>
          <p:grpSpPr>
            <a:xfrm>
              <a:off x="4556160" y="2938320"/>
              <a:ext cx="3196800" cy="1860120"/>
              <a:chOff x="4556160" y="2938320"/>
              <a:chExt cx="3196800" cy="1860120"/>
            </a:xfrm>
          </p:grpSpPr>
          <p:grpSp>
            <p:nvGrpSpPr>
              <p:cNvPr id="1904" name=""/>
              <p:cNvGrpSpPr/>
              <p:nvPr/>
            </p:nvGrpSpPr>
            <p:grpSpPr>
              <a:xfrm>
                <a:off x="4586760" y="2938320"/>
                <a:ext cx="3153240" cy="1833480"/>
                <a:chOff x="4586760" y="2938320"/>
                <a:chExt cx="3153240" cy="18334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586760" y="2938320"/>
                  <a:ext cx="3153240" cy="1833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4586760" y="451152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586760" y="424548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4586760" y="398520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4586760" y="372456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586760" y="346428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586760" y="319824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4586760" y="293832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471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471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471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471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71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71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471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471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71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471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471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71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471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471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471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71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71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71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71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71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71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71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71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1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1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1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1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47106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471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71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71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71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471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1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71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71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471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1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7106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471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471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471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71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47106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71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471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471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71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71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71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71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71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71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71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471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71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471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4840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840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840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840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4840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4840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4840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840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4840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4840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840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840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840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840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4840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4840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4840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4840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4840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40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840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4840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48402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4840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4840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840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840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840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840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840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840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840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40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840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4840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840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840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840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840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840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840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840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40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48402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4840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4840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840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840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840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4840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840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840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840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840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4840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4840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840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840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496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96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96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496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96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96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96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96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6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96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96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96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96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96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96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96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96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96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96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96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96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96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96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96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96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96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96404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96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96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96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96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96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96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96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96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96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96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96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96404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96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96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96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96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96404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9640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9640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9640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9640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9640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9640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9640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9640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9640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9640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640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640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640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936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936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0936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0936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0936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0936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0936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0936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0936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0936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0936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0936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0936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0936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0936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0936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0936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0936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5093640" y="2938320"/>
                <a:ext cx="506520" cy="1828080"/>
                <a:chOff x="5093640" y="2938320"/>
                <a:chExt cx="506520" cy="182808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50936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0936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50936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50936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0936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50936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50936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0936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50936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50936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50936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50936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50936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0936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0936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0936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50936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0936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50936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50936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50936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0936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50936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50936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50936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50936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0936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0936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0936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50936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50936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50936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0936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50936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50936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50936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50936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50936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50936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50936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534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34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534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534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534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534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534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34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534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534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534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534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34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34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34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534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534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534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534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34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534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534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534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534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534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534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534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53406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534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534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534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534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534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534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534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534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534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34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534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3406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34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534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34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534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53406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534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34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534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534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534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34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34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34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34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34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34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34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4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4709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4709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4709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4709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4709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4709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4709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4709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4709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4709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4709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54709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4709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54709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54709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4709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54709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54709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54709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54709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4709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54709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47092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4709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54709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54709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54709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547092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54709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4709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4709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4709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4709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4709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4709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4709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54709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54709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54709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547092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54709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4709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4709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547092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547092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54709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4709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4709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54709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54709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4709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54709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4709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4709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54709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4709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54709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4709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59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59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59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559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559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9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59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59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59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59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59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59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59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59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59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559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59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59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59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59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59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59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59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59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9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59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59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5940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59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59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9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59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59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59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59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59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59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59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59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5940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59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59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559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559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5594400" y="2938320"/>
                <a:ext cx="636480" cy="1828080"/>
                <a:chOff x="5594400" y="2938320"/>
                <a:chExt cx="636480" cy="182808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5594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5594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594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5594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5594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5594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594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5594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5594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5594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5594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5594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5594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5594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572436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572436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72436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572436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72436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572436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72436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572436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72436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72436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72436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572436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72436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572436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72436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572436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572436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572436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72436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572436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72436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572436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572436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572436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572436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572436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72436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72436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572436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572436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72436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72436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72436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72436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72436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72436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72436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72436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72436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72436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72436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72436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72436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72436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72436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72436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72436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2436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2436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72436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72436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72436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72436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572436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572436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572436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72436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572436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9716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9716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9716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9716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59716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9716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59716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59716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9716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9716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59716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9716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9716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59716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9716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9716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59716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9716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9716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59716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9716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59716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59716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9716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9716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9716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9716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9716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9716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9716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9716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9716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9716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9716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9716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716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9716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9716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9716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9716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9716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9716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9716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9716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9716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9716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9716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9716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9716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9716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9716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9716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9716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9716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9716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9716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716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59716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1012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1012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1012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61012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1012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61012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1012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1012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1012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61012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1012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1012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1012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1012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012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1012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1012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1012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1012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012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1012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1012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1012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1012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1012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012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1012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1012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1012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1012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1012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1012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012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1012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1012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1012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1012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1012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012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1012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1012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1012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1012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012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1012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1012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1012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1012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1012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1012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1012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1012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1012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1012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1012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1012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1012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1012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22548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22548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22548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22548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22548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22548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22548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22548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22548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22548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22548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22548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6225840" y="2938320"/>
                <a:ext cx="512280" cy="1828080"/>
                <a:chOff x="6225840" y="2938320"/>
                <a:chExt cx="512280" cy="182808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622584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622584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622584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622584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622584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622584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22584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622584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622584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22584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622584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622584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622584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622584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22584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622584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622584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622584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622584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622584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622584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622584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622584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622584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622584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622584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622584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622584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622584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622584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622584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622584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622584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622584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622584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622584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622584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622584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622584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622584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622584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622584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622584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22584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22584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22584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6355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6355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6355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6355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355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6355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6355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6355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6355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6355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6355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6355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6355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6355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6355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6355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6355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6355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6355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6355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6355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6355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3550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6355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6355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355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355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63550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6355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6355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6355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355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6355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6355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355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6355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355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355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355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550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355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355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355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63550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3550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6355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6355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355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6355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55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55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6355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355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6355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6355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6355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6355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6355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66024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66024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66024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66024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66024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66024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6024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66024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66024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6024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6024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66024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66024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6024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6024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6024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66024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66024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66024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66024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6024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66024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66024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66024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66024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66024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66024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66024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66024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66024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66024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66024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66024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6024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66024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66024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66024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66024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66024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66024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66024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66024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66024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66024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6602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6602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6602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6602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6602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6602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6602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6602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6602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602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602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6602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6602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6602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67320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67320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67320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67320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67320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67320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67320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67320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67320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7320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7320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67320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67320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67320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67320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67320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67320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67320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67320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67320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67320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67320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7320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67320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67320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67320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67320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67320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67320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67320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67320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67320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7320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67320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67320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67320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7320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67320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6732000" y="2938320"/>
                <a:ext cx="637200" cy="1828080"/>
                <a:chOff x="6732000" y="2938320"/>
                <a:chExt cx="637200" cy="182808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67320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67320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67320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67320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67320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67320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67320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67320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67320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67320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67320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67320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67320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7320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7320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7320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7320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67320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7320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7320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8558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8558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8558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8558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8558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8558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8558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8558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8558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68558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68558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68558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68558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68558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68558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68558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68558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8558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68558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68558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8558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8558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68558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8558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68558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8558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8558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68558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68558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68558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68558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68558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68558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68558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68558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8558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8558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68558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68558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68558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68558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68558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8558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68558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8558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68558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8558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8558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8558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8558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68558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68558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68558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68558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68558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68558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68558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68558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69854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69854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69854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69854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9854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69854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9854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69854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69854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69854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69854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9854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69854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69854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69854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69854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69854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69854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69854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9854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69854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69854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69854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69854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69854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9854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69854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69854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9854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69854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69854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69854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69854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69854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69854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69854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69854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69854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69854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69854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69854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69854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69854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69854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69854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69854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69854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69854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69854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69854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69854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69854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69854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69854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69854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9854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9854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9854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23276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23276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23276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23276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23276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23276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23276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23276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23276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23276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23276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23276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23276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23276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23276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23276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23276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23276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23276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23276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23276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23276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23276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23276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23276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23276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23276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23276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23276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23276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23276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23276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23276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23276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23276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23276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23276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23276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723276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723276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23276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23276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723276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23276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23276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23276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23276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23276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23276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23276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23276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23276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23276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23276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723276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23276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723276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3276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363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363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363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363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363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363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4556160" y="2938320"/>
                <a:ext cx="3184560" cy="1860120"/>
                <a:chOff x="4556160" y="2938320"/>
                <a:chExt cx="3184560" cy="186012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7363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363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7363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363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363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363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363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363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363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7363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363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7363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363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363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363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7363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36308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363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7363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363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363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36308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7363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363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7363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363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7363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7363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363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363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7363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7363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363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736308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7363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7363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7363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36308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36308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363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7363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7363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7363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7363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363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363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363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7363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7363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7363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363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363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486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7486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7486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486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486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486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486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486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486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486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7486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486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486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7486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7486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7486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486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7486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486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7486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7486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7486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748620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7486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7486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7486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7486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486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486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486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7486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486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7486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486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486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7486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486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7486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486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7486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486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486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486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48620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7486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486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7486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486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486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486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7486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486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486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486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486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486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486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486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6165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6165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6165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6165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6165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6165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6165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6165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6165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6165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6165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6165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6165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6165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6165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6165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6165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6165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76165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76165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6165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76165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61652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6165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76165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6165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76165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61652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76165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76165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76165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76165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76165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76165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6165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76165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76165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76165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76165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61652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6165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76165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76165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761652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761652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76165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76165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76165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76165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76165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76165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6165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6165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6165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6165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6165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6165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6165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21784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84820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647928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710964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774000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58676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4556160" y="477180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4556160" y="451152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4556160" y="424548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4556160" y="3985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4556160" y="3724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4556160" y="346428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4556160" y="319824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4556160" y="293832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4586760" y="4771800"/>
                  <a:ext cx="315288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V="1">
                  <a:off x="458676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V="1">
                  <a:off x="521784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V="1">
                  <a:off x="584820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flipV="1">
                  <a:off x="647928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710964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flipV="1">
                  <a:off x="774000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4586760" y="32299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4586760" y="32461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4586760" y="3262680"/>
                  <a:ext cx="72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4586760" y="327276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4592880" y="3288960"/>
                  <a:ext cx="360" cy="15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4592880" y="3304800"/>
                  <a:ext cx="360" cy="15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4592880" y="332064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4592880" y="3336840"/>
                  <a:ext cx="61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4599360" y="335232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4599360" y="336852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4605480" y="3384720"/>
                  <a:ext cx="7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0" name=""/>
              <p:cNvSpPr/>
              <p:nvPr/>
            </p:nvSpPr>
            <p:spPr>
              <a:xfrm>
                <a:off x="4605480" y="3400200"/>
                <a:ext cx="1260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618080" y="3421800"/>
                <a:ext cx="612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624200" y="3437640"/>
                <a:ext cx="1152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636080" y="3459240"/>
                <a:ext cx="12600" cy="3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648680" y="3490920"/>
                <a:ext cx="18720" cy="5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667760" y="3548880"/>
                <a:ext cx="241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691880" y="3607560"/>
                <a:ext cx="313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23200" y="3666600"/>
                <a:ext cx="42840" cy="122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766400" y="3788640"/>
                <a:ext cx="49320" cy="42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815720" y="4213800"/>
                <a:ext cx="67320" cy="22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883400" y="4442040"/>
                <a:ext cx="93240" cy="12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976640" y="4569840"/>
                <a:ext cx="116640" cy="6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093640" y="4639320"/>
                <a:ext cx="147960" cy="47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241960" y="4686840"/>
                <a:ext cx="19764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439960" y="4708440"/>
                <a:ext cx="25344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693400" y="4723920"/>
                <a:ext cx="334440" cy="10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27840" y="4734720"/>
                <a:ext cx="432360" cy="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460560" y="4740120"/>
                <a:ext cx="56268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023240" y="4745520"/>
                <a:ext cx="72900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2600" y="4750920"/>
                <a:ext cx="36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0" name=""/>
            <p:cNvSpPr/>
            <p:nvPr/>
          </p:nvSpPr>
          <p:spPr>
            <a:xfrm>
              <a:off x="4586400" y="3260520"/>
              <a:ext cx="1461960" cy="1514520"/>
            </a:xfrm>
            <a:custGeom>
              <a:avLst/>
              <a:gdLst/>
              <a:ahLst/>
              <a:rect l="l" t="t" r="r" b="b"/>
              <a:pathLst>
                <a:path w="921" h="954">
                  <a:moveTo>
                    <a:pt x="0" y="0"/>
                  </a:moveTo>
                  <a:lnTo>
                    <a:pt x="0" y="948"/>
                  </a:lnTo>
                  <a:lnTo>
                    <a:pt x="921" y="954"/>
                  </a:lnTo>
                  <a:lnTo>
                    <a:pt x="909" y="930"/>
                  </a:lnTo>
                  <a:cubicBezTo>
                    <a:pt x="780" y="924"/>
                    <a:pt x="651" y="919"/>
                    <a:pt x="522" y="912"/>
                  </a:cubicBezTo>
                  <a:cubicBezTo>
                    <a:pt x="493" y="911"/>
                    <a:pt x="435" y="906"/>
                    <a:pt x="435" y="906"/>
                  </a:cubicBezTo>
                  <a:cubicBezTo>
                    <a:pt x="432" y="907"/>
                    <a:pt x="426" y="909"/>
                    <a:pt x="426" y="909"/>
                  </a:cubicBezTo>
                  <a:lnTo>
                    <a:pt x="408" y="900"/>
                  </a:lnTo>
                  <a:lnTo>
                    <a:pt x="312" y="876"/>
                  </a:lnTo>
                  <a:lnTo>
                    <a:pt x="261" y="834"/>
                  </a:lnTo>
                  <a:lnTo>
                    <a:pt x="192" y="756"/>
                  </a:lnTo>
                  <a:lnTo>
                    <a:pt x="156" y="657"/>
                  </a:lnTo>
                  <a:lnTo>
                    <a:pt x="141" y="603"/>
                  </a:lnTo>
                  <a:lnTo>
                    <a:pt x="135" y="573"/>
                  </a:lnTo>
                  <a:lnTo>
                    <a:pt x="114" y="336"/>
                  </a:lnTo>
                  <a:lnTo>
                    <a:pt x="90" y="252"/>
                  </a:lnTo>
                  <a:lnTo>
                    <a:pt x="54" y="183"/>
                  </a:lnTo>
                  <a:lnTo>
                    <a:pt x="18" y="114"/>
                  </a:lnTo>
                  <a:lnTo>
                    <a:pt x="15" y="90"/>
                  </a:lnTo>
                  <a:lnTo>
                    <a:pt x="6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1" name=""/>
          <p:cNvSpPr/>
          <p:nvPr/>
        </p:nvSpPr>
        <p:spPr>
          <a:xfrm>
            <a:off x="5245200" y="4757760"/>
            <a:ext cx="2523960" cy="46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992160" y="1576440"/>
            <a:ext cx="251316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25% near well b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116760" y="5346720"/>
            <a:ext cx="251280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 2% away from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505320" y="1979640"/>
            <a:ext cx="761760" cy="12193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7470720" y="4800240"/>
            <a:ext cx="0" cy="5461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464000" y="420840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731520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 flipH="1">
            <a:off x="74674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71629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739152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H="1">
            <a:off x="75438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75438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70866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H="1">
            <a:off x="472428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6248520" y="37339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594360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62485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594360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>
            <a:off x="609588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624852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69343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6553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670572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632448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487692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50292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5410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H="1">
            <a:off x="571500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H="1">
            <a:off x="6172200" y="35053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5715000" y="4267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62485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 flipH="1">
            <a:off x="49528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4724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 flipH="1">
            <a:off x="495288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 flipH="1">
            <a:off x="525780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53341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55627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6248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6019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 flipH="1">
            <a:off x="68580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7010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716292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67816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69343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7" name=""/>
          <p:cNvGrpSpPr/>
          <p:nvPr/>
        </p:nvGrpSpPr>
        <p:grpSpPr>
          <a:xfrm>
            <a:off x="6553080" y="3809880"/>
            <a:ext cx="466560" cy="836640"/>
            <a:chOff x="6553080" y="3809880"/>
            <a:chExt cx="466560" cy="836640"/>
          </a:xfrm>
        </p:grpSpPr>
        <p:sp>
          <p:nvSpPr>
            <p:cNvPr id="3178" name=""/>
            <p:cNvSpPr/>
            <p:nvPr/>
          </p:nvSpPr>
          <p:spPr>
            <a:xfrm flipH="1">
              <a:off x="6781680" y="42670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6858000" y="38862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655308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6553080" y="38098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693396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933960" y="441972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6553080" y="43434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67816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>
              <a:off x="65530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7" name=""/>
          <p:cNvSpPr/>
          <p:nvPr/>
        </p:nvSpPr>
        <p:spPr>
          <a:xfrm flipH="1">
            <a:off x="59436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571500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54864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59436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6019920" y="40384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7391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74674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71629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72388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754380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762012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7162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746748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H="1">
            <a:off x="716292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73915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731520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67057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65530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640080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66294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H="1">
            <a:off x="754380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09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3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inear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2" name=""/>
          <p:cNvGraphicFramePr/>
          <p:nvPr/>
        </p:nvGraphicFramePr>
        <p:xfrm>
          <a:off x="228600" y="11318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318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4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og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7" name=""/>
          <p:cNvGraphicFramePr/>
          <p:nvPr/>
        </p:nvGraphicFramePr>
        <p:xfrm>
          <a:off x="228600" y="10796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796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9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22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3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14:06:46Z</dcterms:created>
  <dc:creator>AEA Technology</dc:creator>
  <dc:description/>
  <dc:language>en-US</dc:language>
  <cp:lastModifiedBy>Robert Mott</cp:lastModifiedBy>
  <cp:lastPrinted>2000-04-06T12:34:46Z</cp:lastPrinted>
  <dcterms:modified xsi:type="dcterms:W3CDTF">2004-03-05T10:17:57Z</dcterms:modified>
  <cp:revision>144</cp:revision>
  <dc:subject/>
  <dc:title>AEA Technology OHT presentation templates</dc:title>
</cp:coreProperties>
</file>