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CA1A-BE8F-452A-B5F1-E1B12CEBE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6A18-CADB-4469-87F4-7B34E8BF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2B70-FC5D-4674-BD92-C2D13AE45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BFA8-1AF8-465E-9C06-445F21F03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91F6-786A-43AB-A4C2-A45B765C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9066-96E7-4D5A-8DA5-D493AD8D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9B3E-AF46-4F12-B400-1041CAD1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2D80-9829-46B2-81CF-A7F15F95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BEE0-27DA-45CA-B06C-04D5B15F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F9A5-E916-4443-AEA7-72525C5F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98E4-2810-49CA-A3C8-86354A97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8107-8293-41BC-A3A7-234BD1AC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17C6-230D-42DF-AA5D-5D5DBB99A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6858000" cy="603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90920" y="1752480"/>
            <a:ext cx="1447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itical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33920" y="205740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62720" y="1600200"/>
            <a:ext cx="0" cy="4267080"/>
          </a:xfrm>
          <a:prstGeom prst="line">
            <a:avLst/>
          </a:prstGeom>
          <a:ln w="507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487692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30% 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4191120"/>
            <a:ext cx="1143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cc"/>
                </a:solidFill>
                <a:latin typeface="Arial"/>
              </a:rPr>
              <a:t>20% 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3962520"/>
            <a:ext cx="6858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4800600"/>
            <a:ext cx="685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80120" y="990720"/>
            <a:ext cx="16635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nitial reservo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562360" y="1523880"/>
            <a:ext cx="5331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1905120"/>
            <a:ext cx="1828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ew point 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Reservoir tem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562360" y="24382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1280" y="152280"/>
            <a:ext cx="62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-T diagram for gas condensate reserv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1T11:33:54Z</dcterms:modified>
  <cp:revision>12</cp:revision>
  <dc:subject/>
  <dc:title>PowerPoint Presentation</dc:title>
</cp:coreProperties>
</file>