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D999-2222-4417-B12A-768AD43E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6BAF-4403-4F85-A316-4312C22E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357E-5064-43EE-A47B-90BF55FD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5716-77A0-40E4-9CE0-36AF6A26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6E31-1A5B-43C9-B481-0F287FBB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B9A5-45D8-43D7-927E-922EE54E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16C8-11A4-4A99-B960-02B9FF96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4A6E-0D15-4D80-AA7B-DA0CE83B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8FC3-352C-4E18-954F-4DE786E2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735C-F530-4D6F-82E8-9FE342A5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3089-E1BF-4362-B44B-637DFA4D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4138-542A-4A36-A350-CED867B9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AD1F-6208-4FD3-B5CB-D714F582B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63440" y="113976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and two-phase pseudopress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3886200"/>
            <a:ext cx="1981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438280"/>
            <a:ext cx="19814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45:00Z</dcterms:modified>
  <cp:revision>22</cp:revision>
  <dc:subject/>
  <dc:title>PowerPoint Presentation</dc:title>
</cp:coreProperties>
</file>