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663-BDAE-4BFA-97A2-904E4377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3E2A-D5C5-4924-A02A-31C92CDA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BD1A-0877-44DB-94A5-38827079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EF14-6D8C-4D64-BA38-5A60EB6E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EF20-2A75-43C0-8D31-B214A469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E2F7-C9CA-4240-95D3-3137F834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ABF-7299-4EE3-9F11-5D4CD319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2E91-C85F-4E63-9E87-EDAF4593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9E1-26B1-4349-A4EB-0F92A3AA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572C-F921-48C0-A9F4-2BE81D6C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D87F-D7EC-4F0F-9FC0-45145D76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2262-C341-4D0D-A6B3-4DF7A96A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E804-CC09-4F3D-A7C7-C6BB0F6D3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atching flowing bottom hole pressure data from a multi-rate well test using single well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5064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57400" y="190512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Simulation (including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58128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el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6019920" y="4495680"/>
            <a:ext cx="380880" cy="76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426708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mulation (no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599840" y="3429000"/>
            <a:ext cx="304920" cy="457200"/>
          </a:xfrm>
          <a:prstGeom prst="line">
            <a:avLst/>
          </a:prstGeom>
          <a:ln w="2232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828800" y="2590920"/>
            <a:ext cx="533520" cy="60948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9:06Z</dcterms:modified>
  <cp:revision>21</cp:revision>
  <dc:subject/>
  <dc:title>PowerPoint Presentation</dc:title>
</cp:coreProperties>
</file>