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2DCA-213F-453E-82FF-8986054E00BF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1F4C-7886-4915-A2CA-49BDF159A861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1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541520"/>
                <a:ext cx="24354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962520" y="1593720"/>
                <a:ext cx="23619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472428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05520" y="6172200"/>
            <a:ext cx="14223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6840" y="5105520"/>
            <a:ext cx="1442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48160" y="7789680"/>
            <a:ext cx="0" cy="49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10200" y="8228160"/>
            <a:ext cx="12319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5000" y="1981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41560" y="3200400"/>
                <a:ext cx="457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429000" y="4191120"/>
            <a:ext cx="32004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657240" y="3962160"/>
            <a:ext cx="60948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0:47Z</dcterms:modified>
  <cp:revision>102</cp:revision>
  <dc:subject/>
  <dc:title>PowerPoint Presentation</dc:title>
</cp:coreProperties>
</file>