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9189-5240-4BA5-B508-1C7E492AE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5BFD-59FE-4F85-8019-58C88070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C01C-7E82-4ADD-A5A8-23EF9F0DE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852C-EC98-4771-97D9-3CE65C2E6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115E-AC49-4A10-9A51-77E1EF1B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A9BC-B7A3-4A5D-99D7-C5040695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0BA4-8B0D-4820-B5D7-AE96662D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CCD4-5C75-4241-8C95-235B1D17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2CB6-46E6-4179-A5FE-0DFEB853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4AD0-4192-4EBF-A47B-C24AC2A3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2714-FD89-4E7A-9E57-4DF310B0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73CE-0DA7-4A25-9751-D2A21CA6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961C-07C1-465D-BD2A-19622F6BF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1-phase-build-up.ppt" TargetMode="External"/><Relationship Id="rId2" Type="http://schemas.openxmlformats.org/officeDocument/2006/relationships/hyperlink" Target="file:///3-region-composite.ppt" TargetMode="External"/><Relationship Id="rId3" Type="http://schemas.openxmlformats.org/officeDocument/2006/relationships/hyperlink" Target="file:///2-phase-build-up.ppt" TargetMode="External"/><Relationship Id="rId4" Type="http://schemas.openxmlformats.org/officeDocument/2006/relationships/hyperlink" Target="file:///Multi-rate-test.ppt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760" y="206280"/>
            <a:ext cx="8610480" cy="67838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ransient data during a pressure build-up can be analyzed to try and understand gas condensate well performance, by plotting the change in pseudopressure and its derivative [with respect to log(</a:t>
            </a:r>
            <a:r>
              <a:rPr b="0" lang="en-US" sz="16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)] on a log-log plo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build-up analysis is influenced by a near-well condensate bank with reduced k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.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Using a single-phase gas pseudopressure to interpret well test data usually requires a radial-composite model with 2 zones. This will give information on the gas permeability in the bank and the size of the bank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1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Some wells may show 3-region composite radial behavior, caused by increased gas mobility at high capillary numbers near to the well. This is an area of current research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2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Using two-phase pseudopressure to interpret well test data requires a set of relative permeability curves, krg=f(krg/kro,Nc), and uses the steady-state flow theory (e.g. Fevang-Whitson method) to calculate pseudopressure, resulting in ‘normal semi-log’ radial behavior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3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Multi-rate tests can also be used to understand condensate well performance, by history matching  single-well simulation models. This is usually the most reliable way of confirming the benefit of capillary number effects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4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34:14Z</dcterms:modified>
  <cp:revision>18</cp:revision>
  <dc:subject/>
  <dc:title>PowerPoint Presentation</dc:title>
</cp:coreProperties>
</file>