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11963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C9B0-3C83-4F30-BBFC-C71F42DA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A1E1-F59D-4C86-A08D-C91617EC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4992-3CAD-4D78-8AE4-87231BDF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3BF4-87AC-4B00-9498-1C60EEA4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4B82-6C10-4FB8-B1C2-928A043E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5F5C-0E14-4AAB-93ED-89A474C9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8C72-7867-447C-B80A-987BB07F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458B-E318-48FE-B285-FA2239D1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E61D-AEA2-4FA3-A53F-B91A1848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1C65-10CC-4552-BEDE-36E42164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5F1A-9DEA-4841-8BB6-ECE1B41C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1346-03F8-4865-A9B7-80329BC6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04D1-D474-4CC8-9049-5BA3D8FAB114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C9AD-172E-493F-9804-3B9F5B197E9F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../../GC-Papers/SPE28749-Arun.pdf" TargetMode="External"/><Relationship Id="rId3" Type="http://schemas.openxmlformats.org/officeDocument/2006/relationships/hyperlink" Target="file:///../../GC-Papers/TIPM-Whitson-Fevang-Saevareid-GC-RelPerm.pdf" TargetMode="External"/><Relationship Id="rId4" Type="http://schemas.openxmlformats.org/officeDocument/2006/relationships/hyperlink" Target="file:///../../GC-Papers/TIPM-Whitson-Fevang-Saevareid-GC-RelPerm.pdf" TargetMode="External"/><Relationship Id="rId5" Type="http://schemas.openxmlformats.org/officeDocument/2006/relationships/hyperlink" Target="file:///../../E-NOTES/GC-PAPERS/SPE56476-FEVANG-WHITSON-GC-RELPERM.PDF" TargetMode="External"/><Relationship Id="rId6" Type="http://schemas.openxmlformats.org/officeDocument/2006/relationships/hyperlink" Target="file:///../../GC-Papers/IBC1997Paper.pdf" TargetMode="External"/><Relationship Id="rId7" Type="http://schemas.openxmlformats.org/officeDocument/2006/relationships/hyperlink" Target="file:///../../GC-Papers/SPE86298-Mott.pdf" TargetMode="External"/><Relationship Id="rId8" Type="http://schemas.openxmlformats.org/officeDocument/2006/relationships/hyperlink" Target="file:///../../GC-Papers/SPE86298-Mott.pdf" TargetMode="External"/><Relationship Id="rId9" Type="http://schemas.openxmlformats.org/officeDocument/2006/relationships/hyperlink" Target="file:///../GC-RATE-EXAMPLE+RESULTS.PPT" TargetMode="External"/><Relationship Id="rId10" Type="http://schemas.openxmlformats.org/officeDocument/2006/relationships/hyperlink" Target="file:///../Calculate-krg_kro.xls" TargetMode="External"/><Relationship Id="rId11" Type="http://schemas.openxmlformats.org/officeDocument/2006/relationships/hyperlink" Target="file:///../Calculate-krg_kro.xls" TargetMode="External"/><Relationship Id="rId12" Type="http://schemas.openxmlformats.org/officeDocument/2006/relationships/hyperlink" Target="file:///../Calculate-krg_kro.xls" TargetMode="External"/><Relationship Id="rId13" Type="http://schemas.openxmlformats.org/officeDocument/2006/relationships/hyperlink" Target="file:///../Calculate-krg_kro.xls" TargetMode="External"/><Relationship Id="rId14" Type="http://schemas.openxmlformats.org/officeDocument/2006/relationships/hyperlink" Target="file:///../Calculate-krg_kro.xls" TargetMode="External"/><Relationship Id="rId15" Type="http://schemas.openxmlformats.org/officeDocument/2006/relationships/hyperlink" Target="file:///../Calculate-krg_kro.xls" TargetMode="Externa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28480" y="155520"/>
            <a:ext cx="577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ate Equ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4800" y="5410080"/>
            <a:ext cx="6188400" cy="33588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he volumetric rate equation for a gas condensate well can be expressed in terms of a 2-phase pseudopressure integral.  The pseudopressure accounts for ‘condensate blockage’ by including relative permeability k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inside the pressure integral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Flow </a:t>
            </a:r>
            <a:r>
              <a:rPr b="0" lang="nb-NO" sz="1000" spc="-1" strike="noStrike">
                <a:solidFill>
                  <a:srgbClr val="a50021"/>
                </a:solidFill>
                <a:latin typeface="Comic Sans MS"/>
              </a:rPr>
              <a:t>to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a gas condensate well can be modeled by three regions around the well.  Region 1 – the area closest to the well where both oil and gas phases are flowing – dictates productivity loss o</a:t>
            </a:r>
            <a:r>
              <a:rPr b="0" lang="nb-NO" sz="1000" spc="-1" strike="noStrike">
                <a:solidFill>
                  <a:srgbClr val="a50021"/>
                </a:solidFill>
                <a:latin typeface="Comic Sans MS"/>
              </a:rPr>
              <a:t>r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‘condensate blockage’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The flowing composition is constant in Region 1.  The single phase gas entering Region 1 has the same composition as the producing wellbore mixture; this observation leads to the the equation for 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/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o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(p)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 in Region 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The pseudopressure integral can be used to model condensate blockage in coarse grid reservoir simulation models; or it can be combined with material balance models to provide a simple model of condensate well performan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The 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pseudopressure integral can be extended to include high-velocity and IFT effects on relative permeability -- improvement from high capillary numbers and reduction from ‘inertial’ non-Darcy flow.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849240" y="1295280"/>
                <a:ext cx="5159520" cy="14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976560" y="4672080"/>
                <a:ext cx="2306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808440" y="2846520"/>
                <a:ext cx="21193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032360" y="3862440"/>
                <a:ext cx="21636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228600" y="2895480"/>
            <a:ext cx="3479760" cy="2387880"/>
            <a:chOff x="228600" y="2895480"/>
            <a:chExt cx="3479760" cy="2387880"/>
          </a:xfrm>
        </p:grpSpPr>
        <p:grpSp>
          <p:nvGrpSpPr>
            <p:cNvPr id="49" name=""/>
            <p:cNvGrpSpPr/>
            <p:nvPr/>
          </p:nvGrpSpPr>
          <p:grpSpPr>
            <a:xfrm>
              <a:off x="350640" y="2959200"/>
              <a:ext cx="3294720" cy="2262240"/>
              <a:chOff x="350640" y="2959200"/>
              <a:chExt cx="3294720" cy="226224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401400" y="3198960"/>
                <a:ext cx="3078360" cy="2022480"/>
                <a:chOff x="401400" y="3198960"/>
                <a:chExt cx="3078360" cy="2022480"/>
              </a:xfrm>
            </p:grpSpPr>
            <p:grpSp>
              <p:nvGrpSpPr>
                <p:cNvPr id="51" name=""/>
                <p:cNvGrpSpPr/>
                <p:nvPr/>
              </p:nvGrpSpPr>
              <p:grpSpPr>
                <a:xfrm>
                  <a:off x="1084680" y="3351600"/>
                  <a:ext cx="1895760" cy="1434240"/>
                  <a:chOff x="1084680" y="3351600"/>
                  <a:chExt cx="1895760" cy="143424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>
                    <a:off x="2203920" y="3356280"/>
                    <a:ext cx="370440" cy="142956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2575440" y="3351600"/>
                    <a:ext cx="405000" cy="142956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084680" y="3361320"/>
                    <a:ext cx="1122120" cy="1416600"/>
                  </a:xfrm>
                  <a:prstGeom prst="rect">
                    <a:avLst/>
                  </a:prstGeom>
                  <a:solidFill>
                    <a:srgbClr val="66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aphicFrame>
              <p:nvGraphicFramePr>
                <p:cNvPr id="55" name=""/>
                <p:cNvGraphicFramePr/>
                <p:nvPr/>
              </p:nvGraphicFramePr>
              <p:xfrm>
                <a:off x="401400" y="3198960"/>
                <a:ext cx="3078360" cy="20224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56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401400" y="3198960"/>
                          <a:ext cx="3078360" cy="2022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7" name=""/>
                <p:cNvSpPr/>
                <p:nvPr/>
              </p:nvSpPr>
              <p:spPr>
                <a:xfrm>
                  <a:off x="1093320" y="3571920"/>
                  <a:ext cx="11239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" name=""/>
              <p:cNvSpPr/>
              <p:nvPr/>
            </p:nvSpPr>
            <p:spPr>
              <a:xfrm>
                <a:off x="350640" y="2959200"/>
                <a:ext cx="996120" cy="26424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Comic Sans MS"/>
                  </a:rPr>
                  <a:t>Region 1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68160" y="2972160"/>
                <a:ext cx="996120" cy="26424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Comic Sans MS"/>
                  </a:rPr>
                  <a:t>Region 2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649240" y="2972160"/>
                <a:ext cx="996120" cy="2642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Comic Sans MS"/>
                  </a:rPr>
                  <a:t>Region 3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28600" y="2895480"/>
              <a:ext cx="3479760" cy="238788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B665-C5D1-4882-9729-817F578DFDE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22A29-37B7-445B-8027-80ADE1D2420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3124080"/>
            <a:ext cx="6324480" cy="585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28600"/>
            <a:ext cx="632448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Modeling Gas Condensate Well Deliver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Gas Condensate R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elative Permeability for Well Calcul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Measurement and Correlation of Gas Condensate Relative Perm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Generalized Pseudopressure Well Treatment In Reservoir 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8000"/>
                </a:solidFill>
                <a:uFillTx/>
                <a:latin typeface="Comic Sans MS"/>
                <a:hlinkClick r:id="rId7"/>
              </a:rPr>
              <a:t>Engineering Calculations of Gas Condensate Well Productivity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8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4160" y="2120760"/>
            <a:ext cx="63244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9"/>
              </a:rPr>
              <a:t>Worked example for estimating gas production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0"/>
              </a:rPr>
              <a:t>Spreadsheet for c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1"/>
              </a:rPr>
              <a:t>alculating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2"/>
              </a:rPr>
              <a:t>krg/kro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3"/>
              </a:rPr>
              <a:t> and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4"/>
              </a:rPr>
              <a:t>krg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5"/>
              </a:rPr>
              <a:t> in Reg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B416-5B7A-4BDC-BF02-60786A231C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143FE-430D-431D-B716-10C21A6E3D0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 </cp:lastModifiedBy>
  <dcterms:modified xsi:type="dcterms:W3CDTF">2004-09-17T11:54:21Z</dcterms:modified>
  <cp:revision>66</cp:revision>
  <dc:subject/>
  <dc:title>PowerPoint Presentation</dc:title>
</cp:coreProperties>
</file>