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D66-0290-44BC-B418-7C935655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AB52-EFA2-4929-9524-16EB555A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B8D-7734-4951-9821-ED2834C3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3C0-C0C9-4B49-9C82-38F332C0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B56-873F-471D-AF53-9F54D35B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FC5-EB26-41BF-B820-E0BD3DA8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85B-0F16-47E5-80D2-908BFADA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5B7-E76D-4EA8-9631-665D7C6B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BD1-A0C7-4CA2-858C-E878BCFB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5C8E-8B88-41B8-B8F3-7C7809CD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1B5-AE59-4161-9491-8C9AECFA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101-12C4-4733-BA9B-BC186F2B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8402-B6D4-4D14-BB63-AB09B53B4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8120" y="3271680"/>
            <a:ext cx="5981760" cy="2802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 = condensate blockage sk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outside near-well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blockage)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in near-well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blockage)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uter radius of blockag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52280"/>
            <a:ext cx="628632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Estimating skin due to condensate blo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87480" y="1143000"/>
                <a:ext cx="434664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b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8-01T08:32:21Z</dcterms:modified>
  <cp:revision>12</cp:revision>
  <dc:subject/>
  <dc:title>PowerPoint Presentation</dc:title>
</cp:coreProperties>
</file>