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7811-7DEE-47F5-8CD2-F30700F3FC7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2917-695A-4833-B326-56DF7B4C6B3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4:26Z</dcterms:modified>
  <cp:revision>99</cp:revision>
  <dc:subject/>
  <dc:title>PowerPoint Presentation</dc:title>
</cp:coreProperties>
</file>