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86C0-9074-4A96-B36F-E40F7462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592C-CE3D-4F7E-831D-6590736A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E81D-BC7A-49FA-828C-17A07FFC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C133-E5F3-45DA-84D4-3C72BD41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D0D1-B9F5-4CA8-A95A-3579611F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EE08-0C3E-45F6-9E4B-4A07007E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46BE-CBAA-434F-9E03-1B296EE7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AC2F-F890-40C8-B25F-62D7272B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BD14-B59B-48D7-BAAF-3A58FA56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A7BF-2478-4A6B-98FE-429484FF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EBBD-845B-46FC-BD19-1612ABBF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E7DF-5BED-4C4A-A953-89A03AA4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94F3-93E8-4B6A-B3E3-1EB5EBF78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57480"/>
            <a:ext cx="5791320" cy="39531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0840" indent="-1050840" algn="ctr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 u="sng">
                <a:solidFill>
                  <a:srgbClr val="000000"/>
                </a:solidFill>
                <a:uFillTx/>
                <a:latin typeface="Arial"/>
              </a:rPr>
              <a:t>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 algn="ctr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pressure, bara or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nb-NO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2-phase Z-fa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initial pressure, bara or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Z-factor at </a:t>
            </a: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gas produced from depletion at pre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et gas or mo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initial gas in place (wet gas or moles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5181480" cy="581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ff3300"/>
                </a:solidFill>
                <a:latin typeface="Comic Sans MS"/>
              </a:rPr>
              <a:t>Two-Phase Z-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752400" y="1427040"/>
                <a:ext cx="534996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1-19T17:32:45Z</dcterms:modified>
  <cp:revision>15</cp:revision>
  <dc:subject/>
  <dc:title>PowerPoint Presentation</dc:title>
</cp:coreProperties>
</file>