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132-F363-4BB6-89E4-7ADA7BD2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777-33ED-4B56-8FF4-596C27F8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D78-21C8-4E32-8D5F-752F8A7D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4A9-A807-48C2-8DBF-64282413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860-4E25-4470-863B-4607C3E4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760-D7FF-4FB3-B8BF-1E9D746B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D73-4DD2-4586-BF87-04E7D3BB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F1D-1B7F-4440-BCBE-6A70971A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449-DC5D-41B8-AF6F-7CFA26F5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581-ADC5-4603-A865-CC0C399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4B1-FA67-4DBE-9889-E87F670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A94-EAE2-4CC8-A548-9ECA03D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8423-205E-4B95-B15F-BF5F2A653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 md reservoir – condensate blockage has a major impact on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3080" y="1371600"/>
            <a:ext cx="8458200" cy="519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29600" y="60958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0 md reservoir – condensate blockage has little impact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7925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5:36:41Z</dcterms:modified>
  <cp:revision>21</cp:revision>
  <dc:subject/>
  <dc:title>PowerPoint Presentation</dc:title>
</cp:coreProperties>
</file>