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AAA-EAFA-4D6E-A5CE-A78119AF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631-B1B7-4B7D-B3DA-9D68575C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5F8-4493-4B5C-8599-214B61FA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BF9-D99D-41BE-AD9A-87A72460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C7B-2219-4154-822A-EBABDA94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BE5-D8FA-4BD9-BD0E-E5040CCE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BF0-31F6-4FDF-8B35-5DD69508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CBC-5BAA-4FE9-AF9B-54B335EB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33F-77D2-4C67-87C6-769BBE15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F08-9868-4009-A110-47D161B3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B33-4B03-4659-9681-5FCB7D5A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568-28C2-4D0A-9836-6F62413C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3126-9B72-418B-8513-89282A20B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Fig1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763120" cy="61034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 Dry Gas engineering 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except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Retrograde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ndensation impacts condensate recovery and well deliverability (i.e. economics)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09T09:09:51Z</dcterms:modified>
  <cp:revision>12</cp:revision>
  <dc:subject/>
  <dc:title>PowerPoint Presentation</dc:title>
</cp:coreProperties>
</file>