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7686-D36B-4C56-81AE-8DF27A8A0E06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4413-0B97-4D43-9EAE-9CB32129A0AD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80880"/>
            <a:ext cx="6286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2-phase pseudopressure for gas condensate well tes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3440" y="5334120"/>
            <a:ext cx="4229280" cy="314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0" y="6672240"/>
            <a:ext cx="1066680" cy="56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90840" y="5749920"/>
            <a:ext cx="11811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267080" y="7918200"/>
            <a:ext cx="1800" cy="41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76640" y="8288280"/>
            <a:ext cx="1257480" cy="47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w poi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04920" y="1447920"/>
                <a:ext cx="426240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4648320" y="1676520"/>
            <a:ext cx="1981080" cy="13136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nb-NO" sz="2000" spc="-1" strike="noStrike" baseline="30000">
                <a:solidFill>
                  <a:srgbClr val="ff3300"/>
                </a:solidFill>
                <a:latin typeface="Comic Sans MS"/>
              </a:rPr>
              <a:t>nd</a:t>
            </a:r>
            <a:r>
              <a:rPr b="1" lang="nb-NO" sz="2000" spc="-1" strike="noStrike">
                <a:solidFill>
                  <a:srgbClr val="ff3300"/>
                </a:solidFill>
                <a:latin typeface="Comic Sans MS"/>
              </a:rPr>
              <a:t> term in integral is usually negl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61880" y="3657600"/>
                <a:ext cx="4122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s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4648320" y="3581280"/>
            <a:ext cx="1981080" cy="1465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Condensate blockage skin included in pseudo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5:31:19Z</dcterms:modified>
  <cp:revision>103</cp:revision>
  <dc:subject/>
  <dc:title>PowerPoint Presentation</dc:title>
</cp:coreProperties>
</file>