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37EA-23AC-415B-AB70-4A83B41B1F98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8213F-9CA2-4E39-85CF-E600590FB9A9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../GC-Reservoirs/GC-Reservoirs-example/other-links.ppt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/>
          </p:cNvPr>
          <p:cNvSpPr/>
          <p:nvPr/>
        </p:nvSpPr>
        <p:spPr>
          <a:xfrm>
            <a:off x="419040" y="30492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Condensate Rate Eq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905120"/>
            <a:ext cx="541332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 worked example to demonstrate the use of the gas condensate rate equation to estimate well productivity, taking account of condensate block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data will be taken from a Sensor simulation  model to allow comparison with simulation resul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ep 3. Calculate the term inside the pseudopressure integr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625760" y="5486400"/>
          <a:ext cx="3605040" cy="2819520"/>
        </p:xfrm>
        <a:graphic>
          <a:graphicData uri="http://schemas.openxmlformats.org/drawingml/2006/table">
            <a:tbl>
              <a:tblPr/>
              <a:tblGrid>
                <a:gridCol w="1471320"/>
                <a:gridCol w="2133720"/>
              </a:tblGrid>
              <a:tr h="480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 (psi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 (Mscf/stb/cp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638360" y="2514600"/>
                <a:ext cx="358128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457200" y="4038480"/>
            <a:ext cx="5943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For a lean gas condensate, the second term is very small and can be neglected (&lt; 1% in this examp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8600" y="2590920"/>
            <a:ext cx="6629400" cy="43988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14440" y="45684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tep 4. Calculate the pseudopressure integral – the area under the Gas mobility </a:t>
            </a: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vs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 Pressure cu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4114800"/>
            <a:ext cx="274320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This point estimated by extrapo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13360" y="4799160"/>
            <a:ext cx="1296720" cy="45864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7162920"/>
            <a:ext cx="63244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The mobility vs pressure curve has a discontinuity at dew point pressure – need to allow for this when evaluating the integ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2819520"/>
            <a:ext cx="37339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Gas mobility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ep 4. Calculate the pseudopressure integra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14240" y="2666520"/>
            <a:ext cx="542952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20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Evaluating the integral by the trapezoid rule gives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457200" y="3886200"/>
                <a:ext cx="152388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1545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3965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2057400" y="4114800"/>
            <a:ext cx="50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= 25,117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 psi.Mscf/rb/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5486400"/>
            <a:ext cx="5943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87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This gives a gas flow rate of 21.3 MMscf/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7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The gas flow rate from Sensor = 21.5 MMscf/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ep 5. Estimate the condensate blockage sk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3880" y="2133720"/>
            <a:ext cx="561024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11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Recalculate the gas mobility </a:t>
            </a:r>
            <a:r>
              <a:rPr b="0" lang="en-GB" sz="28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0" lang="en-GB" sz="2800" spc="-1" strike="noStrike" baseline="-25000">
                <a:solidFill>
                  <a:srgbClr val="3333cc"/>
                </a:solidFill>
                <a:latin typeface="Comic Sans MS"/>
              </a:rPr>
              <a:t>g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(P) assuming krg=0.96, kro =0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11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The pseudopressure integral is now 90,100 psi.Mscf/rb/cp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11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Calculate the skin from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914400" y="4572000"/>
                <a:ext cx="451944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1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623880" y="5867280"/>
            <a:ext cx="561024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101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The condensate blockage skin = 21.6. In practice, this is almost certainly too high as it ignores the effect of velocity-dependent rel pe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1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11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omic Sans MS"/>
              </a:rPr>
              <a:t>Spreadsheet with calcu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38088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How can we include the effect of velocity dependent rel perm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23880" y="2133720"/>
            <a:ext cx="561024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marL="265680" indent="-201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Guess the gas production rate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451800" indent="-181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this is needed to calculate velocity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265680" indent="-201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For each pressure in the pseudopressure integral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451800" indent="-181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Estimate the radius by assuming P~ln(radius)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lvl="1" marL="451800" indent="-181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Estimate the Darcy velocity at this radius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lvl="1" marL="451800" indent="-181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Estimate the capillary number (will also need IFT as a function of pressure)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lvl="1" marL="451800" indent="-181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Adjust the krg vs krg/kro relationship using the Fevang-Whitson correlation (Ref 2).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265680" indent="-201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Calculate the pseudopressure integral and the gas production rate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265680" indent="-201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Repeat if gas production rate is very different from original guess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265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4" name=""/>
          <p:cNvSpPr/>
          <p:nvPr/>
        </p:nvSpPr>
        <p:spPr>
          <a:xfrm>
            <a:off x="623880" y="6553080"/>
            <a:ext cx="561024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20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23800" y="457200"/>
            <a:ext cx="58104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Pseudopressure integral with velocity dependent rel per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6858000" cy="45561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523880" y="4038480"/>
            <a:ext cx="24386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With vel-dep k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3047760" y="4495680"/>
            <a:ext cx="75960" cy="685800"/>
          </a:xfrm>
          <a:prstGeom prst="line">
            <a:avLst/>
          </a:prstGeom>
          <a:ln w="28440">
            <a:solidFill>
              <a:srgbClr val="ff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6400800"/>
            <a:ext cx="19810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Comic Sans MS"/>
              </a:rPr>
              <a:t>With rock k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905120" y="5714640"/>
            <a:ext cx="609480" cy="685800"/>
          </a:xfrm>
          <a:prstGeom prst="line">
            <a:avLst/>
          </a:prstGeom>
          <a:ln w="28440">
            <a:solidFill>
              <a:srgbClr val="ff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6760" y="731520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Gas production rate with velocity dependent rel perms is about 31 MMscf/d – a blockage skin of about 1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228600"/>
            <a:ext cx="6324480" cy="19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29376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Modeling Gas Condensate Well Deliver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29376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Gas Condensate Relative Permeability for Well Calcula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29376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33cc"/>
                </a:solidFill>
                <a:uFillTx/>
                <a:latin typeface="Comic Sans MS"/>
              </a:rPr>
              <a:t>Engineering Calculations of Gas Condensate Well Productivity</a:t>
            </a: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29376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29376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3048120"/>
            <a:ext cx="6324480" cy="5673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60360" y="2590920"/>
            <a:ext cx="61927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kh = 1,000 md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rw = 0.33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re = 300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echanical skin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verage reservoir pressure = 3965 p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Wellbore flowing BHP = 1545 p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Lean gas condensate (PVT properties on next slide), flowing OGR = 26 stb/MMsc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‘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Rock’ rel perms, with Corey exponent of 3 (data on slide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sume oil saturation = 1% outside near-well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47840" y="609120"/>
            <a:ext cx="59623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atement of problem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7162920"/>
            <a:ext cx="58118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2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se conditions correspond to this Sensor simulation case after 3 years (1095 days) 10 md, rock rel p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1120" y="1600200"/>
            <a:ext cx="6411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91440" indent="-43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 well in a lean gas condensate reservoir has with these propert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1440" indent="-43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7840" y="609120"/>
            <a:ext cx="59623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atement of problem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8440" y="2514600"/>
            <a:ext cx="62596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583920" indent="-487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stimate the maximum gas production rate for the wel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920" indent="-487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stimate the condensate blockage sk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Gas-Oil Relative perme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09680" y="1676520"/>
          <a:ext cx="3019320" cy="6804000"/>
        </p:xfrm>
        <a:graphic>
          <a:graphicData uri="http://schemas.openxmlformats.org/drawingml/2006/table">
            <a:tbl>
              <a:tblPr/>
              <a:tblGrid>
                <a:gridCol w="966600"/>
                <a:gridCol w="1025640"/>
                <a:gridCol w="1027080"/>
              </a:tblGrid>
              <a:tr h="491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r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ro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9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9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9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6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1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7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4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1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1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2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5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429000" y="2666880"/>
          <a:ext cx="3429000" cy="268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666880"/>
                    <a:ext cx="3429000" cy="26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PVT proper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14440" y="1854360"/>
          <a:ext cx="5829120" cy="5435280"/>
        </p:xfrm>
        <a:graphic>
          <a:graphicData uri="http://schemas.openxmlformats.org/drawingml/2006/table">
            <a:tbl>
              <a:tblPr/>
              <a:tblGrid>
                <a:gridCol w="779400"/>
                <a:gridCol w="828720"/>
                <a:gridCol w="828720"/>
                <a:gridCol w="779400"/>
                <a:gridCol w="955800"/>
                <a:gridCol w="828360"/>
                <a:gridCol w="828720"/>
              </a:tblGrid>
              <a:tr h="425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S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S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s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b/st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f/st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b/mmc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b/sc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6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3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18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67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3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97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7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9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74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2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42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49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.4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.7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9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.5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9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.1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9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6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.8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533520" y="7620120"/>
            <a:ext cx="480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Dew point pressure of fluid with OGR = 26 stb/Mmscf = 3734 p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ep 1. Estimate krg/kro from PVT proper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600200" y="2438280"/>
                <a:ext cx="289548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152280" y="3505320"/>
            <a:ext cx="65534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cc"/>
                </a:solidFill>
                <a:latin typeface="Comic Sans MS"/>
              </a:rPr>
              <a:t>r</a:t>
            </a:r>
            <a:r>
              <a:rPr b="0" i="1" lang="en-US" sz="2800" spc="-1" strike="noStrike" baseline="-25000">
                <a:solidFill>
                  <a:srgbClr val="0033cc"/>
                </a:solidFill>
                <a:latin typeface="Comic Sans MS"/>
              </a:rPr>
              <a:t>p</a:t>
            </a:r>
            <a:r>
              <a:rPr b="0" i="1" lang="en-US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= flowing OGR</a:t>
            </a:r>
            <a:br>
              <a:rPr sz="2800"/>
            </a:b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All other properties from PVT 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4120"/>
            <a:ext cx="594360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For a fluid with rp = 26 stb/MMscf, dew point pressure = 3734 psi (estimated from PVT table).  This is the pressure at the outer edge of Region 1 (P*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The equation only applies below the dew point press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Above the dew point pressure, kro = 0 and krg/kro = infin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14440" y="38088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ep 1. Estimate krg/kro from PVT proper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00280" y="5334120"/>
            <a:ext cx="5257800" cy="3495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2171880" y="1905120"/>
          <a:ext cx="2514240" cy="3123720"/>
        </p:xfrm>
        <a:graphic>
          <a:graphicData uri="http://schemas.openxmlformats.org/drawingml/2006/table">
            <a:tbl>
              <a:tblPr/>
              <a:tblGrid>
                <a:gridCol w="1271160"/>
                <a:gridCol w="124308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rg/k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4440" y="38088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ep 2. Estimate krg(P) from krg/kro and rel perm curv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962520" y="2057400"/>
          <a:ext cx="2895480" cy="2743200"/>
        </p:xfrm>
        <a:graphic>
          <a:graphicData uri="http://schemas.openxmlformats.org/drawingml/2006/table">
            <a:tbl>
              <a:tblPr/>
              <a:tblGrid>
                <a:gridCol w="965160"/>
                <a:gridCol w="965160"/>
                <a:gridCol w="965160"/>
              </a:tblGrid>
              <a:tr h="524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rg/k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30240" y="5257800"/>
            <a:ext cx="4995720" cy="3309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0" y="1828800"/>
          <a:ext cx="4038480" cy="3346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28800"/>
                    <a:ext cx="4038480" cy="33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ep 3. Calculate the term inside the pseudopressure integr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923760" y="2666880"/>
                <a:ext cx="501048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ck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f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638360" y="6019920"/>
                <a:ext cx="358128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457200" y="4191120"/>
            <a:ext cx="594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For field units, the conversion factor c is 0.0011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23T10:03:53Z</dcterms:modified>
  <cp:revision>102</cp:revision>
  <dc:subject/>
  <dc:title>PowerPoint Presentation</dc:title>
</cp:coreProperties>
</file>