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091-9670-4A6A-8116-933A0018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A73-55DB-4CFD-9CED-84D51738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10A-D2B7-437C-936B-611A3CE4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938-C9B1-4FA9-94A6-65C03524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7AD-F4FD-4295-B129-DF1C80DC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66B-8486-4928-A6BC-9CB191E4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DD6-79A2-48BB-8188-96F2C742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C4F-DACA-4FDF-A493-968C1D5B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1E1-7BAA-4036-937F-3E1940CD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371-676E-48FB-9005-AB44F31C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A6B-FA53-42ED-80EC-1C3390BC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E91-AB86-469C-B4D9-2679B2EA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F32A-0AA5-4BB5-8F36-B3EC0C8414A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601F-4CD9-4733-84B1-5B803F38A2D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..%5CGas-Papers/Fetkovich-Simplified-Water-Influx.pdf" TargetMode="External"/><Relationship Id="rId3" Type="http://schemas.openxmlformats.org/officeDocument/2006/relationships/hyperlink" Target="file:///..%5CGas-Papers/Fetkovich-Simplified-Water-Influx.pdf" TargetMode="External"/><Relationship Id="rId4" Type="http://schemas.openxmlformats.org/officeDocument/2006/relationships/hyperlink" Target="file:///Havlena-Odeh.pdf" TargetMode="External"/><Relationship Id="rId5" Type="http://schemas.openxmlformats.org/officeDocument/2006/relationships/hyperlink" Target="file:///spe22921-Fetkovich-Reese-Whitson.pdf" TargetMode="External"/><Relationship Id="rId6" Type="http://schemas.openxmlformats.org/officeDocument/2006/relationships/hyperlink" Target="file:///Stewart-Multiwell-pz-analysis.pdf" TargetMode="External"/><Relationship Id="rId7" Type="http://schemas.openxmlformats.org/officeDocument/2006/relationships/hyperlink" Target="file:///Production-Forecasting.xls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874440" y="20628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Material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856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0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51040" y="4516560"/>
                <a:ext cx="5459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BD8-F80C-4EB2-A585-28C15A9468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42227-AC5E-4C46-828F-E4B97A66ABB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Fetkovich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, Simplified Water In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tewart, Multiwell p/z Analysi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828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40040"/>
            <a:ext cx="6324480" cy="585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602-1EC0-40BD-B48C-8FE8343DA9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0966B-4C80-493C-957A-5986F8FF9A5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29Z</dcterms:modified>
  <cp:revision>96</cp:revision>
  <dc:subject/>
  <dc:title>PowerPoint Presentation</dc:title>
</cp:coreProperties>
</file>