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B57-AF88-4D3E-8B1B-DAB3C0FD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E80-8DC6-4062-978F-EC71ACA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DB9-FA5D-444B-8C33-DF52A653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841-E76F-4265-ADA2-AF023D89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D1C-CE96-478E-9AE3-FB045DDA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51F-67DE-4466-8D1A-C70D8C9D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3BA-1C0F-467A-96C9-63C1DB2E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A37-C413-43B6-94B3-ECA1DEB6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D45-A402-4613-99A3-921E1407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BD0-6854-4084-8710-80CA4736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C19-4329-48E7-8BC5-2DE3050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F44-683D-45BE-889A-172E8606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5420-984B-4986-AF24-568E0A9B7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4240" y="1143000"/>
                <a:ext cx="668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443320" y="6705720"/>
                <a:ext cx="1969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9680" y="8229600"/>
                <a:ext cx="1897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43080" y="36972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01920" y="4821120"/>
                <a:ext cx="2054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5840" y="4114800"/>
            <a:ext cx="6286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3333cc"/>
                </a:solidFill>
                <a:latin typeface="Comic Sans MS"/>
              </a:rPr>
              <a:t>Recovery down to dewpoint (applies to both oil and g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nb-NO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d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6019920"/>
            <a:ext cx="6286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CGR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) relation to mol-% C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840" y="7543800"/>
            <a:ext cx="62863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Surface Gas Equivalent of Cond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4320" y="2895480"/>
                <a:ext cx="539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43080" y="204624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Gas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4:43:53Z</dcterms:modified>
  <cp:revision>13</cp:revision>
  <dc:subject/>
  <dc:title>PowerPoint Presentation</dc:title>
</cp:coreProperties>
</file>