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9176-3A31-4247-8CC3-67C6B65F9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3D4C-1043-4F37-AFDF-C5917539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D766-038C-4BA8-A7E1-BD5EC0BA3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0A5E-2658-4745-9AE0-51BBC65C6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135C-FDA8-419C-A4AE-89A331FC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D8C0-74BD-45EB-B1DA-E519C4FA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4FDA-97B6-4F09-B2C7-CB6AB3C5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2035-CD02-43C7-AB4A-AB4037E7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D79D-E161-469E-B5AE-2EB9487F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2E71-78AA-4424-9E8A-01F825D7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63EC-3F81-4CDD-8C7A-3D3C039A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FF8D-5C00-4184-9015-C04B7A57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5B31-5718-41CC-95D7-7AE885F01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1-phase-build-up.ppt" TargetMode="External"/><Relationship Id="rId2" Type="http://schemas.openxmlformats.org/officeDocument/2006/relationships/hyperlink" Target="file:///3-region-composite.ppt" TargetMode="External"/><Relationship Id="rId3" Type="http://schemas.openxmlformats.org/officeDocument/2006/relationships/hyperlink" Target="file:///2-phase-build-up.ppt" TargetMode="External"/><Relationship Id="rId4" Type="http://schemas.openxmlformats.org/officeDocument/2006/relationships/hyperlink" Target="file:///Multi-rate-test.ppt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760" y="206280"/>
            <a:ext cx="8610480" cy="67838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ransient data during a pressure build-up can be analyzed to try and understand gas condensate well performance, by plotting the change in pseudopressure and its derivative [with respect to log(</a:t>
            </a:r>
            <a:r>
              <a:rPr b="0" lang="en-US" sz="16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)] on a log-log plo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build-up analysis is influenced by a near-well condensate bank with reduced k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rg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.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Using a single-phase gas pseudopressure to interpret well test data usually requires a radial-composite model with 2 zones. This will give information on the gas permeability in the bank and the size of the bank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1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Some wells may show 3-region composite radial behavior, caused by increased gas mobility at high capillary numbers near to the well. This is an area of current research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2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Using two-phase pseudopressure to interpret well test data requires a set of relative permeability curves, krg=f(krg/kro,Nc), and uses the steady-state flow theory (e.g. Fevang-Whitson method) to calculate pseudopressure, resulting in ‘normal semi-log’ radial behavior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3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Multi-rate tests can also be used to understand condensate well performance, by history matching  single-well simulation models. This is usually the most reliable way of confirming the benefit of capillary number effects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4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34:14Z</dcterms:modified>
  <cp:revision>18</cp:revision>
  <dc:subject/>
  <dc:title>PowerPoint Presentation</dc:title>
</cp:coreProperties>
</file>