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445-4E54-4DF6-A0B5-1F3CEC59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391-E23B-4EFE-8F5D-52E85F33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A32-0D3C-4766-909D-0A82B8F2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D0E-D95A-4009-9B3A-EB73AA88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76C-9E1A-4746-99A8-5DCD326F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866-6F6B-437A-B5E1-269DFCA7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631-F6A3-46F5-9401-42A58FE3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FB4-DE64-4F18-860F-41FEAE50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D6C-635B-4C53-B7AD-7C006F8F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0CD-1072-4F39-817C-F2181FFC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FD3-44F8-4691-A7D2-54AD206D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598-B1EE-449C-8F2D-224D822A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CA72-DF6F-4D3C-8149-B6B887F0A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39:34Z</dcterms:modified>
  <cp:revision>16</cp:revision>
  <dc:subject/>
  <dc:title>PowerPoint Presentation</dc:title>
</cp:coreProperties>
</file>