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2722-72DF-4BCA-84EB-4758B0108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20DB-E6F7-4375-B660-3885A906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07D6-0F8E-4635-A05F-C6E8ED3E6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6FE9-A096-4DE9-B03C-16D851666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67A6-9C45-4A0D-8E73-3FD360CF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4728-885F-43CD-8B09-0EFC65FC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EF30-DFD9-4E2B-9CC7-19791BE9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068D-99A9-43A5-AF74-4CA875A8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1825-F2FF-4D0A-851C-2EDE205C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44D4-289F-41F7-B863-389545D8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DC7C-8CCE-4DC4-BCA7-DDC9C462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5DC1-BA0A-415C-8262-8F6DFCFC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E2B7-A5FC-44C5-AB06-1B6791957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60400" y="809640"/>
          <a:ext cx="6188040" cy="411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0400" y="809640"/>
                    <a:ext cx="6188040" cy="41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794240" y="363600"/>
            <a:ext cx="32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Liquid saturation in CV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2440" y="5211720"/>
            <a:ext cx="5846760" cy="35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CVD ‘liquid dropout curve’ is perhaps the most familiar PVT property of a condensate fluid, but it has little direct impact on reservoir and well perform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When tuning an EOS model to CVD data, it is much more important to match the gas Z-factor and C7+ fraction in produced g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Net revaporization of retrograde condensate starts only at very low pressures (&lt;50 bar). It does not start when the liquid volume starts dropping (e.g. 140 bar above), as this drop is related to solution gas coming out of solution from the retrograde condensate (‘shrinkage’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CHW</cp:lastModifiedBy>
  <dcterms:modified xsi:type="dcterms:W3CDTF">2003-08-18T10:10:25Z</dcterms:modified>
  <cp:revision>64</cp:revision>
  <dc:subject/>
  <dc:title>PowerPoint Presentation</dc:title>
</cp:coreProperties>
</file>