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446-EEE3-4982-B359-62141199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338-7B5E-4B71-9157-21DDCCC3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92A-B32C-44A0-B1CA-5D0DEAAE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816-6774-479B-8B4E-58CF0C52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46C-E79B-494D-8222-AEBDB96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7E2-0387-4FAA-90B6-89AD8B7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276-3194-410D-9B2F-AA4C0040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DBE-55A7-4279-9225-839DD9A1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E68-6431-44D3-BCC1-E60BE0C2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481-49C6-499D-BBE7-55C62A0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7F8-8E47-4841-9F97-0776A3D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CD5-D338-4386-AAB1-6F9CEEE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D70-8BCF-4BBB-8373-9EAD4B935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20T11:54:26Z</dcterms:modified>
  <cp:revision>21</cp:revision>
  <dc:subject/>
  <dc:title>PowerPoint Presentation</dc:title>
</cp:coreProperties>
</file>