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FB4-6F65-4745-8993-8EE82CEE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64C-4736-4502-8F3A-62740585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747-178B-4BB1-AC5F-5076A6D0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0C6-0D88-4BDB-BAE4-85976607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78B-824A-4F21-88DE-82EC2EA5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E3B-8084-491D-BD02-C013B687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EB8-D60D-42C0-B011-ABF4336D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39F-E77D-4667-85E6-951608A9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D9D-BE27-4D09-8073-4312B763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7D6-5903-444D-8340-0017B9B7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FFB-FEDC-43B4-AD86-298A71DB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B22-8F13-4373-AAE2-AEA90003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E97C-CC90-459B-AB6D-E26749460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6234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6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8:11:33Z</dcterms:modified>
  <cp:revision>23</cp:revision>
  <dc:subject/>
  <dc:title>PowerPoint Presentation</dc:title>
</cp:coreProperties>
</file>