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196-3BAC-4663-8BD5-397077CC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CF6-2262-4046-AD78-9C33C254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9C7-38F8-4277-AF30-39A8BDC9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27A-50C0-4494-9043-2F7196B9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ACB-F3C2-465B-A3A0-52DD62B5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91A-C182-493A-97A3-26102C2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023-B52D-465F-A15F-0B674683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6F1-3722-4532-9B86-4669C52F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801-2EA6-4B8C-AD77-AF7F837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AEA-020A-41D6-BA79-5C512BB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CF3-2100-4A81-91CB-61985B1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1C3-2D8D-4D50-8035-7956F78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4EFC-8D53-482C-8D0F-48CF1690C2C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D33B-C7E6-4AD2-81D8-79262DA790A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SAMPLING.PDF" TargetMode="External"/><Relationship Id="rId10" Type="http://schemas.openxmlformats.org/officeDocument/2006/relationships/hyperlink" Target="file:///GC-PVT-Expts.ppt" TargetMode="External"/><Relationship Id="rId11" Type="http://schemas.openxmlformats.org/officeDocument/2006/relationships/hyperlink" Target="file:///../MISC/UNITS-CONVERSION.PDF" TargetMode="External"/><Relationship Id="rId12" Type="http://schemas.openxmlformats.org/officeDocument/2006/relationships/hyperlink" Target="file:///IBC1999SLIDES.PPT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C-PVT-EXAMPLE+RESULTS.PPT" TargetMode="External"/><Relationship Id="rId2" Type="http://schemas.openxmlformats.org/officeDocument/2006/relationships/hyperlink" Target="file:///gas-properties.xls" TargetMode="External"/><Relationship Id="rId3" Type="http://schemas.openxmlformats.org/officeDocument/2006/relationships/hyperlink" Target="file:///CVD-ANALYSIS%20.XL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24B-8CE7-46F3-961E-3963F2D6F1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1973A-05A5-4377-B8EE-7D469778555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0F1-234A-4F97-9D7B-3DCEACFF68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6A2DA-7DD5-4028-A925-257CC22495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15:35Z</dcterms:modified>
  <cp:revision>88</cp:revision>
  <dc:subject/>
  <dc:title>PowerPoint Presentation</dc:title>
</cp:coreProperties>
</file>