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091-7709-408E-A6CF-1715A91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15C-B158-4F3A-A3BE-C98F3228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CA7-86E0-4FEB-8B31-CA3340C4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DA3-8ABA-4655-BD86-25D3A414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172-5C2F-4E6F-A5E0-3C9A1F28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28B-5EE6-4A5A-854A-644C979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809-1393-4A7F-BE68-26585CBC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D65-B292-4B58-95B2-640F5108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3F7-0421-4E24-95D1-FBA90B92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736-D177-484F-A82C-885E769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1B9-A5CC-4868-9B7C-D7F8B55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056-F059-44A6-A19D-D57874EA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45A7-2353-4F41-9E28-91E877228FF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C79E-0825-4501-93A2-B9CAC9294FC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253-ADAE-49CA-9161-D8C88AF1FB5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EB822-238F-4A14-AD9D-D59EC9D2F592}" type="datetime3">
              <a:rPr lang="en-US"/>
              <a:t>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14F-BD11-404D-AFE7-00353A6FE4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467CE-02D0-4463-8A19-4F794A94AE42}" type="datetime3">
              <a:rPr lang="en-US"/>
              <a:t>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