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0A42-E2F2-415D-ACB4-E17DE6A19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054B-B54C-46E7-9D3A-DA1D7974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7F1B-267A-462D-8941-42269B210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4F62-A912-426C-B5A3-EA64D0050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8511-2C05-4DCB-8F1B-F268B3FC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8468-7A19-4752-AFA7-982216D5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32C6-6CD2-4CE7-AC5F-D8F0AE02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08C8-C74B-45F3-A9FA-2C82AF91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5692-EEE0-4973-86FF-92F46F1C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09FD-2D4D-4C1E-A22B-05D70FC9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8964-3865-4FD7-8CF5-7C5F2895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2A83-D21D-4F36-9507-A1E535DB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1823-2996-4434-8E51-40EC79F8CC50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166D-4FFF-463C-A38F-555ADBE23CF8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1-phase-build-up.ppt" TargetMode="External"/><Relationship Id="rId2" Type="http://schemas.openxmlformats.org/officeDocument/2006/relationships/image" Target="../media/image1.wmf"/><Relationship Id="rId3" Type="http://schemas.openxmlformats.org/officeDocument/2006/relationships/hyperlink" Target="file:///TextBox.ppt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2240" y="228600"/>
            <a:ext cx="52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Gas Condensate Well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600200"/>
            <a:ext cx="3886200" cy="24969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44" name="">
            <a:hlinkClick r:id="rId3"/>
          </p:cNvPr>
          <p:cNvSpPr/>
          <p:nvPr/>
        </p:nvSpPr>
        <p:spPr>
          <a:xfrm>
            <a:off x="76320" y="5257800"/>
            <a:ext cx="6705360" cy="33649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ransient data during a pressure build-up can be analyzed to try and understand gas condensate well performance, by plotting the change in pseudopressure and its derivative [with respect to log(</a:t>
            </a:r>
            <a:r>
              <a:rPr b="0" lang="en-US" sz="10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)] on a log-log plo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build-up analysis is influenced by a near-well condensate bank with reduced k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.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Using a single-phase gas pseudopressure to interpret well test data usually requires a radial-composite model with 2 zones. This will give information on the gas permeability in the bank and the size of the bank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Some wells may show 3-region composite radial behavior, caused by increased gas mobility at high capillary numbers near to the well. This is an area of current researc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Using two-phase pseudopressure to interpret well test data requires a set of relative permeability curves, krg=f(krg/kro,Nc), and uses the steady-state flow theory (e.g. Fevang-Whitson method) to calculate pseudopressure, resulting in ‘normal semi-log’ radial behavio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Multi-rate tests can also be used to understand condensate well performance, by history matching  single-well simulation models. This is usually the most reliable way of confirming the benefit of capillary number effec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648320" y="1905120"/>
                <a:ext cx="188748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648320" y="3809880"/>
                <a:ext cx="19047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≈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4317840" y="1219320"/>
            <a:ext cx="25992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Comic Sans MS"/>
              </a:rPr>
              <a:t>1-phase pseudopres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cc"/>
                </a:solidFill>
                <a:latin typeface="Comic Sans MS"/>
              </a:rPr>
              <a:t>(excludes condensate block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9960" y="3200400"/>
            <a:ext cx="25689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Comic Sans MS"/>
              </a:rPr>
              <a:t>2-phase pseudopres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cc"/>
                </a:solidFill>
                <a:latin typeface="Comic Sans MS"/>
              </a:rPr>
              <a:t>(includes condensate block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4A48-B512-492A-AF25-3B7507354AE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302E4-72C4-47A6-9938-11B5779D46D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228600"/>
            <a:ext cx="632448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Practical Considerations in Gas Condensate Well Tes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Well Testing using a Single Phas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Well Test Analysis in Gas Condensate Reservo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A Novel Methodology for Well Test Analysis in Gas Condensate Reservo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830680"/>
            <a:ext cx="6324480" cy="585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D05D-90F0-4EC8-B834-64E400898E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3BFFC-8CFA-4469-B29A-52A814622E8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7:26:25Z</dcterms:modified>
  <cp:revision>76</cp:revision>
  <dc:subject/>
  <dc:title>PowerPoint Presentation</dc:title>
</cp:coreProperties>
</file>