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3EE-C112-4695-8283-A1F4719C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105-AC17-432B-945A-F7423EA4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908-AA10-4ACA-9B52-E4636741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668-72DA-4026-BFDF-EF937D42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D2C-0E81-4B0B-B98E-D720774D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11B-B0DE-46A5-8023-CD48884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CC0-8822-4586-B0F8-F9A88803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0E9-6E9B-44D8-AF9C-F2AB3B6B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D8E-EE78-493A-9931-C4650B68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EAD-EA8C-49CC-A36D-F060B2B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79D-66BB-4B9E-B3D1-70DC61F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C27-A560-494A-A2C5-814EBEC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46BB-326A-4C35-B040-32F06624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06400"/>
            <a:ext cx="853416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480" y="380880"/>
            <a:ext cx="89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emilog plot of SCN mole fraction versus Carbon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7:15:21Z</dcterms:modified>
  <cp:revision>19</cp:revision>
  <dc:subject/>
  <dc:title>PowerPoint Presentation</dc:title>
</cp:coreProperties>
</file>