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4DB0-316A-47E9-A539-FE648309E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9626-43A1-4A74-86BC-95F5ABA2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97C3-EEDA-4353-A8B1-453F330BD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B52D-AF69-49A1-8FA5-D865465D2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C3B9-D837-40F1-B35A-937F92F8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EC24-2538-46D0-BFC2-B1505854D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5187-D422-4611-A746-96ABEE07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6008-4395-4DF6-BAFF-F910D19F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6A8F-8AC2-42C5-88B3-AF70E5EB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1B74-6879-451F-8E82-E52F81C4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A7E8-26FC-426D-94BE-B17E3E1A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8988-B680-4FC2-971B-E4622B66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6AA8-D9E4-4BCA-AE94-D11FC14A04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6858000" cy="6031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90920" y="1752480"/>
            <a:ext cx="1447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itical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33920" y="205740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62720" y="1600200"/>
            <a:ext cx="0" cy="4267080"/>
          </a:xfrm>
          <a:prstGeom prst="line">
            <a:avLst/>
          </a:prstGeom>
          <a:ln w="507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4876920"/>
            <a:ext cx="1219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30% liq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38480" y="4191120"/>
            <a:ext cx="11430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cc"/>
                </a:solidFill>
                <a:latin typeface="Arial"/>
              </a:rPr>
              <a:t>20% liq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3600" y="3962520"/>
            <a:ext cx="6858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Arial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a50021"/>
                </a:solidFill>
                <a:latin typeface="Arial"/>
              </a:rPr>
              <a:t>liq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4800600"/>
            <a:ext cx="685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8000"/>
                </a:solidFill>
                <a:latin typeface="Arial"/>
              </a:rPr>
              <a:t>liq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80120" y="990720"/>
            <a:ext cx="16635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Initial reservo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5562360" y="1523880"/>
            <a:ext cx="5331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1905120"/>
            <a:ext cx="18288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ew point 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Reservoir tem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5562360" y="243828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01280" y="152280"/>
            <a:ext cx="621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-T diagram for gas condensate reservo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01T11:33:54Z</dcterms:modified>
  <cp:revision>12</cp:revision>
  <dc:subject/>
  <dc:title>PowerPoint Presentation</dc:title>
</cp:coreProperties>
</file>