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A29-AB83-480E-AB47-EC42236A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6B6-2C51-4EE7-BA4F-79913E8F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BBC-B1D1-4FBD-AB9F-5900EA34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759-BCD5-43D6-B909-7038D10E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D5B-542C-41B7-9FCA-0AA33920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E8A-914B-4958-9748-77AAFCE5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7C1-4215-495B-B6AA-6FE68DD4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82A-0C0A-4B12-A124-C0D73683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67E-F7E0-4061-9668-A499A692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C61-DE1E-42A4-AAA3-604A06F2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042-FCBE-40F7-ADB4-DA95F9C8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95D-9065-4FC9-92FF-774D9FC4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DDD5-E834-4730-B702-9E1DF0AC3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0080" y="380880"/>
            <a:ext cx="53978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ivity Index from Arun lean gas condensate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(from SPE 28749)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73400" y="6450120"/>
            <a:ext cx="471240" cy="1100160"/>
          </a:xfrm>
          <a:prstGeom prst="upArrow">
            <a:avLst>
              <a:gd name="adj1" fmla="val 50000"/>
              <a:gd name="adj2" fmla="val 58365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87280" y="1847880"/>
            <a:ext cx="5529600" cy="4575600"/>
            <a:chOff x="287280" y="1847880"/>
            <a:chExt cx="5529600" cy="4575600"/>
          </a:xfrm>
        </p:grpSpPr>
        <p:sp>
          <p:nvSpPr>
            <p:cNvPr id="45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7760" y="518004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00160" y="471492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77760" y="424800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77760" y="377964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7760" y="331452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7760" y="284796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77760" y="2382840"/>
              <a:ext cx="4627440" cy="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7760" y="191448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052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274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48160" y="19288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70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907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129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36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57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77760" y="1914480"/>
              <a:ext cx="1440" cy="37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2840" y="564660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42840" y="51800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2840" y="47149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42840" y="424800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2840" y="377964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42840" y="331452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2840" y="284796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42840" y="238284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42840" y="19144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77760" y="5646600"/>
              <a:ext cx="462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6052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0274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4481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870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290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7129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13336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557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977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608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17360" y="24606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90440" y="2527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62080" y="2340000"/>
              <a:ext cx="6480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34800" y="219852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06440" y="22478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952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52600" y="22478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388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95160" y="22921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824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41320" y="243360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2960" y="243360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4240" y="2198520"/>
              <a:ext cx="6660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7320" y="248112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8600" y="257328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01680" y="2554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4760" y="25272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7840" y="261936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19120" y="2695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92200" y="269532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5280" y="280656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35120" y="3227400"/>
              <a:ext cx="666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08200" y="345888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81280" y="357192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63720" y="364644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472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28960" y="375768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11400" y="37400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93840" y="3813120"/>
              <a:ext cx="6372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6640" y="3813120"/>
              <a:ext cx="633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59080" y="38782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1520" y="388944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3960" y="388944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6760" y="391608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9200" y="39448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71640" y="3963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54440" y="397332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36880" y="40194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19320" y="4065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02120" y="4113000"/>
              <a:ext cx="6480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84560" y="407484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67000" y="4038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4002120"/>
              <a:ext cx="651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32240" y="398124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6480" y="396396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7120" y="3990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81360" y="405756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63800" y="40939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6600" y="411300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29040" y="418788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1480" y="422568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94280" y="42624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1120" y="428148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6160" y="429876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00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79840" y="3973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6680" y="401940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2080" y="411300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7640" y="558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7800" y="5113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880" y="4647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7800" y="4181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880" y="37144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800" y="3247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1880" y="2781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7800" y="23158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880" y="18478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488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9780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784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40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61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833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055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27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8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5960" y="6118200"/>
              <a:ext cx="292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Reservoir pressure (ps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-662760" y="3681000"/>
              <a:ext cx="220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oductivity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93640" y="7227720"/>
            <a:ext cx="5749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Productivity Index falls by 50% when </a:t>
            </a:r>
            <a:r>
              <a:rPr b="0" lang="en-GB" sz="1800" spc="-1" strike="noStrike" u="sng">
                <a:solidFill>
                  <a:srgbClr val="0033cc"/>
                </a:solidFill>
                <a:uFillTx/>
                <a:latin typeface="Comic Sans MS"/>
              </a:rPr>
              <a:t>BHP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 falls below dew point pressure and condensate blockage occurs. Condensate blockage starts before reservoir pressure falls below dew po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38400" y="4649760"/>
            <a:ext cx="1265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Dew point 4400 p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10000" y="5303880"/>
            <a:ext cx="193680" cy="345960"/>
          </a:xfrm>
          <a:prstGeom prst="downArrow">
            <a:avLst>
              <a:gd name="adj1" fmla="val 50000"/>
              <a:gd name="adj2" fmla="val 44656"/>
            </a:avLst>
          </a:prstGeom>
          <a:solidFill>
            <a:srgbClr val="0033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3-09-09T13:51:30Z</dcterms:modified>
  <cp:revision>77</cp:revision>
  <dc:subject/>
  <dc:title>PowerPoint Presentation</dc:title>
</cp:coreProperties>
</file>