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E71-B586-4F5C-A351-81F08BC0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A11-0031-4ECA-B22B-7E371DAF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3E0-5E12-47C2-8935-CB2A90BA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BA2-2FF1-4B82-BCFB-BD828EF1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E40-C6E7-431E-B096-149CCDE0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77B-8422-45AB-A317-16610931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308-1B3C-452D-A9CB-D0FA5F34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D0F-CCC4-4BF0-939B-85F14E7F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B39-7E63-4CAF-96CD-D2C0F38B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F89-9612-4D2E-9729-75F79F5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A77-C7D7-48BB-9931-557CA6E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CDC-BE13-404D-A440-55DCC77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DFBD-DF80-4A95-ABCF-ADF29B301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g/kro from PVT data for a rich gas condens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2209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near-well region,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1 &lt; krg/kro &lt;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4290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48:54Z</dcterms:modified>
  <cp:revision>18</cp:revision>
  <dc:subject/>
  <dc:title>PowerPoint Presentation</dc:title>
</cp:coreProperties>
</file>