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8661-5972-4E22-B80D-1EA22D84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0DC0-99A4-4978-A608-1711BBA6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2962-6EAB-44DE-B8DA-83DFC93F6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714A-FDE6-4A5E-8E1B-5D26DD60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14B7-CFF8-4276-B358-9369BCD4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A1D2-833A-4746-9B55-EF74E2D0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1634-0CB4-410D-99D9-995A4A6B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8C17-AF92-4BBE-89B5-D0DBE384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E5C2-3449-42B3-B3E5-5E5CF1F1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1636-8633-4E34-8266-E21CB11F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D273-2D89-4316-951A-2E5C7FFD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2E28-3424-4D05-8AC9-5678E086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42EC-9082-4ADE-9A3C-64EA68231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88884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Backpressur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4013280"/>
            <a:ext cx="533376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surface gas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rate-equation constant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rate-equatio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stant contains all of the terms as for the general equation, but also includes (empirically) the n and rate-dependent skin term,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428840" y="1752480"/>
                <a:ext cx="36766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f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427040" y="2728800"/>
                <a:ext cx="314496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43080" y="88884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eneral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971640" y="2413080"/>
                <a:ext cx="453060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311120" y="1498680"/>
                <a:ext cx="35053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295280" y="5460840"/>
            <a:ext cx="426744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surface gas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perme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total th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external 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wellbore 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steady-state total 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rate-dependent 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131840" y="3835440"/>
                <a:ext cx="185760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μZ</m:t>
                            </m:r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780000" y="3801960"/>
                <a:ext cx="185868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3220920" y="4191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CHW</cp:lastModifiedBy>
  <dcterms:modified xsi:type="dcterms:W3CDTF">2003-08-21T12:27:04Z</dcterms:modified>
  <cp:revision>27</cp:revision>
  <dc:subject/>
  <dc:title>PowerPoint Presentation</dc:title>
</cp:coreProperties>
</file>