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180-8F4C-418A-A249-7CC8FEAA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759-F6E0-4ACB-8B5C-49A8DFF1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088-6B85-4C84-B02D-62FD10A5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8A4-D53C-4BF4-8C95-523038D4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396-B585-4DEF-8AD9-4356FB1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496-647B-4C25-AD4B-1873BD94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0BB-524E-452F-BD45-57AB5D9F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A48-53D1-400A-8146-1F2C6DA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C39-C94C-42C4-B50F-98D921B1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D6C-C177-48EE-854D-C6CD335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4E1-DBB3-48F2-8232-1DE9A186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211-1807-498B-9A9E-E26F03F4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565D-A090-45B3-BAED-DA915FA8A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0000"/>
            <a:ext cx="8686800" cy="594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 Region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ccurate yet simple model of a gas condensate well undergoing depletion consists of thre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n inner near-wellbore region where both gas and oil flow simultaneously (at different velocit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of condensate buildup where only gas is f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containing single phase (original) reservoir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given producing condition, one, two, or all three regions may exist. These three regions define ‘pseudo steady-state’ flow conditions, meaning that they represent steady-state conditions at a given time but that the conditions change gradually during de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2:58:46Z</dcterms:modified>
  <cp:revision>18</cp:revision>
  <dc:subject/>
  <dc:title>PowerPoint Presentation</dc:title>
</cp:coreProperties>
</file>