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D998-AFD7-4B97-A897-CEC7E448EB5F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86A6-51D2-475A-902F-C2E2DDAFEDBE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981080"/>
            <a:ext cx="54136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Use the spreadsheet Production-Forecasting.xls to look at sensitivities to reservoir parameters and tubing siz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preadsheet contains data for a gas reservoir with IGIP = 8 Tscf (2.3 x 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m3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model assumes that additional wells are drilled to maintain the plateau production rate.  Assume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evelopment plan aims for a plateau period of 5 years, with 60% recovery at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523880"/>
            <a:ext cx="609624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ies to study (values in red give base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erme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0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5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5 (da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-5 (hydraulic fra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quifer volume ratio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0 (no aqui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09680"/>
            <a:ext cx="609624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ensitivities to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umber of wells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ength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essure drop in reservoir and tubing at start of production &amp; end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5627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</a:rPr>
              <a:t>For some cases (e.g. low permeability), it will not be possible to maintain the required plateau rate for 5 years. In these cases, find the maximum plateau rate that can be maintained for 5 years with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46:43Z</dcterms:modified>
  <cp:revision>91</cp:revision>
  <dc:subject/>
  <dc:title>PowerPoint Presentation</dc:title>
</cp:coreProperties>
</file>