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568-AF51-4583-9B23-231AF8E8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143-82A8-4E50-8F1A-B2845F92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EAB-16A8-46D8-A55D-93012263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551-552C-4A26-B0AF-03A0DCF1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910-CEA5-4E75-A8D8-796286B1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73D-9998-4C73-AC96-B6EC096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07A-835F-43A6-92BC-0012B414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278-E9D0-4285-ABA1-28FAE95D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63B-2A17-4B54-BD10-BAE0FD5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09C-9BBA-47FF-A747-7DE09032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5CA-A182-43C0-A5D5-8E8CAB7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A06-720D-407E-A146-84669F7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DA09-70B0-4BFE-81DD-F46392F367B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24BE-656C-4E9B-BD31-34965D4BF66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hyperlink" Target="file:///Fig-1.ppt" TargetMode="External"/><Relationship Id="rId3" Type="http://schemas.openxmlformats.org/officeDocument/2006/relationships/hyperlink" Target="file:///Fig-2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lockage-Skin.xls" TargetMode="External"/><Relationship Id="rId2" Type="http://schemas.openxmlformats.org/officeDocument/2006/relationships/hyperlink" Target="file:///Blockage-Skin.xls" TargetMode="External"/><Relationship Id="rId3" Type="http://schemas.openxmlformats.org/officeDocument/2006/relationships/hyperlink" Target="file:///GC-BLOCKAGE-EXAMPLE/GC-BLOCKAGE-EXAMPLE-DIFFERENT-KR.PPT" TargetMode="External"/><Relationship Id="rId4" Type="http://schemas.openxmlformats.org/officeDocument/2006/relationships/hyperlink" Target="file:///GC-BLOCKAGE-EXAMPLE/GC-BLOCKAGE-EXAMPLE-DIFFERENT-KR.PPT" TargetMode="External"/><Relationship Id="rId5" Type="http://schemas.openxmlformats.org/officeDocument/2006/relationships/hyperlink" Target="file:///GC-BLOCKAGE-EXAMPLE/GC-BLOCKAGE-EXAMPLE-DIFFERENT-KR.PPT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5880" y="155520"/>
            <a:ext cx="57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22200" y="5392800"/>
            <a:ext cx="6188040" cy="3345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876240"/>
            <a:ext cx="2514600" cy="1511280"/>
            <a:chOff x="609480" y="876240"/>
            <a:chExt cx="2514600" cy="1511280"/>
          </a:xfrm>
        </p:grpSpPr>
        <p:grpSp>
          <p:nvGrpSpPr>
            <p:cNvPr id="44" name=""/>
            <p:cNvGrpSpPr/>
            <p:nvPr/>
          </p:nvGrpSpPr>
          <p:grpSpPr>
            <a:xfrm>
              <a:off x="914760" y="1013760"/>
              <a:ext cx="1918440" cy="1158120"/>
              <a:chOff x="914760" y="1013760"/>
              <a:chExt cx="1918440" cy="1158120"/>
            </a:xfrm>
          </p:grpSpPr>
          <p:sp>
            <p:nvSpPr>
              <p:cNvPr id="45" name=""/>
              <p:cNvSpPr/>
              <p:nvPr/>
            </p:nvSpPr>
            <p:spPr>
              <a:xfrm>
                <a:off x="918000" y="186012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760" y="1488600"/>
                <a:ext cx="0" cy="52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29960" y="1488600"/>
                <a:ext cx="0" cy="52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857960" y="1013760"/>
                <a:ext cx="41760" cy="999000"/>
                <a:chOff x="1857960" y="1013760"/>
                <a:chExt cx="41760" cy="99900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1857960" y="1084320"/>
                  <a:ext cx="41760" cy="928440"/>
                  <a:chOff x="1857960" y="1084320"/>
                  <a:chExt cx="41760" cy="92844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185904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972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857960" y="10843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57960" y="19915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 flipV="1">
                  <a:off x="1877400" y="1013760"/>
                  <a:ext cx="0" cy="25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1909080" y="1585080"/>
                <a:ext cx="0" cy="421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9080" y="2007000"/>
                <a:ext cx="916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892160" y="1484640"/>
                <a:ext cx="928800" cy="531000"/>
                <a:chOff x="1892160" y="1484640"/>
                <a:chExt cx="928800" cy="53100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900800" y="1484640"/>
                  <a:ext cx="916200" cy="523800"/>
                  <a:chOff x="1900800" y="1484640"/>
                  <a:chExt cx="916200" cy="523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900800" y="1484640"/>
                    <a:ext cx="916200" cy="523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900800" y="1934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1900800" y="185832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900800" y="1783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900800" y="1709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0800" y="163476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00800" y="1558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00800" y="14846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368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368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368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368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368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368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368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93680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9368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368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368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368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368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368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368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368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3680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368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368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9368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9368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9368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9368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9368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368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93680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9368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368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368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9368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9368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9368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9368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368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9368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9368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9368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68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9368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9368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93680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368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368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3680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368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68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9368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9368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368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3680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3680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9368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93680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9368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368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368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3680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368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974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974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74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74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974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74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974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74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74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4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974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974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74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74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74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974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974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74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974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74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4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74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974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74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74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974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974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74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974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74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74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74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74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974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974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74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974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974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974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974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74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974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974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74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74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74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974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74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974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974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974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74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974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974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974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74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74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010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10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10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10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010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010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10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10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10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10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10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10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10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10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10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010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10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010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10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010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010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10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10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10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010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010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0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010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10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010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010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10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010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10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010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010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010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10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010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010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10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10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10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10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10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10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0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10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0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10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010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010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010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010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010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010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010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48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048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048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48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048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048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048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0480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48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048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048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048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048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48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048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48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480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48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048400" y="1484640"/>
                  <a:ext cx="147240" cy="522360"/>
                  <a:chOff x="2048400" y="1484640"/>
                  <a:chExt cx="147240" cy="5223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0484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484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0484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484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0484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484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484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0484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484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484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484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484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484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484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84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484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484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484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484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484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484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484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0484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484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0484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0484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0484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484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484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484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484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484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4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484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484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484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484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484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484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84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120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20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120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120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120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20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20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1200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120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120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20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0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20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20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20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200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20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200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200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200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200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200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00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200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1200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200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00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200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200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1200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1200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200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200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1200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200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200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200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200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200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200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200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200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1200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00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1200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200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200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200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200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200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200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1200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1200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1200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200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00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1200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1582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582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1582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582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582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582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582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5820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582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1582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82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582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1582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1582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1582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582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15820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1582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1582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582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1582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582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582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582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582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1582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1582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1582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1582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1582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582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582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1582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582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1582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582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582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1582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82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1582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582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582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582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82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582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582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582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582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582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582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1582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1582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582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582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1582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1582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582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1582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1938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938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938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938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938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1938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1938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1938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1938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1938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38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938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938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938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938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938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938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938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938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938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38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38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938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938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938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938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938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938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938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938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38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38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1938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1938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1938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1938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1938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1938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1938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938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38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938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938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193840" y="1484640"/>
                  <a:ext cx="184680" cy="522360"/>
                  <a:chOff x="2193840" y="1484640"/>
                  <a:chExt cx="184680" cy="522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21938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938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938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938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938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938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1938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1938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1938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1938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1938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1938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938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1938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3164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3164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3164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3164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164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3164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3164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3164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164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164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164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3164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3164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3164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3164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3164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3164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3164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3164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3164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3164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3164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3164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3164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3164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3164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3164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3164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3164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3164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3164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3164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3164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3164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3164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3164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3164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3164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3164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3164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3164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3164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3164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3164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3164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3164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3164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3164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3164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3164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3164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3164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3164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3164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3164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3164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3164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3164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3032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032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3032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3032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3032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032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032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3032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032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3032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032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32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032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3032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3032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032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032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3032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3032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3032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3032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032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3032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3032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3032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3032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32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032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032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3032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032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32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32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32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032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032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032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32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032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032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032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032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032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032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032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032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032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32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032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032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032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032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032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032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32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3032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032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32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410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410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3410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410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410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410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410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410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410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410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3410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410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410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3410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410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410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3410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3410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3410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410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3410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3410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3410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10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3410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3410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3410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410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410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10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3410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3410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3410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410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3410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10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3410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410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3410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410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3410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10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3410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410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410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3410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410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410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410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410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410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410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3410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410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3410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410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410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3410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37708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7708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37708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37708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708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37708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37708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37708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7708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37708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37708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7708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2377080" y="1484640"/>
                  <a:ext cx="148680" cy="522360"/>
                  <a:chOff x="2377080" y="1484640"/>
                  <a:chExt cx="148680" cy="522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237708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37708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37708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37708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37708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37708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37708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37708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37708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37708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7708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37708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37708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7708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37708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37708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7708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37708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37708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37708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37708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37708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7708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37708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37708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37708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37708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37708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37708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37708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37708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37708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37708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37708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7708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37708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37708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37708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37708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7708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37708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37708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37708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7708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37708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7708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414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414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414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414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414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414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414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414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414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414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14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14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14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14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14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414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4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414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414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414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414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414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414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414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414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14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4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414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414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414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414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414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414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414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414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414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4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14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414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414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414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414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414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414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414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414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4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414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414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414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414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414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414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414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414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414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4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14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86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86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86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86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86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86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86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86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86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86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486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486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486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486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486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2486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2486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86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86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86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86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86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86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86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86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86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6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86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86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6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486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486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86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486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486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486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486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486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86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486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6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86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86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486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486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486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486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486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86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486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486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486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486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486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486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486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486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486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5239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5239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5239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5239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5239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5239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5239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5239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239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239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5239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5239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239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5239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239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5239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5239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239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5239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239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5239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5239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5239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5239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5239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5239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5239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239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239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5239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239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5239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5239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5239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5239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5239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5239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5239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2524320" y="1484640"/>
                  <a:ext cx="185040" cy="522360"/>
                  <a:chOff x="2524320" y="1484640"/>
                  <a:chExt cx="185040" cy="52236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2524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524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524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524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524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524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524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524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524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524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24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24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524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524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524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524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524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524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24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24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5603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5603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5603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5603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5603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5603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5603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5603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603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603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5603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5603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5603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603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5603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5603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603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5603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5603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5603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5603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5603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603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5603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5603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5603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25603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5603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5603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5603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5603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603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5603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5603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5603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5603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5603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5603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560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560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60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560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560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560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60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60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0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0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60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60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60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60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60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0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60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60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560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60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97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97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97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97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97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97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97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97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97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97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7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597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597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97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97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597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597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597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97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597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97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97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97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97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97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97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97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97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97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97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597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597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97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597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597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597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597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597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597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597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7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97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597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597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97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597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7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597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597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97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97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597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597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597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97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597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669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669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669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669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2669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2669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2669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669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669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669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669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669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669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669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669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9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669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669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669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669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669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669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669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669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669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669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669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669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669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669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669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669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669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669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669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669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669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9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669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669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669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669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669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669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669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669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669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669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669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669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669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669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669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669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669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669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669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669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07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07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07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07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07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07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1892160" y="1484640"/>
                  <a:ext cx="925200" cy="531000"/>
                  <a:chOff x="1892160" y="1484640"/>
                  <a:chExt cx="925200" cy="53100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7079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0792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079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079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7079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079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7079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79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079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079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70792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7079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7079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7079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7079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7079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7079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0792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7079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0792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079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7079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7079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079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079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079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70792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7079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70792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0792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7079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079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079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7079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70792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70792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7079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70792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70792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7079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7079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70792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7079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70792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70792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70792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70792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0792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70792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079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0792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7079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743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43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3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43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43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43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435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435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435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435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435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35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435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435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435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435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435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435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435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7435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435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435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435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435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435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435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435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435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435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435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435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7435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7435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435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435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7435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7435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7435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7435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7435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7435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7435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7435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7435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7435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435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7435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7435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7435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7435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7435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7435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7435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7435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7435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7435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7435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7435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813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813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7813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7813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7813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7813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7813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7813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7813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7813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7813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813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7813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813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7813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813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7813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7813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7813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7813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813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813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813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813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813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813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813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813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13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813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813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813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813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813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813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813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813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813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13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13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813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813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7813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7813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7813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7813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7813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7813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7813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7813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7813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7813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7813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7813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7813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7813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813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813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0844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26764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45088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63412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1736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19008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92160" y="20084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892160" y="1933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892160" y="18579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892160" y="1783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892160" y="170928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92160" y="16347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92160" y="1558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92160" y="1484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0800" y="20084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19008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0844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26764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245088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263412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281736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900800" y="15678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900800" y="15724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0800" y="1577160"/>
                    <a:ext cx="0" cy="2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1900800" y="158004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1902600" y="1584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902600" y="15894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902600" y="1593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902600" y="1598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904400" y="1602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904400" y="1607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906200" y="16120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1906200" y="1616400"/>
                  <a:ext cx="360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910160" y="1622520"/>
                  <a:ext cx="180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911960" y="1627200"/>
                  <a:ext cx="3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5200" y="1633320"/>
                  <a:ext cx="3600" cy="9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18800" y="1642320"/>
                  <a:ext cx="54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924560" y="1658880"/>
                  <a:ext cx="68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931400" y="1675800"/>
                  <a:ext cx="90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940760" y="1692720"/>
                  <a:ext cx="1224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53000" y="1727640"/>
                  <a:ext cx="14040" cy="12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967400" y="1848960"/>
                  <a:ext cx="1944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987200" y="1914120"/>
                  <a:ext cx="27000" cy="36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14200" y="1950840"/>
                  <a:ext cx="338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048400" y="1970640"/>
                  <a:ext cx="42840" cy="1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091240" y="1983960"/>
                  <a:ext cx="57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148840" y="1990440"/>
                  <a:ext cx="7344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22640" y="1994760"/>
                  <a:ext cx="96840" cy="2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19840" y="1997640"/>
                  <a:ext cx="1256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45480" y="1999440"/>
                  <a:ext cx="1634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08920" y="2000880"/>
                  <a:ext cx="2116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820960" y="200232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901160" y="1577160"/>
                <a:ext cx="423720" cy="431640"/>
              </a:xfrm>
              <a:custGeom>
                <a:avLst/>
                <a:gdLst/>
                <a:ahLst/>
                <a:rect l="l" t="t" r="r" b="b"/>
                <a:pathLst>
                  <a:path w="921" h="954">
                    <a:moveTo>
                      <a:pt x="0" y="0"/>
                    </a:moveTo>
                    <a:lnTo>
                      <a:pt x="0" y="948"/>
                    </a:lnTo>
                    <a:lnTo>
                      <a:pt x="921" y="954"/>
                    </a:lnTo>
                    <a:lnTo>
                      <a:pt x="909" y="930"/>
                    </a:lnTo>
                    <a:cubicBezTo>
                      <a:pt x="780" y="924"/>
                      <a:pt x="651" y="919"/>
                      <a:pt x="522" y="912"/>
                    </a:cubicBezTo>
                    <a:cubicBezTo>
                      <a:pt x="493" y="911"/>
                      <a:pt x="435" y="906"/>
                      <a:pt x="435" y="906"/>
                    </a:cubicBezTo>
                    <a:cubicBezTo>
                      <a:pt x="432" y="907"/>
                      <a:pt x="426" y="909"/>
                      <a:pt x="426" y="909"/>
                    </a:cubicBezTo>
                    <a:lnTo>
                      <a:pt x="408" y="900"/>
                    </a:lnTo>
                    <a:lnTo>
                      <a:pt x="312" y="876"/>
                    </a:lnTo>
                    <a:lnTo>
                      <a:pt x="261" y="834"/>
                    </a:lnTo>
                    <a:lnTo>
                      <a:pt x="192" y="756"/>
                    </a:lnTo>
                    <a:lnTo>
                      <a:pt x="156" y="657"/>
                    </a:lnTo>
                    <a:lnTo>
                      <a:pt x="141" y="603"/>
                    </a:lnTo>
                    <a:lnTo>
                      <a:pt x="135" y="573"/>
                    </a:lnTo>
                    <a:lnTo>
                      <a:pt x="114" y="336"/>
                    </a:lnTo>
                    <a:lnTo>
                      <a:pt x="90" y="252"/>
                    </a:lnTo>
                    <a:lnTo>
                      <a:pt x="54" y="183"/>
                    </a:lnTo>
                    <a:lnTo>
                      <a:pt x="18" y="114"/>
                    </a:lnTo>
                    <a:lnTo>
                      <a:pt x="15" y="90"/>
                    </a:lnTo>
                    <a:lnTo>
                      <a:pt x="6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092680" y="2004840"/>
                <a:ext cx="732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4760" y="133164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65160" y="1847880"/>
                <a:ext cx="2916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65160" y="1319760"/>
                <a:ext cx="3060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6931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374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6488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1476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597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59760" y="149472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62620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94004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383560" y="17121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229500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23835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229500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23392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3835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58192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247176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5160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405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198432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0286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13984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222804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2360880" y="16466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228040" y="18640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23835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2006640" y="1560240"/>
                <a:ext cx="2592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4004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00664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0955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2117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21837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3835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231660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6032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60460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64888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53764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58192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2472480" y="1734120"/>
                <a:ext cx="134640" cy="236880"/>
                <a:chOff x="2472480" y="1734120"/>
                <a:chExt cx="134640" cy="23688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2538720" y="18637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560680" y="17557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47248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472480" y="17341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8264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82640" y="19069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2472480" y="18853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253872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247248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 flipH="1">
                <a:off x="229500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80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1621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22950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2316600" y="17996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7147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73744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64888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67048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759760" y="177660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7813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264888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273744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64888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71476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931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251604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247176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4278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49336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75976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>
              <a:hlinkClick r:id="rId2"/>
            </p:cNvPr>
            <p:cNvSpPr/>
            <p:nvPr/>
          </p:nvSpPr>
          <p:spPr>
            <a:xfrm>
              <a:off x="609480" y="876240"/>
              <a:ext cx="251460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5360" y="2529000"/>
            <a:ext cx="3191040" cy="2486160"/>
            <a:chOff x="225360" y="2529000"/>
            <a:chExt cx="3191040" cy="2486160"/>
          </a:xfrm>
        </p:grpSpPr>
        <p:grpSp>
          <p:nvGrpSpPr>
            <p:cNvPr id="1360" name=""/>
            <p:cNvGrpSpPr/>
            <p:nvPr/>
          </p:nvGrpSpPr>
          <p:grpSpPr>
            <a:xfrm>
              <a:off x="225360" y="2600280"/>
              <a:ext cx="3054240" cy="2414880"/>
              <a:chOff x="225360" y="2600280"/>
              <a:chExt cx="3054240" cy="2414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4120" y="435276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4120" y="41083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4120" y="386064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54120" y="361476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4120" y="33685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4120" y="312264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4120" y="287640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4120" y="263052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09096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874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8112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780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8730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56852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636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586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120" y="2630520"/>
                <a:ext cx="1440" cy="19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6480" y="46004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6480" y="435276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6480" y="41083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6480" y="38606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6480" y="36147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6480" y="33685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6480" y="312264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36480" y="28764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6480" y="26305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4120" y="4600440"/>
                <a:ext cx="2436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09096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27874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248112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780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8730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5685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2636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586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541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64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4640" y="291780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80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096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912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692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650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0324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4140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79560" y="28288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1772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5552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9368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3184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170000" y="29271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08160" y="2977920"/>
                <a:ext cx="349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46320" y="29671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8412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22280" y="30020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6044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9860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36760" y="31003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74920" y="3322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12720" y="34448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880" y="35053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93720" y="354312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38360" y="35924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1200" y="3603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25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8320" y="363204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811160" y="3632040"/>
                <a:ext cx="352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855800" y="366696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98640" y="36720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943280" y="36720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986120" y="36860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030400" y="37018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7324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116080" y="371628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720" y="374184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03560" y="3765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47840" y="37908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90680" y="37702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33520" y="37512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8160" y="3730680"/>
                <a:ext cx="331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21000" y="372096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46528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08120" y="3725640"/>
                <a:ext cx="3348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2760" y="3760560"/>
                <a:ext cx="331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95600" y="37796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38440" y="37908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82720" y="38289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25560" y="3849480"/>
                <a:ext cx="352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0200" y="38685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0960" y="3878280"/>
                <a:ext cx="3348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71720" y="388944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22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3240" y="37162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22560" y="37418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75120" y="37908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430560" y="2600280"/>
                <a:ext cx="198720" cy="2087280"/>
                <a:chOff x="430560" y="2600280"/>
                <a:chExt cx="198720" cy="2087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40720" y="4565520"/>
                  <a:ext cx="74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30560" y="431856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74480" y="40744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30560" y="382752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4480" y="358200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30560" y="333648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4480" y="309096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30560" y="284544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74480" y="26002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86080" y="4684680"/>
                <a:ext cx="2693520" cy="137520"/>
                <a:chOff x="586080" y="4684680"/>
                <a:chExt cx="2693520" cy="1375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22920" y="46846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37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586080" y="4684680"/>
                  <a:ext cx="2388600" cy="137520"/>
                  <a:chOff x="586080" y="4684680"/>
                  <a:chExt cx="2388600" cy="13752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718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3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344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1099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054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5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5004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7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1955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91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860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>
                <a:off x="1021680" y="4832280"/>
                <a:ext cx="170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eservoir pressure, p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6200000">
                <a:off x="-345600" y="3540960"/>
                <a:ext cx="132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ductivity 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>
              <a:hlinkClick r:id="rId3"/>
            </p:cNvPr>
            <p:cNvSpPr/>
            <p:nvPr/>
          </p:nvSpPr>
          <p:spPr>
            <a:xfrm>
              <a:off x="254160" y="2529000"/>
              <a:ext cx="3162240" cy="247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676680" y="1287360"/>
                <a:ext cx="2916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83" name=""/>
          <p:cNvGrpSpPr/>
          <p:nvPr/>
        </p:nvGrpSpPr>
        <p:grpSpPr>
          <a:xfrm>
            <a:off x="3633840" y="2592360"/>
            <a:ext cx="3044520" cy="2541960"/>
            <a:chOff x="3633840" y="2592360"/>
            <a:chExt cx="3044520" cy="2541960"/>
          </a:xfrm>
        </p:grpSpPr>
        <p:sp>
          <p:nvSpPr>
            <p:cNvPr id="1484" name=""/>
            <p:cNvSpPr/>
            <p:nvPr/>
          </p:nvSpPr>
          <p:spPr>
            <a:xfrm>
              <a:off x="3633840" y="2592360"/>
              <a:ext cx="3044520" cy="25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r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)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50 - 500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K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rg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,rock,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37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	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0.05 -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q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g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,p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wf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b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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5 - 20 (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51080" y="4940280"/>
              <a:ext cx="2286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4F3-82B3-4F3A-B4E7-D739CF322B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9A85-96A1-4534-B385-6C38A582C03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run SP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160" y="1638360"/>
            <a:ext cx="632448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ondensate blockage skin estimatio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 – a simple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ndensate blockage – single well simulation calculations an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ingle well simulations to demonstrate the fundamental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rel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 perm relationship for condensate blockage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5080" y="3052800"/>
            <a:ext cx="6362640" cy="569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2F9-CF44-4528-8215-721EB644CD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0B6F7-F48C-465F-885E-E37CDFF4F68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5T12:08:22Z</dcterms:modified>
  <cp:revision>98</cp:revision>
  <dc:subject/>
  <dc:title>PowerPoint Presentation</dc:title>
</cp:coreProperties>
</file>