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CF4-1A05-45DE-B2B7-4608817C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254-D6EE-49AC-98F1-255BF18F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DBE-F7FE-4D23-84A1-5D372CB2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67F-041A-4C05-B55C-0DDBDC04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A13-059D-423A-AF81-4425DA8E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FBC-1A30-4E9C-B541-934AB95A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48C-EC8F-4610-86B3-06007FF4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2F3-DDC5-410C-AC7F-49F6D312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88C-8B39-459C-8595-0F821D43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5EC-B321-49AA-81DF-6F333BE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754-732B-4501-BF1D-94AA4F7B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F37-E04E-4987-9159-23E8C6A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D0D-6DAC-4BB6-857D-BDDD9188F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8560" y="5243400"/>
            <a:ext cx="5216400" cy="3392640"/>
            <a:chOff x="898560" y="5243400"/>
            <a:chExt cx="5216400" cy="3392640"/>
          </a:xfrm>
        </p:grpSpPr>
        <p:grpSp>
          <p:nvGrpSpPr>
            <p:cNvPr id="42" name=""/>
            <p:cNvGrpSpPr/>
            <p:nvPr/>
          </p:nvGrpSpPr>
          <p:grpSpPr>
            <a:xfrm>
              <a:off x="2225520" y="5450040"/>
              <a:ext cx="3089160" cy="2458440"/>
              <a:chOff x="2225520" y="5450040"/>
              <a:chExt cx="3089160" cy="2458440"/>
            </a:xfrm>
          </p:grpSpPr>
          <p:sp>
            <p:nvSpPr>
              <p:cNvPr id="43" name=""/>
              <p:cNvSpPr/>
              <p:nvPr/>
            </p:nvSpPr>
            <p:spPr>
              <a:xfrm>
                <a:off x="4049280" y="5458320"/>
                <a:ext cx="603720" cy="2450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654440" y="5450040"/>
                <a:ext cx="660240" cy="24501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25520" y="5466960"/>
                <a:ext cx="1828440" cy="24282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" name=""/>
            <p:cNvGraphicFramePr/>
            <p:nvPr/>
          </p:nvGraphicFramePr>
          <p:xfrm>
            <a:off x="898560" y="5243400"/>
            <a:ext cx="5216400" cy="3392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8560" y="5243400"/>
                      <a:ext cx="5216400" cy="33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27936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 to a gas condensa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6920" y="977760"/>
            <a:ext cx="5091840" cy="3697200"/>
            <a:chOff x="916920" y="977760"/>
            <a:chExt cx="5091840" cy="3697200"/>
          </a:xfrm>
        </p:grpSpPr>
        <p:grpSp>
          <p:nvGrpSpPr>
            <p:cNvPr id="51" name=""/>
            <p:cNvGrpSpPr/>
            <p:nvPr/>
          </p:nvGrpSpPr>
          <p:grpSpPr>
            <a:xfrm>
              <a:off x="932040" y="1369800"/>
              <a:ext cx="5076720" cy="3305160"/>
              <a:chOff x="932040" y="1369800"/>
              <a:chExt cx="5076720" cy="3305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059200" y="1619280"/>
                <a:ext cx="3126960" cy="2344320"/>
                <a:chOff x="2059200" y="1619280"/>
                <a:chExt cx="3126960" cy="2344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05280" y="1626840"/>
                  <a:ext cx="610920" cy="23367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18000" y="1619280"/>
                  <a:ext cx="668160" cy="23367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059200" y="1635120"/>
                  <a:ext cx="1850760" cy="2315520"/>
                </a:xfrm>
                <a:prstGeom prst="rect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6" name=""/>
              <p:cNvGraphicFramePr/>
              <p:nvPr/>
            </p:nvGraphicFramePr>
            <p:xfrm>
              <a:off x="932040" y="1369800"/>
              <a:ext cx="5076720" cy="33051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32040" y="1369800"/>
                        <a:ext cx="5076720" cy="330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075040" y="1979640"/>
                <a:ext cx="1852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16920" y="977760"/>
              <a:ext cx="2212200" cy="545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Gas and oil are 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6280" y="977760"/>
              <a:ext cx="1509480" cy="545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Oil is im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120" y="977760"/>
              <a:ext cx="996120" cy="54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o 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4320" y="4611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160" y="8559720"/>
            <a:ext cx="58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finition of regions 1,2 &amp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4960" y="8591400"/>
            <a:ext cx="495360" cy="324000"/>
          </a:xfrm>
          <a:prstGeom prst="rightArrow">
            <a:avLst>
              <a:gd name="adj1" fmla="val 50000"/>
              <a:gd name="adj2" fmla="val 38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ing composition is constant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836640"/>
            <a:ext cx="645012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1760" y="5103720"/>
            <a:ext cx="64562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1T10:35:55Z</dcterms:modified>
  <cp:revision>81</cp:revision>
  <dc:subject/>
  <dc:title>PowerPoint Presentation</dc:title>
</cp:coreProperties>
</file>