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3859-0A57-494F-9E62-11598C76A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BEB4-5478-4C4A-B9F3-98D9C9B6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E491-82C3-4F43-86AB-9DE49D864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7938-98C5-4C60-B0E0-CEF66DB55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CF94-FAC9-4E5A-AD31-1E132065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4511-1E96-4E85-9720-7AD7FA9A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5FE4-6FEB-4A1F-BAD4-EE76CB32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0BA6-3CA8-428E-BD98-23DD01B2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AC60-EF27-4213-824D-638A26B3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E3D0-EF8A-4DAE-9AF6-F53B0E4E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A5FC-B35B-47FB-8CD4-B6029D68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893C-D41D-4153-AF74-6C666920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8E44-E7A8-442F-BD43-147DFFE46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533520"/>
            <a:ext cx="8686800" cy="568404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volumetric rate equation for a gas condensate well can be expressed in terms of a 2-phase pseudopressure integral.  The pseudopressure accounts for ‘condensate blockage’ by including relative permeability k</a:t>
            </a:r>
            <a:r>
              <a:rPr b="0" lang="en-US" sz="16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inside the pressure integra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Flow </a:t>
            </a:r>
            <a:r>
              <a:rPr b="0" lang="nb-NO" sz="1600" spc="-1" strike="noStrike">
                <a:solidFill>
                  <a:srgbClr val="a50021"/>
                </a:solidFill>
                <a:latin typeface="Comic Sans MS"/>
              </a:rPr>
              <a:t>to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a gas condensate well can be modeled by three regions around the well.  Region 1 – the area closest to the well where both oil and gas phases are flowing – dictates productivity loss o</a:t>
            </a:r>
            <a:r>
              <a:rPr b="0" lang="nb-NO" sz="1600" spc="-1" strike="noStrike">
                <a:solidFill>
                  <a:srgbClr val="a50021"/>
                </a:solidFill>
                <a:latin typeface="Comic Sans MS"/>
              </a:rPr>
              <a:t>r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‘condensate blockage’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The flowing composition is constant in Region 1.  The single phase gas entering Region 1 has the same composition as the producing wellbore mixture; this observation leads to the the equation for k</a:t>
            </a:r>
            <a:r>
              <a:rPr b="0" lang="en-GB" sz="16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/k</a:t>
            </a:r>
            <a:r>
              <a:rPr b="0" lang="en-GB" sz="1600" spc="-1" strike="noStrike" baseline="-25000">
                <a:solidFill>
                  <a:srgbClr val="0033cc"/>
                </a:solidFill>
                <a:latin typeface="Comic Sans MS"/>
              </a:rPr>
              <a:t>ro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(p)</a:t>
            </a: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 in Region 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50021"/>
                </a:solidFill>
                <a:latin typeface="Comic Sans MS"/>
              </a:rPr>
              <a:t>The pseudopressure integral can be used to model condensate blockage in coarse grid reservoir simulation models; or it can be combined with material balance models to provide a simple model of condensate well perform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The 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pseudopressure integral can be extended to include high-velocity and IFT effects on relative permeability -- improvement from high capillary numbers and reduction from ‘inertial’ non-Darcy flow.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3-09-09T13:54:31Z</dcterms:modified>
  <cp:revision>22</cp:revision>
  <dc:subject/>
  <dc:title>PowerPoint Presentation</dc:title>
</cp:coreProperties>
</file>