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BD9-B29F-4B8D-A1D1-910A75C3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E94-D63B-4445-BF23-B5BF5D8C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661-5FB6-41B2-B8C2-ECE7B750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824-94E8-4C66-8DBB-9EB1A664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98E-C1CC-43B8-8DC4-1D15A0E2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889-EEEE-4095-9635-45419A59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052-48BD-4345-B431-928E4E97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449-8145-4FD5-901A-106AEBBB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F75-0871-41F6-9F71-0A451428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275-BF8B-4A58-85ED-2C32BFCF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B41-539D-4E7E-A354-C76850AF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24F-5B2A-432D-8BDB-1B209F3F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2C33-DDF9-4005-8D09-2CEFBE3A4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alidation of coarse grid + GPP approach by comparison with fine gri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2560" y="966960"/>
            <a:ext cx="723888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02:42Z</dcterms:modified>
  <cp:revision>20</cp:revision>
  <dc:subject/>
  <dc:title>PowerPoint Presentation</dc:title>
</cp:coreProperties>
</file>