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6922-0186-4AD2-A26F-CDB266CD1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302C-DF80-4A91-9F1F-030CC7C2D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4A63-D449-43DD-B4A9-1E547C48A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6D44-6737-4CC1-87B3-D06146B45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9F5A-B094-495B-9F46-1F1C07842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A10E-0F18-41AA-A62E-B9E9AD3BA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CCF9-3882-4546-936E-96857CE4C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6396-5145-449F-A3A4-444AC6B19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3B3D-9334-4D1E-B4B1-AEC438968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24CE-B4B2-41B8-B7DA-1C02CE03A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319C-E0D4-4CD8-9E23-19D2176AB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2698-8BB8-4D5C-82C3-88484FF7E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CAF32-E830-41AA-8AD2-7C609BF0475E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BFDB1-F4A1-492F-82E8-EA3392C9F84A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extBox.ppt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GAS%20FIELD%20DEVELOPMENT%20EXAMPLE%20AND%20RESULTS.PPT" TargetMode="External"/><Relationship Id="rId2" Type="http://schemas.openxmlformats.org/officeDocument/2006/relationships/hyperlink" Target="file:///Production-Forecasting.xls" TargetMode="External"/><Relationship Id="rId3" Type="http://schemas.openxmlformats.org/officeDocument/2006/relationships/hyperlink" Target="file:///Production-Forecasting.xls" TargetMode="External"/><Relationship Id="rId4" Type="http://schemas.openxmlformats.org/officeDocument/2006/relationships/hyperlink" Target="file:///Production-Forecasting.xls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04600" y="228600"/>
            <a:ext cx="541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Field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1"/>
          </p:cNvPr>
          <p:cNvSpPr/>
          <p:nvPr/>
        </p:nvSpPr>
        <p:spPr>
          <a:xfrm>
            <a:off x="441360" y="5105520"/>
            <a:ext cx="6188040" cy="345672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Gas field development involves the optimal selection of </a:t>
            </a:r>
            <a:r>
              <a:rPr b="0" i="1" lang="en-US" sz="1000" spc="-1" strike="noStrike" u="sng">
                <a:solidFill>
                  <a:srgbClr val="0033cc"/>
                </a:solidFill>
                <a:uFillTx/>
                <a:latin typeface="Comic Sans MS"/>
              </a:rPr>
              <a:t>well number</a:t>
            </a: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, </a:t>
            </a:r>
            <a:r>
              <a:rPr b="0" i="1" lang="en-US" sz="1000" spc="-1" strike="noStrike" u="sng">
                <a:solidFill>
                  <a:srgbClr val="0033cc"/>
                </a:solidFill>
                <a:uFillTx/>
                <a:latin typeface="Comic Sans MS"/>
              </a:rPr>
              <a:t>well placement</a:t>
            </a: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, </a:t>
            </a:r>
            <a:r>
              <a:rPr b="0" i="1" lang="en-US" sz="1000" spc="-1" strike="noStrike" u="sng">
                <a:solidFill>
                  <a:srgbClr val="0033cc"/>
                </a:solidFill>
                <a:uFillTx/>
                <a:latin typeface="Comic Sans MS"/>
              </a:rPr>
              <a:t>well tubing size</a:t>
            </a:r>
            <a:r>
              <a:rPr b="0" i="1" lang="en-US" sz="1000" spc="-1" strike="noStrike">
                <a:solidFill>
                  <a:srgbClr val="0033cc"/>
                </a:solidFill>
                <a:latin typeface="Comic Sans MS"/>
              </a:rPr>
              <a:t>, </a:t>
            </a: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and </a:t>
            </a:r>
            <a:r>
              <a:rPr b="0" i="1" lang="en-US" sz="1000" spc="-1" strike="noStrike" u="sng">
                <a:solidFill>
                  <a:srgbClr val="0033cc"/>
                </a:solidFill>
                <a:uFillTx/>
                <a:latin typeface="Comic Sans MS"/>
              </a:rPr>
              <a:t>pipeline characteristics</a:t>
            </a: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 to deliver a specified contract rate (DCQ - daily contract quota) and specified contractual (plateau) perio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The engineering tools required are (a) reservoir material balance(s); (b) well rate equations for reservoir and tubing; and (c) pipeline rate equations. Reservoir simulation is often not necessary, but may be convenien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Data acquisition is needed early to estimate key parameters in the calculations mentioned in (2). These include core data, log interpretation, geologic mapping, and well testin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Field gas rate ‘swing’ considerations may be important, accounting for a seasonal variation in production rate demand (maximum in winter)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Compression design may be important during the contractual period, but almost certainly during the decline period of produ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Comic Sans MS"/>
              </a:rPr>
              <a:t>Uncertainty analysis should focus on the parameters which are known to be important and known to be uncertain (IGIP, kh, skin, aquifer strength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6320" y="304920"/>
            <a:ext cx="6858000" cy="42098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41280" y="4572000"/>
            <a:ext cx="152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 u="sng">
                <a:solidFill>
                  <a:srgbClr val="008000"/>
                </a:solidFill>
                <a:uFillTx/>
                <a:latin typeface="Comic Sans MS"/>
              </a:rPr>
              <a:t>Unit Conver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21640" y="4572000"/>
            <a:ext cx="61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 u="sng">
                <a:solidFill>
                  <a:srgbClr val="996633"/>
                </a:solidFill>
                <a:uFillTx/>
                <a:latin typeface="Comic Sans MS"/>
              </a:rPr>
              <a:t>Un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4F7D-74FE-4940-8ADD-628A194D462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901819-683F-4DFA-9143-CA38F83EFB33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228600"/>
            <a:ext cx="6324480" cy="8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Van Dam, Planning of Optimum Production from Gas Fiel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Fetkovich, Multipoint Testing of Gas Wells (backpressure analysi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752480"/>
            <a:ext cx="6324480" cy="12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Examp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1"/>
              </a:rPr>
              <a:t>Gas Field Production Forecasting Worked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2"/>
              </a:rPr>
              <a:t>Gas Field Production Forecasting (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3"/>
              </a:rPr>
              <a:t>xls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4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2830680"/>
            <a:ext cx="6324480" cy="58586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A47A-4F61-4091-A02B-799559717A9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340199-BD76-42A9-A243-A095E0578A18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13T17:15:02Z</dcterms:modified>
  <cp:revision>69</cp:revision>
  <dc:subject/>
  <dc:title>PowerPoint Presentation</dc:title>
</cp:coreProperties>
</file>