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AB6C-EB74-440E-9F60-E39F2804C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DE0EE-236E-4678-888E-E9D9E863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2FD04-5E96-47EB-847B-866A6EEE5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89AAB-6425-4A26-A03A-52FE2B9F2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CA20-0E08-4169-BCD0-9537F4679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CA02C-451A-41DE-8EEA-0FFD6540A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B9531-FD63-4866-BCD5-88249C402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5016-5487-466B-8DBE-1BE5136D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1E8A-F29F-40A2-9A89-64E74F86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F71A-F6B4-4125-8D3C-9EF6DE1A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D130-200A-4AED-9B25-01F2FBE1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C5C8-D842-4F8F-A813-A4A04C052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DBEB-7202-47CD-911B-D9E1AC24A8D1}"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D1E7-2EF3-4213-8845-277DBD2DFAA3}"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84C17763-8067-4F37-AF7B-0B89F4AB6F12}" type="slidenum">
              <a:t>1</a:t>
            </a:fld>
          </a:p>
        </p:txBody>
      </p:sp>
      <p:sp>
        <p:nvSpPr>
          <p:cNvPr id="4" name="PlaceHolder 3"/>
          <p:cNvSpPr>
            <a:spLocks noGrp="1"/>
          </p:cNvSpPr>
          <p:nvPr>
            <p:ph type="dt" idx="1"/>
          </p:nvPr>
        </p:nvSpPr>
        <p:spPr/>
        <p:txBody>
          <a:bodyPr/>
          <a:p>
            <a:fld id="{06FB05FE-A498-4776-8484-CB0E34A1F962}"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046F7BA5-5010-4F72-B912-CB06C14D0115}" type="slidenum">
              <a:t>2</a:t>
            </a:fld>
          </a:p>
        </p:txBody>
      </p:sp>
      <p:sp>
        <p:nvSpPr>
          <p:cNvPr id="4" name="PlaceHolder 3"/>
          <p:cNvSpPr>
            <a:spLocks noGrp="1"/>
          </p:cNvSpPr>
          <p:nvPr>
            <p:ph type="dt" idx="1"/>
          </p:nvPr>
        </p:nvSpPr>
        <p:spPr/>
        <p:txBody>
          <a:bodyPr/>
          <a:p>
            <a:fld id="{4079F9FA-3C7E-44F3-B081-E8A2185BC79B}"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