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8DD3-712A-4614-9DF7-2674EBF3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A3A7-59A1-483F-9359-AEC2AB1A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5E5D-73AA-4451-B36D-B48611C0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757E-FFB2-4F8A-90E6-47FED287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84BB-9E27-4B4F-A311-0D62684E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B454-4DA5-4535-95B6-31DE5CB2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3BFE-61AB-495B-BE47-AA05E135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C53D-E283-4A7A-B573-F813736A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048C-98EB-4CE7-A7B4-8E67F9E6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F52F-83AB-4690-93AE-69C64CAA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9B79-7BD6-4229-804B-A842E7B4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CC49-4D32-41C1-8E97-DA8409BE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4A11-3726-4966-91D9-7A97B0773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e-note lin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Material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P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Blo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1:50:24Z</dcterms:created>
  <dc:creator>CHW</dc:creator>
  <dc:description/>
  <dc:language>en-US</dc:language>
  <cp:lastModifiedBy>CHW</cp:lastModifiedBy>
  <dcterms:modified xsi:type="dcterms:W3CDTF">2003-08-17T11:50:44Z</dcterms:modified>
  <cp:revision>1</cp:revision>
  <dc:subject/>
  <dc:title>Other e-note links</dc:title>
</cp:coreProperties>
</file>