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98D-C315-4D3F-9CAB-126E61DA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345-20E4-41D8-AC3D-73C3D9CC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E3C4-DA4B-4428-B4E9-1A2CF058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836-AA03-49A2-B1AE-E1BBF6D6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18C-26DC-4D85-B747-D93426E5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38A-1B6E-4198-97B7-C99A4DB7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3FC-D0A4-418C-8A94-EEAEF175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A09-75A8-4E3C-AB33-746F84EC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F652-D98B-474F-A0B8-924137FE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76B-1C6D-4419-98EF-965CE4D1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1C5-393D-4EC6-920C-A1304E9D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C31-39CA-4EEA-BCE0-217157EA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3749-55C6-46DE-AD03-9DB5347BD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514600" y="685800"/>
                <a:ext cx="19242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431720" y="1523880"/>
            <a:ext cx="4266360" cy="22885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volume, m</a:t>
            </a:r>
            <a:r>
              <a:rPr b="0" lang="nb-NO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oles, k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solute temperature,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universal gas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083143 b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km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6T09:57:07Z</dcterms:modified>
  <cp:revision>3</cp:revision>
  <dc:subject/>
  <dc:title>PowerPoint Presentation</dc:title>
</cp:coreProperties>
</file>