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A6D-78DA-47D1-9942-1E9DC8321B1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37E-EB27-4BDC-B6ED-1243892724B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04:26Z</dcterms:modified>
  <cp:revision>89</cp:revision>
  <dc:subject/>
  <dc:title>PowerPoint Presentation</dc:title>
</cp:coreProperties>
</file>