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5F29-E08E-4F48-AE1F-A35F2FC598B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9F30-D202-457C-8808-E7F105A9F5A7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FIELD SUMMARY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Sensor Black Oil Model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44Z</dcterms:modified>
  <cp:revision>87</cp:revision>
  <dc:subject/>
  <dc:title>PowerPoint Presentation</dc:title>
</cp:coreProperties>
</file>