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817-7E3A-4736-931D-A0C96112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A2B-1AF1-4E64-9B33-F7D3A610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7FD-49BC-41E8-9D1E-7AA2774C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DC4-27D5-493E-8B11-FD220F57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1AC-2062-477F-84B6-91C7786C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B58-9CAB-4FDB-A5AF-7991512D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4A2-B431-4665-9346-5DAABB22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02C-A341-4112-95DA-BCC27134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321-A07F-4086-8759-5A2FAF77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2A0-9F06-4935-89A2-3EFC8291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EE5-00EF-4740-ADDC-E6620926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193-C2B3-4F18-9D8D-059370B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0BAC-262E-4296-932C-E7DDB1883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8736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2T08:09:12Z</dcterms:modified>
  <cp:revision>9</cp:revision>
  <dc:subject/>
  <dc:title>PowerPoint Presentation</dc:title>
</cp:coreProperties>
</file>