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7A22-69EB-4329-BB82-E5E87DB6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331-27E4-4C0E-A0CE-83290F4A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4C4-E7A6-416F-9E17-AE9E5E4D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C8F-1D21-40AC-A1D0-AEE47B90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BC2-FD26-45A1-8F17-AE2CA25E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D2A-D046-4119-8E35-C0BCFBCA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8C8-EE4A-4CFF-97F5-BF128129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EF1-A3ED-439A-BF4E-02589CBA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7DD-F5CC-4195-B35B-64890FA8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D2AD-01D5-45F8-B6DB-4E49004E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85C-EFF4-4650-BFA6-2A962535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2ECD-EF4C-4B0B-B074-9BF5B604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E4F4-35B3-44FD-B9B6-D715B94B7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hyperlink" Target="file:///3-region-composite.ppt" TargetMode="External"/><Relationship Id="rId3" Type="http://schemas.openxmlformats.org/officeDocument/2006/relationships/hyperlink" Target="file:///2-phase-build-up.ppt" TargetMode="External"/><Relationship Id="rId4" Type="http://schemas.openxmlformats.org/officeDocument/2006/relationships/hyperlink" Target="file:///Multi-rate-test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760" y="206280"/>
            <a:ext cx="8610480" cy="6783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4:14Z</dcterms:modified>
  <cp:revision>18</cp:revision>
  <dc:subject/>
  <dc:title>PowerPoint Presentation</dc:title>
</cp:coreProperties>
</file>