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4A8-0819-43E4-B3AD-F89C040C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732-77F9-4255-BEFC-E46B3CE9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1D5-D2EE-46D5-A2C0-B50FC8D1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B93-8675-40D1-A880-9D6588AE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202-529D-46A0-84C5-67C0B17F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32E-32B1-45F7-B340-F1C4B681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759-8A30-4F6C-84CD-EFCDB7AC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8F1-A8A2-442D-A907-D113B791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462-E15A-4AB0-B991-9ACB5D02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C0A-9066-4508-9815-D89A74F8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22D-7AFA-4D79-9B33-9D5D6D4D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DE3-C26F-459A-98BB-A2D81A53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187D-02E8-441E-96E9-E7E4901D1D2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1CE3-EED4-4D3D-927D-A6AB9B1B35E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x-1.xls" TargetMode="External"/><Relationship Id="rId2" Type="http://schemas.openxmlformats.org/officeDocument/2006/relationships/hyperlink" Target="file:///Ex-2.pdf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2390400" y="2286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441360" y="6081840"/>
            <a:ext cx="6188040" cy="2574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8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8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8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460760" y="1046160"/>
                <a:ext cx="1446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95680" y="152388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332240" y="4168800"/>
                <a:ext cx="1897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433760" y="2438280"/>
                <a:ext cx="15321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68840" y="3338640"/>
                <a:ext cx="1163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9" name="" descr=""/>
          <p:cNvPicPr/>
          <p:nvPr/>
        </p:nvPicPr>
        <p:blipFill>
          <a:blip r:embed="rId3"/>
          <a:srcRect l="18824" t="0" r="21434" b="0"/>
          <a:stretch/>
        </p:blipFill>
        <p:spPr>
          <a:xfrm>
            <a:off x="328680" y="838080"/>
            <a:ext cx="363384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84840" y="5226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4760" y="562932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Ga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5800" y="522612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235400" y="5079960"/>
                <a:ext cx="2090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B50-D396-4C2C-83FB-03F90B730E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98C7C-EEAB-43D1-B463-FF21FA8E9BA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600"/>
            <a:ext cx="63244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760" y="1295280"/>
            <a:ext cx="6324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stimate IGIP and IO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PE Phase Behavior Monograph, App.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2819520"/>
            <a:ext cx="6324480" cy="585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AAC-445C-4A9B-9FB0-579225E6DB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2D662-1365-4734-A343-60642FB976C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6160" y="1585800"/>
            <a:ext cx="5305680" cy="59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0B1-38BB-4862-A03E-56209F99AA0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5BE72-0212-4297-A854-A4C8A3C36BC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0:04:32Z</dcterms:modified>
  <cp:revision>66</cp:revision>
  <dc:subject/>
  <dc:title>PowerPoint Presentation</dc:title>
</cp:coreProperties>
</file>