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165E-CE67-435B-9731-DFE45C0B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E86-F010-4CBA-8B32-25B93A44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7E5-5B30-4B25-A9A9-65D1D669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CF9-A368-4BD7-BC2A-E5ECA61D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27B8-59C3-4746-A382-BCB11020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28F1-FA2E-4033-BCFA-063828DC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ABE-CF0F-4DBE-9030-5567174D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B4A-F768-4960-80DB-55E4FDEA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024-EDE8-4E0B-8862-8FA5D81D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96D-BC4C-47A8-9999-0046FD78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07B5-B6A8-432A-BA5C-20A09E35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9B3-8BF7-41BF-8729-8ABD18D7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699D-92CD-4A66-95C1-1A8194DECCEA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5E73-D896-41C3-98AF-2A12B301F18A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image" Target="../media/image1.wmf"/><Relationship Id="rId3" Type="http://schemas.openxmlformats.org/officeDocument/2006/relationships/hyperlink" Target="file:///TextBox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2240" y="2286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as Condensate Well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00200"/>
            <a:ext cx="3886200" cy="24969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4" name="">
            <a:hlinkClick r:id="rId3"/>
          </p:cNvPr>
          <p:cNvSpPr/>
          <p:nvPr/>
        </p:nvSpPr>
        <p:spPr>
          <a:xfrm>
            <a:off x="76320" y="5257800"/>
            <a:ext cx="6705360" cy="336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8320" y="1905120"/>
                <a:ext cx="18874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48320" y="3809880"/>
                <a:ext cx="19047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≈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317840" y="1219320"/>
            <a:ext cx="25992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1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ex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9960" y="3200400"/>
            <a:ext cx="2568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2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in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8E79-89B9-4D84-B9B8-5B452A173A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79AFA-8481-4741-8D72-0568FEA6F8E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Practical Considerations in Gas Condensate Well Tes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Well Testing using a Single Phas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 Novel Methodology for 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961-DF0E-4209-A461-212EA776A9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FB7C6-8758-433B-AF27-0D089D88C51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26:25Z</dcterms:modified>
  <cp:revision>76</cp:revision>
  <dc:subject/>
  <dc:title>PowerPoint Presentation</dc:title>
</cp:coreProperties>
</file>