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45B-7EA0-4E58-9521-291ED1A8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4B9-54CF-41CA-A856-56A7D8D1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B91-AA35-44F1-955F-885016D6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CA9-C631-48B0-9A9C-7A9BCD76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649-99D4-4898-BF46-2F1BA234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F3B-2BBD-45E6-B26D-03972DDC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039-D590-4F6E-9177-D2F8FE21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6FD-5DB6-4376-9231-7BF9265B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3B2-A2F6-41D0-A119-D6F2F838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AFE-5E85-442F-BCA5-D8190598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81F-C522-45B1-BF12-3D55AE99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BB4-9260-40EB-9CE6-686C48E7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2F6B-ACF3-48C7-91E4-9B64274AB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686800" cy="6637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has 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 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4T07:35:33Z</dcterms:modified>
  <cp:revision>17</cp:revision>
  <dc:subject/>
  <dc:title>PowerPoint Presentation</dc:title>
</cp:coreProperties>
</file>