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B8B-6F94-4AFA-ACD0-A73A6A0C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319-08E0-49FB-A6F7-C07EB10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B87-D212-4D74-B5F0-3CC1B2E9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7D3-94CA-4943-B85A-98C7C357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0FC-66B1-4720-B948-E42C5BAB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B04-5BDD-4160-8727-3B739FC4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D2C-8587-46E3-AD24-3F68D61A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A6F-9DD6-4248-B86A-ABD1DBFA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C7A-6CD1-4E34-9AF8-135F164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AD9-575B-4D9D-BEA7-3D289F4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AC9-72F6-49CF-9F6B-5DF3C01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8CE-B43A-47DF-AD23-586DCD9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98C8-366D-4061-82BA-74404C900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47600" y="1919160"/>
                <a:ext cx="43783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11120" y="99072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033560" y="5334120"/>
            <a:ext cx="4789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units conversion facto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ate-dependent skin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flow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olumetric 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visc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formation volum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43000" y="3936960"/>
                <a:ext cx="1857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790800" y="3903840"/>
                <a:ext cx="185904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2092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5160" y="33847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pressur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30492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Rate Equation in 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7080" y="4038480"/>
                <a:ext cx="5343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1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6440" y="5638680"/>
            <a:ext cx="550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urface gas rate, s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permeabilit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otal thicknes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external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ate-dependent skin coefficient, 1/(scf/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servoir temperature, deg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flowing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olumetric average reservoir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formation volume factor, res.bbl/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7560" y="914400"/>
                <a:ext cx="5761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4600" y="2666880"/>
                <a:ext cx="6508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57200"/>
            <a:ext cx="42292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662004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3048120"/>
            <a:ext cx="2286000" cy="312408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0" y="1968"/>
                </a:moveTo>
                <a:lnTo>
                  <a:pt x="0" y="672"/>
                </a:lnTo>
                <a:lnTo>
                  <a:pt x="96" y="480"/>
                </a:lnTo>
                <a:lnTo>
                  <a:pt x="240" y="288"/>
                </a:lnTo>
                <a:lnTo>
                  <a:pt x="336" y="192"/>
                </a:lnTo>
                <a:lnTo>
                  <a:pt x="384" y="144"/>
                </a:lnTo>
                <a:lnTo>
                  <a:pt x="480" y="96"/>
                </a:lnTo>
                <a:lnTo>
                  <a:pt x="576" y="48"/>
                </a:lnTo>
                <a:lnTo>
                  <a:pt x="720" y="0"/>
                </a:lnTo>
                <a:lnTo>
                  <a:pt x="816" y="0"/>
                </a:lnTo>
                <a:lnTo>
                  <a:pt x="912" y="0"/>
                </a:lnTo>
                <a:lnTo>
                  <a:pt x="1056" y="0"/>
                </a:lnTo>
                <a:lnTo>
                  <a:pt x="1200" y="0"/>
                </a:lnTo>
                <a:lnTo>
                  <a:pt x="1248" y="0"/>
                </a:lnTo>
                <a:lnTo>
                  <a:pt x="1296" y="0"/>
                </a:lnTo>
                <a:lnTo>
                  <a:pt x="1440" y="48"/>
                </a:lnTo>
                <a:lnTo>
                  <a:pt x="1440" y="1968"/>
                </a:lnTo>
                <a:lnTo>
                  <a:pt x="0" y="196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705720"/>
            <a:ext cx="7621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705720"/>
            <a:ext cx="76176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81080" y="6172200"/>
            <a:ext cx="4572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724280" y="6172200"/>
            <a:ext cx="5335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7848720"/>
            <a:ext cx="422928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Comic Sans MS"/>
              </a:rPr>
              <a:t>Gas rate is proportional to area und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3-02T14:46:15Z</dcterms:modified>
  <cp:revision>34</cp:revision>
  <dc:subject/>
  <dc:title>PowerPoint Presentation</dc:title>
</cp:coreProperties>
</file>