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854-9238-4FEA-9E65-F9A33BBE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9A3-44D5-417D-AC06-A879CFED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21C-4186-42D5-BCBB-79A59C49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D36-C6B2-433F-B9B5-1DE0C33F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8AC-5623-428D-8932-34BD7F1B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182-90B2-4EA3-87CB-F891A96E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05B-C0B5-4FAC-8F9B-28E434BE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E16-01DE-474D-A430-28216A92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19C-78E7-4F4C-B3DB-909E9712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4FC-A42F-48A5-85BB-95311722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B0E-3E9A-4DB8-874D-26ECAAB2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F3F-DFBE-4565-9AB6-D28F8F1D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5957-E66C-4236-9254-F21DEC1D5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457200"/>
            <a:ext cx="8850240" cy="543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698920" y="5486400"/>
                <a:ext cx="37461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27960" y="533520"/>
            <a:ext cx="891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ffman et al analysis of separator sample com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2:10:26Z</dcterms:modified>
  <cp:revision>21</cp:revision>
  <dc:subject/>
  <dc:title>PowerPoint Presentation</dc:title>
</cp:coreProperties>
</file>