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F5A-E547-4C26-88BE-2A07EB9D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461-19E4-4D84-91CD-716BB647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3A7-A44E-4448-B259-00DD8872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BDD-E393-4AD7-9D15-C63F54EB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ED7-ED86-4F8D-9BEE-444DE161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A83-A8B6-420F-BBD2-2753A387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4EA-D74E-43AF-A174-6EBEFEAB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42A-9CF6-4775-AF18-419B9BB8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A47-8A3D-4686-BDA6-9B476CC8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98A-EEFB-4F0B-AF47-811B40D0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45F-0C9B-469B-8B38-9713C104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9B4-870E-444A-BACD-B0BC39A0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C3BE-66B8-4841-AB59-F03A054E6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279360"/>
            <a:ext cx="58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eneralized krg/kro plot based on Corey rel per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50920" y="5016600"/>
            <a:ext cx="5121360" cy="54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st of the pressure drawdown is in Region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egion 1 is most important for calculating produ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520" y="1231920"/>
            <a:ext cx="6810480" cy="5210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13160" y="742464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7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1-22T09:26:22Z</dcterms:modified>
  <cp:revision>78</cp:revision>
  <dc:subject/>
  <dc:title>PowerPoint Presentation</dc:title>
</cp:coreProperties>
</file>