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1B8-5F43-4F01-ABE9-AFC16D9F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3EC-BFDE-48A3-8A3E-E7BB9F56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6F1-B3E0-4855-87CC-20A72D10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ED5-E8F7-42AC-B05C-835B97BC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21C-9ECA-4BCA-9844-F532B78C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50A-4733-4469-8AD6-96F58F7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D9F-5CA6-42F8-95AA-E1DBA627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AE1-6B01-44F6-A553-A6E38EF6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DBD-BAD1-4FF8-A810-5EE76370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7B7-99E0-4D25-A181-2DFDA4AF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7E7-367C-4BB5-8874-E6D8C795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BCF-9C3A-4A2B-9E42-F6C02AF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30D1-4E0D-4D71-9122-5C10A1E7B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7621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pare E300 and Fevang-Whitson models for Nc behaviour (at krg/kro=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13:14Z</dcterms:modified>
  <cp:revision>20</cp:revision>
  <dc:subject/>
  <dc:title>PowerPoint Presentation</dc:title>
</cp:coreProperties>
</file>