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93D-9DFC-4280-A622-228AA993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C2E-5EAF-4846-AF05-2FC44D27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079-6362-4B4E-8A3A-9D623B28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27B-27FA-45B7-9191-02D04170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6EE-323D-493C-8458-B862FA4B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3D1-8F3A-4AF6-872D-01B2EEDA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D9F-9C33-486A-88D2-30F7F906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A8B-6673-4141-A414-368CACF5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2EB-AAFC-4110-A97F-785A9D66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AD0-D609-4F02-951B-F53C6C6A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971-3FB2-45D2-9BAA-217A91FA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477-9FCE-48B7-B80A-EB4EDA46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4481-ADB7-40C6-A69C-42E28072D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6600" y="152280"/>
            <a:ext cx="7209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ducing OGR and well bottom hol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llowing rate reduction during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307440" cy="57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70360" y="1143000"/>
            <a:ext cx="13420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OGR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0" y="3276720"/>
            <a:ext cx="228600" cy="838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77000" y="4114800"/>
            <a:ext cx="1523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ew poin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752480"/>
            <a:ext cx="0" cy="381240"/>
          </a:xfrm>
          <a:prstGeom prst="line">
            <a:avLst/>
          </a:prstGeom>
          <a:ln w="25560">
            <a:solidFill>
              <a:srgbClr val="ff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4648320"/>
            <a:ext cx="657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12960" y="2514600"/>
            <a:ext cx="2100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oducing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09:29:46Z</dcterms:modified>
  <cp:revision>22</cp:revision>
  <dc:subject/>
  <dc:title>PowerPoint Presentation</dc:title>
</cp:coreProperties>
</file>